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BA5-7CDC-47AD-963F-38D01328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1A1-7E7F-4731-AEFF-DDF812F2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5B3-5DF2-42D8-B54B-8E8EA221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47F-1F9D-4192-A99A-DF131E0F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7C3-5FF1-4A67-B5B8-FBA92C2C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A059-3705-4FA7-8579-10195AE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42EF-E6F9-4A80-96B4-3533BDCF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8EF5-CB6D-4F20-B297-FBCC5E25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AF0F-0569-41BD-BAB1-7D38FD1F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B87B-CB84-4229-AF19-1C630C55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5669-549C-4660-9658-8789E0A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AFD-D0AE-4900-B602-4A9EE5E4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32C3-E21A-42B2-A869-86CADC9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BD5-DB0B-40D7-BCE5-21414E31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8296-4746-4A01-B370-8759E06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E242-4431-4E9B-A97F-9367D4DA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8D36-74F6-4E8A-A59E-5D6B8320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CCE-92E4-4DCE-BFDE-348C9BFE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B05-2F8C-4E29-8CB9-31EA0D67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615-3C4B-4D76-A599-F7389BD8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D75-D90B-4F07-87C1-EA4D5852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7D3-992C-43BD-97BB-7B9C6732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63D-F4C6-4850-AD7D-0241C75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2E1-CDFC-4FE3-B1E3-7DC4B330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96F3-9E20-4C80-A970-17CFD8D040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761-BADB-4CEF-A882-4F6F9E1E421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lter-fendt.de/m14cz/inkreis_cz.htm" TargetMode="External"/><Relationship Id="rId3" Type="http://schemas.openxmlformats.org/officeDocument/2006/relationships/hyperlink" Target="http://www.matematika.webz.cz/ostatni/trojuhelnik/seminarka.swf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Kružnice vepsaná trojúhelní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281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ještě jednou konstrukce kružnice opsané ostroúhlému trojúhelníku krok za kroke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108576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281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 totéž ještě jednou, ale s trojúhelníkem pravoúhlý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2" name=""/>
          <p:cNvSpPr/>
          <p:nvPr/>
        </p:nvSpPr>
        <p:spPr>
          <a:xfrm>
            <a:off x="108576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1784520" y="1549440"/>
            <a:ext cx="5667120" cy="47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281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aposled s trojúhelníkem tupoúhlým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108576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1712880" y="1549440"/>
            <a:ext cx="5667480" cy="471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6000" y="2997360"/>
            <a:ext cx="68407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eji hodně přesnosti při rýsování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ve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 vepsaná je taková kružnice, která se zevnitř dotýká všech tří stran trojúhelníku.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6560" y="2421000"/>
            <a:ext cx="511344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ve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 vepsaná je taková kružnice, která se zevnitř dotýká všech tří stran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2368440"/>
            <a:ext cx="4969080" cy="39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ve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 vepsaná je taková kružnice, která se zevnitř dotýká všech tří stran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2368440"/>
            <a:ext cx="4969080" cy="39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48360" y="306864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tředem kružnice trojúhelníku vepsané je průsečík os úhlů tohoto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6720" y="2637000"/>
            <a:ext cx="381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yní si totéž zopakujme se stranami BC a 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5280" y="2062080"/>
            <a:ext cx="396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jdříve si ten úkol ale zjednodušíme. Jak bychom narýsovali kružnici dotýkající se jen dvou stran (dvou různoběžek) AB a 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2997360"/>
            <a:ext cx="396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edstavme si kružnici, která se dotýká stran BC a 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5280" y="328608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edstavme si takovou kružn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494172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loměr kružnice vepsané trojúhelníku je roven kolmé vzdálenosti průsečíku os úhlů (středu kružnice) a kterékoliv strany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5280" y="400536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představme si i další takové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4005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představme si i další takové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068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, pla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472608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středů všech kružnic, dotýkajících se stran AB a 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206064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ý závěr z toho pro nás tedy ply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72608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středů všech těchto kružnic, dotýkajících se stran BC a 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223344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 to průsečík os úhlů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450864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loměrem pak kolmá vzdálenost průsečíku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os úhlů a kterékoliv strany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589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 to opět přímka – os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úhlu B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1557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tedy množinou středů kružnic dotýkajících se zároveň stran AB, BC i CA, tedy všech stran trojúhelní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052640"/>
            <a:ext cx="4032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ve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5081760" y="1413000"/>
            <a:ext cx="381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ším úkolem je takovou kružnici dotýkající se tří stran narý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5589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 to přímka – osa úhlu C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781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latí totéž i pro osu třetího úhlu AB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6720" y="3789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jaký poloměr bude mít kružnice vepsaná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952560" y="1198440"/>
            <a:ext cx="392904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6000" y="1801800"/>
            <a:ext cx="6913440" cy="45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1820880"/>
            <a:ext cx="5327640" cy="4537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92232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Př: Sestrojte kružnici vepsanou danému trojúhelníku AB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268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10800000">
            <a:off x="5724720" y="4738680"/>
            <a:ext cx="2304720" cy="230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3467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346707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3500000">
            <a:off x="4782600" y="4534920"/>
            <a:ext cx="2304360" cy="230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20" y="2346"/>
                </a:moveTo>
                <a:arcTo wR="10800" hR="10800" stAng="-3091178" swAng="4037885"/>
                <a:lnTo>
                  <a:pt x="10800" y="10800"/>
                </a:lnTo>
                <a:close/>
              </a:path>
              <a:path fill="none" w="21600" h="21600">
                <a:moveTo>
                  <a:pt x="17520" y="2346"/>
                </a:moveTo>
                <a:arcTo wR="10800" hR="10800" stAng="-3091178" swAng="4037885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7890600">
            <a:off x="5222520" y="3940200"/>
            <a:ext cx="2304720" cy="23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307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30750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7314800">
            <a:off x="1188720" y="4712040"/>
            <a:ext cx="2302920" cy="230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36" y="6"/>
                </a:moveTo>
                <a:arcTo wR="10800" hR="10800" stAng="-5515772" swAng="5596232"/>
                <a:lnTo>
                  <a:pt x="10800" y="10800"/>
                </a:lnTo>
                <a:close/>
              </a:path>
              <a:path fill="none" w="21600" h="21600">
                <a:moveTo>
                  <a:pt x="10436" y="6"/>
                </a:moveTo>
                <a:arcTo wR="10800" hR="10800" stAng="-5515772" swAng="5596232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 rot="15355200">
            <a:off x="1953720" y="3867840"/>
            <a:ext cx="2300760" cy="230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26" y="3516"/>
                </a:moveTo>
                <a:arcTo wR="10800" hR="10800" stAng="-8255533" swAng="3590245"/>
                <a:lnTo>
                  <a:pt x="10800" y="10800"/>
                </a:lnTo>
                <a:close/>
              </a:path>
              <a:path fill="none" w="21600" h="21600">
                <a:moveTo>
                  <a:pt x="2826" y="3516"/>
                </a:moveTo>
                <a:arcTo wR="10800" hR="10800" stAng="-8255533" swAng="3590245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 rot="11694000">
            <a:off x="2327400" y="4753080"/>
            <a:ext cx="230112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26" y="3516"/>
                </a:moveTo>
                <a:arcTo wR="10800" hR="10800" stAng="-8255533" swAng="3537103"/>
                <a:lnTo>
                  <a:pt x="10800" y="10800"/>
                </a:lnTo>
                <a:close/>
              </a:path>
              <a:path fill="none" w="21600" h="21600">
                <a:moveTo>
                  <a:pt x="2826" y="3516"/>
                </a:moveTo>
                <a:arcTo wR="10800" hR="10800" stAng="-8255533" swAng="3537103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835280" y="2262240"/>
            <a:ext cx="5473440" cy="3960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35280" y="3644640"/>
            <a:ext cx="5616360" cy="24764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3284640"/>
            <a:ext cx="48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2168640"/>
            <a:ext cx="48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4120" y="424188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9960" y="3429000"/>
            <a:ext cx="2465280" cy="246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48360" y="1988640"/>
            <a:ext cx="0" cy="4248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8160" y="311148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1916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4667400"/>
            <a:ext cx="0" cy="122364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53672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88080" y="58910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Zapamatuj si.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1282680"/>
            <a:ext cx="7777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tomto místě je vhodné připomenout jedno ze základních pravidel rýsování -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osy rýsujeme čerchovaně (čerchovanou čar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36920" y="2349360"/>
            <a:ext cx="6006960" cy="4638960"/>
            <a:chOff x="1636920" y="2349360"/>
            <a:chExt cx="6006960" cy="4638960"/>
          </a:xfrm>
        </p:grpSpPr>
        <p:sp>
          <p:nvSpPr>
            <p:cNvPr id="161" name=""/>
            <p:cNvSpPr/>
            <p:nvPr/>
          </p:nvSpPr>
          <p:spPr>
            <a:xfrm>
              <a:off x="1835280" y="2349360"/>
              <a:ext cx="5808600" cy="38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562120" y="2365200"/>
              <a:ext cx="4476960" cy="38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flipV="1" rot="10800000">
              <a:off x="5707440" y="4816800"/>
              <a:ext cx="1936080" cy="193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467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46707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3500000">
              <a:off x="4915440" y="4646880"/>
              <a:ext cx="1936800" cy="193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20" y="2346"/>
                  </a:moveTo>
                  <a:arcTo wR="10800" hR="10800" stAng="-3091178" swAng="4037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20" y="2346"/>
                  </a:moveTo>
                  <a:arcTo wR="10800" hR="10800" stAng="-3091178" swAng="4037885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7890600">
              <a:off x="5287680" y="4146840"/>
              <a:ext cx="1933920" cy="19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30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30750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7314800">
              <a:off x="1896120" y="4793400"/>
              <a:ext cx="1934640" cy="193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36" y="6"/>
                  </a:moveTo>
                  <a:arcTo wR="10800" hR="10800" stAng="-5515772" swAng="5596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36" y="6"/>
                  </a:moveTo>
                  <a:arcTo wR="10800" hR="10800" stAng="-5515772" swAng="5596232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5355200">
              <a:off x="2539080" y="4084560"/>
              <a:ext cx="1930320" cy="19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26" y="3516"/>
                  </a:moveTo>
                  <a:arcTo wR="10800" hR="10800" stAng="-8255533" swAng="35902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26" y="3516"/>
                  </a:moveTo>
                  <a:arcTo wR="10800" hR="10800" stAng="-8255533" swAng="3590245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1694000">
              <a:off x="2851920" y="4829400"/>
              <a:ext cx="1933920" cy="193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26" y="3516"/>
                  </a:moveTo>
                  <a:arcTo wR="10800" hR="10800" stAng="-8255533" swAng="3537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2826" y="3516"/>
                  </a:moveTo>
                  <a:arcTo wR="10800" hR="10800" stAng="-8255533" swAng="3537103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439720" y="2736360"/>
              <a:ext cx="4599000" cy="3327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440080" y="3897000"/>
              <a:ext cx="4717800" cy="2081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9640" y="3573360"/>
              <a:ext cx="409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00360" y="2637000"/>
              <a:ext cx="40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53040" y="43988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83200" y="3716280"/>
              <a:ext cx="2071440" cy="2071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22880" y="2506320"/>
              <a:ext cx="0" cy="3568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0440" y="3395520"/>
              <a:ext cx="4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244476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22880" y="4756320"/>
              <a:ext cx="0" cy="1028520"/>
            </a:xfrm>
            <a:prstGeom prst="line">
              <a:avLst/>
            </a:prstGeom>
            <a:ln w="572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94280" y="5345280"/>
              <a:ext cx="4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3640" y="578484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3708360" y="1844640"/>
            <a:ext cx="2519280" cy="172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1844640"/>
            <a:ext cx="505080" cy="216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3201840" y="1268280"/>
            <a:ext cx="251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osa úhlu C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56996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osa úhlu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18748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S; S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4720" y="98100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p;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B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S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6121440" cy="40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0800000">
            <a:off x="5410080" y="4767120"/>
            <a:ext cx="1990080" cy="199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3467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346707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 rot="13500000">
            <a:off x="4597560" y="4592160"/>
            <a:ext cx="1989720" cy="198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20" y="2346"/>
                </a:moveTo>
                <a:arcTo wR="10800" hR="10800" stAng="-3091178" swAng="4037885"/>
                <a:lnTo>
                  <a:pt x="10800" y="10800"/>
                </a:lnTo>
                <a:close/>
              </a:path>
              <a:path fill="none" w="21600" h="21600">
                <a:moveTo>
                  <a:pt x="17520" y="2346"/>
                </a:moveTo>
                <a:arcTo wR="10800" hR="10800" stAng="-3091178" swAng="4037885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 rot="7890600">
            <a:off x="4977000" y="4078080"/>
            <a:ext cx="1990440" cy="19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307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30750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 rot="17314800">
            <a:off x="1492920" y="4743360"/>
            <a:ext cx="1989360" cy="199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436" y="6"/>
                </a:moveTo>
                <a:arcTo wR="10800" hR="10800" stAng="-5515772" swAng="5596232"/>
                <a:lnTo>
                  <a:pt x="10800" y="10800"/>
                </a:lnTo>
                <a:close/>
              </a:path>
              <a:path fill="none" w="21600" h="21600">
                <a:moveTo>
                  <a:pt x="10436" y="6"/>
                </a:moveTo>
                <a:arcTo wR="10800" hR="10800" stAng="-5515772" swAng="5596232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 rot="15355200">
            <a:off x="2152800" y="4014000"/>
            <a:ext cx="1987200" cy="19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26" y="3516"/>
                </a:moveTo>
                <a:arcTo wR="10800" hR="10800" stAng="-8255533" swAng="3590245"/>
                <a:lnTo>
                  <a:pt x="10800" y="10800"/>
                </a:lnTo>
                <a:close/>
              </a:path>
              <a:path fill="none" w="21600" h="21600">
                <a:moveTo>
                  <a:pt x="2826" y="3516"/>
                </a:moveTo>
                <a:arcTo wR="10800" hR="10800" stAng="-8255533" swAng="3590245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1694000">
            <a:off x="2477520" y="4778640"/>
            <a:ext cx="1985400" cy="19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26" y="3516"/>
                </a:moveTo>
                <a:arcTo wR="10800" hR="10800" stAng="-8255533" swAng="3537103"/>
                <a:lnTo>
                  <a:pt x="10800" y="10800"/>
                </a:lnTo>
                <a:close/>
              </a:path>
              <a:path fill="none" w="21600" h="21600">
                <a:moveTo>
                  <a:pt x="2826" y="3516"/>
                </a:moveTo>
                <a:arcTo wR="10800" hR="10800" stAng="-8255533" swAng="3537103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050560" y="2629080"/>
            <a:ext cx="4727880" cy="3420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050920" y="3822840"/>
            <a:ext cx="4851360" cy="21384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67400" y="3483000"/>
            <a:ext cx="420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00400" y="2548080"/>
            <a:ext cx="42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40200" y="4281480"/>
            <a:ext cx="4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43360" y="3637080"/>
            <a:ext cx="2128680" cy="212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913280" y="2394000"/>
            <a:ext cx="0" cy="3666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332892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78200" y="233028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0000" y="2349360"/>
            <a:ext cx="4248000" cy="3753000"/>
            <a:chOff x="2340000" y="2349360"/>
            <a:chExt cx="4248000" cy="3753000"/>
          </a:xfrm>
        </p:grpSpPr>
        <p:sp>
          <p:nvSpPr>
            <p:cNvPr id="205" name=""/>
            <p:cNvSpPr/>
            <p:nvPr/>
          </p:nvSpPr>
          <p:spPr>
            <a:xfrm>
              <a:off x="2481120" y="5776920"/>
              <a:ext cx="391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335560" y="2637000"/>
              <a:ext cx="1068480" cy="31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484360" y="2636640"/>
              <a:ext cx="2849760" cy="313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0000" y="5734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7640" y="5734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92720" y="2349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3280" y="5748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4720" y="1268280"/>
            <a:ext cx="251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X; X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157176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7. k; k(S; r=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S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05080" y="993600"/>
            <a:ext cx="2519280" cy="287280"/>
            <a:chOff x="3205080" y="993600"/>
            <a:chExt cx="2519280" cy="287280"/>
          </a:xfrm>
        </p:grpSpPr>
        <p:sp>
          <p:nvSpPr>
            <p:cNvPr id="215" name=""/>
            <p:cNvSpPr/>
            <p:nvPr/>
          </p:nvSpPr>
          <p:spPr>
            <a:xfrm>
              <a:off x="3205080" y="993600"/>
              <a:ext cx="25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1.    ABC (ss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3544920" y="1064880"/>
              <a:ext cx="142560" cy="14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16000" y="2637000"/>
            <a:ext cx="820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 na závěr ještě něco naví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4076640"/>
            <a:ext cx="655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Ukázka č. 2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spusť odkaz, projdi si applet a pak s jeho pomocí – můžeš pohybovat vrcholy trojúhelníku – odpověz na otázku: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Může se u nějakého trojúhelníku nacházet střed kružnice vepsané vně trojúhelník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213000"/>
            <a:ext cx="662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Ukázka č. 1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(spusť odkaz a vyber „kružnice vepsaná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9640" y="1125360"/>
            <a:ext cx="781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Konstrukci proveďte do sešitu. </a:t>
            </a:r>
            <a:br>
              <a:rPr sz="2800"/>
            </a:b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dy se ukáže, kdo umí přesně rýsov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15T10:57:53Z</dcterms:modified>
  <cp:revision>126</cp:revision>
  <dc:subject/>
  <dc:title>Konstrukce kružnice trojúhelníku vepsané</dc:title>
</cp:coreProperties>
</file>