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45C-539A-4F19-8355-8BDB46E8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5E0-B6EF-44E0-83D1-B2C0800B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B5E-C548-4A54-B788-B41D376E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BF7-DE49-45BF-9257-83A3A766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5936-442A-4370-8B2A-E20F1B57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DF49-1979-403D-8DEC-6759BC86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5D54-3439-4DDF-AD36-E1D2D79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B402-879F-4149-A74F-ABF9C66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4F1-D75B-43F3-8BD4-50646AA7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5DBF-7394-410F-B650-85CC53EE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2523-FD87-4F0F-8713-C4AFA19D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026-0FF7-43AD-B765-9D5D238B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DF9C-FE16-4150-9D60-1C8D4E5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CC88-D0FD-4B88-A5AC-A70C1CDD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6CC2-B449-4314-9F15-9D21289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00CA-6FED-4F1C-AE49-83033506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62B8-A473-4DCD-9556-3F40189A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D31-01D0-4418-90FA-096E280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526-EA77-459A-A906-5D13E77E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ABA-FE88-4E22-A517-42AB108D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EE7-AC58-4729-8831-AF1E7D6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22D-0B02-4612-91E4-243F16FC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FAB-12AD-4F2C-86E7-576C5D1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CFB-6983-4A4F-9D4F-DA14C209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61F-8A3C-41D6-8CE6-CE2BEF6A10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7A2-85A7-49E4-8B4C-B6315961823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lter-fendt.de/m14cz/umkreis_cz.htm" TargetMode="External"/><Relationship Id="rId3" Type="http://schemas.openxmlformats.org/officeDocument/2006/relationships/hyperlink" Target="http://www.matematika.webz.cz/ostatni/trojuhelnik/seminarka.swf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k ještě jednou konstrukce kružnice opsané ostroúhlému trojúhelníku krok za kroke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085760" y="1413000"/>
            <a:ext cx="6913800" cy="49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911240" y="1494000"/>
            <a:ext cx="5181840" cy="4814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911240" y="1494000"/>
            <a:ext cx="5181840" cy="4814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911240" y="1494000"/>
            <a:ext cx="5181840" cy="4814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911240" y="1494000"/>
            <a:ext cx="5181840" cy="4814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911240" y="1494000"/>
            <a:ext cx="5181840" cy="4814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1911240" y="1494000"/>
            <a:ext cx="5181840" cy="481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 totéž ještě jednou, ale s trojúhelníkem pravoúhlý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1085760" y="1413000"/>
            <a:ext cx="6913800" cy="49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846440" y="1484280"/>
            <a:ext cx="5389560" cy="4772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846440" y="1484280"/>
            <a:ext cx="5389560" cy="4772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846440" y="1484280"/>
            <a:ext cx="5389560" cy="4772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846440" y="1484280"/>
            <a:ext cx="5389560" cy="4772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846440" y="1484280"/>
            <a:ext cx="5389560" cy="4772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1846440" y="1484280"/>
            <a:ext cx="5389560" cy="477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 naposled s trojúhelníkem tupoúhlý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1085760" y="1413000"/>
            <a:ext cx="6913800" cy="49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57440" y="1487520"/>
            <a:ext cx="5794200" cy="4821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657440" y="1487520"/>
            <a:ext cx="5794200" cy="4821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657440" y="1487520"/>
            <a:ext cx="5794200" cy="4821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1657440" y="1487520"/>
            <a:ext cx="5794200" cy="4821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1657440" y="1487520"/>
            <a:ext cx="5794200" cy="4821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7"/>
          <a:stretch/>
        </p:blipFill>
        <p:spPr>
          <a:xfrm>
            <a:off x="1657440" y="1487520"/>
            <a:ext cx="5794200" cy="48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2997360"/>
            <a:ext cx="68407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eji hodně přesnosti při rýsování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13080" y="2421000"/>
            <a:ext cx="395928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03236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40000" y="2365200"/>
            <a:ext cx="410364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48360" y="522936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oloměrem pak vzdálenost tohoto průsečíku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kteréhokoliv vrcholu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75280" y="472608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středů všech kružnic, procházejících krajními body úseč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72608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středů všech těchto kružnic, procházejících krajními body úsečky B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5280" y="2062080"/>
            <a:ext cx="396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jdříve si ten úkol ale zjednodušíme. Jak bychom narýsovali kružnici procházející jen dvěma body: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rajními body úsečky AB (strany trojúhelníka AB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5589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 to opět přímka – osa úsečky 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63700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tedy množinou středů kružnic procházejících zároveň krajními body úsečky AB i krajními body úsečky B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052640"/>
            <a:ext cx="403236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5084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5081760" y="1413000"/>
            <a:ext cx="381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ším úkolem je takovou kružnici procházející třemi body narý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5280" y="3286080"/>
            <a:ext cx="39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edstavme si takovou kružn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5280" y="4005360"/>
            <a:ext cx="39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představme si i další takové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5589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 to přímka – osa úsečky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76720" y="2637000"/>
            <a:ext cx="381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yní si totéž zopakujme se stranou B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2997360"/>
            <a:ext cx="396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ředstavme si kružnici, která prochází krajními body této strany – úsečky B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400536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představme si i další takové kruž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48360" y="342900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Je to průsečík os těchto úseč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4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5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36572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latí totéž i pro osu třetí strany C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1047600" y="1125360"/>
            <a:ext cx="3808440" cy="518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48360" y="501336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no, pla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3141720"/>
            <a:ext cx="396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ý závěr z toho pro nás tedy ply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789360"/>
            <a:ext cx="381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tředem kružnice trojúhelníku opsané je průsečík os stran tohoto trojúhelní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92232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Př: Sestrojte kružnici opsanou danému trojúhelníku ABC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268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68360" y="1822320"/>
            <a:ext cx="4608720" cy="45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 rot="10317000">
            <a:off x="4186800" y="2817360"/>
            <a:ext cx="4031280" cy="403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3" y="3286"/>
                </a:moveTo>
                <a:arcTo wR="10800" hR="10800" stAng="-8154708" swAng="10309440"/>
                <a:lnTo>
                  <a:pt x="10800" y="10800"/>
                </a:lnTo>
                <a:close/>
              </a:path>
              <a:path fill="none" w="21600" h="21600">
                <a:moveTo>
                  <a:pt x="3043" y="3286"/>
                </a:moveTo>
                <a:arcTo wR="10800" hR="10800" stAng="-8154708" swAng="10309440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 rot="207600">
            <a:off x="3273840" y="375840"/>
            <a:ext cx="4032360" cy="403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07" y="5322"/>
                </a:moveTo>
                <a:arcTo wR="10800" hR="10800" stAng="-1828875" swAng="1913769"/>
                <a:lnTo>
                  <a:pt x="10800" y="10800"/>
                </a:lnTo>
                <a:close/>
              </a:path>
              <a:path fill="none" w="21600" h="21600">
                <a:moveTo>
                  <a:pt x="20107" y="5322"/>
                </a:moveTo>
                <a:arcTo wR="10800" hR="10800" stAng="-1828875" swAng="1913769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207600">
            <a:off x="3275280" y="365040"/>
            <a:ext cx="4030200" cy="40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3" y="3286"/>
                </a:moveTo>
                <a:arcTo wR="10800" hR="10800" stAng="-8154708" swAng="2147456"/>
                <a:lnTo>
                  <a:pt x="10800" y="10800"/>
                </a:lnTo>
                <a:close/>
              </a:path>
              <a:path fill="none" w="21600" h="21600">
                <a:moveTo>
                  <a:pt x="3043" y="3286"/>
                </a:moveTo>
                <a:arcTo wR="10800" hR="10800" stAng="-8154708" swAng="2147456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18153600">
            <a:off x="858960" y="2822040"/>
            <a:ext cx="4031280" cy="40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88" y="3996"/>
                </a:moveTo>
                <a:arcTo wR="10800" hR="10800" stAng="-2342814" swAng="2076865"/>
                <a:lnTo>
                  <a:pt x="10800" y="10800"/>
                </a:lnTo>
                <a:close/>
              </a:path>
              <a:path fill="none" w="21600" h="21600">
                <a:moveTo>
                  <a:pt x="19188" y="3996"/>
                </a:moveTo>
                <a:arcTo wR="10800" hR="10800" stAng="-2342814" swAng="2076865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8153600">
            <a:off x="859680" y="2815200"/>
            <a:ext cx="4029120" cy="40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15" y="223"/>
                </a:moveTo>
                <a:arcTo wR="10800" hR="10800" stAng="-6100443" swAng="1616317"/>
                <a:lnTo>
                  <a:pt x="10800" y="10800"/>
                </a:lnTo>
                <a:close/>
              </a:path>
              <a:path fill="none" w="21600" h="21600">
                <a:moveTo>
                  <a:pt x="8615" y="223"/>
                </a:moveTo>
                <a:arcTo wR="10800" hR="10800" stAng="-6100443" swAng="1616317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187280" y="2838240"/>
            <a:ext cx="6624720" cy="246204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43560" y="1989000"/>
            <a:ext cx="0" cy="417672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2492280"/>
            <a:ext cx="48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16560" y="1836720"/>
            <a:ext cx="48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3933720"/>
            <a:ext cx="48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2233440"/>
            <a:ext cx="3672000" cy="3667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40560" y="53370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29160" y="2406240"/>
            <a:ext cx="792000" cy="1655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92560" y="256536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Zapamatuj si.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1282680"/>
            <a:ext cx="7777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tomto místě je vhodné připomenout jedno ze základních pravidel rýsování -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osy rýsujeme čerchovaně (čerchovanou čar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15560" y="1487520"/>
            <a:ext cx="6713280" cy="5901120"/>
            <a:chOff x="1015560" y="1487520"/>
            <a:chExt cx="6713280" cy="5901120"/>
          </a:xfrm>
        </p:grpSpPr>
        <p:sp>
          <p:nvSpPr>
            <p:cNvPr id="156" name=""/>
            <p:cNvSpPr/>
            <p:nvPr/>
          </p:nvSpPr>
          <p:spPr>
            <a:xfrm>
              <a:off x="1778040" y="2708280"/>
              <a:ext cx="5530680" cy="36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759040" y="2747880"/>
              <a:ext cx="3686040" cy="36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flipV="1" rot="10317000">
              <a:off x="4293000" y="3543480"/>
              <a:ext cx="3225960" cy="322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3" y="3286"/>
                  </a:moveTo>
                  <a:arcTo wR="10800" hR="10800" stAng="-8154708" swAng="1030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3" y="3286"/>
                  </a:moveTo>
                  <a:arcTo wR="10800" hR="10800" stAng="-8154708" swAng="10309440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207600">
              <a:off x="3563640" y="1592640"/>
              <a:ext cx="3225240" cy="322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07" y="5322"/>
                  </a:moveTo>
                  <a:arcTo wR="10800" hR="10800" stAng="-1828875" swAng="1913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07" y="5322"/>
                  </a:moveTo>
                  <a:arcTo wR="10800" hR="10800" stAng="-1828875" swAng="1913769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207600">
              <a:off x="3564720" y="1581120"/>
              <a:ext cx="3222360" cy="322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043" y="3286"/>
                  </a:moveTo>
                  <a:arcTo wR="10800" hR="10800" stAng="-8154708" swAng="21474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043" y="3286"/>
                  </a:moveTo>
                  <a:arcTo wR="10800" hR="10800" stAng="-8154708" swAng="2147456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8153600">
              <a:off x="1630800" y="3548160"/>
              <a:ext cx="3225240" cy="32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188" y="3996"/>
                  </a:moveTo>
                  <a:arcTo wR="10800" hR="10800" stAng="-2342814" swAng="2076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188" y="3996"/>
                  </a:moveTo>
                  <a:arcTo wR="10800" hR="10800" stAng="-2342814" swAng="2076865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8153600">
              <a:off x="1630080" y="3542400"/>
              <a:ext cx="3225240" cy="32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15" y="223"/>
                  </a:moveTo>
                  <a:arcTo wR="10800" hR="10800" stAng="-6100443" swAng="1616317"/>
                  <a:lnTo>
                    <a:pt x="10800" y="10800"/>
                  </a:lnTo>
                  <a:close/>
                </a:path>
                <a:path fill="none" w="21600" h="21600">
                  <a:moveTo>
                    <a:pt x="8615" y="223"/>
                  </a:moveTo>
                  <a:arcTo wR="10800" hR="10800" stAng="-6100443" swAng="1616317"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893960" y="3560760"/>
              <a:ext cx="5298840" cy="196848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8480" y="2881440"/>
              <a:ext cx="0" cy="334008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48640" y="3282840"/>
              <a:ext cx="460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6160" y="2708280"/>
              <a:ext cx="52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43560" y="4437000"/>
              <a:ext cx="39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03560" y="3076560"/>
              <a:ext cx="2938320" cy="2933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35720" y="55594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567320" y="3214800"/>
              <a:ext cx="633240" cy="1325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8040" y="3341520"/>
              <a:ext cx="3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4642920" y="1844640"/>
            <a:ext cx="1584360" cy="151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1844640"/>
            <a:ext cx="73080" cy="19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2886120" y="1382760"/>
            <a:ext cx="29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osa strany 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84320" y="1684440"/>
            <a:ext cx="2767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 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 osa strany 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13360" y="11113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S; S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o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13360" y="13986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k; k(S; r=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|SC|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87560" y="1095480"/>
            <a:ext cx="2519280" cy="287280"/>
            <a:chOff x="2887560" y="1095480"/>
            <a:chExt cx="2519280" cy="287280"/>
          </a:xfrm>
        </p:grpSpPr>
        <p:sp>
          <p:nvSpPr>
            <p:cNvPr id="180" name=""/>
            <p:cNvSpPr/>
            <p:nvPr/>
          </p:nvSpPr>
          <p:spPr>
            <a:xfrm>
              <a:off x="2887560" y="1095480"/>
              <a:ext cx="25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1.    ABC (ss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3227400" y="1166760"/>
              <a:ext cx="142560" cy="14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474920" y="2276640"/>
            <a:ext cx="6121440" cy="40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0317000">
            <a:off x="4258080" y="3205080"/>
            <a:ext cx="3569400" cy="358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3" y="3286"/>
                </a:moveTo>
                <a:arcTo wR="10800" hR="10800" stAng="-8154708" swAng="10309440"/>
                <a:lnTo>
                  <a:pt x="10800" y="10800"/>
                </a:lnTo>
                <a:close/>
              </a:path>
              <a:path fill="none" w="21600" h="21600">
                <a:moveTo>
                  <a:pt x="3043" y="3286"/>
                </a:moveTo>
                <a:arcTo wR="10800" hR="10800" stAng="-8154708" swAng="10309440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 rot="207600">
            <a:off x="3452040" y="1030680"/>
            <a:ext cx="3568680" cy="359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07" y="5322"/>
                </a:moveTo>
                <a:arcTo wR="10800" hR="10800" stAng="-1828875" swAng="1913769"/>
                <a:lnTo>
                  <a:pt x="10800" y="10800"/>
                </a:lnTo>
                <a:close/>
              </a:path>
              <a:path fill="none" w="21600" h="21600">
                <a:moveTo>
                  <a:pt x="20107" y="5322"/>
                </a:moveTo>
                <a:arcTo wR="10800" hR="10800" stAng="-1828875" swAng="1913769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207600">
            <a:off x="3450960" y="1021320"/>
            <a:ext cx="3571200" cy="358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43" y="3286"/>
                </a:moveTo>
                <a:arcTo wR="10800" hR="10800" stAng="-8154708" swAng="2147456"/>
                <a:lnTo>
                  <a:pt x="10800" y="10800"/>
                </a:lnTo>
                <a:close/>
              </a:path>
              <a:path fill="none" w="21600" h="21600">
                <a:moveTo>
                  <a:pt x="3043" y="3286"/>
                </a:moveTo>
                <a:arcTo wR="10800" hR="10800" stAng="-8154708" swAng="2147456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153600">
            <a:off x="1299960" y="3222360"/>
            <a:ext cx="3588480" cy="356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88" y="3996"/>
                </a:moveTo>
                <a:arcTo wR="10800" hR="10800" stAng="-2342814" swAng="2076865"/>
                <a:lnTo>
                  <a:pt x="10800" y="10800"/>
                </a:lnTo>
                <a:close/>
              </a:path>
              <a:path fill="none" w="21600" h="21600">
                <a:moveTo>
                  <a:pt x="19188" y="3996"/>
                </a:moveTo>
                <a:arcTo wR="10800" hR="10800" stAng="-2342814" swAng="2076865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 rot="18153600">
            <a:off x="1302840" y="3217320"/>
            <a:ext cx="3587040" cy="356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15" y="223"/>
                </a:moveTo>
                <a:arcTo wR="10800" hR="10800" stAng="-6100443" swAng="1616317"/>
                <a:lnTo>
                  <a:pt x="10800" y="10800"/>
                </a:lnTo>
                <a:close/>
              </a:path>
              <a:path fill="none" w="21600" h="21600">
                <a:moveTo>
                  <a:pt x="8615" y="223"/>
                </a:moveTo>
                <a:arcTo wR="10800" hR="10800" stAng="-6100443" swAng="1616317"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603440" y="3224160"/>
            <a:ext cx="5864040" cy="21924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3440" y="2468520"/>
            <a:ext cx="0" cy="37180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873520"/>
            <a:ext cx="43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29160" y="227664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35640" y="4199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32200" y="2693880"/>
            <a:ext cx="3251160" cy="3264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4000" y="54482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44720" y="2478240"/>
            <a:ext cx="3584520" cy="2862360"/>
            <a:chOff x="2844720" y="2478240"/>
            <a:chExt cx="3584520" cy="2862360"/>
          </a:xfrm>
        </p:grpSpPr>
        <p:sp>
          <p:nvSpPr>
            <p:cNvPr id="196" name=""/>
            <p:cNvSpPr/>
            <p:nvPr/>
          </p:nvSpPr>
          <p:spPr>
            <a:xfrm>
              <a:off x="3073320" y="5013360"/>
              <a:ext cx="29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5219640" y="2838600"/>
              <a:ext cx="820800" cy="21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074760" y="2832120"/>
              <a:ext cx="2160360" cy="21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44720" y="494172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99040" y="490392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19560" y="2478240"/>
              <a:ext cx="43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16000" y="2637000"/>
            <a:ext cx="820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 na závěr ještě něco naví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4438800"/>
            <a:ext cx="6985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Ukázka č. 2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spusť odkaz, projdi si applet a pak s jeho    pomocí – můžeš pohybovat vrcholy trojúhelníku - odpověz na otázky: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1. Bude ležet střed kružnice opsané S vždy uvnitř trojúhelníku tak, jak tomu bylo v našem příkladu?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2. Kde leží střed kružnice opsané u pravoúhlých trojúhelní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3213000"/>
            <a:ext cx="662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Ukázka č. 1 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(spusť odkaz a vyber „kružnice opsaná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79640" y="1125360"/>
            <a:ext cx="781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Konstrukci proveďte do sešitu. </a:t>
            </a:r>
            <a:br>
              <a:rPr sz="2800"/>
            </a:b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Tady se ukáže, kdo umí přesně rýsov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15T08:41:34Z</dcterms:modified>
  <cp:revision>104</cp:revision>
  <dc:subject/>
  <dc:title>Konstrukce kružnice trojúhelníku opsané</dc:title>
</cp:coreProperties>
</file>