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10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586D-0464-4C2B-989C-5ABAA0E45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20F8-E15F-48C6-9697-9C3442136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B349-E29D-4193-A874-81176B041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3D9A-CC2C-4A16-8306-8625F6F79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EE823-1B74-4B3A-BFEC-B19281804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465F0-0CB5-47B3-B109-ABB737A75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770B0-5227-4137-9EAA-DCFD46189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9F1E6-D809-4B2C-9C89-B6C9C7FA3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61A46-C44E-416C-99FE-CEE2FACCA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79B11-2F02-4B22-93B9-6070B29B5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0DB03-F145-4390-B28A-2700C7D5C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32F5-83E3-491D-B0EE-AF1364019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4E7B2-5567-461E-A7D2-A0A0B712F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7CBCA-6A32-4EBC-80D5-BDB9E7B8C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78684-5B5D-4250-BE0E-CFC76F59B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E8AE9-8BBA-4B99-A1B4-A404B2D83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56522-7C8D-46A6-B1CE-1FF2666FB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2E62-F4C2-42CB-B3C3-C0B2CA54F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3701-2FD9-4B7C-8639-1840B3E38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A006-399A-4D45-8AEF-72A7338C2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DFFC-5A6A-43DE-9EDA-AE1F55BF7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B4D5-CEE8-4324-BC1B-4E3ACE6D7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3089-CE8B-4E44-AE18-308666FE6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F91E-DA43-428A-8E85-F5150C3AA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1" marL="668520" indent="-25704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2" marL="102852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3" marL="144000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4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5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6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E7FCA-CEFB-4EA2-A403-0C6CB70215D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Zástupný symbol pro zápatí 3"/>
          <p:cNvSpPr/>
          <p:nvPr/>
        </p:nvSpPr>
        <p:spPr>
          <a:xfrm>
            <a:off x="816120" y="645336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47640" y="144792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23665-8877-4E98-A85C-197E7F31E73F}" type="slidenum"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Zástupný symbol pro zápatí 3"/>
          <p:cNvSpPr/>
          <p:nvPr/>
        </p:nvSpPr>
        <p:spPr>
          <a:xfrm>
            <a:off x="816120" y="645336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84c6a"/>
                </a:solidFill>
                <a:latin typeface="Trebuchet MS"/>
              </a:rPr>
              <a:t>Click to edit the outline text format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rebuchet MS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4000" y="1341000"/>
            <a:ext cx="784836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84c6a"/>
                </a:solidFill>
                <a:latin typeface="Trebuchet MS"/>
              </a:rPr>
              <a:t>Dvourozměrné geometrické útvary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5" name=""/>
          <p:cNvSpPr/>
          <p:nvPr/>
        </p:nvSpPr>
        <p:spPr>
          <a:xfrm>
            <a:off x="684360" y="3789360"/>
            <a:ext cx="78483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84c6a"/>
                </a:solidFill>
                <a:latin typeface="Trebuchet MS"/>
              </a:rPr>
              <a:t>Dvojice úhlů.</a:t>
            </a:r>
            <a:br>
              <a:rPr sz="4000"/>
            </a:br>
            <a:r>
              <a:rPr b="0" lang="en-US" sz="4000" spc="-1" strike="noStrike">
                <a:solidFill>
                  <a:srgbClr val="284c6a"/>
                </a:solidFill>
                <a:latin typeface="Trebuchet MS"/>
              </a:rPr>
              <a:t>Úhly vedlejší a vrcholové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042920" y="1743120"/>
            <a:ext cx="7345440" cy="468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1476360" y="1773360"/>
            <a:ext cx="6389640" cy="455292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3"/>
          <a:stretch/>
        </p:blipFill>
        <p:spPr>
          <a:xfrm>
            <a:off x="1481040" y="1789200"/>
            <a:ext cx="6389640" cy="45529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Dvojice úhlů – vrcholové úhly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02" name=""/>
          <p:cNvSpPr/>
          <p:nvPr/>
        </p:nvSpPr>
        <p:spPr>
          <a:xfrm>
            <a:off x="912960" y="836640"/>
            <a:ext cx="7777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Platí tedy, že vrcholové úhly jsou shodn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914400" y="1197000"/>
            <a:ext cx="76899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Trebuchet MS"/>
              </a:rPr>
              <a:t>Kolik dvojic vrcholových úhlů vytvoří dvojice protínajících se přímek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486320" y="403380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18739800">
            <a:off x="3488760" y="3002760"/>
            <a:ext cx="2117880" cy="211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48"/>
                </a:moveTo>
                <a:arcTo wR="10800" hR="10800" stAng="-10783454" swAng="2862695"/>
                <a:lnTo>
                  <a:pt x="10800" y="10800"/>
                </a:lnTo>
                <a:close/>
              </a:path>
              <a:path fill="none" w="21600" h="21600">
                <a:moveTo>
                  <a:pt x="0" y="10748"/>
                </a:moveTo>
                <a:arcTo wR="10800" hR="10800" stAng="-10783454" swAng="2862695"/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05680" y="3003120"/>
            <a:ext cx="2116800" cy="2115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7976" y="2728"/>
                </a:moveTo>
                <a:arcTo wR="10800" hR="10800" stAng="-2901793" swAng="2901793"/>
                <a:lnTo>
                  <a:pt x="10800" y="10800"/>
                </a:lnTo>
                <a:close/>
              </a:path>
              <a:path fill="none" w="21600" h="21600">
                <a:moveTo>
                  <a:pt x="17976" y="2728"/>
                </a:moveTo>
                <a:arcTo wR="10800" hR="10800" stAng="-2901793" swAng="2901793"/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508720" y="2997360"/>
            <a:ext cx="2881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ff0000"/>
                </a:solidFill>
                <a:latin typeface="Trebuchet MS"/>
              </a:rPr>
              <a:t>α</a:t>
            </a:r>
            <a:r>
              <a:rPr b="1" lang="cs-CZ" sz="3200" spc="-1" strike="noStrike">
                <a:solidFill>
                  <a:srgbClr val="ff0000"/>
                </a:solidFill>
                <a:latin typeface="Trebuchet MS"/>
              </a:rPr>
              <a:t> = </a:t>
            </a:r>
            <a:r>
              <a:rPr b="1" lang="el-GR" sz="3200" spc="-1" strike="noStrike">
                <a:solidFill>
                  <a:srgbClr val="ff0000"/>
                </a:solidFill>
                <a:latin typeface="Trebuchet MS"/>
              </a:rPr>
              <a:t>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4160" y="3005280"/>
            <a:ext cx="2115000" cy="2116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48"/>
                </a:moveTo>
                <a:arcTo wR="10800" hR="10800" stAng="-10783454" swAng="7915511"/>
                <a:lnTo>
                  <a:pt x="10800" y="10800"/>
                </a:lnTo>
                <a:close/>
              </a:path>
              <a:path fill="none" w="21600" h="21600">
                <a:moveTo>
                  <a:pt x="0" y="10748"/>
                </a:moveTo>
                <a:arcTo wR="10800" hR="10800" stAng="-10783454" swAng="7915511"/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425680" y="2997360"/>
            <a:ext cx="2881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ff0000"/>
                </a:solidFill>
                <a:latin typeface="Trebuchet MS"/>
              </a:rPr>
              <a:t>γ</a:t>
            </a:r>
            <a:r>
              <a:rPr b="1" lang="cs-CZ" sz="3200" spc="-1" strike="noStrike">
                <a:solidFill>
                  <a:srgbClr val="ff0000"/>
                </a:solidFill>
                <a:latin typeface="Trebuchet MS"/>
              </a:rPr>
              <a:t> = </a:t>
            </a:r>
            <a:r>
              <a:rPr b="1" lang="el-GR" sz="3200" spc="-1" strike="noStrike">
                <a:solidFill>
                  <a:srgbClr val="ff0000"/>
                </a:solidFill>
                <a:latin typeface="Trebuchet MS"/>
              </a:rPr>
              <a:t>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rot="7956000">
            <a:off x="3457440" y="3038400"/>
            <a:ext cx="2116080" cy="2116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197" y="3129"/>
                </a:moveTo>
                <a:arcTo wR="10800" hR="10800" stAng="-8084691" swAng="8084691"/>
                <a:lnTo>
                  <a:pt x="10800" y="10800"/>
                </a:lnTo>
                <a:close/>
              </a:path>
              <a:path fill="none" w="21600" h="21600">
                <a:moveTo>
                  <a:pt x="3197" y="3129"/>
                </a:moveTo>
                <a:arcTo wR="10800" hR="10800" stAng="-8084691" swAng="8084691"/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330200" y="5445000"/>
            <a:ext cx="6842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Trebuchet MS"/>
              </a:rPr>
              <a:t>Existují tedy dvě dvojice </a:t>
            </a:r>
            <a:br>
              <a:rPr sz="3200"/>
            </a:br>
            <a:r>
              <a:rPr b="1" lang="en-US" sz="3200" spc="-1" strike="noStrike">
                <a:solidFill>
                  <a:srgbClr val="009900"/>
                </a:solidFill>
                <a:latin typeface="Trebuchet MS"/>
              </a:rPr>
              <a:t>vrcholových úhlů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0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500"/>
                            </p:stCondLst>
                            <p:childTnLst>
                              <p:par>
                                <p:cTn id="5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500"/>
                            </p:stCondLst>
                            <p:childTnLst>
                              <p:par>
                                <p:cTn id="5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1000"/>
                            </p:stCondLst>
                            <p:childTnLst>
                              <p:par>
                                <p:cTn id="5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500"/>
                            </p:stCondLst>
                            <p:childTnLst>
                              <p:par>
                                <p:cTn id="5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1000"/>
                            </p:stCondLst>
                            <p:childTnLst>
                              <p:par>
                                <p:cTn id="5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1500"/>
                            </p:stCondLst>
                            <p:childTnLst>
                              <p:par>
                                <p:cTn id="5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8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0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0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500"/>
                            </p:stCondLst>
                            <p:childTnLst>
                              <p:par>
                                <p:cTn id="6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042920" y="1743120"/>
            <a:ext cx="7345440" cy="468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1666800" y="1803240"/>
            <a:ext cx="6073920" cy="452628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Dvojice úhlů – speciální případ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15" name=""/>
          <p:cNvSpPr/>
          <p:nvPr/>
        </p:nvSpPr>
        <p:spPr>
          <a:xfrm>
            <a:off x="912960" y="836640"/>
            <a:ext cx="7777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Mějme opět dvojici různoběžek s průsečíkem </a:t>
            </a:r>
            <a:r>
              <a:rPr b="1" i="1" lang="en-US" sz="2000" spc="-1" strike="noStrike">
                <a:solidFill>
                  <a:srgbClr val="284c6a"/>
                </a:solidFill>
                <a:latin typeface="Trebuchet MS"/>
              </a:rPr>
              <a:t>V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, ovšem nyní takových, které jsou na sebe kolm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914400" y="1297080"/>
            <a:ext cx="66103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Trebuchet MS"/>
              </a:rPr>
              <a:t>Co můžeme v dané situaci o úhlech říci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516560" y="400536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16000" y="2276640"/>
            <a:ext cx="3456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rebuchet MS"/>
              </a:rPr>
              <a:t>Všechny úhly jsou stejné, </a:t>
            </a:r>
            <a:br>
              <a:rPr sz="1800"/>
            </a:br>
            <a:r>
              <a:rPr b="1" lang="en-US" sz="1800" spc="-1" strike="noStrike">
                <a:solidFill>
                  <a:srgbClr val="3333cc"/>
                </a:solidFill>
                <a:latin typeface="Trebuchet MS"/>
              </a:rPr>
              <a:t>a protože dohromady dávají 360°, připadá na každý jeden z nich 90°, což znamená, že jde o úhly pravé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932360" y="5300640"/>
            <a:ext cx="36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rebuchet MS"/>
              </a:rPr>
              <a:t>Pravý úhel je takový úhel, který má stejnou velikost jako jeho úhel vedlejší. </a:t>
            </a:r>
            <a:br>
              <a:rPr sz="1800"/>
            </a:br>
            <a:r>
              <a:rPr b="1" lang="en-US" sz="1800" spc="-1" strike="noStrike">
                <a:solidFill>
                  <a:srgbClr val="3333cc"/>
                </a:solidFill>
                <a:latin typeface="Trebuchet MS"/>
              </a:rPr>
              <a:t>Součtem dvou pravých úhlů dostáváme úhel přímý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0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5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500"/>
                            </p:stCondLst>
                            <p:childTnLst>
                              <p:par>
                                <p:cTn id="6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Příklady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21" name=""/>
          <p:cNvSpPr/>
          <p:nvPr/>
        </p:nvSpPr>
        <p:spPr>
          <a:xfrm>
            <a:off x="1042920" y="1628640"/>
            <a:ext cx="6913800" cy="475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11280" y="981000"/>
            <a:ext cx="7966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Jak se říká dvojici těchto úhlů a co můžeš říci o jejich velikosti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1332000" y="1728720"/>
            <a:ext cx="2528640" cy="4505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500"/>
                            </p:stCondLst>
                            <p:childTnLst>
                              <p:par>
                                <p:cTn id="6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Příklady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25" name=""/>
          <p:cNvSpPr/>
          <p:nvPr/>
        </p:nvSpPr>
        <p:spPr>
          <a:xfrm>
            <a:off x="1042920" y="1628640"/>
            <a:ext cx="6913800" cy="475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11280" y="981000"/>
            <a:ext cx="7966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Jak se říká dvojici těchto úhlů a co můžeš říci o jejich velikosti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1332000" y="1728720"/>
            <a:ext cx="2528640" cy="450540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3708360" y="4797360"/>
            <a:ext cx="4103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rebuchet MS"/>
              </a:rPr>
              <a:t>vrcholové úh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788000" y="5516640"/>
            <a:ext cx="345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ff0000"/>
                </a:solidFill>
                <a:latin typeface="Trebuchet MS"/>
              </a:rPr>
              <a:t>α</a:t>
            </a:r>
            <a:r>
              <a:rPr b="1" lang="cs-CZ" sz="4000" spc="-1" strike="noStrike">
                <a:solidFill>
                  <a:srgbClr val="ff0000"/>
                </a:solidFill>
                <a:latin typeface="Trebuchet MS"/>
              </a:rPr>
              <a:t> = </a:t>
            </a:r>
            <a:r>
              <a:rPr b="1" lang="el-GR" sz="4000" spc="-1" strike="noStrike">
                <a:solidFill>
                  <a:srgbClr val="ff0000"/>
                </a:solidFill>
                <a:latin typeface="Trebuchet MS"/>
              </a:rPr>
              <a:t>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0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Příklady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31" name=""/>
          <p:cNvSpPr/>
          <p:nvPr/>
        </p:nvSpPr>
        <p:spPr>
          <a:xfrm>
            <a:off x="1042920" y="1628640"/>
            <a:ext cx="6913800" cy="475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11280" y="981000"/>
            <a:ext cx="7966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Jak se říká dvojici těchto úhlů a co můžeš říci o jejich velikosti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1434960" y="1803240"/>
            <a:ext cx="2489400" cy="4434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fill="hold">
                      <p:stCondLst>
                        <p:cond delay="0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500"/>
                            </p:stCondLst>
                            <p:childTnLst>
                              <p:par>
                                <p:cTn id="6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Příklady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35" name=""/>
          <p:cNvSpPr/>
          <p:nvPr/>
        </p:nvSpPr>
        <p:spPr>
          <a:xfrm>
            <a:off x="1042920" y="1628640"/>
            <a:ext cx="6913800" cy="475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11280" y="981000"/>
            <a:ext cx="7966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Jak se říká dvojici těchto úhlů a co můžeš říci o jejich velikosti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434960" y="1803240"/>
            <a:ext cx="2489400" cy="44341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3924360" y="4797360"/>
            <a:ext cx="4103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rebuchet MS"/>
              </a:rPr>
              <a:t>vedlejší úh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068720" y="5516640"/>
            <a:ext cx="345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ff0000"/>
                </a:solidFill>
                <a:latin typeface="Trebuchet MS"/>
              </a:rPr>
              <a:t>β</a:t>
            </a:r>
            <a:r>
              <a:rPr b="1" lang="cs-CZ" sz="4000" spc="-1" strike="noStrike">
                <a:solidFill>
                  <a:srgbClr val="ff0000"/>
                </a:solidFill>
                <a:latin typeface="Trebuchet MS"/>
              </a:rPr>
              <a:t> + </a:t>
            </a:r>
            <a:r>
              <a:rPr b="1" lang="el-GR" sz="4000" spc="-1" strike="noStrike">
                <a:solidFill>
                  <a:srgbClr val="ff0000"/>
                </a:solidFill>
                <a:latin typeface="Trebuchet MS"/>
              </a:rPr>
              <a:t>γ</a:t>
            </a:r>
            <a:r>
              <a:rPr b="1" lang="cs-CZ" sz="4000" spc="-1" strike="noStrike">
                <a:solidFill>
                  <a:srgbClr val="ff0000"/>
                </a:solidFill>
                <a:latin typeface="Trebuchet MS"/>
              </a:rPr>
              <a:t> = 180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fill="hold">
                      <p:stCondLst>
                        <p:cond delay="0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Příklady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41" name=""/>
          <p:cNvSpPr/>
          <p:nvPr/>
        </p:nvSpPr>
        <p:spPr>
          <a:xfrm>
            <a:off x="1042920" y="1628640"/>
            <a:ext cx="6913800" cy="475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11280" y="981000"/>
            <a:ext cx="7966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Vyznač ke každému z daných úhlů úhel, s nímž tvoří dvojici úhlů vrcholových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1994040" y="1658880"/>
            <a:ext cx="5170320" cy="4633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02" dur="indefinite" restart="never" nodeType="tmRoot">
          <p:childTnLst>
            <p:seq>
              <p:cTn id="703" dur="indefinite" nodeType="mainSeq">
                <p:childTnLst>
                  <p:par>
                    <p:cTn id="704" fill="hold">
                      <p:stCondLst>
                        <p:cond delay="0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500"/>
                            </p:stCondLst>
                            <p:childTnLst>
                              <p:par>
                                <p:cTn id="7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Příklady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45" name=""/>
          <p:cNvSpPr/>
          <p:nvPr/>
        </p:nvSpPr>
        <p:spPr>
          <a:xfrm>
            <a:off x="1042920" y="1628640"/>
            <a:ext cx="6913800" cy="475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11280" y="981000"/>
            <a:ext cx="7966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Vyznač ke každému z daných úhlů úhel, s nímž tvoří dvojici úhlů vrcholových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2065320" y="1674720"/>
            <a:ext cx="5170680" cy="46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Příklady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49" name=""/>
          <p:cNvSpPr/>
          <p:nvPr/>
        </p:nvSpPr>
        <p:spPr>
          <a:xfrm>
            <a:off x="1042920" y="1628640"/>
            <a:ext cx="6913800" cy="475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11280" y="981000"/>
            <a:ext cx="7966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Vyznač ke každému z daných úhlů úhel, s nímž tvoří dvojici úhlů vedlejších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1922400" y="1658880"/>
            <a:ext cx="5170680" cy="4633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fill="hold">
                      <p:stCondLst>
                        <p:cond delay="0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9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500"/>
                            </p:stCondLst>
                            <p:childTnLst>
                              <p:par>
                                <p:cTn id="7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Příklady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53" name=""/>
          <p:cNvSpPr/>
          <p:nvPr/>
        </p:nvSpPr>
        <p:spPr>
          <a:xfrm>
            <a:off x="1042920" y="1628640"/>
            <a:ext cx="6913800" cy="475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11280" y="981000"/>
            <a:ext cx="7966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Vyznač ke každému z daných úhlů úhel, s nímž tvoří dvojici úhlů vedlejších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1922400" y="1658880"/>
            <a:ext cx="5170680" cy="46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187280" y="2060640"/>
            <a:ext cx="6913800" cy="309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857680" y="2060640"/>
            <a:ext cx="5257800" cy="2305080"/>
          </a:xfrm>
          <a:custGeom>
            <a:avLst/>
            <a:gdLst/>
            <a:ahLst/>
            <a:rect l="l" t="t" r="r" b="b"/>
            <a:pathLst>
              <a:path w="3312" h="1452">
                <a:moveTo>
                  <a:pt x="590" y="0"/>
                </a:moveTo>
                <a:lnTo>
                  <a:pt x="3312" y="0"/>
                </a:lnTo>
                <a:lnTo>
                  <a:pt x="3312" y="635"/>
                </a:lnTo>
                <a:lnTo>
                  <a:pt x="0" y="1452"/>
                </a:lnTo>
                <a:lnTo>
                  <a:pt x="590" y="0"/>
                </a:lnTo>
                <a:close/>
              </a:path>
            </a:pathLst>
          </a:custGeom>
          <a:solidFill>
            <a:srgbClr val="00cc00">
              <a:alpha val="3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Zopakujme si nejdříve, co už o úhlu víme.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9" name=""/>
          <p:cNvSpPr/>
          <p:nvPr/>
        </p:nvSpPr>
        <p:spPr>
          <a:xfrm>
            <a:off x="912960" y="836640"/>
            <a:ext cx="7777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Úhel</a:t>
            </a: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 je část roviny vymezená dvěma polopřímkami se stejným počátk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914400" y="1413000"/>
            <a:ext cx="80503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Tyto polopřímky se nazývají </a:t>
            </a: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ramena úhlu</a:t>
            </a: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, jejich společný počátek je pak </a:t>
            </a: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vrchol úhlu</a:t>
            </a: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39640" y="5157720"/>
            <a:ext cx="8136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Myslí si snad ještě někdo, že úhel jsou ty dvě „čáry“ (ramena)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00360" y="414972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714760" y="440064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871720" y="2060280"/>
            <a:ext cx="936720" cy="23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2843280" y="3068280"/>
            <a:ext cx="5257800" cy="129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09640" y="2484720"/>
            <a:ext cx="210240" cy="8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400" bIns="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174840" y="220500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439240" y="3601080"/>
            <a:ext cx="65520" cy="21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64000" y="378936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616840" y="3560760"/>
            <a:ext cx="1148400" cy="1148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547640" y="1989000"/>
            <a:ext cx="1295640" cy="230364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3708000" y="1700280"/>
            <a:ext cx="1079640" cy="7920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788000" y="1700280"/>
            <a:ext cx="792000" cy="194472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95640" y="1125360"/>
            <a:ext cx="2305080" cy="16560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39640" y="5805360"/>
            <a:ext cx="8425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Pak tedy ještě jednou: </a:t>
            </a:r>
            <a:br>
              <a:rPr sz="1800"/>
            </a:br>
            <a:r>
              <a:rPr b="1" lang="en-US" sz="2200" spc="-1" strike="noStrike">
                <a:solidFill>
                  <a:srgbClr val="00cc00"/>
                </a:solidFill>
                <a:latin typeface="Trebuchet MS"/>
              </a:rPr>
              <a:t>Úhel jsou nejen ta dvě ramena, ale i všechny body mezi nimi!</a:t>
            </a:r>
            <a:br>
              <a:rPr sz="2200"/>
            </a:br>
            <a:r>
              <a:rPr b="1" lang="en-US" sz="2200" spc="-1" strike="noStrike">
                <a:solidFill>
                  <a:srgbClr val="00cc00"/>
                </a:solidFill>
                <a:latin typeface="Trebuchet MS"/>
              </a:rPr>
              <a:t>Je to část roviny vymezená rameny úhlu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Příklady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57" name=""/>
          <p:cNvSpPr/>
          <p:nvPr/>
        </p:nvSpPr>
        <p:spPr>
          <a:xfrm>
            <a:off x="1042920" y="1628640"/>
            <a:ext cx="6913800" cy="475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11280" y="981000"/>
            <a:ext cx="7966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Doplň velikosti všech úhlů a zdůvodni určenou veliko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1922400" y="1658880"/>
            <a:ext cx="5170680" cy="4633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24" dur="indefinite" restart="never" nodeType="tmRoot">
          <p:childTnLst>
            <p:seq>
              <p:cTn id="725" dur="indefinite" nodeType="mainSeq">
                <p:childTnLst>
                  <p:par>
                    <p:cTn id="726" fill="hold">
                      <p:stCondLst>
                        <p:cond delay="0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0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fill="hold">
                            <p:stCondLst>
                              <p:cond delay="500"/>
                            </p:stCondLst>
                            <p:childTnLst>
                              <p:par>
                                <p:cTn id="7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4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Příklady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61" name=""/>
          <p:cNvSpPr/>
          <p:nvPr/>
        </p:nvSpPr>
        <p:spPr>
          <a:xfrm>
            <a:off x="1042920" y="1628640"/>
            <a:ext cx="6913800" cy="475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11280" y="981000"/>
            <a:ext cx="7966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Doplň velikosti všech úhlů a zdůvodni určenou veliko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1922400" y="1658880"/>
            <a:ext cx="5170680" cy="46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395280" y="3357720"/>
            <a:ext cx="8353440" cy="295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050920" y="691920"/>
            <a:ext cx="56880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284c6a"/>
                </a:solidFill>
                <a:latin typeface="Trebuchet MS"/>
              </a:rPr>
              <a:t>Výborně!</a:t>
            </a:r>
            <a:endParaRPr b="0" lang="en-US" sz="60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66" name=""/>
          <p:cNvSpPr/>
          <p:nvPr/>
        </p:nvSpPr>
        <p:spPr>
          <a:xfrm>
            <a:off x="681120" y="1917720"/>
            <a:ext cx="8067600" cy="12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Myslím, že už víš, jakým dvojicím úhlů se říká vrcholové a jaké vedlejší.</a:t>
            </a:r>
            <a:br>
              <a:rPr sz="2000"/>
            </a:b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Pro jistotu a proto, že opakování je matkou moudrosti, ještě jednou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826920" y="2349360"/>
            <a:ext cx="777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826920" y="3500280"/>
            <a:ext cx="2019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úhly vrcholov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826920" y="4064040"/>
            <a:ext cx="2665440" cy="202896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2916360" y="5516640"/>
            <a:ext cx="1655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ff0000"/>
                </a:solidFill>
                <a:latin typeface="Trebuchet MS"/>
              </a:rPr>
              <a:t>α</a:t>
            </a:r>
            <a:r>
              <a:rPr b="1" lang="cs-CZ" sz="3600" spc="-1" strike="noStrike">
                <a:solidFill>
                  <a:srgbClr val="ff0000"/>
                </a:solidFill>
                <a:latin typeface="Trebuchet MS"/>
              </a:rPr>
              <a:t> = </a:t>
            </a:r>
            <a:r>
              <a:rPr b="1" lang="el-GR" sz="3600" spc="-1" strike="noStrike">
                <a:solidFill>
                  <a:srgbClr val="ff0000"/>
                </a:solidFill>
                <a:latin typeface="Trebuchet MS"/>
              </a:rPr>
              <a:t>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352760" y="3500280"/>
            <a:ext cx="2019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úhly vedlejš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3"/>
          <a:stretch/>
        </p:blipFill>
        <p:spPr>
          <a:xfrm>
            <a:off x="4356000" y="4010040"/>
            <a:ext cx="2737080" cy="208296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5722920" y="5516640"/>
            <a:ext cx="2952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ff0000"/>
                </a:solidFill>
                <a:latin typeface="Trebuchet MS"/>
              </a:rPr>
              <a:t>α</a:t>
            </a:r>
            <a:r>
              <a:rPr b="1" lang="cs-CZ" sz="3600" spc="-1" strike="noStrike">
                <a:solidFill>
                  <a:srgbClr val="ff0000"/>
                </a:solidFill>
                <a:latin typeface="Trebuchet MS"/>
              </a:rPr>
              <a:t> + </a:t>
            </a:r>
            <a:r>
              <a:rPr b="1" lang="el-GR" sz="3600" spc="-1" strike="noStrike">
                <a:solidFill>
                  <a:srgbClr val="ff0000"/>
                </a:solidFill>
                <a:latin typeface="Trebuchet MS"/>
              </a:rPr>
              <a:t>β </a:t>
            </a:r>
            <a:r>
              <a:rPr b="1" lang="cs-CZ" sz="3600" spc="-1" strike="noStrike">
                <a:solidFill>
                  <a:srgbClr val="ff0000"/>
                </a:solidFill>
                <a:latin typeface="Trebuchet MS"/>
              </a:rPr>
              <a:t>= 180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fill="hold">
                      <p:stCondLst>
                        <p:cond delay="0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1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500"/>
                            </p:stCondLst>
                            <p:childTnLst>
                              <p:par>
                                <p:cTn id="7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1000"/>
                            </p:stCondLst>
                            <p:childTnLst>
                              <p:par>
                                <p:cTn id="747" nodeType="after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9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4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fill="hold">
                            <p:stCondLst>
                              <p:cond delay="500"/>
                            </p:stCondLst>
                            <p:childTnLst>
                              <p:par>
                                <p:cTn id="7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8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1000"/>
                            </p:stCondLst>
                            <p:childTnLst>
                              <p:par>
                                <p:cTn id="7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2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7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fill="hold">
                            <p:stCondLst>
                              <p:cond delay="500"/>
                            </p:stCondLst>
                            <p:childTnLst>
                              <p:par>
                                <p:cTn id="7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1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5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187280" y="3286080"/>
            <a:ext cx="6913800" cy="309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857680" y="3286080"/>
            <a:ext cx="5257800" cy="2305080"/>
          </a:xfrm>
          <a:custGeom>
            <a:avLst/>
            <a:gdLst/>
            <a:ahLst/>
            <a:rect l="l" t="t" r="r" b="b"/>
            <a:pathLst>
              <a:path w="3312" h="1452">
                <a:moveTo>
                  <a:pt x="590" y="0"/>
                </a:moveTo>
                <a:lnTo>
                  <a:pt x="3312" y="0"/>
                </a:lnTo>
                <a:lnTo>
                  <a:pt x="3312" y="635"/>
                </a:lnTo>
                <a:lnTo>
                  <a:pt x="0" y="1452"/>
                </a:lnTo>
                <a:lnTo>
                  <a:pt x="590" y="0"/>
                </a:lnTo>
                <a:close/>
              </a:path>
            </a:pathLst>
          </a:custGeom>
          <a:solidFill>
            <a:srgbClr val="00cc00">
              <a:alpha val="3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Úhel.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09" name=""/>
          <p:cNvSpPr/>
          <p:nvPr/>
        </p:nvSpPr>
        <p:spPr>
          <a:xfrm>
            <a:off x="912960" y="750960"/>
            <a:ext cx="7777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Úhel</a:t>
            </a: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 se značí dvěma způsob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914400" y="1413000"/>
            <a:ext cx="80503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1.) pomocí vrcholu a dvou bodů, z nichž každý leží na jednom </a:t>
            </a:r>
            <a:br>
              <a:rPr sz="2000"/>
            </a:b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z ramen. Písmenko označující vrchol se píše mezi těmito dvěma body (v našem příkladě jde o úhel AVB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700360" y="537516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714760" y="562608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2871720" y="3285720"/>
            <a:ext cx="936720" cy="23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2843280" y="4293720"/>
            <a:ext cx="5257800" cy="129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509640" y="3710520"/>
            <a:ext cx="210240" cy="87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74840" y="343044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439600" y="4826520"/>
            <a:ext cx="65160" cy="21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364000" y="501480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616840" y="4786200"/>
            <a:ext cx="1148400" cy="114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362400" y="2131920"/>
            <a:ext cx="30099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Zapisujeme: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1" lang="en-US" sz="2800" spc="-1" strike="noStrike">
                <a:solidFill>
                  <a:srgbClr val="ff0000"/>
                </a:solidFill>
                <a:latin typeface="Trebuchet MS"/>
              </a:rPr>
              <a:t>AV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14400" y="2637000"/>
            <a:ext cx="80503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2.) pomocí malých písmen řecké abecedy (</a:t>
            </a:r>
            <a:r>
              <a:rPr b="1" lang="el-GR" sz="2000" spc="-1" strike="noStrike">
                <a:solidFill>
                  <a:srgbClr val="ff0000"/>
                </a:solidFill>
                <a:latin typeface="Trebuchet MS"/>
              </a:rPr>
              <a:t>α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, </a:t>
            </a:r>
            <a:r>
              <a:rPr b="1" lang="el-GR" sz="2000" spc="-1" strike="noStrike">
                <a:solidFill>
                  <a:srgbClr val="ff0000"/>
                </a:solidFill>
                <a:latin typeface="Trebuchet MS"/>
              </a:rPr>
              <a:t>β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, </a:t>
            </a:r>
            <a:r>
              <a:rPr b="1" lang="el-GR" sz="2000" spc="-1" strike="noStrike">
                <a:solidFill>
                  <a:srgbClr val="ff0000"/>
                </a:solidFill>
                <a:latin typeface="Trebuchet MS"/>
              </a:rPr>
              <a:t>γ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, </a:t>
            </a:r>
            <a:r>
              <a:rPr b="1" lang="el-GR" sz="2000" spc="-1" strike="noStrike">
                <a:solidFill>
                  <a:srgbClr val="ff0000"/>
                </a:solidFill>
                <a:latin typeface="Trebuchet MS"/>
              </a:rPr>
              <a:t>δ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, 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843280" y="1557360"/>
            <a:ext cx="0" cy="3887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3578400" y="1542960"/>
            <a:ext cx="792000" cy="2158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370400" y="1542960"/>
            <a:ext cx="1065240" cy="3240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274920" y="4941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95280" y="1341360"/>
            <a:ext cx="8353440" cy="496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1979640" y="1413000"/>
            <a:ext cx="6353280" cy="484488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23640" y="620280"/>
            <a:ext cx="83516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Druhy úhlů podle velikosti.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29" name=""/>
          <p:cNvSpPr/>
          <p:nvPr/>
        </p:nvSpPr>
        <p:spPr>
          <a:xfrm>
            <a:off x="826920" y="2349360"/>
            <a:ext cx="777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700360" y="2781360"/>
            <a:ext cx="2808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rebuchet MS"/>
              </a:rPr>
              <a:t>konvexní úhel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, </a:t>
            </a:r>
            <a:br>
              <a:rPr sz="2000"/>
            </a:b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(tj. úhel přímý </a:t>
            </a:r>
            <a:br>
              <a:rPr sz="2000"/>
            </a:b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nebo menš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297480" y="4869000"/>
            <a:ext cx="24512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rebuchet MS"/>
              </a:rPr>
              <a:t>nekonvexní (konkávní) úhel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 (tj. úhel větší než přímý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95280" y="1341360"/>
            <a:ext cx="8353440" cy="496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4261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Podrobnější rozdělení úhlů podle velikosti.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34" name=""/>
          <p:cNvSpPr/>
          <p:nvPr/>
        </p:nvSpPr>
        <p:spPr>
          <a:xfrm>
            <a:off x="826920" y="2349360"/>
            <a:ext cx="777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11280" y="2708280"/>
            <a:ext cx="20192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nulový úh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611280" y="4508640"/>
            <a:ext cx="2116080" cy="1719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611280" y="4149720"/>
            <a:ext cx="20192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ostrý úh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611280" y="3141720"/>
            <a:ext cx="2303280" cy="7524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>
            <a:off x="6300720" y="2060640"/>
            <a:ext cx="2298600" cy="20098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804000" y="2421000"/>
            <a:ext cx="20192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pravý úh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132000" y="1773360"/>
            <a:ext cx="20196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přímý úh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5"/>
          <a:stretch/>
        </p:blipFill>
        <p:spPr>
          <a:xfrm>
            <a:off x="2987640" y="2276640"/>
            <a:ext cx="3024360" cy="6807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6"/>
          <a:stretch/>
        </p:blipFill>
        <p:spPr>
          <a:xfrm>
            <a:off x="3132000" y="3429000"/>
            <a:ext cx="3130560" cy="20574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3995640" y="4076640"/>
            <a:ext cx="20192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tupý úh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7"/>
          <a:stretch/>
        </p:blipFill>
        <p:spPr>
          <a:xfrm>
            <a:off x="6300720" y="5157720"/>
            <a:ext cx="2306880" cy="10270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516720" y="4724280"/>
            <a:ext cx="20192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plný úh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500"/>
                            </p:stCondLst>
                            <p:childTnLst>
                              <p:par>
                                <p:cTn id="2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Dvojice úhlů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48" name=""/>
          <p:cNvSpPr/>
          <p:nvPr/>
        </p:nvSpPr>
        <p:spPr>
          <a:xfrm>
            <a:off x="1042920" y="1743120"/>
            <a:ext cx="7345440" cy="468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912960" y="907920"/>
            <a:ext cx="7777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Mějme dvojici různoběžek s průsečíkem </a:t>
            </a:r>
            <a:r>
              <a:rPr b="1" i="1" lang="en-US" sz="2400" spc="-1" strike="noStrike">
                <a:solidFill>
                  <a:srgbClr val="284c6a"/>
                </a:solidFill>
                <a:latin typeface="Trebuchet MS"/>
              </a:rPr>
              <a:t>V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914400" y="1268280"/>
            <a:ext cx="39448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Trebuchet MS"/>
              </a:rPr>
              <a:t>Pro kolik úhlů je bod V vrchole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1495440" y="1803240"/>
            <a:ext cx="6389640" cy="45532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1495440" y="1803240"/>
            <a:ext cx="6389640" cy="455328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4"/>
          <a:stretch/>
        </p:blipFill>
        <p:spPr>
          <a:xfrm>
            <a:off x="1495440" y="1803240"/>
            <a:ext cx="6389640" cy="455328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5"/>
          <a:stretch/>
        </p:blipFill>
        <p:spPr>
          <a:xfrm>
            <a:off x="1495440" y="1803240"/>
            <a:ext cx="6389640" cy="455328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6"/>
          <a:stretch/>
        </p:blipFill>
        <p:spPr>
          <a:xfrm>
            <a:off x="1495440" y="1803240"/>
            <a:ext cx="6389640" cy="455328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4486320" y="403380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11640" y="5373720"/>
            <a:ext cx="39448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rebuchet MS"/>
              </a:rPr>
              <a:t>Jsou to tedy čtyři úhly. Pojďme se nyní podívat na jejich vlastnost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500"/>
                            </p:stCondLst>
                            <p:childTnLst>
                              <p:par>
                                <p:cTn id="2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000"/>
                            </p:stCondLst>
                            <p:childTnLst>
                              <p:par>
                                <p:cTn id="2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042920" y="1743120"/>
            <a:ext cx="7345440" cy="468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1495440" y="1803240"/>
            <a:ext cx="6389640" cy="455328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Dvojice úhlů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61" name=""/>
          <p:cNvSpPr/>
          <p:nvPr/>
        </p:nvSpPr>
        <p:spPr>
          <a:xfrm>
            <a:off x="912960" y="836640"/>
            <a:ext cx="7777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Co můžeme říci o dvojici úhlů </a:t>
            </a:r>
            <a:r>
              <a:rPr b="1" lang="el-GR" sz="2400" spc="-1" strike="noStrike">
                <a:solidFill>
                  <a:srgbClr val="284c6a"/>
                </a:solidFill>
                <a:latin typeface="Trebuchet MS"/>
              </a:rPr>
              <a:t>α</a:t>
            </a: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 a </a:t>
            </a:r>
            <a:r>
              <a:rPr b="1" lang="el-GR" sz="2400" spc="-1" strike="noStrike">
                <a:solidFill>
                  <a:srgbClr val="284c6a"/>
                </a:solidFill>
                <a:latin typeface="Trebuchet MS"/>
              </a:rPr>
              <a:t>γ</a:t>
            </a: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914400" y="1197000"/>
            <a:ext cx="39448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Trebuchet MS"/>
              </a:rPr>
              <a:t>Co byste řekli o jejich velikostech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486320" y="403380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116000" y="2060640"/>
            <a:ext cx="4248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rebuchet MS"/>
              </a:rPr>
              <a:t>Takové dvojici úhlů, které mají jedno společné rameno a vrchol, se říká </a:t>
            </a:r>
            <a:r>
              <a:rPr b="1" lang="en-US" sz="2800" spc="-1" strike="noStrike">
                <a:solidFill>
                  <a:srgbClr val="ff0000"/>
                </a:solidFill>
                <a:latin typeface="Trebuchet MS"/>
              </a:rPr>
              <a:t>vedlejší úhly</a:t>
            </a:r>
            <a:r>
              <a:rPr b="1" lang="en-US" sz="1800" spc="-1" strike="noStrike">
                <a:solidFill>
                  <a:srgbClr val="3333cc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03840" y="1197000"/>
            <a:ext cx="39448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Trebuchet MS"/>
              </a:rPr>
              <a:t>Přesněji o součtu jejich velikostí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495600" y="3011400"/>
            <a:ext cx="2115720" cy="2117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48"/>
                </a:moveTo>
                <a:arcTo wR="10800" hR="10800" stAng="-10783454" swAng="10783454"/>
                <a:lnTo>
                  <a:pt x="10800" y="10800"/>
                </a:lnTo>
                <a:close/>
              </a:path>
              <a:path fill="none" w="21600" h="21600">
                <a:moveTo>
                  <a:pt x="0" y="10748"/>
                </a:moveTo>
                <a:arcTo wR="10800" hR="10800" stAng="-10783454" swAng="10783454"/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573440" y="4797360"/>
            <a:ext cx="38005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rebuchet MS"/>
              </a:rPr>
              <a:t>Součtem vedlejších úhlů dostaneme úhel přímý. </a:t>
            </a:r>
            <a:br>
              <a:rPr sz="1800"/>
            </a:br>
            <a:r>
              <a:rPr b="1" lang="en-US" sz="1800" spc="-1" strike="noStrike">
                <a:solidFill>
                  <a:srgbClr val="3333cc"/>
                </a:solidFill>
                <a:latin typeface="Trebuchet MS"/>
              </a:rPr>
              <a:t>Přímý úhel měří 180° a jeho ramena jsou opačné polopřímk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588000" y="2708280"/>
            <a:ext cx="2303640" cy="1008000"/>
          </a:xfrm>
          <a:prstGeom prst="cloudCallout">
            <a:avLst>
              <a:gd name="adj1" fmla="val -88870"/>
              <a:gd name="adj2" fmla="val -2086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jí společné rameno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116000" y="4365720"/>
            <a:ext cx="2303640" cy="1008000"/>
          </a:xfrm>
          <a:prstGeom prst="cloudCallout">
            <a:avLst>
              <a:gd name="adj1" fmla="val 89490"/>
              <a:gd name="adj2" fmla="val -7125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vrcho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572000" y="5661000"/>
            <a:ext cx="38005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cc"/>
                </a:solidFill>
                <a:latin typeface="Trebuchet MS"/>
              </a:rPr>
              <a:t>Platí tedy: </a:t>
            </a:r>
            <a:r>
              <a:rPr b="1" lang="el-GR" sz="3200" spc="-1" strike="noStrike">
                <a:solidFill>
                  <a:srgbClr val="ff0000"/>
                </a:solidFill>
                <a:latin typeface="Trebuchet MS"/>
              </a:rPr>
              <a:t>α</a:t>
            </a:r>
            <a:r>
              <a:rPr b="1" lang="cs-CZ" sz="3200" spc="-1" strike="noStrike">
                <a:solidFill>
                  <a:srgbClr val="ff0000"/>
                </a:solidFill>
                <a:latin typeface="Trebuchet MS"/>
              </a:rPr>
              <a:t> + </a:t>
            </a:r>
            <a:r>
              <a:rPr b="1" lang="el-GR" sz="3200" spc="-1" strike="noStrike">
                <a:solidFill>
                  <a:srgbClr val="ff0000"/>
                </a:solidFill>
                <a:latin typeface="Trebuchet MS"/>
              </a:rPr>
              <a:t>γ</a:t>
            </a:r>
            <a:r>
              <a:rPr b="1" lang="cs-CZ" sz="3200" spc="-1" strike="noStrike">
                <a:solidFill>
                  <a:srgbClr val="ff0000"/>
                </a:solidFill>
                <a:latin typeface="Trebuchet MS"/>
              </a:rPr>
              <a:t> = 18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724360" y="4869000"/>
            <a:ext cx="2446560" cy="1152360"/>
          </a:xfrm>
          <a:prstGeom prst="cloudCallout">
            <a:avLst>
              <a:gd name="adj1" fmla="val -29689"/>
              <a:gd name="adj2" fmla="val -11019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navíc ještě oba leží při stejné přím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0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500"/>
                            </p:stCondLst>
                            <p:childTnLst>
                              <p:par>
                                <p:cTn id="3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500"/>
                            </p:stCondLst>
                            <p:childTnLst>
                              <p:par>
                                <p:cTn id="36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042920" y="1743120"/>
            <a:ext cx="7345440" cy="468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1495440" y="1803240"/>
            <a:ext cx="6389640" cy="455328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1495440" y="1803240"/>
            <a:ext cx="6389640" cy="455328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Dvojice úhlů – vedlejší úhly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76" name=""/>
          <p:cNvSpPr/>
          <p:nvPr/>
        </p:nvSpPr>
        <p:spPr>
          <a:xfrm>
            <a:off x="912960" y="836640"/>
            <a:ext cx="7777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Platí tedy, že součet vedlejších úhlů je 180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914400" y="1197000"/>
            <a:ext cx="76899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Trebuchet MS"/>
              </a:rPr>
              <a:t>Kolik dvojic vedlejších úhlů vytvoří dvojice protínajících se přímek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486320" y="403380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rot="18739800">
            <a:off x="3497760" y="3008160"/>
            <a:ext cx="2115720" cy="2117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48"/>
                </a:moveTo>
                <a:arcTo wR="10800" hR="10800" stAng="-10783454" swAng="10783454"/>
                <a:lnTo>
                  <a:pt x="10800" y="10800"/>
                </a:lnTo>
                <a:close/>
              </a:path>
              <a:path fill="none" w="21600" h="21600">
                <a:moveTo>
                  <a:pt x="0" y="10748"/>
                </a:moveTo>
                <a:arcTo wR="10800" hR="10800" stAng="-10783454" swAng="10783454"/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495600" y="3011400"/>
            <a:ext cx="2115720" cy="2117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48"/>
                </a:moveTo>
                <a:arcTo wR="10800" hR="10800" stAng="-10783454" swAng="10783454"/>
                <a:lnTo>
                  <a:pt x="10800" y="10800"/>
                </a:lnTo>
                <a:close/>
              </a:path>
              <a:path fill="none" w="21600" h="21600">
                <a:moveTo>
                  <a:pt x="0" y="10748"/>
                </a:moveTo>
                <a:arcTo wR="10800" hR="10800" stAng="-10783454" swAng="10783454"/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771640" y="2347920"/>
            <a:ext cx="2881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ff0000"/>
                </a:solidFill>
                <a:latin typeface="Trebuchet MS"/>
              </a:rPr>
              <a:t>α</a:t>
            </a:r>
            <a:r>
              <a:rPr b="1" lang="cs-CZ" sz="3200" spc="-1" strike="noStrike">
                <a:solidFill>
                  <a:srgbClr val="ff0000"/>
                </a:solidFill>
                <a:latin typeface="Trebuchet MS"/>
              </a:rPr>
              <a:t> + </a:t>
            </a:r>
            <a:r>
              <a:rPr b="1" lang="el-GR" sz="3200" spc="-1" strike="noStrike">
                <a:solidFill>
                  <a:srgbClr val="ff0000"/>
                </a:solidFill>
                <a:latin typeface="Trebuchet MS"/>
              </a:rPr>
              <a:t>γ</a:t>
            </a:r>
            <a:r>
              <a:rPr b="1" lang="cs-CZ" sz="3200" spc="-1" strike="noStrike">
                <a:solidFill>
                  <a:srgbClr val="ff0000"/>
                </a:solidFill>
                <a:latin typeface="Trebuchet MS"/>
              </a:rPr>
              <a:t> = 18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042920" y="4221000"/>
            <a:ext cx="2881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ff0000"/>
                </a:solidFill>
                <a:latin typeface="Trebuchet MS"/>
              </a:rPr>
              <a:t>β</a:t>
            </a:r>
            <a:r>
              <a:rPr b="1" lang="cs-CZ" sz="3200" spc="-1" strike="noStrike">
                <a:solidFill>
                  <a:srgbClr val="ff0000"/>
                </a:solidFill>
                <a:latin typeface="Trebuchet MS"/>
              </a:rPr>
              <a:t> + </a:t>
            </a:r>
            <a:r>
              <a:rPr b="1" lang="el-GR" sz="3200" spc="-1" strike="noStrike">
                <a:solidFill>
                  <a:srgbClr val="ff0000"/>
                </a:solidFill>
                <a:latin typeface="Trebuchet MS"/>
              </a:rPr>
              <a:t>γ</a:t>
            </a:r>
            <a:r>
              <a:rPr b="1" lang="cs-CZ" sz="3200" spc="-1" strike="noStrike">
                <a:solidFill>
                  <a:srgbClr val="ff0000"/>
                </a:solidFill>
                <a:latin typeface="Trebuchet MS"/>
              </a:rPr>
              <a:t> = 18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0800000">
            <a:off x="3492360" y="3012120"/>
            <a:ext cx="2116080" cy="2116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48"/>
                </a:moveTo>
                <a:arcTo wR="10800" hR="10800" stAng="-10783454" swAng="10783454"/>
                <a:lnTo>
                  <a:pt x="10800" y="10800"/>
                </a:lnTo>
                <a:close/>
              </a:path>
              <a:path fill="none" w="21600" h="21600">
                <a:moveTo>
                  <a:pt x="0" y="10748"/>
                </a:moveTo>
                <a:arcTo wR="10800" hR="10800" stAng="-10783454" swAng="10783454"/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067280" y="5157720"/>
            <a:ext cx="2881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ff0000"/>
                </a:solidFill>
                <a:latin typeface="Trebuchet MS"/>
              </a:rPr>
              <a:t>β</a:t>
            </a:r>
            <a:r>
              <a:rPr b="1" lang="cs-CZ" sz="3200" spc="-1" strike="noStrike">
                <a:solidFill>
                  <a:srgbClr val="ff0000"/>
                </a:solidFill>
                <a:latin typeface="Trebuchet MS"/>
              </a:rPr>
              <a:t> + </a:t>
            </a:r>
            <a:r>
              <a:rPr b="1" lang="el-GR" sz="3200" spc="-1" strike="noStrike">
                <a:solidFill>
                  <a:srgbClr val="ff0000"/>
                </a:solidFill>
                <a:latin typeface="Trebuchet MS"/>
              </a:rPr>
              <a:t>δ</a:t>
            </a:r>
            <a:r>
              <a:rPr b="1" lang="cs-CZ" sz="3200" spc="-1" strike="noStrike">
                <a:solidFill>
                  <a:srgbClr val="ff0000"/>
                </a:solidFill>
                <a:latin typeface="Trebuchet MS"/>
              </a:rPr>
              <a:t> = 18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rot="7956000">
            <a:off x="3502800" y="3027600"/>
            <a:ext cx="2115720" cy="2116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48"/>
                </a:moveTo>
                <a:arcTo wR="10800" hR="10800" stAng="-10783454" swAng="10783454"/>
                <a:lnTo>
                  <a:pt x="10800" y="10800"/>
                </a:lnTo>
                <a:close/>
              </a:path>
              <a:path fill="none" w="21600" h="21600">
                <a:moveTo>
                  <a:pt x="0" y="10748"/>
                </a:moveTo>
                <a:arcTo wR="10800" hR="10800" stAng="-10783454" swAng="10783454"/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580000" y="3357720"/>
            <a:ext cx="2881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ff0000"/>
                </a:solidFill>
                <a:latin typeface="Trebuchet MS"/>
              </a:rPr>
              <a:t>α</a:t>
            </a:r>
            <a:r>
              <a:rPr b="1" lang="cs-CZ" sz="3200" spc="-1" strike="noStrike">
                <a:solidFill>
                  <a:srgbClr val="ff0000"/>
                </a:solidFill>
                <a:latin typeface="Trebuchet MS"/>
              </a:rPr>
              <a:t> + </a:t>
            </a:r>
            <a:r>
              <a:rPr b="1" lang="el-GR" sz="3200" spc="-1" strike="noStrike">
                <a:solidFill>
                  <a:srgbClr val="ff0000"/>
                </a:solidFill>
                <a:latin typeface="Trebuchet MS"/>
              </a:rPr>
              <a:t>δ</a:t>
            </a:r>
            <a:r>
              <a:rPr b="1" lang="cs-CZ" sz="3200" spc="-1" strike="noStrike">
                <a:solidFill>
                  <a:srgbClr val="ff0000"/>
                </a:solidFill>
                <a:latin typeface="Trebuchet MS"/>
              </a:rPr>
              <a:t> = 18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330200" y="5445000"/>
            <a:ext cx="6842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Trebuchet MS"/>
              </a:rPr>
              <a:t>Existují tedy čtyři dvojice </a:t>
            </a:r>
            <a:br>
              <a:rPr sz="3200"/>
            </a:br>
            <a:r>
              <a:rPr b="1" lang="en-US" sz="3200" spc="-1" strike="noStrike">
                <a:solidFill>
                  <a:srgbClr val="009900"/>
                </a:solidFill>
                <a:latin typeface="Trebuchet MS"/>
              </a:rPr>
              <a:t>vedlejších úhlů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0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500"/>
                            </p:stCondLst>
                            <p:childTnLst>
                              <p:par>
                                <p:cTn id="4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500"/>
                            </p:stCondLst>
                            <p:childTnLst>
                              <p:par>
                                <p:cTn id="4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1000"/>
                            </p:stCondLst>
                            <p:childTnLst>
                              <p:par>
                                <p:cTn id="4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500"/>
                            </p:stCondLst>
                            <p:childTnLst>
                              <p:par>
                                <p:cTn id="4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50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500"/>
                            </p:stCondLst>
                            <p:childTnLst>
                              <p:par>
                                <p:cTn id="4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Dvojice úhlů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89" name=""/>
          <p:cNvSpPr/>
          <p:nvPr/>
        </p:nvSpPr>
        <p:spPr>
          <a:xfrm>
            <a:off x="1042920" y="1743120"/>
            <a:ext cx="7345440" cy="468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912960" y="836640"/>
            <a:ext cx="7777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Co můžeme říci o dvojici úhlů </a:t>
            </a:r>
            <a:r>
              <a:rPr b="1" lang="el-GR" sz="2400" spc="-1" strike="noStrike">
                <a:solidFill>
                  <a:srgbClr val="284c6a"/>
                </a:solidFill>
                <a:latin typeface="Trebuchet MS"/>
              </a:rPr>
              <a:t>α</a:t>
            </a: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 a </a:t>
            </a:r>
            <a:r>
              <a:rPr b="1" lang="el-GR" sz="2400" spc="-1" strike="noStrike">
                <a:solidFill>
                  <a:srgbClr val="284c6a"/>
                </a:solidFill>
                <a:latin typeface="Trebuchet MS"/>
              </a:rPr>
              <a:t>β</a:t>
            </a: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914400" y="1197000"/>
            <a:ext cx="39448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Trebuchet MS"/>
              </a:rPr>
              <a:t>Co můžeme říci o jejich velikosti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1495440" y="1803240"/>
            <a:ext cx="6389640" cy="455328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4486320" y="403380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58920" y="2276640"/>
            <a:ext cx="4176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rebuchet MS"/>
              </a:rPr>
              <a:t>Takové dvojici úhlů, které nemají společné rameno (mají společný jen vrchol), se říká </a:t>
            </a:r>
            <a:br>
              <a:rPr sz="1800"/>
            </a:br>
            <a:r>
              <a:rPr b="1" lang="en-US" sz="2800" spc="-1" strike="noStrike">
                <a:solidFill>
                  <a:srgbClr val="ff0000"/>
                </a:solidFill>
                <a:latin typeface="Trebuchet MS"/>
              </a:rPr>
              <a:t>vrcholové úhly</a:t>
            </a:r>
            <a:r>
              <a:rPr b="1" lang="en-US" sz="1800" spc="-1" strike="noStrike">
                <a:solidFill>
                  <a:srgbClr val="3333cc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076720" y="4724280"/>
            <a:ext cx="3024360" cy="1441440"/>
          </a:xfrm>
          <a:prstGeom prst="cloudCallout">
            <a:avLst>
              <a:gd name="adj1" fmla="val -60814"/>
              <a:gd name="adj2" fmla="val -8293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mají společné rameno, mají společný jen vrcho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573440" y="5013360"/>
            <a:ext cx="38005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rebuchet MS"/>
              </a:rPr>
              <a:t>Vrcholové úhly mají stejnou velikost, jsou shodné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5661000"/>
            <a:ext cx="38005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cc"/>
                </a:solidFill>
                <a:latin typeface="Trebuchet MS"/>
              </a:rPr>
              <a:t>Platí tedy: </a:t>
            </a:r>
            <a:r>
              <a:rPr b="1" lang="el-GR" sz="3200" spc="-1" strike="noStrike">
                <a:solidFill>
                  <a:srgbClr val="ff0000"/>
                </a:solidFill>
                <a:latin typeface="Trebuchet MS"/>
              </a:rPr>
              <a:t>α</a:t>
            </a:r>
            <a:r>
              <a:rPr b="1" lang="cs-CZ" sz="3200" spc="-1" strike="noStrike">
                <a:solidFill>
                  <a:srgbClr val="ff0000"/>
                </a:solidFill>
                <a:latin typeface="Trebuchet MS"/>
              </a:rPr>
              <a:t> = </a:t>
            </a:r>
            <a:r>
              <a:rPr b="1" lang="el-GR" sz="3200" spc="-1" strike="noStrike">
                <a:solidFill>
                  <a:srgbClr val="ff0000"/>
                </a:solidFill>
                <a:latin typeface="Trebuchet MS"/>
              </a:rPr>
              <a:t>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0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1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500"/>
                            </p:stCondLst>
                            <p:childTnLst>
                              <p:par>
                                <p:cTn id="5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31T11:29:33Z</dcterms:created>
  <dc:creator>Radomír Macháň</dc:creator>
  <dc:description>Dostupné z Metodického portálu www.rvp.cz, ISSN: 1802-4785, financovaného z ESF a státního rozpočtu ČR. Provozováno Výzkumným ústavem pedagogickým v Praze.</dc:description>
  <dc:language>en-US</dc:language>
  <cp:lastModifiedBy>Bizova</cp:lastModifiedBy>
  <dcterms:modified xsi:type="dcterms:W3CDTF">2009-04-21T08:19:31Z</dcterms:modified>
  <cp:revision>172</cp:revision>
  <dc:subject/>
  <dc:title>Dvojice úhlů - vedlejší a vrcholové úhly</dc:title>
</cp:coreProperties>
</file>