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CFA-4D07-47C3-8C73-71B56B8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D22-AA37-456F-805E-5E704E49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F70-4984-4AD6-A8B6-48B20D70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755-8F11-4250-9518-FD04778D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453-80FB-447B-9D83-2A7CF679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5F3-BA43-44D9-A22D-0193F3A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3F6-C972-4496-8D67-DC6DD88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C15-3536-45C1-8039-5695AFC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CE9-5670-4955-9BF2-1BEFA66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DEE-5F9C-406F-BF85-EB3CB46F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DF3-3F6B-4E38-BD78-EF3DA85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B99-9DA7-4E82-BB3C-46B9AE2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3753-BF32-4BC3-9BC0-841B4C3B3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D051-324F-40E3-A7D4-DDAF6BD87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Pojem funk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  Sestavte tabulku funkce dané rovnic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 =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V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d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= 7,8 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i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1, 2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3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4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, 6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81471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 uvedených tabulek ty, které mohou být zadáním funk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novu si přečti, jak je definována funk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4581360"/>
          <a:ext cx="2881440" cy="730080"/>
        </p:xfrm>
        <a:graphic>
          <a:graphicData uri="http://schemas.openxmlformats.org/drawingml/2006/table">
            <a:tbl>
              <a:tblPr/>
              <a:tblGrid>
                <a:gridCol w="581040"/>
                <a:gridCol w="412920"/>
                <a:gridCol w="498240"/>
                <a:gridCol w="414360"/>
                <a:gridCol w="47016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92720" y="4581360"/>
          <a:ext cx="2374920" cy="730080"/>
        </p:xfrm>
        <a:graphic>
          <a:graphicData uri="http://schemas.openxmlformats.org/drawingml/2006/table">
            <a:tbl>
              <a:tblPr/>
              <a:tblGrid>
                <a:gridCol w="503280"/>
                <a:gridCol w="358560"/>
                <a:gridCol w="432000"/>
                <a:gridCol w="360360"/>
                <a:gridCol w="360360"/>
                <a:gridCol w="36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203640" y="5589720"/>
          <a:ext cx="2376360" cy="73008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360360"/>
                <a:gridCol w="360360"/>
                <a:gridCol w="36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7524720" y="2637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9640" y="5805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– příklady řeš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421000"/>
          <a:ext cx="8147160" cy="911160"/>
        </p:xfrm>
        <a:graphic>
          <a:graphicData uri="http://schemas.openxmlformats.org/drawingml/2006/table">
            <a:tbl>
              <a:tblPr/>
              <a:tblGrid>
                <a:gridCol w="1079640"/>
                <a:gridCol w="639720"/>
                <a:gridCol w="714240"/>
                <a:gridCol w="641520"/>
                <a:gridCol w="712800"/>
                <a:gridCol w="657000"/>
                <a:gridCol w="739800"/>
                <a:gridCol w="790560"/>
                <a:gridCol w="692280"/>
                <a:gridCol w="739800"/>
                <a:gridCol w="739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x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68360" y="3860640"/>
          <a:ext cx="8207280" cy="1008000"/>
        </p:xfrm>
        <a:graphic>
          <a:graphicData uri="http://schemas.openxmlformats.org/drawingml/2006/table">
            <a:tbl>
              <a:tblPr/>
              <a:tblGrid>
                <a:gridCol w="1087560"/>
                <a:gridCol w="645840"/>
                <a:gridCol w="719280"/>
                <a:gridCol w="646200"/>
                <a:gridCol w="717480"/>
                <a:gridCol w="660240"/>
                <a:gridCol w="746280"/>
                <a:gridCol w="747720"/>
                <a:gridCol w="745920"/>
                <a:gridCol w="744840"/>
                <a:gridCol w="745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Zástupný symbol pro text 2"/>
              <p:cNvSpPr txBox="1"/>
              <p:nvPr/>
            </p:nvSpPr>
            <p:spPr>
              <a:xfrm>
                <a:off x="755640" y="4365720"/>
                <a:ext cx="504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5720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šte alespoň deset hodnot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Zástupný symbol pro text 2"/>
              <p:cNvSpPr txBox="1"/>
              <p:nvPr/>
            </p:nvSpPr>
            <p:spPr>
              <a:xfrm>
                <a:off x="611280" y="5805360"/>
                <a:ext cx="792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468360" y="5229360"/>
          <a:ext cx="8207280" cy="1008000"/>
        </p:xfrm>
        <a:graphic>
          <a:graphicData uri="http://schemas.openxmlformats.org/drawingml/2006/table">
            <a:tbl>
              <a:tblPr/>
              <a:tblGrid>
                <a:gridCol w="1087560"/>
                <a:gridCol w="645840"/>
                <a:gridCol w="719280"/>
                <a:gridCol w="646200"/>
                <a:gridCol w="717480"/>
                <a:gridCol w="660240"/>
                <a:gridCol w="746280"/>
                <a:gridCol w="747720"/>
                <a:gridCol w="745920"/>
                <a:gridCol w="744840"/>
                <a:gridCol w="745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7920000" y="63514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– příklady řeš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1844640"/>
          <a:ext cx="2808360" cy="606600"/>
        </p:xfrm>
        <a:graphic>
          <a:graphicData uri="http://schemas.openxmlformats.org/drawingml/2006/table">
            <a:tbl>
              <a:tblPr/>
              <a:tblGrid>
                <a:gridCol w="863640"/>
                <a:gridCol w="431640"/>
                <a:gridCol w="432000"/>
                <a:gridCol w="360360"/>
                <a:gridCol w="360360"/>
                <a:gridCol w="36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2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68360" y="1268280"/>
            <a:ext cx="8147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trojte graf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11640" y="1844640"/>
          <a:ext cx="4535640" cy="606600"/>
        </p:xfrm>
        <a:graphic>
          <a:graphicData uri="http://schemas.openxmlformats.org/drawingml/2006/table">
            <a:tbl>
              <a:tblPr/>
              <a:tblGrid>
                <a:gridCol w="863640"/>
                <a:gridCol w="431640"/>
                <a:gridCol w="432000"/>
                <a:gridCol w="431640"/>
                <a:gridCol w="432000"/>
                <a:gridCol w="433440"/>
                <a:gridCol w="431640"/>
                <a:gridCol w="360360"/>
                <a:gridCol w="358920"/>
                <a:gridCol w="360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2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087640" y="2465280"/>
            <a:ext cx="0" cy="436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770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00360" y="469908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03640" y="484200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928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8472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35280" y="4842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0" y="4842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2000" y="484200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42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056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5564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" y="4842000"/>
            <a:ext cx="5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484200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84200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482436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23209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6000" y="441000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16000" y="404964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16000" y="368928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16000" y="33307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16000" y="29703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84360" y="426564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84360" y="2754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84360" y="3114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84360" y="347328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390672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6000" y="65707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6000" y="62103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6000" y="585000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16000" y="548964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16000" y="513072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55640" y="642636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5640" y="4986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55640" y="534672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55640" y="570708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6021360"/>
            <a:ext cx="53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9280" y="404784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40482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51280" y="3330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87640" y="3330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22200" y="472428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22200" y="6210360"/>
            <a:ext cx="9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4200" y="54878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54200" y="47671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609300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65280" y="538632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25720" y="4713120"/>
            <a:ext cx="14436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323064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4005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32720" y="2465280"/>
            <a:ext cx="0" cy="436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5080" y="477036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5080" y="469908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48360" y="4842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9636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2944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6144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484200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85080" y="484200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17080" y="484200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5080" y="4842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2948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46990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5440" y="4842000"/>
            <a:ext cx="5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45080" y="484200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4842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785080" y="482436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64360" y="232092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1080" y="4410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40496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61080" y="36892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3330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1080" y="29703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29440" y="426564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9440" y="275436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9440" y="3114720"/>
            <a:ext cx="35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9440" y="347328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29440" y="390672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61080" y="6570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61080" y="62103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61080" y="5850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61080" y="54896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61080" y="5130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642636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4986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00720" y="534672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70708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64360" y="6021360"/>
            <a:ext cx="53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164360" y="404784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96000" y="40482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596360" y="3330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3330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9480" y="472428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9480" y="621036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99280" y="54878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99280" y="47671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35640" y="2636640"/>
            <a:ext cx="2592360" cy="42210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0" y="63514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– příklady řeš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58920" y="3645000"/>
          <a:ext cx="6985080" cy="911160"/>
        </p:xfrm>
        <a:graphic>
          <a:graphicData uri="http://schemas.openxmlformats.org/drawingml/2006/table">
            <a:tbl>
              <a:tblPr/>
              <a:tblGrid>
                <a:gridCol w="1198440"/>
                <a:gridCol w="852480"/>
                <a:gridCol w="1027080"/>
                <a:gridCol w="857520"/>
                <a:gridCol w="968400"/>
                <a:gridCol w="1041120"/>
                <a:gridCol w="104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5720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.   Sestavte tabulku funkce dané rovnic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 = 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V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d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= 7,8 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i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1, 2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3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4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, 6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20000" y="63514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– příklady řeš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 uvedených tabulek ty, které mohou být zadáním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900000" y="2708280"/>
          <a:ext cx="3456000" cy="911160"/>
        </p:xfrm>
        <a:graphic>
          <a:graphicData uri="http://schemas.openxmlformats.org/drawingml/2006/table">
            <a:tbl>
              <a:tblPr/>
              <a:tblGrid>
                <a:gridCol w="696960"/>
                <a:gridCol w="495360"/>
                <a:gridCol w="596880"/>
                <a:gridCol w="498600"/>
                <a:gridCol w="563400"/>
                <a:gridCol w="60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900000" y="3933720"/>
          <a:ext cx="2879640" cy="911160"/>
        </p:xfrm>
        <a:graphic>
          <a:graphicData uri="http://schemas.openxmlformats.org/drawingml/2006/table">
            <a:tbl>
              <a:tblPr/>
              <a:tblGrid>
                <a:gridCol w="610200"/>
                <a:gridCol w="434880"/>
                <a:gridCol w="523800"/>
                <a:gridCol w="437040"/>
                <a:gridCol w="436680"/>
                <a:gridCol w="43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00000" y="5229360"/>
          <a:ext cx="2879640" cy="911160"/>
        </p:xfrm>
        <a:graphic>
          <a:graphicData uri="http://schemas.openxmlformats.org/drawingml/2006/table">
            <a:tbl>
              <a:tblPr/>
              <a:tblGrid>
                <a:gridCol w="523080"/>
                <a:gridCol w="523440"/>
                <a:gridCol w="523080"/>
                <a:gridCol w="436680"/>
                <a:gridCol w="436680"/>
                <a:gridCol w="436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932360" y="2781360"/>
            <a:ext cx="208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3933720"/>
            <a:ext cx="396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í funk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číslu je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ou přiřazeny dvě hodnoty 1 a 2, číslu dvě tak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5373720"/>
            <a:ext cx="208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000" y="635148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jadřuje závislost dvou velič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činy z oblasti fyziky, biologie, statistiky, různé obory techniky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islost lze vyjádřit graficky (graf), rovnicí nebo tabulk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72428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Úko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veďte příklady závislosti dvou velič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445000"/>
            <a:ext cx="820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př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ávislost dráhy na čase, hmotnost tělesa na jeho objemu (fyzika), závislost obsahu čtverce na délce jeho strany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4247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stavte tabulku závislosti obsahu obdélníku na délce jeho jedné strany. Platí S = a.b, a = 6 cm, b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, 2, 3, 4, 5, 7, 8, 9, 10 c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3716280"/>
          <a:ext cx="8218440" cy="1765080"/>
        </p:xfrm>
        <a:graphic>
          <a:graphicData uri="http://schemas.openxmlformats.org/drawingml/2006/table">
            <a:tbl>
              <a:tblPr/>
              <a:tblGrid>
                <a:gridCol w="820800"/>
                <a:gridCol w="823680"/>
                <a:gridCol w="820800"/>
                <a:gridCol w="824040"/>
                <a:gridCol w="820800"/>
                <a:gridCol w="819000"/>
                <a:gridCol w="824040"/>
                <a:gridCol w="820800"/>
                <a:gridCol w="823680"/>
                <a:gridCol w="8208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68360" y="3716280"/>
          <a:ext cx="8207280" cy="1765080"/>
        </p:xfrm>
        <a:graphic>
          <a:graphicData uri="http://schemas.openxmlformats.org/drawingml/2006/table">
            <a:tbl>
              <a:tblPr/>
              <a:tblGrid>
                <a:gridCol w="819000"/>
                <a:gridCol w="822600"/>
                <a:gridCol w="819000"/>
                <a:gridCol w="824040"/>
                <a:gridCol w="820440"/>
                <a:gridCol w="817560"/>
                <a:gridCol w="824040"/>
                <a:gridCol w="819000"/>
                <a:gridCol w="822600"/>
                <a:gridCol w="8190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  Sestavte tabulku závislosti dráhy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ujeté autem na čase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íte-li, že průměrná rychlost auta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v 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 75 km/h a pro čas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latí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, 2, 3, 4, 5, 6 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4724280"/>
          <a:ext cx="6913800" cy="1297080"/>
        </p:xfrm>
        <a:graphic>
          <a:graphicData uri="http://schemas.openxmlformats.org/drawingml/2006/table">
            <a:tbl>
              <a:tblPr/>
              <a:tblGrid>
                <a:gridCol w="987480"/>
                <a:gridCol w="988920"/>
                <a:gridCol w="984240"/>
                <a:gridCol w="992160"/>
                <a:gridCol w="984240"/>
                <a:gridCol w="989280"/>
                <a:gridCol w="9874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95280" y="3573360"/>
            <a:ext cx="34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vnice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 = v .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 = 75 .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403280" y="4724280"/>
          <a:ext cx="6913800" cy="1297080"/>
        </p:xfrm>
        <a:graphic>
          <a:graphicData uri="http://schemas.openxmlformats.org/drawingml/2006/table">
            <a:tbl>
              <a:tblPr/>
              <a:tblGrid>
                <a:gridCol w="986040"/>
                <a:gridCol w="990360"/>
                <a:gridCol w="986040"/>
                <a:gridCol w="988920"/>
                <a:gridCol w="985680"/>
                <a:gridCol w="990720"/>
                <a:gridCol w="9860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defi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í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zýváme přiřazení, které každému prvku dané množi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řiřazuj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ávě jed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álné čísl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žin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zývá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ční o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k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365720"/>
            <a:ext cx="5183280" cy="21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dá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orcem (rovni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záp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 zapisuj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: x     y, x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čteme: prvku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nožiny D je přiřazeno funkcí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álné čísl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bo: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= f(x), x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čteme: prvku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nožiny D je přiřazeno funkcí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álné čísl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95640" y="2852640"/>
            <a:ext cx="343080" cy="73080"/>
            <a:chOff x="3995640" y="2852640"/>
            <a:chExt cx="343080" cy="73080"/>
          </a:xfrm>
        </p:grpSpPr>
        <p:sp>
          <p:nvSpPr>
            <p:cNvPr id="63" name=""/>
            <p:cNvSpPr/>
            <p:nvPr/>
          </p:nvSpPr>
          <p:spPr>
            <a:xfrm>
              <a:off x="3995640" y="2888640"/>
              <a:ext cx="343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5640" y="2852640"/>
              <a:ext cx="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ěnn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závis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roměn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ěnná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ávis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proměn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žin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finiční obo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žina všech reálných čísel - x, je dána s funkc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ožin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nožina hodnot funk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žina všech reálných čísel - y, která jsou danou funkcí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iřazena prvkům jejíh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 - x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6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fem funkc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f: x    y, x </a:t>
            </a:r>
            <a:r>
              <a:rPr b="0" i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zýváme množinu všech bodů roviny, které mají souřadn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x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284720" y="2637000"/>
            <a:ext cx="342720" cy="72720"/>
            <a:chOff x="4284720" y="2637000"/>
            <a:chExt cx="342720" cy="72720"/>
          </a:xfrm>
        </p:grpSpPr>
        <p:sp>
          <p:nvSpPr>
            <p:cNvPr id="70" name=""/>
            <p:cNvSpPr/>
            <p:nvPr/>
          </p:nvSpPr>
          <p:spPr>
            <a:xfrm>
              <a:off x="4284720" y="2673000"/>
              <a:ext cx="34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84720" y="2637000"/>
              <a:ext cx="7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kce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šte alespoň deset hodnot funkc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, D = R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Zástupný symbol pro text 2"/>
              <p:cNvSpPr txBox="1"/>
              <p:nvPr/>
            </p:nvSpPr>
            <p:spPr>
              <a:xfrm>
                <a:off x="4859280" y="2133720"/>
                <a:ext cx="2232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,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Zástupný symbol pro text 2"/>
              <p:cNvSpPr txBox="1"/>
              <p:nvPr/>
            </p:nvSpPr>
            <p:spPr>
              <a:xfrm>
                <a:off x="1198440" y="2637000"/>
                <a:ext cx="2136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95280" y="3645000"/>
            <a:ext cx="8147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strojte graf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 = 2x, D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-2, -1, 0, 1, 2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2x, D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58972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Sestrojte na milimetrový papír grafy funkcí ze cvičení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9640" y="2781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9640" y="4221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8:29:38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7-31T12:02:59Z</dcterms:modified>
  <cp:revision>65</cp:revision>
  <dc:subject/>
  <dc:title>Funkce - úvod</dc:title>
</cp:coreProperties>
</file>