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FCC-4182-44EA-89FF-8A193D0E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418-7D06-4E9F-A9CE-3613BD3F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BFC-F370-4B19-B4EF-B62946A9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DEA-7EC4-49C3-A3DC-AEFACF5B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6967-FA41-4023-88B8-DA278B44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0823-81BD-46CF-B7F9-3EF8961C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4047-F8EB-4C01-B6F2-6BE4C3D8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A4F-81AB-4F36-8647-7117BB5F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F8AF-DCE1-4E60-9851-B70BA52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1AED-1A53-406C-A073-19259095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F9B0-6A55-4EE5-8625-61D1B46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50E-3B81-4B0E-9E87-E3C5291D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7269-724B-409C-BEF7-B6621B09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9F6F-3148-44DD-94ED-D8A2DE3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BFD4-3F07-4EF5-8DA7-69C1BCA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3081-AD64-41D5-B135-A9510466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5F1F-193A-49F4-8AA7-FD0F0EC4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7F1-E40F-4B81-8A2E-6E2D033F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B80-DD78-46B2-BC33-A5BA4DF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6DE-447C-4D2F-A927-473A78E8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AE5-C21D-4CA3-8530-7684DC76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5DD-5121-4381-A2E6-60449560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45E-93F0-49BA-A58A-DDBFD652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889-C252-4A48-BF4B-6DA72CD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2ADA-AED7-4F80-B264-C40F62E0C7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73000" y="6481800"/>
            <a:ext cx="7572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9A8F-C29C-48C2-97C9-A4817CA1D96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lvm.usu.edu/en/nav/frames_asid_201_g_4_t_2.html?open=instructions&amp;hidepanel=true&amp;from=vlibrary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84c6a"/>
                </a:solidFill>
                <a:latin typeface="Trebuchet MS"/>
              </a:rPr>
              <a:t>Rovnice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64500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57880"/>
            <a:ext cx="80773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2. č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44520" y="2046240"/>
                <a:ext cx="1312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284720" y="4437000"/>
            <a:ext cx="3024000" cy="863640"/>
          </a:xfrm>
          <a:prstGeom prst="cloudCallout">
            <a:avLst>
              <a:gd name="adj1" fmla="val -89685"/>
              <a:gd name="adj2" fmla="val -50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A z násobení na děl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20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elý předcházející příklad ještě jednou, ale s využitím zkráceného zápisu.</a:t>
            </a: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2" name=""/>
          <p:cNvSpPr/>
          <p:nvPr/>
        </p:nvSpPr>
        <p:spPr>
          <a:xfrm>
            <a:off x="1677960" y="2924280"/>
            <a:ext cx="43200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6000" y="3300480"/>
            <a:ext cx="43164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3213000"/>
            <a:ext cx="432000" cy="2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61960" y="3745080"/>
            <a:ext cx="43200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70040" y="4149720"/>
            <a:ext cx="43200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048200"/>
            <a:ext cx="648000" cy="2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97600" y="3357720"/>
            <a:ext cx="4046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1484280"/>
            <a:ext cx="4679640" cy="2881440"/>
          </a:xfrm>
          <a:prstGeom prst="cloudCallout">
            <a:avLst>
              <a:gd name="adj1" fmla="val -72592"/>
              <a:gd name="adj2" fmla="val 18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Přejde-li člen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z jedné strany rovnice na druhou, změní se matematická operace, kterou je vázán k ostatním členům, na opačnou: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Z dělení na násoben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355760" y="1455840"/>
                <a:ext cx="1217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16120" y="2695680"/>
                <a:ext cx="1501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733400" y="3390840"/>
                <a:ext cx="11224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619280" y="3846600"/>
                <a:ext cx="15048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890720" y="4226040"/>
                <a:ext cx="97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258920" y="5157720"/>
                <a:ext cx="37148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: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1901880" y="4610160"/>
            <a:ext cx="609480" cy="303120"/>
            <a:chOff x="1901880" y="4610160"/>
            <a:chExt cx="609480" cy="303120"/>
          </a:xfrm>
        </p:grpSpPr>
        <p:sp>
          <p:nvSpPr>
            <p:cNvPr id="277" name=""/>
            <p:cNvSpPr/>
            <p:nvPr/>
          </p:nvSpPr>
          <p:spPr>
            <a:xfrm>
              <a:off x="1901880" y="48830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01880" y="4913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901880" y="4610160"/>
                  <a:ext cx="60948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677960" y="5772240"/>
                <a:ext cx="723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701720" y="6076800"/>
                <a:ext cx="59076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492960" y="1700280"/>
                <a:ext cx="1598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403280" y="4869000"/>
            <a:ext cx="3024360" cy="863640"/>
          </a:xfrm>
          <a:prstGeom prst="cloudCallout">
            <a:avLst>
              <a:gd name="adj1" fmla="val 109263"/>
              <a:gd name="adj2" fmla="val -1312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A z násobení na děl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2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dobně příklad č. 4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5" name=""/>
          <p:cNvSpPr/>
          <p:nvPr/>
        </p:nvSpPr>
        <p:spPr>
          <a:xfrm>
            <a:off x="6276960" y="3803760"/>
            <a:ext cx="64944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54920" y="3414600"/>
            <a:ext cx="43164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867360" y="3760920"/>
            <a:ext cx="230400" cy="1141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78560" y="2952720"/>
            <a:ext cx="43200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84880" y="2592360"/>
            <a:ext cx="43200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867360" y="2909880"/>
            <a:ext cx="331920" cy="1731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97600" y="3357720"/>
            <a:ext cx="4046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773360"/>
            <a:ext cx="4752720" cy="2881080"/>
          </a:xfrm>
          <a:prstGeom prst="cloudCallout">
            <a:avLst>
              <a:gd name="adj1" fmla="val 71342"/>
              <a:gd name="adj2" fmla="val -107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Přejde-li člen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z jedné strany rovnice na druhou, změní se matematická operace, kterou je vázán k ostatním členům na opačnou: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Z dělení na násoben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11640" y="476280"/>
                <a:ext cx="2233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524640" y="2362320"/>
                <a:ext cx="18064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129360" y="3044880"/>
                <a:ext cx="14270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72360" y="3500280"/>
                <a:ext cx="1866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796000" y="3879720"/>
                <a:ext cx="14857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470480" y="5214960"/>
                <a:ext cx="1104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: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6675480" y="4594320"/>
            <a:ext cx="704880" cy="331560"/>
            <a:chOff x="6675480" y="4594320"/>
            <a:chExt cx="704880" cy="331560"/>
          </a:xfrm>
        </p:grpSpPr>
        <p:sp>
          <p:nvSpPr>
            <p:cNvPr id="300" name=""/>
            <p:cNvSpPr/>
            <p:nvPr/>
          </p:nvSpPr>
          <p:spPr>
            <a:xfrm>
              <a:off x="6723360" y="4895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23360" y="49258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6675480" y="4594320"/>
                  <a:ext cx="70488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859280" y="5445000"/>
                <a:ext cx="3867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888080" y="6006960"/>
                <a:ext cx="5904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578640" y="4235400"/>
                <a:ext cx="70488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197000"/>
            <a:ext cx="746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Shrňme si tedy na závěr ještě jednou všechny již známé ekvivalentní úpravy rovn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81080" y="19890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1. Kořeny rovnice se nezmění, jestliže zaměníme levou a pravou stranu rov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81080" y="278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2. Kořeny rovnice se nezmění, jestliže k oběma stranám rovnice přičteme stejné číslo nebo mnohoč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16000" y="3573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3. Kořeny rovnice se nezmění, jestliže od obou stran rovnice odečteme stejné číslo nebo mnohoč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09520" y="4508640"/>
            <a:ext cx="788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4. Kořeny rovnice se nezmění, jestliže obě strany rovnice vynásobíme stejným číslem nebo mnohočlenem (různým od nu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46240" y="5359320"/>
            <a:ext cx="7602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. Kořeny rovnice se nezmění, jestliže obě strany rovnice vydělíme stejným číslem nebo mnohočlenem (různým od nu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197000"/>
            <a:ext cx="746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a úvod si zopakujeme tři již známé ekvivalentní úpra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1080" y="19890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1. Kořeny rovnice se nezmění, jestliže zaměníme levou a pravou stranu rov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278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2. Kořeny rovnice se nezmění, jestliže k oběma stranám rovnice přičteme stejné číslo nebo mnohoč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3573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3. Kořeny rovnice se nezmění, jestliže od obou stran rovnice odečteme stejné číslo nebo mnohoč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0160" y="465300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6 = 5 + x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L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66100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0" lang="en-US" sz="9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 = L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 + x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47280" y="5229360"/>
            <a:ext cx="36036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60600" y="5229360"/>
            <a:ext cx="360360" cy="360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4040" y="4842000"/>
            <a:ext cx="242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– 3 = 5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2200" y="471168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2200" y="4713120"/>
            <a:ext cx="72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2200" y="4713120"/>
            <a:ext cx="72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3360" y="530208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– 3      = 5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30640" y="5229360"/>
            <a:ext cx="93672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3360" y="573408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83000" y="5229360"/>
            <a:ext cx="93672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6440" y="4699080"/>
            <a:ext cx="503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4708440"/>
            <a:ext cx="72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72360" y="47102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47102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64200" y="4838760"/>
            <a:ext cx="242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= 5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75360" y="5299200"/>
            <a:ext cx="242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+ 3      = 5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5226120"/>
            <a:ext cx="93672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3520" y="5730840"/>
            <a:ext cx="242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3160" y="5226120"/>
            <a:ext cx="93672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6600" y="4695840"/>
            <a:ext cx="503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809 L -0.15295 0.07283 E">
                                      <p:cBhvr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0786 L -0.04774 0.07121 E">
                                      <p:cBhvr>
                                        <p:cTn id="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601 L -0.1467 0.07075 E">
                                      <p:cBhvr>
                                        <p:cTn id="12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0786 L -0.04149 0.07121 E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Další ekvivalentní úpravy rovnic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1970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yní se již vraťme opět k analogii (podobnosti) rovnosti dvou stran rovnice s příklady na udržení rovnováhy na miskách va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3680" y="5030640"/>
            <a:ext cx="601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Tak vzhůru na to. Klikněte na obrázek vah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začněte experimentovat s cihličkami na miskách vah podle uvedeného návodu.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dobře si zapamatujte, co jste zjistil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4869000"/>
            <a:ext cx="1814400" cy="1528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2205000"/>
            <a:ext cx="788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Opět naskládejte na obě misky vah cihličky tak, aby nastala rovnováha. A nemusí to být ani podle zadané rovnice! Pak začneme znovu experiment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8480" y="4191120"/>
            <a:ext cx="788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oté počet cihliček daného druhu na obou miskách zase dvakrát, případně třikrát zmenší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8480" y="3360600"/>
            <a:ext cx="788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Tentokrát však budeme počet cihliček daného druhu na obou miskách zdvojnásobovat, případně ztrojnásob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4494240"/>
            <a:ext cx="2246040" cy="1892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Ekvivalentní úpravy rovnic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723960" y="11970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Co jste zjistili tentokrá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30320" y="1989000"/>
            <a:ext cx="7777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4.) Rovnováha opět nastává, když počet odpovídajících si cihliček na obou miskách vah zvýšíme ve stejném násobku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tzn. zvětšíme-li počet cihliček obou druhů na levé i na pravé misce dvakrát, třikrát, 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4720" y="3370320"/>
            <a:ext cx="792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5.) A stejně tak rovnováha opět nastává, když počet odpovídajících si cihliček na obou miskách vah ve stejném násobku i snížíme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tzn. zmenšíme-li počet cihliček obou druhů na levé i na pravé misce dvakrát, třikrát, …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4869000"/>
            <a:ext cx="4032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A opět platí, že s rovnicemi je to podobné. Pojďme se na to tedy podí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103560" y="26384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03560" y="26384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4. ekvivalentní úprav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1197000"/>
            <a:ext cx="748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estliže obě strany rovnice vynásobíme stejným číslem (výrazem) různým od nuly, kořen rovnice se nezmě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263700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1520" y="3297240"/>
            <a:ext cx="936720" cy="503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2624040"/>
            <a:ext cx="503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708280"/>
            <a:ext cx="3600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volenou ekvivalentní úpravu poznamenáme vedle zápi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3587760"/>
            <a:ext cx="4464000" cy="1008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a obou stranách rovnice provedeme naznačené početní op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419280" y="3573000"/>
            <a:ext cx="865080" cy="3733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708000" y="2937960"/>
            <a:ext cx="57636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216320"/>
            <a:ext cx="7993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Jestliže jsme kořen rovnice určili správně, po jeho dosazení za neznámou do levé i pravé strany zadání rovnice nastane rovnost. Říkáme, že provádíme zkouš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51520" y="573408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n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835280" y="2506680"/>
                <a:ext cx="10080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336680" y="3156120"/>
                <a:ext cx="15256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924200" y="3927600"/>
                <a:ext cx="11109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V="1">
            <a:off x="1273320" y="3630240"/>
            <a:ext cx="43308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35280" y="3385800"/>
            <a:ext cx="43308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35160" y="5224320"/>
                <a:ext cx="2089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38400" y="5862600"/>
                <a:ext cx="79992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41640" y="6156360"/>
                <a:ext cx="6444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099200" y="4898880"/>
                <a:ext cx="889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004160" y="6157800"/>
                <a:ext cx="10000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11920" y="5533920"/>
                <a:ext cx="1200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922400" y="42800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22400" y="43228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625 L -0.15451 0.08994 E">
                                      <p:cBhvr>
                                        <p:cTn id="24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00832 L -0.03958 0.09202 E">
                                      <p:cBhvr>
                                        <p:cTn id="24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03560" y="26384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03560" y="263700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03560" y="2638440"/>
            <a:ext cx="72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5. ekvivalentní úprava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1197000"/>
            <a:ext cx="748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estliže obě strany rovnice vydělíme stejným číslem (výrazem) různým od nuly, kořen rovnice se nezmě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4520" y="3789360"/>
            <a:ext cx="817560" cy="806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7800" y="2624040"/>
            <a:ext cx="503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2492280"/>
            <a:ext cx="3600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volenou ekvivalentní úpravu poznamenáme vedle zápi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3357720"/>
            <a:ext cx="4464000" cy="1008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a obou stranách rovnice provedeme naznačené početní ope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716280"/>
            <a:ext cx="1008000" cy="4334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708000" y="2852640"/>
            <a:ext cx="576360" cy="85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90760" y="4422600"/>
            <a:ext cx="5616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stliže jsme kořen rovnice určili správně, po jeho dosazení za neznámou do levé i pravé strany zadání rovnice nastane rovnost. Říkáme, že provádíme zkoušku.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2000" y="573408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547640" y="2749680"/>
                <a:ext cx="133848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77880" y="3827520"/>
                <a:ext cx="1525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09800" y="4565520"/>
                <a:ext cx="955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778040" y="4292280"/>
            <a:ext cx="274680" cy="2746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465360" y="5473800"/>
                <a:ext cx="2533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86240" y="5805360"/>
                <a:ext cx="9334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492360" y="6121440"/>
                <a:ext cx="6447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507440" y="5472000"/>
                <a:ext cx="11556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365960" y="6121440"/>
                <a:ext cx="13334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81920" y="5805360"/>
                <a:ext cx="16002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 flipV="1">
            <a:off x="1692360" y="3846240"/>
            <a:ext cx="274680" cy="2746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57200" y="3357720"/>
                <a:ext cx="17193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x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835280" y="4941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49849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208 L -0.15451 0.09225 E">
                                      <p:cBhvr>
                                        <p:cTn id="36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44 L -0.01267 0.09017 E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6200" y="404280"/>
            <a:ext cx="8077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1773360"/>
            <a:ext cx="4248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333360"/>
            <a:ext cx="3240000" cy="1511280"/>
          </a:xfrm>
          <a:prstGeom prst="cloudCallout">
            <a:avLst>
              <a:gd name="adj1" fmla="val 25796"/>
              <a:gd name="adj2" fmla="val 68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Kořeny rovnice se nezmění, jestliže obě strany rovnice vynásobíme stejným číslem nebo mnohočlenem (různým od nu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2622600"/>
            <a:ext cx="1116000" cy="6192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27640" y="3573360"/>
            <a:ext cx="2664000" cy="1079640"/>
          </a:xfrm>
          <a:prstGeom prst="cloudCallout">
            <a:avLst>
              <a:gd name="adj1" fmla="val -25268"/>
              <a:gd name="adj2" fmla="val -85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Na obou stranách rovnice provedeme naznačené početní ope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090880" y="925560"/>
                <a:ext cx="1276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364440" y="1989000"/>
                <a:ext cx="19540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,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845320" y="2593800"/>
                <a:ext cx="21016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,5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,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 flipV="1">
            <a:off x="6350040" y="2855520"/>
            <a:ext cx="503280" cy="144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51360" y="3041280"/>
            <a:ext cx="503280" cy="144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599160" y="4705200"/>
                <a:ext cx="828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52920" y="5214960"/>
                <a:ext cx="2568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: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,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900760" y="5872320"/>
                <a:ext cx="21877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1185840" y="126828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         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8 = -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1773360"/>
            <a:ext cx="4248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54760" y="1773360"/>
            <a:ext cx="2938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8 = -4x        / :(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78320" y="2276640"/>
            <a:ext cx="288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8 : (-4) = -4x : (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23080" y="3330720"/>
            <a:ext cx="1079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-2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21240" y="540072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Zk: L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60280"/>
            <a:ext cx="3382920" cy="1297080"/>
          </a:xfrm>
          <a:prstGeom prst="cloudCallout">
            <a:avLst>
              <a:gd name="adj1" fmla="val 21236"/>
              <a:gd name="adj2" fmla="val 75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Kořeny rovnice se nezmění, jestliže obě strany rovnice vydělíme stejným číslem nebo mnohočlenem (různým od nu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51640" y="2492280"/>
            <a:ext cx="1513080" cy="2016360"/>
          </a:xfrm>
          <a:prstGeom prst="cloudCallout">
            <a:avLst>
              <a:gd name="adj1" fmla="val -78856"/>
              <a:gd name="adj2" fmla="val -18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Na obou stranách rovnice provedeme naznačené početní ope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94320" y="573264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P = -4x = -4.(-2)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94320" y="602136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   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L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31080" y="3720960"/>
            <a:ext cx="1079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x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595760"/>
            <a:ext cx="3348000" cy="865080"/>
          </a:xfrm>
          <a:prstGeom prst="cloudCallout">
            <a:avLst>
              <a:gd name="adj1" fmla="val -19699"/>
              <a:gd name="adj2" fmla="val -8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Kořeny rovnice se nezmění, jestliže zaměníme levou </a:t>
            </a:r>
            <a:br>
              <a:rPr sz="1200"/>
            </a:br>
            <a:r>
              <a:rPr b="1" lang="en-US" sz="1200" spc="-1" strike="noStrike">
                <a:solidFill>
                  <a:srgbClr val="284c6a"/>
                </a:solidFill>
                <a:latin typeface="Arial"/>
              </a:rPr>
              <a:t>a pravou stranu rovn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51360" y="2724120"/>
            <a:ext cx="1582560" cy="662040"/>
            <a:chOff x="5751360" y="2724120"/>
            <a:chExt cx="1582560" cy="662040"/>
          </a:xfrm>
        </p:grpSpPr>
        <p:sp>
          <p:nvSpPr>
            <p:cNvPr id="207" name=""/>
            <p:cNvSpPr/>
            <p:nvPr/>
          </p:nvSpPr>
          <p:spPr>
            <a:xfrm>
              <a:off x="5751360" y="2738520"/>
              <a:ext cx="1469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84c6a"/>
                  </a:solidFill>
                  <a:latin typeface="Trebuchet MS"/>
                </a:rPr>
                <a:t>__</a:t>
              </a:r>
              <a:r>
                <a:rPr b="0" lang="en-US" sz="2000" spc="-1" strike="noStrike">
                  <a:solidFill>
                    <a:srgbClr val="284c6a"/>
                  </a:solidFill>
                  <a:latin typeface="Trebuchet MS"/>
                </a:rPr>
                <a:t>     </a:t>
              </a:r>
              <a:r>
                <a:rPr b="1" lang="en-US" sz="2000" spc="-1" strike="noStrike">
                  <a:solidFill>
                    <a:srgbClr val="284c6a"/>
                  </a:solidFill>
                  <a:latin typeface="Trebuchet MS"/>
                </a:rPr>
                <a:t>__</a:t>
              </a:r>
              <a:r>
                <a:rPr b="0" lang="en-US" sz="2000" spc="-1" strike="noStrike">
                  <a:solidFill>
                    <a:srgbClr val="284c6a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83120" y="2724120"/>
              <a:ext cx="1150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84c6a"/>
                  </a:solidFill>
                  <a:latin typeface="Trebuchet MS"/>
                </a:rPr>
                <a:t>8     -4x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9800" y="3025800"/>
              <a:ext cx="1150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84c6a"/>
                  </a:solidFill>
                  <a:latin typeface="Trebuchet MS"/>
                </a:rPr>
                <a:t>-4      -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83000" y="2867040"/>
              <a:ext cx="1150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84c6a"/>
                  </a:solidFill>
                  <a:latin typeface="Trebuchet MS"/>
                </a:rPr>
                <a:t>=</a:t>
              </a:r>
              <a:r>
                <a:rPr b="0" lang="en-US" sz="2000" spc="-1" strike="noStrike">
                  <a:solidFill>
                    <a:srgbClr val="284c6a"/>
                  </a:solidFill>
                  <a:latin typeface="Trebuchet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5962680" y="310032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962680" y="278604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635880" y="3085920"/>
            <a:ext cx="142920" cy="215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580080" y="278604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580000" y="2679840"/>
            <a:ext cx="1657440" cy="793080"/>
            <a:chOff x="5580000" y="2679840"/>
            <a:chExt cx="1657440" cy="793080"/>
          </a:xfrm>
        </p:grpSpPr>
        <p:sp>
          <p:nvSpPr>
            <p:cNvPr id="216" name=""/>
            <p:cNvSpPr/>
            <p:nvPr/>
          </p:nvSpPr>
          <p:spPr>
            <a:xfrm>
              <a:off x="5580000" y="2679840"/>
              <a:ext cx="1657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r>
                <a:rPr b="0" lang="en-US" sz="2000" spc="-1" strike="noStrike">
                  <a:solidFill>
                    <a:srgbClr val="00cc00"/>
                  </a:solidFill>
                  <a:latin typeface="Trebuchet MS"/>
                </a:rPr>
                <a:t>	</a:t>
              </a:r>
              <a:r>
                <a:rPr b="0" lang="en-US" sz="2000" spc="-1" strike="noStrike">
                  <a:solidFill>
                    <a:srgbClr val="00cc00"/>
                  </a:solidFill>
                  <a:latin typeface="Trebuchet MS"/>
                </a:rPr>
                <a:t>   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80000" y="3184200"/>
              <a:ext cx="1657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rebuchet MS"/>
                </a:rPr>
                <a:t>-1</a:t>
              </a:r>
              <a:r>
                <a:rPr b="0" lang="en-US" sz="2000" spc="-1" strike="noStrike">
                  <a:solidFill>
                    <a:srgbClr val="00cc00"/>
                  </a:solidFill>
                  <a:latin typeface="Trebuchet MS"/>
                </a:rPr>
                <a:t>	</a:t>
              </a:r>
              <a:r>
                <a:rPr b="0" lang="en-US" sz="2000" spc="-1" strike="noStrike">
                  <a:solidFill>
                    <a:srgbClr val="00cc00"/>
                  </a:solidFill>
                  <a:latin typeface="Trebuchet MS"/>
                </a:rPr>
                <a:t>   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6040440" y="422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40440" y="42642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08520" y="1297080"/>
                <a:ext cx="20368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⋅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233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 č. 3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773360"/>
            <a:ext cx="4248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27920" y="113976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98480" y="765000"/>
            <a:ext cx="2300400" cy="1136880"/>
            <a:chOff x="1698480" y="765000"/>
            <a:chExt cx="2300400" cy="1136880"/>
          </a:xfrm>
        </p:grpSpPr>
        <p:sp>
          <p:nvSpPr>
            <p:cNvPr id="225" name=""/>
            <p:cNvSpPr/>
            <p:nvPr/>
          </p:nvSpPr>
          <p:spPr>
            <a:xfrm>
              <a:off x="1800000" y="765000"/>
              <a:ext cx="129564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  </a:t>
              </a: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x     x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98480" y="836640"/>
              <a:ext cx="14540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  </a:t>
              </a: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__   __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5960" y="1181160"/>
              <a:ext cx="1295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  </a:t>
              </a: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2     8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7240" y="947880"/>
              <a:ext cx="18716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  </a:t>
              </a:r>
              <a:r>
                <a:rPr b="1" lang="en-US" sz="2400" spc="-1" strike="noStrike">
                  <a:solidFill>
                    <a:srgbClr val="284c6a"/>
                  </a:solidFill>
                  <a:latin typeface="Trebuchet MS"/>
                </a:rPr>
                <a:t>-      = 1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272280" y="577800"/>
                <a:ext cx="2360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V="1">
            <a:off x="5753160" y="1658880"/>
            <a:ext cx="1443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056280" y="1339920"/>
            <a:ext cx="1443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458040" y="1671120"/>
            <a:ext cx="14436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775560" y="1325520"/>
            <a:ext cx="1443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172872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6840" y="113976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6720" y="172872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724360" y="1989000"/>
                <a:ext cx="19987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  <m:r>
                      <m:t xml:space="preserve">⋅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067440" y="2608200"/>
                <a:ext cx="13129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9560" y="3251160"/>
                <a:ext cx="8380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759800" y="3246480"/>
                <a:ext cx="476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392880" y="3645000"/>
                <a:ext cx="12002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: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543720" y="3890880"/>
                <a:ext cx="914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 flipV="1">
            <a:off x="6573960" y="3933720"/>
            <a:ext cx="1443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645240" y="4264200"/>
            <a:ext cx="1443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207200" y="4264200"/>
            <a:ext cx="1443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207200" y="3917880"/>
            <a:ext cx="1443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383220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56520" y="382284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77040" y="418320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23120" y="4178160"/>
            <a:ext cx="403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132520" y="4915080"/>
                <a:ext cx="37144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: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6718320" y="47815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718320" y="48117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718320" y="4508640"/>
                <a:ext cx="609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51560" y="5529240"/>
                <a:ext cx="723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575320" y="5834160"/>
                <a:ext cx="5904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450040" y="1152360"/>
            <a:ext cx="2520720" cy="863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549360"/>
            <a:ext cx="194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Vynásobit musíme všechny členy rovnic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6-27T12:20:37Z</dcterms:modified>
  <cp:revision>63</cp:revision>
  <dc:subject/>
  <dc:title>Ekvivalentní úpravy rovnic 2</dc:title>
</cp:coreProperties>
</file>