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326-5E8E-4FC5-83DA-1CA29BC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B53-08CA-41AF-A7E4-51FC8C75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CE2-71E2-46D1-B392-8EA992D3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369-C326-4129-A012-FA675DAB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D0EC-071E-40D5-ABA0-D4BE836E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52F7-7FA7-4A92-9224-7DB73DED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CF8A-1FC8-44EB-9D3B-064F816C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5015-2467-486E-86E4-D9B9EE72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4B08-CC5A-4E7F-9AE4-0ACAC8B9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0109-FD76-4A8C-9EBF-DF822F7C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C8D9-1918-423E-8FE4-AF37EE10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EF2-956E-4914-8CF7-A47BE812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5C5A-0B22-447D-8226-BB617CF9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253E-B850-4881-A638-E9925B91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3915-068C-4190-A42B-17C766AE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3B4-0941-4F31-8CA2-CD0462C1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D29A-B7E1-42AA-9C1D-C2AC9017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6C7-C774-4045-A605-3AF0AC49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108-C6BD-43BB-A19C-8228A03E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C8F-C3C1-4093-B476-814AB39F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548-337D-45AD-9734-B49E3BB8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49D-6FA8-4F99-84F9-A5B12EE3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4BE-01F5-4CAA-AE22-F4B2D9B3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1F4-6773-47AE-93E3-6F85C185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ED74-5AA7-4299-A77E-155A86C2D3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48320"/>
            <a:ext cx="75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71C-F609-4D4F-9E10-53494289C9E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900000" y="6448320"/>
            <a:ext cx="757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lvm.usu.edu/en/nav/frames_asid_201_g_4_t_2.html?open=instructions&amp;hidepanel=true&amp;from=vlibrary.html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lvm.usu.edu/en/nav/frames_asid_201_g_4_t_2.html?open=instructions&amp;hidepanel=true&amp;from=vlibrary.html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84c6a"/>
                </a:solidFill>
                <a:latin typeface="Trebuchet MS"/>
              </a:rPr>
              <a:t>Rovnice</a:t>
            </a:r>
            <a:endParaRPr b="0" lang="en-US" sz="7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73068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Ekvivalentní úpravy rovnic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57880"/>
            <a:ext cx="807732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1. č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Příklad č. 1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126828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       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X - 8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1773360"/>
            <a:ext cx="4248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177336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X - 8 = 12   /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27800" y="2419200"/>
            <a:ext cx="288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X - 8 + 8 = 12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34200" y="4437000"/>
            <a:ext cx="1079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X =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8720" y="508464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Zk: L = x – 8 = 20 – 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24360" y="189000"/>
            <a:ext cx="3095640" cy="1295280"/>
          </a:xfrm>
          <a:prstGeom prst="cloudCallout">
            <a:avLst>
              <a:gd name="adj1" fmla="val 12972"/>
              <a:gd name="adj2" fmla="val 836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Kořeny rovnice se nezmění, jestliže k oběma stranám rovnice přičteme stejné číslo nebo mnohoč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08600" y="2446200"/>
            <a:ext cx="792360" cy="57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2433600"/>
            <a:ext cx="792360" cy="57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3357720"/>
            <a:ext cx="2664000" cy="1079280"/>
          </a:xfrm>
          <a:prstGeom prst="cloudCallout">
            <a:avLst>
              <a:gd name="adj1" fmla="val -40523"/>
              <a:gd name="adj2" fmla="val -844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Na obou stranách rovnice provedeme naznačené početní oper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544500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580536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L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126828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       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 = y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1773360"/>
            <a:ext cx="4248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29320" y="177336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6 = y + 5   /-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9240" y="2419200"/>
            <a:ext cx="2881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6 - 5 = y + 5 -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22840" y="3859200"/>
            <a:ext cx="107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1 =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530064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Zk: L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0" y="260280"/>
            <a:ext cx="3095640" cy="1295640"/>
          </a:xfrm>
          <a:prstGeom prst="cloudCallout">
            <a:avLst>
              <a:gd name="adj1" fmla="val -6768"/>
              <a:gd name="adj2" fmla="val 781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Kořeny rovnice se nezmění, jestliže od obou stran rovnice odečteme stejné číslo nebo mnohoč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6040" y="2460600"/>
            <a:ext cx="792000" cy="57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1600" y="2448000"/>
            <a:ext cx="792000" cy="576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068640"/>
            <a:ext cx="2664000" cy="1079640"/>
          </a:xfrm>
          <a:prstGeom prst="cloudCallout">
            <a:avLst>
              <a:gd name="adj1" fmla="val -50000"/>
              <a:gd name="adj2" fmla="val -576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Na obou stranách rovnice provedeme naznačené početní ope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566100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 = y + 5 = 1 + 5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08720" y="602136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L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30760" y="4292640"/>
            <a:ext cx="1079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4221000"/>
            <a:ext cx="2233440" cy="1368720"/>
          </a:xfrm>
          <a:prstGeom prst="cloudCallout">
            <a:avLst>
              <a:gd name="adj1" fmla="val -65069"/>
              <a:gd name="adj2" fmla="val -179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Kořeny rovnice se nezmění, jestliže zaměníme levou a pravou stranu rovn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Příklad č. 3: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0" name=""/>
          <p:cNvSpPr/>
          <p:nvPr/>
        </p:nvSpPr>
        <p:spPr>
          <a:xfrm>
            <a:off x="706320" y="126828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       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x - 7 =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773360"/>
            <a:ext cx="4248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58080" y="1887480"/>
            <a:ext cx="27590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x - 7 = 4x + 3   /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4437000"/>
            <a:ext cx="324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Zk: L = 5x – 7 = 5.10 – 7 =</a:t>
            </a:r>
            <a:br>
              <a:rPr sz="2000"/>
            </a:b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         = 50 – 7 = 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22760" y="4971960"/>
            <a:ext cx="324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 = 4x + 3 = 4.10 + 3 =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   = 40 + 3 = 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37160" y="572148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L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2362320"/>
            <a:ext cx="275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x – 7 + 7 = 4x + 3 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42200" y="2852640"/>
            <a:ext cx="23922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x = 4x + 10   /- 4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24520" y="3343320"/>
            <a:ext cx="29685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x – 4x = 4x + 10 - 4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67480" y="3832200"/>
            <a:ext cx="10382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84c6a"/>
                </a:solidFill>
                <a:uFillTx/>
                <a:latin typeface="Trebuchet MS"/>
              </a:rPr>
              <a:t>x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3141720"/>
            <a:ext cx="1873080" cy="936720"/>
          </a:xfrm>
          <a:prstGeom prst="cloudCallout">
            <a:avLst>
              <a:gd name="adj1" fmla="val 76439"/>
              <a:gd name="adj2" fmla="val 36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A z plus na mí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477360"/>
            <a:ext cx="835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elý předcházející příklad ještě jednou, ale s využitím zkráceného zápisu.</a:t>
            </a: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1289160" y="177336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       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x - 7 = 4x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38360" y="2332080"/>
            <a:ext cx="2759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x - 7 = 4x + 3   /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16280" y="4881600"/>
            <a:ext cx="324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Zk: L = 5x – 7 = 5.10 – 7 =</a:t>
            </a:r>
            <a:br>
              <a:rPr sz="2000"/>
            </a:b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         = 50 – 7 = 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03400" y="5416560"/>
            <a:ext cx="324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 = 4x + 3 = 4.10 + 3 =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   = 40 + 3 = 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17800" y="616572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L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74760" y="2806560"/>
            <a:ext cx="27590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x           = 4x + 3 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22480" y="3297240"/>
            <a:ext cx="2392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x = 4x + 10   /- 4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05160" y="3787920"/>
            <a:ext cx="29685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x – 4x =      +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276800"/>
            <a:ext cx="10382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84c6a"/>
                </a:solidFill>
                <a:uFillTx/>
                <a:latin typeface="Trebuchet MS"/>
              </a:rPr>
              <a:t>x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97280" y="2433600"/>
            <a:ext cx="43164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78240" y="2908440"/>
            <a:ext cx="43200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94080" y="2706840"/>
            <a:ext cx="934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- 7 +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00480" y="2735280"/>
            <a:ext cx="1008000" cy="287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86240" y="3672000"/>
            <a:ext cx="57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4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08560" y="3672000"/>
            <a:ext cx="6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- 4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71840" y="3411360"/>
            <a:ext cx="43200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38600" y="3887640"/>
            <a:ext cx="43164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184200" y="3772080"/>
            <a:ext cx="36036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97600" y="3357720"/>
            <a:ext cx="4046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80000" y="2565360"/>
            <a:ext cx="3276720" cy="2879640"/>
          </a:xfrm>
          <a:prstGeom prst="cloudCallout">
            <a:avLst>
              <a:gd name="adj1" fmla="val -72578"/>
              <a:gd name="adj2" fmla="val -29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Přejde-li člen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z jedné strany rovnice na druhou, změní se jeho znaménko na opačn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Z mínus na p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27280" y="2997360"/>
            <a:ext cx="360360" cy="287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044880" y="2997360"/>
            <a:ext cx="360360" cy="287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549600" y="3962520"/>
            <a:ext cx="360360" cy="287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29240" y="3962520"/>
            <a:ext cx="360360" cy="287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000"/>
                            </p:stCondLst>
                            <p:childTnLst>
                              <p:par>
                                <p:cTn id="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4000"/>
                            </p:stCondLst>
                            <p:childTnLst>
                              <p:par>
                                <p:cTn id="8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A teď už sami.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112536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       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3 + x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36600" y="1616040"/>
            <a:ext cx="424836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29320" y="1658880"/>
            <a:ext cx="3240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- 3 + x = 1   / + 3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x = 1 + 3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</a:t>
            </a:r>
            <a:r>
              <a:rPr b="1" lang="cs-CZ" sz="1800" spc="-1" strike="noStrike" u="sng">
                <a:solidFill>
                  <a:srgbClr val="284c6a"/>
                </a:solidFill>
                <a:uFillTx/>
                <a:latin typeface="Trebuchet MS"/>
              </a:rPr>
              <a:t>x = 4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Zk: L = - 3 + 4 = 1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P = 1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L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36600" y="377676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         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0 = 3 +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36600" y="4280040"/>
            <a:ext cx="4248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7760" y="4424400"/>
            <a:ext cx="3240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0 = 3 + a   / - 3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0 - 3 = a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- 3 = a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</a:t>
            </a:r>
            <a:r>
              <a:rPr b="1" lang="cs-CZ" sz="1800" spc="-1" strike="noStrike" u="sng">
                <a:solidFill>
                  <a:srgbClr val="284c6a"/>
                </a:solidFill>
                <a:uFillTx/>
                <a:latin typeface="Trebuchet MS"/>
              </a:rPr>
              <a:t>a = - 3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Zk: L = - 3 + 4 = 1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P = 1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L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A ještě jeden.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>
            <a:off x="706320" y="1268280"/>
            <a:ext cx="631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    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4u + 8 = 10 – 5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1773360"/>
            <a:ext cx="4248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19640" y="1773360"/>
            <a:ext cx="3673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    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- 4u + 8 = 10 – 5u   / + 5u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- 4u + 8 + 5u = 10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u + 8 = 10   / - 8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      u = 10 – 8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      </a:t>
            </a:r>
            <a:r>
              <a:rPr b="1" lang="cs-CZ" sz="1800" spc="-1" strike="noStrike" u="sng">
                <a:solidFill>
                  <a:srgbClr val="284c6a"/>
                </a:solidFill>
                <a:uFillTx/>
                <a:latin typeface="Trebuchet MS"/>
              </a:rPr>
              <a:t>u = 2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Zk:    - 4.2 + 8 = 10 – 5.2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- 8 + 8 = 10 – 10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                   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19640" y="5013360"/>
            <a:ext cx="3673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Tolik tedy k prvním třem ekvivalentním úpravám. Příště nás čekají další dvě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574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Rovnice je zápis rovnosti dvou výrazů, ve kterém máme najít neznámé číslo (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neznámou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) tak, aby po jeho dosazení za proměnnou daná rovnost platila.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Existuje-li takové číslo, nazývá se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řešení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nebo také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kořen rovnice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6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Čemu říkáme rovn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852640"/>
            <a:ext cx="309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ravá strana 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90560" y="2808360"/>
            <a:ext cx="2952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x + 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evá strana 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2765520"/>
            <a:ext cx="64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=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2960" y="4292640"/>
            <a:ext cx="79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yní se tedy naskýtá otázka. Jaké číslo můžeme dosadit do našeho příkladu za proměnnou, aby nastala rovn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82840" y="5141880"/>
            <a:ext cx="3773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Řešením je tedy číslo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7240" y="5589720"/>
            <a:ext cx="777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Zdá se to být jednoduché? Kéž by bylo! Nás však čekají daleko složitější rovnice a při jejich řešení nám musí pomoci ekvivalentní úpra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79920" y="2851200"/>
            <a:ext cx="504720" cy="38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579760"/>
            <a:ext cx="2447640" cy="8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38920" y="3024360"/>
            <a:ext cx="863640" cy="1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75440" y="2822400"/>
            <a:ext cx="93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6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5127480"/>
            <a:ext cx="27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Zapíšeme:   x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6800" y="253512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8600" y="2533680"/>
            <a:ext cx="35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1457 L 0.20538 0.36855 E">
                                      <p:cBhvr>
                                        <p:cTn id="8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Ekvivalentní úpravy rovnic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1970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Ekvivalentní = rovnocenný, stejný, se stejným účinkem, se stejnou plat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1080" y="19890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Ekvivalentní úprava = úprava, při které rovnice původní i upravená rovnice mají stejné kořeny (řešen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1080" y="278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Jinými slovy: Změní se matematický zápis rovnice, nikoli však rovnost stran a řeš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3573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Rovnost dvou stran rovnice můžeme přirovnat k rovnováze na váhá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52360" y="4437000"/>
            <a:ext cx="60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Klikněte na obrázek vah a na otevřené stránce naskládejte na obě misky vah příslušné počty cihliček dle zadání rovnice. Provedete-li to správně, nastane rovnováha. Pak zkuste libovolně přidávat či odebírat z obou mističek vah další cihličky a zjistěte, kdy nastává opět rovnová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486900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35640" y="3705120"/>
            <a:ext cx="3182760" cy="2681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Ekvivalentní úpravy rovnic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1970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Co jste zjist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1989000"/>
            <a:ext cx="741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1.) Rovnováha opět nastává, když na obě misky vah přidáme stejný počet odpovídajících cihlič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2781360"/>
            <a:ext cx="741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2.) A stejně tak rovnováha opět nastává, když z obou misek vah odebereme stejný počet odpovídajících cihlič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3860640"/>
            <a:ext cx="403236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 obdobně je to i s rovnicemi. Jen nepřidáváme a neubíráme cihličky na misky vah, ale přidáváme (přičítáme) nebo ubíráme (odečítáme) stejná čísla či výrazy od obou stran rovnice. Pojďme se na to podí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1. ekvivalentní úprav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995400" y="260820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– 3 = 5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1197000"/>
            <a:ext cx="76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estliže k oběma stranám rovnice přičteme stejné číslo (výraz – jednočlen, mnohočlen), kořen rovnice se nezmě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03560" y="247824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03560" y="247968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03560" y="247968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4720" y="306864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– 3      = 5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2995560"/>
            <a:ext cx="936360" cy="503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4720" y="350028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2995560"/>
            <a:ext cx="936720" cy="503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7800" y="2465280"/>
            <a:ext cx="503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2549520"/>
            <a:ext cx="360036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Zvolenou ekvivalentní úpravu poznamenáme vedle zápi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3429000"/>
            <a:ext cx="4464000" cy="1008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a obou stranách rovnice provedeme naznačené početní ope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420720" y="3355920"/>
            <a:ext cx="863640" cy="4320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708000" y="2779200"/>
            <a:ext cx="57636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429264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Jestliže jsme kořen rovnice určili správně, po jeho dosazení za neznámou do levé i pravé strany zadání rovnice nastane rovnost. Říkáme, že provádíme zkouš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5373720"/>
            <a:ext cx="295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 = x – 3 = 8 – 3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5734080"/>
            <a:ext cx="295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6093000"/>
            <a:ext cx="2952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 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2760" y="5357880"/>
            <a:ext cx="2952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– 3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5734080"/>
            <a:ext cx="107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18320" y="573408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8 – 3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7600" y="6093000"/>
            <a:ext cx="136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809 L -0.15295 0.07283 E">
                                      <p:cBhvr>
                                        <p:cTn id="20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0786 L -0.04774 0.07121 E">
                                      <p:cBhvr>
                                        <p:cTn id="20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03560" y="247824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03560" y="247968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03560" y="247968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2. ekvivalentní úprav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2" name=""/>
          <p:cNvSpPr/>
          <p:nvPr/>
        </p:nvSpPr>
        <p:spPr>
          <a:xfrm>
            <a:off x="995400" y="260820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+ 3 = 5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197000"/>
            <a:ext cx="77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estliže od obou stran rovnice odečteme stejné číslo (výraz – jednočlen, mnohočlen), kořen rovnice se nezmě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06560" y="306864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+ 3      = 5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2995560"/>
            <a:ext cx="936360" cy="503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4720" y="350028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2995560"/>
            <a:ext cx="936720" cy="503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7800" y="2465280"/>
            <a:ext cx="503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2549520"/>
            <a:ext cx="360036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Zvolenou ekvivalentní úpravu poznamenáme vedle zápi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4720" y="3429000"/>
            <a:ext cx="4464000" cy="1008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a obou stranách rovnice provedeme naznačené početní ope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20720" y="3355920"/>
            <a:ext cx="863640" cy="4320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708000" y="2779200"/>
            <a:ext cx="57636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4292640"/>
            <a:ext cx="799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Jestliže jsme kořen rovnice určili správně, po jeho dosazení za neznámou do levé i pravé strany zadání rovnice nastane rovnost. Říkáme, že provádíme zkouš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0920" y="5373720"/>
            <a:ext cx="295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 = x + 3 = 2 + 3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5734080"/>
            <a:ext cx="295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6093000"/>
            <a:ext cx="2952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 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2760" y="5357880"/>
            <a:ext cx="2952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+ 3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2720" y="5734080"/>
            <a:ext cx="107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18320" y="5734080"/>
            <a:ext cx="18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+ 3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10440" y="6093000"/>
            <a:ext cx="136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601 L -0.1467 0.07075 E">
                                      <p:cBhvr>
                                        <p:cTn id="32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0786 L -0.04149 0.07121 E">
                                      <p:cBhvr>
                                        <p:cTn id="32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Poslední ekvivalentní úprava rovnic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11970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Vraťme se ještě jednou k analogii (podobnosti) rovnosti dvou stran rovnice s příklady na udržení rovnováhy na miskách va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4797360"/>
            <a:ext cx="601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Tak vzhůru na to. Klikněte na obrázek vah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 zjistěte, co se stane až cihličky přeskládá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42920" y="2205000"/>
            <a:ext cx="788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Opět naskládejte na obě misky vah příslušné počty cihliček dle zadání rovnice tak, aby nastala rovnováha. Pak začneme znovu experiment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8480" y="3360600"/>
            <a:ext cx="788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Tentokrát zaměňte cihličky na levé a pravé misce. To, co jste skládali na levou misku, teď naskládejte na pravou a to, co jste skládali na pravou misku, naskládejte na lev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294760" y="5076720"/>
            <a:ext cx="72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94760" y="5076720"/>
            <a:ext cx="72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3. ekvivalentní úprav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0" name=""/>
          <p:cNvSpPr/>
          <p:nvPr/>
        </p:nvSpPr>
        <p:spPr>
          <a:xfrm>
            <a:off x="723960" y="11970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Tak co jste zjistili tentokrá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191628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3.) Rovnováha na váhách se nezmění, ani když vyměníme obsah jednotlivých mis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2492280"/>
            <a:ext cx="7920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A co to znamená pro rovnice?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284640"/>
            <a:ext cx="7488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Kořeny rovnice se nezmění, jestliže zaměníme levou a pravou stranu rov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67040" y="505620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67040" y="5057640"/>
            <a:ext cx="72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5057640"/>
            <a:ext cx="72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8880" y="5186520"/>
            <a:ext cx="242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+ 3 = 5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0040" y="564660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+ 3      = 5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8200" y="6078600"/>
            <a:ext cx="242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81280" y="5043600"/>
            <a:ext cx="503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94760" y="507528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48440" y="519264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= x + 3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46640" y="5653080"/>
            <a:ext cx="2426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     = x + 3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6084720"/>
            <a:ext cx="2426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09000" y="5049720"/>
            <a:ext cx="503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41920" y="4365720"/>
            <a:ext cx="242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+ 3 = 5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41800" y="4724280"/>
            <a:ext cx="43164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7240" y="4724280"/>
            <a:ext cx="466560" cy="505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4869000"/>
            <a:ext cx="505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70400" y="5589720"/>
            <a:ext cx="504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79800" y="4897440"/>
            <a:ext cx="50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5160" y="4898880"/>
            <a:ext cx="50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45160" y="4897440"/>
            <a:ext cx="50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81600" y="4896000"/>
            <a:ext cx="504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601 L -0.1467 0.07075 E">
                                      <p:cBhvr>
                                        <p:cTn id="48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0578 L -0.0415 0.06913 E">
                                      <p:cBhvr>
                                        <p:cTn id="48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0624 L -0.20625 0.06844 E">
                                      <p:cBhvr>
                                        <p:cTn id="53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0786 L -0.04149 0.07121 E">
                                      <p:cBhvr>
                                        <p:cTn id="53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96532E-006 L 0.04583 -1.96532E-006 C 0.06666 -1.96532E-006 0.09236 0.0289 0.09236 0.05295 L 0.09236 0.10613 E">
                                      <p:cBhvr>
                                        <p:cTn id="561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0497 L -0.08611 0.05341 C -0.08611 0.0296 -0.06129 -3.17919E-006 -0.04236 -3.17919E-006 L -0.00018 -3.17919E-006 E">
                                      <p:cBhvr>
                                        <p:cTn id="56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Ekvivalentní úpravy rovnic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197000"/>
            <a:ext cx="746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Shrňme si tedy ještě jednou všechny tři ekvivalentní úpra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1080" y="19890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1. Kořeny rovnice se nezmění, jestliže zaměníme levou a pravou stranu rov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81080" y="278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2. Kořeny rovnice se nezmění, jestliže k oběma stranám rovnice přičteme stejné číslo nebo mnohoč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573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3. Kořeny rovnice se nezmění, jestliže od obou stran rovnice odečteme stejné číslo nebo mnohoč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4581360"/>
            <a:ext cx="7602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Tak a teď se podívejme na jejich použití v praxi.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Vypočítáme si pár jednodušších rovnic.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Zkuste to sami, a pokud si nebudete vědět rady jak dál, klikněte myší a pomohu vám. Ukážu Vám další kr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6-27T12:37:43Z</dcterms:modified>
  <cp:revision>53</cp:revision>
  <dc:subject/>
  <dc:title>Ekvivalentní úpravy rovnic 1</dc:title>
</cp:coreProperties>
</file>