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8E2-29DB-4C74-98C4-AEFD6F2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09C-154B-4234-B0D4-BF1F017B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236-B898-4DB7-B938-2F693D48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79B-633E-4427-9D3B-7DAD5EB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37F-0DC7-454E-B45B-CB587E85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9FA5-523A-40CA-A7AA-88DAF4D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F38-F744-4E47-9D06-05FECBB3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60FB-32FA-4872-B7D3-D2FA03E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B2C9-D2F4-4321-B14A-689D116D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C47C-518F-44C2-AD31-2CDD561F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8CD-1EF1-4C14-9F7E-19D5D50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310-C0EA-44A1-BE08-E3C99CEB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A66-F734-4026-B83C-C77915C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1DB-F3E0-409A-921B-1A95A94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E4D9-1DB0-485A-86B7-B863055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466-646D-4C77-B495-F5C363C1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8C0-947F-4820-BF75-66EE3B8E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308-9AE4-4EEA-806E-250DB838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8D4-8342-4DB0-B6D6-30D430E3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498-2705-4FA9-B009-71501012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EA0-0C46-49A4-A43A-F50B467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F8A-656B-4823-965C-7CE90BA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350-3B9D-4AB4-AD2B-3AA376F5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933-2FBD-47DE-ADFA-B57CBA06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478-E323-40CF-84A6-D75D8A6147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91F-37BD-44DB-9B78-4D1BE45C44A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Algebraické výrazy:</a:t>
            </a:r>
            <a:br>
              <a:rPr sz="4400"/>
            </a:b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počítání s mnohočlen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Opakování před zahájením učiva 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o lomených výrazech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84c6a"/>
                </a:solidFill>
                <a:latin typeface="Trebuchet MS"/>
              </a:rPr>
              <a:t>6.) Vytýkání před závorku – rozklad na souči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134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ákladem vytýkání (rozkladu na součin) je dělení mnohočlenu jednočlen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82920" y="3125880"/>
            <a:ext cx="39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) :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38560" y="3125880"/>
            <a:ext cx="8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8300000">
            <a:off x="2305800" y="2951280"/>
            <a:ext cx="2812680" cy="281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7500000">
            <a:off x="3584520" y="2608920"/>
            <a:ext cx="1221480" cy="122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6920" y="312588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989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nohočlen dělíme jednočlenem (různým od nuly!) tak, že jím vydělíme postupně každý člen mnohočl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68520" y="2565360"/>
            <a:ext cx="11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x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14920" y="3716280"/>
            <a:ext cx="118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4x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4360" y="4638600"/>
            <a:ext cx="39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) : 2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4560" y="4638600"/>
            <a:ext cx="86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8300000">
            <a:off x="2307600" y="4464000"/>
            <a:ext cx="2812680" cy="281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7500000">
            <a:off x="3586320" y="4122360"/>
            <a:ext cx="1222200" cy="1222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37240" y="4638600"/>
            <a:ext cx="100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70320" y="4078440"/>
            <a:ext cx="11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x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: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59120" y="5229360"/>
            <a:ext cx="11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4x: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6920" y="5805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dnočlen, kterým dělíme, musí být dělitelem všech členů daného mnohočle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84c6a"/>
                </a:solidFill>
                <a:latin typeface="Trebuchet MS"/>
              </a:rPr>
              <a:t>6.) Vytýkání před závorku – rozklad na souči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134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vedeme si zkoušku jednoho z předcházejících pří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16520" y="2808360"/>
            <a:ext cx="208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= 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300000">
            <a:off x="2901960" y="2729160"/>
            <a:ext cx="2253960" cy="225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7500000">
            <a:off x="3697200" y="2332440"/>
            <a:ext cx="1222200" cy="122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280836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.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3280" y="2347920"/>
            <a:ext cx="11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x.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4360" y="3429000"/>
            <a:ext cx="11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-2.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4360" y="1700280"/>
            <a:ext cx="39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) : 2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4560" y="1700280"/>
            <a:ext cx="86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7240" y="170028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718080"/>
            <a:ext cx="7993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íky komutativnímu zákonu pro násobení platí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0720" y="280836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x – 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08000" y="2205000"/>
            <a:ext cx="208764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2205000"/>
            <a:ext cx="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51360" y="2808360"/>
            <a:ext cx="208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4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5480" y="400536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.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4005360"/>
            <a:ext cx="151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x – 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03920" y="4006800"/>
            <a:ext cx="100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4006800"/>
            <a:ext cx="151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. (x – 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581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tedy napsat výraz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tvaru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.(x-2)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5013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íkáme, že jsme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vytkli před závorku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03560" y="5659560"/>
            <a:ext cx="4753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2x</a:t>
            </a:r>
            <a:r>
              <a:rPr b="1" lang="en-US" sz="36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 – 4x = 2x . (x –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30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84c6a"/>
                </a:solidFill>
                <a:latin typeface="Trebuchet MS"/>
              </a:rPr>
              <a:t>6.) Vytýkání před závorku – rozklad na souči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16272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2130480"/>
            <a:ext cx="280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 + 1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89240" y="2692440"/>
            <a:ext cx="757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itelem všech členů je číslo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vytýkat budeme číslo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3065400"/>
            <a:ext cx="374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 + 12) : 2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14920" y="3067200"/>
            <a:ext cx="374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2x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2130480"/>
            <a:ext cx="424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 . (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2x +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75400" y="2476440"/>
            <a:ext cx="2317680" cy="936720"/>
          </a:xfrm>
          <a:custGeom>
            <a:avLst/>
            <a:gdLst/>
            <a:ahLst/>
            <a:rect l="l" t="t" r="r" b="b"/>
            <a:pathLst>
              <a:path w="1415" h="635">
                <a:moveTo>
                  <a:pt x="46" y="635"/>
                </a:moveTo>
                <a:cubicBezTo>
                  <a:pt x="730" y="529"/>
                  <a:pt x="1415" y="423"/>
                  <a:pt x="1407" y="317"/>
                </a:cubicBezTo>
                <a:cubicBezTo>
                  <a:pt x="1399" y="211"/>
                  <a:pt x="227" y="53"/>
                  <a:pt x="0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3860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 č.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4363920"/>
            <a:ext cx="302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6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3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+ 12x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89240" y="4925880"/>
            <a:ext cx="757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itelem všech členů je člen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, vytýkat budeme člen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x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5299200"/>
            <a:ext cx="453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6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3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+ 12x ) : 3x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64000" y="5300640"/>
            <a:ext cx="3745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10200" y="4363920"/>
            <a:ext cx="424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3x . 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x +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4710240"/>
            <a:ext cx="1656000" cy="936360"/>
          </a:xfrm>
          <a:custGeom>
            <a:avLst/>
            <a:gdLst/>
            <a:ahLst/>
            <a:rect l="l" t="t" r="r" b="b"/>
            <a:pathLst>
              <a:path w="1415" h="635">
                <a:moveTo>
                  <a:pt x="46" y="635"/>
                </a:moveTo>
                <a:cubicBezTo>
                  <a:pt x="730" y="529"/>
                  <a:pt x="1415" y="423"/>
                  <a:pt x="1407" y="317"/>
                </a:cubicBezTo>
                <a:cubicBezTo>
                  <a:pt x="1399" y="211"/>
                  <a:pt x="227" y="53"/>
                  <a:pt x="0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7.) Úprava na součin pomocí vzorc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16272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 č. 1: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(a +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+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2130480"/>
            <a:ext cx="2065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 + 3)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98920" y="2130480"/>
            <a:ext cx="360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)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+ 2.2x.3 + 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26120" y="2133720"/>
            <a:ext cx="28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4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+ 12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32115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 č. 2: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(a - b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- 2ab +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3714840"/>
            <a:ext cx="20656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 - 3)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98920" y="3714840"/>
            <a:ext cx="360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)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- 2.2x.3 + 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26040" y="3718080"/>
            <a:ext cx="2810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4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- 12x +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479592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 č. 3: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-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= (a + b).(a –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79640" y="5295960"/>
            <a:ext cx="2065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4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- 9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5295960"/>
            <a:ext cx="360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 + 3).(2x –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558792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(2x)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44800" y="5573880"/>
            <a:ext cx="72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268360" y="5805360"/>
            <a:ext cx="1727280" cy="648000"/>
            <a:chOff x="2268360" y="5805360"/>
            <a:chExt cx="1727280" cy="648000"/>
          </a:xfrm>
        </p:grpSpPr>
        <p:sp>
          <p:nvSpPr>
            <p:cNvPr id="321" name=""/>
            <p:cNvSpPr/>
            <p:nvPr/>
          </p:nvSpPr>
          <p:spPr>
            <a:xfrm>
              <a:off x="2268360" y="5805360"/>
              <a:ext cx="1727280" cy="613080"/>
            </a:xfrm>
            <a:custGeom>
              <a:avLst/>
              <a:gdLst/>
              <a:ahLst/>
              <a:rect l="l" t="t" r="r" b="b"/>
              <a:pathLst>
                <a:path w="1088" h="386">
                  <a:moveTo>
                    <a:pt x="0" y="136"/>
                  </a:moveTo>
                  <a:cubicBezTo>
                    <a:pt x="272" y="261"/>
                    <a:pt x="544" y="386"/>
                    <a:pt x="725" y="363"/>
                  </a:cubicBezTo>
                  <a:cubicBezTo>
                    <a:pt x="906" y="340"/>
                    <a:pt x="997" y="170"/>
                    <a:pt x="108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74840" y="6076800"/>
              <a:ext cx="33192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rebuchet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060720" y="5805360"/>
            <a:ext cx="1655640" cy="648000"/>
            <a:chOff x="3060720" y="5805360"/>
            <a:chExt cx="1655640" cy="648000"/>
          </a:xfrm>
        </p:grpSpPr>
        <p:sp>
          <p:nvSpPr>
            <p:cNvPr id="324" name=""/>
            <p:cNvSpPr/>
            <p:nvPr/>
          </p:nvSpPr>
          <p:spPr>
            <a:xfrm>
              <a:off x="3060720" y="5805360"/>
              <a:ext cx="1655640" cy="613080"/>
            </a:xfrm>
            <a:custGeom>
              <a:avLst/>
              <a:gdLst/>
              <a:ahLst/>
              <a:rect l="l" t="t" r="r" b="b"/>
              <a:pathLst>
                <a:path w="1088" h="386">
                  <a:moveTo>
                    <a:pt x="0" y="136"/>
                  </a:moveTo>
                  <a:cubicBezTo>
                    <a:pt x="272" y="261"/>
                    <a:pt x="544" y="386"/>
                    <a:pt x="725" y="363"/>
                  </a:cubicBezTo>
                  <a:cubicBezTo>
                    <a:pt x="906" y="340"/>
                    <a:pt x="997" y="170"/>
                    <a:pt x="108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9400" y="6076800"/>
              <a:ext cx="3178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rebuchet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0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11280" y="765000"/>
            <a:ext cx="8208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nyní již vzhůru na výrazy lomené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32000" y="2271600"/>
                <a:ext cx="4428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556000" y="2631960"/>
                <a:ext cx="9824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427640" y="2200320"/>
                <a:ext cx="120492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148360" y="3567240"/>
                <a:ext cx="10476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877080" y="2487600"/>
                <a:ext cx="12700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059280" y="4359240"/>
                <a:ext cx="14922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372360" y="4543560"/>
                <a:ext cx="2315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900000" y="3782880"/>
                <a:ext cx="149220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Co už zná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1341360"/>
            <a:ext cx="799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opakujme si v rychlosti základní pojmy a dovednosti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060640"/>
            <a:ext cx="7993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teré? Zkusíme to nejdříve bez pomoc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708280"/>
            <a:ext cx="612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Co je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3139920"/>
            <a:ext cx="6121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Číselný výraz a algebraický výr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571920"/>
            <a:ext cx="612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.) Sčítání mnohočlen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002120"/>
            <a:ext cx="612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.) Odčítání mnohočlen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4435560"/>
            <a:ext cx="612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.) Násobení mnohočlen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4867200"/>
            <a:ext cx="6121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.) Vytýkání před závorku – rozklad na souč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5300640"/>
            <a:ext cx="6121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.) Úprava na součin pomocí vzorc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1.)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341360"/>
            <a:ext cx="799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zápisu postupu řešení všech matematických i nematematických úloh a početních operací s čísly nebo proměnnými používáme výraz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419200"/>
            <a:ext cx="741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Výrazy jsou tedy zjednodušeně řečeno zápisy početních výkon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485400">
            <a:off x="3990960" y="5417640"/>
            <a:ext cx="352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4 . 2,5 – 6 + 2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1010200">
            <a:off x="900000" y="5229360"/>
            <a:ext cx="22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x – 6 +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436572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(x + 2)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42400">
            <a:off x="5076360" y="3573360"/>
            <a:ext cx="3313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5 . (4 – 3) – 6 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21095400">
            <a:off x="6587640" y="4581000"/>
            <a:ext cx="2233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– 6y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1147600">
            <a:off x="539640" y="3933360"/>
            <a:ext cx="424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7 : (6 – 3 . 2) – 2 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2.) Číselný a algebraický výra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486080"/>
            <a:ext cx="7777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xistují dva druhy výrazů podle toho, z čeho jsou sestave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58840" y="1987560"/>
            <a:ext cx="55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) Výrazy, v nichž se vyskytují jenom čís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421000"/>
            <a:ext cx="33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Číselné výr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52360" y="436392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) Výrazy, v nichž se vyskytují proměnné, které zastupují čísla z určité množ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4651200"/>
            <a:ext cx="406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rebuchet MS"/>
              </a:rPr>
              <a:t>Algebraické výr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924280"/>
            <a:ext cx="352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7 : (6 – 3 . 2) – 2 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73720" y="3211560"/>
            <a:ext cx="3014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5 . (4 – 3) – 6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0" y="3643200"/>
            <a:ext cx="42195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4 . 2,5 – 6 + 2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5589720"/>
            <a:ext cx="223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x – 6 + 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7480" y="5300640"/>
            <a:ext cx="216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(x + 2)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5659560"/>
            <a:ext cx="223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– 6y +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3.) Sčítání mnohočle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86080"/>
            <a:ext cx="7777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čítat můžeme jen stejné členy se stejnou proměnnou a se stejným mocnite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2058840"/>
            <a:ext cx="360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znamená čísla jen s čís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81360"/>
            <a:ext cx="273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3 + 4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4560" y="3013200"/>
            <a:ext cx="2835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3x + 4x = 7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0120" y="2781360"/>
            <a:ext cx="313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3x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 + 4x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 = 7x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1916280"/>
            <a:ext cx="4248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měnné jen s proměn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2219400"/>
            <a:ext cx="6510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měnné na druhou jen s proměnnými na druho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2219400"/>
            <a:ext cx="8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421956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– 5) + (-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080" y="364320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81600" y="4221000"/>
            <a:ext cx="3722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– 5 – 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4x + 1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299200"/>
            <a:ext cx="2951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 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300640"/>
            <a:ext cx="237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3x – 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7515000">
            <a:off x="4482000" y="208152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7515000">
            <a:off x="5644080" y="207504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00000">
            <a:off x="5158440" y="407448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7480" y="5178600"/>
            <a:ext cx="1241640" cy="828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276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32280" y="5300640"/>
            <a:ext cx="187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7x – 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1920" y="530064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–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 + 1   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4.) Odčítání mnohočle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413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íst mnohočlen znamená přičíst mnohočlen k němu opač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89000"/>
            <a:ext cx="8066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 danému mnohočlenu utvoříme mnohočlen opačný, změníme-li znaménka všech jeho členů na opa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781360"/>
            <a:ext cx="273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2781360"/>
            <a:ext cx="31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+ 4x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4080" y="364320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141720"/>
            <a:ext cx="1008000" cy="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21956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– 5) - (-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81600" y="4221000"/>
            <a:ext cx="37227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– 5 + 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4x - 1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5299200"/>
            <a:ext cx="2951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 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300640"/>
            <a:ext cx="237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11x – 6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7515000">
            <a:off x="4482000" y="208152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515000">
            <a:off x="5644080" y="207504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300000">
            <a:off x="5158440" y="4074480"/>
            <a:ext cx="2882520" cy="28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7480" y="5178600"/>
            <a:ext cx="1241640" cy="828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2760" y="5172120"/>
            <a:ext cx="124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32280" y="5300640"/>
            <a:ext cx="1871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7x + 4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1920" y="530064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–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 - 1    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5.) Násobení mnohočle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41300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aždý člen jednoho mnohočlenu násobíme s každým členem druhého mnohočlenu a pak zjednoduší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920" y="2637000"/>
            <a:ext cx="39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(2x – 1)(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– 4x + 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75280" y="2637000"/>
            <a:ext cx="865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4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500280"/>
            <a:ext cx="360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4005360"/>
            <a:ext cx="417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(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– 5).(-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4x + 1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581360"/>
            <a:ext cx="68403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1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28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+ 10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20x - 5 =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85680" y="5229360"/>
            <a:ext cx="7618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1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3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28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10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7x + 20x - 5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5099040"/>
            <a:ext cx="2305080" cy="82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5099040"/>
            <a:ext cx="1511640" cy="828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5100480"/>
            <a:ext cx="1241280" cy="8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8300000">
            <a:off x="237240" y="2552760"/>
            <a:ext cx="2273400" cy="227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300000">
            <a:off x="-100800" y="2318040"/>
            <a:ext cx="3863880" cy="38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300000">
            <a:off x="-351000" y="2110680"/>
            <a:ext cx="5022360" cy="502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7500000">
            <a:off x="1230840" y="2277360"/>
            <a:ext cx="1006200" cy="100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7500000">
            <a:off x="918720" y="971280"/>
            <a:ext cx="2549160" cy="25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7500000">
            <a:off x="664560" y="-8640"/>
            <a:ext cx="3727080" cy="373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00" y="654"/>
                </a:moveTo>
                <a:arcTo wR="10800" hR="10800" stAng="-4197843" swAng="4197843"/>
                <a:lnTo>
                  <a:pt x="10800" y="10800"/>
                </a:lnTo>
                <a:close/>
              </a:path>
              <a:path fill="none" w="21600" h="21600">
                <a:moveTo>
                  <a:pt x="14500" y="654"/>
                </a:moveTo>
                <a:arcTo wR="10800" hR="10800" stAng="-4197843" swAng="4197843"/>
              </a:path>
            </a:pathLst>
          </a:custGeom>
          <a:noFill/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9960" y="263700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8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2635200"/>
            <a:ext cx="1009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5120" y="2635200"/>
            <a:ext cx="1009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2x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21400" y="2637000"/>
            <a:ext cx="100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+ 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42200" y="2637000"/>
            <a:ext cx="79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5875200"/>
            <a:ext cx="43066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4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2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- 15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+ 27x -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5013360"/>
            <a:ext cx="648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6440" y="5013360"/>
            <a:ext cx="648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12880" y="5013360"/>
            <a:ext cx="6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68800" y="501336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501336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928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864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Název souboru: j0404155.wmf&#13;Klíčová slova: akademikové, kalkulačky, kancelářské potřeby ...&#13;Velikost souboru: 19 kB"/>
          <p:cNvPicPr/>
          <p:nvPr/>
        </p:nvPicPr>
        <p:blipFill>
          <a:blip r:embed="rId2"/>
          <a:stretch/>
        </p:blipFill>
        <p:spPr>
          <a:xfrm>
            <a:off x="7545240" y="98100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mnohočlenů - 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41300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x . 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846440"/>
            <a:ext cx="6193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ynásobím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čísla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spo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816200"/>
            <a:ext cx="142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801800"/>
            <a:ext cx="142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6440"/>
            <a:ext cx="4249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oměnné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spo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22480" y="141300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58760" y="181620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7840" y="1801800"/>
            <a:ext cx="142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38440"/>
            <a:ext cx="22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3x . (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2x)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141720"/>
            <a:ext cx="61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ynásobíme člen </a:t>
            </a:r>
            <a:r>
              <a:rPr b="1" i="1" lang="en-US" sz="2000" spc="-1" strike="noStrike">
                <a:solidFill>
                  <a:srgbClr val="3333cc"/>
                </a:solidFill>
                <a:latin typeface="Trebuchet MS"/>
              </a:rPr>
              <a:t>3x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s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vním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členem závor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8800" y="3038400"/>
            <a:ext cx="285480" cy="18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76440" y="3052800"/>
            <a:ext cx="285840" cy="1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71640" y="263844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8800" y="3095640"/>
            <a:ext cx="2854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0560" y="3141720"/>
            <a:ext cx="27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a s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ruhým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člen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84480" y="305100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68440" y="1413000"/>
            <a:ext cx="604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8240" y="2637000"/>
            <a:ext cx="863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397656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(3x - 5) . (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2x)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508640"/>
            <a:ext cx="80661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ynásobím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vní člen první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 s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rvním členem druhé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17720" y="4376880"/>
            <a:ext cx="285480" cy="1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7760" y="4376880"/>
            <a:ext cx="285840" cy="14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19560" y="397656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15920" y="443376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0200" y="4379760"/>
            <a:ext cx="2858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09960" y="397512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488304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rvní člen první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 s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ruhým členem druhé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530064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ruhý člen první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 s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vním členem druhé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1040" y="437688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41640" y="4435560"/>
            <a:ext cx="285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573408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rebuchet MS"/>
              </a:rPr>
              <a:t>druhý člen první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 s </a:t>
            </a:r>
            <a:r>
              <a:rPr b="1" lang="en-US" sz="2000" spc="-1" strike="noStrike">
                <a:solidFill>
                  <a:srgbClr val="d60093"/>
                </a:solidFill>
                <a:latin typeface="Trebuchet MS"/>
              </a:rPr>
              <a:t>druhým členem druhé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závor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4437000"/>
            <a:ext cx="285840" cy="180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4438800"/>
            <a:ext cx="285840" cy="144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43560" y="39765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20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92720" y="39765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1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397656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2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1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Název souboru: j0397526.wmf&#13;Klíčová slova: akademikové, chlapci, čísla ...&#13;Velikost souboru: 19 kB"/>
          <p:cNvPicPr/>
          <p:nvPr/>
        </p:nvPicPr>
        <p:blipFill>
          <a:blip r:embed="rId2"/>
          <a:stretch/>
        </p:blipFill>
        <p:spPr>
          <a:xfrm>
            <a:off x="7236000" y="1195560"/>
            <a:ext cx="1657080" cy="165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mnohočlenů - 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98560" y="263844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(3x - 5) . (4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– 2x + 1)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8560" y="364320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Vynásobíme první člen první závorky s prvním členem druh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263844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41680" y="2637000"/>
            <a:ext cx="863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8560" y="401796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rvní člen první závorky s druhým členem druhé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98560" y="483876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druhý člen první závorky s prvním členem druhé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98560" y="524340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druhý člen první závorky s druhým členem druhé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63844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3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67480" y="263844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20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13992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= 12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3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26x</a:t>
            </a:r>
            <a:r>
              <a:rPr b="1" lang="en-US" sz="2000" spc="-1" strike="noStrike" baseline="30000">
                <a:solidFill>
                  <a:srgbClr val="3333cc"/>
                </a:solidFill>
                <a:latin typeface="Trebuchet MS"/>
              </a:rPr>
              <a:t>2 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13x -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2724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4168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8560" y="443556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první člen první závorky s třetím členem druhé závor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2120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8924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22560" y="2639880"/>
            <a:ext cx="528480" cy="528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4168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2637000"/>
            <a:ext cx="10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+ 10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98560" y="5645160"/>
            <a:ext cx="806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druhý člen první závorky s třetím členem druhé závor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0560" y="2637000"/>
            <a:ext cx="528480" cy="528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2637000"/>
            <a:ext cx="100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- 5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04T10:49:46Z</dcterms:modified>
  <cp:revision>101</cp:revision>
  <dc:subject/>
  <dc:title>Opakování před zahájením učiva o lomených výrazech</dc:title>
</cp:coreProperties>
</file>