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4E13-70C7-4602-AF20-7F2CD9A3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077F-C443-49D5-AD02-137F3D32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0CCB-BEDF-4B1A-A254-4F8ABF02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2E1A-8BD3-4AC5-A336-C89D1698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4C20-9851-45FB-BEA0-45D5BAB7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D6CD-F6E5-4EDA-8813-5D9A0220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01E7-44D7-43B7-9476-B207AD82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A99A-4162-4123-AD88-839CE0D3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89AD-D5DD-4E65-AFB6-E8EAAD26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01BA-DF22-4027-B937-D313C682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2F9F-C2EF-4752-BA16-78E90F76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6674-F764-4679-88D1-10E2AB2C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E4BE-35FA-4AAB-A4EA-E1C25C65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5EDE-048C-4EB2-9361-7FE38C93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671A-58F5-4F73-97DF-FFF8597C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A28E-6887-47AD-A138-05969638F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75F4-5E11-48F5-A7AD-DB2639309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22A6-A200-4601-AE2B-B37B5D69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AB20-EB6F-4734-971F-0330D5B9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FC03-04A0-4988-819C-C7831D72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4F69-63DC-4530-B822-2AF70E3A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F037-1F0E-4E18-9402-23392935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6C7B-9AE1-4D7D-88C8-00E3A79A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AA66-5B8A-4558-B128-2FF62D7A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9B96-42EC-4249-8BD6-BC57C12E528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30E4-857B-4D89-A982-66746488DCB6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Algebraické výrazy:</a:t>
            </a:r>
            <a:br>
              <a:rPr sz="4400"/>
            </a:b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lomené výrazy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860640"/>
            <a:ext cx="80773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Podmínky řešitelnosti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Určení podmínek, pro které má výraz smysl.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11280" y="260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Kdy má lomený výraz smys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1125360"/>
            <a:ext cx="8280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dyž se jmenovatel nerovná nule. Určujeme tedy, čemu se nesmí rovnat proměnná ve jmenovatel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154160" y="1836720"/>
                <a:ext cx="140184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971640" y="5229360"/>
            <a:ext cx="792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Výraz má smysl, když se x ≠ y, x ≠ -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08000" y="2781360"/>
            <a:ext cx="2289240" cy="541440"/>
          </a:xfrm>
          <a:custGeom>
            <a:avLst/>
            <a:gdLst/>
            <a:ahLst/>
            <a:rect l="l" t="t" r="r" b="b"/>
            <a:pathLst>
              <a:path w="545" h="341">
                <a:moveTo>
                  <a:pt x="0" y="137"/>
                </a:moveTo>
                <a:cubicBezTo>
                  <a:pt x="68" y="239"/>
                  <a:pt x="136" y="341"/>
                  <a:pt x="227" y="318"/>
                </a:cubicBezTo>
                <a:cubicBezTo>
                  <a:pt x="318" y="295"/>
                  <a:pt x="431" y="147"/>
                  <a:pt x="545" y="0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427640" y="2276640"/>
                <a:ext cx="19065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427640" y="2908440"/>
                <a:ext cx="31255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449600" y="3933720"/>
                <a:ext cx="15624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971640" y="5803920"/>
            <a:ext cx="792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To znamená, kdyby například y = 5, x ≠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±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5, nebo y = -2, x ≠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±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2,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6920" y="3284640"/>
            <a:ext cx="3600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Součin dvou výrazů není roven nule, pokud ani jeden z výrazů není roven n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877080" y="3914640"/>
                <a:ext cx="15620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049720" y="4522680"/>
                <a:ext cx="1251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7486560" y="4503600"/>
                <a:ext cx="1032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5003640" y="3357720"/>
            <a:ext cx="216000" cy="647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72360" y="3357720"/>
            <a:ext cx="1152360" cy="647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51640" y="1557360"/>
            <a:ext cx="2663640" cy="576360"/>
          </a:xfrm>
          <a:prstGeom prst="cloudCallout">
            <a:avLst>
              <a:gd name="adj1" fmla="val -64541"/>
              <a:gd name="adj2" fmla="val 871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zor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11280" y="260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Kdy má lomený výraz smys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1280" y="1125360"/>
            <a:ext cx="8280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dyž se jmenovatel nerovná nule. Určujeme tedy, čemu se nesmí rovnat proměnná ve jmenovatel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932040" y="1836720"/>
                <a:ext cx="184752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755640" y="566100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Výraz má smysl, když se x ≠ (2/3)y, x ≠ (-2/3)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08000" y="2781360"/>
            <a:ext cx="2289240" cy="541440"/>
          </a:xfrm>
          <a:custGeom>
            <a:avLst/>
            <a:gdLst/>
            <a:ahLst/>
            <a:rect l="l" t="t" r="r" b="b"/>
            <a:pathLst>
              <a:path w="545" h="341">
                <a:moveTo>
                  <a:pt x="0" y="137"/>
                </a:moveTo>
                <a:cubicBezTo>
                  <a:pt x="68" y="239"/>
                  <a:pt x="136" y="341"/>
                  <a:pt x="227" y="318"/>
                </a:cubicBezTo>
                <a:cubicBezTo>
                  <a:pt x="318" y="295"/>
                  <a:pt x="431" y="147"/>
                  <a:pt x="545" y="0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224240" y="2276640"/>
                <a:ext cx="23130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162320" y="2736720"/>
                <a:ext cx="39387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313160" y="3795840"/>
                <a:ext cx="196848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755640" y="6019920"/>
            <a:ext cx="828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284c6a"/>
                </a:solidFill>
                <a:latin typeface="Trebuchet MS"/>
              </a:rPr>
              <a:t>To znamená, kdyby například y = 3, x ≠ </a:t>
            </a:r>
            <a:r>
              <a:rPr b="1" lang="en-US" sz="1900" spc="-1" strike="noStrike">
                <a:solidFill>
                  <a:srgbClr val="284c6a"/>
                </a:solidFill>
                <a:latin typeface="Trebuchet MS"/>
              </a:rPr>
              <a:t>±</a:t>
            </a:r>
            <a:r>
              <a:rPr b="1" lang="cs-CZ" sz="1900" spc="-1" strike="noStrike">
                <a:solidFill>
                  <a:srgbClr val="284c6a"/>
                </a:solidFill>
                <a:latin typeface="Trebuchet MS"/>
              </a:rPr>
              <a:t>2, nebo y = -6, x ≠ </a:t>
            </a:r>
            <a:r>
              <a:rPr b="1" lang="en-US" sz="1900" spc="-1" strike="noStrike">
                <a:solidFill>
                  <a:srgbClr val="284c6a"/>
                </a:solidFill>
                <a:latin typeface="Trebuchet MS"/>
              </a:rPr>
              <a:t>±</a:t>
            </a:r>
            <a:r>
              <a:rPr b="1" lang="cs-CZ" sz="1900" spc="-1" strike="noStrike">
                <a:solidFill>
                  <a:srgbClr val="284c6a"/>
                </a:solidFill>
                <a:latin typeface="Trebuchet MS"/>
              </a:rPr>
              <a:t>4, at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5640" y="3213000"/>
            <a:ext cx="360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Součin dvou výrazů není roven nule, pokud ani jeden z výrazů není roven n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740640" y="3776760"/>
                <a:ext cx="19684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089680" y="4311720"/>
                <a:ext cx="16570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526160" y="4292640"/>
                <a:ext cx="14385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5003640" y="3141720"/>
            <a:ext cx="216000" cy="647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59640" y="3141720"/>
            <a:ext cx="1152360" cy="647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24360" y="1700280"/>
            <a:ext cx="2664000" cy="576360"/>
          </a:xfrm>
          <a:prstGeom prst="cloudCallout">
            <a:avLst>
              <a:gd name="adj1" fmla="val -68893"/>
              <a:gd name="adj2" fmla="val 725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zor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292720" y="4721400"/>
                <a:ext cx="159552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7745400" y="4702320"/>
                <a:ext cx="134460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11280" y="260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84c6a"/>
                </a:solidFill>
                <a:latin typeface="Trebuchet MS"/>
              </a:rPr>
              <a:t>Kdy má lomený výraz smys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1125360"/>
            <a:ext cx="8280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dyž se jmenovatel nerovná nule. Určujeme tedy, čemu se nesmí rovnat proměnná ve jmenovatel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820800" y="1981080"/>
                <a:ext cx="207000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755640" y="566100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rebuchet MS"/>
              </a:rPr>
              <a:t>Výraz má smysl, když se x ≠ 0, y ≠ 3, y ≠ -3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84360" y="2887560"/>
            <a:ext cx="2289240" cy="541440"/>
          </a:xfrm>
          <a:custGeom>
            <a:avLst/>
            <a:gdLst/>
            <a:ahLst/>
            <a:rect l="l" t="t" r="r" b="b"/>
            <a:pathLst>
              <a:path w="545" h="341">
                <a:moveTo>
                  <a:pt x="0" y="137"/>
                </a:moveTo>
                <a:cubicBezTo>
                  <a:pt x="68" y="239"/>
                  <a:pt x="136" y="341"/>
                  <a:pt x="227" y="318"/>
                </a:cubicBezTo>
                <a:cubicBezTo>
                  <a:pt x="318" y="295"/>
                  <a:pt x="431" y="147"/>
                  <a:pt x="545" y="0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788000" y="2505240"/>
                <a:ext cx="24541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853160" y="3429000"/>
                <a:ext cx="347796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5151600" y="4656240"/>
                <a:ext cx="14364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1476360" y="3357720"/>
            <a:ext cx="30956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Součin tří výrazů není roven nule, pokud ani jeden z výrazů není roven n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008840" y="4637160"/>
                <a:ext cx="14400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664240" y="5087880"/>
                <a:ext cx="113976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7516800" y="5068800"/>
                <a:ext cx="9288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6012000" y="3860640"/>
            <a:ext cx="0" cy="819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36000" y="3860640"/>
            <a:ext cx="649080" cy="819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229440" y="1557360"/>
            <a:ext cx="2663640" cy="576360"/>
          </a:xfrm>
          <a:prstGeom prst="cloudCallout">
            <a:avLst>
              <a:gd name="adj1" fmla="val -69009"/>
              <a:gd name="adj2" fmla="val 13594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ytýk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4859280" y="2924280"/>
                <a:ext cx="23954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9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6300720" y="1773360"/>
            <a:ext cx="2664000" cy="576000"/>
          </a:xfrm>
          <a:prstGeom prst="cloudCallout">
            <a:avLst>
              <a:gd name="adj1" fmla="val -60250"/>
              <a:gd name="adj2" fmla="val 17093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zor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3724200" y="4656240"/>
                <a:ext cx="11080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 flipH="1">
            <a:off x="4427280" y="3887640"/>
            <a:ext cx="649080" cy="765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924360" y="5076720"/>
                <a:ext cx="9270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11280" y="260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Pozor na formulaci otázk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1125360"/>
            <a:ext cx="828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Vždy si dobře a pozorně přečtěte, jak zní otázka a co se v ní od vás žád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971640" y="2421000"/>
                <a:ext cx="216036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2700360" y="4292640"/>
            <a:ext cx="590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Výraz nemá smysl pro x = 0 nebo x =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20841000">
            <a:off x="2930400" y="3022200"/>
            <a:ext cx="1789200" cy="541440"/>
          </a:xfrm>
          <a:custGeom>
            <a:avLst/>
            <a:gdLst/>
            <a:ahLst/>
            <a:rect l="l" t="t" r="r" b="b"/>
            <a:pathLst>
              <a:path w="545" h="341">
                <a:moveTo>
                  <a:pt x="0" y="137"/>
                </a:moveTo>
                <a:cubicBezTo>
                  <a:pt x="68" y="239"/>
                  <a:pt x="136" y="341"/>
                  <a:pt x="227" y="318"/>
                </a:cubicBezTo>
                <a:cubicBezTo>
                  <a:pt x="318" y="295"/>
                  <a:pt x="431" y="147"/>
                  <a:pt x="545" y="0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624560" y="2492280"/>
                <a:ext cx="19778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643280" y="2924280"/>
                <a:ext cx="220824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780000" y="3654360"/>
                <a:ext cx="10620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611280" y="1414440"/>
            <a:ext cx="828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orovnejte následující otázky ke stejnému výraz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1700280"/>
            <a:ext cx="8280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říklad č.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71640" y="1990800"/>
            <a:ext cx="65516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Určete, pro která reálná čísla x 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nemá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výraz smys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711760" y="3654360"/>
                <a:ext cx="13780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967200" y="4013280"/>
                <a:ext cx="8906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6202440" y="4025880"/>
                <a:ext cx="8906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 flipH="1">
            <a:off x="4427280" y="3284640"/>
            <a:ext cx="431640" cy="431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96000" y="3284640"/>
            <a:ext cx="360360" cy="431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4869000"/>
            <a:ext cx="8280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říklad č.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71640" y="5159520"/>
            <a:ext cx="7345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Určete, pro která reálná čísla x 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má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výraz smys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71640" y="5462640"/>
            <a:ext cx="7345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Řešení by bylo stejné, ale odpověď jin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00360" y="5877000"/>
            <a:ext cx="590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Výraz má smysl pro všechna reálná čísla kromě 0 a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500"/>
                            </p:stCondLst>
                            <p:childTnLst>
                              <p:par>
                                <p:cTn id="7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11280" y="260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A pozor i na další formulaci otázk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407960" y="2816280"/>
                <a:ext cx="8604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3494160" y="5732640"/>
            <a:ext cx="4678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Výraz se rovná nule pro x = 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06800" y="3390840"/>
            <a:ext cx="1788840" cy="398520"/>
          </a:xfrm>
          <a:custGeom>
            <a:avLst/>
            <a:gdLst/>
            <a:ahLst/>
            <a:rect l="l" t="t" r="r" b="b"/>
            <a:pathLst>
              <a:path w="545" h="341">
                <a:moveTo>
                  <a:pt x="0" y="137"/>
                </a:moveTo>
                <a:cubicBezTo>
                  <a:pt x="68" y="239"/>
                  <a:pt x="136" y="341"/>
                  <a:pt x="227" y="318"/>
                </a:cubicBezTo>
                <a:cubicBezTo>
                  <a:pt x="318" y="295"/>
                  <a:pt x="431" y="147"/>
                  <a:pt x="545" y="0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038480" y="3147840"/>
                <a:ext cx="13766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4546440" y="3645000"/>
                <a:ext cx="8892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611280" y="1197000"/>
            <a:ext cx="828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Příklad č.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71720" y="1628640"/>
            <a:ext cx="6551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Určete, pro která reálná čísla x se výraz rovná n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6000" y="2133720"/>
            <a:ext cx="763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I u takto formulované otázky samozřejmě nejdříve musíme zjistit, pro která x výraz nemá smys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16000" y="4149720"/>
            <a:ext cx="763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Jelikož jmenovatel být roven nule nemůže, bude výraz roven nule, pokud se nule bude rovnat čitat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3640" y="3141720"/>
            <a:ext cx="1212840" cy="1871640"/>
          </a:xfrm>
          <a:custGeom>
            <a:avLst/>
            <a:gdLst/>
            <a:ahLst/>
            <a:rect l="l" t="t" r="r" b="b"/>
            <a:pathLst>
              <a:path w="764" h="1043">
                <a:moveTo>
                  <a:pt x="537" y="0"/>
                </a:moveTo>
                <a:cubicBezTo>
                  <a:pt x="268" y="298"/>
                  <a:pt x="0" y="597"/>
                  <a:pt x="38" y="771"/>
                </a:cubicBezTo>
                <a:cubicBezTo>
                  <a:pt x="76" y="945"/>
                  <a:pt x="643" y="998"/>
                  <a:pt x="764" y="1043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822320" y="4869000"/>
                <a:ext cx="13766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314440" y="5311800"/>
                <a:ext cx="8892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11280" y="260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A pozor i na další formulaci otázk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332000" y="3025800"/>
                <a:ext cx="14428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4284720" y="4724280"/>
            <a:ext cx="46782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Podle posledních výpočtů by měl být výraz roven nule pro x = 0 nebo x = 2. Číslo 2 je však v rozporu s podmínkou vypočítanou v úvodu příkladu. Číslo 2 tedy řešením být nemůže, což znamená, že výraz je roven nule jen pro x = 0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21000" y="3624120"/>
            <a:ext cx="1789200" cy="398520"/>
          </a:xfrm>
          <a:custGeom>
            <a:avLst/>
            <a:gdLst/>
            <a:ahLst/>
            <a:rect l="l" t="t" r="r" b="b"/>
            <a:pathLst>
              <a:path w="545" h="341">
                <a:moveTo>
                  <a:pt x="0" y="137"/>
                </a:moveTo>
                <a:cubicBezTo>
                  <a:pt x="68" y="239"/>
                  <a:pt x="136" y="341"/>
                  <a:pt x="227" y="318"/>
                </a:cubicBezTo>
                <a:cubicBezTo>
                  <a:pt x="318" y="295"/>
                  <a:pt x="431" y="147"/>
                  <a:pt x="545" y="0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253040" y="3381480"/>
                <a:ext cx="13762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761000" y="3733920"/>
                <a:ext cx="88884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611280" y="1197000"/>
            <a:ext cx="828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Příklad č.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71720" y="1484280"/>
            <a:ext cx="6551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Určete, pro která reálná čísla x se výraz rovná n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101600" y="1844640"/>
            <a:ext cx="763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Víte proč bylo u předcházejícího příkladu uvedeno, že i u takto formulované otázky samozřejmě nejdříve musíme zjistit, pro která x výraz nemá smys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116000" y="4149720"/>
            <a:ext cx="763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Opět platí, že jelikož jmenovatel být roven nule nemůže, bude výraz roven nule, pokud se nule bude rovnat čitat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6400" y="3357720"/>
            <a:ext cx="1213200" cy="1584000"/>
          </a:xfrm>
          <a:custGeom>
            <a:avLst/>
            <a:gdLst/>
            <a:ahLst/>
            <a:rect l="l" t="t" r="r" b="b"/>
            <a:pathLst>
              <a:path w="764" h="1043">
                <a:moveTo>
                  <a:pt x="537" y="0"/>
                </a:moveTo>
                <a:cubicBezTo>
                  <a:pt x="268" y="298"/>
                  <a:pt x="0" y="597"/>
                  <a:pt x="38" y="771"/>
                </a:cubicBezTo>
                <a:cubicBezTo>
                  <a:pt x="76" y="945"/>
                  <a:pt x="643" y="998"/>
                  <a:pt x="764" y="1043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828800" y="4724280"/>
                <a:ext cx="19512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562040" y="5084640"/>
                <a:ext cx="217980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1116000" y="2651040"/>
            <a:ext cx="331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Ne? Tak si to nyní ukáže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1076400" y="5661000"/>
                <a:ext cx="8888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2647800" y="5661000"/>
                <a:ext cx="13478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3151080" y="5989680"/>
                <a:ext cx="8874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 flipH="1">
            <a:off x="1476000" y="5445000"/>
            <a:ext cx="431640" cy="289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685960" y="5445000"/>
            <a:ext cx="446040" cy="28908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500"/>
                            </p:stCondLst>
                            <p:childTnLst>
                              <p:par>
                                <p:cTn id="8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11280" y="260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Kdy má lomený výraz smys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1280" y="1052640"/>
            <a:ext cx="8280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říklady č. 1: Pro která reálná čísla nemají smysl následující výraz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4360" y="1486080"/>
            <a:ext cx="770400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826920" y="1557360"/>
                <a:ext cx="1229040" cy="41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den>
                        </m:f>
                      </m:e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eqAr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f>
                                  <m:num>
                                    <m:r>
                                      <m:t xml:space="preserve">y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</m:t>
                                    </m:r>
                                  </m:den>
                                </m:f>
                              </m:den>
                            </m:f>
                          </m:e>
                        </m:eqAr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eqAr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y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xy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y</m:t>
                                    </m:r>
                                  </m:den>
                                </m:f>
                              </m:den>
                            </m:f>
                          </m:e>
                        </m:eqAr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611280" y="5950080"/>
            <a:ext cx="8280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Příklady č. 2: Pro která reálná čísla mají předcházející výrazy smysl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Lomené výraz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123920"/>
            <a:ext cx="82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Algebraické výrazy, které jsou zapsány ve tvaru zlom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332000" y="1916280"/>
                <a:ext cx="44280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556000" y="2276640"/>
                <a:ext cx="98244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427640" y="1844640"/>
                <a:ext cx="120492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148360" y="3211560"/>
                <a:ext cx="104760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877080" y="2131920"/>
                <a:ext cx="127008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059280" y="4003560"/>
                <a:ext cx="149220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372360" y="4187880"/>
                <a:ext cx="23158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900000" y="3427560"/>
                <a:ext cx="149220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611280" y="5300640"/>
            <a:ext cx="82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Lomené výrazy jsou výrazy zapsané ve tvaru zlomku,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v jehož jmenovateli se vyskytuje proměnn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Lomené výraz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1123920"/>
            <a:ext cx="8280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S lomenými výrazy se pracuje podobně jako se zlom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1771560"/>
            <a:ext cx="8280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Víme například, že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jmenovatel žádného zlomku nesmí být roven nule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. Totéž platí i pro lomené výraz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2563920"/>
            <a:ext cx="828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roto musíme vždy vyloučit ty hodnoty jednotlivých proměnných, po jejichž dosazení by byl jmenovatel roven n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3643200"/>
            <a:ext cx="8280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Říkáme, že určujeme podmínky, pro které má lomený výraz smys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547640" y="4508640"/>
                <a:ext cx="44316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2050920" y="4651200"/>
            <a:ext cx="136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…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x ≠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508720" y="4149720"/>
                <a:ext cx="66492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6122880" y="4294080"/>
            <a:ext cx="2592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…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2x ≠ 0 </a:t>
            </a:r>
            <a:r>
              <a:rPr b="1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x ≠ 0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375000" y="5157720"/>
                <a:ext cx="98100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356000" y="5302080"/>
            <a:ext cx="3888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…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x - 2 ≠ 0 </a:t>
            </a:r>
            <a:r>
              <a:rPr b="1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 x ≠ 2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3640" y="5229360"/>
            <a:ext cx="792360" cy="552240"/>
          </a:xfrm>
          <a:custGeom>
            <a:avLst/>
            <a:gdLst/>
            <a:ahLst/>
            <a:rect l="l" t="t" r="r" b="b"/>
            <a:pathLst>
              <a:path w="499" h="348">
                <a:moveTo>
                  <a:pt x="0" y="181"/>
                </a:moveTo>
                <a:cubicBezTo>
                  <a:pt x="117" y="264"/>
                  <a:pt x="235" y="348"/>
                  <a:pt x="318" y="318"/>
                </a:cubicBezTo>
                <a:cubicBezTo>
                  <a:pt x="401" y="288"/>
                  <a:pt x="450" y="144"/>
                  <a:pt x="499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10400" y="4869000"/>
            <a:ext cx="792000" cy="552240"/>
          </a:xfrm>
          <a:custGeom>
            <a:avLst/>
            <a:gdLst/>
            <a:ahLst/>
            <a:rect l="l" t="t" r="r" b="b"/>
            <a:pathLst>
              <a:path w="499" h="348">
                <a:moveTo>
                  <a:pt x="0" y="181"/>
                </a:moveTo>
                <a:cubicBezTo>
                  <a:pt x="117" y="264"/>
                  <a:pt x="235" y="348"/>
                  <a:pt x="318" y="318"/>
                </a:cubicBezTo>
                <a:cubicBezTo>
                  <a:pt x="401" y="288"/>
                  <a:pt x="450" y="144"/>
                  <a:pt x="499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51280" y="5853240"/>
            <a:ext cx="1225440" cy="552240"/>
          </a:xfrm>
          <a:custGeom>
            <a:avLst/>
            <a:gdLst/>
            <a:ahLst/>
            <a:rect l="l" t="t" r="r" b="b"/>
            <a:pathLst>
              <a:path w="499" h="348">
                <a:moveTo>
                  <a:pt x="0" y="181"/>
                </a:moveTo>
                <a:cubicBezTo>
                  <a:pt x="117" y="264"/>
                  <a:pt x="235" y="348"/>
                  <a:pt x="318" y="318"/>
                </a:cubicBezTo>
                <a:cubicBezTo>
                  <a:pt x="401" y="288"/>
                  <a:pt x="450" y="144"/>
                  <a:pt x="499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11280" y="260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Kdy má lomený výraz smys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1050840"/>
            <a:ext cx="8280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dyž se jmenovatel nerovná nule. Určujeme tedy, čemu se nesmí rovnat proměnná ve jmenovatel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1627200"/>
            <a:ext cx="8280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Ukážeme si to ještě na dalších příklade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114560" y="2171880"/>
                <a:ext cx="1657080" cy="13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3995640" y="2793960"/>
            <a:ext cx="2970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2x - 6 ≠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18080" y="3284640"/>
            <a:ext cx="2970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2x ≠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61080" y="3787920"/>
            <a:ext cx="2970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x ≠ 6 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75120" y="4292640"/>
            <a:ext cx="2970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x ≠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87280" y="4869000"/>
            <a:ext cx="7561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Výraz má smysl, když se x ≠ 3. Výraz má tedy smysl pro všechna reálná čísla x, kromě čísla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3284640"/>
            <a:ext cx="1622520" cy="541080"/>
          </a:xfrm>
          <a:custGeom>
            <a:avLst/>
            <a:gdLst/>
            <a:ahLst/>
            <a:rect l="l" t="t" r="r" b="b"/>
            <a:pathLst>
              <a:path w="545" h="341">
                <a:moveTo>
                  <a:pt x="0" y="137"/>
                </a:moveTo>
                <a:cubicBezTo>
                  <a:pt x="68" y="239"/>
                  <a:pt x="136" y="341"/>
                  <a:pt x="227" y="318"/>
                </a:cubicBezTo>
                <a:cubicBezTo>
                  <a:pt x="318" y="295"/>
                  <a:pt x="431" y="147"/>
                  <a:pt x="545" y="0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11280" y="260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Kdy má lomený výraz smys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123920"/>
            <a:ext cx="8280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dyž se jmenovatel nerovná nule. Určujeme tedy, čemu se nesmí rovnat proměnná ve jmenovatel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476360" y="1916280"/>
                <a:ext cx="1655640" cy="12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4356000" y="2508120"/>
            <a:ext cx="31305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2x + 6 ≠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60880" y="2997360"/>
            <a:ext cx="3130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2x ≠ -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15040" y="3559320"/>
            <a:ext cx="3130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x ≠ - 6 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29080" y="4062240"/>
            <a:ext cx="31305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x ≠ -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44720" y="4726080"/>
            <a:ext cx="77752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Výraz má smysl, když se x ≠ -3. Výraz má tedy smysl pro všechna reálná čísla x, kromě čísla -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27280" y="2997360"/>
            <a:ext cx="1709640" cy="539640"/>
          </a:xfrm>
          <a:custGeom>
            <a:avLst/>
            <a:gdLst/>
            <a:ahLst/>
            <a:rect l="l" t="t" r="r" b="b"/>
            <a:pathLst>
              <a:path w="545" h="341">
                <a:moveTo>
                  <a:pt x="0" y="137"/>
                </a:moveTo>
                <a:cubicBezTo>
                  <a:pt x="68" y="239"/>
                  <a:pt x="136" y="341"/>
                  <a:pt x="227" y="318"/>
                </a:cubicBezTo>
                <a:cubicBezTo>
                  <a:pt x="318" y="295"/>
                  <a:pt x="431" y="147"/>
                  <a:pt x="545" y="0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11280" y="260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Kdy má lomený výraz smys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1125360"/>
            <a:ext cx="8280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dyž se jmenovatel nerovná nule. Určujeme tedy, čemu se nesmí rovnat proměnná ve jmenovatel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042920" y="1835280"/>
                <a:ext cx="1871640" cy="13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4500720" y="2562120"/>
            <a:ext cx="30049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x</a:t>
            </a:r>
            <a:r>
              <a:rPr b="1" lang="en-US" sz="3200" spc="-1" strike="noStrike" baseline="30000">
                <a:solidFill>
                  <a:srgbClr val="284c6a"/>
                </a:solidFill>
                <a:latin typeface="Trebuchet MS"/>
              </a:rPr>
              <a:t>2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 - 4 ≠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53040" y="3097080"/>
            <a:ext cx="3005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x</a:t>
            </a:r>
            <a:r>
              <a:rPr b="1" lang="en-US" sz="3200" spc="-1" strike="noStrike" baseline="30000">
                <a:solidFill>
                  <a:srgbClr val="284c6a"/>
                </a:solidFill>
                <a:latin typeface="Trebuchet MS"/>
              </a:rPr>
              <a:t>2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 ≠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71640" y="4797360"/>
            <a:ext cx="7921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Výraz má smysl, když x ≠ 2 a x ≠ -2. Výraz má tedy smysl pro všechna reálná čísla x, kromě čísel 2 a -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95640" y="3068640"/>
            <a:ext cx="2288880" cy="541440"/>
          </a:xfrm>
          <a:custGeom>
            <a:avLst/>
            <a:gdLst/>
            <a:ahLst/>
            <a:rect l="l" t="t" r="r" b="b"/>
            <a:pathLst>
              <a:path w="545" h="341">
                <a:moveTo>
                  <a:pt x="0" y="137"/>
                </a:moveTo>
                <a:cubicBezTo>
                  <a:pt x="68" y="239"/>
                  <a:pt x="136" y="341"/>
                  <a:pt x="227" y="318"/>
                </a:cubicBezTo>
                <a:cubicBezTo>
                  <a:pt x="318" y="295"/>
                  <a:pt x="431" y="147"/>
                  <a:pt x="545" y="0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26200" y="3643200"/>
            <a:ext cx="30049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x ≠ 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√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26200" y="4148280"/>
            <a:ext cx="30049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x ≠ 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±</a:t>
            </a:r>
            <a:r>
              <a:rPr b="1" lang="cs-CZ" sz="3200" spc="-1" strike="noStrike">
                <a:solidFill>
                  <a:srgbClr val="284c6a"/>
                </a:solidFill>
                <a:latin typeface="Trebuchet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11280" y="260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Kdy má lomený výraz smys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1123920"/>
            <a:ext cx="8280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dyž se jmenovatel nerovná nule. Určujeme tedy, čemu se nesmí rovnat proměnná ve jmenovatel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258920" y="2060640"/>
                <a:ext cx="208908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4883040" y="2995560"/>
            <a:ext cx="30736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x</a:t>
            </a:r>
            <a:r>
              <a:rPr b="1" lang="en-US" sz="3200" spc="-1" strike="noStrike" baseline="30000">
                <a:solidFill>
                  <a:srgbClr val="284c6a"/>
                </a:solidFill>
                <a:latin typeface="Trebuchet MS"/>
              </a:rPr>
              <a:t>2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 + 4 ≠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08800" y="3645000"/>
            <a:ext cx="30733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x</a:t>
            </a:r>
            <a:r>
              <a:rPr b="1" lang="en-US" sz="3200" spc="-1" strike="noStrike" baseline="30000">
                <a:solidFill>
                  <a:srgbClr val="284c6a"/>
                </a:solidFill>
                <a:latin typeface="Trebuchet MS"/>
              </a:rPr>
              <a:t>2</a:t>
            </a: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 ≠ -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4506840"/>
            <a:ext cx="79930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Výraz má smysl pro všechna reálná čísla. Nemůže nastat případ, že by druhá mocnina byla záporným čís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00360" y="3500280"/>
            <a:ext cx="2158920" cy="541440"/>
          </a:xfrm>
          <a:custGeom>
            <a:avLst/>
            <a:gdLst/>
            <a:ahLst/>
            <a:rect l="l" t="t" r="r" b="b"/>
            <a:pathLst>
              <a:path w="545" h="341">
                <a:moveTo>
                  <a:pt x="0" y="137"/>
                </a:moveTo>
                <a:cubicBezTo>
                  <a:pt x="68" y="239"/>
                  <a:pt x="136" y="341"/>
                  <a:pt x="227" y="318"/>
                </a:cubicBezTo>
                <a:cubicBezTo>
                  <a:pt x="318" y="295"/>
                  <a:pt x="431" y="147"/>
                  <a:pt x="545" y="0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80360" y="3429000"/>
            <a:ext cx="6969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00"/>
                </a:solidFill>
                <a:latin typeface="Trebuchet MS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11280" y="260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Kdy má lomený výraz smys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1125360"/>
            <a:ext cx="8280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dyž se jmenovatel nerovná nule. Určujeme tedy, čemu se nesmí rovnat proměnná ve jmenovatel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017720" y="1835280"/>
                <a:ext cx="1922400" cy="13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971640" y="4869000"/>
            <a:ext cx="7921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Výraz má smysl, když se x ≠ 3/5.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Výraz má tedy smysl pro všechna reálná čísla x, kromě čísla 3/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40000" y="3068640"/>
            <a:ext cx="2289240" cy="541440"/>
          </a:xfrm>
          <a:custGeom>
            <a:avLst/>
            <a:gdLst/>
            <a:ahLst/>
            <a:rect l="l" t="t" r="r" b="b"/>
            <a:pathLst>
              <a:path w="545" h="341">
                <a:moveTo>
                  <a:pt x="0" y="137"/>
                </a:moveTo>
                <a:cubicBezTo>
                  <a:pt x="68" y="239"/>
                  <a:pt x="136" y="341"/>
                  <a:pt x="227" y="318"/>
                </a:cubicBezTo>
                <a:cubicBezTo>
                  <a:pt x="318" y="295"/>
                  <a:pt x="431" y="147"/>
                  <a:pt x="545" y="0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627440" y="2614680"/>
                <a:ext cx="23497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364000" y="3238560"/>
                <a:ext cx="16099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680080" y="3757680"/>
                <a:ext cx="1434960" cy="11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11280" y="260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Kdy má lomený výraz smys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1125360"/>
            <a:ext cx="8280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Když se jmenovatel nerovná nule. Určujeme tedy, čemu se nesmí rovnat proměnná ve jmenovatel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816120" y="1790640"/>
                <a:ext cx="232704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971640" y="5157720"/>
            <a:ext cx="792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Výraz má smysl, když se x ≠ 3/5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0000" y="3068640"/>
            <a:ext cx="2289240" cy="541440"/>
          </a:xfrm>
          <a:custGeom>
            <a:avLst/>
            <a:gdLst/>
            <a:ahLst/>
            <a:rect l="l" t="t" r="r" b="b"/>
            <a:pathLst>
              <a:path w="545" h="341">
                <a:moveTo>
                  <a:pt x="0" y="137"/>
                </a:moveTo>
                <a:cubicBezTo>
                  <a:pt x="68" y="239"/>
                  <a:pt x="136" y="341"/>
                  <a:pt x="227" y="318"/>
                </a:cubicBezTo>
                <a:cubicBezTo>
                  <a:pt x="318" y="295"/>
                  <a:pt x="431" y="147"/>
                  <a:pt x="545" y="0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710240" y="2637000"/>
                <a:ext cx="27414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810400" y="3200400"/>
                <a:ext cx="2001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086520" y="3757680"/>
                <a:ext cx="1870200" cy="11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971640" y="5803920"/>
            <a:ext cx="792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To znamená, kdyby například y = 5, x ≠ 3,  nebo y = 10, x ≠ 6,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8-08-06T08:52:43Z</dcterms:modified>
  <cp:revision>119</cp:revision>
  <dc:subject/>
  <dc:title>Lomené výrazy - podmínky, za kterých má výraz smysl</dc:title>
</cp:coreProperties>
</file>