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4C5-E731-4C9D-9707-649B0341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4A4-844C-40A2-99FB-0056F0D7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19C-3DAD-4E00-A23B-92A8764B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2BD-72AD-41E4-A634-1E38359D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C8E-EBD0-4FAC-91AC-3FBA920D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5F39-03AF-404A-AEE0-E9CEE15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A44E-97F7-4BA2-85C8-718340AC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7A4E-05F0-485A-88FD-4E78D942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66EE-16AF-4640-8FB0-8CCA6033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5ACB-0C62-4724-ABF7-4901F142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DCA7-88E4-47F3-8836-3FDBBCA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389-020E-4EE5-84ED-95100B39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E860-C7D9-4572-A202-F4AFF6E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2554-F8D8-483D-9EB7-4248D79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668F-FAED-4CC8-86D4-E0CA43C6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23C7-E55E-447C-8691-78E7A1AC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7822-766F-4CB5-A3C8-67C5F1CB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672-64E7-48F1-99E8-E3274F3E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E56-C684-4A8F-BD4D-63BA3AE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B6E-3517-4F6A-8E85-E57A58F8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801-87EA-4A0E-9C26-00883A04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F95-8885-43AF-A0E1-BC34F2D7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CE3-7B48-4698-A6BF-6724CD77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991-CB4F-4FFA-974E-2B4C2311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DCF1-C632-45ED-8F68-3CC6B97BC1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F105-55C7-4FB8-ADAB-CDCABF5F28C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Úpravy algebraických výrazů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Druhy algebraických výraz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čný výraz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pří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1413000"/>
            <a:ext cx="785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Urči, zda se jedná o dvojice opačných výraz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35280" y="216216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3240" y="216072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61160" y="216072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2440" y="256536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-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99120" y="256392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2 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61160" y="256392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99880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41680" y="2997360"/>
            <a:ext cx="1209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x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61160" y="2997360"/>
            <a:ext cx="120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63640" y="343044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-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86320" y="342900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61160" y="342900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06400" y="386244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x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86400" y="386064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61160" y="386064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92160" y="4294080"/>
            <a:ext cx="10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: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14760" y="429264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x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61160" y="429264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4200" y="4799160"/>
            <a:ext cx="2449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+ 3b -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27480" y="4797360"/>
            <a:ext cx="163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 – 3b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75560" y="479736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5288040"/>
            <a:ext cx="24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(4 –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00560" y="5286240"/>
            <a:ext cx="163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(4 –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18400" y="5286240"/>
            <a:ext cx="120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734080"/>
            <a:ext cx="24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u – 3uv -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95840" y="5732640"/>
            <a:ext cx="2863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4u + 3uv +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18400" y="5732640"/>
            <a:ext cx="12096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Celistv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42920" y="1413000"/>
            <a:ext cx="785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ýraz, který neobsahuje neznámou ve jmenovat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700360" y="2276640"/>
                <a:ext cx="81612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780000" y="3068640"/>
                <a:ext cx="1039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148360" y="2133720"/>
                <a:ext cx="11127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227640" y="3284640"/>
                <a:ext cx="1855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356000" y="4365720"/>
                <a:ext cx="8161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443640" y="5013360"/>
                <a:ext cx="1089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900000" y="3716280"/>
                <a:ext cx="18558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5084640"/>
                <a:ext cx="1039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 flipV="1">
            <a:off x="900000" y="3715920"/>
            <a:ext cx="187164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183200" y="4408200"/>
            <a:ext cx="107928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416640" y="5086080"/>
            <a:ext cx="1079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794040" y="3098520"/>
            <a:ext cx="1079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56080" y="3487680"/>
            <a:ext cx="43200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20800" y="4135320"/>
            <a:ext cx="43200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27560" y="4797360"/>
            <a:ext cx="43164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59560" y="5430960"/>
            <a:ext cx="43164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50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omen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2920" y="1413000"/>
            <a:ext cx="785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ýraz, který obsahuje neznámou ve jmenovat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411280" y="2360520"/>
                <a:ext cx="1105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780000" y="3068640"/>
                <a:ext cx="1039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124600" y="2133720"/>
                <a:ext cx="1162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227640" y="3259080"/>
                <a:ext cx="1855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170240" y="4365720"/>
                <a:ext cx="1187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431040" y="5013360"/>
                <a:ext cx="1114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789120" y="3740040"/>
                <a:ext cx="2077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009880" y="5084640"/>
                <a:ext cx="14112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 flipV="1">
            <a:off x="900000" y="3715920"/>
            <a:ext cx="187164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83200" y="4408200"/>
            <a:ext cx="107928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416640" y="5086080"/>
            <a:ext cx="1079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794040" y="3098520"/>
            <a:ext cx="1079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apamatuj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42920" y="127008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lgebraický výraz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e předpis jedné či více početní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1844640"/>
            <a:ext cx="7561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íselný výraz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e předpis jedné či více početních operací pouze s čí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2968560"/>
            <a:ext cx="7561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ýraz s proměnnou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e předpis jedné či více početních operací obsahující proměnnou nebo proměnné, tedy znaky, které označují libovolné číslo z určité množiny, kterou nazýváme obor proměnné nebo definiční obor výra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221000"/>
            <a:ext cx="785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Opačný výraz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e výraz, ve kterém znaménka + a – změníme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 opa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5013360"/>
            <a:ext cx="785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Celistvý výraz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e výraz, který neobsahuje neznámou ve jmen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57320" y="5819760"/>
            <a:ext cx="785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Lomený výraz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e výraz, který obsahuje neznámou ve jmenova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0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1557360"/>
            <a:ext cx="806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íme už, co je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lgebraický výraz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a že základními druhy výrazů js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21337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3080" y="364500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Číselný vý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1989000"/>
            <a:ext cx="3024360" cy="13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343320"/>
            <a:ext cx="30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Výraz s proměn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5300640"/>
            <a:ext cx="770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opakujme si tedy nejdříve na konkrétních příkladech, čemu říkáme algebraický výraz a v čem spočívá rozdíl mezi výrazem číselným a výrazem s proměn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27200" y="4078440"/>
            <a:ext cx="1871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4 . (3 – 12 :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57880" y="379080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4 . (3 – x :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lgebraický výraz je předpis jedné či více početní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51640" y="2852640"/>
            <a:ext cx="11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4720" y="5013360"/>
            <a:ext cx="14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7 -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53020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5 -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4005360"/>
            <a:ext cx="194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8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651640" y="4510080"/>
            <a:ext cx="734760" cy="892080"/>
            <a:chOff x="5651640" y="4510080"/>
            <a:chExt cx="734760" cy="892080"/>
          </a:xfrm>
        </p:grpSpPr>
        <p:sp>
          <p:nvSpPr>
            <p:cNvPr id="102" name=""/>
            <p:cNvSpPr/>
            <p:nvPr/>
          </p:nvSpPr>
          <p:spPr>
            <a:xfrm>
              <a:off x="5722920" y="4510080"/>
              <a:ext cx="432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51640" y="4538520"/>
              <a:ext cx="64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320" y="4825800"/>
              <a:ext cx="64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843280" y="4221000"/>
            <a:ext cx="1023840" cy="892440"/>
            <a:chOff x="2843280" y="4221000"/>
            <a:chExt cx="1023840" cy="892440"/>
          </a:xfrm>
        </p:grpSpPr>
        <p:sp>
          <p:nvSpPr>
            <p:cNvPr id="106" name=""/>
            <p:cNvSpPr/>
            <p:nvPr/>
          </p:nvSpPr>
          <p:spPr>
            <a:xfrm>
              <a:off x="3203640" y="4221000"/>
              <a:ext cx="432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32360" y="4249800"/>
              <a:ext cx="649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18040" y="4537080"/>
              <a:ext cx="64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3280" y="4321080"/>
              <a:ext cx="649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x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12000" y="328464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– 4.7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42900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(x + x: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51577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x – 4 =  x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285264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5 – 4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386064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x - 2).(7 + x: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407664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x – 4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285264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+ 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479736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357336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y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451640" y="2923920"/>
            <a:ext cx="3603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301760" y="4897440"/>
            <a:ext cx="360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03640" y="3644640"/>
            <a:ext cx="71892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77080" y="4147920"/>
            <a:ext cx="115092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48000" y="5157360"/>
            <a:ext cx="180036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162864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tím známe dokonale čtyři početní operace: sčítání, odčítání, násobení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dělení, ale jistě jste již slyšeli i o dalších dvou, které brzy blíže poznáme,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to umocňování a odmocň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234936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ddělte v následující sérii příkladů ty, které představují algebraický výraz, od těch, které výrazem nejs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3789360"/>
            <a:ext cx="2087640" cy="1224000"/>
          </a:xfrm>
          <a:prstGeom prst="cloudCallout">
            <a:avLst>
              <a:gd name="adj1" fmla="val 29773"/>
              <a:gd name="adj2" fmla="val -86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početní oper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3213000"/>
            <a:ext cx="2087640" cy="1224000"/>
          </a:xfrm>
          <a:prstGeom prst="cloudCallout">
            <a:avLst>
              <a:gd name="adj1" fmla="val -34638"/>
              <a:gd name="adj2" fmla="val 894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početní oper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3357720"/>
            <a:ext cx="2374560" cy="1366560"/>
          </a:xfrm>
          <a:prstGeom prst="cloudCallout">
            <a:avLst>
              <a:gd name="adj1" fmla="val -28944"/>
              <a:gd name="adj2" fmla="val 875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de o rovnici, nikoliv samostatný vý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4941720"/>
            <a:ext cx="2374920" cy="1366920"/>
          </a:xfrm>
          <a:prstGeom prst="cloudCallout">
            <a:avLst>
              <a:gd name="adj1" fmla="val 55013"/>
              <a:gd name="adj2" fmla="val -774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de o rovnici, nikoliv samostatný vý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4653000"/>
            <a:ext cx="2519280" cy="1584360"/>
          </a:xfrm>
          <a:prstGeom prst="cloudCallout">
            <a:avLst>
              <a:gd name="adj1" fmla="val 23157"/>
              <a:gd name="adj2" fmla="val -884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de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 nerovnici, nikoliv samostatný vý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Číseln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197000"/>
            <a:ext cx="7561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Číselný výraz je předpis jedné či více početních operací pouze s čí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2852640"/>
            <a:ext cx="156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3284640"/>
            <a:ext cx="230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6:(5 -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508640"/>
            <a:ext cx="2617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.x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3284640"/>
            <a:ext cx="3095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4 + x) – (8 –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70828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.(y + 2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530064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.(a – 6).(a +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530064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4:4 – 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414972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 – 5.(4 -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27640" y="4869000"/>
            <a:ext cx="2521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6 – 4.2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91628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pět oddělte v následující sérii příkladů ty, které představují číselný výraz, od těch, které nejsou výrazem číselný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156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60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386064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 + 5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26080" y="580536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.1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4508640"/>
            <a:ext cx="1152720" cy="57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067280" y="3357360"/>
            <a:ext cx="230508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2708280"/>
            <a:ext cx="15843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76360" y="5373360"/>
            <a:ext cx="244800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877000"/>
            <a:ext cx="3095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2 + 6) – (9 –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39720" y="4178160"/>
            <a:ext cx="115092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020000" y="3860280"/>
            <a:ext cx="151272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2565360"/>
            <a:ext cx="2232360" cy="1368360"/>
          </a:xfrm>
          <a:prstGeom prst="cloudCallout">
            <a:avLst>
              <a:gd name="adj1" fmla="val -48009"/>
              <a:gd name="adj2" fmla="val 66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početní operaci, není vý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64000" y="4941720"/>
            <a:ext cx="2374920" cy="1366920"/>
          </a:xfrm>
          <a:prstGeom prst="cloudCallout">
            <a:avLst>
              <a:gd name="adj1" fmla="val 47194"/>
              <a:gd name="adj2" fmla="val -94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de o rovnost, nikoliv samostatný vý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3645000"/>
            <a:ext cx="2590560" cy="1366560"/>
          </a:xfrm>
          <a:prstGeom prst="cloudCallout">
            <a:avLst>
              <a:gd name="adj1" fmla="val -13907"/>
              <a:gd name="adj2" fmla="val -836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jen čísla, ale i znak (proměnnou)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4653000"/>
            <a:ext cx="2880000" cy="1366920"/>
          </a:xfrm>
          <a:prstGeom prst="cloudCallout">
            <a:avLst>
              <a:gd name="adj1" fmla="val 24861"/>
              <a:gd name="adj2" fmla="val -1076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jen čísla, ale i znaky (proměnné)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3716280"/>
            <a:ext cx="2592360" cy="1366920"/>
          </a:xfrm>
          <a:prstGeom prst="cloudCallout">
            <a:avLst>
              <a:gd name="adj1" fmla="val 41856"/>
              <a:gd name="adj2" fmla="val 75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jen čísla, ale i znak (proměnnou)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781360"/>
            <a:ext cx="2520720" cy="1366920"/>
          </a:xfrm>
          <a:prstGeom prst="cloudCallout">
            <a:avLst>
              <a:gd name="adj1" fmla="val -57240"/>
              <a:gd name="adj2" fmla="val 81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jen čísla, ale i znak (proměnnou)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raz s proměnn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1528920"/>
            <a:ext cx="7561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ýraz s proměnnou je předpis jedné či více početních operací obsahující proměnnou nebo proměnné, tedy znaky, které označují libovolné číslo z určité množiny, kterou nazýváme obor proměnné nebo definiční obor výra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4869000"/>
            <a:ext cx="157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5734080"/>
            <a:ext cx="230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(12 - 2)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414972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y – 4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4653000"/>
            <a:ext cx="374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(4a + 7b) – (8a – 5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26080" y="407664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.(3a + 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558972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.(4x – 6).(2 + 3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93372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.x – 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37447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– 5.(3 -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5157720"/>
            <a:ext cx="30607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 – y: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2494080"/>
            <a:ext cx="756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ak ještě jednou oddělte v následující sérii příkladů ty, které představují výraz s proměnnou, od těch, které nejsou výrazem s proměn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16360" y="321300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– 5.(x -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080" y="3213000"/>
            <a:ext cx="374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(1 + 12) – (4 –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93080" y="4869000"/>
            <a:ext cx="172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 + 5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116000" y="3357360"/>
            <a:ext cx="223200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900000" y="4149720"/>
            <a:ext cx="136836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067280" y="5876640"/>
            <a:ext cx="172692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093080" y="4869000"/>
            <a:ext cx="151128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16720" y="5876640"/>
            <a:ext cx="144000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5013360"/>
            <a:ext cx="2374920" cy="1366920"/>
          </a:xfrm>
          <a:prstGeom prst="cloudCallout">
            <a:avLst>
              <a:gd name="adj1" fmla="val -54814"/>
              <a:gd name="adj2" fmla="val -81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de o rovnici, nikoliv samostatný vý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1640" y="3213000"/>
            <a:ext cx="50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500280"/>
            <a:ext cx="431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4508640"/>
            <a:ext cx="2374920" cy="1366560"/>
          </a:xfrm>
          <a:prstGeom prst="cloudCallout">
            <a:avLst>
              <a:gd name="adj1" fmla="val 24800"/>
              <a:gd name="adj2" fmla="val -1012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proměn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4149720"/>
            <a:ext cx="2951280" cy="1798560"/>
          </a:xfrm>
          <a:prstGeom prst="cloudCallout">
            <a:avLst>
              <a:gd name="adj1" fmla="val 72055"/>
              <a:gd name="adj2" fmla="val -69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jde vůbec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 výraz, protože neobsahuje žádnou početní oper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141720"/>
            <a:ext cx="2519280" cy="1439640"/>
          </a:xfrm>
          <a:prstGeom prst="cloudCallout">
            <a:avLst>
              <a:gd name="adj1" fmla="val 31916"/>
              <a:gd name="adj2" fmla="val 6995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de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 nerovnici, nikoliv samostatný vý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11280" y="3716280"/>
            <a:ext cx="2374920" cy="1366920"/>
          </a:xfrm>
          <a:prstGeom prst="cloudCallout">
            <a:avLst>
              <a:gd name="adj1" fmla="val 52875"/>
              <a:gd name="adj2" fmla="val 109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proměn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3860640"/>
            <a:ext cx="2374920" cy="1366920"/>
          </a:xfrm>
          <a:prstGeom prst="cloudCallout">
            <a:avLst>
              <a:gd name="adj1" fmla="val 45055"/>
              <a:gd name="adj2" fmla="val 1008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obsahuje proměn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Jednočlen, mnohoč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53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ýrazy jsou tvořeny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len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5320" y="1687680"/>
            <a:ext cx="8339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leny jsou od sebe odděleny operátory početních operací sčítání nebo odčít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25320" y="2249640"/>
            <a:ext cx="7993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dle počtu členů dělíme výrazy na jednočleny a mnohočl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5320" y="2709720"/>
            <a:ext cx="851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dnočlen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e výraz tvořen jedním členem, případně znak či čís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71720" y="3070080"/>
            <a:ext cx="77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3068640"/>
            <a:ext cx="777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98920" y="3068640"/>
            <a:ext cx="77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2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93960" y="3068640"/>
            <a:ext cx="777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-9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3068640"/>
            <a:ext cx="99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-5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3068640"/>
            <a:ext cx="993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cd)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5320" y="34434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Mnohočlen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e výraz tvořen součty nebo rozdíly jednočlen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3789360"/>
            <a:ext cx="125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3789360"/>
            <a:ext cx="180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y – 2y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1680" y="3789360"/>
            <a:ext cx="149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/2 – 6a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9120" y="3789360"/>
            <a:ext cx="2289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b - 9a – 4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5446800"/>
            <a:ext cx="25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3x – 5) + (2x –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4653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hočlen se dvěma jednočleny se nazývá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dvojčlen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5013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hočlen se třemi jednočleny se nazývá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trojčlen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80000" y="5445000"/>
            <a:ext cx="374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et dvou dvojčlenů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5878440"/>
            <a:ext cx="374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3x – y + 2).(x + 2y –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5877000"/>
            <a:ext cx="31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in dvou trojčlenů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907640" y="4149360"/>
            <a:ext cx="4535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363640" y="4220640"/>
            <a:ext cx="107964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492360" y="4149720"/>
            <a:ext cx="2880000" cy="10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372360" y="4149720"/>
            <a:ext cx="504720" cy="10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91480" y="3068640"/>
            <a:ext cx="993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10400" y="3068640"/>
            <a:ext cx="99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Jednočlen, mnohočlen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53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ete počet členů výrazu a potom výraz zjednoduš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527200" y="1528920"/>
                <a:ext cx="334008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 rot="16200000">
            <a:off x="2901960" y="206064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5219640" y="17589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4039560" y="1945440"/>
            <a:ext cx="272880" cy="649440"/>
          </a:xfrm>
          <a:custGeom>
            <a:avLst/>
            <a:gdLst>
              <a:gd name="textAreaLeft" fmla="*/ 174240 w 272880"/>
              <a:gd name="textAreaRight" fmla="*/ 272880 w 2728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57600" y="265104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79720" y="2349360"/>
            <a:ext cx="86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5280" y="234936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039200" y="1629000"/>
            <a:ext cx="358920" cy="3240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89160" y="340200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 členy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rojč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403280" y="4076640"/>
                <a:ext cx="2799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,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226040" y="4276800"/>
                <a:ext cx="1942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227640" y="4278240"/>
                <a:ext cx="960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 flipV="1">
            <a:off x="1446120" y="4320720"/>
            <a:ext cx="36036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849320" y="4551480"/>
            <a:ext cx="36036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484360" y="5033880"/>
            <a:ext cx="647640" cy="45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195640" y="5589720"/>
            <a:ext cx="647640" cy="458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348000" y="5229360"/>
            <a:ext cx="647640" cy="458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2987640" y="5805360"/>
            <a:ext cx="647640" cy="459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908000" y="4854600"/>
            <a:ext cx="2305080" cy="15843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2920" y="501336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 k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4653000"/>
            <a:ext cx="21564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34040" y="501336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84c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 k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92720" y="4653000"/>
            <a:ext cx="21600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43640" y="501336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 2 k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5373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35480" y="5373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84c6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5373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 2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6516360" y="4652640"/>
            <a:ext cx="43164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Jednočlen, mnohočlen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53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jádři jako výraz obvod čtverce se strano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8160" y="146988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Dokážeš jej zapsat jako čtyřčlen i jako jednočl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1989000"/>
            <a:ext cx="756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00000" y="2151000"/>
            <a:ext cx="4178520" cy="4014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87480" y="551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6000" y="4005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4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29178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29242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04000" y="29242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72360" y="3716280"/>
            <a:ext cx="1439640" cy="1081080"/>
          </a:xfrm>
          <a:prstGeom prst="cloudCallout">
            <a:avLst>
              <a:gd name="adj1" fmla="val -51101"/>
              <a:gd name="adj2" fmla="val -88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čtyřč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6133320" y="2183400"/>
            <a:ext cx="360360" cy="2708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70560 h 2708280"/>
              <a:gd name="textAreaBottom" fmla="*/ 2637720 h 270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0360" y="3933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3640" y="4941720"/>
            <a:ext cx="1728720" cy="1081080"/>
          </a:xfrm>
          <a:prstGeom prst="cloudCallout">
            <a:avLst>
              <a:gd name="adj1" fmla="val -53398"/>
              <a:gd name="adj2" fmla="val -896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ednoč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0508 L 0.25434 -0.37804 E">
                                      <p:cBhvr>
                                        <p:cTn id="89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0416 L 0.15677 -0.15884 E">
                                      <p:cBhvr>
                                        <p:cTn id="90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22 0.03006 L 0.40417 0.07214 E">
                                      <p:cBhvr>
                                        <p:cTn id="91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0074 L 0.65764 -0.13873 E">
                                      <p:cBhvr>
                                        <p:cTn id="921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čný vý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42920" y="1413000"/>
            <a:ext cx="785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ýraz, ve kterém znaménka + a – změníme v opač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2205000"/>
            <a:ext cx="77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59280" y="2565360"/>
            <a:ext cx="77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 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43280" y="3286080"/>
            <a:ext cx="993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 5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9280" y="2925720"/>
            <a:ext cx="77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83120" y="24494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34040" y="2205000"/>
            <a:ext cx="777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83120" y="28526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4040" y="2563920"/>
            <a:ext cx="777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083120" y="32274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64280" y="2924280"/>
            <a:ext cx="1914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 a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83120" y="35719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49880" y="3298680"/>
            <a:ext cx="993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4064040"/>
            <a:ext cx="1641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47640" y="4424400"/>
            <a:ext cx="223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- 2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79480" y="5145120"/>
            <a:ext cx="290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- 5xy – x + 2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73320" y="4784760"/>
            <a:ext cx="2506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 a:2 –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83120" y="43084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4064040"/>
            <a:ext cx="228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 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83120" y="47116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32520" y="4422600"/>
            <a:ext cx="244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- 3 + 2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83120" y="50864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76800" y="4782960"/>
            <a:ext cx="1785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:2 +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083120" y="54309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62400" y="5157720"/>
            <a:ext cx="344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- 1 + 5xy + x – 2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9-19T10:24:14Z</dcterms:modified>
  <cp:revision>139</cp:revision>
  <dc:subject/>
  <dc:title>Základní druhy algebraických výrazů</dc:title>
</cp:coreProperties>
</file>