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BDF-B24B-4B4E-8D0F-84F9C296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D47-A10E-4522-B637-B95BAC2F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F00-3BFD-445E-B48D-9613D3C3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611-4B60-4BAE-B203-5D8A9394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894A-0EC3-4710-B55B-33386925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768B-465A-4381-98B5-9A2A3ADE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1C5D-FC2F-45F2-BF27-89806B98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FE04-6679-40A3-BD83-86A8F9A7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ED27-4A6D-4419-A146-3E642F0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947F-3125-4786-B237-8ADF23C3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2C39-E292-4896-818E-E1DAAD6E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497-56E8-46A4-8E8D-041ECC07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7757-1AE9-49C8-82EB-D33CCF5E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EF1E-D6F7-4B70-B545-2963AE70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D34C-C9FB-4F24-ABB3-0E17D85F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CC83-C843-415C-BB33-1112B742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9D48-BA71-461E-9DB3-56AF1CA3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FF0-63CD-49FE-BCD4-4537E4A9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B61-9091-4E62-AAEE-95823922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C17-BE53-4DFC-B2C3-A48B0F51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A06-F6D8-429A-B73A-678C5596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468-71FA-4E86-A1E1-0A704C28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61D-DD84-444F-A9B4-C453F1DB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19D-DD7E-4D2F-937D-523521EE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24C5-838F-4B51-8D11-ED969B9255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8D28-BE65-4877-AB02-159619E422E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Úpravy algebraických výrazů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Úvod – pojem algebraický výraz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raz s proměnn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1528920"/>
            <a:ext cx="7561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ísmena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vyskytující se na předcházejícím snímku ve výrazech s proměnnou anebo jakákoliv jiná písmena vystupující v jakýchkoli jiných výrazech s proměnnou nazýváme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roměnn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3186000"/>
            <a:ext cx="7561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Hovoříme pak o tom, že jsme určili hodnotu výrazu pro danou proměnnou (dané proměnn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2494080"/>
            <a:ext cx="7561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ůžeme za ni dosadit číslo a vypočítat hodnotu výra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3860640"/>
            <a:ext cx="1584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příkl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393372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.x + (5 – x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4653000"/>
            <a:ext cx="2519280" cy="1512720"/>
          </a:xfrm>
          <a:prstGeom prst="cloudCallout">
            <a:avLst>
              <a:gd name="adj1" fmla="val -66699"/>
              <a:gd name="adj2" fmla="val -59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ýraz s proměnnou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4653000"/>
            <a:ext cx="2519280" cy="1512720"/>
          </a:xfrm>
          <a:prstGeom prst="cloudCallout">
            <a:avLst>
              <a:gd name="adj1" fmla="val -66699"/>
              <a:gd name="adj2" fmla="val -59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estliže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=3, potom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933720"/>
            <a:ext cx="410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.3 + (5 – 3) = 15 + 2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00720" y="4724280"/>
            <a:ext cx="2665080" cy="1441440"/>
          </a:xfrm>
          <a:prstGeom prst="cloudCallout">
            <a:avLst>
              <a:gd name="adj1" fmla="val 67393"/>
              <a:gd name="adj2" fmla="val -689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tedy hodnota výrazu pro x=3 je 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9640" y="260280"/>
            <a:ext cx="820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5320" y="9079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2920" y="133992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46200" y="1339920"/>
            <a:ext cx="28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rojnásobek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4920" y="133992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21319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6200" y="213192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íl znaků 3 a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a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14920" y="213192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 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29224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6200" y="292248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 pět více jak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9320" y="292248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x 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42920" y="37162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6200" y="371628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vakrát méně než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9320" y="371628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y 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44720" y="4508640"/>
            <a:ext cx="1942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4508640"/>
            <a:ext cx="5027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et dvojnásobku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a čísla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164360" y="4508640"/>
            <a:ext cx="115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x +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53737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6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6200" y="5373720"/>
            <a:ext cx="509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rojnásobek rozdílu čísla 6 a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537372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.(6 –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62040" y="181296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x=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33960" y="169848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.1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76440" y="260496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a=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249084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 - 2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76440" y="3411360"/>
            <a:ext cx="3960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x=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329724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 + 5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90840" y="419112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y=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62400" y="4076640"/>
            <a:ext cx="14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2:2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4880" y="505476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x=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76800" y="4940280"/>
            <a:ext cx="342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3 + 8 = 6 + 8 =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4880" y="591984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b=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76800" y="5805360"/>
            <a:ext cx="342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.(6 – 6) = 3.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53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158580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0200" y="1585800"/>
            <a:ext cx="63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íl dvojnásobku čísla 5 a trojnásobku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53240" y="158580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5 – 3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24922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8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0200" y="2651040"/>
            <a:ext cx="769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in rozdílu čísla 4 a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a součtu dvojnásobku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a čísla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25960" y="2851200"/>
            <a:ext cx="33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4 – x).(2x +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98480" y="422100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01760" y="4379760"/>
            <a:ext cx="769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et dvojnásobku rozdílu čísla 3 a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a rozdílu čísla 2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pětinásobku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97160" y="458136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(3 – y) + (2 – 5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74840" y="20890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y=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46760" y="1974960"/>
            <a:ext cx="3297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5 – 3.2 = 10 – 6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74840" y="35434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x=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75120" y="357336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4 – 3).(2.3 + 5) = 1.(6 + 5) = = 1.11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6280" y="527040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y=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5300640"/>
            <a:ext cx="372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(3 – 1) + (2 – 5.1) = 2.2 +  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+ (2 – 5) = 4 + (-3) = 4 – 3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5320" y="112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170172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35040" y="1701720"/>
            <a:ext cx="52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lovina součtu čísla 7 a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88280" y="170172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7 + a) 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98560" y="292572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1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6200" y="2925720"/>
            <a:ext cx="567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et zna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a znaku o 3 menší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00880" y="2925720"/>
            <a:ext cx="266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x + (x – 3) = 2x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98560" y="443700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2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6200" y="4437000"/>
            <a:ext cx="4019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in výrazů 5a a 6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02320" y="4437000"/>
            <a:ext cx="208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5a . 6b = 30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62040" y="22780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a=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88000" y="216216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7 + 3):2 = 10:2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62040" y="35164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x=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5120" y="3400560"/>
            <a:ext cx="365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 + (3 – 3) = 3 + 0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73680" y="378936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3 - 3 = 6 – 3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562040" y="498492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a=2, b=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78400" y="4869000"/>
            <a:ext cx="365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5.2 . 6.1 = 10.6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76960" y="525780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0.2.1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3762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5320" y="10969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69840" y="16732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3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17840" y="1673280"/>
            <a:ext cx="610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íl výrazů 2x a 5y zmenšený o jejich souče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36880" y="2033640"/>
            <a:ext cx="620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2x – 5y) – (2x + 5y) = 2x – 5y – 2x – 5y = -10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57240" y="368784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4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04880" y="3687840"/>
            <a:ext cx="65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oučin výrazů 4u a 3v zvětšený o jejich souč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66840" y="40482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u.3v + (4u + 3v) = 12uv + 4u + 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04960" y="24652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x=3, y=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38320" y="2708280"/>
            <a:ext cx="7105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2.3 – 5.1) – (2.3 + 5.1) = (6 – 5) – (6 + 5) = 1 – 11 = 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38320" y="306864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-10.1 = 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453852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u=1, v=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38320" y="4797360"/>
            <a:ext cx="7105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.1.3.0 + (4.1 + 3.0) = 0 + (4 + 0)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38320" y="5156280"/>
            <a:ext cx="5486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2.1.0 + 4.1 + 3.0 = 0 + 4 + 0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11280" y="404640"/>
            <a:ext cx="8208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532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š jak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170028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5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62040" y="1859040"/>
            <a:ext cx="6539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íl dvojnásobku součtu znaků x a y a trojnásobku rozdílu těchto zna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4000" y="24192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(x + y) – 3.(x – y) = 2x + 2y – 3x + 3y = -x + 5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19280" y="306864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urči hodnotu výrazu pro x=5, y=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952640" y="3284640"/>
            <a:ext cx="7105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(5 + 4) – 3.(5 – 4) = 2.9 – 3.1 = 18 – 3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52640" y="3659040"/>
            <a:ext cx="3657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-5 + 5.4 = -5 + 20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1341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lgebraický výraz je předpis jedné či více početní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i, zda se jedná o algebraický výraz a zdůvodni odpově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276640"/>
            <a:ext cx="115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5440" y="2276640"/>
            <a:ext cx="1869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65440" y="2637000"/>
            <a:ext cx="4030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obsahuje početní operá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31417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7 -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7080" y="3141720"/>
            <a:ext cx="18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no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3529080"/>
            <a:ext cx="467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sahuje početní operátor. Jak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8520" y="3917880"/>
            <a:ext cx="669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-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tedy operátor početní operace odčít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458136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 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97080" y="4581360"/>
            <a:ext cx="18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no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4970520"/>
            <a:ext cx="467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sahuje početní operátor. Jak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8520" y="5386320"/>
            <a:ext cx="6694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tedy operátor početní operace sčít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341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lgebraický výraz je předpis jedné či více početní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91628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1916280"/>
            <a:ext cx="1870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no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276640"/>
            <a:ext cx="684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sahuje početní operátor, početní operaci. Jako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43044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.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7080" y="3430440"/>
            <a:ext cx="18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no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3817800"/>
            <a:ext cx="467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sahuje početní operátor. Jak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8520" y="4365720"/>
            <a:ext cx="6694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okonce dva: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zlomkovou čáru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Tedy operátory početních operací násobení a děl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501336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6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8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7080" y="5013360"/>
            <a:ext cx="18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no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402160"/>
            <a:ext cx="467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sahuje početní operátor. Jak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8520" y="5818320"/>
            <a:ext cx="6945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tedy operátor početní operace násob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3280" y="1773360"/>
            <a:ext cx="734760" cy="892080"/>
            <a:chOff x="1403280" y="1773360"/>
            <a:chExt cx="734760" cy="892080"/>
          </a:xfrm>
        </p:grpSpPr>
        <p:sp>
          <p:nvSpPr>
            <p:cNvPr id="114" name=""/>
            <p:cNvSpPr/>
            <p:nvPr/>
          </p:nvSpPr>
          <p:spPr>
            <a:xfrm>
              <a:off x="1474560" y="1773360"/>
              <a:ext cx="432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3280" y="1801800"/>
              <a:ext cx="64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8960" y="2089080"/>
              <a:ext cx="64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979640" y="2637000"/>
            <a:ext cx="71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ělení. Co je operátorem dělení v daném příklad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2997360"/>
            <a:ext cx="71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lomková čá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87440" y="3357720"/>
            <a:ext cx="1023840" cy="891720"/>
            <a:chOff x="1387440" y="3357720"/>
            <a:chExt cx="1023840" cy="891720"/>
          </a:xfrm>
        </p:grpSpPr>
        <p:sp>
          <p:nvSpPr>
            <p:cNvPr id="120" name=""/>
            <p:cNvSpPr/>
            <p:nvPr/>
          </p:nvSpPr>
          <p:spPr>
            <a:xfrm>
              <a:off x="1747800" y="3357720"/>
              <a:ext cx="432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386160"/>
              <a:ext cx="6490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62200" y="3673440"/>
              <a:ext cx="649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87440" y="3457440"/>
              <a:ext cx="649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341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Zapamatuj s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5800" y="206064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8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2781360"/>
            <a:ext cx="49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č jednou píšeme operátor násob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429000"/>
            <a:ext cx="655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 násobení píšeme jen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46040" y="5589720"/>
            <a:ext cx="6945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Pro větší přehl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422520" y="1844640"/>
            <a:ext cx="1023840" cy="891720"/>
            <a:chOff x="3422520" y="1844640"/>
            <a:chExt cx="1023840" cy="891720"/>
          </a:xfrm>
        </p:grpSpPr>
        <p:sp>
          <p:nvSpPr>
            <p:cNvPr id="131" name=""/>
            <p:cNvSpPr/>
            <p:nvPr/>
          </p:nvSpPr>
          <p:spPr>
            <a:xfrm>
              <a:off x="3782880" y="1844640"/>
              <a:ext cx="432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1600" y="1873080"/>
              <a:ext cx="6490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7280" y="2160360"/>
              <a:ext cx="649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2520" y="1944360"/>
              <a:ext cx="649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580000" y="278136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podruhé jej nepíš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195640" y="2349000"/>
            <a:ext cx="1439640" cy="57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810040" y="2492280"/>
            <a:ext cx="64764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46040" y="4005360"/>
            <a:ext cx="6971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Tam, kde je to nezbytně nutné, například při odlišení násobení zlomku celým číslem od smíšeného čís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71640" y="4653000"/>
                <a:ext cx="1297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148360" y="4653000"/>
                <a:ext cx="11523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370400" y="4797360"/>
            <a:ext cx="561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26828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dívejme se ještě na pár zápisů a určeme, zda se jedná o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184464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– 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6160" y="1844640"/>
            <a:ext cx="186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no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6160" y="2205000"/>
            <a:ext cx="474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sahuje početní operátor. Jaký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31417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8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(7 + x: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33560" y="3141720"/>
            <a:ext cx="21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no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32120" y="3529080"/>
            <a:ext cx="525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sahuje početní operátor. Jak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35360" y="3917880"/>
            <a:ext cx="611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entokrát dokonce tři. Kter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94172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x – 4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4941720"/>
            <a:ext cx="18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0200" y="5560920"/>
            <a:ext cx="61945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o je už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ovnice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neboli srovnání algebraického výrazu na jedné straně s číselnou hodnotou na straně dru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2565360"/>
            <a:ext cx="63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ět dva. Operátor odčítání a operátor násob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6520" y="4292640"/>
            <a:ext cx="6118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y násobení, sčítání a děl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19700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ještě jednou naposled společn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55736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0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+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1440" y="1557360"/>
            <a:ext cx="18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no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1440" y="1917720"/>
            <a:ext cx="474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sahuje početní operátor. Jaký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854440"/>
            <a:ext cx="194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1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2720" y="2854440"/>
            <a:ext cx="21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3241800"/>
            <a:ext cx="5257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obsahuje početní operá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3862440"/>
            <a:ext cx="19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2.)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y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82920" y="3862440"/>
            <a:ext cx="186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! Proč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95520" y="4294080"/>
            <a:ext cx="61945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o je už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rovnice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neboli srovnání hodnot zna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2278080"/>
            <a:ext cx="63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erátor sčít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5102280"/>
            <a:ext cx="3745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o je myšleno pojmem znak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5114880"/>
            <a:ext cx="2879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Číslo nebo proměn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589720"/>
            <a:ext cx="7777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podle toho, ze kterých znaků je výraz vytvořen, rozlišujeme výrazy číselné a výrazy s proměn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Číseln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1312920"/>
            <a:ext cx="7561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elný výraz je předpis jedné či více početních operací pouze s čí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2637000"/>
            <a:ext cx="1570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3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3284640"/>
            <a:ext cx="230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6:(5 -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465300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5.7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3573360"/>
            <a:ext cx="3095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4 + 7) – (8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278136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3.(3 + 2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5300640"/>
            <a:ext cx="3745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.(4 – 6).(2 +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558972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4:4 – 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1989000"/>
            <a:ext cx="3745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5 – 5.(4 -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4581360"/>
            <a:ext cx="30607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6 – 4.2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4005360"/>
            <a:ext cx="1569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6.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2205000"/>
            <a:ext cx="1008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00720" y="407664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(50 – 7.4) :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Číselný výraz a jeho hodno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1268280"/>
            <a:ext cx="756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inými slovy řečeno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Číselným výrazem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nazýváme příklad  zapsaný pomocí číse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492280"/>
            <a:ext cx="4608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1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5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23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67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146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;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3284640"/>
            <a:ext cx="2087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+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-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0" y="2565360"/>
            <a:ext cx="2519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{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(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 )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]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5280" y="1671480"/>
            <a:ext cx="331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atematických znamé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32440" y="1671480"/>
            <a:ext cx="151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ávor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627280" y="2060640"/>
            <a:ext cx="64944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788000" y="2060640"/>
            <a:ext cx="1512720" cy="151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020000" y="2060640"/>
            <a:ext cx="50616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4005360"/>
            <a:ext cx="151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příkl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3280" y="400536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.3 + (5 – 3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4653000"/>
            <a:ext cx="3529080" cy="1657440"/>
          </a:xfrm>
          <a:prstGeom prst="cloudCallout">
            <a:avLst>
              <a:gd name="adj1" fmla="val -61921"/>
              <a:gd name="adj2" fmla="val -587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elný výraz, který čteme jako 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součet součinu a rozdílu čísel 5 a 3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400536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5 + 2 =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869000"/>
            <a:ext cx="2665440" cy="1441440"/>
          </a:xfrm>
          <a:prstGeom prst="cloudCallout">
            <a:avLst>
              <a:gd name="adj1" fmla="val 76087"/>
              <a:gd name="adj2" fmla="val -74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Hodnota číselného výr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16000" y="5084640"/>
            <a:ext cx="741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ýsledek příkladu zapsaného pomocí čísel, matematických znamének a závorek nazýváme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hodnota číselného výrazu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raz s proměnn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1528920"/>
            <a:ext cx="7561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ýraz s proměnnou je předpis jedné či více početních operací obsahující proměnnou nebo proměnné, tedy znaky, které označují libovolné číslo z určité množiny, kterou nazýváme obor proměnné nebo definiční obor výra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2708280"/>
            <a:ext cx="157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x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32000" y="3284640"/>
            <a:ext cx="230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x - 2)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4724280"/>
            <a:ext cx="2617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5y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4005360"/>
            <a:ext cx="3743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4a + 7b) – (8a – 5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342900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3.(3a + 2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03280" y="5300640"/>
            <a:ext cx="3745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x.(4x – 6).(2 + 3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5734080"/>
            <a:ext cx="2617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x.x –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11640" y="2637000"/>
            <a:ext cx="3745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5 – 5.(x -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4797360"/>
            <a:ext cx="30607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x – y:2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70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8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9-26T12:31:08Z</dcterms:modified>
  <cp:revision>131</cp:revision>
  <dc:subject/>
  <dc:title>Algebraický výraz</dc:title>
</cp:coreProperties>
</file>