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2E8-61F0-44E1-8AC2-D2E95D2C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91E-4653-4DBF-9C09-81F9D28B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A21-03A5-4AA5-AA26-18334D53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4D62-6596-410A-8AE4-74BBF25F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C9BF-49E3-480C-9C53-C82B08C0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463C-1DA3-4127-A84F-9537EEE0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7F23-57FF-4DB3-8CAD-CC1DACCD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C0DA-D5CC-46E5-B291-091C1077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6F7B-3471-4A3E-B210-644CEB32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3078-EAAB-4478-A231-F228F6E8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186D-C3CF-446D-ACC8-ED00AE6B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958C-7AAE-4243-9004-F4899ADC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F71C-D024-4294-9236-AA5DB7CF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B0CB-A733-42DA-AD35-65160E8D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E019-A024-4B59-9797-4346DF16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CDC9-9A05-4CCC-880B-0F7F687B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1803-6E4D-4FA7-B8DB-127A8113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AA6-7215-4E90-95FA-BDCD0247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3093-049A-4C37-84F8-9445A1A0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9B9-FB94-4ABB-B7D9-560CC895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32C-59D8-4859-8F74-60E1FB22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BDE0-69E5-420F-8629-B1A87AF6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554D-BDDC-4A1E-BF34-327C01E5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545E-8A7B-4A27-8B0E-46025485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0621-4645-4DFC-9BBE-E37865944FCA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9100-84B1-45F5-9EA1-4F1D24018E79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284c6a"/>
                </a:solidFill>
                <a:latin typeface="Trebuchet MS"/>
              </a:rPr>
              <a:t>Užití poměru</a:t>
            </a:r>
            <a:br>
              <a:rPr sz="4400"/>
            </a:br>
            <a:r>
              <a:rPr b="1" lang="cs-CZ" sz="4400" spc="-1" strike="noStrike">
                <a:solidFill>
                  <a:srgbClr val="284c6a"/>
                </a:solidFill>
                <a:latin typeface="Trebuchet MS"/>
              </a:rPr>
              <a:t>(graficky) 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Změna (zmenšení) </a:t>
            </a:r>
            <a:br>
              <a:rPr sz="4000"/>
            </a:b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velikosti úsečky </a:t>
            </a:r>
            <a:br>
              <a:rPr sz="4000"/>
            </a:b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v daném pomě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Změna úsečky v daném poměru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116000" y="1268280"/>
            <a:ext cx="6480360" cy="4248360"/>
          </a:xfrm>
          <a:prstGeom prst="cloudCallout">
            <a:avLst>
              <a:gd name="adj1" fmla="val 44171"/>
              <a:gd name="adj2" fmla="val 291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yní se naučíme, jak se dá daná úsečka v daném poměru změnit. Změna může být dokonce dvoj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) zmen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zvětš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2" descr=""/>
          <p:cNvPicPr/>
          <p:nvPr/>
        </p:nvPicPr>
        <p:blipFill>
          <a:blip r:embed="rId1"/>
          <a:stretch/>
        </p:blipFill>
        <p:spPr>
          <a:xfrm>
            <a:off x="1044720" y="914400"/>
            <a:ext cx="7272360" cy="5408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Změna úsečky v daném poměru - zmenše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44" name="Picture 11" descr=""/>
          <p:cNvPicPr/>
          <p:nvPr/>
        </p:nvPicPr>
        <p:blipFill>
          <a:blip r:embed="rId2"/>
          <a:stretch/>
        </p:blipFill>
        <p:spPr>
          <a:xfrm>
            <a:off x="1879560" y="1730520"/>
            <a:ext cx="7396200" cy="167004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9"/>
          <p:cNvSpPr/>
          <p:nvPr/>
        </p:nvSpPr>
        <p:spPr>
          <a:xfrm>
            <a:off x="1042920" y="3860640"/>
            <a:ext cx="4105440" cy="2232360"/>
          </a:xfrm>
          <a:prstGeom prst="cloudCallout">
            <a:avLst>
              <a:gd name="adj1" fmla="val 33759"/>
              <a:gd name="adj2" fmla="val -137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Mějme dánu úsečku 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rebuchet MS"/>
              </a:rPr>
              <a:t>o velikosti 7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044720" y="914400"/>
            <a:ext cx="7272360" cy="54086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Změna úsečky v daném poměru - zmenše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1879560" y="1730520"/>
            <a:ext cx="7396200" cy="167004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6"/>
          <p:cNvSpPr/>
          <p:nvPr/>
        </p:nvSpPr>
        <p:spPr>
          <a:xfrm>
            <a:off x="971640" y="3573360"/>
            <a:ext cx="4176720" cy="2519640"/>
          </a:xfrm>
          <a:prstGeom prst="cloudCallout">
            <a:avLst>
              <a:gd name="adj1" fmla="val 34037"/>
              <a:gd name="adj2" fmla="val -116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okázali bychom určit velikost úsečky zmenšené např. v poměru 2:3? Předpokládám, že a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 že by to bylo početně. Al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dělejme t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044720" y="914400"/>
            <a:ext cx="7272360" cy="5408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Změna úsečky v daném poměru - zmenše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1879560" y="1730520"/>
            <a:ext cx="7396200" cy="167004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6"/>
          <p:cNvSpPr/>
          <p:nvPr/>
        </p:nvSpPr>
        <p:spPr>
          <a:xfrm>
            <a:off x="5286240" y="3214800"/>
            <a:ext cx="2928960" cy="2071440"/>
          </a:xfrm>
          <a:prstGeom prst="cloudCallout">
            <a:avLst>
              <a:gd name="adj1" fmla="val -9749"/>
              <a:gd name="adj2" fmla="val -1438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řadí členů v poměru určuje druh změn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 našem případě zmenšení (menší ku většímu)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611280" y="765000"/>
            <a:ext cx="74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říklad: Změňte úsečku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7 cm v poměru 2: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14240" y="3357720"/>
            <a:ext cx="741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Řešení: Úsečku zmenšujeme v poměru 2:3. Původní úsečka je tvořena třemi stejnými dílky, z nichž zmenšená úsečka obsahuje jen d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684360" y="3990960"/>
            <a:ext cx="74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očetně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900000" y="5589720"/>
            <a:ext cx="763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Výslednou (zmenšenou) úsečku nelze početně určit přesně, neboť vychází s periodou. Musíme si pomoci grafic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15"/>
              <p:cNvSpPr txBox="1"/>
              <p:nvPr/>
            </p:nvSpPr>
            <p:spPr>
              <a:xfrm>
                <a:off x="1619280" y="4292640"/>
                <a:ext cx="12254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7"/>
              <p:cNvSpPr txBox="1"/>
              <p:nvPr/>
            </p:nvSpPr>
            <p:spPr>
              <a:xfrm>
                <a:off x="2844720" y="4292640"/>
                <a:ext cx="10098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8"/>
              <p:cNvSpPr txBox="1"/>
              <p:nvPr/>
            </p:nvSpPr>
            <p:spPr>
              <a:xfrm>
                <a:off x="3843360" y="4599000"/>
                <a:ext cx="1442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: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9"/>
              <p:cNvSpPr txBox="1"/>
              <p:nvPr/>
            </p:nvSpPr>
            <p:spPr>
              <a:xfrm>
                <a:off x="5327640" y="4505400"/>
                <a:ext cx="3103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666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6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4" name="Oval 20"/>
          <p:cNvSpPr/>
          <p:nvPr/>
        </p:nvSpPr>
        <p:spPr>
          <a:xfrm>
            <a:off x="3605040" y="1628640"/>
            <a:ext cx="100080" cy="100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1"/>
          <p:cNvSpPr/>
          <p:nvPr/>
        </p:nvSpPr>
        <p:spPr>
          <a:xfrm>
            <a:off x="5278320" y="1635120"/>
            <a:ext cx="100080" cy="100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2"/>
          <p:cNvSpPr/>
          <p:nvPr/>
        </p:nvSpPr>
        <p:spPr>
          <a:xfrm rot="16200000">
            <a:off x="4269240" y="29160"/>
            <a:ext cx="433440" cy="4924440"/>
          </a:xfrm>
          <a:custGeom>
            <a:avLst/>
            <a:gdLst>
              <a:gd name="textAreaLeft" fmla="*/ 276840 w 433440"/>
              <a:gd name="textAreaRight" fmla="*/ 433800 w 433440"/>
              <a:gd name="textAreaTop" fmla="*/ 128160 h 4924440"/>
              <a:gd name="textAreaBottom" fmla="*/ 4796280 h 49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4124160" y="2535120"/>
            <a:ext cx="9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3 dí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4"/>
          <p:cNvSpPr/>
          <p:nvPr/>
        </p:nvSpPr>
        <p:spPr>
          <a:xfrm rot="16200000">
            <a:off x="3440880" y="367560"/>
            <a:ext cx="433440" cy="3270240"/>
          </a:xfrm>
          <a:custGeom>
            <a:avLst/>
            <a:gdLst>
              <a:gd name="textAreaLeft" fmla="*/ 276840 w 433440"/>
              <a:gd name="textAreaRight" fmla="*/ 433800 w 433440"/>
              <a:gd name="textAreaTop" fmla="*/ 84960 h 3270240"/>
              <a:gd name="textAreaBottom" fmla="*/ 3185280 h 327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5"/>
          <p:cNvSpPr/>
          <p:nvPr/>
        </p:nvSpPr>
        <p:spPr>
          <a:xfrm>
            <a:off x="3305160" y="2060640"/>
            <a:ext cx="1054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2 dí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3" descr=""/>
          <p:cNvPicPr/>
          <p:nvPr/>
        </p:nvPicPr>
        <p:blipFill>
          <a:blip r:embed="rId1"/>
          <a:stretch/>
        </p:blipFill>
        <p:spPr>
          <a:xfrm>
            <a:off x="1042920" y="914400"/>
            <a:ext cx="7201080" cy="535608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5"/>
          <p:cNvSpPr/>
          <p:nvPr/>
        </p:nvSpPr>
        <p:spPr>
          <a:xfrm>
            <a:off x="1042920" y="3716280"/>
            <a:ext cx="5257800" cy="2305080"/>
          </a:xfrm>
          <a:prstGeom prst="cloudCallout">
            <a:avLst>
              <a:gd name="adj1" fmla="val 14310"/>
              <a:gd name="adj2" fmla="val -1311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Základní postup při zmenšení úsečky v poměru 2:3 je tedy dle předcházejícího snímku opět podobný jako při rozdělení úsečky na tři stejné části. Tak si jej projde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4" descr=""/>
          <p:cNvPicPr/>
          <p:nvPr/>
        </p:nvPicPr>
        <p:blipFill>
          <a:blip r:embed="rId2"/>
          <a:stretch/>
        </p:blipFill>
        <p:spPr>
          <a:xfrm>
            <a:off x="1042920" y="914400"/>
            <a:ext cx="7201080" cy="535608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7"/>
          <p:cNvSpPr/>
          <p:nvPr/>
        </p:nvSpPr>
        <p:spPr>
          <a:xfrm>
            <a:off x="826920" y="4292640"/>
            <a:ext cx="2880000" cy="1800360"/>
          </a:xfrm>
          <a:prstGeom prst="cloudCallout">
            <a:avLst>
              <a:gd name="adj1" fmla="val 20398"/>
              <a:gd name="adj2" fmla="val -135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Sestrojíme polopřímk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z krajního bodu </a:t>
            </a:r>
            <a:r>
              <a:rPr b="1" i="1" lang="cs-CZ" sz="1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 pod úhlem přibližně 45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324000" y="260280"/>
            <a:ext cx="813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Změna úsečky v daném poměru - zmen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11280" y="765000"/>
            <a:ext cx="74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Příklad: Změňte úsečku 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AB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=7 cm v poměru 2: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1042920" y="914400"/>
            <a:ext cx="7201080" cy="53560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"/>
          <p:cNvSpPr/>
          <p:nvPr/>
        </p:nvSpPr>
        <p:spPr>
          <a:xfrm>
            <a:off x="324000" y="260280"/>
            <a:ext cx="813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Změna úsečky v daném poměru - zmen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714240" y="4143240"/>
            <a:ext cx="3426120" cy="2138400"/>
          </a:xfrm>
          <a:prstGeom prst="cloudCallout">
            <a:avLst>
              <a:gd name="adj1" fmla="val 16680"/>
              <a:gd name="adj2" fmla="val -1058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Na polopřímce </a:t>
            </a:r>
            <a:r>
              <a:rPr b="1" i="1" lang="cs-CZ" sz="1600" spc="-1" strike="noStrike">
                <a:solidFill>
                  <a:srgbClr val="000000"/>
                </a:solidFill>
                <a:latin typeface="Trebuchet MS"/>
              </a:rPr>
              <a:t>AY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 sestrojíme přesnou stupnici, v našem případě stačí tři stejné díl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2"/>
          <a:stretch/>
        </p:blipFill>
        <p:spPr>
          <a:xfrm>
            <a:off x="1042920" y="914400"/>
            <a:ext cx="7201080" cy="5356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"/>
          <p:cNvPicPr/>
          <p:nvPr/>
        </p:nvPicPr>
        <p:blipFill>
          <a:blip r:embed="rId3"/>
          <a:stretch/>
        </p:blipFill>
        <p:spPr>
          <a:xfrm>
            <a:off x="1042920" y="914400"/>
            <a:ext cx="7201080" cy="5356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"/>
          <p:cNvPicPr/>
          <p:nvPr/>
        </p:nvPicPr>
        <p:blipFill>
          <a:blip r:embed="rId4"/>
          <a:stretch/>
        </p:blipFill>
        <p:spPr>
          <a:xfrm>
            <a:off x="1042920" y="914400"/>
            <a:ext cx="7201080" cy="5356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7" descr=""/>
          <p:cNvPicPr/>
          <p:nvPr/>
        </p:nvPicPr>
        <p:blipFill>
          <a:blip r:embed="rId5"/>
          <a:stretch/>
        </p:blipFill>
        <p:spPr>
          <a:xfrm>
            <a:off x="1042920" y="914400"/>
            <a:ext cx="7201080" cy="5356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8" descr=""/>
          <p:cNvPicPr/>
          <p:nvPr/>
        </p:nvPicPr>
        <p:blipFill>
          <a:blip r:embed="rId6"/>
          <a:stretch/>
        </p:blipFill>
        <p:spPr>
          <a:xfrm>
            <a:off x="1042920" y="914400"/>
            <a:ext cx="7201080" cy="5356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"/>
          <p:cNvPicPr/>
          <p:nvPr/>
        </p:nvPicPr>
        <p:blipFill>
          <a:blip r:embed="rId7"/>
          <a:stretch/>
        </p:blipFill>
        <p:spPr>
          <a:xfrm>
            <a:off x="1042920" y="914400"/>
            <a:ext cx="7201080" cy="53560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611280" y="765000"/>
            <a:ext cx="74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Příklad: Změňte úsečku 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AB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=7 cm v poměru 2: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" descr=""/>
          <p:cNvPicPr/>
          <p:nvPr/>
        </p:nvPicPr>
        <p:blipFill>
          <a:blip r:embed="rId1"/>
          <a:stretch/>
        </p:blipFill>
        <p:spPr>
          <a:xfrm>
            <a:off x="1042920" y="914400"/>
            <a:ext cx="7201080" cy="53560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"/>
          <p:cNvSpPr/>
          <p:nvPr/>
        </p:nvSpPr>
        <p:spPr>
          <a:xfrm>
            <a:off x="324000" y="260280"/>
            <a:ext cx="813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Změna úsečky v daném poměru - zmen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3"/>
          <p:cNvSpPr/>
          <p:nvPr/>
        </p:nvSpPr>
        <p:spPr>
          <a:xfrm>
            <a:off x="324000" y="4579920"/>
            <a:ext cx="3311280" cy="1944720"/>
          </a:xfrm>
          <a:prstGeom prst="cloudCallout">
            <a:avLst>
              <a:gd name="adj1" fmla="val 49282"/>
              <a:gd name="adj2" fmla="val -1006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Máme tedy tři stejné dílky </a:t>
            </a:r>
            <a:r>
              <a:rPr b="1" i="1" lang="cs-CZ" sz="1600" spc="-1" strike="noStrike">
                <a:solidFill>
                  <a:srgbClr val="000000"/>
                </a:solidFill>
                <a:latin typeface="Trebuchet MS"/>
              </a:rPr>
              <a:t>AZ</a:t>
            </a:r>
            <a:r>
              <a:rPr b="1" i="1" lang="cs-CZ" sz="16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i="1" lang="cs-CZ" sz="1600" spc="-1" strike="noStrike">
                <a:solidFill>
                  <a:srgbClr val="000000"/>
                </a:solidFill>
                <a:latin typeface="Trebuchet MS"/>
              </a:rPr>
              <a:t>Z</a:t>
            </a:r>
            <a:r>
              <a:rPr b="1" i="1" lang="cs-CZ" sz="16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r>
              <a:rPr b="1" i="1" lang="cs-CZ" sz="1600" spc="-1" strike="noStrike">
                <a:solidFill>
                  <a:srgbClr val="000000"/>
                </a:solidFill>
                <a:latin typeface="Trebuchet MS"/>
              </a:rPr>
              <a:t>Z</a:t>
            </a:r>
            <a:r>
              <a:rPr b="1" i="1" lang="cs-CZ" sz="1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 a </a:t>
            </a:r>
            <a:r>
              <a:rPr b="1" i="1" lang="cs-CZ" sz="1600" spc="-1" strike="noStrike">
                <a:solidFill>
                  <a:srgbClr val="000000"/>
                </a:solidFill>
                <a:latin typeface="Trebuchet MS"/>
              </a:rPr>
              <a:t>Z</a:t>
            </a:r>
            <a:r>
              <a:rPr b="1" i="1" lang="cs-CZ" sz="1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i="1" lang="cs-CZ" sz="1600" spc="-1" strike="noStrike">
                <a:solidFill>
                  <a:srgbClr val="000000"/>
                </a:solidFill>
                <a:latin typeface="Trebuchet MS"/>
              </a:rPr>
              <a:t>Z</a:t>
            </a:r>
            <a:r>
              <a:rPr b="1" i="1" lang="cs-CZ" sz="16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. Spojíme nyní třetí z nich </a:t>
            </a:r>
            <a:r>
              <a:rPr b="1" i="1" lang="cs-CZ" sz="1600" spc="-1" strike="noStrike">
                <a:solidFill>
                  <a:srgbClr val="000000"/>
                </a:solidFill>
                <a:latin typeface="Trebuchet MS"/>
              </a:rPr>
              <a:t>Z</a:t>
            </a:r>
            <a:r>
              <a:rPr b="1" i="1" lang="cs-CZ" sz="16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s bodem </a:t>
            </a:r>
            <a:r>
              <a:rPr b="1" i="1" lang="cs-CZ" sz="1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2"/>
          <a:stretch/>
        </p:blipFill>
        <p:spPr>
          <a:xfrm>
            <a:off x="1042920" y="914400"/>
            <a:ext cx="7201080" cy="5356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2"/>
          <p:cNvSpPr/>
          <p:nvPr/>
        </p:nvSpPr>
        <p:spPr>
          <a:xfrm>
            <a:off x="611280" y="765000"/>
            <a:ext cx="74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Příklad: Změňte úsečku 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AB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=7 cm v poměru 2: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1042920" y="914400"/>
            <a:ext cx="7201080" cy="53560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324000" y="260280"/>
            <a:ext cx="813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Změna úsečky v daném poměru - zmen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5867280" y="4005360"/>
            <a:ext cx="3097440" cy="2519280"/>
          </a:xfrm>
          <a:prstGeom prst="cloudCallout">
            <a:avLst>
              <a:gd name="adj1" fmla="val -89569"/>
              <a:gd name="adj2" fmla="val -4199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Nyní sestrojíme rovnoběžk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s přímkou </a:t>
            </a:r>
            <a:r>
              <a:rPr b="1" i="1" lang="cs-CZ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 procházející druhým bodem </a:t>
            </a:r>
            <a:r>
              <a:rPr b="1" i="1" lang="cs-CZ" sz="1400" spc="-1" strike="noStrike">
                <a:solidFill>
                  <a:srgbClr val="000000"/>
                </a:solidFill>
                <a:latin typeface="Trebuchet MS"/>
              </a:rPr>
              <a:t>Z</a:t>
            </a:r>
            <a:r>
              <a:rPr b="1" i="1" lang="cs-CZ" sz="1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 (což ply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z prvního člen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oměru 2: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2"/>
          <a:stretch/>
        </p:blipFill>
        <p:spPr>
          <a:xfrm>
            <a:off x="1042920" y="914400"/>
            <a:ext cx="7201080" cy="53560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611280" y="765000"/>
            <a:ext cx="74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Příklad: Změňte úsečku 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AB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=7 cm v poměru 2: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1042920" y="914400"/>
            <a:ext cx="7201080" cy="53560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324000" y="260280"/>
            <a:ext cx="813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Změna úsečky v daném poměru - zmen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11280" y="765000"/>
            <a:ext cx="74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Příklad: Změňte úsečku 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AB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=7 cm v poměru 2: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4859280" y="3789360"/>
            <a:ext cx="3816360" cy="2735280"/>
          </a:xfrm>
          <a:prstGeom prst="cloudCallout">
            <a:avLst>
              <a:gd name="adj1" fmla="val -37064"/>
              <a:gd name="adj2" fmla="val -12179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V průsečíku rovnoběžky se zadanou úsečkou </a:t>
            </a:r>
            <a:r>
              <a:rPr b="1" i="1" lang="cs-CZ" sz="1600" spc="-1" strike="noStrike">
                <a:solidFill>
                  <a:srgbClr val="000000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 vznikl bod </a:t>
            </a:r>
            <a:r>
              <a:rPr b="1" i="1" lang="cs-CZ" sz="16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, který je koncovým bodem zmenšené úseč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v poměru 2: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Úkol byl splně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"/>
          <p:cNvPicPr/>
          <p:nvPr/>
        </p:nvPicPr>
        <p:blipFill>
          <a:blip r:embed="rId2"/>
          <a:stretch/>
        </p:blipFill>
        <p:spPr>
          <a:xfrm>
            <a:off x="1042920" y="914400"/>
            <a:ext cx="7201080" cy="5356080"/>
          </a:xfrm>
          <a:prstGeom prst="rect">
            <a:avLst/>
          </a:prstGeom>
          <a:ln w="0">
            <a:noFill/>
          </a:ln>
        </p:spPr>
      </p:pic>
      <p:sp>
        <p:nvSpPr>
          <p:cNvPr id="206" name="Line 10"/>
          <p:cNvSpPr/>
          <p:nvPr/>
        </p:nvSpPr>
        <p:spPr>
          <a:xfrm>
            <a:off x="2008080" y="1671480"/>
            <a:ext cx="324648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2" descr=""/>
          <p:cNvPicPr/>
          <p:nvPr/>
        </p:nvPicPr>
        <p:blipFill>
          <a:blip r:embed="rId1"/>
          <a:stretch/>
        </p:blipFill>
        <p:spPr>
          <a:xfrm>
            <a:off x="2879640" y="907920"/>
            <a:ext cx="5724720" cy="3409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3" descr=""/>
          <p:cNvPicPr/>
          <p:nvPr/>
        </p:nvPicPr>
        <p:blipFill>
          <a:blip r:embed="rId2"/>
          <a:stretch/>
        </p:blipFill>
        <p:spPr>
          <a:xfrm>
            <a:off x="2879640" y="907920"/>
            <a:ext cx="5724720" cy="3409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4" descr=""/>
          <p:cNvPicPr/>
          <p:nvPr/>
        </p:nvPicPr>
        <p:blipFill>
          <a:blip r:embed="rId3"/>
          <a:stretch/>
        </p:blipFill>
        <p:spPr>
          <a:xfrm>
            <a:off x="2879640" y="907920"/>
            <a:ext cx="5724720" cy="3409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5" descr=""/>
          <p:cNvPicPr/>
          <p:nvPr/>
        </p:nvPicPr>
        <p:blipFill>
          <a:blip r:embed="rId4"/>
          <a:stretch/>
        </p:blipFill>
        <p:spPr>
          <a:xfrm>
            <a:off x="2879640" y="907920"/>
            <a:ext cx="5724720" cy="3409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6" descr=""/>
          <p:cNvPicPr/>
          <p:nvPr/>
        </p:nvPicPr>
        <p:blipFill>
          <a:blip r:embed="rId5"/>
          <a:stretch/>
        </p:blipFill>
        <p:spPr>
          <a:xfrm>
            <a:off x="2879640" y="907920"/>
            <a:ext cx="5724720" cy="3409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7" descr=""/>
          <p:cNvPicPr/>
          <p:nvPr/>
        </p:nvPicPr>
        <p:blipFill>
          <a:blip r:embed="rId6"/>
          <a:stretch/>
        </p:blipFill>
        <p:spPr>
          <a:xfrm>
            <a:off x="2879640" y="907920"/>
            <a:ext cx="5724720" cy="3409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Celý postup ještě jednou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na jiném příkladu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!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: Zmenšete úsečku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=10 cm v poměru 5: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611280" y="2781360"/>
            <a:ext cx="813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1) Narýsujeme úsečku zadané velik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611280" y="3213000"/>
            <a:ext cx="813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2) U jednoho z krajních bodů úsečky sestrojíme polopřímku 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(libovolný ostrý</a:t>
            </a:r>
            <a:br>
              <a:rPr sz="1400"/>
            </a:b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      úhel, ideálně o velikosti okolo 45° - např. v bodě </a:t>
            </a:r>
            <a:r>
              <a:rPr b="1" i="1" lang="cs-CZ" sz="14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)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611280" y="3760920"/>
            <a:ext cx="813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3) Na polopřímce, pomocném rameni, si zvolíme stupnici 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(většinou </a:t>
            </a:r>
            <a:br>
              <a:rPr sz="1400"/>
            </a:b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      1 dílek = 1 cm nebo 0,5 cm)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podle kružítka či pravít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611280" y="4292640"/>
            <a:ext cx="813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4) Naneseme takový počet dílků, jako je největší číslo v poměru</a:t>
            </a:r>
            <a:br>
              <a:rPr sz="1800"/>
            </a:b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    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(v našem případě číslo 7)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11280" y="4840200"/>
            <a:ext cx="813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5) Díl, který odpovídá zadané úsečce, spojíme s druhým krajním bodem</a:t>
            </a:r>
            <a:br>
              <a:rPr sz="1800"/>
            </a:b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   úsečky 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(s bodem </a:t>
            </a:r>
            <a:r>
              <a:rPr b="1" i="1" lang="cs-CZ" sz="14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) – sedmý díl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11280" y="5388120"/>
            <a:ext cx="813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6) Podíváme se, kolik dílů má mít nová úsečka, a z tohoto dílu vedeme</a:t>
            </a:r>
            <a:br>
              <a:rPr sz="1800"/>
            </a:b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   rovnoběžku s přímkou sestrojenou v předcházejícím bodě 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– pátý díl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11280" y="5950080"/>
            <a:ext cx="813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7) Průsečík této rovnoběžky a zadané úsečky je bod, který je novým</a:t>
            </a:r>
            <a:br>
              <a:rPr sz="1800"/>
            </a:b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   krajním bodem změněné (zmenšené úsečk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menš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1763640" y="1628640"/>
            <a:ext cx="5689800" cy="3600720"/>
          </a:xfrm>
          <a:prstGeom prst="cloudCallout">
            <a:avLst>
              <a:gd name="adj1" fmla="val 54717"/>
              <a:gd name="adj2" fmla="val 426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jdříve si zopakujeme rozdělení úsečky v daném poměr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1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Zmenšení úsečky v daném poměru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: Zmenšete úsečku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=10 cm v poměru 5: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11280" y="6021360"/>
            <a:ext cx="813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1) Narýsujeme úsečku zadané velik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2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Zmenš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: Zmenšete úsečku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=10 cm v poměru 5: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611280" y="5950080"/>
            <a:ext cx="813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2) U jednoho z krajních bodů úsečky sestrojíme polopřímku 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(libovolný ostrý</a:t>
            </a:r>
            <a:br>
              <a:rPr sz="1400"/>
            </a:b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       úhel, ideálně o velikosti okolo 45° - např. v bodě </a:t>
            </a:r>
            <a:r>
              <a:rPr b="1" i="1" lang="cs-CZ" sz="14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)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"/>
          <p:cNvPicPr/>
          <p:nvPr/>
        </p:nvPicPr>
        <p:blipFill>
          <a:blip r:embed="rId2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"/>
          <p:cNvPicPr/>
          <p:nvPr/>
        </p:nvPicPr>
        <p:blipFill>
          <a:blip r:embed="rId3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Zmenš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: Zmenšete úsečku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=10 cm v poměru 5: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611280" y="5950080"/>
            <a:ext cx="813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3) Na polopřímce, pomocném rameni, si zvolíme stupnici 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(většinou </a:t>
            </a:r>
            <a:br>
              <a:rPr sz="1400"/>
            </a:b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      1 dílek = 1 cm nebo 0,5 cm)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podle kružítka či pravít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Zmenš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611280" y="5950080"/>
            <a:ext cx="813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4) Naneseme takový počet dílků, jako je největší číslo v poměru</a:t>
            </a:r>
            <a:br>
              <a:rPr sz="1800"/>
            </a:b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    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(v našem případě číslo 7)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0" descr=""/>
          <p:cNvPicPr/>
          <p:nvPr/>
        </p:nvPicPr>
        <p:blipFill>
          <a:blip r:embed="rId2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"/>
          <p:cNvPicPr/>
          <p:nvPr/>
        </p:nvPicPr>
        <p:blipFill>
          <a:blip r:embed="rId3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"/>
          <p:cNvPicPr/>
          <p:nvPr/>
        </p:nvPicPr>
        <p:blipFill>
          <a:blip r:embed="rId4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"/>
          <p:cNvPicPr/>
          <p:nvPr/>
        </p:nvPicPr>
        <p:blipFill>
          <a:blip r:embed="rId5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4" descr=""/>
          <p:cNvPicPr/>
          <p:nvPr/>
        </p:nvPicPr>
        <p:blipFill>
          <a:blip r:embed="rId6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5" descr=""/>
          <p:cNvPicPr/>
          <p:nvPr/>
        </p:nvPicPr>
        <p:blipFill>
          <a:blip r:embed="rId7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6" descr=""/>
          <p:cNvPicPr/>
          <p:nvPr/>
        </p:nvPicPr>
        <p:blipFill>
          <a:blip r:embed="rId8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7" descr=""/>
          <p:cNvPicPr/>
          <p:nvPr/>
        </p:nvPicPr>
        <p:blipFill>
          <a:blip r:embed="rId9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8" descr=""/>
          <p:cNvPicPr/>
          <p:nvPr/>
        </p:nvPicPr>
        <p:blipFill>
          <a:blip r:embed="rId10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9" descr=""/>
          <p:cNvPicPr/>
          <p:nvPr/>
        </p:nvPicPr>
        <p:blipFill>
          <a:blip r:embed="rId11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0" descr=""/>
          <p:cNvPicPr/>
          <p:nvPr/>
        </p:nvPicPr>
        <p:blipFill>
          <a:blip r:embed="rId12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1" descr=""/>
          <p:cNvPicPr/>
          <p:nvPr/>
        </p:nvPicPr>
        <p:blipFill>
          <a:blip r:embed="rId13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7"/>
          <p:cNvSpPr/>
          <p:nvPr/>
        </p:nvSpPr>
        <p:spPr>
          <a:xfrm>
            <a:off x="584280" y="706320"/>
            <a:ext cx="8164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: Zmenšete úsečku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=10 cm v poměru 5: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5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7" descr=""/>
          <p:cNvPicPr/>
          <p:nvPr/>
        </p:nvPicPr>
        <p:blipFill>
          <a:blip r:embed="rId1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Zmenš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611280" y="5929200"/>
            <a:ext cx="813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5) Díl, který odpovídá zadané úsečce, spojíme s druhým krajním bodem</a:t>
            </a:r>
            <a:br>
              <a:rPr sz="1800"/>
            </a:b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    úsečky 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(s bodem </a:t>
            </a:r>
            <a:r>
              <a:rPr b="1" i="1" lang="cs-CZ" sz="14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)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0" descr=""/>
          <p:cNvPicPr/>
          <p:nvPr/>
        </p:nvPicPr>
        <p:blipFill>
          <a:blip r:embed="rId2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8"/>
          <p:cNvSpPr/>
          <p:nvPr/>
        </p:nvSpPr>
        <p:spPr>
          <a:xfrm>
            <a:off x="584280" y="706320"/>
            <a:ext cx="8164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: Zmenšete úsečku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=10 cm v poměru 5: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Zmenš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611280" y="5950080"/>
            <a:ext cx="813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6) Podíváme se, kolik dílů má mít nová úsečka, a z tohoto dílu vedeme</a:t>
            </a:r>
            <a:br>
              <a:rPr sz="1800"/>
            </a:b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    rovnoběžku s přímkou sestrojenou v předcházejícím bo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9" descr=""/>
          <p:cNvPicPr/>
          <p:nvPr/>
        </p:nvPicPr>
        <p:blipFill>
          <a:blip r:embed="rId2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7"/>
          <p:cNvSpPr/>
          <p:nvPr/>
        </p:nvSpPr>
        <p:spPr>
          <a:xfrm>
            <a:off x="584280" y="706320"/>
            <a:ext cx="8164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: Zmenšete úsečku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=10 cm v poměru 5: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1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Zmenš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11280" y="5978520"/>
            <a:ext cx="813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7) Průsečík této rovnoběžky a zadané úsečky je bod, který je novým</a:t>
            </a:r>
            <a:br>
              <a:rPr sz="1800"/>
            </a:b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   krajním bodem změněné (zmenšené úsečk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9" descr=""/>
          <p:cNvPicPr/>
          <p:nvPr/>
        </p:nvPicPr>
        <p:blipFill>
          <a:blip r:embed="rId2"/>
          <a:stretch/>
        </p:blipFill>
        <p:spPr>
          <a:xfrm>
            <a:off x="684360" y="901800"/>
            <a:ext cx="7902360" cy="47070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7"/>
          <p:cNvSpPr/>
          <p:nvPr/>
        </p:nvSpPr>
        <p:spPr>
          <a:xfrm>
            <a:off x="584280" y="706320"/>
            <a:ext cx="8164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: Zmenšete úsečku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=10 cm v poměru 5: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1303200" y="1657440"/>
            <a:ext cx="471492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2637000"/>
            <a:ext cx="8136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ak a teď již přeji přesnou ruku při řešení následujících příkladů!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 č. 1: Zmenšete úsečku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=7 cm v poměru 3: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 č. 2: Zmenšete úsečku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XY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=100 mm v poměru 5: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8" descr=""/>
          <p:cNvPicPr/>
          <p:nvPr/>
        </p:nvPicPr>
        <p:blipFill>
          <a:blip r:embed="rId1"/>
          <a:stretch/>
        </p:blipFill>
        <p:spPr>
          <a:xfrm>
            <a:off x="684360" y="1069920"/>
            <a:ext cx="7848360" cy="495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Rozděl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: Rozdělte úsečku AB v poměru 2: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611280" y="6021360"/>
            <a:ext cx="813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1) Narýsujeme úsečku zadané velik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 č. 3: Změňte úsečku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OP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=9 cm v poměru 3: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684360" y="1069920"/>
            <a:ext cx="7848360" cy="4951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Rozděl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684360" y="1069920"/>
            <a:ext cx="7848360" cy="49514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: Rozdělte úsečku AB v poměru 2: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11280" y="5964120"/>
            <a:ext cx="813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2) U jednoho z krajních bodů úsečky sestrojíme polopřímku 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(libovolný ostrý</a:t>
            </a:r>
            <a:br>
              <a:rPr sz="1400"/>
            </a:b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       úhel, ideálně o velikosti okolo 45° - např. v bodě </a:t>
            </a:r>
            <a:r>
              <a:rPr b="1" i="1" lang="cs-CZ" sz="1400" spc="-1" strike="noStrike">
                <a:solidFill>
                  <a:srgbClr val="ff0000"/>
                </a:solidFill>
                <a:latin typeface="Trebuchet MS"/>
              </a:rPr>
              <a:t>A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)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684360" y="1069920"/>
            <a:ext cx="7848360" cy="49514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Rozděl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2"/>
          <a:stretch/>
        </p:blipFill>
        <p:spPr>
          <a:xfrm>
            <a:off x="684360" y="1069920"/>
            <a:ext cx="7848360" cy="495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"/>
          <p:cNvPicPr/>
          <p:nvPr/>
        </p:nvPicPr>
        <p:blipFill>
          <a:blip r:embed="rId3"/>
          <a:stretch/>
        </p:blipFill>
        <p:spPr>
          <a:xfrm>
            <a:off x="684360" y="1069920"/>
            <a:ext cx="7848360" cy="49514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: Rozdělte úsečku AB v poměru 2: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11280" y="6006960"/>
            <a:ext cx="813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3) Na polopřímce, pomocném rameni, si zvolíme stupnici 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(většinou </a:t>
            </a:r>
            <a:br>
              <a:rPr sz="1400"/>
            </a:b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       1 dílek = 1 cm nebo 0,5 cm)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 podle kružítka či pravít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684360" y="1069920"/>
            <a:ext cx="7848360" cy="49514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Rozděl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684360" y="1069920"/>
            <a:ext cx="7848360" cy="4951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"/>
          <p:cNvPicPr/>
          <p:nvPr/>
        </p:nvPicPr>
        <p:blipFill>
          <a:blip r:embed="rId3"/>
          <a:stretch/>
        </p:blipFill>
        <p:spPr>
          <a:xfrm>
            <a:off x="684360" y="1069920"/>
            <a:ext cx="7848360" cy="4951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"/>
          <p:cNvPicPr/>
          <p:nvPr/>
        </p:nvPicPr>
        <p:blipFill>
          <a:blip r:embed="rId4"/>
          <a:stretch/>
        </p:blipFill>
        <p:spPr>
          <a:xfrm>
            <a:off x="684360" y="1069920"/>
            <a:ext cx="7848360" cy="4951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"/>
          <p:cNvPicPr/>
          <p:nvPr/>
        </p:nvPicPr>
        <p:blipFill>
          <a:blip r:embed="rId5"/>
          <a:stretch/>
        </p:blipFill>
        <p:spPr>
          <a:xfrm>
            <a:off x="684360" y="1069920"/>
            <a:ext cx="7848360" cy="4951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"/>
          <p:cNvPicPr/>
          <p:nvPr/>
        </p:nvPicPr>
        <p:blipFill>
          <a:blip r:embed="rId6"/>
          <a:stretch/>
        </p:blipFill>
        <p:spPr>
          <a:xfrm>
            <a:off x="684360" y="1069920"/>
            <a:ext cx="7848360" cy="4951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"/>
          <p:cNvPicPr/>
          <p:nvPr/>
        </p:nvPicPr>
        <p:blipFill>
          <a:blip r:embed="rId7"/>
          <a:stretch/>
        </p:blipFill>
        <p:spPr>
          <a:xfrm>
            <a:off x="684360" y="1069920"/>
            <a:ext cx="7848360" cy="4951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"/>
          <p:cNvPicPr/>
          <p:nvPr/>
        </p:nvPicPr>
        <p:blipFill>
          <a:blip r:embed="rId8"/>
          <a:stretch/>
        </p:blipFill>
        <p:spPr>
          <a:xfrm>
            <a:off x="684360" y="1069920"/>
            <a:ext cx="7848360" cy="4951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"/>
          <p:cNvPicPr/>
          <p:nvPr/>
        </p:nvPicPr>
        <p:blipFill>
          <a:blip r:embed="rId9"/>
          <a:stretch/>
        </p:blipFill>
        <p:spPr>
          <a:xfrm>
            <a:off x="684360" y="1069920"/>
            <a:ext cx="7848360" cy="49514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7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: Rozdělte úsečku AB v poměru 2: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611280" y="6006960"/>
            <a:ext cx="813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4) Naneseme takový počet dílků, na který máme danou úsečku rozdělit</a:t>
            </a:r>
            <a:br>
              <a:rPr sz="1800"/>
            </a:b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      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(2 + 3 = 5)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2" descr=""/>
          <p:cNvPicPr/>
          <p:nvPr/>
        </p:nvPicPr>
        <p:blipFill>
          <a:blip r:embed="rId1"/>
          <a:stretch/>
        </p:blipFill>
        <p:spPr>
          <a:xfrm>
            <a:off x="684360" y="1069920"/>
            <a:ext cx="7848360" cy="4951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Rozděl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23" name="Picture 16" descr=""/>
          <p:cNvPicPr/>
          <p:nvPr/>
        </p:nvPicPr>
        <p:blipFill>
          <a:blip r:embed="rId2"/>
          <a:stretch/>
        </p:blipFill>
        <p:spPr>
          <a:xfrm>
            <a:off x="684360" y="1069920"/>
            <a:ext cx="7848360" cy="49514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3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: Rozdělte úsečku AB v poměru 2: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611280" y="6093000"/>
            <a:ext cx="813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5) Poslední „díl“ spojíme s druhým krajním bodem úsečky 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(s bodem </a:t>
            </a:r>
            <a:r>
              <a:rPr b="1" i="1" lang="cs-CZ" sz="1400" spc="-1" strike="noStrike">
                <a:solidFill>
                  <a:srgbClr val="ff0000"/>
                </a:solidFill>
                <a:latin typeface="Trebuchet MS"/>
              </a:rPr>
              <a:t>B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)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684360" y="1069920"/>
            <a:ext cx="7848360" cy="4951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Rozděl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29" name="Picture 9" descr=""/>
          <p:cNvPicPr/>
          <p:nvPr/>
        </p:nvPicPr>
        <p:blipFill>
          <a:blip r:embed="rId2"/>
          <a:stretch/>
        </p:blipFill>
        <p:spPr>
          <a:xfrm>
            <a:off x="684360" y="1069920"/>
            <a:ext cx="7848360" cy="4951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: Rozdělte úsečku AB v poměru 2: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611280" y="5819760"/>
            <a:ext cx="813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6) Podíváme se, kolik dílů má mít první část rozdělené úsečky, a z tohoto</a:t>
            </a:r>
            <a:br>
              <a:rPr sz="1800"/>
            </a:b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     dílu vedeme rovnoběžku s přímkou sestrojenou v předcházejícím</a:t>
            </a:r>
            <a:br>
              <a:rPr sz="1800"/>
            </a:b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     bod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611280" y="836640"/>
            <a:ext cx="806436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684360" y="1069920"/>
            <a:ext cx="7848360" cy="4951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Rozdělení úsečky v daném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2"/>
          <a:stretch/>
        </p:blipFill>
        <p:spPr>
          <a:xfrm>
            <a:off x="684360" y="1069920"/>
            <a:ext cx="7848360" cy="49514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584280" y="7063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: Rozdělte úsečku AB v poměru 2: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650880" y="5992920"/>
            <a:ext cx="813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7) Průsečík této rovnoběžky a zadané úsečky je bod, který ji rozdělí </a:t>
            </a:r>
            <a:br>
              <a:rPr sz="1800"/>
            </a:b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     v daném poměr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Tereza Bížová</cp:lastModifiedBy>
  <dcterms:modified xsi:type="dcterms:W3CDTF">2009-10-02T08:42:38Z</dcterms:modified>
  <cp:revision>165</cp:revision>
  <dc:subject/>
  <dc:title>Změna úsečky v daném poměru (zmenšení)</dc:title>
</cp:coreProperties>
</file>