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E19-00CC-4073-B554-45883A9D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2911-0316-4A03-A47A-18710333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821-F553-42D2-AC7F-77136DFA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02DB-3F07-4B0E-9DCE-3181A51B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8B3A-7163-4194-84E8-FE7CB062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D457-F6C1-4FF1-B072-42F4FBC0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2BF5-650A-4A5A-9DBF-6ABC81AA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1CF9-25FC-4DAD-81F9-E2A83EA3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1198-C64B-4CB9-BAAE-566BFDBE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4980-3760-4D6E-80B2-6D3598FB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EBD7-468F-4FC0-8363-D3E6409F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6405-BA6C-47C9-AACA-F89D164D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72AD-5C86-4A2E-8A32-FFAEC327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B5E9-637D-4548-B8BF-FE238A7C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1776-E832-41AA-9A4B-0289F06E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3511-70BC-4A64-890D-3BE070F9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24BD-6270-470F-9A66-DF51CE9B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52E8-3348-4178-81AA-749D5668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88A-E867-4981-B6E0-717304BB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F4D-1226-41A3-A7F7-190A475D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7A9-361F-4227-BADC-61F77B55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153-A4AC-4915-A0B7-1DE0FE16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F278-9352-454A-97C0-AD0EF430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A63B-6DB2-44AB-A657-45229C55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D344-52BF-4299-8949-988A3F7CB596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6406-0794-4575-BF20-E8E8033A0EC6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harcourtschool.com/activity/elab2004/gr4/10.html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284c6a"/>
                </a:solidFill>
                <a:latin typeface="Trebuchet MS"/>
              </a:rPr>
              <a:t>Zlomk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280"/>
            <a:ext cx="80773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284c6a"/>
                </a:solidFill>
                <a:latin typeface="Trebuchet MS"/>
              </a:rPr>
              <a:t>Sčítání zlomků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7164360" y="1125360"/>
            <a:ext cx="1763640" cy="17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409680" y="404640"/>
            <a:ext cx="8483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nyní již příklady k procvičení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prvé (řeš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954000" cy="5327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2"/>
          <a:stretch/>
        </p:blipFill>
        <p:spPr>
          <a:xfrm>
            <a:off x="3325680" y="950760"/>
            <a:ext cx="1030320" cy="5400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3"/>
          <a:stretch/>
        </p:blipFill>
        <p:spPr>
          <a:xfrm>
            <a:off x="6014880" y="936720"/>
            <a:ext cx="1078200" cy="5402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4"/>
          <a:stretch/>
        </p:blipFill>
        <p:spPr>
          <a:xfrm>
            <a:off x="1490760" y="1038240"/>
            <a:ext cx="533160" cy="5371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"/>
          <p:cNvPicPr/>
          <p:nvPr/>
        </p:nvPicPr>
        <p:blipFill>
          <a:blip r:embed="rId5"/>
          <a:stretch/>
        </p:blipFill>
        <p:spPr>
          <a:xfrm>
            <a:off x="4141800" y="1023840"/>
            <a:ext cx="571320" cy="5400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"/>
          <p:cNvPicPr/>
          <p:nvPr/>
        </p:nvPicPr>
        <p:blipFill>
          <a:blip r:embed="rId6"/>
          <a:stretch/>
        </p:blipFill>
        <p:spPr>
          <a:xfrm>
            <a:off x="6805440" y="995400"/>
            <a:ext cx="522360" cy="54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404640"/>
            <a:ext cx="8640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nyní již příklady k procvičení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druh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826920" y="1011240"/>
            <a:ext cx="1081080" cy="5370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3348000" y="1011240"/>
            <a:ext cx="1093680" cy="5370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6012000" y="981000"/>
            <a:ext cx="1166760" cy="54342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7"/>
          <p:cNvSpPr/>
          <p:nvPr/>
        </p:nvSpPr>
        <p:spPr>
          <a:xfrm>
            <a:off x="6804000" y="6237360"/>
            <a:ext cx="20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93840" y="404640"/>
            <a:ext cx="86421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nyní již příklady k procvičení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druhé (řeš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"/>
          <p:cNvPicPr/>
          <p:nvPr/>
        </p:nvPicPr>
        <p:blipFill>
          <a:blip r:embed="rId1"/>
          <a:stretch/>
        </p:blipFill>
        <p:spPr>
          <a:xfrm>
            <a:off x="826920" y="938160"/>
            <a:ext cx="1081080" cy="5370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3348000" y="938160"/>
            <a:ext cx="1093680" cy="5370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"/>
          <p:cNvPicPr/>
          <p:nvPr/>
        </p:nvPicPr>
        <p:blipFill>
          <a:blip r:embed="rId3"/>
          <a:stretch/>
        </p:blipFill>
        <p:spPr>
          <a:xfrm>
            <a:off x="6012000" y="947880"/>
            <a:ext cx="1166760" cy="5433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" descr=""/>
          <p:cNvPicPr/>
          <p:nvPr/>
        </p:nvPicPr>
        <p:blipFill>
          <a:blip r:embed="rId4"/>
          <a:stretch/>
        </p:blipFill>
        <p:spPr>
          <a:xfrm>
            <a:off x="1590840" y="981000"/>
            <a:ext cx="504720" cy="5392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"/>
          <p:cNvPicPr/>
          <p:nvPr/>
        </p:nvPicPr>
        <p:blipFill>
          <a:blip r:embed="rId5"/>
          <a:stretch/>
        </p:blipFill>
        <p:spPr>
          <a:xfrm>
            <a:off x="4154400" y="1038240"/>
            <a:ext cx="601920" cy="5327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5" descr=""/>
          <p:cNvPicPr/>
          <p:nvPr/>
        </p:nvPicPr>
        <p:blipFill>
          <a:blip r:embed="rId6"/>
          <a:stretch/>
        </p:blipFill>
        <p:spPr>
          <a:xfrm>
            <a:off x="6805440" y="1047600"/>
            <a:ext cx="56376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5" descr=""/>
          <p:cNvPicPr/>
          <p:nvPr/>
        </p:nvPicPr>
        <p:blipFill>
          <a:blip r:embed="rId1"/>
          <a:stretch/>
        </p:blipFill>
        <p:spPr>
          <a:xfrm>
            <a:off x="1770120" y="2028960"/>
            <a:ext cx="5754600" cy="43527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338040" y="404640"/>
            <a:ext cx="8410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ještě něco interaktivního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sečti zlom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539640" y="10526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tevřete následující odkaz, určete si výpočtem výsledek a pak si jej zkontroluj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11280" y="134136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www.harcourtschool.com/activity/elab2004/gr4/1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539640" y="16574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můcka, jak na to (klikej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0"/>
          <p:cNvSpPr/>
          <p:nvPr/>
        </p:nvSpPr>
        <p:spPr>
          <a:xfrm>
            <a:off x="2916360" y="3500280"/>
            <a:ext cx="1979640" cy="1513080"/>
          </a:xfrm>
          <a:prstGeom prst="cloudCallout">
            <a:avLst>
              <a:gd name="adj1" fmla="val 119444"/>
              <a:gd name="adj2" fmla="val 721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Klikni pro zadání příklad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" descr=""/>
          <p:cNvPicPr/>
          <p:nvPr/>
        </p:nvPicPr>
        <p:blipFill>
          <a:blip r:embed="rId1"/>
          <a:stretch/>
        </p:blipFill>
        <p:spPr>
          <a:xfrm>
            <a:off x="1568520" y="1987560"/>
            <a:ext cx="5811840" cy="43941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4"/>
          <p:cNvSpPr/>
          <p:nvPr/>
        </p:nvSpPr>
        <p:spPr>
          <a:xfrm>
            <a:off x="338040" y="404640"/>
            <a:ext cx="8410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nyní něco na procvičení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sečti zlom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539640" y="10526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tevřete následující odkaz, určete si výpočtem výsledek a pak si jej zkontroluj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11280" y="134136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http://www.harcourtschool.com/activity/elab2004/gr4/1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9640" y="16574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můcka, jak na to (klikej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611280" y="4221000"/>
            <a:ext cx="1979640" cy="1800360"/>
          </a:xfrm>
          <a:prstGeom prst="cloudCallout">
            <a:avLst>
              <a:gd name="adj1" fmla="val 100199"/>
              <a:gd name="adj2" fmla="val -6481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Urči nejmenšího společného jmenovatele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a zadej ho do prázdného obdélní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6516720" y="3573360"/>
            <a:ext cx="1979640" cy="1513080"/>
          </a:xfrm>
          <a:prstGeom prst="cloudCallout">
            <a:avLst>
              <a:gd name="adj1" fmla="val -97393"/>
              <a:gd name="adj2" fmla="val -374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Zmáčkni ENTER pro kontrolu správného určení společného jmenovat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"/>
          <p:cNvPicPr/>
          <p:nvPr/>
        </p:nvPicPr>
        <p:blipFill>
          <a:blip r:embed="rId1"/>
          <a:stretch/>
        </p:blipFill>
        <p:spPr>
          <a:xfrm>
            <a:off x="1763640" y="2009880"/>
            <a:ext cx="5830920" cy="43862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338040" y="404640"/>
            <a:ext cx="8410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nyní něco na procvičení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sečti zlom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39640" y="10526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tevřete následující odkaz, určete si výpočtem výsledek a pak si jej zkontroluj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611280" y="134136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http://www.harcourtschool.com/activity/elab2004/gr4/1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539640" y="16574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můcka, jak na to (klikej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684360" y="4292640"/>
            <a:ext cx="1979640" cy="1800360"/>
          </a:xfrm>
          <a:prstGeom prst="cloudCallout">
            <a:avLst>
              <a:gd name="adj1" fmla="val 137569"/>
              <a:gd name="adj2" fmla="val -849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Pokud jste správně určili společného jmenovatele, pokračujte doplňováním čitatel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9"/>
          <p:cNvSpPr/>
          <p:nvPr/>
        </p:nvSpPr>
        <p:spPr>
          <a:xfrm>
            <a:off x="6588000" y="2852640"/>
            <a:ext cx="1979640" cy="1513080"/>
          </a:xfrm>
          <a:prstGeom prst="cloudCallout">
            <a:avLst>
              <a:gd name="adj1" fmla="val -84324"/>
              <a:gd name="adj2" fmla="val 285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Pro kontrolu vždy opět zmáčkněte 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3"/>
          <p:cNvSpPr/>
          <p:nvPr/>
        </p:nvSpPr>
        <p:spPr>
          <a:xfrm>
            <a:off x="3708360" y="4221000"/>
            <a:ext cx="1979640" cy="1513080"/>
          </a:xfrm>
          <a:prstGeom prst="cloudCallout">
            <a:avLst>
              <a:gd name="adj1" fmla="val 84805"/>
              <a:gd name="adj2" fmla="val 226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Až budete hotovi, tímto tlačítkem si vyvoláte nový příkl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1" descr=""/>
          <p:cNvPicPr/>
          <p:nvPr/>
        </p:nvPicPr>
        <p:blipFill>
          <a:blip r:embed="rId1"/>
          <a:stretch/>
        </p:blipFill>
        <p:spPr>
          <a:xfrm>
            <a:off x="1860480" y="2006640"/>
            <a:ext cx="5664240" cy="43750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4"/>
          <p:cNvSpPr/>
          <p:nvPr/>
        </p:nvSpPr>
        <p:spPr>
          <a:xfrm>
            <a:off x="338040" y="404640"/>
            <a:ext cx="8410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ještě trošku jinak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sečti zlom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539640" y="10526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tevřete následující odkaz, určete si výpočtem výsledek a pak si jej zkontroluj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11280" y="134136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http://nlvm.usu.edu/en/nav/frames_asid_106_g_2_t_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539640" y="16574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můcka, jak na to (klikej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179280" y="4724280"/>
            <a:ext cx="1979640" cy="1800360"/>
          </a:xfrm>
          <a:prstGeom prst="cloudCallout">
            <a:avLst>
              <a:gd name="adj1" fmla="val 89773"/>
              <a:gd name="adj2" fmla="val -41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Upravte oba zlomky na zlomky se společným jmenovate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6588000" y="2852640"/>
            <a:ext cx="1979640" cy="1513080"/>
          </a:xfrm>
          <a:prstGeom prst="cloudCallout">
            <a:avLst>
              <a:gd name="adj1" fmla="val -98277"/>
              <a:gd name="adj2" fmla="val 525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Pro kontrolu pak zmáčkněte toto tlačítk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0" descr=""/>
          <p:cNvPicPr/>
          <p:nvPr/>
        </p:nvPicPr>
        <p:blipFill>
          <a:blip r:embed="rId1"/>
          <a:stretch/>
        </p:blipFill>
        <p:spPr>
          <a:xfrm>
            <a:off x="1778040" y="2019240"/>
            <a:ext cx="5673600" cy="43624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338040" y="404640"/>
            <a:ext cx="8410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ještě trošku jinak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sečti zlom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539640" y="10526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tevřete následující odkaz, určete si výpočtem výsledek a pak si jej zkontroluj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611280" y="134136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http://nlvm.usu.edu/en/nav/frames_asid_106_g_2_t_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539640" y="16574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můcka, jak na to (klikej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2700360" y="4941720"/>
            <a:ext cx="1979640" cy="1079640"/>
          </a:xfrm>
          <a:prstGeom prst="cloudCallout">
            <a:avLst>
              <a:gd name="adj1" fmla="val 107578"/>
              <a:gd name="adj2" fmla="val -664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Určete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a zapište výsledek sčítání zlom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9"/>
          <p:cNvSpPr/>
          <p:nvPr/>
        </p:nvSpPr>
        <p:spPr>
          <a:xfrm>
            <a:off x="4067280" y="2349360"/>
            <a:ext cx="1979640" cy="1513080"/>
          </a:xfrm>
          <a:prstGeom prst="cloudCallout">
            <a:avLst>
              <a:gd name="adj1" fmla="val 72374"/>
              <a:gd name="adj2" fmla="val 9249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Pro kontrolu pak opět zmáčkněte toto tlačítk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0" descr=""/>
          <p:cNvPicPr/>
          <p:nvPr/>
        </p:nvPicPr>
        <p:blipFill>
          <a:blip r:embed="rId1"/>
          <a:stretch/>
        </p:blipFill>
        <p:spPr>
          <a:xfrm>
            <a:off x="1792440" y="2009880"/>
            <a:ext cx="5659200" cy="43718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338040" y="404640"/>
            <a:ext cx="8410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ještě trošku jinak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sečti zlom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39640" y="10526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tevřete následující odkaz, určete si výpočtem výsledek a pak si jej zkontroluj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611280" y="134136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http://nlvm.usu.edu/en/nav/frames_asid_106_g_2_t_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539640" y="1657440"/>
            <a:ext cx="80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můcka, jak na to (klikej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8"/>
          <p:cNvSpPr/>
          <p:nvPr/>
        </p:nvSpPr>
        <p:spPr>
          <a:xfrm>
            <a:off x="1403280" y="4292640"/>
            <a:ext cx="1979640" cy="1079640"/>
          </a:xfrm>
          <a:prstGeom prst="cloudCallout">
            <a:avLst>
              <a:gd name="adj1" fmla="val 27865"/>
              <a:gd name="adj2" fmla="val 11735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Nový příklad si vyvoláte tímto tlačítk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9"/>
          <p:cNvSpPr/>
          <p:nvPr/>
        </p:nvSpPr>
        <p:spPr>
          <a:xfrm>
            <a:off x="4859280" y="4076640"/>
            <a:ext cx="1979640" cy="1513080"/>
          </a:xfrm>
          <a:prstGeom prst="cloudCallout">
            <a:avLst>
              <a:gd name="adj1" fmla="val -57138"/>
              <a:gd name="adj2" fmla="val 820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Obtížnost příkladů si můžete změnit z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96800" y="981000"/>
            <a:ext cx="82519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5" descr=""/>
          <p:cNvPicPr/>
          <p:nvPr/>
        </p:nvPicPr>
        <p:blipFill>
          <a:blip r:embed="rId1"/>
          <a:stretch/>
        </p:blipFill>
        <p:spPr>
          <a:xfrm>
            <a:off x="582480" y="1341360"/>
            <a:ext cx="2776680" cy="30783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Shrnut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7"/>
          <p:cNvSpPr/>
          <p:nvPr/>
        </p:nvSpPr>
        <p:spPr>
          <a:xfrm>
            <a:off x="3492360" y="1413000"/>
            <a:ext cx="50403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Sčítání zlomků provádíme tak, že zlomky nejprve převedeme na společného jmenovatele a teprve potom je sčítáme. </a:t>
            </a:r>
            <a:br>
              <a:rPr sz="2800"/>
            </a:b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A to tak, že jmenovatele opíšeme a čitatele sečte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34"/>
              <p:cNvSpPr txBox="1"/>
              <p:nvPr/>
            </p:nvSpPr>
            <p:spPr>
              <a:xfrm>
                <a:off x="611280" y="4738680"/>
                <a:ext cx="806616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68360" y="1484280"/>
            <a:ext cx="813600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09680" y="260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Sčítá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09680" y="8650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čítání zlomků znamená hledání celkového množství daného několika částmi celků či celých cel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826920" y="5732640"/>
            <a:ext cx="7288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Jinými slovy: nemají-li sčítané zlomky stejné jmenovatele, nedokážeme určit výslede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tretch/>
        </p:blipFill>
        <p:spPr>
          <a:xfrm>
            <a:off x="3754440" y="1628640"/>
            <a:ext cx="1819440" cy="1789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2"/>
          <a:stretch/>
        </p:blipFill>
        <p:spPr>
          <a:xfrm>
            <a:off x="5892840" y="1628640"/>
            <a:ext cx="1819080" cy="1789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Object 9"/>
              <p:cNvSpPr txBox="1"/>
              <p:nvPr/>
            </p:nvSpPr>
            <p:spPr>
              <a:xfrm>
                <a:off x="611280" y="1628640"/>
                <a:ext cx="62208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1"/>
              <p:cNvSpPr txBox="1"/>
              <p:nvPr/>
            </p:nvSpPr>
            <p:spPr>
              <a:xfrm>
                <a:off x="1130400" y="2146320"/>
                <a:ext cx="569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2"/>
              <p:cNvSpPr txBox="1"/>
              <p:nvPr/>
            </p:nvSpPr>
            <p:spPr>
              <a:xfrm>
                <a:off x="1619280" y="1622520"/>
                <a:ext cx="674640" cy="16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3"/>
              <p:cNvSpPr txBox="1"/>
              <p:nvPr/>
            </p:nvSpPr>
            <p:spPr>
              <a:xfrm>
                <a:off x="2195640" y="2216160"/>
                <a:ext cx="5191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4"/>
              <p:cNvSpPr txBox="1"/>
              <p:nvPr/>
            </p:nvSpPr>
            <p:spPr>
              <a:xfrm>
                <a:off x="2700360" y="2068560"/>
                <a:ext cx="4683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8"/>
              <p:cNvSpPr txBox="1"/>
              <p:nvPr/>
            </p:nvSpPr>
            <p:spPr>
              <a:xfrm>
                <a:off x="5505480" y="2257560"/>
                <a:ext cx="45252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9"/>
              <p:cNvSpPr txBox="1"/>
              <p:nvPr/>
            </p:nvSpPr>
            <p:spPr>
              <a:xfrm>
                <a:off x="7705800" y="2311560"/>
                <a:ext cx="412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Rectangle 20"/>
          <p:cNvSpPr/>
          <p:nvPr/>
        </p:nvSpPr>
        <p:spPr>
          <a:xfrm>
            <a:off x="581040" y="3355920"/>
            <a:ext cx="7878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Celkové množství nelze určit, jsou-li sčítaná množství vyjádřena různými částm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1" descr=""/>
          <p:cNvPicPr/>
          <p:nvPr/>
        </p:nvPicPr>
        <p:blipFill>
          <a:blip r:embed="rId3"/>
          <a:stretch/>
        </p:blipFill>
        <p:spPr>
          <a:xfrm>
            <a:off x="2814480" y="4727520"/>
            <a:ext cx="822600" cy="782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Object 25"/>
              <p:cNvSpPr txBox="1"/>
              <p:nvPr/>
            </p:nvSpPr>
            <p:spPr>
              <a:xfrm>
                <a:off x="8064360" y="2133720"/>
                <a:ext cx="4683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4" name="Picture 26" descr=""/>
          <p:cNvPicPr/>
          <p:nvPr/>
        </p:nvPicPr>
        <p:blipFill>
          <a:blip r:embed="rId4"/>
          <a:stretch/>
        </p:blipFill>
        <p:spPr>
          <a:xfrm>
            <a:off x="6156360" y="4168800"/>
            <a:ext cx="1584360" cy="156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7" descr=""/>
          <p:cNvPicPr/>
          <p:nvPr/>
        </p:nvPicPr>
        <p:blipFill>
          <a:blip r:embed="rId5"/>
          <a:stretch/>
        </p:blipFill>
        <p:spPr>
          <a:xfrm>
            <a:off x="1116000" y="4724280"/>
            <a:ext cx="1163520" cy="776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8"/>
          <p:cNvSpPr/>
          <p:nvPr/>
        </p:nvSpPr>
        <p:spPr>
          <a:xfrm>
            <a:off x="1044720" y="4940280"/>
            <a:ext cx="122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tře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2916360" y="4940280"/>
            <a:ext cx="12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čtvr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2"/>
          <p:cNvSpPr/>
          <p:nvPr/>
        </p:nvSpPr>
        <p:spPr>
          <a:xfrm>
            <a:off x="595440" y="3645000"/>
            <a:ext cx="7878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tedy nejsou-li sčítaná množství rozdělena na stejné čá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4" descr=""/>
          <p:cNvPicPr/>
          <p:nvPr/>
        </p:nvPicPr>
        <p:blipFill>
          <a:blip r:embed="rId6"/>
          <a:stretch/>
        </p:blipFill>
        <p:spPr>
          <a:xfrm>
            <a:off x="6948360" y="4956120"/>
            <a:ext cx="741600" cy="741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5"/>
          <p:cNvSpPr/>
          <p:nvPr/>
        </p:nvSpPr>
        <p:spPr>
          <a:xfrm>
            <a:off x="5565600" y="5084640"/>
            <a:ext cx="302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O jakou část celku j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68360" y="1484280"/>
            <a:ext cx="820728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09680" y="4046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Sčítá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09680" y="8650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měnilo by se něco, kdyby měly zlomky jmenovatele stejné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225880" cy="2189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2"/>
          <a:stretch/>
        </p:blipFill>
        <p:spPr>
          <a:xfrm>
            <a:off x="3378240" y="1628640"/>
            <a:ext cx="2225520" cy="2189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Object 7"/>
              <p:cNvSpPr txBox="1"/>
              <p:nvPr/>
            </p:nvSpPr>
            <p:spPr>
              <a:xfrm>
                <a:off x="2844720" y="2392200"/>
                <a:ext cx="554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8"/>
              <p:cNvSpPr txBox="1"/>
              <p:nvPr/>
            </p:nvSpPr>
            <p:spPr>
              <a:xfrm>
                <a:off x="5653080" y="2506680"/>
                <a:ext cx="5047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Picture 9" descr=""/>
          <p:cNvPicPr/>
          <p:nvPr/>
        </p:nvPicPr>
        <p:blipFill>
          <a:blip r:embed="rId3"/>
          <a:stretch/>
        </p:blipFill>
        <p:spPr>
          <a:xfrm>
            <a:off x="612720" y="1595520"/>
            <a:ext cx="2230560" cy="2193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4"/>
          <a:stretch/>
        </p:blipFill>
        <p:spPr>
          <a:xfrm>
            <a:off x="3349800" y="1581120"/>
            <a:ext cx="2230200" cy="2193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5"/>
          <a:stretch/>
        </p:blipFill>
        <p:spPr>
          <a:xfrm>
            <a:off x="6229440" y="1566720"/>
            <a:ext cx="2230200" cy="2194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6"/>
          <a:stretch/>
        </p:blipFill>
        <p:spPr>
          <a:xfrm>
            <a:off x="6213600" y="1581120"/>
            <a:ext cx="2260440" cy="2222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7"/>
          <a:stretch/>
        </p:blipFill>
        <p:spPr>
          <a:xfrm>
            <a:off x="3340080" y="1581120"/>
            <a:ext cx="2259000" cy="2222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Object 14"/>
              <p:cNvSpPr txBox="1"/>
              <p:nvPr/>
            </p:nvSpPr>
            <p:spPr>
              <a:xfrm>
                <a:off x="1476360" y="3860640"/>
                <a:ext cx="4190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5"/>
              <p:cNvSpPr txBox="1"/>
              <p:nvPr/>
            </p:nvSpPr>
            <p:spPr>
              <a:xfrm>
                <a:off x="2948040" y="4208400"/>
                <a:ext cx="3841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4211640" y="3860640"/>
                <a:ext cx="453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5754600" y="4262400"/>
                <a:ext cx="34920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8"/>
              <p:cNvSpPr txBox="1"/>
              <p:nvPr/>
            </p:nvSpPr>
            <p:spPr>
              <a:xfrm>
                <a:off x="7005600" y="3860640"/>
                <a:ext cx="6285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9"/>
              <p:cNvSpPr txBox="1"/>
              <p:nvPr/>
            </p:nvSpPr>
            <p:spPr>
              <a:xfrm>
                <a:off x="1371600" y="5084640"/>
                <a:ext cx="6285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20"/>
              <p:cNvSpPr txBox="1"/>
              <p:nvPr/>
            </p:nvSpPr>
            <p:spPr>
              <a:xfrm>
                <a:off x="2948040" y="5432400"/>
                <a:ext cx="3841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21"/>
              <p:cNvSpPr txBox="1"/>
              <p:nvPr/>
            </p:nvSpPr>
            <p:spPr>
              <a:xfrm>
                <a:off x="4124160" y="5084640"/>
                <a:ext cx="628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22"/>
              <p:cNvSpPr txBox="1"/>
              <p:nvPr/>
            </p:nvSpPr>
            <p:spPr>
              <a:xfrm>
                <a:off x="5754600" y="5486400"/>
                <a:ext cx="34920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23"/>
              <p:cNvSpPr txBox="1"/>
              <p:nvPr/>
            </p:nvSpPr>
            <p:spPr>
              <a:xfrm>
                <a:off x="7005600" y="5084640"/>
                <a:ext cx="6285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68360" y="1484280"/>
            <a:ext cx="820728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09680" y="4046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Sčítá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409680" y="8650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ak se tedy postupuje při sčítání zlomků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4"/>
              <p:cNvSpPr txBox="1"/>
              <p:nvPr/>
            </p:nvSpPr>
            <p:spPr>
              <a:xfrm>
                <a:off x="1057320" y="4113360"/>
                <a:ext cx="251928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Rectangle 24"/>
          <p:cNvSpPr/>
          <p:nvPr/>
        </p:nvSpPr>
        <p:spPr>
          <a:xfrm>
            <a:off x="682560" y="1701720"/>
            <a:ext cx="7921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284c6a"/>
                </a:solidFill>
                <a:latin typeface="Trebuchet MS"/>
              </a:rPr>
              <a:t>1.) Nejdříve určíme společného jmenovatele, to znamená číslo, které umístíme pod zlomkovou čáru obou zlomků. Toto číslo musí být násobkem jmenovatele prvního zlomku i jmenovatele druhého zlomku. Nejlépe je najít přímo nejmenší společný násobek obou jmenovatelů – </a:t>
            </a:r>
            <a:r>
              <a:rPr b="1" lang="cs-CZ" sz="2300" spc="-1" strike="noStrike">
                <a:solidFill>
                  <a:srgbClr val="ff0000"/>
                </a:solidFill>
                <a:latin typeface="Trebuchet MS"/>
              </a:rPr>
              <a:t>nejmenšího společného jmenovatele</a:t>
            </a:r>
            <a:r>
              <a:rPr b="1" lang="cs-CZ" sz="23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5"/>
              <p:cNvSpPr txBox="1"/>
              <p:nvPr/>
            </p:nvSpPr>
            <p:spPr>
              <a:xfrm>
                <a:off x="3560760" y="4113360"/>
                <a:ext cx="325764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Oval 26"/>
          <p:cNvSpPr/>
          <p:nvPr/>
        </p:nvSpPr>
        <p:spPr>
          <a:xfrm>
            <a:off x="3693960" y="5127480"/>
            <a:ext cx="900360" cy="90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7"/>
          <p:cNvSpPr/>
          <p:nvPr/>
        </p:nvSpPr>
        <p:spPr>
          <a:xfrm>
            <a:off x="5256360" y="5129280"/>
            <a:ext cx="900000" cy="900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68360" y="1484280"/>
            <a:ext cx="820728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09680" y="4046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Sčítá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409680" y="8650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ak se tedy postupuje při sčítání zlomků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1057320" y="4113360"/>
                <a:ext cx="251928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6"/>
          <p:cNvSpPr/>
          <p:nvPr/>
        </p:nvSpPr>
        <p:spPr>
          <a:xfrm>
            <a:off x="754200" y="1484280"/>
            <a:ext cx="8065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284c6a"/>
                </a:solidFill>
                <a:latin typeface="Trebuchet MS"/>
              </a:rPr>
              <a:t>2.) Dále postupujeme na základě znalosti rozšiřování zlomků. Ptáme se, čím jsme vynásobili jmenovatele prvního zlomku (číslo 3), abychom dostali společného jmenovatele (číslo 12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7"/>
              <p:cNvSpPr txBox="1"/>
              <p:nvPr/>
            </p:nvSpPr>
            <p:spPr>
              <a:xfrm>
                <a:off x="3560760" y="4113360"/>
                <a:ext cx="325764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Line 9"/>
          <p:cNvSpPr/>
          <p:nvPr/>
        </p:nvSpPr>
        <p:spPr>
          <a:xfrm flipH="1">
            <a:off x="1547640" y="2565360"/>
            <a:ext cx="1944720" cy="27496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"/>
          <p:cNvSpPr/>
          <p:nvPr/>
        </p:nvSpPr>
        <p:spPr>
          <a:xfrm>
            <a:off x="3635280" y="2924280"/>
            <a:ext cx="505080" cy="2376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1546200" y="5545080"/>
            <a:ext cx="50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546200" y="4005360"/>
            <a:ext cx="50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3"/>
              <p:cNvSpPr txBox="1"/>
              <p:nvPr/>
            </p:nvSpPr>
            <p:spPr>
              <a:xfrm>
                <a:off x="3564000" y="4121280"/>
                <a:ext cx="325764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Rectangle 14"/>
          <p:cNvSpPr/>
          <p:nvPr/>
        </p:nvSpPr>
        <p:spPr>
          <a:xfrm>
            <a:off x="754200" y="306864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284c6a"/>
                </a:solidFill>
                <a:latin typeface="Trebuchet MS"/>
              </a:rPr>
              <a:t>Násobili jsme číslem čtyři, a tudíž čtyřkou násobíme i čitatel prvního zlomku (číslo 2):</a:t>
            </a:r>
            <a:r>
              <a:rPr b="0" lang="cs-CZ" sz="23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68360" y="1484280"/>
            <a:ext cx="820728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09680" y="4046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Sčítá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09680" y="8650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ak se tedy postupuje při sčítání zlomků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1057320" y="4113360"/>
                <a:ext cx="251928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Rectangle 6"/>
          <p:cNvSpPr/>
          <p:nvPr/>
        </p:nvSpPr>
        <p:spPr>
          <a:xfrm>
            <a:off x="681120" y="1484280"/>
            <a:ext cx="7994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284c6a"/>
                </a:solidFill>
                <a:latin typeface="Trebuchet MS"/>
              </a:rPr>
              <a:t>3.) Obdobně se ptáme, čím jsme vynásobili jmenovatele druhého zlomku (číslo 4), abychom dostali společného jmenovatele (číslo 12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3560760" y="4113360"/>
                <a:ext cx="325764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Line 8"/>
          <p:cNvSpPr/>
          <p:nvPr/>
        </p:nvSpPr>
        <p:spPr>
          <a:xfrm flipH="1">
            <a:off x="2700360" y="2421000"/>
            <a:ext cx="719280" cy="287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3564000" y="2781360"/>
            <a:ext cx="2087640" cy="25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2771640" y="5545080"/>
            <a:ext cx="5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2771640" y="4005360"/>
            <a:ext cx="50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3564000" y="4121280"/>
                <a:ext cx="325764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13"/>
          <p:cNvSpPr/>
          <p:nvPr/>
        </p:nvSpPr>
        <p:spPr>
          <a:xfrm>
            <a:off x="681120" y="3068640"/>
            <a:ext cx="741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284c6a"/>
                </a:solidFill>
                <a:latin typeface="Trebuchet MS"/>
              </a:rPr>
              <a:t>Násobili jsme číslem tři, a tudíž trojkou násobíme </a:t>
            </a:r>
            <a:br>
              <a:rPr sz="2300"/>
            </a:br>
            <a:r>
              <a:rPr b="1" lang="cs-CZ" sz="2300" spc="-1" strike="noStrike">
                <a:solidFill>
                  <a:srgbClr val="284c6a"/>
                </a:solidFill>
                <a:latin typeface="Trebuchet MS"/>
              </a:rPr>
              <a:t>i čitatele druhého zlomku (číslo 1):</a:t>
            </a:r>
            <a:r>
              <a:rPr b="0" lang="cs-CZ" sz="23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4"/>
              <p:cNvSpPr txBox="1"/>
              <p:nvPr/>
            </p:nvSpPr>
            <p:spPr>
              <a:xfrm>
                <a:off x="3564000" y="4121280"/>
                <a:ext cx="325764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468360" y="1484280"/>
            <a:ext cx="820728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09680" y="4046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Sčítání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09680" y="8650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ak se tedy postupuje při sčítání zlomků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5"/>
              <p:cNvSpPr txBox="1"/>
              <p:nvPr/>
            </p:nvSpPr>
            <p:spPr>
              <a:xfrm>
                <a:off x="1057320" y="4113360"/>
                <a:ext cx="251928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Rectangle 6"/>
          <p:cNvSpPr/>
          <p:nvPr/>
        </p:nvSpPr>
        <p:spPr>
          <a:xfrm>
            <a:off x="681120" y="1484280"/>
            <a:ext cx="7994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284c6a"/>
                </a:solidFill>
                <a:latin typeface="Trebuchet MS"/>
              </a:rPr>
              <a:t>4.) Jmenovatele opíšeme a čísla v čitateli sečtem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3560760" y="4113360"/>
                <a:ext cx="325764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2"/>
              <p:cNvSpPr txBox="1"/>
              <p:nvPr/>
            </p:nvSpPr>
            <p:spPr>
              <a:xfrm>
                <a:off x="3564000" y="4121280"/>
                <a:ext cx="325764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Rectangle 13"/>
          <p:cNvSpPr/>
          <p:nvPr/>
        </p:nvSpPr>
        <p:spPr>
          <a:xfrm>
            <a:off x="698400" y="2637000"/>
            <a:ext cx="741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284c6a"/>
                </a:solidFill>
                <a:latin typeface="Trebuchet MS"/>
              </a:rPr>
              <a:t>V případě, že by výsledný zlomek nebyl v základním tvaru, tak jej do něj uvedeme. Kdyby výsledkem byl zlomek nepravý, převedeme jej do tvaru smíšeného čísl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4"/>
              <p:cNvSpPr txBox="1"/>
              <p:nvPr/>
            </p:nvSpPr>
            <p:spPr>
              <a:xfrm>
                <a:off x="3564000" y="4121280"/>
                <a:ext cx="325764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5"/>
              <p:cNvSpPr txBox="1"/>
              <p:nvPr/>
            </p:nvSpPr>
            <p:spPr>
              <a:xfrm>
                <a:off x="6778800" y="4113360"/>
                <a:ext cx="1106280" cy="19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468360" y="1700280"/>
            <a:ext cx="820728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9" descr=""/>
          <p:cNvPicPr/>
          <p:nvPr/>
        </p:nvPicPr>
        <p:blipFill>
          <a:blip r:embed="rId1"/>
          <a:stretch/>
        </p:blipFill>
        <p:spPr>
          <a:xfrm rot="667200">
            <a:off x="2757600" y="4576680"/>
            <a:ext cx="1512720" cy="1487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0" descr=""/>
          <p:cNvPicPr/>
          <p:nvPr/>
        </p:nvPicPr>
        <p:blipFill>
          <a:blip r:embed="rId2"/>
          <a:stretch/>
        </p:blipFill>
        <p:spPr>
          <a:xfrm>
            <a:off x="6905520" y="4548240"/>
            <a:ext cx="1513080" cy="1487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1" descr=""/>
          <p:cNvPicPr/>
          <p:nvPr/>
        </p:nvPicPr>
        <p:blipFill>
          <a:blip r:embed="rId3"/>
          <a:stretch/>
        </p:blipFill>
        <p:spPr>
          <a:xfrm rot="2061600">
            <a:off x="4802040" y="4576680"/>
            <a:ext cx="1513080" cy="1487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2" descr=""/>
          <p:cNvPicPr/>
          <p:nvPr/>
        </p:nvPicPr>
        <p:blipFill>
          <a:blip r:embed="rId4"/>
          <a:stretch/>
        </p:blipFill>
        <p:spPr>
          <a:xfrm rot="3585600">
            <a:off x="785880" y="4563720"/>
            <a:ext cx="1512720" cy="14875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409680" y="4046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Sčítání více zlom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1135080" y="2028960"/>
                <a:ext cx="28605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5"/>
          <p:cNvSpPr/>
          <p:nvPr/>
        </p:nvSpPr>
        <p:spPr>
          <a:xfrm>
            <a:off x="409680" y="907920"/>
            <a:ext cx="8208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bdobně jako v případě dvou zlomků postupujeme i v případě sčítání většího počtu zlom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1327320" y="1787400"/>
            <a:ext cx="550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1300320" y="2606760"/>
            <a:ext cx="549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2106720" y="1787400"/>
            <a:ext cx="431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2108160" y="2606760"/>
            <a:ext cx="432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2727360" y="1787400"/>
            <a:ext cx="431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2728800" y="2592360"/>
            <a:ext cx="432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3417840" y="1787400"/>
            <a:ext cx="432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3462480" y="2592360"/>
            <a:ext cx="431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5" descr=""/>
          <p:cNvPicPr/>
          <p:nvPr/>
        </p:nvPicPr>
        <p:blipFill>
          <a:blip r:embed="rId5"/>
          <a:stretch/>
        </p:blipFill>
        <p:spPr>
          <a:xfrm>
            <a:off x="826920" y="4567320"/>
            <a:ext cx="1513080" cy="1487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"/>
          <p:cNvPicPr/>
          <p:nvPr/>
        </p:nvPicPr>
        <p:blipFill>
          <a:blip r:embed="rId6"/>
          <a:stretch/>
        </p:blipFill>
        <p:spPr>
          <a:xfrm>
            <a:off x="2786040" y="4581360"/>
            <a:ext cx="1513080" cy="1487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"/>
          <p:cNvPicPr/>
          <p:nvPr/>
        </p:nvPicPr>
        <p:blipFill>
          <a:blip r:embed="rId7"/>
          <a:stretch/>
        </p:blipFill>
        <p:spPr>
          <a:xfrm>
            <a:off x="4859280" y="4581360"/>
            <a:ext cx="1513080" cy="1487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8" descr=""/>
          <p:cNvPicPr/>
          <p:nvPr/>
        </p:nvPicPr>
        <p:blipFill>
          <a:blip r:embed="rId8"/>
          <a:stretch/>
        </p:blipFill>
        <p:spPr>
          <a:xfrm>
            <a:off x="6904080" y="4562640"/>
            <a:ext cx="1512720" cy="1487160"/>
          </a:xfrm>
          <a:prstGeom prst="rect">
            <a:avLst/>
          </a:prstGeom>
          <a:ln w="0">
            <a:noFill/>
          </a:ln>
        </p:spPr>
      </p:pic>
      <p:sp>
        <p:nvSpPr>
          <p:cNvPr id="196" name="Oval 47"/>
          <p:cNvSpPr/>
          <p:nvPr/>
        </p:nvSpPr>
        <p:spPr>
          <a:xfrm>
            <a:off x="1071720" y="2406600"/>
            <a:ext cx="2663640" cy="720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8"/>
          <p:cNvSpPr/>
          <p:nvPr/>
        </p:nvSpPr>
        <p:spPr>
          <a:xfrm>
            <a:off x="3995640" y="2997360"/>
            <a:ext cx="4608720" cy="1871640"/>
          </a:xfrm>
          <a:prstGeom prst="cloudCallout">
            <a:avLst>
              <a:gd name="adj1" fmla="val -76833"/>
              <a:gd name="adj2" fmla="val -397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Nejmenším společným jmenovatelem sčítaných zlomků je číslo 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49"/>
              <p:cNvSpPr txBox="1"/>
              <p:nvPr/>
            </p:nvSpPr>
            <p:spPr>
              <a:xfrm>
                <a:off x="4010040" y="2031840"/>
                <a:ext cx="32972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+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+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+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50"/>
              <p:cNvSpPr txBox="1"/>
              <p:nvPr/>
            </p:nvSpPr>
            <p:spPr>
              <a:xfrm>
                <a:off x="4056120" y="2043000"/>
                <a:ext cx="5302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51"/>
              <p:cNvSpPr txBox="1"/>
              <p:nvPr/>
            </p:nvSpPr>
            <p:spPr>
              <a:xfrm>
                <a:off x="4848120" y="2048040"/>
                <a:ext cx="5302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52"/>
              <p:cNvSpPr txBox="1"/>
              <p:nvPr/>
            </p:nvSpPr>
            <p:spPr>
              <a:xfrm>
                <a:off x="5656320" y="2044800"/>
                <a:ext cx="49824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3"/>
              <p:cNvSpPr txBox="1"/>
              <p:nvPr/>
            </p:nvSpPr>
            <p:spPr>
              <a:xfrm>
                <a:off x="6458040" y="2043000"/>
                <a:ext cx="466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4"/>
              <p:cNvSpPr txBox="1"/>
              <p:nvPr/>
            </p:nvSpPr>
            <p:spPr>
              <a:xfrm>
                <a:off x="7307280" y="2031840"/>
                <a:ext cx="5904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55"/>
              <p:cNvSpPr txBox="1"/>
              <p:nvPr/>
            </p:nvSpPr>
            <p:spPr>
              <a:xfrm>
                <a:off x="3701880" y="3284640"/>
                <a:ext cx="8701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56"/>
              <p:cNvSpPr txBox="1"/>
              <p:nvPr/>
            </p:nvSpPr>
            <p:spPr>
              <a:xfrm>
                <a:off x="4595760" y="3284640"/>
                <a:ext cx="8398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Line 57"/>
          <p:cNvSpPr/>
          <p:nvPr/>
        </p:nvSpPr>
        <p:spPr>
          <a:xfrm>
            <a:off x="3635280" y="4292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8"/>
          <p:cNvSpPr/>
          <p:nvPr/>
        </p:nvSpPr>
        <p:spPr>
          <a:xfrm>
            <a:off x="3635280" y="43369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96800" y="907920"/>
            <a:ext cx="8251920" cy="554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09680" y="404640"/>
            <a:ext cx="8555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nyní již příklady k procvičení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pr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954000" cy="5327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2"/>
          <a:stretch/>
        </p:blipFill>
        <p:spPr>
          <a:xfrm>
            <a:off x="3325680" y="950760"/>
            <a:ext cx="1030320" cy="540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3"/>
          <a:stretch/>
        </p:blipFill>
        <p:spPr>
          <a:xfrm>
            <a:off x="6014880" y="936720"/>
            <a:ext cx="1078200" cy="54021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7"/>
          <p:cNvSpPr/>
          <p:nvPr/>
        </p:nvSpPr>
        <p:spPr>
          <a:xfrm>
            <a:off x="6804000" y="6237360"/>
            <a:ext cx="20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09-02-14T11:45:44Z</dcterms:modified>
  <cp:revision>247</cp:revision>
  <dc:subject/>
  <dc:title>Zlomky 6 - sčítání</dc:title>
</cp:coreProperties>
</file>