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6593-D578-4FED-8DE6-9599D960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A2D3-A4AF-441F-90D4-1D394649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FF38-A0A2-44F0-9B23-D72370854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672E-E6B2-42F7-9A6E-F74D2C09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0412-3BBA-41EE-B8CD-C2941764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7191-119D-46A8-B113-5EB4A2BE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17EA-C303-4B6B-8791-43BAAFD3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3514-7F9C-4184-9C3E-766C1083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A410-D869-44B0-AFC1-22418D85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243D-A2AB-44A8-A1D2-23CCCBD1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2C8A-9362-4E73-8AA0-FFD854A6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E94C-45B8-44D5-88AA-70145CC1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823C-7505-4331-8A0E-885E57F5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FBA7-DD32-4762-81ED-CD45F1B0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9B3D-FE31-4DC1-BBE6-B4EBE3B8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161F-0C98-49BF-9626-C4BE0C7A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0C7C-95A9-4C32-9C3A-789C4D1C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8B03-720F-4822-A8D2-1783DCB9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C77D-7C70-4A6A-A402-B5885D50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402B-7F08-4AD0-AB0F-36CD9DEE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269E-A68A-471D-B4A5-A868BC00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4409-61BA-48B8-8A22-DEB447D5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BCBE-E4B0-4DB7-820B-E5100CB0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7914-ED6F-4BC9-BE3C-5223ED6F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F07C-0195-4218-A558-82351ADECB7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20D2-DC73-4E35-A17F-8CB6975424DF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hyperlink" Target="http://www.sadlier-oxford.com/math/practice/gr2/Chapt_10/compare/0210.html" TargetMode="External"/><Relationship Id="rId4" Type="http://schemas.openxmlformats.org/officeDocument/2006/relationships/hyperlink" Target="http://www.sadlier-oxford.com/math/practice/gr2/Chapt_10/compare/0210.html" TargetMode="External"/><Relationship Id="rId5" Type="http://schemas.openxmlformats.org/officeDocument/2006/relationships/hyperlink" Target="http://www.sadlier-oxford.com/math/practice/gr2/Chapt_10/compare/0210.html" TargetMode="External"/><Relationship Id="rId6" Type="http://schemas.openxmlformats.org/officeDocument/2006/relationships/hyperlink" Target="http://www.sadlier-oxford.com/math/practice/gr2/Chapt_10/compare/0210.html" TargetMode="External"/><Relationship Id="rId7" Type="http://schemas.openxmlformats.org/officeDocument/2006/relationships/hyperlink" Target="http://www.sadlier-oxford.com/math/practice/gr2/Chapt_10/compare/0210.html" TargetMode="External"/><Relationship Id="rId8" Type="http://schemas.openxmlformats.org/officeDocument/2006/relationships/hyperlink" Target="http://www.sadlier-oxford.com/math/practice/gr2/Chapt_10/compare/0210.html" TargetMode="External"/><Relationship Id="rId9" Type="http://schemas.openxmlformats.org/officeDocument/2006/relationships/hyperlink" Target="http://www.sadlier-oxford.com/math/practice/gr2/Chapt_10/compare/0210.html" TargetMode="External"/><Relationship Id="rId10" Type="http://schemas.openxmlformats.org/officeDocument/2006/relationships/hyperlink" Target="http://www.sadlier-oxford.com/math/practice/gr2/Chapt_10/compare/0210.html" TargetMode="External"/><Relationship Id="rId11" Type="http://schemas.openxmlformats.org/officeDocument/2006/relationships/hyperlink" Target="http://www.sadlier-oxford.com/math/practice/gr2/Chapt_10/compare/0210.html" TargetMode="External"/><Relationship Id="rId12" Type="http://schemas.openxmlformats.org/officeDocument/2006/relationships/hyperlink" Target="http://www.sadlier-oxford.com/math/practice/gr2/Chapt_10/compare/0210.html" TargetMode="External"/><Relationship Id="rId13" Type="http://schemas.openxmlformats.org/officeDocument/2006/relationships/hyperlink" Target="http://www.sadlier-oxford.com/math/practice/gr2/Chapt_10/compare/0210.html" TargetMode="External"/><Relationship Id="rId14" Type="http://schemas.openxmlformats.org/officeDocument/2006/relationships/hyperlink" Target="http://www.sadlier-oxford.com/math/practice/gr2/Chapt_10/compare/0210.html" TargetMode="External"/><Relationship Id="rId15" Type="http://schemas.openxmlformats.org/officeDocument/2006/relationships/hyperlink" Target="http://www.sadlier-oxford.com/math/practice/gr2/Chapt_10/compare/0210.html" TargetMode="External"/><Relationship Id="rId16" Type="http://schemas.openxmlformats.org/officeDocument/2006/relationships/hyperlink" Target="http://www.sadlier-oxford.com/math/practice/gr2/Chapt_10/compare/0210.html" TargetMode="External"/><Relationship Id="rId17" Type="http://schemas.openxmlformats.org/officeDocument/2006/relationships/hyperlink" Target="http://www.sadlier-oxford.com/math/practice/gr2/Chapt_10/compare/0210.html" TargetMode="External"/><Relationship Id="rId18" Type="http://schemas.openxmlformats.org/officeDocument/2006/relationships/hyperlink" Target="http://www.sadlier-oxford.com/math/practice/gr2/Chapt_10/compare/0210.html" TargetMode="External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Zlomky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280"/>
            <a:ext cx="80773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Porovnávání zlomků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2565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164360" y="1125360"/>
            <a:ext cx="1763640" cy="17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68360" y="2349360"/>
            <a:ext cx="8207280" cy="40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orovnání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5640" y="5516640"/>
            <a:ext cx="784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Stejné jmenovatele zlomků znamenají rozdělení celku na stejné části. Který zlomek má tedy těchto stejných částí více, jinými slovy má většího čitatele, ten je větší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1120" y="98100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a minulém snímku jsme zjistili, že základní tvary daných zlomků se sobě nerovnají, tudíž se nerovnají ani dané zlomky. Jak ale zjistíme, který </a:t>
            </a:r>
            <a:br>
              <a:rPr sz="1800"/>
            </a:b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z nich je větší, který vyjadřuje větší část celk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833480" y="2492280"/>
                <a:ext cx="3621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409680" y="15429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Na to se nyní společně pokusíme najít odpově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9680" y="184464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ačněme porovnáváním zlomků se stejnými jmenovate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84360" y="3605040"/>
            <a:ext cx="1579320" cy="1552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2627280" y="3597120"/>
            <a:ext cx="1584360" cy="155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627280" y="2492280"/>
                <a:ext cx="333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282760" y="2781360"/>
                <a:ext cx="2779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2138400" y="4005360"/>
            <a:ext cx="72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6804000" y="3586320"/>
            <a:ext cx="1584360" cy="1558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4788000" y="3613320"/>
            <a:ext cx="1584360" cy="1558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026040" y="2492280"/>
                <a:ext cx="333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6805440" y="2492280"/>
                <a:ext cx="333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461280" y="2781360"/>
                <a:ext cx="27756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6313320" y="4005360"/>
            <a:ext cx="72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68360" y="1341360"/>
            <a:ext cx="820728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orovnání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5157720"/>
            <a:ext cx="784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cc00"/>
                </a:solidFill>
                <a:latin typeface="Trebuchet MS"/>
              </a:rPr>
              <a:t>Ze dvou zlomků se stejným nenulovým čitatelem je větší ten, který má menšího jmenovate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833480" y="1828800"/>
                <a:ext cx="3621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409680" y="83664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yní budeme porovnávat zlomky se stejnými čitate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2941560"/>
            <a:ext cx="1579320" cy="1552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614680" y="1828800"/>
                <a:ext cx="360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282760" y="2117880"/>
                <a:ext cx="2779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2138400" y="3341520"/>
            <a:ext cx="72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6804000" y="2922480"/>
            <a:ext cx="1584360" cy="1559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6026040" y="1828800"/>
                <a:ext cx="333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805440" y="1828800"/>
                <a:ext cx="333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461280" y="2117880"/>
                <a:ext cx="27756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6313320" y="3341520"/>
            <a:ext cx="72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4788000" y="2954160"/>
            <a:ext cx="1579320" cy="15544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2627280" y="2936880"/>
            <a:ext cx="1584360" cy="15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8360" y="1643040"/>
            <a:ext cx="8207280" cy="481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orovnání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03640" y="3500280"/>
            <a:ext cx="360072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Závěr:</a:t>
            </a:r>
            <a:br>
              <a:rPr sz="2400"/>
            </a:b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Zlomky porovnáváme tak, že je pomocí rozšiřování převedeme na společného jmenovatele a následně porovnáme čitate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755640" y="1884240"/>
                <a:ext cx="45576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409680" y="69228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yní budeme porovnávat zlomky s různými čitateli i jmenovate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733400" y="1882800"/>
                <a:ext cx="49212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270080" y="2305080"/>
                <a:ext cx="3794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090440" y="3370320"/>
                <a:ext cx="5842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490840" y="5157720"/>
            <a:ext cx="72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9680" y="105264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Zlomky převedeme na společné jmenovatele a teprve potom porovná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11280" y="1671480"/>
            <a:ext cx="605016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Na společného jmenovatele se zlomky uvádějí pomocí rozšiřování. Společného jmenovatele určíme jako nejmenší společný násobek jednotlivých jmenovatel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11280" y="2604960"/>
            <a:ext cx="6050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V našem případě je nejmenším společným násobkem jmenovatelů a tedy společným jmenovatelem číslo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843200" y="3375000"/>
                <a:ext cx="5014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1290600" y="3141720"/>
            <a:ext cx="432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92400" y="3862440"/>
            <a:ext cx="431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165480" y="3371760"/>
                <a:ext cx="612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932280" y="3376440"/>
                <a:ext cx="501480" cy="8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3379680" y="3143160"/>
            <a:ext cx="432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381480" y="3863880"/>
            <a:ext cx="431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826920" y="4437000"/>
            <a:ext cx="1735200" cy="16988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2922480" y="4437000"/>
            <a:ext cx="1735200" cy="16988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2951280" y="4437000"/>
            <a:ext cx="1728720" cy="17002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 rot="1713600">
            <a:off x="833040" y="4436640"/>
            <a:ext cx="1728720" cy="17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68360" y="1989000"/>
            <a:ext cx="8207280" cy="446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orovnání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390680" y="2028960"/>
                <a:ext cx="3729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409680" y="835200"/>
            <a:ext cx="8208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bdobně můžeme porovnávat jakýkoliv počet zlomků a seřazovat je vzestupně (od nejmenšího po největší) nebo sestupně (od největšího po nejmenší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203640" y="2027160"/>
                <a:ext cx="58896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941400" y="3152880"/>
                <a:ext cx="5842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679400" y="3157560"/>
                <a:ext cx="5302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1141560" y="2924280"/>
            <a:ext cx="5508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43000" y="3645000"/>
            <a:ext cx="5493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787480" y="3152880"/>
                <a:ext cx="7812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624120" y="3157560"/>
                <a:ext cx="5302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3114720" y="2924280"/>
            <a:ext cx="431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16160" y="3645000"/>
            <a:ext cx="432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5292720" y="2031840"/>
                <a:ext cx="37296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7110360" y="2027160"/>
                <a:ext cx="55728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4932360" y="3151080"/>
                <a:ext cx="612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684760" y="3156120"/>
                <a:ext cx="5302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5146560" y="2922480"/>
            <a:ext cx="432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48360" y="3643200"/>
            <a:ext cx="431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6721560" y="3149640"/>
                <a:ext cx="7794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7556400" y="3154320"/>
                <a:ext cx="5302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7018200" y="2921040"/>
            <a:ext cx="432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20000" y="3641760"/>
            <a:ext cx="431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826920" y="4567320"/>
            <a:ext cx="1513080" cy="14875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2786040" y="4581360"/>
            <a:ext cx="1513080" cy="14875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4859280" y="4581360"/>
            <a:ext cx="1513080" cy="14875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5"/>
          <a:stretch/>
        </p:blipFill>
        <p:spPr>
          <a:xfrm>
            <a:off x="6904080" y="4533840"/>
            <a:ext cx="1512720" cy="14875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6"/>
          <a:stretch/>
        </p:blipFill>
        <p:spPr>
          <a:xfrm rot="667200">
            <a:off x="2757600" y="4576680"/>
            <a:ext cx="1512720" cy="14875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7"/>
          <a:stretch/>
        </p:blipFill>
        <p:spPr>
          <a:xfrm>
            <a:off x="6905520" y="4519440"/>
            <a:ext cx="1513080" cy="14875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8"/>
          <a:stretch/>
        </p:blipFill>
        <p:spPr>
          <a:xfrm rot="2061600">
            <a:off x="4802040" y="4576680"/>
            <a:ext cx="1513080" cy="14875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755640" y="3860640"/>
            <a:ext cx="7993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rebuchet MS"/>
              </a:rPr>
              <a:t>Vzestupně (tj. pořadí od nejmenšího k největšímu)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048280" y="5415120"/>
            <a:ext cx="100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rebuchet MS"/>
              </a:rPr>
              <a:t>1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55720" y="5416560"/>
            <a:ext cx="100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rebuchet MS"/>
              </a:rPr>
              <a:t>2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948360" y="5416560"/>
            <a:ext cx="100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rebuchet MS"/>
              </a:rPr>
              <a:t>3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1640" y="5402160"/>
            <a:ext cx="100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rebuchet MS"/>
              </a:rPr>
              <a:t>4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050920" y="4599000"/>
            <a:ext cx="5042160" cy="9349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290760" y="4581360"/>
                <a:ext cx="269244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755640" y="3860640"/>
            <a:ext cx="7993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rebuchet MS"/>
              </a:rPr>
              <a:t>Sestupně (tj. pořadí od největšího k nejmenšímu)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771640" y="5402160"/>
            <a:ext cx="100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rebuchet MS"/>
              </a:rPr>
              <a:t>1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033880" y="5416560"/>
            <a:ext cx="100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rebuchet MS"/>
              </a:rPr>
              <a:t>4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62760" y="5415120"/>
            <a:ext cx="100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rebuchet MS"/>
              </a:rPr>
              <a:t>2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85960" y="5416560"/>
            <a:ext cx="100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rebuchet MS"/>
              </a:rPr>
              <a:t>3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978200" y="4599000"/>
            <a:ext cx="5041800" cy="9349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3102120" y="4595760"/>
                <a:ext cx="26920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900000" y="2421000"/>
            <a:ext cx="7344000" cy="720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76360" y="4437000"/>
            <a:ext cx="5183280" cy="1513080"/>
          </a:xfrm>
          <a:prstGeom prst="cloudCallout">
            <a:avLst>
              <a:gd name="adj1" fmla="val 10060"/>
              <a:gd name="adj2" fmla="val -13436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Nejmenším společným jmenovatelem je číslo 3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0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500"/>
                            </p:stCondLst>
                            <p:childTnLst>
                              <p:par>
                                <p:cTn id="9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500"/>
                            </p:stCondLst>
                            <p:childTnLst>
                              <p:par>
                                <p:cTn id="10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500"/>
                            </p:stCondLst>
                            <p:childTnLst>
                              <p:par>
                                <p:cTn id="10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96800" y="907920"/>
            <a:ext cx="8251920" cy="554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1979640" y="1990800"/>
            <a:ext cx="5213160" cy="4390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38040" y="404640"/>
            <a:ext cx="8410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– porovnej zlom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9640" y="10526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Otevřete následující odkaz, určete si výpočtem výsledek a pak si jej zkontroluj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11280" y="134136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http://www.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rebuchet MS"/>
                <a:hlinkClick r:id="rId4"/>
              </a:rPr>
              <a:t>sadlier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rebuchet MS"/>
                <a:hlinkClick r:id="rId5"/>
              </a:rPr>
              <a:t>-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rebuchet MS"/>
                <a:hlinkClick r:id="rId6"/>
              </a:rPr>
              <a:t>oxford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rebuchet MS"/>
                <a:hlinkClick r:id="rId7"/>
              </a:rPr>
              <a:t>.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rebuchet MS"/>
                <a:hlinkClick r:id="rId8"/>
              </a:rPr>
              <a:t>com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rebuchet MS"/>
                <a:hlinkClick r:id="rId9"/>
              </a:rPr>
              <a:t>/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rebuchet MS"/>
                <a:hlinkClick r:id="rId10"/>
              </a:rPr>
              <a:t>math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rebuchet MS"/>
                <a:hlinkClick r:id="rId11"/>
              </a:rPr>
              <a:t>/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rebuchet MS"/>
                <a:hlinkClick r:id="rId12"/>
              </a:rPr>
              <a:t>practice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rebuchet MS"/>
                <a:hlinkClick r:id="rId13"/>
              </a:rPr>
              <a:t>/gr2/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rebuchet MS"/>
                <a:hlinkClick r:id="rId14"/>
              </a:rPr>
              <a:t>Chapt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rebuchet MS"/>
                <a:hlinkClick r:id="rId15"/>
              </a:rPr>
              <a:t>_10/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rebuchet MS"/>
                <a:hlinkClick r:id="rId16"/>
              </a:rPr>
              <a:t>compare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rebuchet MS"/>
                <a:hlinkClick r:id="rId17"/>
              </a:rPr>
              <a:t>/0210.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Trebuchet MS"/>
                <a:hlinkClick r:id="rId18"/>
              </a:rPr>
              <a:t>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9640" y="16574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můcka, jak na to (klikej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4869000"/>
            <a:ext cx="1979640" cy="1512720"/>
          </a:xfrm>
          <a:prstGeom prst="cloudCallout">
            <a:avLst>
              <a:gd name="adj1" fmla="val 109023"/>
              <a:gd name="adj2" fmla="val -3468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Porovnej výpočtem dané zlomky a urči, který znak mezi ně správně patř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95640" y="1844640"/>
            <a:ext cx="1979640" cy="1513080"/>
          </a:xfrm>
          <a:prstGeom prst="cloudCallout">
            <a:avLst>
              <a:gd name="adj1" fmla="val -71972"/>
              <a:gd name="adj2" fmla="val 7780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Pro kontrolu klikni do tolika políček, kolik jich má být vybráno dle čitat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364000" y="3141720"/>
            <a:ext cx="1979640" cy="1512720"/>
          </a:xfrm>
          <a:prstGeom prst="cloudCallout">
            <a:avLst>
              <a:gd name="adj1" fmla="val -91300"/>
              <a:gd name="adj2" fmla="val 5807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Přesuň do kružnice správný matematický operá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227640" y="4581360"/>
            <a:ext cx="2160720" cy="1657440"/>
          </a:xfrm>
          <a:prstGeom prst="cloudCallout">
            <a:avLst>
              <a:gd name="adj1" fmla="val -102166"/>
              <a:gd name="adj2" fmla="val 2605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Klikni pro ještě jednu kontrolu, zároveň však pro vyvolání nového příklad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0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96800" y="907920"/>
            <a:ext cx="8251920" cy="554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668600" y="2043000"/>
            <a:ext cx="5999040" cy="43070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– seřaď zlom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9640" y="90792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Otevřete následující odkaz, určete pořadí zlomků a pak si proveďte kontrol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11280" y="1268280"/>
            <a:ext cx="792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http://www.bbc.co.uk/skillswise/numbers/fractiondecimalpercentage/fractions/comparingfractions/flash2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39640" y="16574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můcka, jak na to (klikej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300720" y="2852640"/>
            <a:ext cx="1979640" cy="1513080"/>
          </a:xfrm>
          <a:prstGeom prst="cloudCallout">
            <a:avLst>
              <a:gd name="adj1" fmla="val -39092"/>
              <a:gd name="adj2" fmla="val 1455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Klikni na tlačítko PL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0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496800" y="907920"/>
            <a:ext cx="8251920" cy="554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1619280" y="2001960"/>
            <a:ext cx="6043680" cy="43797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– seřaď zlom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9640" y="90792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Otevřete následující odkaz, určete pořadí zlomků a pak si proveďte kontrol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11280" y="1268280"/>
            <a:ext cx="792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http://www.bbc.co.uk/skillswise/numbers/fractiondecimalpercentage/fractions/comparingfractions/flash2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39640" y="16574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můcka, jak na to (klikej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12000" y="2708280"/>
            <a:ext cx="1979640" cy="1512720"/>
          </a:xfrm>
          <a:prstGeom prst="cloudCallout">
            <a:avLst>
              <a:gd name="adj1" fmla="val -115277"/>
              <a:gd name="adj2" fmla="val 617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Zvol si úroveň obtíž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0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496800" y="907920"/>
            <a:ext cx="8251920" cy="554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1706400" y="1998720"/>
            <a:ext cx="6019920" cy="4383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– seřaď zlom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9640" y="90792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Otevřete následující odkaz, určete pořadí zlomků a pak si proveďte kontrol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1280" y="1268280"/>
            <a:ext cx="792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http://www.bbc.co.uk/skillswise/numbers/fractiondecimalpercentage/fractions/comparingfractions/flash2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16574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můcka, jak na to (klikej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4653000"/>
            <a:ext cx="1979640" cy="1512720"/>
          </a:xfrm>
          <a:prstGeom prst="cloudCallout">
            <a:avLst>
              <a:gd name="adj1" fmla="val 47435"/>
              <a:gd name="adj2" fmla="val -10487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Seřaď si výpočtem dané zlom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708360" y="1557360"/>
            <a:ext cx="1979640" cy="1512720"/>
          </a:xfrm>
          <a:prstGeom prst="cloudCallout">
            <a:avLst>
              <a:gd name="adj1" fmla="val 120648"/>
              <a:gd name="adj2" fmla="val 3782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Pozor! Pokud uděláš chybu, ztrácíš živ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92360" y="4292640"/>
            <a:ext cx="1979640" cy="1512720"/>
          </a:xfrm>
          <a:prstGeom prst="cloudCallout">
            <a:avLst>
              <a:gd name="adj1" fmla="val -61305"/>
              <a:gd name="adj2" fmla="val -968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Přesuň zlomky na správné místo tak, abys dodržel/a jejich pořad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04000" y="3860640"/>
            <a:ext cx="2160720" cy="1657440"/>
          </a:xfrm>
          <a:prstGeom prst="cloudCallout">
            <a:avLst>
              <a:gd name="adj1" fmla="val -71824"/>
              <a:gd name="adj2" fmla="val 642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Po každém přesunu si můžeš udělat kontrolu správnosti kliknutím z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0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496800" y="98100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611280" y="112392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Shrnut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32000" y="1486080"/>
            <a:ext cx="5040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rebuchet MS"/>
              </a:rPr>
              <a:t>Zlomky porovnáváme tak, že je pomocí rozšiřování převedeme na společného jmenovatele a následně porovnáme čitate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5640" y="5445000"/>
            <a:ext cx="784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Ze dvou zlomků se stejným nenulovým čitatelem je větší ten, který má menšího jmenovate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55640" y="4508640"/>
            <a:ext cx="784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cc00"/>
                </a:solidFill>
                <a:latin typeface="Trebuchet MS"/>
              </a:rPr>
              <a:t>Ze dvou zlomků se stejným jmenovatelem je větší ten, který má většího čitate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0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8360" y="1700280"/>
            <a:ext cx="813600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336840" y="1989000"/>
            <a:ext cx="2314800" cy="2295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Zlom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765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louží k vyjádření části cel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125360"/>
            <a:ext cx="85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dělíme-li celek na stejné části, dostaneme zlom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4581360"/>
            <a:ext cx="2737080" cy="1513080"/>
          </a:xfrm>
          <a:prstGeom prst="cloudCallout">
            <a:avLst>
              <a:gd name="adj1" fmla="val 51912"/>
              <a:gd name="adj2" fmla="val -88194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kruh – jeden cel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212840" y="3284640"/>
                <a:ext cx="1081080" cy="27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900840" y="3284640"/>
                <a:ext cx="1081080" cy="27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352680" y="2028960"/>
            <a:ext cx="2295720" cy="2257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348000" y="2031840"/>
            <a:ext cx="2295720" cy="2257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859280" y="4437000"/>
            <a:ext cx="3529080" cy="1800360"/>
          </a:xfrm>
          <a:prstGeom prst="cloudCallout">
            <a:avLst>
              <a:gd name="adj1" fmla="val -32861"/>
              <a:gd name="adj2" fmla="val -80689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Kruh jsme rozdělili na sedm stejných částí – sedmi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1844640"/>
            <a:ext cx="1728720" cy="1368360"/>
          </a:xfrm>
          <a:prstGeom prst="cloudCallout">
            <a:avLst>
              <a:gd name="adj1" fmla="val 105648"/>
              <a:gd name="adj2" fmla="val 100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ět sed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88000" y="1916280"/>
            <a:ext cx="1729080" cy="1368360"/>
          </a:xfrm>
          <a:prstGeom prst="cloudCallout">
            <a:avLst>
              <a:gd name="adj1" fmla="val -107486"/>
              <a:gd name="adj2" fmla="val 47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ři sedm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1413000"/>
            <a:ext cx="8136000" cy="49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Zápis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765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Matematický zápis zlomku tvoří tři čá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652840" y="2637000"/>
                <a:ext cx="1081080" cy="27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5221440" y="3141720"/>
            <a:ext cx="2950920" cy="1368360"/>
          </a:xfrm>
          <a:prstGeom prst="cloudCallout">
            <a:avLst>
              <a:gd name="adj1" fmla="val -101750"/>
              <a:gd name="adj2" fmla="val 1624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zlomková čá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6720" y="1557360"/>
            <a:ext cx="2951280" cy="1440000"/>
          </a:xfrm>
          <a:prstGeom prst="cloudCallout">
            <a:avLst>
              <a:gd name="adj1" fmla="val -101319"/>
              <a:gd name="adj2" fmla="val 63231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čita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(vyjadřuje počet  stejných díl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3640" y="4581360"/>
            <a:ext cx="3097440" cy="1713240"/>
          </a:xfrm>
          <a:prstGeom prst="cloudCallout">
            <a:avLst>
              <a:gd name="adj1" fmla="val -94694"/>
              <a:gd name="adj2" fmla="val -38879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jmenova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(vyjadřuje na kolik stejných dílů je celek rozdě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24360" y="2852640"/>
            <a:ext cx="44640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Pět (stejných) dílů z osmi (stejných) dílů, tj. pět osmin.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640" y="1469880"/>
            <a:ext cx="2295720" cy="2257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808360" y="1628640"/>
            <a:ext cx="55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apiš zlomkem žlutou část cel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1700280"/>
            <a:ext cx="820728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9680" y="11592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orovnávání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1197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i porovnávání zlomků mohou nastat tři možnos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57360" y="2827440"/>
            <a:ext cx="2773080" cy="2705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35280" y="1773360"/>
                <a:ext cx="55584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651640" y="2884320"/>
            <a:ext cx="2808000" cy="2705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792680" y="1773360"/>
                <a:ext cx="78732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309920" y="2262240"/>
                <a:ext cx="4636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468360" y="69228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i porovnávání zlomků určujeme, který z nich vyjadřuje větší část celku, větší množstv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558972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První zlomek je větší než druh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3645000"/>
            <a:ext cx="8209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284c6a"/>
                </a:solidFill>
                <a:latin typeface="Trebuchet MS"/>
              </a:rPr>
              <a:t>&gt;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1700280"/>
            <a:ext cx="820728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9680" y="11592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orovnávání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197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i porovnávání zlomků mohou nastat tři možnos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583080" y="1773360"/>
                <a:ext cx="83340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08600" y="1773360"/>
                <a:ext cx="55548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395960" y="2262240"/>
                <a:ext cx="4633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468360" y="69228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i porovnávání zlomků určujeme, který z nich vyjadřuje větší část celku, větší množstv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558972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00"/>
                </a:solidFill>
                <a:latin typeface="Trebuchet MS"/>
              </a:rPr>
              <a:t>První zlomek je </a:t>
            </a: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men</a:t>
            </a:r>
            <a:r>
              <a:rPr b="1" lang="cs-CZ" sz="3600" spc="-1" strike="noStrike">
                <a:solidFill>
                  <a:srgbClr val="00cc00"/>
                </a:solidFill>
                <a:latin typeface="Trebuchet MS"/>
              </a:rPr>
              <a:t>ší než druh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3645000"/>
            <a:ext cx="8209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284c6a"/>
                </a:solidFill>
                <a:latin typeface="Trebuchet MS"/>
              </a:rPr>
              <a:t>&lt;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587920" y="2612880"/>
            <a:ext cx="2879640" cy="2832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41240" y="2612880"/>
            <a:ext cx="2880000" cy="283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8360" y="1700280"/>
            <a:ext cx="820728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9680" y="11592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orovnávání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197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i porovnávání zlomků mohou nastat tři možnos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699000" y="1773360"/>
                <a:ext cx="60156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908600" y="1773360"/>
                <a:ext cx="55548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338720" y="2308320"/>
                <a:ext cx="4633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468360" y="69228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i porovnávání zlomků určujeme, který z nich vyjadřuje větší část celku, větší množstv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558972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První zlomek se rovná druhém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3645000"/>
            <a:ext cx="8209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82560" y="2492280"/>
            <a:ext cx="2952720" cy="2903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580000" y="2503440"/>
            <a:ext cx="2952720" cy="290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1413000"/>
            <a:ext cx="8207280" cy="49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680" y="11592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Rovnost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699000" y="1557360"/>
                <a:ext cx="60156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908600" y="1557360"/>
                <a:ext cx="55548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338720" y="2092320"/>
                <a:ext cx="4633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68360" y="69228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lomky se sobě rovnají, když vyjadřují stejné množství, stejnou část cel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82560" y="2982960"/>
            <a:ext cx="3299040" cy="3243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262480" y="2994120"/>
            <a:ext cx="3299040" cy="3243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712800" y="2997360"/>
            <a:ext cx="3294000" cy="3240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5281560" y="2992320"/>
            <a:ext cx="3294000" cy="3240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867040" y="2957400"/>
                <a:ext cx="3389400" cy="327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612720" y="1774800"/>
            <a:ext cx="7920000" cy="39592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rebuchet MS"/>
              </a:rPr>
              <a:t>Chceme-li zjistit, zda se sobě zlomky rovnají, porovnáme je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rebuchet MS"/>
              </a:rPr>
              <a:t>v základním tvaru!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5320" y="1773360"/>
            <a:ext cx="7920360" cy="39592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rebuchet MS"/>
              </a:rPr>
              <a:t>Pokud je základní tvar stejný, vyjadřují zlomky stejnou část celku, tzn. rovnají s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68360" y="1700280"/>
            <a:ext cx="820728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65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Rovnost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478560" y="1768320"/>
                <a:ext cx="641520" cy="8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7210440" y="1770120"/>
                <a:ext cx="5302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755640" y="2852640"/>
            <a:ext cx="784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Do základního tvaru se zlomky uvádějí pomocí krácení. </a:t>
            </a:r>
            <a:br>
              <a:rPr sz="1800"/>
            </a:b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Budeme tedy dané zlomky krátit. </a:t>
            </a:r>
            <a:br>
              <a:rPr sz="1800"/>
            </a:b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Krátit se dá různými způsoby, a tak si ukážeme alespoň dvě varian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90792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lomky vyjadřují stejnou část celku, pokud se rovná jejich základní tv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170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říklad č. 1: Zjisti, zda se následující zlomky sobě rovnaj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826920" y="3789360"/>
                <a:ext cx="7812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677960" y="3789360"/>
                <a:ext cx="3351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826920" y="5224320"/>
                <a:ext cx="781200" cy="8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643040" y="5224320"/>
                <a:ext cx="782640" cy="8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841320" y="4610160"/>
            <a:ext cx="8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e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440080" y="5229360"/>
                <a:ext cx="3348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435640" y="3786120"/>
                <a:ext cx="7808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6375240" y="3789360"/>
                <a:ext cx="6130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093080" y="3789360"/>
                <a:ext cx="3333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499000" y="5229360"/>
                <a:ext cx="78120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364440" y="5229360"/>
                <a:ext cx="78084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253280" y="5229360"/>
                <a:ext cx="58572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7885080" y="5229360"/>
                <a:ext cx="33516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5489640" y="4610160"/>
            <a:ext cx="8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e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01680" y="368784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: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87280" y="4394160"/>
            <a:ext cx="5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: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87280" y="5084640"/>
            <a:ext cx="5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: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01680" y="5805360"/>
            <a:ext cx="5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: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94040" y="5084640"/>
            <a:ext cx="57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: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94040" y="5805360"/>
            <a:ext cx="57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: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96000" y="3645000"/>
            <a:ext cx="5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: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6000" y="4437000"/>
            <a:ext cx="5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: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3645000"/>
            <a:ext cx="5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: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88000" y="4437000"/>
            <a:ext cx="5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: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5084640"/>
            <a:ext cx="5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: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7280" y="5805360"/>
            <a:ext cx="5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: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32720" y="5084640"/>
            <a:ext cx="57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: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32720" y="5805360"/>
            <a:ext cx="57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: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451640" y="5084640"/>
            <a:ext cx="5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: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451640" y="5805360"/>
            <a:ext cx="5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: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274920" y="5043600"/>
                <a:ext cx="165744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8360" y="1700280"/>
            <a:ext cx="820728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65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Rovnost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284720" y="1768320"/>
                <a:ext cx="1479600" cy="8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755640" y="2852640"/>
            <a:ext cx="784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Zda rovnost platí, poznáme po uvedení zlomků do základního tvaru.</a:t>
            </a:r>
            <a:br>
              <a:rPr sz="1800"/>
            </a:b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Jak již bylo řečeno, do základního tvaru se zlomky uvádějí pomocí krácení. Budeme tedy opět dané zlomky krát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90792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lomky vyjadřují stejnou část celku, pokud se rovná jejich základní tv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170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říklad č. 2: Platí následující rovnos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055520" y="3789360"/>
                <a:ext cx="8082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916280" y="3789360"/>
                <a:ext cx="8092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807160" y="3786120"/>
                <a:ext cx="9763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800760" y="3789360"/>
                <a:ext cx="7812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7666200" y="3789360"/>
                <a:ext cx="3618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1442880" y="368784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: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28840" y="4394160"/>
            <a:ext cx="57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: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3160" y="3645000"/>
            <a:ext cx="5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: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83160" y="4437000"/>
            <a:ext cx="5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: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75520" y="3645000"/>
            <a:ext cx="5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: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75520" y="4437000"/>
            <a:ext cx="5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: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232080" y="4551480"/>
                <a:ext cx="2502000" cy="14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den>
                    </m:f>
                    <m:r>
                      <m:t xml:space="preserve">≠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2306520" y="368784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: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92480" y="4394160"/>
            <a:ext cx="57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: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797200" y="3789360"/>
                <a:ext cx="3348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9-02-13T09:54:54Z</dcterms:modified>
  <cp:revision>230</cp:revision>
  <dc:subject/>
  <dc:title>Zlomky 5 - porovnávání</dc:title>
</cp:coreProperties>
</file>