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957-FB1D-4AD5-BC54-59DBD44D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D43-8737-426E-A3A9-0753499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3C3-72F4-4B03-816F-A772F850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D7B-4CC8-4C98-8454-1F35C04F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C15C-1BF4-4E33-9C7F-2DBFBE46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EF8-C743-4AE5-8D37-41FEE661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31B3-0D78-4C6D-B216-776F8EE7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AA2F-486D-4551-B97D-4A54B0E1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7B4C-859F-4787-9941-18669FC3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CAC-563E-4A68-8935-4FDDF8F5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4199-C74F-400A-BD8D-2B6FAC6A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9E1-EF43-4082-B048-0D9CC662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EDE-1F82-4749-967B-6CA0B33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40D-CB6D-4E2B-8AC1-96FF7D04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38C-8FA1-4929-A2F6-01A7D0CD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622A-3BB5-4592-8795-76F8F124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8D49-1AC8-48C0-AEE5-FF340424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F2B-E016-4D09-861D-B4A4FD10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6FD-35DD-47E2-9417-DA789F85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A45-0C38-4A3A-AFA9-36C912EB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DCE-4989-419B-B16C-025DBE40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C86-F928-4DD4-8781-1EA59428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3DA-04DA-42A5-A99F-F8A452C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69B-1D98-4847-9987-AD162926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7813-0B0F-47B2-9540-36993A13957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2F00-32CB-4E61-84D4-50838E815AE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Čísla smíšená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8360" y="1477800"/>
            <a:ext cx="6856200" cy="4543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519200" y="1528920"/>
            <a:ext cx="617400" cy="446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543560" y="1495440"/>
            <a:ext cx="590400" cy="4468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559640" y="1405080"/>
            <a:ext cx="684360" cy="4687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1290600" y="1622520"/>
            <a:ext cx="174600" cy="4197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4284720" y="1628640"/>
            <a:ext cx="174600" cy="4197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7350120" y="1628640"/>
            <a:ext cx="174600" cy="419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84400" y="1549440"/>
                <a:ext cx="471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084400" y="3097080"/>
                <a:ext cx="471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092320" y="5403960"/>
                <a:ext cx="4557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162400" y="3111480"/>
                <a:ext cx="471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8086680" y="1501920"/>
                <a:ext cx="4716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116920" y="5402160"/>
                <a:ext cx="439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apiš následující zlomky smíšenými čís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68360" y="1352520"/>
            <a:ext cx="7016760" cy="46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5280" y="907920"/>
            <a:ext cx="84247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8360" y="1389240"/>
            <a:ext cx="7016760" cy="4646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290600" y="1557360"/>
            <a:ext cx="179280" cy="4327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11280" y="1512720"/>
            <a:ext cx="614520" cy="4565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4392720" y="1557360"/>
            <a:ext cx="179280" cy="4327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7488360" y="1557360"/>
            <a:ext cx="179280" cy="4327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4653000" y="1441440"/>
            <a:ext cx="754200" cy="4616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7729560" y="1428840"/>
            <a:ext cx="630360" cy="4722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79640" y="3071880"/>
                <a:ext cx="423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957320" y="3878280"/>
                <a:ext cx="469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6360" y="4681440"/>
                <a:ext cx="453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193240" y="5473800"/>
                <a:ext cx="469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8282160" y="3086280"/>
                <a:ext cx="422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1382760"/>
            <a:ext cx="6772320" cy="4840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apiš následující zlomky smíšenými čís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1415880"/>
            <a:ext cx="70549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6926040" cy="4751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eveď následující smíšená čísla na zlom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932040" y="1409760"/>
            <a:ext cx="72403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39640" y="1353960"/>
            <a:ext cx="6929640" cy="4811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eveď následující smíšená čísla na zlom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900000" y="1407960"/>
            <a:ext cx="722340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39640" y="1378080"/>
            <a:ext cx="6840720" cy="4787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šes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eveď následující smíšená čísla na zlom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3280" y="1341360"/>
            <a:ext cx="4032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341360"/>
            <a:ext cx="4032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ruhy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9680" y="76500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lomky rozdělujeme na pravé a neprav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1628640"/>
                <a:ext cx="5745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16480" y="335772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93760" y="227808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156360" y="2349360"/>
                <a:ext cx="7938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71720" y="3357720"/>
                <a:ext cx="749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308720" y="3357720"/>
                <a:ext cx="5288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32000" y="155736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932360" y="1557360"/>
                <a:ext cx="836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92360" y="335772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67640" y="1413000"/>
                <a:ext cx="528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41440" y="508464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Čitatel je menší než jmenovatel – pravý zlom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2040" y="5084640"/>
            <a:ext cx="37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Čitatel je větší než jmenovatel – nepravý zlom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5834160"/>
            <a:ext cx="374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avý zlomek je menší než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02320" y="5834160"/>
            <a:ext cx="391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pravý zlomek je větší než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šes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900000" y="1395360"/>
            <a:ext cx="7201080" cy="48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6800" y="98100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lomek a smíšené číslo - shrnu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3640" y="4076640"/>
            <a:ext cx="54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řevod ze zlomku na smíšené čís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59280" y="112536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řevod ze smíšeného čísl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a zlom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87960" y="2001960"/>
                <a:ext cx="186840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4024440" y="3024360"/>
            <a:ext cx="1019160" cy="1020600"/>
          </a:xfrm>
          <a:custGeom>
            <a:avLst/>
            <a:gdLst/>
            <a:ahLst/>
            <a:rect l="l" t="t" r="r" b="b"/>
            <a:pathLst>
              <a:path w="642" h="643">
                <a:moveTo>
                  <a:pt x="642" y="499"/>
                </a:moveTo>
                <a:cubicBezTo>
                  <a:pt x="592" y="563"/>
                  <a:pt x="543" y="627"/>
                  <a:pt x="460" y="635"/>
                </a:cubicBezTo>
                <a:cubicBezTo>
                  <a:pt x="377" y="643"/>
                  <a:pt x="218" y="613"/>
                  <a:pt x="143" y="545"/>
                </a:cubicBezTo>
                <a:cubicBezTo>
                  <a:pt x="68" y="477"/>
                  <a:pt x="0" y="318"/>
                  <a:pt x="7" y="227"/>
                </a:cubicBezTo>
                <a:cubicBezTo>
                  <a:pt x="14" y="136"/>
                  <a:pt x="101" y="68"/>
                  <a:pt x="188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 rot="334800">
            <a:off x="4041360" y="1756800"/>
            <a:ext cx="1019160" cy="1079280"/>
          </a:xfrm>
          <a:custGeom>
            <a:avLst/>
            <a:gdLst/>
            <a:ahLst/>
            <a:rect l="l" t="t" r="r" b="b"/>
            <a:pathLst>
              <a:path w="642" h="643">
                <a:moveTo>
                  <a:pt x="642" y="499"/>
                </a:moveTo>
                <a:cubicBezTo>
                  <a:pt x="592" y="563"/>
                  <a:pt x="543" y="627"/>
                  <a:pt x="460" y="635"/>
                </a:cubicBezTo>
                <a:cubicBezTo>
                  <a:pt x="377" y="643"/>
                  <a:pt x="218" y="613"/>
                  <a:pt x="143" y="545"/>
                </a:cubicBezTo>
                <a:cubicBezTo>
                  <a:pt x="68" y="477"/>
                  <a:pt x="0" y="318"/>
                  <a:pt x="7" y="227"/>
                </a:cubicBezTo>
                <a:cubicBezTo>
                  <a:pt x="14" y="136"/>
                  <a:pt x="101" y="68"/>
                  <a:pt x="188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22560" y="352908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148428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058080" y="2004840"/>
                <a:ext cx="118260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300720" y="2001960"/>
                <a:ext cx="74628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450040" y="3500280"/>
            <a:ext cx="93636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06480" y="4505400"/>
                <a:ext cx="163512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824440" y="4981680"/>
                <a:ext cx="639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506760" y="4952880"/>
                <a:ext cx="23367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418440" y="4452840"/>
                <a:ext cx="6998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15200" y="4451400"/>
                <a:ext cx="6998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010040" y="5734080"/>
                <a:ext cx="3938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 flipV="1">
            <a:off x="4356000" y="5013360"/>
            <a:ext cx="2160720" cy="1008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19640" y="5373720"/>
            <a:ext cx="1297080" cy="4316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epravé 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9680" y="9525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aždý nepravý zlomek se dá převést na celé číslo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zlomek –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míšené číslo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33680" y="3860640"/>
            <a:ext cx="2305080" cy="23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30480" y="1859040"/>
                <a:ext cx="105876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53160" y="3846600"/>
            <a:ext cx="2305080" cy="23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089240" y="1859040"/>
                <a:ext cx="186876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116000" y="38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433680" y="38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76360" y="515772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4 čtvr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6880" y="515772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4 čtvr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9120" y="515772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3 čtvr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212360" y="1987920"/>
            <a:ext cx="720720" cy="6192720"/>
          </a:xfrm>
          <a:custGeom>
            <a:avLst/>
            <a:gdLst>
              <a:gd name="textAreaLeft" fmla="*/ 460440 w 720720"/>
              <a:gd name="textAreaRight" fmla="*/ 721080 w 720720"/>
              <a:gd name="textAreaTop" fmla="*/ 161280 h 6192720"/>
              <a:gd name="textAreaBottom" fmla="*/ 6031440 h 61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95840" y="4149720"/>
            <a:ext cx="1812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1 čtvr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míšené čí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9680" y="9525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evod zlomku na smíšené číslo. Vycházíme z toho, že smíšené číslo je tvořeno celým číslem, vyjadřujícím počet celých celků a zlomkem, vyjadřujícím zbývající část neúplného cel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63640" y="1989000"/>
                <a:ext cx="1619280" cy="19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813280" y="2535120"/>
                <a:ext cx="622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84720" y="2503440"/>
                <a:ext cx="24285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0520" y="3270240"/>
                <a:ext cx="622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372360" y="1928880"/>
                <a:ext cx="74592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342120" y="1920960"/>
                <a:ext cx="8078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332000" y="4437000"/>
            <a:ext cx="4608360" cy="1728720"/>
          </a:xfrm>
          <a:prstGeom prst="cloudCallout">
            <a:avLst>
              <a:gd name="adj1" fmla="val 17310"/>
              <a:gd name="adj2" fmla="val -1129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Nejdříve vydělíme čitatele jmenovatelem a určíme počet celých cel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4508640"/>
            <a:ext cx="4608360" cy="1728720"/>
          </a:xfrm>
          <a:prstGeom prst="cloudCallout">
            <a:avLst>
              <a:gd name="adj1" fmla="val -41800"/>
              <a:gd name="adj2" fmla="val -776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bytek při dělení pak určuje čitatele zbývající části celku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4365720"/>
            <a:ext cx="4608360" cy="1728720"/>
          </a:xfrm>
          <a:prstGeom prst="cloudCallout">
            <a:avLst>
              <a:gd name="adj1" fmla="val -24541"/>
              <a:gd name="adj2" fmla="val -1123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 dělitel jmenovatele zbývající čá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2492280"/>
            <a:ext cx="4019400" cy="2868840"/>
          </a:xfrm>
          <a:custGeom>
            <a:avLst/>
            <a:gdLst/>
            <a:ahLst/>
            <a:rect l="l" t="t" r="r" b="b"/>
            <a:pathLst>
              <a:path w="2532" h="1807">
                <a:moveTo>
                  <a:pt x="0" y="908"/>
                </a:moveTo>
                <a:cubicBezTo>
                  <a:pt x="385" y="1357"/>
                  <a:pt x="771" y="1807"/>
                  <a:pt x="1179" y="1769"/>
                </a:cubicBezTo>
                <a:cubicBezTo>
                  <a:pt x="1587" y="1731"/>
                  <a:pt x="2366" y="976"/>
                  <a:pt x="2449" y="681"/>
                </a:cubicBezTo>
                <a:cubicBezTo>
                  <a:pt x="2532" y="386"/>
                  <a:pt x="1806" y="113"/>
                  <a:pt x="1678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3357720"/>
            <a:ext cx="1655640" cy="779400"/>
          </a:xfrm>
          <a:custGeom>
            <a:avLst/>
            <a:gdLst/>
            <a:ahLst/>
            <a:rect l="l" t="t" r="r" b="b"/>
            <a:pathLst>
              <a:path w="1043" h="491">
                <a:moveTo>
                  <a:pt x="0" y="0"/>
                </a:moveTo>
                <a:cubicBezTo>
                  <a:pt x="185" y="207"/>
                  <a:pt x="370" y="415"/>
                  <a:pt x="544" y="453"/>
                </a:cubicBezTo>
                <a:cubicBezTo>
                  <a:pt x="718" y="491"/>
                  <a:pt x="880" y="358"/>
                  <a:pt x="1043" y="226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33680" y="425124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433520" y="425124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435640" y="423720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433520" y="425124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433680" y="425124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míšené číslo v základním tv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9680" y="9525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převádíme-li na smíšené číslo nepravý zlomek v základním tvaru, nebude ani „zlomková část“ smíšeného čísla v základním 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16000" y="1989000"/>
                <a:ext cx="1744560" cy="19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729400" y="2519280"/>
                <a:ext cx="622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859120" y="2489040"/>
                <a:ext cx="292716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301920" y="3270240"/>
                <a:ext cx="622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404040" y="1928880"/>
                <a:ext cx="74592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213600" y="1935000"/>
                <a:ext cx="1119240" cy="19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922560" y="2637000"/>
            <a:ext cx="4681800" cy="2232000"/>
          </a:xfrm>
          <a:custGeom>
            <a:avLst/>
            <a:gdLst/>
            <a:ahLst/>
            <a:rect l="l" t="t" r="r" b="b"/>
            <a:pathLst>
              <a:path w="2532" h="1807">
                <a:moveTo>
                  <a:pt x="0" y="908"/>
                </a:moveTo>
                <a:cubicBezTo>
                  <a:pt x="385" y="1357"/>
                  <a:pt x="771" y="1807"/>
                  <a:pt x="1179" y="1769"/>
                </a:cubicBezTo>
                <a:cubicBezTo>
                  <a:pt x="1587" y="1731"/>
                  <a:pt x="2366" y="976"/>
                  <a:pt x="2449" y="681"/>
                </a:cubicBezTo>
                <a:cubicBezTo>
                  <a:pt x="2532" y="386"/>
                  <a:pt x="1806" y="113"/>
                  <a:pt x="1678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3357720"/>
            <a:ext cx="1656000" cy="779400"/>
          </a:xfrm>
          <a:custGeom>
            <a:avLst/>
            <a:gdLst/>
            <a:ahLst/>
            <a:rect l="l" t="t" r="r" b="b"/>
            <a:pathLst>
              <a:path w="1043" h="491">
                <a:moveTo>
                  <a:pt x="0" y="0"/>
                </a:moveTo>
                <a:cubicBezTo>
                  <a:pt x="185" y="207"/>
                  <a:pt x="370" y="415"/>
                  <a:pt x="544" y="453"/>
                </a:cubicBezTo>
                <a:cubicBezTo>
                  <a:pt x="718" y="491"/>
                  <a:pt x="880" y="358"/>
                  <a:pt x="1043" y="226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70480" y="1930320"/>
            <a:ext cx="1008360" cy="20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437000"/>
            <a:ext cx="4753080" cy="1728720"/>
          </a:xfrm>
          <a:prstGeom prst="cloudCallout">
            <a:avLst>
              <a:gd name="adj1" fmla="val 58250"/>
              <a:gd name="adj2" fmla="val -974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áme dvě možnosti, jak postupovat, abychom dostali smíšené čís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 základním 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1413000"/>
            <a:ext cx="828036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míšené číslo v základním tv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680" y="76500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 Krátíme až po převodu na smíšené číslo (jen „zlomkovou část“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55640" y="1708200"/>
                <a:ext cx="174456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369040" y="2238480"/>
                <a:ext cx="622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498760" y="2208240"/>
                <a:ext cx="29271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941560" y="2989440"/>
                <a:ext cx="62244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43680" y="1647720"/>
                <a:ext cx="74592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853240" y="1654200"/>
                <a:ext cx="11192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684360" y="4003560"/>
            <a:ext cx="4248000" cy="2233800"/>
          </a:xfrm>
          <a:prstGeom prst="cloudCallout">
            <a:avLst>
              <a:gd name="adj1" fmla="val 71375"/>
              <a:gd name="adj2" fmla="val -79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lomkovou část“ smíšeného čísla budeme krátit číslem 5 (tzn. čitatele i jmenovatele dělit číslem 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084720" y="2823840"/>
            <a:ext cx="648000" cy="64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84720" y="1773000"/>
            <a:ext cx="648000" cy="64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148428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31399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877080" y="1671480"/>
                <a:ext cx="1806480" cy="19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1628640"/>
            <a:ext cx="828036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míšené číslo v základním tv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680" y="907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 Krátíme už před převodem na smíšené číslo. Na smíšené číslo převádíme tedy až nepravý zlomek v základním tvar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55640" y="1708200"/>
                <a:ext cx="174456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763640" y="3789360"/>
            <a:ext cx="4176720" cy="2449440"/>
          </a:xfrm>
          <a:prstGeom prst="cloudCallout">
            <a:avLst>
              <a:gd name="adj1" fmla="val -46236"/>
              <a:gd name="adj2" fmla="val -785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ejdříve nepravý zlomek zkrátíme do základního tvaru (tzn. do tvaru vyjádřeného přirozenými, nesoudělnými čís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015920" y="2896920"/>
            <a:ext cx="647640" cy="64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015920" y="1846080"/>
            <a:ext cx="647640" cy="64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63560" y="15573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63560" y="3213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484360" y="1714680"/>
                <a:ext cx="174492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095720" y="2243160"/>
                <a:ext cx="24922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35800" y="2311560"/>
                <a:ext cx="62208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024680" y="1735200"/>
                <a:ext cx="68256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020000" y="1744560"/>
                <a:ext cx="7333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43560" y="2921040"/>
                <a:ext cx="4982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356000" y="3789360"/>
            <a:ext cx="4176720" cy="2449440"/>
          </a:xfrm>
          <a:prstGeom prst="cloudCallout">
            <a:avLst>
              <a:gd name="adj1" fmla="val -70865"/>
              <a:gd name="adj2" fmla="val -76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eprve nepravý zlomek v základním tvaru převádíme na smíšené číslo, a tak i smíšené číslo bude v základním 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1557360"/>
            <a:ext cx="813600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680" y="40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míšené čí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9680" y="9525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evod smíšeného čísla na zlom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224320" y="2290680"/>
                <a:ext cx="186876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39640" y="3716280"/>
            <a:ext cx="3384720" cy="2592360"/>
          </a:xfrm>
          <a:prstGeom prst="cloudCallout">
            <a:avLst>
              <a:gd name="adj1" fmla="val 78425"/>
              <a:gd name="adj2" fmla="val -25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Čitatele výsledného zlomku určíme tak, že vynásobíme jmenovatele celým číslem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60800" y="3313080"/>
            <a:ext cx="1019160" cy="1020960"/>
          </a:xfrm>
          <a:custGeom>
            <a:avLst/>
            <a:gdLst/>
            <a:ahLst/>
            <a:rect l="l" t="t" r="r" b="b"/>
            <a:pathLst>
              <a:path w="642" h="643">
                <a:moveTo>
                  <a:pt x="642" y="499"/>
                </a:moveTo>
                <a:cubicBezTo>
                  <a:pt x="592" y="563"/>
                  <a:pt x="543" y="627"/>
                  <a:pt x="460" y="635"/>
                </a:cubicBezTo>
                <a:cubicBezTo>
                  <a:pt x="377" y="643"/>
                  <a:pt x="218" y="613"/>
                  <a:pt x="143" y="545"/>
                </a:cubicBezTo>
                <a:cubicBezTo>
                  <a:pt x="68" y="477"/>
                  <a:pt x="0" y="318"/>
                  <a:pt x="7" y="227"/>
                </a:cubicBezTo>
                <a:cubicBezTo>
                  <a:pt x="14" y="136"/>
                  <a:pt x="101" y="68"/>
                  <a:pt x="188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 rot="334800">
            <a:off x="4978080" y="2046240"/>
            <a:ext cx="1019160" cy="1079640"/>
          </a:xfrm>
          <a:custGeom>
            <a:avLst/>
            <a:gdLst/>
            <a:ahLst/>
            <a:rect l="l" t="t" r="r" b="b"/>
            <a:pathLst>
              <a:path w="642" h="643">
                <a:moveTo>
                  <a:pt x="642" y="499"/>
                </a:moveTo>
                <a:cubicBezTo>
                  <a:pt x="592" y="563"/>
                  <a:pt x="543" y="627"/>
                  <a:pt x="460" y="635"/>
                </a:cubicBezTo>
                <a:cubicBezTo>
                  <a:pt x="377" y="643"/>
                  <a:pt x="218" y="613"/>
                  <a:pt x="143" y="545"/>
                </a:cubicBezTo>
                <a:cubicBezTo>
                  <a:pt x="68" y="477"/>
                  <a:pt x="0" y="318"/>
                  <a:pt x="7" y="227"/>
                </a:cubicBezTo>
                <a:cubicBezTo>
                  <a:pt x="14" y="136"/>
                  <a:pt x="101" y="68"/>
                  <a:pt x="188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59280" y="38178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177336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1989000"/>
            <a:ext cx="2880000" cy="1440000"/>
          </a:xfrm>
          <a:prstGeom prst="cloudCallout">
            <a:avLst>
              <a:gd name="adj1" fmla="val 85226"/>
              <a:gd name="adj2" fmla="val -408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pak přičteme čit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56360" y="2293920"/>
                <a:ext cx="105912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72000" y="5351400"/>
                <a:ext cx="1246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673600" y="5364000"/>
                <a:ext cx="1184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826320" y="5251320"/>
                <a:ext cx="14968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 flipH="1" flipV="1">
            <a:off x="7667640" y="3068640"/>
            <a:ext cx="217440" cy="22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4724280"/>
            <a:ext cx="2879640" cy="1440000"/>
          </a:xfrm>
          <a:prstGeom prst="cloudCallout">
            <a:avLst>
              <a:gd name="adj1" fmla="val -27564"/>
              <a:gd name="adj2" fmla="val -871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Jmenovatele na závěr opíš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216920" y="2290680"/>
                <a:ext cx="809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386400" y="3789360"/>
            <a:ext cx="93672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540160" y="439416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40160" y="439416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39640" y="439416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539640" y="439416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4541760" y="4379760"/>
            <a:ext cx="1914480" cy="191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73240" y="4680000"/>
                <a:ext cx="273204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59280" y="4691160"/>
                <a:ext cx="212544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859360" y="4695840"/>
                <a:ext cx="242892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919920" y="5762520"/>
                <a:ext cx="1468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čtvrtin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7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8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apiš následující zlomky smíšenými čís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8360" y="1477800"/>
            <a:ext cx="6856200" cy="45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2-02T14:10:17Z</dcterms:modified>
  <cp:revision>216</cp:revision>
  <dc:subject/>
  <dc:title>Zlomky 4 - zlomky a smíšená čísla</dc:title>
</cp:coreProperties>
</file>