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C9A-31A5-4658-AFE8-0E3EA9E0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99D-127E-4911-93A3-77E131F7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B1F-E068-4915-992E-D216B022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9D3-1FED-427A-B921-55EF9B49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56E6-7968-4C64-96E4-90442DD1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9D6-6937-4F29-A40B-6193E1B6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AAFB-30E9-4FFD-BE18-7FBF5698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811-25EC-45F1-9D78-F11057DF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53B2-CCAB-4EC1-ACB9-4CF40EB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D765-4E4C-45AD-9392-0E0C40EB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8796-6E4A-427C-934E-10B6B56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2C8-C5D3-420E-B3D6-BB4C87B4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B1BE-ED14-43AD-B277-39F6366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AF33-79C7-4BA1-96D9-2CBF37AB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363-910C-4A5C-A909-9FECEA3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CB6B-1BF1-4C9D-9912-26164E91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C415-4867-48F3-AA04-8ECCCF00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464-BD79-42C2-B809-5B54621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1CD-C275-4672-B293-6A682B8B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4F5-85CB-423A-A7E0-62A76A99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97B-9C5D-4C6C-B48D-A68BC86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D5CF-2E0D-4731-999C-8D02A59B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B05-E384-4B46-923D-57ACF18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CC4-8760-40FD-B885-2F134289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0AB-D72D-4A9D-8FE9-C5740BC1366D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A93-3DC8-41B9-BFF5-C5BEADE5EC1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interactivestuff.org/match/maker.phtml?featured=1&amp;id=8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hyperlink" Target="http://www.interactivestuff.org/match/maker.phtml?featured=1&amp;id=9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Zlomky a desetinná čísla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desetinného čísla na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55640" y="112536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ětšina desetinných zlomků nepředstavuje základní tvar části daného celku, kterou vyjadřují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o základního tvaru je uvedeme kráce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754200" y="1844640"/>
            <a:ext cx="7850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Krácení je dělení čitatele i jmenovatele zlomku stejným číslem různým od nuly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(Hodnota zlomku se přitom nezmění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8"/>
              <p:cNvSpPr txBox="1"/>
              <p:nvPr/>
            </p:nvSpPr>
            <p:spPr>
              <a:xfrm>
                <a:off x="2843280" y="3406680"/>
                <a:ext cx="22748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258920" y="4991040"/>
                <a:ext cx="27306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6"/>
              <p:cNvSpPr txBox="1"/>
              <p:nvPr/>
            </p:nvSpPr>
            <p:spPr>
              <a:xfrm>
                <a:off x="5218200" y="3406680"/>
                <a:ext cx="10620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7"/>
              <p:cNvSpPr txBox="1"/>
              <p:nvPr/>
            </p:nvSpPr>
            <p:spPr>
              <a:xfrm>
                <a:off x="3924360" y="4998960"/>
                <a:ext cx="1328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8"/>
              <p:cNvSpPr txBox="1"/>
              <p:nvPr/>
            </p:nvSpPr>
            <p:spPr>
              <a:xfrm>
                <a:off x="5219640" y="4998960"/>
                <a:ext cx="1328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9"/>
              <p:cNvSpPr txBox="1"/>
              <p:nvPr/>
            </p:nvSpPr>
            <p:spPr>
              <a:xfrm>
                <a:off x="6527880" y="5000760"/>
                <a:ext cx="132876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30"/>
          <p:cNvSpPr/>
          <p:nvPr/>
        </p:nvSpPr>
        <p:spPr>
          <a:xfrm>
            <a:off x="4815000" y="3429000"/>
            <a:ext cx="57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4902120" y="4076640"/>
            <a:ext cx="57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3722760" y="5013360"/>
            <a:ext cx="57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3736800" y="5661000"/>
            <a:ext cx="57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5019840" y="5013360"/>
            <a:ext cx="57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5033880" y="5661000"/>
            <a:ext cx="57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6316560" y="5013360"/>
            <a:ext cx="57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6330960" y="5661000"/>
            <a:ext cx="57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1"/>
          <a:stretch/>
        </p:blipFill>
        <p:spPr>
          <a:xfrm>
            <a:off x="684360" y="2392200"/>
            <a:ext cx="3700440" cy="3745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"/>
          <p:cNvPicPr/>
          <p:nvPr/>
        </p:nvPicPr>
        <p:blipFill>
          <a:blip r:embed="rId2"/>
          <a:stretch/>
        </p:blipFill>
        <p:spPr>
          <a:xfrm>
            <a:off x="4832280" y="2365200"/>
            <a:ext cx="3772080" cy="3800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Otevřete následující odkaz a zahrajte si puzz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684360" y="149868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interactivestuff.org/match/maker.phtml?featured=1&amp;id=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39640" y="191628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50920" y="3645000"/>
            <a:ext cx="1979640" cy="1512720"/>
          </a:xfrm>
          <a:prstGeom prst="cloudCallout">
            <a:avLst>
              <a:gd name="adj1" fmla="val 73097"/>
              <a:gd name="adj2" fmla="val 64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Vyčkej, až se objeví tato šipka, a pak na ni klikni. Objeví se další ok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6286680" y="1916280"/>
            <a:ext cx="2535120" cy="1657080"/>
          </a:xfrm>
          <a:prstGeom prst="cloudCallout">
            <a:avLst>
              <a:gd name="adj1" fmla="val -88222"/>
              <a:gd name="adj2" fmla="val 21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Hledej kliknutím na ně dvojici karet, které k sobě patří. Jedno desetinné číslo a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3780000" y="3860640"/>
            <a:ext cx="1979280" cy="1513080"/>
          </a:xfrm>
          <a:prstGeom prst="cloudCallout">
            <a:avLst>
              <a:gd name="adj1" fmla="val 62189"/>
              <a:gd name="adj2" fmla="val 45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jeden zlom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3" descr=""/>
          <p:cNvPicPr/>
          <p:nvPr/>
        </p:nvPicPr>
        <p:blipFill>
          <a:blip r:embed="rId1"/>
          <a:stretch/>
        </p:blipFill>
        <p:spPr>
          <a:xfrm>
            <a:off x="498600" y="1557360"/>
            <a:ext cx="7602480" cy="4410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4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Zapiš desetinným čís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tretch/>
        </p:blipFill>
        <p:spPr>
          <a:xfrm>
            <a:off x="900000" y="1701720"/>
            <a:ext cx="7417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Zapiš desetinným čís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477720" y="1484280"/>
            <a:ext cx="69739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482760" y="1784520"/>
            <a:ext cx="8035920" cy="40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299280" y="59482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Zapiš zlomk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"/>
          <p:cNvPicPr/>
          <p:nvPr/>
        </p:nvPicPr>
        <p:blipFill>
          <a:blip r:embed="rId1"/>
          <a:stretch/>
        </p:blipFill>
        <p:spPr>
          <a:xfrm>
            <a:off x="468360" y="1914480"/>
            <a:ext cx="722952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95280" y="90792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–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4360" y="105264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Výsled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900000" y="1676520"/>
            <a:ext cx="70264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95280" y="907920"/>
            <a:ext cx="828036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236520" y="303120"/>
            <a:ext cx="8555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Třetí možnost vyjádření části celku - procen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39640" y="106668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lomek lze také převést na procentuální podíl z celku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latí, že 1 celek = 100 %, tzn., že například ½ celku = 50 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627280" y="1916280"/>
          <a:ext cx="4006800" cy="4308480"/>
        </p:xfrm>
        <a:graphic>
          <a:graphicData uri="http://schemas.openxmlformats.org/drawingml/2006/table">
            <a:tbl>
              <a:tblPr/>
              <a:tblGrid>
                <a:gridCol w="984240"/>
                <a:gridCol w="1162080"/>
                <a:gridCol w="1860480"/>
              </a:tblGrid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l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tinné čí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33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66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,66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 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24"/>
          <p:cNvSpPr/>
          <p:nvPr/>
        </p:nvSpPr>
        <p:spPr>
          <a:xfrm>
            <a:off x="539640" y="151452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Procentuální podíl z celku vyjádříme jako stonásobek zápisu pomocí desetinného čís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25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2293920" cy="22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26" descr=""/>
          <p:cNvPicPr/>
          <p:nvPr/>
        </p:nvPicPr>
        <p:blipFill>
          <a:blip r:embed="rId2"/>
          <a:stretch/>
        </p:blipFill>
        <p:spPr>
          <a:xfrm>
            <a:off x="3632040" y="2276640"/>
            <a:ext cx="2305080" cy="230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27" descr=""/>
          <p:cNvPicPr/>
          <p:nvPr/>
        </p:nvPicPr>
        <p:blipFill>
          <a:blip r:embed="rId3"/>
          <a:stretch/>
        </p:blipFill>
        <p:spPr>
          <a:xfrm>
            <a:off x="3646440" y="2316240"/>
            <a:ext cx="2293920" cy="2265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28" descr=""/>
          <p:cNvPicPr/>
          <p:nvPr/>
        </p:nvPicPr>
        <p:blipFill>
          <a:blip r:embed="rId4"/>
          <a:stretch/>
        </p:blipFill>
        <p:spPr>
          <a:xfrm>
            <a:off x="3692520" y="2335320"/>
            <a:ext cx="229392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9" name="Object 329"/>
              <p:cNvSpPr txBox="1"/>
              <p:nvPr/>
            </p:nvSpPr>
            <p:spPr>
              <a:xfrm>
                <a:off x="3203640" y="4724280"/>
                <a:ext cx="316872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32"/>
              <p:cNvSpPr txBox="1"/>
              <p:nvPr/>
            </p:nvSpPr>
            <p:spPr>
              <a:xfrm>
                <a:off x="3132000" y="4724280"/>
                <a:ext cx="345312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34"/>
              <p:cNvSpPr txBox="1"/>
              <p:nvPr/>
            </p:nvSpPr>
            <p:spPr>
              <a:xfrm>
                <a:off x="3203640" y="4724280"/>
                <a:ext cx="316872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39"/>
              <p:cNvSpPr txBox="1"/>
              <p:nvPr/>
            </p:nvSpPr>
            <p:spPr>
              <a:xfrm>
                <a:off x="3059280" y="4724280"/>
                <a:ext cx="3452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4726080" y="2406600"/>
            <a:ext cx="3776400" cy="3713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684360" y="2392200"/>
            <a:ext cx="3700440" cy="37450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-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Otevřete následující odkaz a zahrajte si ještě jednou puzzle, tentokrát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i s proc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84360" y="149868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interactivestuff.org/match/maker.phtml?featured=1&amp;id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539640" y="191628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250920" y="3645000"/>
            <a:ext cx="1979640" cy="1512720"/>
          </a:xfrm>
          <a:prstGeom prst="cloudCallout">
            <a:avLst>
              <a:gd name="adj1" fmla="val 73097"/>
              <a:gd name="adj2" fmla="val 646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Vyčkej, až se objeví tato šipka, a pak na ni klikni. Objeví se další ok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6516720" y="1916280"/>
            <a:ext cx="2305080" cy="1657080"/>
          </a:xfrm>
          <a:prstGeom prst="cloudCallout">
            <a:avLst>
              <a:gd name="adj1" fmla="val -93250"/>
              <a:gd name="adj2" fmla="val 22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Hledej kliknutím na ně dvojici karet, které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k sobě patří. Jedno desetinné číslo a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1"/>
          <p:cNvSpPr/>
          <p:nvPr/>
        </p:nvSpPr>
        <p:spPr>
          <a:xfrm>
            <a:off x="5148360" y="4365720"/>
            <a:ext cx="1979640" cy="1512720"/>
          </a:xfrm>
          <a:prstGeom prst="cloudCallout">
            <a:avLst>
              <a:gd name="adj1" fmla="val 75180"/>
              <a:gd name="adj2" fmla="val -445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jeden zlomek, nebo počet pro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3141720"/>
            <a:ext cx="820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7" descr=""/>
          <p:cNvPicPr/>
          <p:nvPr/>
        </p:nvPicPr>
        <p:blipFill>
          <a:blip r:embed="rId1"/>
          <a:stretch/>
        </p:blipFill>
        <p:spPr>
          <a:xfrm>
            <a:off x="3355920" y="361944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lomky a desetinn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lomky i desetinná čísla slouží k vyjádření části celku.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č tedy máme jak zlomky, tak desetinná čís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4"/>
          <p:cNvSpPr/>
          <p:nvPr/>
        </p:nvSpPr>
        <p:spPr>
          <a:xfrm>
            <a:off x="611280" y="3213000"/>
            <a:ext cx="2016000" cy="1871640"/>
          </a:xfrm>
          <a:prstGeom prst="cloudCallout">
            <a:avLst>
              <a:gd name="adj1" fmla="val 99921"/>
              <a:gd name="adj2" fmla="val 1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ybarvenou část celku umíme již zapsat jak zlomk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8"/>
          <p:cNvSpPr/>
          <p:nvPr/>
        </p:nvSpPr>
        <p:spPr>
          <a:xfrm>
            <a:off x="6443640" y="3500280"/>
            <a:ext cx="2016000" cy="1441440"/>
          </a:xfrm>
          <a:prstGeom prst="cloudCallout">
            <a:avLst>
              <a:gd name="adj1" fmla="val -112990"/>
              <a:gd name="adj2" fmla="val 892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ak desetinným čís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9"/>
              <p:cNvSpPr txBox="1"/>
              <p:nvPr/>
            </p:nvSpPr>
            <p:spPr>
              <a:xfrm>
                <a:off x="2473200" y="4379760"/>
                <a:ext cx="803520" cy="207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55"/>
          <p:cNvSpPr/>
          <p:nvPr/>
        </p:nvSpPr>
        <p:spPr>
          <a:xfrm>
            <a:off x="468360" y="16858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 každá část zlomku se dá vyjádřit (přesně, bez zaokrouhlení) pomocí desetinného čísla. Pomocí zlomku však an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6"/>
          <p:cNvSpPr/>
          <p:nvPr/>
        </p:nvSpPr>
        <p:spPr>
          <a:xfrm>
            <a:off x="453960" y="2376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známe vztah mezi zlomky a desetinnými čísly, naučíme se převádět zlomky na desetinná čísla a desetinná čísla na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8"/>
              <p:cNvSpPr txBox="1"/>
              <p:nvPr/>
            </p:nvSpPr>
            <p:spPr>
              <a:xfrm>
                <a:off x="5464080" y="5022720"/>
                <a:ext cx="133992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8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lomek a desetinné číslo - shrnu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55640" y="5300640"/>
            <a:ext cx="770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Desetinné číslo převedeme na tvar zlomku tak, že do čitatele zlomku napíšeme číslo bez desetinné čárky, do jmenovatele napíšeme jedničku a tolik nul, kolik desetinných míst bylo za desetinnou čárk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3132000" y="3139920"/>
            <a:ext cx="54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lomek převádíme na desetinné číslo tak, že čitatele dělíme jmenova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9"/>
              <p:cNvSpPr txBox="1"/>
              <p:nvPr/>
            </p:nvSpPr>
            <p:spPr>
              <a:xfrm>
                <a:off x="4564080" y="3784680"/>
                <a:ext cx="223992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9" name="Group 31"/>
          <p:cNvGrpSpPr/>
          <p:nvPr/>
        </p:nvGrpSpPr>
        <p:grpSpPr>
          <a:xfrm>
            <a:off x="4356000" y="1197000"/>
            <a:ext cx="2530080" cy="1926360"/>
            <a:chOff x="4356000" y="1197000"/>
            <a:chExt cx="2530080" cy="1926360"/>
          </a:xfrm>
        </p:grpSpPr>
        <mc:AlternateContent>
          <mc:Choice xmlns:a14="http://schemas.microsoft.com/office/drawing/2010/main" Requires="a14">
            <p:sp>
              <p:nvSpPr>
                <p:cNvPr id="330" name="Object 32"/>
                <p:cNvSpPr txBox="1"/>
                <p:nvPr/>
              </p:nvSpPr>
              <p:spPr>
                <a:xfrm>
                  <a:off x="4356000" y="1197000"/>
                  <a:ext cx="253008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Object 33"/>
                <p:cNvSpPr txBox="1"/>
                <p:nvPr/>
              </p:nvSpPr>
              <p:spPr>
                <a:xfrm>
                  <a:off x="5061600" y="1978560"/>
                  <a:ext cx="4104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2" name="Object 34"/>
                <p:cNvSpPr txBox="1"/>
                <p:nvPr/>
              </p:nvSpPr>
              <p:spPr>
                <a:xfrm>
                  <a:off x="5214600" y="2347560"/>
                  <a:ext cx="4104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3" name="Object 35"/>
                <p:cNvSpPr txBox="1"/>
                <p:nvPr/>
              </p:nvSpPr>
              <p:spPr>
                <a:xfrm>
                  <a:off x="5407920" y="2714040"/>
                  <a:ext cx="2415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lomky a desetinn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55640" y="90972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latí tedy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3564000" y="836640"/>
                <a:ext cx="18097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10"/>
          <p:cNvSpPr/>
          <p:nvPr/>
        </p:nvSpPr>
        <p:spPr>
          <a:xfrm>
            <a:off x="682560" y="2347920"/>
            <a:ext cx="792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Zlomková čára je jiná forma zápisu dělení. Můžeme ji tedy nahradit znakem operace dělení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82560" y="2924280"/>
            <a:ext cx="777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i „přepisu“ přitom vycházíme ze směru četby, tzn. shora dolů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zleva do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3897360" y="3417840"/>
                <a:ext cx="5428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4603680" y="3936960"/>
                <a:ext cx="4525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5"/>
              <p:cNvSpPr txBox="1"/>
              <p:nvPr/>
            </p:nvSpPr>
            <p:spPr>
              <a:xfrm>
                <a:off x="5294160" y="3833640"/>
                <a:ext cx="9223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6"/>
              <p:cNvSpPr txBox="1"/>
              <p:nvPr/>
            </p:nvSpPr>
            <p:spPr>
              <a:xfrm>
                <a:off x="6267600" y="3935520"/>
                <a:ext cx="452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7"/>
              <p:cNvSpPr txBox="1"/>
              <p:nvPr/>
            </p:nvSpPr>
            <p:spPr>
              <a:xfrm>
                <a:off x="6732720" y="3867120"/>
                <a:ext cx="4190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5510160" y="4332240"/>
                <a:ext cx="378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9"/>
              <p:cNvSpPr txBox="1"/>
              <p:nvPr/>
            </p:nvSpPr>
            <p:spPr>
              <a:xfrm>
                <a:off x="5321160" y="4373640"/>
                <a:ext cx="335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0"/>
              <p:cNvSpPr txBox="1"/>
              <p:nvPr/>
            </p:nvSpPr>
            <p:spPr>
              <a:xfrm>
                <a:off x="5540400" y="4386240"/>
                <a:ext cx="41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1"/>
              <p:cNvSpPr txBox="1"/>
              <p:nvPr/>
            </p:nvSpPr>
            <p:spPr>
              <a:xfrm>
                <a:off x="7008840" y="4119480"/>
                <a:ext cx="2937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2"/>
              <p:cNvSpPr txBox="1"/>
              <p:nvPr/>
            </p:nvSpPr>
            <p:spPr>
              <a:xfrm>
                <a:off x="7176960" y="3881520"/>
                <a:ext cx="41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3"/>
              <p:cNvSpPr txBox="1"/>
              <p:nvPr/>
            </p:nvSpPr>
            <p:spPr>
              <a:xfrm>
                <a:off x="5538960" y="4857840"/>
                <a:ext cx="4190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Line 24"/>
          <p:cNvSpPr/>
          <p:nvPr/>
        </p:nvSpPr>
        <p:spPr>
          <a:xfrm>
            <a:off x="3765600" y="3573360"/>
            <a:ext cx="0" cy="11509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5162400" y="3689280"/>
            <a:ext cx="115092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684360" y="5373720"/>
            <a:ext cx="777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Zlomek převádíme na desetinné číslo tak, že čitatele dělíme jmenovate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zlomku na desetin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5640" y="112536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aždý zlomek se dá zapsat jako dělení a po vydělení tedy jako desetinné čís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82560" y="4292640"/>
            <a:ext cx="792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Ne každé dělení však má ukončený desetinný rozvoj, tzn. že má nulový zbyte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5084640"/>
            <a:ext cx="79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V takovém případě pak zlomek, tedy část celku, nejde zapsat ve tvaru desetinného čísla bez zaokrouhlení, tedy přesně! Viz příklad na následujícím snímku.</a:t>
            </a:r>
            <a:br>
              <a:rPr sz="1600"/>
            </a:b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třebujeme-li tedy takovou část celku vyjádřit přesně, musíme použít zápis ve tvaru zlom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9"/>
          <p:cNvGrpSpPr/>
          <p:nvPr/>
        </p:nvGrpSpPr>
        <p:grpSpPr>
          <a:xfrm>
            <a:off x="1979640" y="1773360"/>
            <a:ext cx="2530080" cy="1926360"/>
            <a:chOff x="1979640" y="1773360"/>
            <a:chExt cx="2530080" cy="1926360"/>
          </a:xfrm>
        </p:grpSpPr>
        <mc:AlternateContent>
          <mc:Choice xmlns:a14="http://schemas.microsoft.com/office/drawing/2010/main" Requires="a14">
            <p:sp>
              <p:nvSpPr>
                <p:cNvPr id="125" name="Object 5"/>
                <p:cNvSpPr txBox="1"/>
                <p:nvPr/>
              </p:nvSpPr>
              <p:spPr>
                <a:xfrm>
                  <a:off x="1979640" y="1773360"/>
                  <a:ext cx="253008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22"/>
                <p:cNvSpPr txBox="1"/>
                <p:nvPr/>
              </p:nvSpPr>
              <p:spPr>
                <a:xfrm>
                  <a:off x="2685240" y="2554920"/>
                  <a:ext cx="4104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Object 23"/>
                <p:cNvSpPr txBox="1"/>
                <p:nvPr/>
              </p:nvSpPr>
              <p:spPr>
                <a:xfrm>
                  <a:off x="2838240" y="2923920"/>
                  <a:ext cx="41040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Object 24"/>
                <p:cNvSpPr txBox="1"/>
                <p:nvPr/>
              </p:nvSpPr>
              <p:spPr>
                <a:xfrm>
                  <a:off x="3031560" y="3290400"/>
                  <a:ext cx="2415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Group 30"/>
          <p:cNvGrpSpPr/>
          <p:nvPr/>
        </p:nvGrpSpPr>
        <p:grpSpPr>
          <a:xfrm>
            <a:off x="5435640" y="1773360"/>
            <a:ext cx="2881080" cy="2293560"/>
            <a:chOff x="5435640" y="1773360"/>
            <a:chExt cx="2881080" cy="2293560"/>
          </a:xfrm>
        </p:grpSpPr>
        <mc:AlternateContent>
          <mc:Choice xmlns:a14="http://schemas.microsoft.com/office/drawing/2010/main" Requires="a14">
            <p:sp>
              <p:nvSpPr>
                <p:cNvPr id="130" name="Object 21"/>
                <p:cNvSpPr txBox="1"/>
                <p:nvPr/>
              </p:nvSpPr>
              <p:spPr>
                <a:xfrm>
                  <a:off x="5435640" y="1773360"/>
                  <a:ext cx="288108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2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Object 25"/>
                <p:cNvSpPr txBox="1"/>
                <p:nvPr/>
              </p:nvSpPr>
              <p:spPr>
                <a:xfrm>
                  <a:off x="6181200" y="2554920"/>
                  <a:ext cx="43488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26"/>
                <p:cNvSpPr txBox="1"/>
                <p:nvPr/>
              </p:nvSpPr>
              <p:spPr>
                <a:xfrm>
                  <a:off x="6343920" y="2899440"/>
                  <a:ext cx="434520" cy="41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27"/>
                <p:cNvSpPr txBox="1"/>
                <p:nvPr/>
              </p:nvSpPr>
              <p:spPr>
                <a:xfrm>
                  <a:off x="6501240" y="3266280"/>
                  <a:ext cx="43488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8"/>
                <p:cNvSpPr txBox="1"/>
                <p:nvPr/>
              </p:nvSpPr>
              <p:spPr>
                <a:xfrm>
                  <a:off x="6672960" y="3656880"/>
                  <a:ext cx="256320" cy="41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Oval 37"/>
          <p:cNvSpPr/>
          <p:nvPr/>
        </p:nvSpPr>
        <p:spPr>
          <a:xfrm>
            <a:off x="2930400" y="3284640"/>
            <a:ext cx="432000" cy="431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8"/>
          <p:cNvSpPr/>
          <p:nvPr/>
        </p:nvSpPr>
        <p:spPr>
          <a:xfrm>
            <a:off x="6602400" y="3645000"/>
            <a:ext cx="431640" cy="431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zlomku na desetin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9"/>
              <p:cNvSpPr txBox="1"/>
              <p:nvPr/>
            </p:nvSpPr>
            <p:spPr>
              <a:xfrm>
                <a:off x="973080" y="1052640"/>
                <a:ext cx="5399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85714285714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0"/>
              <p:cNvSpPr txBox="1"/>
              <p:nvPr/>
            </p:nvSpPr>
            <p:spPr>
              <a:xfrm>
                <a:off x="1633680" y="170028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1"/>
              <p:cNvSpPr txBox="1"/>
              <p:nvPr/>
            </p:nvSpPr>
            <p:spPr>
              <a:xfrm>
                <a:off x="1792440" y="1989000"/>
                <a:ext cx="4032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2"/>
              <p:cNvSpPr txBox="1"/>
              <p:nvPr/>
            </p:nvSpPr>
            <p:spPr>
              <a:xfrm>
                <a:off x="1951200" y="229248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3"/>
              <p:cNvSpPr txBox="1"/>
              <p:nvPr/>
            </p:nvSpPr>
            <p:spPr>
              <a:xfrm>
                <a:off x="2109960" y="257976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4"/>
              <p:cNvSpPr txBox="1"/>
              <p:nvPr/>
            </p:nvSpPr>
            <p:spPr>
              <a:xfrm>
                <a:off x="2297160" y="286704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5"/>
              <p:cNvSpPr txBox="1"/>
              <p:nvPr/>
            </p:nvSpPr>
            <p:spPr>
              <a:xfrm>
                <a:off x="2467080" y="3141720"/>
                <a:ext cx="3794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6"/>
              <p:cNvSpPr txBox="1"/>
              <p:nvPr/>
            </p:nvSpPr>
            <p:spPr>
              <a:xfrm>
                <a:off x="2638440" y="3422520"/>
                <a:ext cx="4032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7"/>
              <p:cNvSpPr txBox="1"/>
              <p:nvPr/>
            </p:nvSpPr>
            <p:spPr>
              <a:xfrm>
                <a:off x="2797200" y="371160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2955960" y="401472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3114720" y="4302000"/>
                <a:ext cx="4032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0"/>
              <p:cNvSpPr txBox="1"/>
              <p:nvPr/>
            </p:nvSpPr>
            <p:spPr>
              <a:xfrm>
                <a:off x="3301920" y="458964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1"/>
              <p:cNvSpPr txBox="1"/>
              <p:nvPr/>
            </p:nvSpPr>
            <p:spPr>
              <a:xfrm>
                <a:off x="3471840" y="4863960"/>
                <a:ext cx="3794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2"/>
              <p:cNvSpPr txBox="1"/>
              <p:nvPr/>
            </p:nvSpPr>
            <p:spPr>
              <a:xfrm>
                <a:off x="3632040" y="5121360"/>
                <a:ext cx="403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3"/>
              <p:cNvSpPr txBox="1"/>
              <p:nvPr/>
            </p:nvSpPr>
            <p:spPr>
              <a:xfrm>
                <a:off x="3790800" y="5410080"/>
                <a:ext cx="4032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4"/>
              <p:cNvSpPr txBox="1"/>
              <p:nvPr/>
            </p:nvSpPr>
            <p:spPr>
              <a:xfrm>
                <a:off x="3949560" y="5713560"/>
                <a:ext cx="40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5"/>
              <p:cNvSpPr txBox="1"/>
              <p:nvPr/>
            </p:nvSpPr>
            <p:spPr>
              <a:xfrm>
                <a:off x="4108320" y="5997600"/>
                <a:ext cx="26064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38"/>
          <p:cNvSpPr/>
          <p:nvPr/>
        </p:nvSpPr>
        <p:spPr>
          <a:xfrm>
            <a:off x="4211640" y="2205000"/>
            <a:ext cx="4176720" cy="2448000"/>
          </a:xfrm>
          <a:prstGeom prst="cloudCallout">
            <a:avLst>
              <a:gd name="adj1" fmla="val -50986"/>
              <a:gd name="adj2" fmla="val -69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ři převodu zlomku na desetinné číslo vychází neukončený periodický desetinný rozvo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4788000" y="4724280"/>
            <a:ext cx="33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suje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1"/>
              <p:cNvSpPr txBox="1"/>
              <p:nvPr/>
            </p:nvSpPr>
            <p:spPr>
              <a:xfrm>
                <a:off x="5940360" y="5229360"/>
                <a:ext cx="223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857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Line 42"/>
          <p:cNvSpPr/>
          <p:nvPr/>
        </p:nvSpPr>
        <p:spPr>
          <a:xfrm>
            <a:off x="6877080" y="54594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zlomku na desetin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611280" y="981000"/>
            <a:ext cx="727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ýsledek můžeme také zaokrouhlit, např. na set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3"/>
              <p:cNvSpPr txBox="1"/>
              <p:nvPr/>
            </p:nvSpPr>
            <p:spPr>
              <a:xfrm>
                <a:off x="4491000" y="1569960"/>
                <a:ext cx="22384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857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Line 24"/>
          <p:cNvSpPr/>
          <p:nvPr/>
        </p:nvSpPr>
        <p:spPr>
          <a:xfrm>
            <a:off x="5442120" y="17859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708600" y="1793880"/>
                <a:ext cx="1103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26"/>
          <p:cNvSpPr/>
          <p:nvPr/>
        </p:nvSpPr>
        <p:spPr>
          <a:xfrm>
            <a:off x="6730920" y="1542960"/>
            <a:ext cx="3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7"/>
          <p:cNvSpPr/>
          <p:nvPr/>
        </p:nvSpPr>
        <p:spPr>
          <a:xfrm>
            <a:off x="3635280" y="3500280"/>
            <a:ext cx="4608720" cy="2806920"/>
          </a:xfrm>
          <a:prstGeom prst="cloudCallout">
            <a:avLst>
              <a:gd name="adj1" fmla="val 15726"/>
              <a:gd name="adj2" fmla="val -93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ni jeden z uvedených výsledků však nevyjadřuje danou část celku přes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Jediné přesné vyjádření je tedy vyjádření pomocí zlom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8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29572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Object 29"/>
              <p:cNvSpPr txBox="1"/>
              <p:nvPr/>
            </p:nvSpPr>
            <p:spPr>
              <a:xfrm>
                <a:off x="2379600" y="3933720"/>
                <a:ext cx="8240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zlomku na desetinné čís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11280" y="981000"/>
            <a:ext cx="727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dob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1"/>
              <p:cNvSpPr txBox="1"/>
              <p:nvPr/>
            </p:nvSpPr>
            <p:spPr>
              <a:xfrm>
                <a:off x="2973240" y="1700280"/>
                <a:ext cx="116712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4" name="Group 22"/>
          <p:cNvGrpSpPr/>
          <p:nvPr/>
        </p:nvGrpSpPr>
        <p:grpSpPr>
          <a:xfrm>
            <a:off x="684360" y="3860640"/>
            <a:ext cx="3747960" cy="1498680"/>
            <a:chOff x="684360" y="3860640"/>
            <a:chExt cx="3747960" cy="1498680"/>
          </a:xfrm>
        </p:grpSpPr>
        <mc:AlternateContent>
          <mc:Choice xmlns:a14="http://schemas.microsoft.com/office/drawing/2010/main" Requires="a14">
            <p:sp>
              <p:nvSpPr>
                <p:cNvPr id="175" name="Object 13"/>
                <p:cNvSpPr txBox="1"/>
                <p:nvPr/>
              </p:nvSpPr>
              <p:spPr>
                <a:xfrm>
                  <a:off x="684360" y="3860640"/>
                  <a:ext cx="37479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909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4"/>
                <p:cNvSpPr txBox="1"/>
                <p:nvPr/>
              </p:nvSpPr>
              <p:spPr>
                <a:xfrm>
                  <a:off x="1341360" y="4327560"/>
                  <a:ext cx="30816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15"/>
                <p:cNvSpPr txBox="1"/>
                <p:nvPr/>
              </p:nvSpPr>
              <p:spPr>
                <a:xfrm>
                  <a:off x="1346040" y="4532040"/>
                  <a:ext cx="43992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16"/>
                <p:cNvSpPr txBox="1"/>
                <p:nvPr/>
              </p:nvSpPr>
              <p:spPr>
                <a:xfrm>
                  <a:off x="1571760" y="4722840"/>
                  <a:ext cx="30780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9" name="Object 17"/>
                <p:cNvSpPr txBox="1"/>
                <p:nvPr/>
              </p:nvSpPr>
              <p:spPr>
                <a:xfrm>
                  <a:off x="1568520" y="4927320"/>
                  <a:ext cx="441360" cy="24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Object 18"/>
                <p:cNvSpPr txBox="1"/>
                <p:nvPr/>
              </p:nvSpPr>
              <p:spPr>
                <a:xfrm>
                  <a:off x="1779480" y="5114880"/>
                  <a:ext cx="30636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Line 20"/>
          <p:cNvSpPr/>
          <p:nvPr/>
        </p:nvSpPr>
        <p:spPr>
          <a:xfrm>
            <a:off x="4067280" y="4005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4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2295360" cy="22575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4"/>
          <p:cNvGrpSpPr/>
          <p:nvPr/>
        </p:nvGrpSpPr>
        <p:grpSpPr>
          <a:xfrm>
            <a:off x="5089680" y="3860640"/>
            <a:ext cx="3227400" cy="1474560"/>
            <a:chOff x="5089680" y="3860640"/>
            <a:chExt cx="3227400" cy="1474560"/>
          </a:xfrm>
        </p:grpSpPr>
        <mc:AlternateContent>
          <mc:Choice xmlns:a14="http://schemas.microsoft.com/office/drawing/2010/main" Requires="a14">
            <p:sp>
              <p:nvSpPr>
                <p:cNvPr id="184" name="Object 26"/>
                <p:cNvSpPr txBox="1"/>
                <p:nvPr/>
              </p:nvSpPr>
              <p:spPr>
                <a:xfrm>
                  <a:off x="5089680" y="3860640"/>
                  <a:ext cx="322740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66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=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27"/>
                <p:cNvSpPr txBox="1"/>
                <p:nvPr/>
              </p:nvSpPr>
              <p:spPr>
                <a:xfrm>
                  <a:off x="5619960" y="4327200"/>
                  <a:ext cx="32688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Object 28"/>
                <p:cNvSpPr txBox="1"/>
                <p:nvPr/>
              </p:nvSpPr>
              <p:spPr>
                <a:xfrm>
                  <a:off x="5722920" y="4532040"/>
                  <a:ext cx="3254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29"/>
                <p:cNvSpPr txBox="1"/>
                <p:nvPr/>
              </p:nvSpPr>
              <p:spPr>
                <a:xfrm>
                  <a:off x="5869080" y="4722480"/>
                  <a:ext cx="32868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30"/>
                <p:cNvSpPr txBox="1"/>
                <p:nvPr/>
              </p:nvSpPr>
              <p:spPr>
                <a:xfrm>
                  <a:off x="5988240" y="4927320"/>
                  <a:ext cx="3254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31"/>
                <p:cNvSpPr txBox="1"/>
                <p:nvPr/>
              </p:nvSpPr>
              <p:spPr>
                <a:xfrm>
                  <a:off x="6108840" y="5108400"/>
                  <a:ext cx="190440" cy="22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Picture 32" descr=""/>
          <p:cNvPicPr/>
          <p:nvPr/>
        </p:nvPicPr>
        <p:blipFill>
          <a:blip r:embed="rId2"/>
          <a:stretch/>
        </p:blipFill>
        <p:spPr>
          <a:xfrm>
            <a:off x="684360" y="1565280"/>
            <a:ext cx="2295360" cy="2295360"/>
          </a:xfrm>
          <a:prstGeom prst="rect">
            <a:avLst/>
          </a:prstGeom>
          <a:ln w="0">
            <a:noFill/>
          </a:ln>
        </p:spPr>
      </p:pic>
      <p:sp>
        <p:nvSpPr>
          <p:cNvPr id="191" name="Line 33"/>
          <p:cNvSpPr/>
          <p:nvPr/>
        </p:nvSpPr>
        <p:spPr>
          <a:xfrm>
            <a:off x="8080200" y="4005360"/>
            <a:ext cx="179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841320" y="541656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V obou případech je desetinné číslo vyjádřeno neukončeným periodickým desetinným rozvojem, a to znamená, že zcela přesně lze dané části celku vyjádřit jen pomocí zlom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7419960" y="1700280"/>
                <a:ext cx="82404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68360" y="836640"/>
            <a:ext cx="8280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11280" y="98100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Na následujícím příkladu si ukážeme, jak k přesnému výsledku dospějeme jen při počítání se zlom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841320" y="541656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Vzhledem k zaokrouhlení u převodu jednotek času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ve variantě s desetinnými čísly došlo ve srovnání s variantou se zlomky k půlkilometrovému rozdílu ve výsledku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611280" y="155736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ou dráhu ujede automobil jedoucí 20 minut průměrnou rychlostí 75 km/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612720" y="220500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Varianta s desetinnými čísl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5003640" y="2205000"/>
            <a:ext cx="33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Varianta se zlomk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639720" y="2563920"/>
            <a:ext cx="1655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v = 75 km/h</a:t>
            </a:r>
            <a:br>
              <a:rPr sz="1700"/>
            </a:b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t = 20 min</a:t>
            </a:r>
            <a:br>
              <a:rPr sz="1700"/>
            </a:b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 = ?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5032440" y="2565360"/>
            <a:ext cx="1655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v = 75 km/h</a:t>
            </a:r>
            <a:br>
              <a:rPr sz="1700"/>
            </a:b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t = 20 min</a:t>
            </a:r>
            <a:br>
              <a:rPr sz="1700"/>
            </a:b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 = ?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4360" y="342900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>
            <a:off x="5076720" y="3429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7"/>
          <p:cNvSpPr/>
          <p:nvPr/>
        </p:nvSpPr>
        <p:spPr>
          <a:xfrm>
            <a:off x="5048280" y="3500280"/>
            <a:ext cx="362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t=20 min=20:60 h=20/60 h=1/3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1"/>
          <p:cNvGrpSpPr/>
          <p:nvPr/>
        </p:nvGrpSpPr>
        <p:grpSpPr>
          <a:xfrm>
            <a:off x="639720" y="3400560"/>
            <a:ext cx="3816360" cy="474480"/>
            <a:chOff x="639720" y="3400560"/>
            <a:chExt cx="3816360" cy="474480"/>
          </a:xfrm>
        </p:grpSpPr>
        <p:sp>
          <p:nvSpPr>
            <p:cNvPr id="207" name="Rectangle 36"/>
            <p:cNvSpPr/>
            <p:nvPr/>
          </p:nvSpPr>
          <p:spPr>
            <a:xfrm>
              <a:off x="639720" y="3514680"/>
              <a:ext cx="3816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284c6a"/>
                  </a:solidFill>
                  <a:latin typeface="Trebuchet MS"/>
                </a:rPr>
                <a:t>t=20 min=20:60 h=0,333 h=0,34 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>
              <a:off x="3160440" y="35877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9"/>
            <p:cNvSpPr/>
            <p:nvPr/>
          </p:nvSpPr>
          <p:spPr>
            <a:xfrm>
              <a:off x="3419280" y="3400560"/>
              <a:ext cx="216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284c6a"/>
                  </a:solidFill>
                  <a:latin typeface="Trebuchet MS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42"/>
          <p:cNvSpPr/>
          <p:nvPr/>
        </p:nvSpPr>
        <p:spPr>
          <a:xfrm>
            <a:off x="628560" y="3860640"/>
            <a:ext cx="362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=v.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639720" y="4221000"/>
            <a:ext cx="362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=75.0,34=25,5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5046840" y="3846600"/>
            <a:ext cx="362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=v.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50"/>
          <p:cNvGrpSpPr/>
          <p:nvPr/>
        </p:nvGrpSpPr>
        <p:grpSpPr>
          <a:xfrm>
            <a:off x="5057640" y="4076640"/>
            <a:ext cx="3627720" cy="650880"/>
            <a:chOff x="5057640" y="4076640"/>
            <a:chExt cx="3627720" cy="650880"/>
          </a:xfrm>
        </p:grpSpPr>
        <p:sp>
          <p:nvSpPr>
            <p:cNvPr id="214" name="Rectangle 45"/>
            <p:cNvSpPr/>
            <p:nvPr/>
          </p:nvSpPr>
          <p:spPr>
            <a:xfrm>
              <a:off x="5057640" y="4190760"/>
              <a:ext cx="3627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284c6a"/>
                  </a:solidFill>
                  <a:latin typeface="Trebuchet MS"/>
                </a:rPr>
                <a:t>s=75.      =25 km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49"/>
            <p:cNvGrpSpPr/>
            <p:nvPr/>
          </p:nvGrpSpPr>
          <p:grpSpPr>
            <a:xfrm>
              <a:off x="5680080" y="4076640"/>
              <a:ext cx="504720" cy="650880"/>
              <a:chOff x="5680080" y="4076640"/>
              <a:chExt cx="504720" cy="650880"/>
            </a:xfrm>
          </p:grpSpPr>
          <p:sp>
            <p:nvSpPr>
              <p:cNvPr id="216" name="Rectangle 46"/>
              <p:cNvSpPr/>
              <p:nvPr/>
            </p:nvSpPr>
            <p:spPr>
              <a:xfrm>
                <a:off x="5722920" y="407664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700" spc="-1" strike="noStrike">
                    <a:solidFill>
                      <a:srgbClr val="284c6a"/>
                    </a:solidFill>
                    <a:latin typeface="Trebuchet MS"/>
                  </a:rPr>
                  <a:t>1 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7"/>
              <p:cNvSpPr/>
              <p:nvPr/>
            </p:nvSpPr>
            <p:spPr>
              <a:xfrm>
                <a:off x="5680080" y="4105080"/>
                <a:ext cx="504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700" spc="-1" strike="noStrike">
                    <a:solidFill>
                      <a:srgbClr val="284c6a"/>
                    </a:solidFill>
                    <a:latin typeface="Trebuchet MS"/>
                  </a:rPr>
                  <a:t>__ 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48"/>
              <p:cNvSpPr/>
              <p:nvPr/>
            </p:nvSpPr>
            <p:spPr>
              <a:xfrm>
                <a:off x="5737320" y="4367160"/>
                <a:ext cx="360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700" spc="-1" strike="noStrike">
                    <a:solidFill>
                      <a:srgbClr val="284c6a"/>
                    </a:solidFill>
                    <a:latin typeface="Trebuchet MS"/>
                  </a:rPr>
                  <a:t>3 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AutoShape 51"/>
          <p:cNvSpPr/>
          <p:nvPr/>
        </p:nvSpPr>
        <p:spPr>
          <a:xfrm>
            <a:off x="6948360" y="4508640"/>
            <a:ext cx="1584360" cy="792000"/>
          </a:xfrm>
          <a:prstGeom prst="cloudCallout">
            <a:avLst>
              <a:gd name="adj1" fmla="val -78055"/>
              <a:gd name="adj2" fmla="val -42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řesný výsled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2"/>
          <p:cNvSpPr/>
          <p:nvPr/>
        </p:nvSpPr>
        <p:spPr>
          <a:xfrm>
            <a:off x="2771640" y="4508640"/>
            <a:ext cx="1584360" cy="792000"/>
          </a:xfrm>
          <a:prstGeom prst="cloudCallout">
            <a:avLst>
              <a:gd name="adj1" fmla="val -78055"/>
              <a:gd name="adj2" fmla="val -42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Nepřesný výsled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53"/>
          <p:cNvSpPr/>
          <p:nvPr/>
        </p:nvSpPr>
        <p:spPr>
          <a:xfrm>
            <a:off x="2556000" y="3486240"/>
            <a:ext cx="187308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68360" y="836640"/>
            <a:ext cx="82072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evod desetinného čísla na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755640" y="112536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aždé desetinné číslo se dá zapsat jako desetinný zlomek, tzn. zlomek, který má ve jmenovateli 10, 100, 100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754200" y="1773360"/>
            <a:ext cx="78501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Desetinné číslo převedeme na tvar zlomku tak, že do čitatele zlomku napíšeme číslo bez desetinné čárky, do jmenovatele napíšeme jedničku a tolik nul, kolik desetinných míst bylo za desetinnou čár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403280" y="5516640"/>
            <a:ext cx="69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očet nul u čísel ve jmenovateli je stejný jako počet desetinných míst za desetinnou čárk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755640" y="4076640"/>
                <a:ext cx="17431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3059280" y="3645000"/>
                <a:ext cx="22748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4"/>
              <p:cNvSpPr txBox="1"/>
              <p:nvPr/>
            </p:nvSpPr>
            <p:spPr>
              <a:xfrm>
                <a:off x="5796000" y="4076640"/>
                <a:ext cx="27306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0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Line 25"/>
          <p:cNvSpPr/>
          <p:nvPr/>
        </p:nvSpPr>
        <p:spPr>
          <a:xfrm>
            <a:off x="1144440" y="4883040"/>
            <a:ext cx="287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2109960" y="5229360"/>
            <a:ext cx="287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3463920" y="4449600"/>
            <a:ext cx="5763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4673520" y="4795920"/>
            <a:ext cx="5763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6113520" y="4897440"/>
            <a:ext cx="792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>
            <a:off x="7581960" y="5243400"/>
            <a:ext cx="792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6"/>
          <p:cNvGrpSpPr/>
          <p:nvPr/>
        </p:nvGrpSpPr>
        <p:grpSpPr>
          <a:xfrm>
            <a:off x="1287360" y="4965840"/>
            <a:ext cx="865440" cy="550800"/>
            <a:chOff x="1287360" y="4965840"/>
            <a:chExt cx="865440" cy="550800"/>
          </a:xfrm>
        </p:grpSpPr>
        <p:sp>
          <p:nvSpPr>
            <p:cNvPr id="237" name="Freeform 32"/>
            <p:cNvSpPr/>
            <p:nvPr/>
          </p:nvSpPr>
          <p:spPr>
            <a:xfrm>
              <a:off x="1287360" y="4965840"/>
              <a:ext cx="865440" cy="550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1461960" y="5127480"/>
              <a:ext cx="432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rebuchet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3879720" y="4522680"/>
            <a:ext cx="865440" cy="550800"/>
            <a:chOff x="3879720" y="4522680"/>
            <a:chExt cx="865440" cy="550800"/>
          </a:xfrm>
        </p:grpSpPr>
        <p:sp>
          <p:nvSpPr>
            <p:cNvPr id="240" name="Freeform 38"/>
            <p:cNvSpPr/>
            <p:nvPr/>
          </p:nvSpPr>
          <p:spPr>
            <a:xfrm>
              <a:off x="3879720" y="4522680"/>
              <a:ext cx="865440" cy="550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9"/>
            <p:cNvSpPr/>
            <p:nvPr/>
          </p:nvSpPr>
          <p:spPr>
            <a:xfrm>
              <a:off x="4054320" y="4684320"/>
              <a:ext cx="432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rebuchet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0"/>
          <p:cNvGrpSpPr/>
          <p:nvPr/>
        </p:nvGrpSpPr>
        <p:grpSpPr>
          <a:xfrm>
            <a:off x="6788160" y="4965840"/>
            <a:ext cx="865080" cy="550800"/>
            <a:chOff x="6788160" y="4965840"/>
            <a:chExt cx="865080" cy="550800"/>
          </a:xfrm>
        </p:grpSpPr>
        <p:sp>
          <p:nvSpPr>
            <p:cNvPr id="243" name="Freeform 41"/>
            <p:cNvSpPr/>
            <p:nvPr/>
          </p:nvSpPr>
          <p:spPr>
            <a:xfrm>
              <a:off x="6788160" y="4965840"/>
              <a:ext cx="865080" cy="550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2"/>
            <p:cNvSpPr/>
            <p:nvPr/>
          </p:nvSpPr>
          <p:spPr>
            <a:xfrm>
              <a:off x="6962400" y="5127480"/>
              <a:ext cx="431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
rozpočtu ČR. Provozováno Výzkumným ústavem pedagogickým v Praze.</dc:description>
  <dc:language>en-US</dc:language>
  <cp:lastModifiedBy/>
  <dcterms:modified xsi:type="dcterms:W3CDTF">2009-01-26T23:42:19Z</dcterms:modified>
  <cp:revision>226</cp:revision>
  <dc:subject/>
  <dc:title>Zlomky 3 - desetinná čísla</dc:title>
</cp:coreProperties>
</file>