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678-B833-47B9-83C5-E5A869B3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42E-3AF4-4D4D-A9FD-C63AB83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3A4-7FB3-411E-9245-1204A78C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3AC-0EDF-4CFC-AF2B-D2FF6103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F076-96C3-43AB-A13C-77601439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F23E-0235-4830-AE37-1AB2562D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053F-CBCA-4268-834A-7269EFF9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11C8-6BAC-47F4-8FE9-902F030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4AFB-8823-435F-AC56-DC3EF7E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B8B6-6FAB-4C99-AED0-E8CEB0B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52E-1404-4C05-B938-D0F4238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BB6-77C5-406B-95D1-8D75C31C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6622-DCB4-4C22-9C6D-2ECA7ED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16C2-5B3E-41E7-832C-15600B1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73D9-2273-4419-91FE-7FF0D47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B10F-AC6B-42C1-86A4-0C6D9B9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F657-EB94-4F52-8ADA-55F36F64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EAF-B4A3-4671-8347-479841D5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3E8-95DE-4E56-9D1B-1872B327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016-165C-4D9D-A927-A3AE730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B65-3027-44B8-BF54-4B792576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0F9-44DD-4CE2-8E6C-2D36174C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885-162C-4106-8ED9-F70F3033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3F8-4EB9-4084-B5F8-4B5D102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9CAD-B429-4A65-99C1-8058535236DC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2F9B-0AA4-4BA4-8CBD-BD6CDC721017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Rovnost, rozšiřování a krácení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kladní tvar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541520" y="3929040"/>
                <a:ext cx="187812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12720" y="1266840"/>
            <a:ext cx="79916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o základního tvaru upravujeme zlomky pomocí krácení zlomků.</a:t>
            </a:r>
            <a:br>
              <a:rPr sz="20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Zlomek je v základním tvaru, když čitatel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i jmenovatel jsou čísla nesoudělná,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zn. nejdou dělit žádným jiným stejným číslem než číslem je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68520" y="416556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41680" y="505620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419640" y="3933720"/>
                <a:ext cx="150336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4167360" y="417816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81400" y="50688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940280" y="3933720"/>
                <a:ext cx="150336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5722920" y="41641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53160" y="50734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411960" y="3933720"/>
                <a:ext cx="96660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Uprav do základního tva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6811920" cy="4581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54200" y="1557360"/>
            <a:ext cx="6811920" cy="4581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592280" y="1614600"/>
            <a:ext cx="428760" cy="4537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586400" y="1603440"/>
            <a:ext cx="461880" cy="456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7624800" y="1614600"/>
            <a:ext cx="374760" cy="4478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4417920" y="1728720"/>
            <a:ext cx="177840" cy="4268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1427040" y="1730520"/>
            <a:ext cx="177840" cy="4268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7418520" y="1728720"/>
            <a:ext cx="177840" cy="42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oplň chybějící čísla tak, aby platila rovn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84160" y="1603440"/>
            <a:ext cx="7288200" cy="4562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11120" y="1239840"/>
            <a:ext cx="8050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(Využij znalosti krácení a rozšiřování zlomků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38400" y="1268280"/>
            <a:ext cx="47386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9680" y="981000"/>
            <a:ext cx="804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oplň chybějící čísla tak, aby platila rovn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1120" y="1239840"/>
            <a:ext cx="8050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(Využij znalosti krácení a rozšiřování zlomků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971640" y="1625760"/>
            <a:ext cx="7202520" cy="44672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195640" y="1198440"/>
            <a:ext cx="460368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96800" y="98100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2016360" cy="1871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ácení a rozšiřování zlomků - shrnu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589720"/>
            <a:ext cx="770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rebuchet MS"/>
              </a:rPr>
              <a:t>Rozšiřování zlomků je násobení čitatele </a:t>
            </a:r>
            <a:br>
              <a:rPr sz="2700"/>
            </a:br>
            <a:r>
              <a:rPr b="1" lang="en-US" sz="2700" spc="-1" strike="noStrike">
                <a:solidFill>
                  <a:srgbClr val="ff0000"/>
                </a:solidFill>
                <a:latin typeface="Trebuchet MS"/>
              </a:rPr>
              <a:t>i jmenovatele stejným číslem různým od nu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32000" y="2781360"/>
            <a:ext cx="540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rebuchet MS"/>
              </a:rPr>
              <a:t>Krácení zlomků je dělení čitatele i jmenovatele stejným číslem různým od nul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052880" y="1125360"/>
                <a:ext cx="169848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062680" y="129852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64120" y="210816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724360" y="1125360"/>
                <a:ext cx="13575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6389640" y="12985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8480" y="21049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40520" y="1125360"/>
                <a:ext cx="6303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175280" y="3960720"/>
                <a:ext cx="10681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4552920" y="41338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54360" y="49435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200560" y="3960720"/>
                <a:ext cx="135756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743440" y="41338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850000" y="49546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3960720"/>
                <a:ext cx="121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íme-li celek na části, dostaneme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4581360"/>
            <a:ext cx="2737080" cy="1513080"/>
          </a:xfrm>
          <a:prstGeom prst="cloudCallout">
            <a:avLst>
              <a:gd name="adj1" fmla="val 51912"/>
              <a:gd name="adj2" fmla="val -88194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–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4437000"/>
            <a:ext cx="3529080" cy="1800360"/>
          </a:xfrm>
          <a:prstGeom prst="cloudCallout">
            <a:avLst>
              <a:gd name="adj1" fmla="val -32861"/>
              <a:gd name="adj2" fmla="val -80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jsme rozdělili na čtyři stejné části – čtvrt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844640"/>
            <a:ext cx="1728720" cy="1368360"/>
          </a:xfrm>
          <a:prstGeom prst="cloudCallout">
            <a:avLst>
              <a:gd name="adj1" fmla="val 105648"/>
              <a:gd name="adj2" fmla="val 10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edna čtv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1916280"/>
            <a:ext cx="1729080" cy="1368360"/>
          </a:xfrm>
          <a:prstGeom prst="cloudCallout">
            <a:avLst>
              <a:gd name="adj1" fmla="val -112532"/>
              <a:gd name="adj2" fmla="val 4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ři čtvr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68560" y="3284640"/>
                <a:ext cx="117144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6560" y="3284640"/>
                <a:ext cx="117144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zlom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atematický zápis zlomku tvoří tři čá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95640" y="1700280"/>
            <a:ext cx="1728720" cy="1368360"/>
          </a:xfrm>
          <a:prstGeom prst="cloudCallout">
            <a:avLst>
              <a:gd name="adj1" fmla="val -116759"/>
              <a:gd name="adj2" fmla="val 5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ři čtvr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608200" y="2637000"/>
                <a:ext cx="11718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221440" y="3141720"/>
            <a:ext cx="2950920" cy="1368360"/>
          </a:xfrm>
          <a:prstGeom prst="cloudCallout">
            <a:avLst>
              <a:gd name="adj1" fmla="val -101750"/>
              <a:gd name="adj2" fmla="val 1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lomková č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1557360"/>
            <a:ext cx="2951280" cy="1440000"/>
          </a:xfrm>
          <a:prstGeom prst="cloudCallout">
            <a:avLst>
              <a:gd name="adj1" fmla="val -101319"/>
              <a:gd name="adj2" fmla="val 632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it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 počet dí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4710240"/>
            <a:ext cx="3095640" cy="1584360"/>
          </a:xfrm>
          <a:prstGeom prst="cloudCallout">
            <a:avLst>
              <a:gd name="adj1" fmla="val -94717"/>
              <a:gd name="adj2" fmla="val -4609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men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, na kolik dílů je celek rozdě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2924280"/>
            <a:ext cx="4535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Tři (stejné) díly ze čtyř (stejných) dílů, tj. tři čtvrtiny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125360"/>
            <a:ext cx="820728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47840" y="2637000"/>
            <a:ext cx="1176480" cy="1191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65280" y="1413000"/>
            <a:ext cx="1162080" cy="1206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118280" y="1413000"/>
            <a:ext cx="1181160" cy="120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651640" y="2584440"/>
            <a:ext cx="1162080" cy="119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812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celku zlomk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46360" y="2076480"/>
                <a:ext cx="2808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783480" y="3200400"/>
                <a:ext cx="2365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881520" y="1459080"/>
            <a:ext cx="1171440" cy="119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228160" y="2076480"/>
                <a:ext cx="30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030640" y="2075040"/>
                <a:ext cx="282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365640" y="3255840"/>
                <a:ext cx="39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šech pět příkladů vyjadřuje jeden celek, byť v každém z nich je tento celek zapsán pomocí jiného zlo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5272200"/>
            <a:ext cx="792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Z toho plyne, že obdobně i jakoukoliv část celku lze zapsat pomocí mnoha tvarů zlomků, které se však sobě rovnají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Rovnost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2247840" cy="2305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419640" y="1125360"/>
            <a:ext cx="2276280" cy="2276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227640" y="1125360"/>
            <a:ext cx="2305080" cy="2343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755640" y="3716280"/>
            <a:ext cx="2295360" cy="2343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2304720" cy="231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6242040" y="3789360"/>
            <a:ext cx="224784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032440" y="2247840"/>
                <a:ext cx="5936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18400" y="2247840"/>
                <a:ext cx="8906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195640" y="4861080"/>
                <a:ext cx="8888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753080" y="4897440"/>
                <a:ext cx="9381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23280" y="4889520"/>
                <a:ext cx="9381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55760" y="2233440"/>
                <a:ext cx="6606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884160" y="1989000"/>
            <a:ext cx="7561440" cy="338472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898560" y="2911320"/>
                <a:ext cx="756108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96800" y="86508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Rozšiřování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26920" y="3254400"/>
                <a:ext cx="75614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84360" y="1052640"/>
            <a:ext cx="7920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Hodnota zlomku se nezmění, pokud čitatele i jmenovatele zlomku vynásobíme stejným číslem různým od nuly.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Hovoříme o rozšiřování zlom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58920" y="3043080"/>
            <a:ext cx="100944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19200" y="268272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1258920" y="4843440"/>
            <a:ext cx="100944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33600" y="49878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9360" y="3041640"/>
            <a:ext cx="4292640" cy="21744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79920" y="268272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94320" y="505944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521160" y="4913280"/>
            <a:ext cx="4292640" cy="21744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09840" y="3070080"/>
            <a:ext cx="100980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271152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2409480" y="4870440"/>
            <a:ext cx="1009800" cy="21600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01480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44520" y="2900520"/>
            <a:ext cx="2219400" cy="34416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9960" y="2395440"/>
            <a:ext cx="9493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81160" y="516096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1215720" y="4888080"/>
            <a:ext cx="2219400" cy="34416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6080" y="2583000"/>
            <a:ext cx="371628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60560" y="213516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1230120" y="4843440"/>
            <a:ext cx="371628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54198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2760" y="2583000"/>
            <a:ext cx="552924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2135160"/>
            <a:ext cx="8971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2282400" y="4871880"/>
            <a:ext cx="552924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5494320"/>
            <a:ext cx="8971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01680" y="2597040"/>
            <a:ext cx="664056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5640" y="2149560"/>
            <a:ext cx="1098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0800000">
            <a:off x="1187280" y="4899960"/>
            <a:ext cx="664056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55920" y="5519880"/>
            <a:ext cx="1098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Rovnost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2343240" cy="2333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292640" y="1125360"/>
            <a:ext cx="2295360" cy="2324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382840" y="3573360"/>
            <a:ext cx="2333520" cy="2219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983200" y="3514680"/>
            <a:ext cx="233388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065320" y="2349360"/>
                <a:ext cx="8780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651640" y="2349360"/>
                <a:ext cx="8776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51280" y="4797360"/>
                <a:ext cx="58572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418520" y="4797360"/>
                <a:ext cx="633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26920" y="1989000"/>
            <a:ext cx="7561440" cy="338472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9240" y="2911320"/>
                <a:ext cx="466560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ácení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268360" y="3137040"/>
                <a:ext cx="4665960" cy="16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84360" y="1052640"/>
            <a:ext cx="7920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Hodnota zlomku se nezmění, pokud čitatele i jmenovatele zlomku vydělíme stejným číslem různým od nuly.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Hovoříme o krácení zlom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86040" y="2465280"/>
            <a:ext cx="3716280" cy="71928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30880" y="201780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800080" y="4725720"/>
            <a:ext cx="3716280" cy="7189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4920" y="530208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09960" y="2338560"/>
            <a:ext cx="5176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86040" y="2852640"/>
            <a:ext cx="264960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09960" y="4911840"/>
            <a:ext cx="5176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0800000">
            <a:off x="2801880" y="4738320"/>
            <a:ext cx="264960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62480" y="2349360"/>
            <a:ext cx="4780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38560" y="2863800"/>
            <a:ext cx="244944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62480" y="4923000"/>
            <a:ext cx="47808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4154400" y="4749480"/>
            <a:ext cx="2449440" cy="344520"/>
          </a:xfrm>
          <a:custGeom>
            <a:avLst/>
            <a:gdLst/>
            <a:ahLst/>
            <a:rect l="l" t="t" r="r" b="b"/>
            <a:pathLst>
              <a:path w="636" h="136">
                <a:moveTo>
                  <a:pt x="0" y="136"/>
                </a:moveTo>
                <a:cubicBezTo>
                  <a:pt x="106" y="68"/>
                  <a:pt x="212" y="0"/>
                  <a:pt x="318" y="0"/>
                </a:cubicBezTo>
                <a:cubicBezTo>
                  <a:pt x="424" y="0"/>
                  <a:pt x="530" y="68"/>
                  <a:pt x="636" y="13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ácení zlomk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1195560"/>
            <a:ext cx="66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átit zlomek můžeme několika různými způsoby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(následují tři z ni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411280" y="2233440"/>
                <a:ext cx="135900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73320" y="24066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75120" y="321624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706920" y="2233440"/>
                <a:ext cx="14065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397400" y="24066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86240" y="32130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32520" y="2233440"/>
                <a:ext cx="13586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794200" y="240660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321300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443640" y="2233440"/>
                <a:ext cx="58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177920" y="4321080"/>
                <a:ext cx="135900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839960" y="449424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41400" y="5345280"/>
            <a:ext cx="6033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550960" y="4321080"/>
                <a:ext cx="10177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2897280" y="449424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8720" y="5345280"/>
            <a:ext cx="6033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59320" y="4321080"/>
                <a:ext cx="58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237360" y="4321080"/>
                <a:ext cx="135900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915240" y="4494240"/>
            <a:ext cx="603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6680" y="5332320"/>
            <a:ext cx="60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662960" y="4321080"/>
                <a:ext cx="58104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Bizova</cp:lastModifiedBy>
  <dcterms:modified xsi:type="dcterms:W3CDTF">2009-01-23T08:28:29Z</dcterms:modified>
  <cp:revision>207</cp:revision>
  <dc:subject/>
  <dc:title>Zlomky 2 - rozšiřování a krácení</dc:title>
</cp:coreProperties>
</file>