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358-29A6-4113-818D-F3527286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E85-E356-4AC3-9465-B2655C05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CF5-B51A-4046-99CD-A94F355C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35D-2338-498F-A467-E1A0AFF3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5150-C3F7-4350-A183-D5020C78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A6E4-5333-4478-B50D-2DD2970F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79D5-0BEB-400C-A5BE-4A8C899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B6A2-A243-43BC-AC85-9B28D511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DC13-78F8-482E-BCFA-2A9B47AA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2782-7CB2-43F3-A1D8-33884278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9294-EA5C-4416-A088-1C9D07B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1FB-24BC-4C17-A603-6F4D9521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3C83-411F-4023-9D16-F8E98039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DD1E-3D50-417E-BF58-DCD3B6B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6520-E380-49A7-9519-381BF96D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4036-D497-4CD2-BCAD-EB4C2A81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A1A0-2E21-4F62-94F7-3EBBE5CE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3C5-6A80-4ADF-BE5A-A52EC1ED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744-4FAB-4849-BDD2-FAA36E2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414-AA5A-43A7-9E23-A4812DC6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633-834A-4DF7-857A-0E3437BA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399-288B-4557-9F63-95D4DC9F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208-6B54-4FC7-957F-83AB1BB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1A5-5FF4-4449-8989-AA400FD2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B65D-CF51-44DF-9710-B0323C0FFF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A787-17F3-4AC1-9AFC-9FC60072402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103_g_2_t_1.html" TargetMode="External"/><Relationship Id="rId3" Type="http://schemas.openxmlformats.org/officeDocument/2006/relationships/hyperlink" Target="http://nlvm.usu.edu/en/nav/frames_asid_103_g_2_t_1.html" TargetMode="External"/><Relationship Id="rId4" Type="http://schemas.openxmlformats.org/officeDocument/2006/relationships/hyperlink" Target="http://nlvm.usu.edu/en/nav/frames_asid_103_g_2_t_1.html" TargetMode="External"/><Relationship Id="rId5" Type="http://schemas.openxmlformats.org/officeDocument/2006/relationships/hyperlink" Target="http://nlvm.usu.edu/en/nav/frames_asid_103_g_2_t_1.html" TargetMode="External"/><Relationship Id="rId6" Type="http://schemas.openxmlformats.org/officeDocument/2006/relationships/hyperlink" Target="http://nlvm.usu.edu/en/nav/frames_asid_103_g_2_t_1.html" TargetMode="External"/><Relationship Id="rId7" Type="http://schemas.openxmlformats.org/officeDocument/2006/relationships/hyperlink" Target="http://nlvm.usu.edu/en/nav/frames_asid_103_g_2_t_1.html" TargetMode="External"/><Relationship Id="rId8" Type="http://schemas.openxmlformats.org/officeDocument/2006/relationships/hyperlink" Target="http://nlvm.usu.edu/en/nav/frames_asid_103_g_2_t_1.html" TargetMode="External"/><Relationship Id="rId9" Type="http://schemas.openxmlformats.org/officeDocument/2006/relationships/hyperlink" Target="http://nlvm.usu.edu/en/nav/frames_asid_103_g_2_t_1.html" TargetMode="External"/><Relationship Id="rId10" Type="http://schemas.openxmlformats.org/officeDocument/2006/relationships/hyperlink" Target="http://nlvm.usu.edu/en/nav/frames_asid_103_g_2_t_1.html" TargetMode="External"/><Relationship Id="rId11" Type="http://schemas.openxmlformats.org/officeDocument/2006/relationships/hyperlink" Target="http://nlvm.usu.edu/en/nav/frames_asid_103_g_2_t_1.html" TargetMode="External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hyperlink" Target="http://nlvm.usu.edu/en/nav/frames_asid_104_g_2_t_1.html" TargetMode="External"/><Relationship Id="rId4" Type="http://schemas.openxmlformats.org/officeDocument/2006/relationships/hyperlink" Target="http://nlvm.usu.edu/en/nav/frames_asid_104_g_2_t_1.html" TargetMode="External"/><Relationship Id="rId5" Type="http://schemas.openxmlformats.org/officeDocument/2006/relationships/hyperlink" Target="http://nlvm.usu.edu/en/nav/frames_asid_104_g_2_t_1.html" TargetMode="External"/><Relationship Id="rId6" Type="http://schemas.openxmlformats.org/officeDocument/2006/relationships/hyperlink" Target="http://nlvm.usu.edu/en/nav/frames_asid_104_g_2_t_1.html" TargetMode="External"/><Relationship Id="rId7" Type="http://schemas.openxmlformats.org/officeDocument/2006/relationships/hyperlink" Target="http://nlvm.usu.edu/en/nav/frames_asid_104_g_2_t_1.html" TargetMode="External"/><Relationship Id="rId8" Type="http://schemas.openxmlformats.org/officeDocument/2006/relationships/hyperlink" Target="http://nlvm.usu.edu/en/nav/frames_asid_104_g_2_t_1.html" TargetMode="External"/><Relationship Id="rId9" Type="http://schemas.openxmlformats.org/officeDocument/2006/relationships/hyperlink" Target="http://nlvm.usu.edu/en/nav/frames_asid_104_g_2_t_1.html" TargetMode="External"/><Relationship Id="rId10" Type="http://schemas.openxmlformats.org/officeDocument/2006/relationships/hyperlink" Target="http://nlvm.usu.edu/en/nav/frames_asid_104_g_2_t_1.html" TargetMode="External"/><Relationship Id="rId11" Type="http://schemas.openxmlformats.org/officeDocument/2006/relationships/hyperlink" Target="http://nlvm.usu.edu/en/nav/frames_asid_104_g_2_t_1.html" TargetMode="External"/><Relationship Id="rId12" Type="http://schemas.openxmlformats.org/officeDocument/2006/relationships/hyperlink" Target="http://nlvm.usu.edu/en/nav/frames_asid_104_g_2_t_1.html" TargetMode="Externa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hyperlink" Target="http://www.harcourtschool.com/activity/elab2004/gr3/10.html" TargetMode="External"/><Relationship Id="rId4" Type="http://schemas.openxmlformats.org/officeDocument/2006/relationships/hyperlink" Target="http://www.harcourtschool.com/activity/elab2004/gr3/10.html" TargetMode="External"/><Relationship Id="rId5" Type="http://schemas.openxmlformats.org/officeDocument/2006/relationships/hyperlink" Target="http://www.harcourtschool.com/activity/elab2004/gr3/10.html" TargetMode="External"/><Relationship Id="rId6" Type="http://schemas.openxmlformats.org/officeDocument/2006/relationships/hyperlink" Target="http://www.harcourtschool.com/activity/elab2004/gr3/10.html" TargetMode="External"/><Relationship Id="rId7" Type="http://schemas.openxmlformats.org/officeDocument/2006/relationships/hyperlink" Target="http://www.harcourtschool.com/activity/elab2004/gr3/10.html" TargetMode="External"/><Relationship Id="rId8" Type="http://schemas.openxmlformats.org/officeDocument/2006/relationships/hyperlink" Target="http://www.harcourtschool.com/activity/elab2004/gr3/10.html" TargetMode="External"/><Relationship Id="rId9" Type="http://schemas.openxmlformats.org/officeDocument/2006/relationships/hyperlink" Target="http://www.harcourtschool.com/activity/elab2004/gr3/10.html" TargetMode="External"/><Relationship Id="rId10" Type="http://schemas.openxmlformats.org/officeDocument/2006/relationships/hyperlink" Target="http://www.harcourtschool.com/activity/elab2004/gr3/10.html" TargetMode="Externa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ojem zlomek a jeho zápis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1413000"/>
            <a:ext cx="820728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zlomkem následující vybarvené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812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z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314440" cy="227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95640" y="2637000"/>
                <a:ext cx="603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7920" y="1514520"/>
            <a:ext cx="231480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869000" y="2637000"/>
                <a:ext cx="556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857920" y="1557360"/>
            <a:ext cx="231444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524720" y="2637000"/>
                <a:ext cx="5572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539640" y="414972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co takovýto zlomek?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116000" y="4581360"/>
                <a:ext cx="6685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124000" y="4797360"/>
            <a:ext cx="6335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akový zlomek nemá smysl, neboť jmenovatel nesmí být nula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20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(Jmenovatel vyjadřuje celkový počet dílů, na které je celek rozdělen, a rozdělit celek na nula dílů je nesmys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042920" y="4581360"/>
            <a:ext cx="865080" cy="16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965880" y="4587480"/>
            <a:ext cx="889200" cy="164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68360" y="1413000"/>
            <a:ext cx="820728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031840" y="3860640"/>
            <a:ext cx="2324160" cy="2257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2295360" cy="228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983200" y="1557360"/>
            <a:ext cx="233388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32360" y="3860640"/>
            <a:ext cx="2295360" cy="2257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zlomkem následující vybarvené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812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pis celku zlomk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219400" y="2637000"/>
                <a:ext cx="555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562800" y="4883040"/>
                <a:ext cx="4651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3322800" y="1617840"/>
            <a:ext cx="2314440" cy="22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569360" y="2637000"/>
                <a:ext cx="6030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869000" y="2637000"/>
                <a:ext cx="556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257640" y="4883040"/>
                <a:ext cx="7905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826920" y="2131920"/>
            <a:ext cx="7561440" cy="3384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rebuchet MS"/>
              </a:rPr>
              <a:t>Rovná-li se čitatel jmenovateli, 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Trebuchet MS"/>
              </a:rPr>
              <a:t>jde o jeden celek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apište zlomkem vybarvenou část cel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2295360" cy="2257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419640" y="1341360"/>
            <a:ext cx="2295360" cy="2266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012000" y="1413000"/>
            <a:ext cx="2295360" cy="2257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424320" y="3835440"/>
            <a:ext cx="2295360" cy="2257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6021360" y="3789360"/>
            <a:ext cx="2295720" cy="2257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11280" y="3789360"/>
            <a:ext cx="2295360" cy="225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25600" y="1822320"/>
                <a:ext cx="5382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370400" y="1822320"/>
                <a:ext cx="5396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67360" y="1822320"/>
                <a:ext cx="5842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425600" y="4192560"/>
                <a:ext cx="5396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756480" y="4192560"/>
                <a:ext cx="8078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297320" y="4192560"/>
                <a:ext cx="5396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96800" y="90792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879720" y="3994200"/>
            <a:ext cx="2295720" cy="2257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062000" y="1484280"/>
            <a:ext cx="2257560" cy="2295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380280" y="1484280"/>
            <a:ext cx="2295360" cy="2257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3773520" y="1413000"/>
            <a:ext cx="2295360" cy="2276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109520" y="3979800"/>
            <a:ext cx="2295720" cy="2257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6308640" y="4005360"/>
            <a:ext cx="2295720" cy="2257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barvěte zapsanou část cel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3680" y="3713040"/>
                <a:ext cx="538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498840" y="1274760"/>
                <a:ext cx="5396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051600" y="1274760"/>
                <a:ext cx="5842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09480" y="1276200"/>
                <a:ext cx="5400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940360" y="3645000"/>
                <a:ext cx="8082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88880" y="3645000"/>
                <a:ext cx="7635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96800" y="90792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oplňte chybějícího čitatele či jmenovatele tak, aby zlomek vyjadřoval jeden cel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708360" y="2997360"/>
                <a:ext cx="133524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708360" y="1352520"/>
                <a:ext cx="13050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221520" y="1341360"/>
                <a:ext cx="13032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06640" y="1341360"/>
                <a:ext cx="13046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227640" y="3021120"/>
                <a:ext cx="13017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101600" y="3009960"/>
                <a:ext cx="14828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708360" y="4699080"/>
                <a:ext cx="133524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249960" y="4721400"/>
                <a:ext cx="12556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057320" y="4686480"/>
                <a:ext cx="157320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96800" y="90792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tevřete následující odkaz a znázorněte požadovaný zlom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58920" y="1484280"/>
            <a:ext cx="676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nlvm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.usu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edu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/en/nav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frames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_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asid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10"/>
              </a:rPr>
              <a:t>_103_g_2_t_1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11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191628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můcka, jak na to (klikej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>
            <a:off x="1547640" y="2303640"/>
            <a:ext cx="6277320" cy="3933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4480" y="4869000"/>
            <a:ext cx="1979280" cy="1512720"/>
          </a:xfrm>
          <a:prstGeom prst="cloudCallout">
            <a:avLst>
              <a:gd name="adj1" fmla="val 72694"/>
              <a:gd name="adj2" fmla="val -20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Urči počet dílků, na které má být celek rozdělen – jmenovat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1989000"/>
            <a:ext cx="1979640" cy="1513080"/>
          </a:xfrm>
          <a:prstGeom prst="cloudCallout">
            <a:avLst>
              <a:gd name="adj1" fmla="val -113430"/>
              <a:gd name="adj2" fmla="val 20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likni do tolika políček, kolik jich má být vybráno dle čitat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844640"/>
            <a:ext cx="1979640" cy="1513080"/>
          </a:xfrm>
          <a:prstGeom prst="cloudCallout">
            <a:avLst>
              <a:gd name="adj1" fmla="val -59143"/>
              <a:gd name="adj2" fmla="val 642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likni pro kontrolu správ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4221000"/>
            <a:ext cx="1979640" cy="1513080"/>
          </a:xfrm>
          <a:prstGeom prst="cloudCallout">
            <a:avLst>
              <a:gd name="adj1" fmla="val -88731"/>
              <a:gd name="adj2" fmla="val 571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likni pro nový příkl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96800" y="90792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447920" y="2313000"/>
            <a:ext cx="6249960" cy="3924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á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tevřete následující odkaz a zapište zlomkem, jaká část celku je znázorně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4360" y="1498680"/>
            <a:ext cx="755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nlvm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.usu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edu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/en/nav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frames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_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0"/>
              </a:rPr>
              <a:t>asid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1"/>
              </a:rPr>
              <a:t>_104_g_2_t_1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2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191628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můcka, jak na to (klikej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11280" y="4292640"/>
            <a:ext cx="1979640" cy="1512720"/>
          </a:xfrm>
          <a:prstGeom prst="cloudCallout">
            <a:avLst>
              <a:gd name="adj1" fmla="val 62990"/>
              <a:gd name="adj2" fmla="val -87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Zapiš zlomkem vybarvenou část cel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1916280"/>
            <a:ext cx="1979640" cy="1512720"/>
          </a:xfrm>
          <a:prstGeom prst="cloudCallout">
            <a:avLst>
              <a:gd name="adj1" fmla="val -83439"/>
              <a:gd name="adj2" fmla="val 59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likni pro kontrolu správ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4437000"/>
            <a:ext cx="1979640" cy="1513080"/>
          </a:xfrm>
          <a:prstGeom prst="cloudCallout">
            <a:avLst>
              <a:gd name="adj1" fmla="val -88731"/>
              <a:gd name="adj2" fmla="val 428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likni pro nový příklad – zlom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96800" y="90792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927080" y="2249640"/>
            <a:ext cx="5308920" cy="4001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šes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tevřete následující odkaz a zapište zlomkem, jaká část celku je znázorně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4360" y="1498680"/>
            <a:ext cx="79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harcourtschool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com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activity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/elab2004/gr3/10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0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9640" y="191628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můcka, jak na to (klikej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4724280"/>
            <a:ext cx="1979640" cy="1513080"/>
          </a:xfrm>
          <a:prstGeom prst="cloudCallout">
            <a:avLst>
              <a:gd name="adj1" fmla="val 73175"/>
              <a:gd name="adj2" fmla="val -95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Doplň čitatele zlomku tak, aby vyjadřoval vybarvenou část cel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276640"/>
            <a:ext cx="1979640" cy="1512720"/>
          </a:xfrm>
          <a:prstGeom prst="cloudCallout">
            <a:avLst>
              <a:gd name="adj1" fmla="val -130351"/>
              <a:gd name="adj2" fmla="val -256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Zmáčkni ENTER pro kontrolu správ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67280" y="4797360"/>
            <a:ext cx="1979640" cy="1513080"/>
          </a:xfrm>
          <a:prstGeom prst="cloudCallout">
            <a:avLst>
              <a:gd name="adj1" fmla="val 54972"/>
              <a:gd name="adj2" fmla="val -117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likni pro nový příklad – zlom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96800" y="98100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592360" cy="2592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zor na druhý používaný zápis zlo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2000" y="242100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Někdy se místo zlomkové čáry tak, jak jsme ji prozatím psali, používá čára lomená (lomítko).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274920" y="3838680"/>
                <a:ext cx="518472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/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1700280"/>
            <a:ext cx="81360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125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íme-li celek na stejné části, dostaneme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34656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4581360"/>
            <a:ext cx="2737080" cy="1513080"/>
          </a:xfrm>
          <a:prstGeom prst="cloudCallout">
            <a:avLst>
              <a:gd name="adj1" fmla="val 51912"/>
              <a:gd name="adj2" fmla="val -88194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uh – jeden c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4437000"/>
            <a:ext cx="3529080" cy="1800360"/>
          </a:xfrm>
          <a:prstGeom prst="cloudCallout">
            <a:avLst>
              <a:gd name="adj1" fmla="val -32861"/>
              <a:gd name="adj2" fmla="val -80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uh jsme rozdělili na čtyři stejné části – čtvrt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844640"/>
            <a:ext cx="1728720" cy="1368360"/>
          </a:xfrm>
          <a:prstGeom prst="cloudCallout">
            <a:avLst>
              <a:gd name="adj1" fmla="val 105648"/>
              <a:gd name="adj2" fmla="val 10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edna čtv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1916280"/>
            <a:ext cx="1729080" cy="1368360"/>
          </a:xfrm>
          <a:prstGeom prst="cloudCallout">
            <a:avLst>
              <a:gd name="adj1" fmla="val -112532"/>
              <a:gd name="adj2" fmla="val 4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ři čtvr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68560" y="3284640"/>
                <a:ext cx="117144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6560" y="3284640"/>
                <a:ext cx="117144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13600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336840" y="1989000"/>
            <a:ext cx="2314800" cy="2295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125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íme-li celek na stejné části, dostaneme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81360"/>
            <a:ext cx="2737080" cy="1513080"/>
          </a:xfrm>
          <a:prstGeom prst="cloudCallout">
            <a:avLst>
              <a:gd name="adj1" fmla="val 51912"/>
              <a:gd name="adj2" fmla="val -88194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uh – jeden c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12840" y="328464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900840" y="328464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352680" y="2028960"/>
            <a:ext cx="2295720" cy="225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348000" y="2031840"/>
            <a:ext cx="2295720" cy="2257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859280" y="4437000"/>
            <a:ext cx="3529080" cy="1800360"/>
          </a:xfrm>
          <a:prstGeom prst="cloudCallout">
            <a:avLst>
              <a:gd name="adj1" fmla="val -32861"/>
              <a:gd name="adj2" fmla="val -80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uh jsme rozdělili na sedm stejných částí – sedm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844640"/>
            <a:ext cx="1728720" cy="1368360"/>
          </a:xfrm>
          <a:prstGeom prst="cloudCallout">
            <a:avLst>
              <a:gd name="adj1" fmla="val 105648"/>
              <a:gd name="adj2" fmla="val 10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ět sed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1916280"/>
            <a:ext cx="1729080" cy="1368360"/>
          </a:xfrm>
          <a:prstGeom prst="cloudCallout">
            <a:avLst>
              <a:gd name="adj1" fmla="val -107486"/>
              <a:gd name="adj2" fmla="val 4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ři sedm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170028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4320" y="1873080"/>
            <a:ext cx="2295360" cy="2276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25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íme-li celek na stejné části, dostaneme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844640"/>
            <a:ext cx="1728720" cy="1368360"/>
          </a:xfrm>
          <a:prstGeom prst="cloudCallout">
            <a:avLst>
              <a:gd name="adj1" fmla="val 102342"/>
              <a:gd name="adj2" fmla="val 10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ět os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8360" y="1873080"/>
            <a:ext cx="2295720" cy="2257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6920" y="4581360"/>
            <a:ext cx="2737080" cy="1513080"/>
          </a:xfrm>
          <a:prstGeom prst="cloudCallout">
            <a:avLst>
              <a:gd name="adj1" fmla="val 51912"/>
              <a:gd name="adj2" fmla="val -88194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tverec – jeden c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4437000"/>
            <a:ext cx="3529080" cy="1800360"/>
          </a:xfrm>
          <a:prstGeom prst="cloudCallout">
            <a:avLst>
              <a:gd name="adj1" fmla="val -32861"/>
              <a:gd name="adj2" fmla="val -80689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tverec jsme rozdělili na osm stejných částí – osm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438360" y="1873080"/>
            <a:ext cx="2295720" cy="225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900840" y="328464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212840" y="328464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588000" y="1916280"/>
            <a:ext cx="1729080" cy="1368360"/>
          </a:xfrm>
          <a:prstGeom prst="cloudCallout">
            <a:avLst>
              <a:gd name="adj1" fmla="val -99953"/>
              <a:gd name="adj2" fmla="val 7262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ři osm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170028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24320" y="1916280"/>
            <a:ext cx="2295360" cy="2266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12536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íme-li celek na stejné části, dostaneme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844640"/>
            <a:ext cx="1873080" cy="1368360"/>
          </a:xfrm>
          <a:prstGeom prst="cloudCallout">
            <a:avLst>
              <a:gd name="adj1" fmla="val 96018"/>
              <a:gd name="adj2" fmla="val 800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edna pol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916280"/>
            <a:ext cx="1800360" cy="1368360"/>
          </a:xfrm>
          <a:prstGeom prst="cloudCallout">
            <a:avLst>
              <a:gd name="adj1" fmla="val -94004"/>
              <a:gd name="adj2" fmla="val -26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edna pol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24320" y="1916280"/>
            <a:ext cx="2295360" cy="2266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424320" y="1916280"/>
            <a:ext cx="2295360" cy="2266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4581360"/>
            <a:ext cx="2737080" cy="1513080"/>
          </a:xfrm>
          <a:prstGeom prst="cloudCallout">
            <a:avLst>
              <a:gd name="adj1" fmla="val 54583"/>
              <a:gd name="adj2" fmla="val -9186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tverec – jeden ce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4437000"/>
            <a:ext cx="3529080" cy="1800360"/>
          </a:xfrm>
          <a:prstGeom prst="cloudCallout">
            <a:avLst>
              <a:gd name="adj1" fmla="val -43162"/>
              <a:gd name="adj2" fmla="val -76629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tverec jsme rozdělili na dvě stejné části – polov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12840" y="328464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900840" y="328464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413000"/>
            <a:ext cx="813600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pis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atematický zápis zlomku tvoří tři čá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95640" y="1700280"/>
            <a:ext cx="1728720" cy="1368360"/>
          </a:xfrm>
          <a:prstGeom prst="cloudCallout">
            <a:avLst>
              <a:gd name="adj1" fmla="val -116759"/>
              <a:gd name="adj2" fmla="val 58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tři čtvr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608200" y="2637000"/>
                <a:ext cx="11718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221440" y="3141720"/>
            <a:ext cx="2950920" cy="1368360"/>
          </a:xfrm>
          <a:prstGeom prst="cloudCallout">
            <a:avLst>
              <a:gd name="adj1" fmla="val -101750"/>
              <a:gd name="adj2" fmla="val 16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zlomková č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1557360"/>
            <a:ext cx="2951280" cy="1440000"/>
          </a:xfrm>
          <a:prstGeom prst="cloudCallout">
            <a:avLst>
              <a:gd name="adj1" fmla="val -101319"/>
              <a:gd name="adj2" fmla="val 6323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it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 počet dí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710240"/>
            <a:ext cx="3095640" cy="1584360"/>
          </a:xfrm>
          <a:prstGeom prst="cloudCallout">
            <a:avLst>
              <a:gd name="adj1" fmla="val -94717"/>
              <a:gd name="adj2" fmla="val -4609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meno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, na kolik dílů je celek rozdě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2924280"/>
            <a:ext cx="4535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Tři (stejné) díly ze čtyř (stejných) dílů, tj. tři čtvrtiny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1413000"/>
            <a:ext cx="813600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pis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atematický zápis zlomku tvoří tři čá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52840" y="263700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221440" y="3141720"/>
            <a:ext cx="2950920" cy="1368360"/>
          </a:xfrm>
          <a:prstGeom prst="cloudCallout">
            <a:avLst>
              <a:gd name="adj1" fmla="val -101750"/>
              <a:gd name="adj2" fmla="val 16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zlomková č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1557360"/>
            <a:ext cx="2951280" cy="1440000"/>
          </a:xfrm>
          <a:prstGeom prst="cloudCallout">
            <a:avLst>
              <a:gd name="adj1" fmla="val -101319"/>
              <a:gd name="adj2" fmla="val 6323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it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 počet dí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4710240"/>
            <a:ext cx="3095640" cy="1584360"/>
          </a:xfrm>
          <a:prstGeom prst="cloudCallout">
            <a:avLst>
              <a:gd name="adj1" fmla="val -94717"/>
              <a:gd name="adj2" fmla="val -4609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meno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, na kolik dílů je celek rozdě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6880" y="1522440"/>
            <a:ext cx="2314440" cy="2266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51280" y="2781360"/>
            <a:ext cx="4535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Pět (stejných) dílů ze šesti (stejných) dílů, tj. pět šestin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08360" y="1628640"/>
            <a:ext cx="55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zlomkem červenou část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1413000"/>
            <a:ext cx="813600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pis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atematický zápis zlomku tvoří tři čá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652840" y="2637000"/>
                <a:ext cx="1081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221440" y="3141720"/>
            <a:ext cx="2950920" cy="1368360"/>
          </a:xfrm>
          <a:prstGeom prst="cloudCallout">
            <a:avLst>
              <a:gd name="adj1" fmla="val -101750"/>
              <a:gd name="adj2" fmla="val 16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zlomková čá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1557360"/>
            <a:ext cx="2951280" cy="1440000"/>
          </a:xfrm>
          <a:prstGeom prst="cloudCallout">
            <a:avLst>
              <a:gd name="adj1" fmla="val -101319"/>
              <a:gd name="adj2" fmla="val 6323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čit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 počet dí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4710240"/>
            <a:ext cx="3095640" cy="1584360"/>
          </a:xfrm>
          <a:prstGeom prst="cloudCallout">
            <a:avLst>
              <a:gd name="adj1" fmla="val -94717"/>
              <a:gd name="adj2" fmla="val -46092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meno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(vyjadřuje, na kolik dílů je celek rozdě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2924280"/>
            <a:ext cx="44640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Pět (stejných) dílů z osmi (stejných) dílů, tj. pět osmin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1469880"/>
            <a:ext cx="2295720" cy="2257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808360" y="1628640"/>
            <a:ext cx="55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zlomkem žlutou část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1413000"/>
            <a:ext cx="8207280" cy="49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pis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zlomkem následující vybarvené části cel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1560" y="1557360"/>
            <a:ext cx="2314800" cy="225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503440" y="2563920"/>
                <a:ext cx="5558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333600" y="1557360"/>
            <a:ext cx="2295720" cy="2266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168880" y="2565360"/>
                <a:ext cx="555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021360" y="1600200"/>
            <a:ext cx="2295720" cy="225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765920" y="2565360"/>
                <a:ext cx="8334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290760" y="3908520"/>
            <a:ext cx="2343240" cy="225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032440" y="4954680"/>
                <a:ext cx="7873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021360" y="3979800"/>
            <a:ext cx="2295720" cy="225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923240" y="4954680"/>
                <a:ext cx="555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684360" y="3979800"/>
            <a:ext cx="2295360" cy="2257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03440" y="4956120"/>
                <a:ext cx="5558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1-22T11:23:59Z</dcterms:modified>
  <cp:revision>206</cp:revision>
  <dc:subject/>
  <dc:title>Zlomky 1 - základní pojmy</dc:title>
</cp:coreProperties>
</file>