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91A-A160-4DAB-8DDC-5ADF5F3C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1FB-1220-44D4-B776-6BF27F9F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CAB-773F-42F3-9276-085D9495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CBC-E09E-4956-9137-13AD8B32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6153-8675-44DA-91ED-61E540C0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E984-8F9B-4905-8DEE-E9576A55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A955-0C70-4BD5-AAE4-A1F82A52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C0F3-43C5-416D-91EF-5D813361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7853-01D4-4AB8-9263-5464B203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9977-A280-41A8-9F54-794E8571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A870-9C0F-4C13-AC68-3877719F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E67-2A98-43EF-A4EA-FDABD42C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002B-F828-4C99-9382-D07FC30E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CB62-CE2E-4BDE-866C-16FDA226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B03B-C17F-41E8-84B8-2B65228B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8DF0-9C62-4D13-A32B-3D5200E6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FA8D-AEA2-4206-B741-3B6CCA41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F6E-86D6-4145-B23B-EFBCEE44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E02-BA24-4789-B51E-5C6EAF43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ECB-B8FE-48B1-80D4-3B4145A4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C932-020C-493C-8AA7-BA248655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343-6903-4DFF-8F7A-3AC86A0A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48C-22F1-41EB-B47E-69C49DF7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A53-F8D3-48A2-9065-24812C70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37F2-3A73-4D23-A55A-0BDF493AE37A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5308-883E-4D45-80C1-A66930FC306C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Algebraické výraz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čítání a odčítání výraz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39640" y="6021360"/>
            <a:ext cx="8077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Foto vlas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539640" y="981000"/>
            <a:ext cx="820908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423720" y="130320"/>
            <a:ext cx="820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čítání a odčítání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8560" y="981000"/>
            <a:ext cx="77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Začneme hodně názorně, zavzpomínáme na první třídu! </a:t>
            </a:r>
            <a:r>
              <a:rPr b="1" lang="en-US" sz="2000" spc="-1" strike="noStrike">
                <a:solidFill>
                  <a:srgbClr val="00cc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1676520" y="1484280"/>
                <a:ext cx="4271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Rectangle 21"/>
          <p:cNvSpPr/>
          <p:nvPr/>
        </p:nvSpPr>
        <p:spPr>
          <a:xfrm>
            <a:off x="1476360" y="2638440"/>
            <a:ext cx="86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736720" y="2635200"/>
            <a:ext cx="86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+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4249800" y="2635200"/>
            <a:ext cx="86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6"/>
          <p:cNvSpPr/>
          <p:nvPr/>
        </p:nvSpPr>
        <p:spPr>
          <a:xfrm>
            <a:off x="5867280" y="2635200"/>
            <a:ext cx="86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7"/>
          <p:cNvSpPr/>
          <p:nvPr/>
        </p:nvSpPr>
        <p:spPr>
          <a:xfrm>
            <a:off x="7378560" y="2635200"/>
            <a:ext cx="86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1130400" y="3733920"/>
            <a:ext cx="86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1"/>
          <p:cNvSpPr/>
          <p:nvPr/>
        </p:nvSpPr>
        <p:spPr>
          <a:xfrm>
            <a:off x="2743200" y="3730680"/>
            <a:ext cx="86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4284720" y="3733920"/>
            <a:ext cx="86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+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5"/>
          <p:cNvSpPr/>
          <p:nvPr/>
        </p:nvSpPr>
        <p:spPr>
          <a:xfrm>
            <a:off x="5897520" y="3733920"/>
            <a:ext cx="86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+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6"/>
          <p:cNvSpPr/>
          <p:nvPr/>
        </p:nvSpPr>
        <p:spPr>
          <a:xfrm>
            <a:off x="7380360" y="3732120"/>
            <a:ext cx="86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8"/>
          <p:cNvSpPr/>
          <p:nvPr/>
        </p:nvSpPr>
        <p:spPr>
          <a:xfrm rot="16200000">
            <a:off x="5796720" y="2995920"/>
            <a:ext cx="358920" cy="2808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2"/>
          <p:cNvSpPr/>
          <p:nvPr/>
        </p:nvSpPr>
        <p:spPr>
          <a:xfrm>
            <a:off x="2195640" y="2003400"/>
            <a:ext cx="144360" cy="43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3"/>
          <p:cNvSpPr/>
          <p:nvPr/>
        </p:nvSpPr>
        <p:spPr>
          <a:xfrm>
            <a:off x="3348000" y="1989000"/>
            <a:ext cx="287280" cy="43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7"/>
          <p:cNvSpPr/>
          <p:nvPr/>
        </p:nvSpPr>
        <p:spPr>
          <a:xfrm rot="16200000">
            <a:off x="2736720" y="3031560"/>
            <a:ext cx="358920" cy="2737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3"/>
          <p:cNvSpPr/>
          <p:nvPr/>
        </p:nvSpPr>
        <p:spPr>
          <a:xfrm>
            <a:off x="2971800" y="5764320"/>
            <a:ext cx="86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=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6"/>
          <p:cNvSpPr/>
          <p:nvPr/>
        </p:nvSpPr>
        <p:spPr>
          <a:xfrm>
            <a:off x="4613400" y="5732640"/>
            <a:ext cx="865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+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57"/>
              <p:cNvSpPr txBox="1"/>
              <p:nvPr/>
            </p:nvSpPr>
            <p:spPr>
              <a:xfrm>
                <a:off x="5952960" y="1487520"/>
                <a:ext cx="1544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Line 58"/>
          <p:cNvSpPr/>
          <p:nvPr/>
        </p:nvSpPr>
        <p:spPr>
          <a:xfrm>
            <a:off x="5867280" y="20638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9"/>
          <p:cNvSpPr/>
          <p:nvPr/>
        </p:nvSpPr>
        <p:spPr>
          <a:xfrm>
            <a:off x="5867280" y="21351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0"/>
          <p:cNvSpPr/>
          <p:nvPr/>
        </p:nvSpPr>
        <p:spPr>
          <a:xfrm>
            <a:off x="2500200" y="5715000"/>
            <a:ext cx="863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7" descr=""/>
          <p:cNvPicPr/>
          <p:nvPr/>
        </p:nvPicPr>
        <p:blipFill>
          <a:blip r:embed="rId2"/>
          <a:stretch/>
        </p:blipFill>
        <p:spPr>
          <a:xfrm>
            <a:off x="2050920" y="2565360"/>
            <a:ext cx="578160" cy="566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7" descr=""/>
          <p:cNvPicPr/>
          <p:nvPr/>
        </p:nvPicPr>
        <p:blipFill>
          <a:blip r:embed="rId3"/>
          <a:stretch/>
        </p:blipFill>
        <p:spPr>
          <a:xfrm>
            <a:off x="5148360" y="256536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7" descr=""/>
          <p:cNvPicPr/>
          <p:nvPr/>
        </p:nvPicPr>
        <p:blipFill>
          <a:blip r:embed="rId4"/>
          <a:stretch/>
        </p:blipFill>
        <p:spPr>
          <a:xfrm>
            <a:off x="2050920" y="3716280"/>
            <a:ext cx="578160" cy="566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7" descr=""/>
          <p:cNvPicPr/>
          <p:nvPr/>
        </p:nvPicPr>
        <p:blipFill>
          <a:blip r:embed="rId5"/>
          <a:stretch/>
        </p:blipFill>
        <p:spPr>
          <a:xfrm>
            <a:off x="3635280" y="371628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7" descr=""/>
          <p:cNvPicPr/>
          <p:nvPr/>
        </p:nvPicPr>
        <p:blipFill>
          <a:blip r:embed="rId6"/>
          <a:stretch/>
        </p:blipFill>
        <p:spPr>
          <a:xfrm>
            <a:off x="3780000" y="5734080"/>
            <a:ext cx="577800" cy="566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7" descr=""/>
          <p:cNvPicPr/>
          <p:nvPr/>
        </p:nvPicPr>
        <p:blipFill>
          <a:blip r:embed="rId7"/>
          <a:stretch/>
        </p:blipFill>
        <p:spPr>
          <a:xfrm>
            <a:off x="2700360" y="5013360"/>
            <a:ext cx="360360" cy="353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7" descr=""/>
          <p:cNvPicPr/>
          <p:nvPr/>
        </p:nvPicPr>
        <p:blipFill>
          <a:blip r:embed="rId8"/>
          <a:stretch/>
        </p:blipFill>
        <p:spPr>
          <a:xfrm>
            <a:off x="2987640" y="4581360"/>
            <a:ext cx="360360" cy="354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7" descr=""/>
          <p:cNvPicPr/>
          <p:nvPr/>
        </p:nvPicPr>
        <p:blipFill>
          <a:blip r:embed="rId9"/>
          <a:stretch/>
        </p:blipFill>
        <p:spPr>
          <a:xfrm>
            <a:off x="2411280" y="4653000"/>
            <a:ext cx="360360" cy="353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8" descr=""/>
          <p:cNvPicPr/>
          <p:nvPr/>
        </p:nvPicPr>
        <p:blipFill>
          <a:blip r:embed="rId10"/>
          <a:stretch/>
        </p:blipFill>
        <p:spPr>
          <a:xfrm>
            <a:off x="3656160" y="2421000"/>
            <a:ext cx="484200" cy="774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8" descr=""/>
          <p:cNvPicPr/>
          <p:nvPr/>
        </p:nvPicPr>
        <p:blipFill>
          <a:blip r:embed="rId11"/>
          <a:stretch/>
        </p:blipFill>
        <p:spPr>
          <a:xfrm>
            <a:off x="6746760" y="2438280"/>
            <a:ext cx="484200" cy="774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8" descr=""/>
          <p:cNvPicPr/>
          <p:nvPr/>
        </p:nvPicPr>
        <p:blipFill>
          <a:blip r:embed="rId12"/>
          <a:stretch/>
        </p:blipFill>
        <p:spPr>
          <a:xfrm>
            <a:off x="5148360" y="3500280"/>
            <a:ext cx="484200" cy="774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8" descr=""/>
          <p:cNvPicPr/>
          <p:nvPr/>
        </p:nvPicPr>
        <p:blipFill>
          <a:blip r:embed="rId13"/>
          <a:stretch/>
        </p:blipFill>
        <p:spPr>
          <a:xfrm>
            <a:off x="6732720" y="3500280"/>
            <a:ext cx="484200" cy="774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8" descr=""/>
          <p:cNvPicPr/>
          <p:nvPr/>
        </p:nvPicPr>
        <p:blipFill>
          <a:blip r:embed="rId14"/>
          <a:stretch/>
        </p:blipFill>
        <p:spPr>
          <a:xfrm>
            <a:off x="4859280" y="4724280"/>
            <a:ext cx="316080" cy="505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8" descr=""/>
          <p:cNvPicPr/>
          <p:nvPr/>
        </p:nvPicPr>
        <p:blipFill>
          <a:blip r:embed="rId15"/>
          <a:stretch/>
        </p:blipFill>
        <p:spPr>
          <a:xfrm>
            <a:off x="5796000" y="4797360"/>
            <a:ext cx="315720" cy="504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8" descr=""/>
          <p:cNvPicPr/>
          <p:nvPr/>
        </p:nvPicPr>
        <p:blipFill>
          <a:blip r:embed="rId16"/>
          <a:stretch/>
        </p:blipFill>
        <p:spPr>
          <a:xfrm>
            <a:off x="5292720" y="4941720"/>
            <a:ext cx="316080" cy="505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8" descr=""/>
          <p:cNvPicPr/>
          <p:nvPr/>
        </p:nvPicPr>
        <p:blipFill>
          <a:blip r:embed="rId17"/>
          <a:stretch/>
        </p:blipFill>
        <p:spPr>
          <a:xfrm>
            <a:off x="5508720" y="4508640"/>
            <a:ext cx="315720" cy="504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8" descr=""/>
          <p:cNvPicPr/>
          <p:nvPr/>
        </p:nvPicPr>
        <p:blipFill>
          <a:blip r:embed="rId18"/>
          <a:stretch/>
        </p:blipFill>
        <p:spPr>
          <a:xfrm>
            <a:off x="5148360" y="4437000"/>
            <a:ext cx="315720" cy="504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8" descr=""/>
          <p:cNvPicPr/>
          <p:nvPr/>
        </p:nvPicPr>
        <p:blipFill>
          <a:blip r:embed="rId19"/>
          <a:stretch/>
        </p:blipFill>
        <p:spPr>
          <a:xfrm>
            <a:off x="6300720" y="4508640"/>
            <a:ext cx="3160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8" descr=""/>
          <p:cNvPicPr/>
          <p:nvPr/>
        </p:nvPicPr>
        <p:blipFill>
          <a:blip r:embed="rId20"/>
          <a:stretch/>
        </p:blipFill>
        <p:spPr>
          <a:xfrm>
            <a:off x="6732720" y="4869000"/>
            <a:ext cx="315720" cy="504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8" descr=""/>
          <p:cNvPicPr/>
          <p:nvPr/>
        </p:nvPicPr>
        <p:blipFill>
          <a:blip r:embed="rId21"/>
          <a:stretch/>
        </p:blipFill>
        <p:spPr>
          <a:xfrm>
            <a:off x="5435640" y="5516640"/>
            <a:ext cx="484200" cy="77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0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539640" y="981000"/>
            <a:ext cx="820908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23720" y="130320"/>
            <a:ext cx="820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Sčítání a odčítání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755640" y="1125360"/>
            <a:ext cx="77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Jak jsme si tedy ukázali, sčítat a odčítat můžeme jen stejné členy se stejnou proměn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26920" y="2262240"/>
            <a:ext cx="6510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druhou proměnnou pak opět jen s touto proměnn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784080" y="1728720"/>
            <a:ext cx="360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To znamená čísla jen s čísl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812880" y="2016000"/>
            <a:ext cx="7848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ednu proměnnou jen s touto proměnno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9"/>
              <p:cNvSpPr txBox="1"/>
              <p:nvPr/>
            </p:nvSpPr>
            <p:spPr>
              <a:xfrm>
                <a:off x="1739880" y="3152880"/>
                <a:ext cx="5654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0"/>
              <p:cNvSpPr txBox="1"/>
              <p:nvPr/>
            </p:nvSpPr>
            <p:spPr>
              <a:xfrm>
                <a:off x="3038400" y="5586480"/>
                <a:ext cx="2886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Arc 11"/>
          <p:cNvSpPr/>
          <p:nvPr/>
        </p:nvSpPr>
        <p:spPr>
          <a:xfrm rot="18300000">
            <a:off x="4000680" y="2352240"/>
            <a:ext cx="2447640" cy="229572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2295720"/>
              <a:gd name="textAreaBottom" fmla="*/ 2296080 h 229572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rc 12"/>
          <p:cNvSpPr/>
          <p:nvPr/>
        </p:nvSpPr>
        <p:spPr>
          <a:xfrm rot="7515000">
            <a:off x="3318120" y="2824920"/>
            <a:ext cx="1441440" cy="13539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353960"/>
              <a:gd name="textAreaBottom" fmla="*/ 1354320 h 135396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rc 13"/>
          <p:cNvSpPr/>
          <p:nvPr/>
        </p:nvSpPr>
        <p:spPr>
          <a:xfrm rot="7515000">
            <a:off x="2606400" y="1793520"/>
            <a:ext cx="3165480" cy="2978280"/>
          </a:xfrm>
          <a:custGeom>
            <a:avLst/>
            <a:gdLst>
              <a:gd name="textAreaLeft" fmla="*/ 0 w 3165480"/>
              <a:gd name="textAreaRight" fmla="*/ 3165840 w 3165480"/>
              <a:gd name="textAreaTop" fmla="*/ 0 h 2978280"/>
              <a:gd name="textAreaBottom" fmla="*/ 2978640 h 297828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4"/>
          <p:cNvSpPr/>
          <p:nvPr/>
        </p:nvSpPr>
        <p:spPr>
          <a:xfrm>
            <a:off x="5292720" y="3976560"/>
            <a:ext cx="3708360" cy="2781360"/>
          </a:xfrm>
          <a:prstGeom prst="cloudCallout">
            <a:avLst>
              <a:gd name="adj1" fmla="val -81037"/>
              <a:gd name="adj2" fmla="val -34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Využijeme komutativní zákon a členy mnohočlenu si podle uvedeného přeskupíme. Pozor na to, že členy „bereme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i s jejich znaménky, které určují, zda mají kladnou či zápornou hodnot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15"/>
              <p:cNvSpPr txBox="1"/>
              <p:nvPr/>
            </p:nvSpPr>
            <p:spPr>
              <a:xfrm>
                <a:off x="1711440" y="4635360"/>
                <a:ext cx="6057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Oval 16"/>
          <p:cNvSpPr/>
          <p:nvPr/>
        </p:nvSpPr>
        <p:spPr>
          <a:xfrm>
            <a:off x="2109960" y="4365720"/>
            <a:ext cx="1726920" cy="1081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"/>
          <p:cNvSpPr/>
          <p:nvPr/>
        </p:nvSpPr>
        <p:spPr>
          <a:xfrm>
            <a:off x="3897360" y="4365720"/>
            <a:ext cx="2028600" cy="1081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8"/>
          <p:cNvSpPr/>
          <p:nvPr/>
        </p:nvSpPr>
        <p:spPr>
          <a:xfrm>
            <a:off x="5972040" y="4365720"/>
            <a:ext cx="1336680" cy="1081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71680" y="928800"/>
            <a:ext cx="82087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423720" y="130320"/>
            <a:ext cx="820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Sčítání a odčítání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1"/>
          <p:cNvSpPr/>
          <p:nvPr/>
        </p:nvSpPr>
        <p:spPr>
          <a:xfrm>
            <a:off x="755640" y="1197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Sčítat a odčítat můžeme jen stejné členy se stejnou proměnnou, ale zároveň i se stejným mocnitelem (exponen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2"/>
          <p:cNvSpPr/>
          <p:nvPr/>
        </p:nvSpPr>
        <p:spPr>
          <a:xfrm>
            <a:off x="798480" y="1930320"/>
            <a:ext cx="6510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roměnné na druhou jen s proměnnými na druh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3"/>
          <p:cNvSpPr/>
          <p:nvPr/>
        </p:nvSpPr>
        <p:spPr>
          <a:xfrm>
            <a:off x="755640" y="1770120"/>
            <a:ext cx="360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To znamená čísla jen s čísl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4143240" y="1627200"/>
            <a:ext cx="4389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roměnné jen s proměnným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37"/>
              <p:cNvSpPr txBox="1"/>
              <p:nvPr/>
            </p:nvSpPr>
            <p:spPr>
              <a:xfrm>
                <a:off x="1447920" y="3065400"/>
                <a:ext cx="6095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42"/>
              <p:cNvSpPr txBox="1"/>
              <p:nvPr/>
            </p:nvSpPr>
            <p:spPr>
              <a:xfrm>
                <a:off x="2936880" y="5586480"/>
                <a:ext cx="30891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Arc 43"/>
          <p:cNvSpPr/>
          <p:nvPr/>
        </p:nvSpPr>
        <p:spPr>
          <a:xfrm rot="18300000">
            <a:off x="4000680" y="2352240"/>
            <a:ext cx="2447640" cy="229572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2295720"/>
              <a:gd name="textAreaBottom" fmla="*/ 2296080 h 229572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rc 44"/>
          <p:cNvSpPr/>
          <p:nvPr/>
        </p:nvSpPr>
        <p:spPr>
          <a:xfrm rot="7515000">
            <a:off x="3318120" y="2824920"/>
            <a:ext cx="1441440" cy="13539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353960"/>
              <a:gd name="textAreaBottom" fmla="*/ 1354320 h 135396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rc 45"/>
          <p:cNvSpPr/>
          <p:nvPr/>
        </p:nvSpPr>
        <p:spPr>
          <a:xfrm rot="7515000">
            <a:off x="2606400" y="1793520"/>
            <a:ext cx="3165480" cy="2978280"/>
          </a:xfrm>
          <a:custGeom>
            <a:avLst/>
            <a:gdLst>
              <a:gd name="textAreaLeft" fmla="*/ 0 w 3165480"/>
              <a:gd name="textAreaRight" fmla="*/ 3165840 w 3165480"/>
              <a:gd name="textAreaTop" fmla="*/ 0 h 2978280"/>
              <a:gd name="textAreaBottom" fmla="*/ 2978640 h 297828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7"/>
          <p:cNvSpPr/>
          <p:nvPr/>
        </p:nvSpPr>
        <p:spPr>
          <a:xfrm>
            <a:off x="5292720" y="3976560"/>
            <a:ext cx="3708360" cy="2781360"/>
          </a:xfrm>
          <a:prstGeom prst="cloudCallout">
            <a:avLst>
              <a:gd name="adj1" fmla="val -81037"/>
              <a:gd name="adj2" fmla="val -34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Využijeme komutativní zákon a členy mnohočlenu si podle uvedeného přeskupíme. Pozor na to, že členy „bereme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i s jejich znaménky, které určují zda mají kladnou či zápornou hodnot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6"/>
              <p:cNvSpPr txBox="1"/>
              <p:nvPr/>
            </p:nvSpPr>
            <p:spPr>
              <a:xfrm>
                <a:off x="1236600" y="4578480"/>
                <a:ext cx="6504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Oval 48"/>
          <p:cNvSpPr/>
          <p:nvPr/>
        </p:nvSpPr>
        <p:spPr>
          <a:xfrm>
            <a:off x="1619280" y="4365720"/>
            <a:ext cx="2232000" cy="1081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9"/>
          <p:cNvSpPr/>
          <p:nvPr/>
        </p:nvSpPr>
        <p:spPr>
          <a:xfrm>
            <a:off x="3897360" y="4365720"/>
            <a:ext cx="2028600" cy="1081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50"/>
          <p:cNvSpPr/>
          <p:nvPr/>
        </p:nvSpPr>
        <p:spPr>
          <a:xfrm>
            <a:off x="5972040" y="4365720"/>
            <a:ext cx="1336680" cy="1081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539640" y="981000"/>
            <a:ext cx="820908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23720" y="130320"/>
            <a:ext cx="820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čítání a odčítání výrazů se závork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755640" y="127008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Stejně jako při úpravách číselných výrazů, mají závorky ve výpočtech přednost. Pokud to tedy je možné, vypočítáme je (určíme jejich hodnotu), pokud to možné není, odstraníme j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755640" y="2058840"/>
            <a:ext cx="792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I pro výpočty v závorkách opět platí, že sčítat a odčítat můžeme jen čísla s čísly, proměnné jen s proměnnými, proměnné na druhou jen s proměnnými na druhou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9"/>
              <p:cNvSpPr txBox="1"/>
              <p:nvPr/>
            </p:nvSpPr>
            <p:spPr>
              <a:xfrm>
                <a:off x="1547640" y="3067200"/>
                <a:ext cx="60962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10"/>
              <p:cNvSpPr txBox="1"/>
              <p:nvPr/>
            </p:nvSpPr>
            <p:spPr>
              <a:xfrm>
                <a:off x="2271600" y="5013360"/>
                <a:ext cx="4461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AutoShape 14"/>
          <p:cNvSpPr/>
          <p:nvPr/>
        </p:nvSpPr>
        <p:spPr>
          <a:xfrm>
            <a:off x="5292720" y="3976560"/>
            <a:ext cx="3095640" cy="1757520"/>
          </a:xfrm>
          <a:prstGeom prst="cloudCallout">
            <a:avLst>
              <a:gd name="adj1" fmla="val -68000"/>
              <a:gd name="adj2" fmla="val -6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V našem případě se dají členy v závorkách vzájemně sečíst a odečíst a závorky tak odstrani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5"/>
              <p:cNvSpPr txBox="1"/>
              <p:nvPr/>
            </p:nvSpPr>
            <p:spPr>
              <a:xfrm>
                <a:off x="3002040" y="3624120"/>
                <a:ext cx="3089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Line 19"/>
          <p:cNvSpPr/>
          <p:nvPr/>
        </p:nvSpPr>
        <p:spPr>
          <a:xfrm flipH="1">
            <a:off x="6732360" y="2276640"/>
            <a:ext cx="431640" cy="936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2050920" y="2492280"/>
            <a:ext cx="43344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1"/>
          <p:cNvSpPr/>
          <p:nvPr/>
        </p:nvSpPr>
        <p:spPr>
          <a:xfrm flipH="1">
            <a:off x="4787640" y="2492280"/>
            <a:ext cx="115236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25"/>
              <p:cNvSpPr txBox="1"/>
              <p:nvPr/>
            </p:nvSpPr>
            <p:spPr>
              <a:xfrm>
                <a:off x="1547640" y="4437000"/>
                <a:ext cx="6096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AutoShape 26"/>
          <p:cNvSpPr/>
          <p:nvPr/>
        </p:nvSpPr>
        <p:spPr>
          <a:xfrm>
            <a:off x="5580000" y="4941720"/>
            <a:ext cx="3382920" cy="1757520"/>
          </a:xfrm>
          <a:prstGeom prst="cloudCallout">
            <a:avLst>
              <a:gd name="adj1" fmla="val -75856"/>
              <a:gd name="adj2" fmla="val -462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rebuchet MS"/>
              </a:rPr>
              <a:t>I v tomto případě se dají členy v závorkách vzájemně sečíst a odečíst a závorky odstranit, byť vzhledem ke znaménkům až „napodruhé“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27"/>
              <p:cNvSpPr txBox="1"/>
              <p:nvPr/>
            </p:nvSpPr>
            <p:spPr>
              <a:xfrm>
                <a:off x="2957400" y="5589720"/>
                <a:ext cx="28386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539640" y="981000"/>
            <a:ext cx="820908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423720" y="130320"/>
            <a:ext cx="820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čítání a odčítání výrazů se závork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2271600" y="1684440"/>
                <a:ext cx="4461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AutoShape 9"/>
          <p:cNvSpPr/>
          <p:nvPr/>
        </p:nvSpPr>
        <p:spPr>
          <a:xfrm>
            <a:off x="5292720" y="3976560"/>
            <a:ext cx="2951280" cy="1468440"/>
          </a:xfrm>
          <a:prstGeom prst="cloudCallout">
            <a:avLst>
              <a:gd name="adj1" fmla="val -56615"/>
              <a:gd name="adj2" fmla="val -1245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Podívejme se, jak se závorky odstraňovaly</a:t>
            </a: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4"/>
              <p:cNvSpPr txBox="1"/>
              <p:nvPr/>
            </p:nvSpPr>
            <p:spPr>
              <a:xfrm>
                <a:off x="1547640" y="1108080"/>
                <a:ext cx="6096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6"/>
              <p:cNvSpPr txBox="1"/>
              <p:nvPr/>
            </p:nvSpPr>
            <p:spPr>
              <a:xfrm>
                <a:off x="2957400" y="2260440"/>
                <a:ext cx="28386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Oval 18"/>
          <p:cNvSpPr/>
          <p:nvPr/>
        </p:nvSpPr>
        <p:spPr>
          <a:xfrm>
            <a:off x="3533760" y="1901880"/>
            <a:ext cx="289080" cy="288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9"/>
          <p:cNvSpPr/>
          <p:nvPr/>
        </p:nvSpPr>
        <p:spPr>
          <a:xfrm>
            <a:off x="4140360" y="2133720"/>
            <a:ext cx="215640" cy="431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0"/>
          <p:cNvSpPr/>
          <p:nvPr/>
        </p:nvSpPr>
        <p:spPr>
          <a:xfrm>
            <a:off x="5146560" y="1901880"/>
            <a:ext cx="289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"/>
          <p:cNvSpPr/>
          <p:nvPr/>
        </p:nvSpPr>
        <p:spPr>
          <a:xfrm flipH="1">
            <a:off x="5292360" y="2133720"/>
            <a:ext cx="460440" cy="358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755640" y="3139920"/>
            <a:ext cx="792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) Je-li před závorkou znaménko 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+ </a:t>
            </a: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(plus)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, vynechá se společně se závorkou a všechny členy závorky se opíší (se stejnými znaménky, která měla v závor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3"/>
          <p:cNvSpPr/>
          <p:nvPr/>
        </p:nvSpPr>
        <p:spPr>
          <a:xfrm>
            <a:off x="755640" y="4148280"/>
            <a:ext cx="7920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2) Je-li před závorkou znaménko 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(mínus)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, vynechá se společně se závorkou a u všech členů v závorce se změní znaménka, jinými slovy změní se v opačn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4"/>
          <p:cNvSpPr/>
          <p:nvPr/>
        </p:nvSpPr>
        <p:spPr>
          <a:xfrm>
            <a:off x="684360" y="5516640"/>
            <a:ext cx="79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Totéž platí i v případě odstraňování závorek, které nelze uprav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539640" y="981000"/>
            <a:ext cx="820908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423720" y="130320"/>
            <a:ext cx="820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Sčítání a odčítání výrazů se závork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5"/>
              <p:cNvSpPr txBox="1"/>
              <p:nvPr/>
            </p:nvSpPr>
            <p:spPr>
              <a:xfrm>
                <a:off x="1547640" y="2690640"/>
                <a:ext cx="619308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7"/>
              <p:cNvSpPr txBox="1"/>
              <p:nvPr/>
            </p:nvSpPr>
            <p:spPr>
              <a:xfrm>
                <a:off x="1424160" y="2031840"/>
                <a:ext cx="64180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8"/>
              <p:cNvSpPr txBox="1"/>
              <p:nvPr/>
            </p:nvSpPr>
            <p:spPr>
              <a:xfrm>
                <a:off x="3065400" y="3327480"/>
                <a:ext cx="28018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3" name="Oval 9"/>
          <p:cNvSpPr/>
          <p:nvPr/>
        </p:nvSpPr>
        <p:spPr>
          <a:xfrm>
            <a:off x="1749600" y="2246400"/>
            <a:ext cx="288720" cy="288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2209680" y="2449440"/>
            <a:ext cx="130320" cy="4748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4543560" y="2246400"/>
            <a:ext cx="28872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 flipH="1">
            <a:off x="5033160" y="2475360"/>
            <a:ext cx="69840" cy="43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55640" y="977760"/>
            <a:ext cx="792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1) Je-li před závorkou znaménko </a:t>
            </a: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+ (plus)</a:t>
            </a: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, vynechá se společně se závorkou a všechny členy závorky se opíší (se stejnými znaménky, která měla v závorc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755640" y="1413000"/>
            <a:ext cx="7920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2) Je-li před závorkou znaménko </a:t>
            </a:r>
            <a:r>
              <a:rPr b="1" lang="cs-CZ" sz="14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(mínus), vynechá se společně se závorkou a u všech členů v závorce se změní znaménka, jinými slovy změní se v opač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6"/>
          <p:cNvSpPr/>
          <p:nvPr/>
        </p:nvSpPr>
        <p:spPr>
          <a:xfrm>
            <a:off x="5219640" y="3789360"/>
            <a:ext cx="3168720" cy="1944720"/>
          </a:xfrm>
          <a:prstGeom prst="cloudCallout">
            <a:avLst>
              <a:gd name="adj1" fmla="val -69439"/>
              <a:gd name="adj2" fmla="val -10787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V daném případě se nedají čle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v závorkách vzájemně sečíst a odečíst a závorky tak musíme odstranit jinak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7"/>
          <p:cNvSpPr/>
          <p:nvPr/>
        </p:nvSpPr>
        <p:spPr>
          <a:xfrm>
            <a:off x="250920" y="4292640"/>
            <a:ext cx="3313080" cy="2303280"/>
          </a:xfrm>
          <a:prstGeom prst="cloudCallout">
            <a:avLst>
              <a:gd name="adj1" fmla="val 12768"/>
              <a:gd name="adj2" fmla="val -955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Na začátku závorky se, stejně jako na začátku příkladu, v případě kladné hodnoty znaménko + nepíše, přestože víme, že tam je a počítáme s ním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2641680" y="2492280"/>
            <a:ext cx="274680" cy="43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3505320" y="2492280"/>
            <a:ext cx="345960" cy="43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0"/>
          <p:cNvSpPr/>
          <p:nvPr/>
        </p:nvSpPr>
        <p:spPr>
          <a:xfrm flipH="1">
            <a:off x="5722560" y="2545200"/>
            <a:ext cx="46800" cy="440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1"/>
          <p:cNvSpPr/>
          <p:nvPr/>
        </p:nvSpPr>
        <p:spPr>
          <a:xfrm flipH="1">
            <a:off x="6874920" y="2473920"/>
            <a:ext cx="46440" cy="440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2050920" y="5659560"/>
            <a:ext cx="5616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(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5 + x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x</a:t>
            </a:r>
            <a:r>
              <a:rPr b="1" lang="cs-CZ" sz="32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) = 5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x + x</a:t>
            </a:r>
            <a:r>
              <a:rPr b="1" lang="cs-CZ" sz="32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3"/>
          <p:cNvSpPr/>
          <p:nvPr/>
        </p:nvSpPr>
        <p:spPr>
          <a:xfrm>
            <a:off x="1835280" y="4581360"/>
            <a:ext cx="583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+ (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 5 + x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 x</a:t>
            </a:r>
            <a:r>
              <a:rPr b="1" lang="cs-CZ" sz="32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) =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 5 + x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 x</a:t>
            </a:r>
            <a:r>
              <a:rPr b="1" lang="cs-CZ" sz="32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2844720" y="4075200"/>
            <a:ext cx="3240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+ (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 5 + x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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 x</a:t>
            </a:r>
            <a:r>
              <a:rPr b="1" lang="cs-CZ" sz="32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5"/>
          <p:cNvSpPr/>
          <p:nvPr/>
        </p:nvSpPr>
        <p:spPr>
          <a:xfrm>
            <a:off x="2455920" y="4076640"/>
            <a:ext cx="1008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6"/>
          <p:cNvSpPr/>
          <p:nvPr/>
        </p:nvSpPr>
        <p:spPr>
          <a:xfrm>
            <a:off x="5724360" y="4076640"/>
            <a:ext cx="1008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7"/>
          <p:cNvSpPr/>
          <p:nvPr/>
        </p:nvSpPr>
        <p:spPr>
          <a:xfrm>
            <a:off x="2844720" y="5157720"/>
            <a:ext cx="324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+ (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5 + x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x</a:t>
            </a:r>
            <a:r>
              <a:rPr b="1" lang="cs-CZ" sz="32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8"/>
          <p:cNvSpPr/>
          <p:nvPr/>
        </p:nvSpPr>
        <p:spPr>
          <a:xfrm>
            <a:off x="2484360" y="5157720"/>
            <a:ext cx="1008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9"/>
          <p:cNvSpPr/>
          <p:nvPr/>
        </p:nvSpPr>
        <p:spPr>
          <a:xfrm>
            <a:off x="5724360" y="5157720"/>
            <a:ext cx="1008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0"/>
          <p:cNvSpPr/>
          <p:nvPr/>
        </p:nvSpPr>
        <p:spPr>
          <a:xfrm>
            <a:off x="4183200" y="5156280"/>
            <a:ext cx="38736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1"/>
          <p:cNvSpPr/>
          <p:nvPr/>
        </p:nvSpPr>
        <p:spPr>
          <a:xfrm>
            <a:off x="4861080" y="5172120"/>
            <a:ext cx="43164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3433680" y="5143680"/>
            <a:ext cx="43200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3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3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3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6537240" y="6107040"/>
            <a:ext cx="226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likni pro kontrolu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3" descr=""/>
          <p:cNvPicPr/>
          <p:nvPr/>
        </p:nvPicPr>
        <p:blipFill>
          <a:blip r:embed="rId1"/>
          <a:stretch/>
        </p:blipFill>
        <p:spPr>
          <a:xfrm>
            <a:off x="635040" y="779400"/>
            <a:ext cx="1870200" cy="5308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4" descr=""/>
          <p:cNvPicPr/>
          <p:nvPr/>
        </p:nvPicPr>
        <p:blipFill>
          <a:blip r:embed="rId2"/>
          <a:stretch/>
        </p:blipFill>
        <p:spPr>
          <a:xfrm>
            <a:off x="4491000" y="803160"/>
            <a:ext cx="1949400" cy="524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5" descr=""/>
          <p:cNvPicPr/>
          <p:nvPr/>
        </p:nvPicPr>
        <p:blipFill>
          <a:blip r:embed="rId1"/>
          <a:stretch/>
        </p:blipFill>
        <p:spPr>
          <a:xfrm>
            <a:off x="684360" y="822240"/>
            <a:ext cx="1741320" cy="5526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6" descr=""/>
          <p:cNvPicPr/>
          <p:nvPr/>
        </p:nvPicPr>
        <p:blipFill>
          <a:blip r:embed="rId2"/>
          <a:stretch/>
        </p:blipFill>
        <p:spPr>
          <a:xfrm>
            <a:off x="4527720" y="816120"/>
            <a:ext cx="1844640" cy="552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0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6537240" y="6107040"/>
            <a:ext cx="226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likni pro kontrolu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8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2478240" cy="490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0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806400" y="920880"/>
            <a:ext cx="2470320" cy="53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lgebraický výra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828720" y="1125360"/>
            <a:ext cx="727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předpis jedné nebo více matematických operací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sčítání, odčítání, násobení, dělení, umocňování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00000" y="5227560"/>
            <a:ext cx="7632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předpis, který obsahuje blíže neurčené znaky (a; b; c; v; z1; z2; Q; m; t … – mohou to být konstanty či proměnné a nemusíme znát ani jejich hodnotu), čísla a matematické operátory (sčítání, odčítání, násobení, dělení, umocňování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3"/>
              <p:cNvSpPr txBox="1"/>
              <p:nvPr/>
            </p:nvSpPr>
            <p:spPr>
              <a:xfrm>
                <a:off x="1403280" y="2205000"/>
                <a:ext cx="1800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5"/>
              <p:cNvSpPr txBox="1"/>
              <p:nvPr/>
            </p:nvSpPr>
            <p:spPr>
              <a:xfrm>
                <a:off x="6227640" y="2349360"/>
                <a:ext cx="14479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6"/>
              <p:cNvSpPr txBox="1"/>
              <p:nvPr/>
            </p:nvSpPr>
            <p:spPr>
              <a:xfrm>
                <a:off x="4067280" y="2924280"/>
                <a:ext cx="18777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7"/>
              <p:cNvSpPr txBox="1"/>
              <p:nvPr/>
            </p:nvSpPr>
            <p:spPr>
              <a:xfrm>
                <a:off x="1403280" y="3429000"/>
                <a:ext cx="23083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8"/>
              <p:cNvSpPr txBox="1"/>
              <p:nvPr/>
            </p:nvSpPr>
            <p:spPr>
              <a:xfrm>
                <a:off x="5724360" y="3500280"/>
                <a:ext cx="211320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AutoShape 29"/>
          <p:cNvSpPr/>
          <p:nvPr/>
        </p:nvSpPr>
        <p:spPr>
          <a:xfrm>
            <a:off x="3924360" y="2924280"/>
            <a:ext cx="2736720" cy="1944720"/>
          </a:xfrm>
          <a:prstGeom prst="cloudCallout">
            <a:avLst>
              <a:gd name="adj1" fmla="val -80856"/>
              <a:gd name="adj2" fmla="val -575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ýraz známe jako část vzorce pro výpočet obvodu trojúhel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971640" y="177336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Připomínají Vám něco následující výrazy, a které matematické operace obsahuj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1"/>
          <p:cNvSpPr/>
          <p:nvPr/>
        </p:nvSpPr>
        <p:spPr>
          <a:xfrm>
            <a:off x="2124000" y="3068640"/>
            <a:ext cx="2737080" cy="1944720"/>
          </a:xfrm>
          <a:prstGeom prst="cloudCallout">
            <a:avLst>
              <a:gd name="adj1" fmla="val 97041"/>
              <a:gd name="adj2" fmla="val -60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ýraz známe jako část vzorce pro výpočet objemu kvád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2"/>
          <p:cNvSpPr/>
          <p:nvPr/>
        </p:nvSpPr>
        <p:spPr>
          <a:xfrm>
            <a:off x="900000" y="4076640"/>
            <a:ext cx="2737080" cy="1944720"/>
          </a:xfrm>
          <a:prstGeom prst="cloudCallout">
            <a:avLst>
              <a:gd name="adj1" fmla="val 75291"/>
              <a:gd name="adj2" fmla="val -72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ýraz známe jako část vzorce pro výpočet obvodu čtve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3"/>
          <p:cNvSpPr/>
          <p:nvPr/>
        </p:nvSpPr>
        <p:spPr>
          <a:xfrm>
            <a:off x="5076720" y="4221000"/>
            <a:ext cx="2737080" cy="1944720"/>
          </a:xfrm>
          <a:prstGeom prst="cloudCallout">
            <a:avLst>
              <a:gd name="adj1" fmla="val -103712"/>
              <a:gd name="adj2" fmla="val -373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ýraz je částí vzorce pro výpočet obsahu lichoběž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4"/>
          <p:cNvSpPr/>
          <p:nvPr/>
        </p:nvSpPr>
        <p:spPr>
          <a:xfrm>
            <a:off x="1547640" y="4508640"/>
            <a:ext cx="2737080" cy="1944720"/>
          </a:xfrm>
          <a:prstGeom prst="cloudCallout">
            <a:avLst>
              <a:gd name="adj1" fmla="val 95592"/>
              <a:gd name="adj2" fmla="val -535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ýraz je částí vzorce pro výpočet měrné tepelné kapa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6537240" y="6107040"/>
            <a:ext cx="226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likni pro kontrolu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21639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1"/>
          <a:stretch/>
        </p:blipFill>
        <p:spPr>
          <a:xfrm>
            <a:off x="784080" y="907920"/>
            <a:ext cx="19447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0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7" descr=""/>
          <p:cNvPicPr/>
          <p:nvPr/>
        </p:nvPicPr>
        <p:blipFill>
          <a:blip r:embed="rId1"/>
          <a:stretch/>
        </p:blipFill>
        <p:spPr>
          <a:xfrm>
            <a:off x="749160" y="836640"/>
            <a:ext cx="3146400" cy="51228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9"/>
          <p:cNvSpPr/>
          <p:nvPr/>
        </p:nvSpPr>
        <p:spPr>
          <a:xfrm>
            <a:off x="6537240" y="6107040"/>
            <a:ext cx="226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likni pro kontrolu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7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18312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0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513240" cy="511344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7"/>
          <p:cNvSpPr/>
          <p:nvPr/>
        </p:nvSpPr>
        <p:spPr>
          <a:xfrm>
            <a:off x="6537240" y="6107040"/>
            <a:ext cx="226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likni pro kontrolu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0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7" descr=""/>
          <p:cNvPicPr/>
          <p:nvPr/>
        </p:nvPicPr>
        <p:blipFill>
          <a:blip r:embed="rId1"/>
          <a:stretch/>
        </p:blipFill>
        <p:spPr>
          <a:xfrm>
            <a:off x="770040" y="836640"/>
            <a:ext cx="339084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6537240" y="6107040"/>
            <a:ext cx="2268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likni pro kontrolu výsled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45338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539640" y="76500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423720" y="130320"/>
            <a:ext cx="820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"/>
          <p:cNvPicPr/>
          <p:nvPr/>
        </p:nvPicPr>
        <p:blipFill>
          <a:blip r:embed="rId1"/>
          <a:stretch/>
        </p:blipFill>
        <p:spPr>
          <a:xfrm>
            <a:off x="698400" y="836640"/>
            <a:ext cx="454356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539640" y="981000"/>
            <a:ext cx="820908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423720" y="130320"/>
            <a:ext cx="820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- sčítání a odčítání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539640" y="90792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a závěr si můžeme i zahrát. Spusťte si následující odk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582480" y="1125360"/>
            <a:ext cx="78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http://www.quia.com/cb/17335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0" descr=""/>
          <p:cNvPicPr/>
          <p:nvPr/>
        </p:nvPicPr>
        <p:blipFill>
          <a:blip r:embed="rId1"/>
          <a:stretch/>
        </p:blipFill>
        <p:spPr>
          <a:xfrm>
            <a:off x="1787400" y="1647720"/>
            <a:ext cx="5737320" cy="466092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21"/>
          <p:cNvSpPr/>
          <p:nvPr/>
        </p:nvSpPr>
        <p:spPr>
          <a:xfrm>
            <a:off x="6732720" y="1341360"/>
            <a:ext cx="2174760" cy="1325520"/>
          </a:xfrm>
          <a:prstGeom prst="cloudCallout">
            <a:avLst>
              <a:gd name="adj1" fmla="val -81680"/>
              <a:gd name="adj2" fmla="val 694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Tady zadejte svá jmé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2"/>
          <p:cNvSpPr/>
          <p:nvPr/>
        </p:nvSpPr>
        <p:spPr>
          <a:xfrm>
            <a:off x="324000" y="2852640"/>
            <a:ext cx="2319120" cy="1470240"/>
          </a:xfrm>
          <a:prstGeom prst="cloudCallout">
            <a:avLst>
              <a:gd name="adj1" fmla="val 75462"/>
              <a:gd name="adj2" fmla="val 86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Tady spustíte hru pro jednoho hráč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6516720" y="3213000"/>
            <a:ext cx="2319480" cy="1470240"/>
          </a:xfrm>
          <a:prstGeom prst="cloudCallout">
            <a:avLst>
              <a:gd name="adj1" fmla="val -83472"/>
              <a:gd name="adj2" fmla="val 615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Tady pro hráče d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500"/>
                            </p:stCondLst>
                            <p:childTnLst>
                              <p:par>
                                <p:cTn id="1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539640" y="981000"/>
            <a:ext cx="820908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1" descr=""/>
          <p:cNvPicPr/>
          <p:nvPr/>
        </p:nvPicPr>
        <p:blipFill>
          <a:blip r:embed="rId1"/>
          <a:stretch/>
        </p:blipFill>
        <p:spPr>
          <a:xfrm>
            <a:off x="1363680" y="1720800"/>
            <a:ext cx="6448320" cy="45576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3"/>
          <p:cNvSpPr/>
          <p:nvPr/>
        </p:nvSpPr>
        <p:spPr>
          <a:xfrm>
            <a:off x="423720" y="130320"/>
            <a:ext cx="820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- sčítání a odčítání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539640" y="90792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a závěr si můžeme i zahrát. Spusťte si následující odk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82480" y="1125360"/>
            <a:ext cx="78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http://www.quia.com/cb/17335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0"/>
          <p:cNvSpPr/>
          <p:nvPr/>
        </p:nvSpPr>
        <p:spPr>
          <a:xfrm>
            <a:off x="3995640" y="4221000"/>
            <a:ext cx="2751120" cy="2190960"/>
          </a:xfrm>
          <a:prstGeom prst="cloudCallout">
            <a:avLst>
              <a:gd name="adj1" fmla="val -85199"/>
              <a:gd name="adj2" fmla="val -231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rozatím vybírejte úkoly (příklady) jen z prvního sloupce. Řešit příklad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z ostatních se teprve budeme uč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2"/>
          <p:cNvSpPr/>
          <p:nvPr/>
        </p:nvSpPr>
        <p:spPr>
          <a:xfrm>
            <a:off x="1085760" y="2565360"/>
            <a:ext cx="1873440" cy="341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0"/>
                            </p:stCondLst>
                            <p:childTnLst>
                              <p:par>
                                <p:cTn id="1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lgebraický výra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84080" y="1182600"/>
            <a:ext cx="784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ápis algebraických výraz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2771640" y="2205000"/>
                <a:ext cx="10861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5219640" y="2565360"/>
                <a:ext cx="9763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Line 7"/>
          <p:cNvSpPr/>
          <p:nvPr/>
        </p:nvSpPr>
        <p:spPr>
          <a:xfrm>
            <a:off x="826920" y="177336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1143000" y="4292640"/>
            <a:ext cx="7072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Proč jednou píšeme znak operace násobení a jednou 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V="1">
            <a:off x="2700360" y="2997000"/>
            <a:ext cx="503280" cy="1223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 flipV="1">
            <a:off x="5940000" y="3141720"/>
            <a:ext cx="1368360" cy="107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826920" y="5300640"/>
            <a:ext cx="756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Operátor píšeme tam, kde je to nezbytně nutné </a:t>
            </a:r>
            <a:br>
              <a:rPr sz="36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ebo pro větší přehl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539640" y="981000"/>
            <a:ext cx="820908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2" descr=""/>
          <p:cNvPicPr/>
          <p:nvPr/>
        </p:nvPicPr>
        <p:blipFill>
          <a:blip r:embed="rId1"/>
          <a:stretch/>
        </p:blipFill>
        <p:spPr>
          <a:xfrm>
            <a:off x="1476360" y="1720800"/>
            <a:ext cx="6470640" cy="45388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423720" y="130320"/>
            <a:ext cx="820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- sčítání a odčítání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539640" y="90792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a závěr si můžeme i zahrát. Spusťte si následující odk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582480" y="1125360"/>
            <a:ext cx="78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http://www.quia.com/cb/17335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5940360" y="4508640"/>
            <a:ext cx="2030400" cy="1325520"/>
          </a:xfrm>
          <a:prstGeom prst="cloudCallout">
            <a:avLst>
              <a:gd name="adj1" fmla="val -91361"/>
              <a:gd name="adj2" fmla="val 450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a tady si ji nechte zkontrolov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9"/>
          <p:cNvSpPr/>
          <p:nvPr/>
        </p:nvSpPr>
        <p:spPr>
          <a:xfrm>
            <a:off x="826920" y="4437000"/>
            <a:ext cx="2032200" cy="1727280"/>
          </a:xfrm>
          <a:prstGeom prst="cloudCallout">
            <a:avLst>
              <a:gd name="adj1" fmla="val 84064"/>
              <a:gd name="adj2" fmla="val -65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Tady zadejte svou odpověď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0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539640" y="981000"/>
            <a:ext cx="820908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467400" cy="458316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4"/>
          <p:cNvSpPr/>
          <p:nvPr/>
        </p:nvSpPr>
        <p:spPr>
          <a:xfrm>
            <a:off x="423720" y="130320"/>
            <a:ext cx="820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- sčítání a odčítání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539640" y="90792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a závěr si můžeme i zahrát. Spusťte si následující odk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582480" y="1125360"/>
            <a:ext cx="78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http://www.quia.com/cb/17335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8"/>
          <p:cNvSpPr/>
          <p:nvPr/>
        </p:nvSpPr>
        <p:spPr>
          <a:xfrm>
            <a:off x="6300720" y="5084640"/>
            <a:ext cx="2030400" cy="1325520"/>
          </a:xfrm>
          <a:prstGeom prst="cloudCallout">
            <a:avLst>
              <a:gd name="adj1" fmla="val -110513"/>
              <a:gd name="adj2" fmla="val 71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a tady klikněte pro pokračová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1"/>
          <p:cNvSpPr/>
          <p:nvPr/>
        </p:nvSpPr>
        <p:spPr>
          <a:xfrm>
            <a:off x="6877080" y="2997360"/>
            <a:ext cx="2030400" cy="1325520"/>
          </a:xfrm>
          <a:prstGeom prst="cloudCallout">
            <a:avLst>
              <a:gd name="adj1" fmla="val -31703"/>
              <a:gd name="adj2" fmla="val -885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Tady uvidíte, jestli jste odpověděli správně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539640" y="981000"/>
            <a:ext cx="820908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0" descr=""/>
          <p:cNvPicPr/>
          <p:nvPr/>
        </p:nvPicPr>
        <p:blipFill>
          <a:blip r:embed="rId1"/>
          <a:stretch/>
        </p:blipFill>
        <p:spPr>
          <a:xfrm>
            <a:off x="1427040" y="1663560"/>
            <a:ext cx="6458040" cy="461196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4"/>
          <p:cNvSpPr/>
          <p:nvPr/>
        </p:nvSpPr>
        <p:spPr>
          <a:xfrm>
            <a:off x="423720" y="130320"/>
            <a:ext cx="820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 - sčítání a odčítání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539640" y="90792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a závěr si můžeme i zahrát. Spusťte si následující odk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582480" y="1125360"/>
            <a:ext cx="78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http://www.quia.com/cb/173353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5867280" y="3284640"/>
            <a:ext cx="2967120" cy="1368360"/>
          </a:xfrm>
          <a:prstGeom prst="cloudCallout">
            <a:avLst>
              <a:gd name="adj1" fmla="val 2435"/>
              <a:gd name="adj2" fmla="val -111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A může soutěžit 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a výběrem otázky pokračovat druh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z vá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1"/>
          <p:cNvSpPr/>
          <p:nvPr/>
        </p:nvSpPr>
        <p:spPr>
          <a:xfrm>
            <a:off x="2928960" y="4500720"/>
            <a:ext cx="2666880" cy="1879560"/>
          </a:xfrm>
          <a:prstGeom prst="cloudCallout">
            <a:avLst>
              <a:gd name="adj1" fmla="val 98574"/>
              <a:gd name="adj2" fmla="val 287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Tady pak můžete soutěž ukončit 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a případně začít znov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0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500"/>
                            </p:stCondLst>
                            <p:childTnLst>
                              <p:par>
                                <p:cTn id="1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lgebraický výra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784080" y="1182600"/>
            <a:ext cx="784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ápis algebraických výraz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5"/>
              <p:cNvSpPr txBox="1"/>
              <p:nvPr/>
            </p:nvSpPr>
            <p:spPr>
              <a:xfrm>
                <a:off x="1258920" y="4724280"/>
                <a:ext cx="9190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Line 7"/>
          <p:cNvSpPr/>
          <p:nvPr/>
        </p:nvSpPr>
        <p:spPr>
          <a:xfrm>
            <a:off x="826920" y="177336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708360" y="5560920"/>
            <a:ext cx="18716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a rozdíl 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826920" y="2349360"/>
            <a:ext cx="756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Operátor píšeme tam, kde je to nezbytně nutné </a:t>
            </a:r>
            <a:br>
              <a:rPr sz="36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ebo pro větší přehl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4"/>
              <p:cNvSpPr txBox="1"/>
              <p:nvPr/>
            </p:nvSpPr>
            <p:spPr>
              <a:xfrm>
                <a:off x="5651640" y="4724280"/>
                <a:ext cx="110160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AutoShape 17"/>
          <p:cNvSpPr/>
          <p:nvPr/>
        </p:nvSpPr>
        <p:spPr>
          <a:xfrm>
            <a:off x="826920" y="2997360"/>
            <a:ext cx="2016360" cy="1152360"/>
          </a:xfrm>
          <a:prstGeom prst="cloudCallout">
            <a:avLst>
              <a:gd name="adj1" fmla="val -10314"/>
              <a:gd name="adj2" fmla="val 11680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Smíšené čí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8"/>
          <p:cNvSpPr/>
          <p:nvPr/>
        </p:nvSpPr>
        <p:spPr>
          <a:xfrm>
            <a:off x="6213600" y="2967120"/>
            <a:ext cx="2174760" cy="1325520"/>
          </a:xfrm>
          <a:prstGeom prst="cloudCallout">
            <a:avLst>
              <a:gd name="adj1" fmla="val -55111"/>
              <a:gd name="adj2" fmla="val 101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rebuchet MS"/>
              </a:rPr>
              <a:t>Násobení celého čísla a zlom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9"/>
              <p:cNvSpPr txBox="1"/>
              <p:nvPr/>
            </p:nvSpPr>
            <p:spPr>
              <a:xfrm>
                <a:off x="2268360" y="4724280"/>
                <a:ext cx="963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20"/>
              <p:cNvSpPr txBox="1"/>
              <p:nvPr/>
            </p:nvSpPr>
            <p:spPr>
              <a:xfrm>
                <a:off x="6877080" y="4724280"/>
                <a:ext cx="963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Druhy algebraick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1187280" y="1989000"/>
                <a:ext cx="1055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5003640" y="4149720"/>
                <a:ext cx="1055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12"/>
          <p:cNvSpPr/>
          <p:nvPr/>
        </p:nvSpPr>
        <p:spPr>
          <a:xfrm>
            <a:off x="826920" y="119700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Trebuchet MS"/>
              </a:rPr>
              <a:t>1. Číselné vý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7"/>
              <p:cNvSpPr txBox="1"/>
              <p:nvPr/>
            </p:nvSpPr>
            <p:spPr>
              <a:xfrm>
                <a:off x="1187280" y="5445000"/>
                <a:ext cx="17211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8"/>
              <p:cNvSpPr txBox="1"/>
              <p:nvPr/>
            </p:nvSpPr>
            <p:spPr>
              <a:xfrm>
                <a:off x="3492360" y="2852640"/>
                <a:ext cx="24242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9"/>
              <p:cNvSpPr txBox="1"/>
              <p:nvPr/>
            </p:nvSpPr>
            <p:spPr>
              <a:xfrm>
                <a:off x="958680" y="3841920"/>
                <a:ext cx="2932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0"/>
              <p:cNvSpPr txBox="1"/>
              <p:nvPr/>
            </p:nvSpPr>
            <p:spPr>
              <a:xfrm>
                <a:off x="7164360" y="2349360"/>
                <a:ext cx="8604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1"/>
              <p:cNvSpPr txBox="1"/>
              <p:nvPr/>
            </p:nvSpPr>
            <p:spPr>
              <a:xfrm>
                <a:off x="3492360" y="4797360"/>
                <a:ext cx="9385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22"/>
              <p:cNvSpPr txBox="1"/>
              <p:nvPr/>
            </p:nvSpPr>
            <p:spPr>
              <a:xfrm>
                <a:off x="7110360" y="3241800"/>
                <a:ext cx="4698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23"/>
              <p:cNvSpPr txBox="1"/>
              <p:nvPr/>
            </p:nvSpPr>
            <p:spPr>
              <a:xfrm>
                <a:off x="4892760" y="5621400"/>
                <a:ext cx="585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24"/>
              <p:cNvSpPr txBox="1"/>
              <p:nvPr/>
            </p:nvSpPr>
            <p:spPr>
              <a:xfrm>
                <a:off x="1476360" y="2852640"/>
                <a:ext cx="1211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5"/>
              <p:cNvSpPr txBox="1"/>
              <p:nvPr/>
            </p:nvSpPr>
            <p:spPr>
              <a:xfrm>
                <a:off x="3924360" y="1916280"/>
                <a:ext cx="1836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6"/>
              <p:cNvSpPr txBox="1"/>
              <p:nvPr/>
            </p:nvSpPr>
            <p:spPr>
              <a:xfrm>
                <a:off x="6151680" y="5006880"/>
                <a:ext cx="179676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Druhy algebraick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1187280" y="2008080"/>
                <a:ext cx="10558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4964040" y="4149720"/>
                <a:ext cx="1135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6"/>
          <p:cNvSpPr/>
          <p:nvPr/>
        </p:nvSpPr>
        <p:spPr>
          <a:xfrm>
            <a:off x="826920" y="119700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Trebuchet MS"/>
              </a:rPr>
              <a:t>2. Výrazy s proměnn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7"/>
              <p:cNvSpPr txBox="1"/>
              <p:nvPr/>
            </p:nvSpPr>
            <p:spPr>
              <a:xfrm>
                <a:off x="1090440" y="5445000"/>
                <a:ext cx="1916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3492360" y="2852640"/>
                <a:ext cx="24242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939960" y="3841920"/>
                <a:ext cx="2971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7105680" y="2349360"/>
                <a:ext cx="9777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1"/>
              <p:cNvSpPr txBox="1"/>
              <p:nvPr/>
            </p:nvSpPr>
            <p:spPr>
              <a:xfrm>
                <a:off x="3473280" y="4797360"/>
                <a:ext cx="9763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2"/>
              <p:cNvSpPr txBox="1"/>
              <p:nvPr/>
            </p:nvSpPr>
            <p:spPr>
              <a:xfrm>
                <a:off x="7110360" y="3241800"/>
                <a:ext cx="4698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3"/>
              <p:cNvSpPr txBox="1"/>
              <p:nvPr/>
            </p:nvSpPr>
            <p:spPr>
              <a:xfrm>
                <a:off x="4892760" y="5621400"/>
                <a:ext cx="585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4"/>
              <p:cNvSpPr txBox="1"/>
              <p:nvPr/>
            </p:nvSpPr>
            <p:spPr>
              <a:xfrm>
                <a:off x="1476360" y="2852640"/>
                <a:ext cx="1211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5"/>
              <p:cNvSpPr txBox="1"/>
              <p:nvPr/>
            </p:nvSpPr>
            <p:spPr>
              <a:xfrm>
                <a:off x="3905280" y="1916280"/>
                <a:ext cx="1874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6"/>
              <p:cNvSpPr txBox="1"/>
              <p:nvPr/>
            </p:nvSpPr>
            <p:spPr>
              <a:xfrm>
                <a:off x="6111720" y="5006880"/>
                <a:ext cx="18766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Druhy algebraick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1258920" y="2060640"/>
                <a:ext cx="5112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3419640" y="2133720"/>
                <a:ext cx="1214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Rectangle 6"/>
          <p:cNvSpPr/>
          <p:nvPr/>
        </p:nvSpPr>
        <p:spPr>
          <a:xfrm>
            <a:off x="826920" y="119700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cc00"/>
                </a:solidFill>
                <a:latin typeface="Trebuchet MS"/>
              </a:rPr>
              <a:t>2. Výrazy s proměnn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1116000" y="4653000"/>
                <a:ext cx="8208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6"/>
              <p:cNvSpPr txBox="1"/>
              <p:nvPr/>
            </p:nvSpPr>
            <p:spPr>
              <a:xfrm>
                <a:off x="1908000" y="3429000"/>
                <a:ext cx="144648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7"/>
              <p:cNvSpPr txBox="1"/>
              <p:nvPr/>
            </p:nvSpPr>
            <p:spPr>
              <a:xfrm>
                <a:off x="2771640" y="4797360"/>
                <a:ext cx="17971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AutoShape 18"/>
          <p:cNvSpPr/>
          <p:nvPr/>
        </p:nvSpPr>
        <p:spPr>
          <a:xfrm>
            <a:off x="5724360" y="2133720"/>
            <a:ext cx="2880000" cy="2808000"/>
          </a:xfrm>
          <a:prstGeom prst="cloudCallout">
            <a:avLst>
              <a:gd name="adj1" fmla="val -99393"/>
              <a:gd name="adj2" fmla="val 220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Je-li proměnná ve jmenovateli zlomku, jedná se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o lomený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84360" y="981000"/>
            <a:ext cx="784836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Hodnota výrazu s proměnn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1116000" y="1197000"/>
                <a:ext cx="6523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Rectangle 6"/>
          <p:cNvSpPr/>
          <p:nvPr/>
        </p:nvSpPr>
        <p:spPr>
          <a:xfrm>
            <a:off x="2050920" y="1197000"/>
            <a:ext cx="62661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Proměnnou ve výrazu rozumíme znak, který označuje libovolné číslo z určité množiny, kterou nazýváme obor proměnné nebo definiční obor výrazu. Dosadíme-li za proměnné do výrazu libovolná čísla, pro která má daný výraz smysl, a provedeme všechny předepsané operace, dostaneme jako výsledek číslo – hodnotu výr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3419640" y="5589720"/>
                <a:ext cx="1152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AutoShape 8"/>
          <p:cNvSpPr/>
          <p:nvPr/>
        </p:nvSpPr>
        <p:spPr>
          <a:xfrm>
            <a:off x="714240" y="3716280"/>
            <a:ext cx="3429000" cy="2376720"/>
          </a:xfrm>
          <a:prstGeom prst="cloudCallout">
            <a:avLst>
              <a:gd name="adj1" fmla="val -24787"/>
              <a:gd name="adj2" fmla="val -9014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Nelze dosadit 0. Dosadíme-li např. 1, hodnota výrazu bude 2; dosadíme-li 2, hodnota výrazu bude 1;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5214960" y="3071880"/>
            <a:ext cx="3314520" cy="2808360"/>
          </a:xfrm>
          <a:prstGeom prst="cloudCallout">
            <a:avLst>
              <a:gd name="adj1" fmla="val -91097"/>
              <a:gd name="adj2" fmla="val 384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Můžeme dosadit libovolné reálné číslo. Dosadíme-li např. 1, hodnota výrazu bude 7; dosadíme-li 2, hodnota výrazu bude 8;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0"/>
          <p:cNvSpPr/>
          <p:nvPr/>
        </p:nvSpPr>
        <p:spPr>
          <a:xfrm>
            <a:off x="539640" y="981000"/>
            <a:ext cx="820908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423720" y="130320"/>
            <a:ext cx="820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Jednočlen, mnohočl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25320" y="1125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ýrazy jsou tvořeny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členy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5320" y="1687680"/>
            <a:ext cx="8339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Členy jsou od sebe odděleny operátory početních operací sčítání nebo odčít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25320" y="2249640"/>
            <a:ext cx="7993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dle počtu členů dělíme výrazy na jednočleny a mnohočle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25320" y="2709720"/>
            <a:ext cx="8518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Jednočlen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je výraz tvořen jedním členem, případně znak či čís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071720" y="3070080"/>
            <a:ext cx="777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908000" y="3068640"/>
            <a:ext cx="777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2698920" y="3068640"/>
            <a:ext cx="777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2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3693960" y="3068640"/>
            <a:ext cx="777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-9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4643280" y="3068640"/>
            <a:ext cx="99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-5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5651640" y="3068640"/>
            <a:ext cx="993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(cd)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625320" y="34434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Mnohočlen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je výraz tvořen součty nebo rozdíly jednočlen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1042920" y="3789360"/>
            <a:ext cx="125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2x +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2556000" y="3789360"/>
            <a:ext cx="180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y – 2y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4441680" y="3789360"/>
            <a:ext cx="1498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a/2 – 6a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6099120" y="3789360"/>
            <a:ext cx="2289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b - 9a – 4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1547640" y="5446800"/>
            <a:ext cx="25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(3x – 5) + (2x – 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900000" y="4653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Mnohočlen se dvěma jednočleny se nazývá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dvojčlen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900000" y="5013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Mnohočlen se třemi jednočleny se nazývá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trojčlen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3780000" y="5445000"/>
            <a:ext cx="374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oučet dvou dvojčlenů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1547640" y="5878440"/>
            <a:ext cx="374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(3x – y + 2).(x + 2y –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4572000" y="5877000"/>
            <a:ext cx="31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oučin dvou trojčlenů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4"/>
          <p:cNvSpPr/>
          <p:nvPr/>
        </p:nvSpPr>
        <p:spPr>
          <a:xfrm flipH="1" flipV="1">
            <a:off x="1907640" y="4149360"/>
            <a:ext cx="453564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5"/>
          <p:cNvSpPr/>
          <p:nvPr/>
        </p:nvSpPr>
        <p:spPr>
          <a:xfrm flipH="1" flipV="1">
            <a:off x="5363640" y="4220640"/>
            <a:ext cx="107964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6"/>
          <p:cNvSpPr/>
          <p:nvPr/>
        </p:nvSpPr>
        <p:spPr>
          <a:xfrm flipH="1" flipV="1">
            <a:off x="3492360" y="4149720"/>
            <a:ext cx="2880000" cy="100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 flipV="1">
            <a:off x="6372360" y="4149720"/>
            <a:ext cx="504720" cy="100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8"/>
          <p:cNvSpPr/>
          <p:nvPr/>
        </p:nvSpPr>
        <p:spPr>
          <a:xfrm>
            <a:off x="6891480" y="3068640"/>
            <a:ext cx="993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9"/>
          <p:cNvSpPr/>
          <p:nvPr/>
        </p:nvSpPr>
        <p:spPr>
          <a:xfrm>
            <a:off x="7610400" y="3068640"/>
            <a:ext cx="99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machan</cp:lastModifiedBy>
  <dcterms:modified xsi:type="dcterms:W3CDTF">2010-03-04T21:25:17Z</dcterms:modified>
  <cp:revision>144</cp:revision>
  <dc:subject/>
  <dc:title>Výrazy - sčítání a odčítání</dc:title>
</cp:coreProperties>
</file>