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E41-F485-45E2-A5C4-BE455F95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A3F-B3B2-44D0-950C-0F45624E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2B1-5DE6-4880-9BEC-485309D8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BDD-31AA-4F07-B38F-24326104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5E76-C0D5-4899-B343-5AFE5697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F5A0-62A7-4EF3-9519-ECCD24CD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886-F1A0-4FF0-9F2E-827EA91F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6C29-8A11-4953-A209-F568B3C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2A20-00EC-4C35-BCDE-768EE099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91A-E554-47EF-9F7E-E676C99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29E-FF72-4665-B218-5EABA84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0F5-267A-4324-92E2-22A96B5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2204-1CED-4019-8905-60255EB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27FA-8A74-4BB8-9B7C-E95D118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217E-88E6-4CF4-820C-7B9CA1C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956-F33A-4DE3-8485-F97C2BF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8AC9-4214-4E10-90FE-9BC8BFC8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6C7-336F-4728-8D16-11ACB9ED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A69-2512-43DD-8AE2-9744408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BFCE-0FFA-48E5-A839-606470F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564-E71F-4E46-9F6B-7EBD40D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EFC-D805-4AC7-BCBB-49FC9A4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88E-8CCC-4C37-A061-85E7CAD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356-5205-4227-8459-81B98E8B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ED94-7F68-47AE-B43C-A166015021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680-5117-42AE-82F9-79AD7CF74FE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dclipart.org/" TargetMode="External"/><Relationship Id="rId3" Type="http://schemas.openxmlformats.org/officeDocument/2006/relationships/hyperlink" Target="http://www.pdclipart.org/displayimage.php?album=search&amp;cat=0&amp;pos=20" TargetMode="External"/><Relationship Id="rId4" Type="http://schemas.openxmlformats.org/officeDocument/2006/relationships/hyperlink" Target="http://www.pdclipart.org/displayimage.php?album=search&amp;cat=0&amp;pos=20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výrazů –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(odstranění závorky)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39640" y="6165720"/>
            <a:ext cx="807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Foto: Mgr. Radomír Machá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14240" y="1000080"/>
            <a:ext cx="784872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93880" y="2665440"/>
            <a:ext cx="41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   (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785960" y="4071960"/>
            <a:ext cx="4332240" cy="2376360"/>
          </a:xfrm>
          <a:prstGeom prst="cloudCallout">
            <a:avLst>
              <a:gd name="adj1" fmla="val -45712"/>
              <a:gd name="adj2" fmla="val -88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Je-li před závorkou znaménko minus, je to tedy stejné jako kdyby tam bylo násobení číslem -1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24000" y="4437000"/>
            <a:ext cx="4176720" cy="1800360"/>
          </a:xfrm>
          <a:prstGeom prst="cloudCallout">
            <a:avLst>
              <a:gd name="adj1" fmla="val -5453"/>
              <a:gd name="adj2" fmla="val -117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Vynásobme tedy závorku číslem -1 a zkoumejme, co se změ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865160" y="2693880"/>
            <a:ext cx="79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859280" y="266544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2 + 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4356000" y="335772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11x –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900000" y="2665440"/>
            <a:ext cx="410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 (+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893880" y="2665440"/>
            <a:ext cx="41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   (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124000" y="4149720"/>
            <a:ext cx="4332240" cy="2376360"/>
          </a:xfrm>
          <a:prstGeom prst="cloudCallout">
            <a:avLst>
              <a:gd name="adj1" fmla="val -45712"/>
              <a:gd name="adj2" fmla="val -88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Co se tedy změnilo po odstranění závorky a jaký závěr pro odstraňování závorek, před kterými je znaménko minus tedy můžeme vyvodi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865160" y="2693880"/>
            <a:ext cx="79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859280" y="266544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2 + 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356000" y="335772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11x –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114560" y="5084640"/>
            <a:ext cx="712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Dochází k vypuštění závorky i znaménka minus a ke změně znamének všech členů uvnitř závorky, jinými slovy k jejich změně ve členy opač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2368440" y="2536920"/>
            <a:ext cx="72072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5637240" y="2535120"/>
            <a:ext cx="72072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3121200" y="2536920"/>
            <a:ext cx="1033200" cy="720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6505560" y="2535120"/>
            <a:ext cx="1033560" cy="720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16"/>
          <p:cNvSpPr/>
          <p:nvPr/>
        </p:nvSpPr>
        <p:spPr>
          <a:xfrm rot="18022800">
            <a:off x="2906640" y="1373400"/>
            <a:ext cx="2479680" cy="2809800"/>
          </a:xfrm>
          <a:custGeom>
            <a:avLst/>
            <a:gdLst>
              <a:gd name="textAreaLeft" fmla="*/ 0 w 2479680"/>
              <a:gd name="textAreaRight" fmla="*/ 2480040 w 2479680"/>
              <a:gd name="textAreaTop" fmla="*/ 0 h 2809800"/>
              <a:gd name="textAreaBottom" fmla="*/ 2810160 h 2809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7"/>
          <p:cNvSpPr/>
          <p:nvPr/>
        </p:nvSpPr>
        <p:spPr>
          <a:xfrm rot="18022800">
            <a:off x="3871800" y="1378080"/>
            <a:ext cx="2479680" cy="2809800"/>
          </a:xfrm>
          <a:custGeom>
            <a:avLst/>
            <a:gdLst>
              <a:gd name="textAreaLeft" fmla="*/ 0 w 2479680"/>
              <a:gd name="textAreaRight" fmla="*/ 2480040 w 2479680"/>
              <a:gd name="textAreaTop" fmla="*/ 0 h 2809800"/>
              <a:gd name="textAreaBottom" fmla="*/ 2810160 h 2809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8"/>
          <p:cNvSpPr/>
          <p:nvPr/>
        </p:nvSpPr>
        <p:spPr>
          <a:xfrm>
            <a:off x="957240" y="125424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ávorku, před kterou je znaménko minus, i s tímto znaménkem vynecháme a všechny členy původní závorky změníme v opač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 flipH="1" flipV="1">
            <a:off x="1907640" y="2997360"/>
            <a:ext cx="4162680" cy="158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 flipH="1" flipV="1">
            <a:off x="2339640" y="2923920"/>
            <a:ext cx="2290680" cy="164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1"/>
          <p:cNvSpPr/>
          <p:nvPr/>
        </p:nvSpPr>
        <p:spPr>
          <a:xfrm flipH="1" flipV="1">
            <a:off x="4211640" y="2923920"/>
            <a:ext cx="419040" cy="164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93880" y="2665440"/>
            <a:ext cx="41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   (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2124000" y="4005360"/>
            <a:ext cx="4969080" cy="2520720"/>
          </a:xfrm>
          <a:prstGeom prst="cloudCallout">
            <a:avLst>
              <a:gd name="adj1" fmla="val -46263"/>
              <a:gd name="adj2" fmla="val -80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Tak ještě jednou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Mezi znaménkem pl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a závorkou jsem nechal schválně mezeru. Přijdete na to, co do ní můžeme dosadit, aniž by došlo ke změně hodnoty výrazu, ale jen jeho vzhledu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24000" y="3860640"/>
            <a:ext cx="2447640" cy="1727280"/>
          </a:xfrm>
          <a:prstGeom prst="cloudCallout">
            <a:avLst>
              <a:gd name="adj1" fmla="val 26004"/>
              <a:gd name="adj2" fmla="val -866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Mám vám ještě jednou pomoci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560680" y="573264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846600" y="566100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284720" y="573264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651640" y="566100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apple 5"/>
          <p:cNvPicPr/>
          <p:nvPr/>
        </p:nvPicPr>
        <p:blipFill>
          <a:blip r:embed="rId2"/>
          <a:stretch/>
        </p:blipFill>
        <p:spPr>
          <a:xfrm>
            <a:off x="3203640" y="573408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apple 5"/>
          <p:cNvPicPr/>
          <p:nvPr/>
        </p:nvPicPr>
        <p:blipFill>
          <a:blip r:embed="rId3"/>
          <a:stretch/>
        </p:blipFill>
        <p:spPr>
          <a:xfrm>
            <a:off x="4788000" y="5734080"/>
            <a:ext cx="576000" cy="431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apple 5"/>
          <p:cNvPicPr/>
          <p:nvPr/>
        </p:nvPicPr>
        <p:blipFill>
          <a:blip r:embed="rId4"/>
          <a:stretch/>
        </p:blipFill>
        <p:spPr>
          <a:xfrm>
            <a:off x="6227640" y="5734080"/>
            <a:ext cx="57636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185E-006 L -0.06736 -0.44046 E">
                                      <p:cBhvr>
                                        <p:cTn id="61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893880" y="2665440"/>
            <a:ext cx="41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   (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00000" y="2665440"/>
            <a:ext cx="410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 (+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2124000" y="4149720"/>
            <a:ext cx="4332240" cy="2376360"/>
          </a:xfrm>
          <a:prstGeom prst="cloudCallout">
            <a:avLst>
              <a:gd name="adj1" fmla="val -45712"/>
              <a:gd name="adj2" fmla="val -88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Co se tedy změnilo po odstranění závorky a jaký závěr pro odstraňování závorek, před kterými je znaménko plus tedy můžeme vyvodi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909800" y="2693880"/>
            <a:ext cx="79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859280" y="270828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2 – 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4356000" y="3357720"/>
            <a:ext cx="352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5x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826920" y="472428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Dochází sice opět k vypuštění závorky i znaménka plus, ale k žádné změně členů původní závo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1"/>
          <p:cNvSpPr/>
          <p:nvPr/>
        </p:nvSpPr>
        <p:spPr>
          <a:xfrm>
            <a:off x="2425680" y="2536920"/>
            <a:ext cx="72072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2"/>
          <p:cNvSpPr/>
          <p:nvPr/>
        </p:nvSpPr>
        <p:spPr>
          <a:xfrm>
            <a:off x="5722920" y="2535120"/>
            <a:ext cx="72072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3"/>
          <p:cNvSpPr/>
          <p:nvPr/>
        </p:nvSpPr>
        <p:spPr>
          <a:xfrm>
            <a:off x="3178080" y="2536920"/>
            <a:ext cx="1033560" cy="720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4"/>
          <p:cNvSpPr/>
          <p:nvPr/>
        </p:nvSpPr>
        <p:spPr>
          <a:xfrm>
            <a:off x="6505560" y="2535120"/>
            <a:ext cx="1033560" cy="720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15"/>
          <p:cNvSpPr/>
          <p:nvPr/>
        </p:nvSpPr>
        <p:spPr>
          <a:xfrm rot="18022800">
            <a:off x="2906640" y="1373400"/>
            <a:ext cx="2479680" cy="2809800"/>
          </a:xfrm>
          <a:custGeom>
            <a:avLst/>
            <a:gdLst>
              <a:gd name="textAreaLeft" fmla="*/ 0 w 2479680"/>
              <a:gd name="textAreaRight" fmla="*/ 2480040 w 2479680"/>
              <a:gd name="textAreaTop" fmla="*/ 0 h 2809800"/>
              <a:gd name="textAreaBottom" fmla="*/ 2810160 h 2809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16"/>
          <p:cNvSpPr/>
          <p:nvPr/>
        </p:nvSpPr>
        <p:spPr>
          <a:xfrm rot="18022800">
            <a:off x="3871800" y="1378080"/>
            <a:ext cx="2479680" cy="2809800"/>
          </a:xfrm>
          <a:custGeom>
            <a:avLst/>
            <a:gdLst>
              <a:gd name="textAreaLeft" fmla="*/ 0 w 2479680"/>
              <a:gd name="textAreaRight" fmla="*/ 2480040 w 2479680"/>
              <a:gd name="textAreaTop" fmla="*/ 0 h 2809800"/>
              <a:gd name="textAreaBottom" fmla="*/ 2810160 h 2809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957240" y="125424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Závorku, před kterou je znaménko plus, můžeme vynec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1908000" y="2997360"/>
            <a:ext cx="4896000" cy="158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9"/>
          <p:cNvSpPr/>
          <p:nvPr/>
        </p:nvSpPr>
        <p:spPr>
          <a:xfrm flipH="1" flipV="1">
            <a:off x="2340000" y="2924280"/>
            <a:ext cx="295272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 flipH="1" flipV="1">
            <a:off x="4211280" y="2924280"/>
            <a:ext cx="1081080" cy="172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39720" y="90792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+2).5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39720" y="1341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10.(2y+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654120" y="1773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-2a)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654120" y="223344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-(x+7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641520" y="26956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.(4x-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668160" y="3141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+(5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655560" y="3573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1+4)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684360" y="4005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2a-(a-9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684360" y="443700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684360" y="486900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-(-3-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684360" y="530208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4.(6-a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684360" y="57340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5x+4)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6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6877080" y="907920"/>
            <a:ext cx="185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6877080" y="1341360"/>
            <a:ext cx="185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20y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6891480" y="1773360"/>
            <a:ext cx="1857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1-1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"/>
          <p:cNvSpPr/>
          <p:nvPr/>
        </p:nvSpPr>
        <p:spPr>
          <a:xfrm>
            <a:off x="6891480" y="2233440"/>
            <a:ext cx="185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5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6878520" y="2695680"/>
            <a:ext cx="185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6905520" y="3141720"/>
            <a:ext cx="185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8-6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6892920" y="3573360"/>
            <a:ext cx="185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30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6921360" y="4005360"/>
            <a:ext cx="185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3a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6921360" y="4437000"/>
            <a:ext cx="18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15+5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6921360" y="4869000"/>
            <a:ext cx="185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0+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6921360" y="5302080"/>
            <a:ext cx="18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24+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6921360" y="5734080"/>
            <a:ext cx="1857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25x+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639720" y="90792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+2).5x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639720" y="1341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10.(2y+1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654120" y="1773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-2a).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654120" y="223344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-(x+7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641520" y="26956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2.(4x-2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668160" y="3141720"/>
            <a:ext cx="3140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+(5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6"/>
          <p:cNvSpPr/>
          <p:nvPr/>
        </p:nvSpPr>
        <p:spPr>
          <a:xfrm>
            <a:off x="655560" y="3573360"/>
            <a:ext cx="3140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1+4).(-6y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7"/>
          <p:cNvSpPr/>
          <p:nvPr/>
        </p:nvSpPr>
        <p:spPr>
          <a:xfrm>
            <a:off x="684360" y="400536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2a-(a-9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684360" y="443700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3-y).(-5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684360" y="486900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7-(-3-x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684360" y="5302080"/>
            <a:ext cx="3139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4.(6-a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684360" y="573408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-5x+4).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807732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Trebuchet MS"/>
              </a:rPr>
              <a:t>Všechny uveřejněné odkazy [cit. 2009-27-01]. Dostupné pod licencí Public Domain – na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pdclipart.org/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://www.pdclipart.org/displayimage.php?album=search&amp;cat=0&amp;pos=20</a:t>
            </a: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algebraických výrazů -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195640" y="1441440"/>
            <a:ext cx="3139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.(2x+3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789440" y="1457280"/>
            <a:ext cx="5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335560" y="14414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4x+6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42"/>
          <p:cNvSpPr/>
          <p:nvPr/>
        </p:nvSpPr>
        <p:spPr>
          <a:xfrm rot="18179400">
            <a:off x="2448000" y="123156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43"/>
          <p:cNvSpPr/>
          <p:nvPr/>
        </p:nvSpPr>
        <p:spPr>
          <a:xfrm rot="18179400">
            <a:off x="2424960" y="910080"/>
            <a:ext cx="1292040" cy="129708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900000" y="220500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hočlen násobíme tak, že vynásobíme postupně všechny jeho čle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1042920" y="364968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(1-2x+3y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51"/>
          <p:cNvSpPr/>
          <p:nvPr/>
        </p:nvSpPr>
        <p:spPr>
          <a:xfrm rot="18179400">
            <a:off x="1270080" y="339228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c 52"/>
          <p:cNvSpPr/>
          <p:nvPr/>
        </p:nvSpPr>
        <p:spPr>
          <a:xfrm rot="18179400">
            <a:off x="1331280" y="3116520"/>
            <a:ext cx="1009440" cy="114480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53"/>
          <p:cNvSpPr/>
          <p:nvPr/>
        </p:nvSpPr>
        <p:spPr>
          <a:xfrm rot="18179400">
            <a:off x="1368360" y="2770560"/>
            <a:ext cx="1666800" cy="188892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370400" y="3645000"/>
            <a:ext cx="42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"/>
          <p:cNvSpPr/>
          <p:nvPr/>
        </p:nvSpPr>
        <p:spPr>
          <a:xfrm>
            <a:off x="3995640" y="414972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1042920" y="518940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(1-2x+3y).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57"/>
          <p:cNvSpPr/>
          <p:nvPr/>
        </p:nvSpPr>
        <p:spPr>
          <a:xfrm rot="18179400">
            <a:off x="3122640" y="493200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rc 58"/>
          <p:cNvSpPr/>
          <p:nvPr/>
        </p:nvSpPr>
        <p:spPr>
          <a:xfrm rot="17884200">
            <a:off x="2278080" y="4556160"/>
            <a:ext cx="1238400" cy="14032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59"/>
          <p:cNvSpPr/>
          <p:nvPr/>
        </p:nvSpPr>
        <p:spPr>
          <a:xfrm rot="17757000">
            <a:off x="1609920" y="4289040"/>
            <a:ext cx="1787400" cy="202572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025720"/>
              <a:gd name="textAreaBottom" fmla="*/ 2026080 h 20257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0"/>
          <p:cNvSpPr/>
          <p:nvPr/>
        </p:nvSpPr>
        <p:spPr>
          <a:xfrm>
            <a:off x="4370400" y="5184720"/>
            <a:ext cx="42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1"/>
          <p:cNvSpPr/>
          <p:nvPr/>
        </p:nvSpPr>
        <p:spPr>
          <a:xfrm>
            <a:off x="3995640" y="568944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algebraických výrazů -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42920" y="364968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(1-2x+3y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11"/>
          <p:cNvSpPr/>
          <p:nvPr/>
        </p:nvSpPr>
        <p:spPr>
          <a:xfrm rot="18179400">
            <a:off x="1270080" y="339228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12"/>
          <p:cNvSpPr/>
          <p:nvPr/>
        </p:nvSpPr>
        <p:spPr>
          <a:xfrm rot="18179400">
            <a:off x="1331280" y="3116520"/>
            <a:ext cx="1009440" cy="114480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3"/>
          <p:cNvSpPr/>
          <p:nvPr/>
        </p:nvSpPr>
        <p:spPr>
          <a:xfrm rot="18179400">
            <a:off x="1368360" y="2770560"/>
            <a:ext cx="1666800" cy="188892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70400" y="3645000"/>
            <a:ext cx="42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995640" y="414972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1042920" y="518940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(1-2x+3y).3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7"/>
          <p:cNvSpPr/>
          <p:nvPr/>
        </p:nvSpPr>
        <p:spPr>
          <a:xfrm rot="18179400">
            <a:off x="3122640" y="493200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8"/>
          <p:cNvSpPr/>
          <p:nvPr/>
        </p:nvSpPr>
        <p:spPr>
          <a:xfrm rot="17884200">
            <a:off x="2278080" y="4556160"/>
            <a:ext cx="1238400" cy="14032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403280"/>
              <a:gd name="textAreaBottom" fmla="*/ 1403640 h 14032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19"/>
          <p:cNvSpPr/>
          <p:nvPr/>
        </p:nvSpPr>
        <p:spPr>
          <a:xfrm rot="17757000">
            <a:off x="1609920" y="4289040"/>
            <a:ext cx="1787400" cy="202572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025720"/>
              <a:gd name="textAreaBottom" fmla="*/ 2026080 h 20257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4370400" y="5184720"/>
            <a:ext cx="42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.1-3.2x+3.3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3995640" y="5689440"/>
            <a:ext cx="38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3-6x+9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>
            <a:off x="4414680" y="1052640"/>
            <a:ext cx="4260960" cy="2305080"/>
          </a:xfrm>
          <a:prstGeom prst="cloudCallout">
            <a:avLst>
              <a:gd name="adj1" fmla="val -65314"/>
              <a:gd name="adj2" fmla="val 58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V uvedených příkladech jsme úpravu výrazu uskutečnili odstraněním závorky. Podíváme se tedy nyní na možnosti odstranění závork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 nimiž se můžeme při úpravách výrazů set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187280" y="3232080"/>
            <a:ext cx="3787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- (1+5).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187280" y="1557360"/>
            <a:ext cx="684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okud jde závorku odstranit výpočtem, provedeme j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4745160" y="3232080"/>
            <a:ext cx="249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- 6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7050240" y="3232080"/>
            <a:ext cx="97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187280" y="4730760"/>
            <a:ext cx="3787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6x – 2.(x+2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960800" y="4730760"/>
            <a:ext cx="335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2.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7164360" y="5364000"/>
            <a:ext cx="1049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457880" y="5364000"/>
            <a:ext cx="335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8x – 6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2325600" y="2914560"/>
            <a:ext cx="129564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2800440" y="4456080"/>
            <a:ext cx="158436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31"/>
          <p:cNvSpPr/>
          <p:nvPr/>
        </p:nvSpPr>
        <p:spPr>
          <a:xfrm rot="18179400">
            <a:off x="3663720" y="2231640"/>
            <a:ext cx="1882800" cy="2225880"/>
          </a:xfrm>
          <a:custGeom>
            <a:avLst/>
            <a:gdLst>
              <a:gd name="textAreaLeft" fmla="*/ 0 w 1882800"/>
              <a:gd name="textAreaRight" fmla="*/ 1883160 w 1882800"/>
              <a:gd name="textAreaTop" fmla="*/ 0 h 2225880"/>
              <a:gd name="textAreaBottom" fmla="*/ 2226240 h 2225880"/>
            </a:gdLst>
            <a:ahLst/>
            <a:rect l="textAreaLeft" t="textAreaTop" r="textAreaRight" b="textAreaBottom"/>
            <a:pathLst>
              <a:path fill="none" w="21600" h="23244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cubicBezTo>
                  <a:pt x="21600" y="21280"/>
                  <a:pt x="21532" y="22266"/>
                  <a:pt x="21397" y="23244"/>
                </a:cubicBezTo>
              </a:path>
              <a:path stroke="0" w="21600" h="23244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cubicBezTo>
                  <a:pt x="21600" y="21280"/>
                  <a:pt x="21532" y="22266"/>
                  <a:pt x="21397" y="23244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32"/>
          <p:cNvSpPr/>
          <p:nvPr/>
        </p:nvSpPr>
        <p:spPr>
          <a:xfrm rot="18179400">
            <a:off x="4383000" y="3750840"/>
            <a:ext cx="1882800" cy="2225520"/>
          </a:xfrm>
          <a:custGeom>
            <a:avLst/>
            <a:gdLst>
              <a:gd name="textAreaLeft" fmla="*/ 0 w 1882800"/>
              <a:gd name="textAreaRight" fmla="*/ 1883160 w 1882800"/>
              <a:gd name="textAreaTop" fmla="*/ 0 h 2225520"/>
              <a:gd name="textAreaBottom" fmla="*/ 2225880 h 2225520"/>
            </a:gdLst>
            <a:ahLst/>
            <a:rect l="textAreaLeft" t="textAreaTop" r="textAreaRight" b="textAreaBottom"/>
            <a:pathLst>
              <a:path fill="none" w="21600" h="23244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cubicBezTo>
                  <a:pt x="21600" y="21280"/>
                  <a:pt x="21532" y="22266"/>
                  <a:pt x="21397" y="23244"/>
                </a:cubicBezTo>
              </a:path>
              <a:path stroke="0" w="21600" h="23244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cubicBezTo>
                  <a:pt x="21600" y="21280"/>
                  <a:pt x="21532" y="22266"/>
                  <a:pt x="21397" y="23244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71640" y="141300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okud nejde závorku odstranit výpočtem, roznásobíme 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96960" y="2840040"/>
            <a:ext cx="3787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6x – 2.(3+2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470480" y="2840040"/>
            <a:ext cx="407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6x – 2.3 – 2.2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995640" y="407664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2x –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967200" y="3473280"/>
            <a:ext cx="3917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6x – 6 – 4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6"/>
          <p:cNvSpPr/>
          <p:nvPr/>
        </p:nvSpPr>
        <p:spPr>
          <a:xfrm rot="18179400">
            <a:off x="1990800" y="245232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7"/>
          <p:cNvSpPr/>
          <p:nvPr/>
        </p:nvSpPr>
        <p:spPr>
          <a:xfrm rot="18179400">
            <a:off x="1967760" y="2130840"/>
            <a:ext cx="1292040" cy="129708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9"/>
          <p:cNvSpPr/>
          <p:nvPr/>
        </p:nvSpPr>
        <p:spPr>
          <a:xfrm>
            <a:off x="1474920" y="2709720"/>
            <a:ext cx="720720" cy="720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971640" y="4653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1. krok – určení znaménk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(minus a plus dává m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 flipV="1">
            <a:off x="1633320" y="3284280"/>
            <a:ext cx="351468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2496960" y="3284280"/>
            <a:ext cx="351504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H="1" flipV="1">
            <a:off x="5392440" y="3270240"/>
            <a:ext cx="1700280" cy="1527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1633320" y="3284280"/>
            <a:ext cx="351468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001680" y="3357720"/>
            <a:ext cx="3009960" cy="1366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6673320" y="3284640"/>
            <a:ext cx="419400" cy="151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971640" y="508464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2. krok – vynásobení čísel 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(2 krát 3 a 2 krát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985680" y="553248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3. krok – vynásobení proměnný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580000" y="2637000"/>
            <a:ext cx="86364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6848640" y="2637000"/>
            <a:ext cx="863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93880" y="2709720"/>
            <a:ext cx="41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(2 – 3x).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71640" y="141300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okud nejde závorku odstranit výpočtem, roznásobíme 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968720" y="2709720"/>
            <a:ext cx="36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+2.2–2.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470480" y="3341520"/>
            <a:ext cx="3989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8x + 4 – 6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971640" y="4653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1. krok – určení znaménk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(plus a plus dává plus; minus 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plus dává m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H="1" flipV="1">
            <a:off x="4066920" y="2997360"/>
            <a:ext cx="1873080" cy="162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 flipV="1">
            <a:off x="2987280" y="2997360"/>
            <a:ext cx="4538520" cy="162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V="1">
            <a:off x="6402240" y="3011400"/>
            <a:ext cx="387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 flipV="1">
            <a:off x="2340000" y="2997000"/>
            <a:ext cx="2867040" cy="164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 flipV="1">
            <a:off x="4080960" y="2982600"/>
            <a:ext cx="1109880" cy="19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 flipV="1">
            <a:off x="5796000" y="3068640"/>
            <a:ext cx="1195200" cy="15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971640" y="508464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2. krok – vynásobení čísel 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(2 krát 2 a 3 krát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985680" y="553248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3. krok – vynásobení proměnný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24"/>
          <p:cNvSpPr/>
          <p:nvPr/>
        </p:nvSpPr>
        <p:spPr>
          <a:xfrm rot="18179400">
            <a:off x="3549600" y="235548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25"/>
          <p:cNvSpPr/>
          <p:nvPr/>
        </p:nvSpPr>
        <p:spPr>
          <a:xfrm rot="18053400">
            <a:off x="2696040" y="2034000"/>
            <a:ext cx="1292040" cy="129708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6"/>
          <p:cNvSpPr/>
          <p:nvPr/>
        </p:nvSpPr>
        <p:spPr>
          <a:xfrm>
            <a:off x="3936960" y="2625840"/>
            <a:ext cx="600120" cy="600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4486320" y="3933720"/>
            <a:ext cx="3989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2x +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93880" y="2709720"/>
            <a:ext cx="41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(2 – 3x).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1640" y="141300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okud nejde závorku odstranit výpočtem, roznásobíme 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968720" y="2709720"/>
            <a:ext cx="36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+2.2–2.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470480" y="3341520"/>
            <a:ext cx="3989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8x + 4 – 6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971640" y="4653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1. krok – určení znaménk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(plus a plus dává plus; minus a 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plus dává m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H="1" flipV="1">
            <a:off x="4066920" y="2997360"/>
            <a:ext cx="1873080" cy="162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 flipH="1" flipV="1">
            <a:off x="2340000" y="2997000"/>
            <a:ext cx="2867040" cy="164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796000" y="3068640"/>
            <a:ext cx="1195200" cy="155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7"/>
          <p:cNvSpPr/>
          <p:nvPr/>
        </p:nvSpPr>
        <p:spPr>
          <a:xfrm rot="18179400">
            <a:off x="3549600" y="2355480"/>
            <a:ext cx="577800" cy="561960"/>
          </a:xfrm>
          <a:custGeom>
            <a:avLst/>
            <a:gdLst>
              <a:gd name="textAreaLeft" fmla="*/ 0 w 577800"/>
              <a:gd name="textAreaRight" fmla="*/ 578160 w 5778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8"/>
          <p:cNvSpPr/>
          <p:nvPr/>
        </p:nvSpPr>
        <p:spPr>
          <a:xfrm rot="18053400">
            <a:off x="2696040" y="2034000"/>
            <a:ext cx="1292040" cy="1297080"/>
          </a:xfrm>
          <a:custGeom>
            <a:avLst/>
            <a:gdLst>
              <a:gd name="textAreaLeft" fmla="*/ 0 w 1292040"/>
              <a:gd name="textAreaRight" fmla="*/ 1292400 w 12920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3936960" y="2625840"/>
            <a:ext cx="600120" cy="6001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486320" y="3933720"/>
            <a:ext cx="3989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2x +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1"/>
          <p:cNvSpPr/>
          <p:nvPr/>
        </p:nvSpPr>
        <p:spPr>
          <a:xfrm>
            <a:off x="2928960" y="4143240"/>
            <a:ext cx="4260960" cy="2305080"/>
          </a:xfrm>
          <a:prstGeom prst="cloudCallout">
            <a:avLst>
              <a:gd name="adj1" fmla="val -57527"/>
              <a:gd name="adj2" fmla="val -924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ožná vás během prvního kroku roznásobení závorky, tj. určení znamének výsledných členů napadlo, kdeže se ztratilo znaménko plus, které bylo před závorkou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893880" y="2709720"/>
            <a:ext cx="41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+ (2 – 3x).2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971640" y="141300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okud nejde závorku odstranit výpočtem, roznásobíme 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968720" y="2709720"/>
            <a:ext cx="363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+2.2–2.3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470480" y="3341520"/>
            <a:ext cx="3989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8x + 4 – 6x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4486320" y="3933720"/>
            <a:ext cx="3989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 2x +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2268360" y="4221000"/>
            <a:ext cx="4260960" cy="2305080"/>
          </a:xfrm>
          <a:prstGeom prst="cloudCallout">
            <a:avLst>
              <a:gd name="adj1" fmla="val -57527"/>
              <a:gd name="adj2" fmla="val -924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íváme se tedy nyní na to, jak se znaménky před závorkou prac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1676520" y="2773440"/>
            <a:ext cx="368280" cy="368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81000"/>
            <a:ext cx="784836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33336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stranění závorky –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93880" y="2665440"/>
            <a:ext cx="41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x –    (2 – 3x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2124000" y="4149720"/>
            <a:ext cx="4332240" cy="2376360"/>
          </a:xfrm>
          <a:prstGeom prst="cloudCallout">
            <a:avLst>
              <a:gd name="adj1" fmla="val -45712"/>
              <a:gd name="adj2" fmla="val -88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Mezi znaménkem min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a závorkou jsem nechal schválně mezeru. Přijdete na to, co do ní můžeme dosadit, aniž by došlo ke změně hodnoty výrazu, ale jen jeho vzhledu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324000" y="3860640"/>
            <a:ext cx="2447640" cy="1727280"/>
          </a:xfrm>
          <a:prstGeom prst="cloudCallout">
            <a:avLst>
              <a:gd name="adj1" fmla="val 26004"/>
              <a:gd name="adj2" fmla="val -866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Pokud jste na to ještě nepřišli, pomohu vám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2560680" y="573264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3846600" y="566100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4284720" y="573264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5651640" y="5661000"/>
            <a:ext cx="57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9" descr=""/>
          <p:cNvPicPr/>
          <p:nvPr/>
        </p:nvPicPr>
        <p:blipFill>
          <a:blip r:embed="rId2"/>
          <a:stretch/>
        </p:blipFill>
        <p:spPr>
          <a:xfrm>
            <a:off x="3132000" y="5646600"/>
            <a:ext cx="578160" cy="567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"/>
          <p:cNvPicPr/>
          <p:nvPr/>
        </p:nvPicPr>
        <p:blipFill>
          <a:blip r:embed="rId3"/>
          <a:stretch/>
        </p:blipFill>
        <p:spPr>
          <a:xfrm>
            <a:off x="4788000" y="5646600"/>
            <a:ext cx="577800" cy="56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"/>
          <p:cNvPicPr/>
          <p:nvPr/>
        </p:nvPicPr>
        <p:blipFill>
          <a:blip r:embed="rId4"/>
          <a:stretch/>
        </p:blipFill>
        <p:spPr>
          <a:xfrm>
            <a:off x="6284880" y="5641920"/>
            <a:ext cx="577800" cy="5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185E-006 L -0.07517 -0.44046 E">
                                      <p:cBhvr>
                                        <p:cTn id="44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09T08:46:11Z</dcterms:modified>
  <cp:revision>161</cp:revision>
  <dc:subject/>
  <dc:title>Výrazy - odstranění závorek</dc:title>
</cp:coreProperties>
</file>