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375-7BDA-4572-BB74-9F4C9444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916-A632-44B6-B012-0CD1A699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7B6-DDB3-457C-8392-9889EB39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911-0499-45BB-82E2-438C2849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E18E-B360-45B5-8CE4-AE3A3998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FFC0-4540-4BCC-B52C-D0B04F83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6B72-3378-4E22-B45F-89A4F8D7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32D1-B283-4382-B856-DEB134BC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CCFA-DAF8-4760-8CC5-E5610C50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111C-0BEF-40C9-90BF-31A70F61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198C-A693-4D3E-8232-0D4F556B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8C5-795A-4FA5-A937-CDF0F83F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C665-F770-4185-91D5-E0FA95D7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8280-C0CF-4E3A-A7BF-B06362AD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0E0C-D0A2-4106-A43C-CAB23258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2E3C-87B9-4B26-99BD-57BD2B75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2270-2DF3-4D10-81FE-FC600EDD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92A-1847-4265-BB46-33A5530E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717-E461-4A85-9F52-0BA8EA5C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727-9568-40AB-B64C-1A0B9D76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00F-5039-46EA-B13C-A10D3795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725-8347-427E-8F70-2BCA0974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0F7-AED9-43C5-8CAB-9D5FAE4D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8AE-1ED4-4D22-B7BE-168AD86C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A335-B123-4374-AE25-DDAC78DF161B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BD78-2602-45CC-87AF-438177005387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výrazů - 1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39640" y="6021360"/>
            <a:ext cx="8077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Foto vlas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784080" y="9810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ápis algebraick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2930400" y="191772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4657680" y="191772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7"/>
          <p:cNvSpPr/>
          <p:nvPr/>
        </p:nvSpPr>
        <p:spPr>
          <a:xfrm rot="16200000">
            <a:off x="2952000" y="1492920"/>
            <a:ext cx="288720" cy="2376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8"/>
          <p:cNvSpPr/>
          <p:nvPr/>
        </p:nvSpPr>
        <p:spPr>
          <a:xfrm rot="16200000">
            <a:off x="6321960" y="1794240"/>
            <a:ext cx="244440" cy="1728720"/>
          </a:xfrm>
          <a:custGeom>
            <a:avLst/>
            <a:gdLst>
              <a:gd name="textAreaLeft" fmla="*/ 156240 w 244440"/>
              <a:gd name="textAreaRight" fmla="*/ 244440 w 2444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139840" y="2897280"/>
            <a:ext cx="2360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blko + jabl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5740560" y="2897280"/>
            <a:ext cx="2360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vě jab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2811600" y="436572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4657680" y="285444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4659480" y="340200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4659480" y="4294080"/>
            <a:ext cx="57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1"/>
          <p:cNvSpPr/>
          <p:nvPr/>
        </p:nvSpPr>
        <p:spPr>
          <a:xfrm>
            <a:off x="5651640" y="436572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2"/>
          <p:cNvSpPr/>
          <p:nvPr/>
        </p:nvSpPr>
        <p:spPr>
          <a:xfrm>
            <a:off x="3521160" y="5029200"/>
            <a:ext cx="1195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.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3"/>
          <p:cNvSpPr/>
          <p:nvPr/>
        </p:nvSpPr>
        <p:spPr>
          <a:xfrm>
            <a:off x="4686480" y="5043600"/>
            <a:ext cx="87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5321160" y="5029200"/>
            <a:ext cx="1195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5"/>
          <p:cNvSpPr/>
          <p:nvPr/>
        </p:nvSpPr>
        <p:spPr>
          <a:xfrm>
            <a:off x="3535200" y="5705640"/>
            <a:ext cx="1195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.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6"/>
          <p:cNvSpPr/>
          <p:nvPr/>
        </p:nvSpPr>
        <p:spPr>
          <a:xfrm>
            <a:off x="4700520" y="5719680"/>
            <a:ext cx="871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Symbol"/>
                <a:ea typeface="Symbol"/>
              </a:rPr>
              <a:t>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7"/>
          <p:cNvSpPr/>
          <p:nvPr/>
        </p:nvSpPr>
        <p:spPr>
          <a:xfrm>
            <a:off x="5335560" y="5705640"/>
            <a:ext cx="1195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2484360" y="3430440"/>
            <a:ext cx="2360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 x jabl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4"/>
          <p:cNvSpPr/>
          <p:nvPr/>
        </p:nvSpPr>
        <p:spPr>
          <a:xfrm>
            <a:off x="5811840" y="3430440"/>
            <a:ext cx="1352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 jab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8"/>
          <p:cNvSpPr/>
          <p:nvPr/>
        </p:nvSpPr>
        <p:spPr>
          <a:xfrm>
            <a:off x="6659640" y="5300640"/>
            <a:ext cx="2376360" cy="1368360"/>
          </a:xfrm>
          <a:prstGeom prst="cloudCallout">
            <a:avLst>
              <a:gd name="adj1" fmla="val -86805"/>
              <a:gd name="adj2" fmla="val -349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V tomto případě znaménko násobení psát nemusí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9"/>
          <p:cNvSpPr/>
          <p:nvPr/>
        </p:nvSpPr>
        <p:spPr>
          <a:xfrm>
            <a:off x="179280" y="4724280"/>
            <a:ext cx="2376720" cy="1368720"/>
          </a:xfrm>
          <a:prstGeom prst="cloudCallout">
            <a:avLst>
              <a:gd name="adj1" fmla="val 92083"/>
              <a:gd name="adj2" fmla="val 37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V tomto případě je znaménko násobení nutné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0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1" descr=""/>
          <p:cNvPicPr/>
          <p:nvPr/>
        </p:nvPicPr>
        <p:blipFill>
          <a:blip r:embed="rId2"/>
          <a:stretch/>
        </p:blipFill>
        <p:spPr>
          <a:xfrm>
            <a:off x="3562200" y="1844640"/>
            <a:ext cx="578160" cy="566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2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578160" cy="566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3" descr=""/>
          <p:cNvPicPr/>
          <p:nvPr/>
        </p:nvPicPr>
        <p:blipFill>
          <a:blip r:embed="rId4"/>
          <a:stretch/>
        </p:blipFill>
        <p:spPr>
          <a:xfrm>
            <a:off x="6515280" y="184464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4" descr=""/>
          <p:cNvPicPr/>
          <p:nvPr/>
        </p:nvPicPr>
        <p:blipFill>
          <a:blip r:embed="rId5"/>
          <a:stretch/>
        </p:blipFill>
        <p:spPr>
          <a:xfrm>
            <a:off x="3564000" y="4302000"/>
            <a:ext cx="577800" cy="567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5" descr=""/>
          <p:cNvPicPr/>
          <p:nvPr/>
        </p:nvPicPr>
        <p:blipFill>
          <a:blip r:embed="rId6"/>
          <a:stretch/>
        </p:blipFill>
        <p:spPr>
          <a:xfrm>
            <a:off x="6299280" y="4292640"/>
            <a:ext cx="577800" cy="5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algebra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435640" y="177336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 rot="16200000">
            <a:off x="1956600" y="1650240"/>
            <a:ext cx="333360" cy="1728720"/>
          </a:xfrm>
          <a:custGeom>
            <a:avLst/>
            <a:gdLst>
              <a:gd name="textAreaLeft" fmla="*/ 213120 w 333360"/>
              <a:gd name="textAreaRight" fmla="*/ 333720 w 333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 rot="16200000">
            <a:off x="4448880" y="1650240"/>
            <a:ext cx="244800" cy="1728720"/>
          </a:xfrm>
          <a:custGeom>
            <a:avLst/>
            <a:gdLst>
              <a:gd name="textAreaLeft" fmla="*/ 156600 w 244800"/>
              <a:gd name="textAreaRight" fmla="*/ 245160 w 2448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587600" y="378936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3089160" y="299736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089160" y="3718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924360" y="378936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3160800" y="5877000"/>
            <a:ext cx="1482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.2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1563840" y="3025800"/>
            <a:ext cx="2360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 jab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3924360" y="3025800"/>
            <a:ext cx="1857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 jab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5435640" y="299736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5450040" y="371808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6531120" y="3025800"/>
            <a:ext cx="1857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4 jab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5465880" y="589284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6659640" y="5877000"/>
            <a:ext cx="1195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3059280" y="155592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0"/>
          <p:cNvSpPr/>
          <p:nvPr/>
        </p:nvSpPr>
        <p:spPr>
          <a:xfrm>
            <a:off x="6502320" y="3790800"/>
            <a:ext cx="790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1"/>
          <p:cNvSpPr/>
          <p:nvPr/>
        </p:nvSpPr>
        <p:spPr>
          <a:xfrm rot="16200000">
            <a:off x="7114320" y="2081520"/>
            <a:ext cx="244440" cy="1728720"/>
          </a:xfrm>
          <a:custGeom>
            <a:avLst/>
            <a:gdLst>
              <a:gd name="textAreaLeft" fmla="*/ 156240 w 244440"/>
              <a:gd name="textAreaRight" fmla="*/ 244440 w 2444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2"/>
          <p:cNvSpPr/>
          <p:nvPr/>
        </p:nvSpPr>
        <p:spPr>
          <a:xfrm rot="16200000">
            <a:off x="3253680" y="2586600"/>
            <a:ext cx="333360" cy="3602160"/>
          </a:xfrm>
          <a:custGeom>
            <a:avLst/>
            <a:gdLst>
              <a:gd name="textAreaLeft" fmla="*/ 213120 w 333360"/>
              <a:gd name="textAreaRight" fmla="*/ 333720 w 333360"/>
              <a:gd name="textAreaTop" fmla="*/ 93600 h 3602160"/>
              <a:gd name="textAreaBottom" fmla="*/ 3508560 h 360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5"/>
          <p:cNvSpPr/>
          <p:nvPr/>
        </p:nvSpPr>
        <p:spPr>
          <a:xfrm>
            <a:off x="2612880" y="5229360"/>
            <a:ext cx="18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3"/>
          <p:cNvSpPr/>
          <p:nvPr/>
        </p:nvSpPr>
        <p:spPr>
          <a:xfrm>
            <a:off x="2700360" y="4508640"/>
            <a:ext cx="2360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 x 2 jab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5464080" y="507060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1"/>
          <p:cNvSpPr/>
          <p:nvPr/>
        </p:nvSpPr>
        <p:spPr>
          <a:xfrm>
            <a:off x="6516720" y="514368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52"/>
          <p:cNvSpPr/>
          <p:nvPr/>
        </p:nvSpPr>
        <p:spPr>
          <a:xfrm>
            <a:off x="3191040" y="5819760"/>
            <a:ext cx="9349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3"/>
          <p:cNvSpPr/>
          <p:nvPr/>
        </p:nvSpPr>
        <p:spPr>
          <a:xfrm>
            <a:off x="6703920" y="5805360"/>
            <a:ext cx="4320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4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5" descr=""/>
          <p:cNvPicPr/>
          <p:nvPr/>
        </p:nvPicPr>
        <p:blipFill>
          <a:blip r:embed="rId2"/>
          <a:stretch/>
        </p:blipFill>
        <p:spPr>
          <a:xfrm>
            <a:off x="2239920" y="177336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6" descr=""/>
          <p:cNvPicPr/>
          <p:nvPr/>
        </p:nvPicPr>
        <p:blipFill>
          <a:blip r:embed="rId3"/>
          <a:stretch/>
        </p:blipFill>
        <p:spPr>
          <a:xfrm>
            <a:off x="3878280" y="148428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7" descr=""/>
          <p:cNvPicPr/>
          <p:nvPr/>
        </p:nvPicPr>
        <p:blipFill>
          <a:blip r:embed="rId4"/>
          <a:stretch/>
        </p:blipFill>
        <p:spPr>
          <a:xfrm>
            <a:off x="4641840" y="177336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8" descr=""/>
          <p:cNvPicPr/>
          <p:nvPr/>
        </p:nvPicPr>
        <p:blipFill>
          <a:blip r:embed="rId5"/>
          <a:stretch/>
        </p:blipFill>
        <p:spPr>
          <a:xfrm>
            <a:off x="6732720" y="127800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9" descr=""/>
          <p:cNvPicPr/>
          <p:nvPr/>
        </p:nvPicPr>
        <p:blipFill>
          <a:blip r:embed="rId6"/>
          <a:stretch/>
        </p:blipFill>
        <p:spPr>
          <a:xfrm>
            <a:off x="7496280" y="1566720"/>
            <a:ext cx="577800" cy="567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0" descr=""/>
          <p:cNvPicPr/>
          <p:nvPr/>
        </p:nvPicPr>
        <p:blipFill>
          <a:blip r:embed="rId7"/>
          <a:stretch/>
        </p:blipFill>
        <p:spPr>
          <a:xfrm>
            <a:off x="6372360" y="191628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1" descr=""/>
          <p:cNvPicPr/>
          <p:nvPr/>
        </p:nvPicPr>
        <p:blipFill>
          <a:blip r:embed="rId8"/>
          <a:stretch/>
        </p:blipFill>
        <p:spPr>
          <a:xfrm>
            <a:off x="7135920" y="220500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2" descr=""/>
          <p:cNvPicPr/>
          <p:nvPr/>
        </p:nvPicPr>
        <p:blipFill>
          <a:blip r:embed="rId9"/>
          <a:stretch/>
        </p:blipFill>
        <p:spPr>
          <a:xfrm>
            <a:off x="2239920" y="372600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3" descr=""/>
          <p:cNvPicPr/>
          <p:nvPr/>
        </p:nvPicPr>
        <p:blipFill>
          <a:blip r:embed="rId10"/>
          <a:stretch/>
        </p:blipFill>
        <p:spPr>
          <a:xfrm>
            <a:off x="4570560" y="372600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4" descr=""/>
          <p:cNvPicPr/>
          <p:nvPr/>
        </p:nvPicPr>
        <p:blipFill>
          <a:blip r:embed="rId11"/>
          <a:stretch/>
        </p:blipFill>
        <p:spPr>
          <a:xfrm>
            <a:off x="7089840" y="373068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5" descr=""/>
          <p:cNvPicPr/>
          <p:nvPr/>
        </p:nvPicPr>
        <p:blipFill>
          <a:blip r:embed="rId12"/>
          <a:stretch/>
        </p:blipFill>
        <p:spPr>
          <a:xfrm>
            <a:off x="3708360" y="516744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6" descr=""/>
          <p:cNvPicPr/>
          <p:nvPr/>
        </p:nvPicPr>
        <p:blipFill>
          <a:blip r:embed="rId13"/>
          <a:stretch/>
        </p:blipFill>
        <p:spPr>
          <a:xfrm>
            <a:off x="7093080" y="5094360"/>
            <a:ext cx="577800" cy="5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algebra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3017880" y="1181160"/>
            <a:ext cx="1482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.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4356000" y="119700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4960800" y="1181160"/>
            <a:ext cx="1195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2"/>
          <p:cNvSpPr/>
          <p:nvPr/>
        </p:nvSpPr>
        <p:spPr>
          <a:xfrm>
            <a:off x="3016080" y="1844640"/>
            <a:ext cx="1482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x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5"/>
          <p:cNvSpPr/>
          <p:nvPr/>
        </p:nvSpPr>
        <p:spPr>
          <a:xfrm>
            <a:off x="3419640" y="3645000"/>
            <a:ext cx="1482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.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6"/>
          <p:cNvSpPr/>
          <p:nvPr/>
        </p:nvSpPr>
        <p:spPr>
          <a:xfrm>
            <a:off x="4427640" y="366084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7"/>
          <p:cNvSpPr/>
          <p:nvPr/>
        </p:nvSpPr>
        <p:spPr>
          <a:xfrm>
            <a:off x="4973760" y="3645000"/>
            <a:ext cx="1195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8"/>
          <p:cNvSpPr/>
          <p:nvPr/>
        </p:nvSpPr>
        <p:spPr>
          <a:xfrm>
            <a:off x="5292720" y="2276640"/>
            <a:ext cx="3743280" cy="1512720"/>
          </a:xfrm>
          <a:prstGeom prst="cloudCallout">
            <a:avLst>
              <a:gd name="adj1" fmla="val -77564"/>
              <a:gd name="adj2" fmla="val -4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Komutativní zákon platí i při násobení výraz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9"/>
          <p:cNvSpPr/>
          <p:nvPr/>
        </p:nvSpPr>
        <p:spPr>
          <a:xfrm flipH="1">
            <a:off x="3276360" y="2349360"/>
            <a:ext cx="718920" cy="122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50"/>
          <p:cNvSpPr/>
          <p:nvPr/>
        </p:nvSpPr>
        <p:spPr>
          <a:xfrm>
            <a:off x="3348000" y="2349360"/>
            <a:ext cx="647640" cy="122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1"/>
          <p:cNvSpPr/>
          <p:nvPr/>
        </p:nvSpPr>
        <p:spPr>
          <a:xfrm>
            <a:off x="754200" y="4149720"/>
            <a:ext cx="8065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oužijte komutativní zákon a upravte výraz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1547640" y="4726080"/>
            <a:ext cx="1482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x.4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3"/>
          <p:cNvSpPr/>
          <p:nvPr/>
        </p:nvSpPr>
        <p:spPr>
          <a:xfrm>
            <a:off x="1547640" y="5084640"/>
            <a:ext cx="1482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5x.12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4"/>
          <p:cNvSpPr/>
          <p:nvPr/>
        </p:nvSpPr>
        <p:spPr>
          <a:xfrm>
            <a:off x="1547640" y="5445000"/>
            <a:ext cx="1482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0y.6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5"/>
          <p:cNvSpPr/>
          <p:nvPr/>
        </p:nvSpPr>
        <p:spPr>
          <a:xfrm>
            <a:off x="1547640" y="5862600"/>
            <a:ext cx="1482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0,5a.4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6"/>
          <p:cNvSpPr/>
          <p:nvPr/>
        </p:nvSpPr>
        <p:spPr>
          <a:xfrm>
            <a:off x="3032280" y="3645000"/>
            <a:ext cx="1482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algebra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5291280" y="192096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 rot="16200000">
            <a:off x="1812240" y="1969200"/>
            <a:ext cx="333360" cy="1728720"/>
          </a:xfrm>
          <a:custGeom>
            <a:avLst/>
            <a:gdLst>
              <a:gd name="textAreaLeft" fmla="*/ 213120 w 333360"/>
              <a:gd name="textAreaRight" fmla="*/ 333720 w 333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 rot="16200000">
            <a:off x="4304520" y="1968840"/>
            <a:ext cx="244440" cy="1729080"/>
          </a:xfrm>
          <a:custGeom>
            <a:avLst/>
            <a:gdLst>
              <a:gd name="textAreaLeft" fmla="*/ 156240 w 244440"/>
              <a:gd name="textAreaRight" fmla="*/ 244440 w 24444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2944800" y="314496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727360" y="576108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.(2x+3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1332000" y="308628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 jablka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3 hruš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3780000" y="3086280"/>
            <a:ext cx="1857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 jablka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3 hruš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5291280" y="314496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5867280" y="3144960"/>
            <a:ext cx="273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4 jablka a 6 hruš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5321160" y="577692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5867280" y="576108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x+6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6"/>
          <p:cNvSpPr/>
          <p:nvPr/>
        </p:nvSpPr>
        <p:spPr>
          <a:xfrm>
            <a:off x="2914560" y="170352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2"/>
          <p:cNvSpPr/>
          <p:nvPr/>
        </p:nvSpPr>
        <p:spPr>
          <a:xfrm rot="16200000">
            <a:off x="6827760" y="1794960"/>
            <a:ext cx="312840" cy="2665440"/>
          </a:xfrm>
          <a:custGeom>
            <a:avLst/>
            <a:gdLst>
              <a:gd name="textAreaLeft" fmla="*/ 199800 w 312840"/>
              <a:gd name="textAreaRight" fmla="*/ 313200 w 31284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3"/>
          <p:cNvSpPr/>
          <p:nvPr/>
        </p:nvSpPr>
        <p:spPr>
          <a:xfrm rot="16200000">
            <a:off x="3135960" y="1783080"/>
            <a:ext cx="333720" cy="3976920"/>
          </a:xfrm>
          <a:custGeom>
            <a:avLst/>
            <a:gdLst>
              <a:gd name="textAreaLeft" fmla="*/ 213120 w 333720"/>
              <a:gd name="textAreaRight" fmla="*/ 333720 w 333720"/>
              <a:gd name="textAreaTop" fmla="*/ 103680 h 3976920"/>
              <a:gd name="textAreaBottom" fmla="*/ 3873240 h 39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403280" y="4513320"/>
            <a:ext cx="38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.(2      +3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1849320" y="3936960"/>
            <a:ext cx="3657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 x 2 jablka a 3 hruš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5291280" y="452772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9"/>
          <p:cNvSpPr/>
          <p:nvPr/>
        </p:nvSpPr>
        <p:spPr>
          <a:xfrm>
            <a:off x="5738760" y="4570560"/>
            <a:ext cx="1928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     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52"/>
          <p:cNvSpPr/>
          <p:nvPr/>
        </p:nvSpPr>
        <p:spPr>
          <a:xfrm rot="18179400">
            <a:off x="2979720" y="5551200"/>
            <a:ext cx="577800" cy="56196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53"/>
          <p:cNvSpPr/>
          <p:nvPr/>
        </p:nvSpPr>
        <p:spPr>
          <a:xfrm rot="18179400">
            <a:off x="2956320" y="5229720"/>
            <a:ext cx="1292400" cy="129708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8" descr=""/>
          <p:cNvPicPr/>
          <p:nvPr/>
        </p:nvPicPr>
        <p:blipFill>
          <a:blip r:embed="rId1"/>
          <a:stretch/>
        </p:blipFill>
        <p:spPr>
          <a:xfrm>
            <a:off x="1135080" y="185904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9" descr=""/>
          <p:cNvPicPr/>
          <p:nvPr/>
        </p:nvPicPr>
        <p:blipFill>
          <a:blip r:embed="rId2"/>
          <a:stretch/>
        </p:blipFill>
        <p:spPr>
          <a:xfrm>
            <a:off x="1711440" y="198900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0" descr=""/>
          <p:cNvPicPr/>
          <p:nvPr/>
        </p:nvPicPr>
        <p:blipFill>
          <a:blip r:embed="rId3"/>
          <a:stretch/>
        </p:blipFill>
        <p:spPr>
          <a:xfrm>
            <a:off x="2340000" y="1916280"/>
            <a:ext cx="484200" cy="77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1" descr=""/>
          <p:cNvPicPr/>
          <p:nvPr/>
        </p:nvPicPr>
        <p:blipFill>
          <a:blip r:embed="rId4"/>
          <a:stretch/>
        </p:blipFill>
        <p:spPr>
          <a:xfrm>
            <a:off x="1185840" y="1268280"/>
            <a:ext cx="577800" cy="567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2" descr=""/>
          <p:cNvPicPr/>
          <p:nvPr/>
        </p:nvPicPr>
        <p:blipFill>
          <a:blip r:embed="rId5"/>
          <a:stretch/>
        </p:blipFill>
        <p:spPr>
          <a:xfrm>
            <a:off x="1833480" y="142236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3" descr=""/>
          <p:cNvPicPr/>
          <p:nvPr/>
        </p:nvPicPr>
        <p:blipFill>
          <a:blip r:embed="rId6"/>
          <a:stretch/>
        </p:blipFill>
        <p:spPr>
          <a:xfrm>
            <a:off x="3606840" y="185904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4" descr=""/>
          <p:cNvPicPr/>
          <p:nvPr/>
        </p:nvPicPr>
        <p:blipFill>
          <a:blip r:embed="rId7"/>
          <a:stretch/>
        </p:blipFill>
        <p:spPr>
          <a:xfrm>
            <a:off x="4183200" y="198900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5" descr=""/>
          <p:cNvPicPr/>
          <p:nvPr/>
        </p:nvPicPr>
        <p:blipFill>
          <a:blip r:embed="rId8"/>
          <a:stretch/>
        </p:blipFill>
        <p:spPr>
          <a:xfrm>
            <a:off x="4811760" y="1916280"/>
            <a:ext cx="484200" cy="774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6" descr=""/>
          <p:cNvPicPr/>
          <p:nvPr/>
        </p:nvPicPr>
        <p:blipFill>
          <a:blip r:embed="rId9"/>
          <a:stretch/>
        </p:blipFill>
        <p:spPr>
          <a:xfrm>
            <a:off x="3657600" y="1268280"/>
            <a:ext cx="577800" cy="567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7" descr=""/>
          <p:cNvPicPr/>
          <p:nvPr/>
        </p:nvPicPr>
        <p:blipFill>
          <a:blip r:embed="rId10"/>
          <a:stretch/>
        </p:blipFill>
        <p:spPr>
          <a:xfrm>
            <a:off x="4305240" y="142236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8" descr=""/>
          <p:cNvPicPr/>
          <p:nvPr/>
        </p:nvPicPr>
        <p:blipFill>
          <a:blip r:embed="rId11"/>
          <a:stretch/>
        </p:blipFill>
        <p:spPr>
          <a:xfrm>
            <a:off x="5724360" y="1916280"/>
            <a:ext cx="484200" cy="77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9" descr=""/>
          <p:cNvPicPr/>
          <p:nvPr/>
        </p:nvPicPr>
        <p:blipFill>
          <a:blip r:embed="rId12"/>
          <a:stretch/>
        </p:blipFill>
        <p:spPr>
          <a:xfrm>
            <a:off x="6227640" y="2276640"/>
            <a:ext cx="484200" cy="77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0" descr=""/>
          <p:cNvPicPr/>
          <p:nvPr/>
        </p:nvPicPr>
        <p:blipFill>
          <a:blip r:embed="rId13"/>
          <a:stretch/>
        </p:blipFill>
        <p:spPr>
          <a:xfrm>
            <a:off x="7112160" y="229392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1" descr=""/>
          <p:cNvPicPr/>
          <p:nvPr/>
        </p:nvPicPr>
        <p:blipFill>
          <a:blip r:embed="rId14"/>
          <a:stretch/>
        </p:blipFill>
        <p:spPr>
          <a:xfrm>
            <a:off x="5940360" y="1268280"/>
            <a:ext cx="577800" cy="567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2" descr=""/>
          <p:cNvPicPr/>
          <p:nvPr/>
        </p:nvPicPr>
        <p:blipFill>
          <a:blip r:embed="rId15"/>
          <a:stretch/>
        </p:blipFill>
        <p:spPr>
          <a:xfrm>
            <a:off x="6372360" y="177336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3" descr=""/>
          <p:cNvPicPr/>
          <p:nvPr/>
        </p:nvPicPr>
        <p:blipFill>
          <a:blip r:embed="rId16"/>
          <a:stretch/>
        </p:blipFill>
        <p:spPr>
          <a:xfrm>
            <a:off x="6804000" y="105264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4" descr=""/>
          <p:cNvPicPr/>
          <p:nvPr/>
        </p:nvPicPr>
        <p:blipFill>
          <a:blip r:embed="rId17"/>
          <a:stretch/>
        </p:blipFill>
        <p:spPr>
          <a:xfrm>
            <a:off x="7759800" y="222264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5" descr=""/>
          <p:cNvPicPr/>
          <p:nvPr/>
        </p:nvPicPr>
        <p:blipFill>
          <a:blip r:embed="rId18"/>
          <a:stretch/>
        </p:blipFill>
        <p:spPr>
          <a:xfrm>
            <a:off x="7975440" y="148428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6" descr=""/>
          <p:cNvPicPr/>
          <p:nvPr/>
        </p:nvPicPr>
        <p:blipFill>
          <a:blip r:embed="rId19"/>
          <a:stretch/>
        </p:blipFill>
        <p:spPr>
          <a:xfrm>
            <a:off x="7308720" y="1700280"/>
            <a:ext cx="578160" cy="566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7" descr=""/>
          <p:cNvPicPr/>
          <p:nvPr/>
        </p:nvPicPr>
        <p:blipFill>
          <a:blip r:embed="rId20"/>
          <a:stretch/>
        </p:blipFill>
        <p:spPr>
          <a:xfrm>
            <a:off x="7431120" y="105264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8" descr=""/>
          <p:cNvPicPr/>
          <p:nvPr/>
        </p:nvPicPr>
        <p:blipFill>
          <a:blip r:embed="rId21"/>
          <a:stretch/>
        </p:blipFill>
        <p:spPr>
          <a:xfrm>
            <a:off x="2625840" y="443700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9" descr=""/>
          <p:cNvPicPr/>
          <p:nvPr/>
        </p:nvPicPr>
        <p:blipFill>
          <a:blip r:embed="rId22"/>
          <a:stretch/>
        </p:blipFill>
        <p:spPr>
          <a:xfrm>
            <a:off x="6227640" y="449424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0" descr=""/>
          <p:cNvPicPr/>
          <p:nvPr/>
        </p:nvPicPr>
        <p:blipFill>
          <a:blip r:embed="rId23"/>
          <a:stretch/>
        </p:blipFill>
        <p:spPr>
          <a:xfrm>
            <a:off x="4211640" y="429264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1" descr=""/>
          <p:cNvPicPr/>
          <p:nvPr/>
        </p:nvPicPr>
        <p:blipFill>
          <a:blip r:embed="rId24"/>
          <a:stretch/>
        </p:blipFill>
        <p:spPr>
          <a:xfrm>
            <a:off x="7616880" y="4322880"/>
            <a:ext cx="48420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algebra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403280" y="417348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.(2 + 3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4226040" y="4173480"/>
            <a:ext cx="21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8 + 1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rc 7"/>
          <p:cNvSpPr/>
          <p:nvPr/>
        </p:nvSpPr>
        <p:spPr>
          <a:xfrm rot="18179400">
            <a:off x="1655640" y="3963600"/>
            <a:ext cx="577800" cy="56196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8"/>
          <p:cNvSpPr/>
          <p:nvPr/>
        </p:nvSpPr>
        <p:spPr>
          <a:xfrm rot="18179400">
            <a:off x="1632960" y="3642120"/>
            <a:ext cx="1292040" cy="129708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900000" y="1197000"/>
            <a:ext cx="741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Ověřme si platnost vyvozeného tvrzení i na číselném výraz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1403280" y="2133720"/>
            <a:ext cx="3140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.(2 + 3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4095720" y="2133720"/>
            <a:ext cx="1844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.5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5435640" y="2133720"/>
            <a:ext cx="1844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6"/>
          <p:cNvSpPr/>
          <p:nvPr/>
        </p:nvSpPr>
        <p:spPr>
          <a:xfrm>
            <a:off x="5292720" y="2637000"/>
            <a:ext cx="3743280" cy="1439640"/>
          </a:xfrm>
          <a:prstGeom prst="cloudCallout">
            <a:avLst>
              <a:gd name="adj1" fmla="val -94995"/>
              <a:gd name="adj2" fmla="val -50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ejdříve vyřešme příklad standardně, tedy tak, že první vypočítáme závor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7"/>
          <p:cNvSpPr/>
          <p:nvPr/>
        </p:nvSpPr>
        <p:spPr>
          <a:xfrm>
            <a:off x="5292720" y="4726080"/>
            <a:ext cx="3743280" cy="1439640"/>
          </a:xfrm>
          <a:prstGeom prst="cloudCallout">
            <a:avLst>
              <a:gd name="adj1" fmla="val -94995"/>
              <a:gd name="adj2" fmla="val -50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nyní použijeme na minulém slidu odvozený postup roznásobení závor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8"/>
          <p:cNvSpPr/>
          <p:nvPr/>
        </p:nvSpPr>
        <p:spPr>
          <a:xfrm>
            <a:off x="6372360" y="4164120"/>
            <a:ext cx="21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algebra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26920" y="158112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.(2 + 3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506760" y="1581120"/>
            <a:ext cx="2793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.2+4.3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rc 6"/>
          <p:cNvSpPr/>
          <p:nvPr/>
        </p:nvSpPr>
        <p:spPr>
          <a:xfrm rot="18179400">
            <a:off x="1079640" y="1371240"/>
            <a:ext cx="577800" cy="56196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7"/>
          <p:cNvSpPr/>
          <p:nvPr/>
        </p:nvSpPr>
        <p:spPr>
          <a:xfrm rot="18179400">
            <a:off x="1056600" y="1049760"/>
            <a:ext cx="1292040" cy="129708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900000" y="5516640"/>
            <a:ext cx="741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rebuchet MS"/>
              </a:rPr>
              <a:t>Uvedený postup roznásobení závorky se nazývá distributivní zák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5954760" y="1585800"/>
            <a:ext cx="2073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8+1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7683480" y="1585800"/>
            <a:ext cx="849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826920" y="259380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(2 + 3).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3506760" y="2593800"/>
            <a:ext cx="2793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.4+3.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19"/>
          <p:cNvSpPr/>
          <p:nvPr/>
        </p:nvSpPr>
        <p:spPr>
          <a:xfrm rot="18179400">
            <a:off x="2130480" y="2383920"/>
            <a:ext cx="577800" cy="56196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rc 20"/>
          <p:cNvSpPr/>
          <p:nvPr/>
        </p:nvSpPr>
        <p:spPr>
          <a:xfrm rot="18179400">
            <a:off x="1272240" y="2048400"/>
            <a:ext cx="1292400" cy="129708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1"/>
          <p:cNvSpPr/>
          <p:nvPr/>
        </p:nvSpPr>
        <p:spPr>
          <a:xfrm>
            <a:off x="5954760" y="2598840"/>
            <a:ext cx="207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8+1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2"/>
          <p:cNvSpPr/>
          <p:nvPr/>
        </p:nvSpPr>
        <p:spPr>
          <a:xfrm>
            <a:off x="7683480" y="2598840"/>
            <a:ext cx="849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1763640" y="3718080"/>
            <a:ext cx="56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rebuchet MS"/>
              </a:rPr>
              <a:t>a.(b + c) = a.b + a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"/>
          <p:cNvSpPr/>
          <p:nvPr/>
        </p:nvSpPr>
        <p:spPr>
          <a:xfrm>
            <a:off x="1763640" y="4437000"/>
            <a:ext cx="568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Trebuchet MS"/>
              </a:rPr>
              <a:t>(a + b).c = a.c + b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algebra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2195640" y="144144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2.(2x+3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4789440" y="1457280"/>
            <a:ext cx="5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5335560" y="144144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4x+6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rc 42"/>
          <p:cNvSpPr/>
          <p:nvPr/>
        </p:nvSpPr>
        <p:spPr>
          <a:xfrm rot="18179400">
            <a:off x="2448000" y="1231560"/>
            <a:ext cx="577800" cy="56196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rc 43"/>
          <p:cNvSpPr/>
          <p:nvPr/>
        </p:nvSpPr>
        <p:spPr>
          <a:xfrm rot="18179400">
            <a:off x="2424960" y="910080"/>
            <a:ext cx="1292040" cy="129708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8"/>
          <p:cNvSpPr/>
          <p:nvPr/>
        </p:nvSpPr>
        <p:spPr>
          <a:xfrm>
            <a:off x="900000" y="220500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Mnohočlen násobíme tak, že vynásobíme postupně všechny jeho čle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0"/>
          <p:cNvSpPr/>
          <p:nvPr/>
        </p:nvSpPr>
        <p:spPr>
          <a:xfrm>
            <a:off x="1042920" y="3649680"/>
            <a:ext cx="388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3.(1-2x+3y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rc 51"/>
          <p:cNvSpPr/>
          <p:nvPr/>
        </p:nvSpPr>
        <p:spPr>
          <a:xfrm rot="18179400">
            <a:off x="1270080" y="3392280"/>
            <a:ext cx="577800" cy="56196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rc 52"/>
          <p:cNvSpPr/>
          <p:nvPr/>
        </p:nvSpPr>
        <p:spPr>
          <a:xfrm rot="18179400">
            <a:off x="1331280" y="3116520"/>
            <a:ext cx="1009440" cy="114480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rc 53"/>
          <p:cNvSpPr/>
          <p:nvPr/>
        </p:nvSpPr>
        <p:spPr>
          <a:xfrm rot="18179400">
            <a:off x="1368360" y="2770560"/>
            <a:ext cx="1666800" cy="188892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4"/>
          <p:cNvSpPr/>
          <p:nvPr/>
        </p:nvSpPr>
        <p:spPr>
          <a:xfrm>
            <a:off x="4370400" y="3645000"/>
            <a:ext cx="42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3.1-3.2x+3.3y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5"/>
          <p:cNvSpPr/>
          <p:nvPr/>
        </p:nvSpPr>
        <p:spPr>
          <a:xfrm>
            <a:off x="3995640" y="4149720"/>
            <a:ext cx="388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 3-6x+9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6"/>
          <p:cNvSpPr/>
          <p:nvPr/>
        </p:nvSpPr>
        <p:spPr>
          <a:xfrm>
            <a:off x="1042920" y="5189400"/>
            <a:ext cx="388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(1-2x+3y).3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57"/>
          <p:cNvSpPr/>
          <p:nvPr/>
        </p:nvSpPr>
        <p:spPr>
          <a:xfrm rot="18179400">
            <a:off x="3122640" y="4932000"/>
            <a:ext cx="577800" cy="56196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58"/>
          <p:cNvSpPr/>
          <p:nvPr/>
        </p:nvSpPr>
        <p:spPr>
          <a:xfrm rot="17884200">
            <a:off x="2278080" y="4556160"/>
            <a:ext cx="1238400" cy="140328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c 59"/>
          <p:cNvSpPr/>
          <p:nvPr/>
        </p:nvSpPr>
        <p:spPr>
          <a:xfrm rot="17757000">
            <a:off x="1609920" y="4289040"/>
            <a:ext cx="1787400" cy="202572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0"/>
          <p:cNvSpPr/>
          <p:nvPr/>
        </p:nvSpPr>
        <p:spPr>
          <a:xfrm>
            <a:off x="4370400" y="5184720"/>
            <a:ext cx="42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3.1-3.2x+3.3y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1"/>
          <p:cNvSpPr/>
          <p:nvPr/>
        </p:nvSpPr>
        <p:spPr>
          <a:xfrm>
            <a:off x="3995640" y="5689440"/>
            <a:ext cx="388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 3-6x+9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6537240" y="6107040"/>
            <a:ext cx="226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kontrol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639720" y="90792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3.5x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639720" y="134136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10.2y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654120" y="177336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2a.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654120" y="223344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x.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641520" y="269568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12.(-2x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668160" y="3141720"/>
            <a:ext cx="3140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8.(-6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2"/>
          <p:cNvSpPr/>
          <p:nvPr/>
        </p:nvSpPr>
        <p:spPr>
          <a:xfrm>
            <a:off x="655560" y="357336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4.(-6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684360" y="400536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2a.(-9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4"/>
          <p:cNvSpPr/>
          <p:nvPr/>
        </p:nvSpPr>
        <p:spPr>
          <a:xfrm>
            <a:off x="684360" y="443700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-y).(-5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5"/>
          <p:cNvSpPr/>
          <p:nvPr/>
        </p:nvSpPr>
        <p:spPr>
          <a:xfrm>
            <a:off x="684360" y="486900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7.3.x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6"/>
          <p:cNvSpPr/>
          <p:nvPr/>
        </p:nvSpPr>
        <p:spPr>
          <a:xfrm>
            <a:off x="684360" y="530208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4.(-a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7"/>
          <p:cNvSpPr/>
          <p:nvPr/>
        </p:nvSpPr>
        <p:spPr>
          <a:xfrm>
            <a:off x="684360" y="573408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5x.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639720" y="907920"/>
            <a:ext cx="175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3.5x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639720" y="1341360"/>
            <a:ext cx="175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10.2y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654120" y="1773360"/>
            <a:ext cx="175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2a.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654120" y="2233440"/>
            <a:ext cx="175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x.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641520" y="2695680"/>
            <a:ext cx="175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12.(-2x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668160" y="3141720"/>
            <a:ext cx="1757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8.(-6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655560" y="3573360"/>
            <a:ext cx="175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4.(-6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684360" y="4005360"/>
            <a:ext cx="175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2a.(-9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684360" y="4437000"/>
            <a:ext cx="175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-y).(-5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684360" y="4869000"/>
            <a:ext cx="175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7.3.x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684360" y="5302080"/>
            <a:ext cx="175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4.(-a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684360" y="5734080"/>
            <a:ext cx="175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5x.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7710480" y="907920"/>
            <a:ext cx="1138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1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7710480" y="1341360"/>
            <a:ext cx="1138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0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7724880" y="1773360"/>
            <a:ext cx="1137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1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7724880" y="2233440"/>
            <a:ext cx="1137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7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2"/>
          <p:cNvSpPr/>
          <p:nvPr/>
        </p:nvSpPr>
        <p:spPr>
          <a:xfrm>
            <a:off x="7711920" y="2695680"/>
            <a:ext cx="1138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7738920" y="3141720"/>
            <a:ext cx="1138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48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4"/>
          <p:cNvSpPr/>
          <p:nvPr/>
        </p:nvSpPr>
        <p:spPr>
          <a:xfrm>
            <a:off x="7726320" y="3573360"/>
            <a:ext cx="1138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7754760" y="4005360"/>
            <a:ext cx="1138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1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6"/>
          <p:cNvSpPr/>
          <p:nvPr/>
        </p:nvSpPr>
        <p:spPr>
          <a:xfrm>
            <a:off x="7754760" y="4437000"/>
            <a:ext cx="1138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5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7"/>
          <p:cNvSpPr/>
          <p:nvPr/>
        </p:nvSpPr>
        <p:spPr>
          <a:xfrm>
            <a:off x="7754760" y="4869000"/>
            <a:ext cx="1138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2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8"/>
          <p:cNvSpPr/>
          <p:nvPr/>
        </p:nvSpPr>
        <p:spPr>
          <a:xfrm>
            <a:off x="7754760" y="5302080"/>
            <a:ext cx="1138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9"/>
          <p:cNvSpPr/>
          <p:nvPr/>
        </p:nvSpPr>
        <p:spPr>
          <a:xfrm>
            <a:off x="7754760" y="5734080"/>
            <a:ext cx="1138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6537240" y="6107040"/>
            <a:ext cx="226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kontrol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639720" y="90792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3.(2x+4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639720" y="134136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10.(-6+4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654120" y="177336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2a-3).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654120" y="223344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6+x).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641520" y="269568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2.(1+2x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7"/>
          <p:cNvSpPr/>
          <p:nvPr/>
        </p:nvSpPr>
        <p:spPr>
          <a:xfrm>
            <a:off x="668160" y="3141720"/>
            <a:ext cx="3140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8.(y-1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655560" y="357336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4.(3y-12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684360" y="400536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4-2a).(-3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0"/>
          <p:cNvSpPr/>
          <p:nvPr/>
        </p:nvSpPr>
        <p:spPr>
          <a:xfrm>
            <a:off x="684360" y="443700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x-y).(-5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684360" y="486900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7.(3x-2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84360" y="530208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4.(-a-5b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84360" y="573408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-2x+3y).4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opakování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2995560" y="1558800"/>
                <a:ext cx="33051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Rectangle 8"/>
          <p:cNvSpPr/>
          <p:nvPr/>
        </p:nvSpPr>
        <p:spPr>
          <a:xfrm>
            <a:off x="1042920" y="393372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činit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411280" y="2567160"/>
            <a:ext cx="792360" cy="1295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 flipH="1" flipV="1">
            <a:off x="4427280" y="2566800"/>
            <a:ext cx="73080" cy="122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98480" y="4869000"/>
            <a:ext cx="75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násobení </a:t>
            </a: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souč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3059280" y="3933720"/>
            <a:ext cx="2606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.   čin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5435640" y="3933720"/>
            <a:ext cx="2319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   sou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 flipV="1">
            <a:off x="5938560" y="2567160"/>
            <a:ext cx="793800" cy="1295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755640" y="5589720"/>
            <a:ext cx="777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rebuchet MS"/>
              </a:rPr>
              <a:t>Znamená zvětšení ve smyslu … kolikrát více!</a:t>
            </a:r>
            <a:br>
              <a:rPr sz="2800"/>
            </a:b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(na rozdíl od … o kolik více … kde jde o sčítání, tzn. souč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639720" y="907920"/>
            <a:ext cx="2103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3.(2x+4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639720" y="1341360"/>
            <a:ext cx="2103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10.(-6+4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654120" y="1773360"/>
            <a:ext cx="2103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2a-3).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654120" y="2233440"/>
            <a:ext cx="2103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6+x).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641520" y="2695680"/>
            <a:ext cx="210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2.(1+2x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668160" y="3141720"/>
            <a:ext cx="2103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8.(y-1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655560" y="3573360"/>
            <a:ext cx="2103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4.(3y-12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84360" y="4005360"/>
            <a:ext cx="210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4-2a).(-3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684360" y="4437000"/>
            <a:ext cx="2103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x-y).(-5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684360" y="4869000"/>
            <a:ext cx="210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7.(3x-2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684360" y="5302080"/>
            <a:ext cx="2103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4.(-a-5b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84360" y="5734080"/>
            <a:ext cx="210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(-2x+3y).4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8"/>
          <p:cNvSpPr/>
          <p:nvPr/>
        </p:nvSpPr>
        <p:spPr>
          <a:xfrm>
            <a:off x="7236000" y="907920"/>
            <a:ext cx="1469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6x+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9"/>
          <p:cNvSpPr/>
          <p:nvPr/>
        </p:nvSpPr>
        <p:spPr>
          <a:xfrm>
            <a:off x="7236000" y="1341360"/>
            <a:ext cx="1469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60+40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0"/>
          <p:cNvSpPr/>
          <p:nvPr/>
        </p:nvSpPr>
        <p:spPr>
          <a:xfrm>
            <a:off x="7250040" y="1773360"/>
            <a:ext cx="1470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10a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1"/>
          <p:cNvSpPr/>
          <p:nvPr/>
        </p:nvSpPr>
        <p:spPr>
          <a:xfrm>
            <a:off x="7250040" y="2233440"/>
            <a:ext cx="147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42+7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2"/>
          <p:cNvSpPr/>
          <p:nvPr/>
        </p:nvSpPr>
        <p:spPr>
          <a:xfrm>
            <a:off x="7237440" y="2695680"/>
            <a:ext cx="146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-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3"/>
          <p:cNvSpPr/>
          <p:nvPr/>
        </p:nvSpPr>
        <p:spPr>
          <a:xfrm>
            <a:off x="7264440" y="3141720"/>
            <a:ext cx="146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8y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4"/>
          <p:cNvSpPr/>
          <p:nvPr/>
        </p:nvSpPr>
        <p:spPr>
          <a:xfrm>
            <a:off x="7251840" y="3573360"/>
            <a:ext cx="1469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12y-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5"/>
          <p:cNvSpPr/>
          <p:nvPr/>
        </p:nvSpPr>
        <p:spPr>
          <a:xfrm>
            <a:off x="7280280" y="4005360"/>
            <a:ext cx="146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12+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6"/>
          <p:cNvSpPr/>
          <p:nvPr/>
        </p:nvSpPr>
        <p:spPr>
          <a:xfrm>
            <a:off x="7280280" y="4437000"/>
            <a:ext cx="1469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5x+5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7"/>
          <p:cNvSpPr/>
          <p:nvPr/>
        </p:nvSpPr>
        <p:spPr>
          <a:xfrm>
            <a:off x="7280280" y="4869000"/>
            <a:ext cx="146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21x-1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8"/>
          <p:cNvSpPr/>
          <p:nvPr/>
        </p:nvSpPr>
        <p:spPr>
          <a:xfrm>
            <a:off x="7280280" y="5302080"/>
            <a:ext cx="1469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4a+20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9"/>
          <p:cNvSpPr/>
          <p:nvPr/>
        </p:nvSpPr>
        <p:spPr>
          <a:xfrm>
            <a:off x="7280280" y="5734080"/>
            <a:ext cx="146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8x+12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opakování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995560" y="1054080"/>
                <a:ext cx="33051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Line 7"/>
          <p:cNvSpPr/>
          <p:nvPr/>
        </p:nvSpPr>
        <p:spPr>
          <a:xfrm flipV="1">
            <a:off x="4427640" y="2133720"/>
            <a:ext cx="0" cy="287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84360" y="2852640"/>
            <a:ext cx="78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Násobíme-li jakékoliv číslo nulou, </a:t>
            </a:r>
            <a:br>
              <a:rPr sz="3200"/>
            </a:b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výsledek je vždy roven nule! </a:t>
            </a:r>
            <a:br>
              <a:rPr sz="32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Při násobení nulou je výsledek nula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754200" y="3860640"/>
            <a:ext cx="806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veď pár příkladů a ověř plat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opakování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076560" y="1054080"/>
                <a:ext cx="31431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Line 5"/>
          <p:cNvSpPr/>
          <p:nvPr/>
        </p:nvSpPr>
        <p:spPr>
          <a:xfrm flipV="1">
            <a:off x="4356000" y="2133720"/>
            <a:ext cx="0" cy="287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2925720"/>
            <a:ext cx="78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Násobíme-li jakékoliv číslo jedničkou, </a:t>
            </a:r>
            <a:br>
              <a:rPr sz="3200"/>
            </a:b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výsledek je vždy roven danému číslu!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Při násobení jedničkou se číslo nemění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54200" y="3860640"/>
            <a:ext cx="806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veď pár příkladů a ověř plat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Násobení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opakování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2511360" y="1052640"/>
                <a:ext cx="42735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Line 7"/>
          <p:cNvSpPr/>
          <p:nvPr/>
        </p:nvSpPr>
        <p:spPr>
          <a:xfrm flipV="1">
            <a:off x="4500720" y="2058840"/>
            <a:ext cx="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09480" y="2851200"/>
            <a:ext cx="806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Komutativní zákon – zákon o záměně činitel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754200" y="3357720"/>
            <a:ext cx="8065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veď pár příkladů a ověř plat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opakování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28720" y="1125360"/>
            <a:ext cx="727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předpis jedné nebo více matematických operací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sčítání, odčítání, násobení, dělení, umocňování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900000" y="5227560"/>
            <a:ext cx="7632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předpis, který obsahuje blíže neurčené znaky (a; b; c; v; z1; z2; Q; m; t… – mohou to být konstanty či proměnné a nemusíme znát ani jejich hodnotu), čísla a matematické operátory (sčítání, odčítání, násobení, dělení, umocňování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3"/>
              <p:cNvSpPr txBox="1"/>
              <p:nvPr/>
            </p:nvSpPr>
            <p:spPr>
              <a:xfrm>
                <a:off x="1403280" y="2205000"/>
                <a:ext cx="1800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5"/>
              <p:cNvSpPr txBox="1"/>
              <p:nvPr/>
            </p:nvSpPr>
            <p:spPr>
              <a:xfrm>
                <a:off x="6227640" y="2349360"/>
                <a:ext cx="14479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6"/>
              <p:cNvSpPr txBox="1"/>
              <p:nvPr/>
            </p:nvSpPr>
            <p:spPr>
              <a:xfrm>
                <a:off x="4067280" y="2924280"/>
                <a:ext cx="18777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7"/>
              <p:cNvSpPr txBox="1"/>
              <p:nvPr/>
            </p:nvSpPr>
            <p:spPr>
              <a:xfrm>
                <a:off x="1403280" y="3429000"/>
                <a:ext cx="23083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28"/>
              <p:cNvSpPr txBox="1"/>
              <p:nvPr/>
            </p:nvSpPr>
            <p:spPr>
              <a:xfrm>
                <a:off x="5724360" y="3500280"/>
                <a:ext cx="211320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AutoShape 29"/>
          <p:cNvSpPr/>
          <p:nvPr/>
        </p:nvSpPr>
        <p:spPr>
          <a:xfrm>
            <a:off x="5857920" y="4714920"/>
            <a:ext cx="2362320" cy="1576440"/>
          </a:xfrm>
          <a:prstGeom prst="cloudCallout">
            <a:avLst>
              <a:gd name="adj1" fmla="val -80856"/>
              <a:gd name="adj2" fmla="val -57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Výraz známe jako část vzorce pro výpočet obvodu trojúhelní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971640" y="177336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Připomínají Vám něco následující výrazy? Které matematické operace obsahu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1"/>
          <p:cNvSpPr/>
          <p:nvPr/>
        </p:nvSpPr>
        <p:spPr>
          <a:xfrm>
            <a:off x="1000080" y="2286000"/>
            <a:ext cx="2428920" cy="1285920"/>
          </a:xfrm>
          <a:prstGeom prst="cloudCallout">
            <a:avLst>
              <a:gd name="adj1" fmla="val 97041"/>
              <a:gd name="adj2" fmla="val -60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Výraz známe jako část vzorce pro výpočet objemu kvád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2"/>
          <p:cNvSpPr/>
          <p:nvPr/>
        </p:nvSpPr>
        <p:spPr>
          <a:xfrm>
            <a:off x="714240" y="4000680"/>
            <a:ext cx="2428920" cy="1500120"/>
          </a:xfrm>
          <a:prstGeom prst="cloudCallout">
            <a:avLst>
              <a:gd name="adj1" fmla="val 75291"/>
              <a:gd name="adj2" fmla="val -72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Výraz známe jako část vzorce pro výpočet obvodu čtver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3"/>
          <p:cNvSpPr/>
          <p:nvPr/>
        </p:nvSpPr>
        <p:spPr>
          <a:xfrm>
            <a:off x="6500880" y="1928880"/>
            <a:ext cx="2214360" cy="1571400"/>
          </a:xfrm>
          <a:prstGeom prst="cloudCallout">
            <a:avLst>
              <a:gd name="adj1" fmla="val -103712"/>
              <a:gd name="adj2" fmla="val -37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Výraz je částí vzorce pro výpočet obsahu lichoběžní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4"/>
          <p:cNvSpPr/>
          <p:nvPr/>
        </p:nvSpPr>
        <p:spPr>
          <a:xfrm>
            <a:off x="3357720" y="3643200"/>
            <a:ext cx="2357280" cy="1571760"/>
          </a:xfrm>
          <a:prstGeom prst="cloudCallout">
            <a:avLst>
              <a:gd name="adj1" fmla="val 95592"/>
              <a:gd name="adj2" fmla="val -53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Výraz je částí vzorce pro výpočet měrné tepelné kapa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opakování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84080" y="11826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ápis algebraick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5"/>
              <p:cNvSpPr txBox="1"/>
              <p:nvPr/>
            </p:nvSpPr>
            <p:spPr>
              <a:xfrm>
                <a:off x="2771640" y="2205000"/>
                <a:ext cx="10861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219640" y="2565360"/>
                <a:ext cx="976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Line 7"/>
          <p:cNvSpPr/>
          <p:nvPr/>
        </p:nvSpPr>
        <p:spPr>
          <a:xfrm>
            <a:off x="826920" y="1773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389240" y="4292640"/>
            <a:ext cx="671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Proč jednou píšeme znak operace násobení a jednou 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2700360" y="2997000"/>
            <a:ext cx="503280" cy="122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 flipH="1" flipV="1">
            <a:off x="5940000" y="3141720"/>
            <a:ext cx="1368360" cy="107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826920" y="5300640"/>
            <a:ext cx="756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Operátor píšeme tam, kde je to nezbytně nutné, </a:t>
            </a:r>
            <a:br>
              <a:rPr sz="36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bo pro větší přehl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 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– opakování poj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84080" y="11826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ápis algebraick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1258920" y="4724280"/>
                <a:ext cx="9190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Line 7"/>
          <p:cNvSpPr/>
          <p:nvPr/>
        </p:nvSpPr>
        <p:spPr>
          <a:xfrm>
            <a:off x="826920" y="1773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3708360" y="5560920"/>
            <a:ext cx="1871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a rozdíl 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826920" y="2349360"/>
            <a:ext cx="756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Operátor píšeme tam, kde je to nezbytně nutné, </a:t>
            </a:r>
            <a:br>
              <a:rPr sz="36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bo pro větší přehl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4"/>
              <p:cNvSpPr txBox="1"/>
              <p:nvPr/>
            </p:nvSpPr>
            <p:spPr>
              <a:xfrm>
                <a:off x="5651640" y="4724280"/>
                <a:ext cx="110160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AutoShape 17"/>
          <p:cNvSpPr/>
          <p:nvPr/>
        </p:nvSpPr>
        <p:spPr>
          <a:xfrm>
            <a:off x="826920" y="2997360"/>
            <a:ext cx="2016360" cy="1152360"/>
          </a:xfrm>
          <a:prstGeom prst="cloudCallout">
            <a:avLst>
              <a:gd name="adj1" fmla="val -10314"/>
              <a:gd name="adj2" fmla="val 1168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Smíšené čí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"/>
          <p:cNvSpPr/>
          <p:nvPr/>
        </p:nvSpPr>
        <p:spPr>
          <a:xfrm>
            <a:off x="6213600" y="2967120"/>
            <a:ext cx="2174760" cy="1325520"/>
          </a:xfrm>
          <a:prstGeom prst="cloudCallout">
            <a:avLst>
              <a:gd name="adj1" fmla="val -55111"/>
              <a:gd name="adj2" fmla="val 101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Násobení celého čísla a zlom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9"/>
              <p:cNvSpPr txBox="1"/>
              <p:nvPr/>
            </p:nvSpPr>
            <p:spPr>
              <a:xfrm>
                <a:off x="2268360" y="4724280"/>
                <a:ext cx="963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6877080" y="4724280"/>
                <a:ext cx="963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84080" y="9810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ápis algebraick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087720" y="191772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 rot="16200000">
            <a:off x="1685160" y="1794600"/>
            <a:ext cx="333360" cy="1728720"/>
          </a:xfrm>
          <a:custGeom>
            <a:avLst/>
            <a:gdLst>
              <a:gd name="textAreaLeft" fmla="*/ 213120 w 333360"/>
              <a:gd name="textAreaRight" fmla="*/ 333720 w 333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2"/>
          <p:cNvSpPr/>
          <p:nvPr/>
        </p:nvSpPr>
        <p:spPr>
          <a:xfrm rot="16200000">
            <a:off x="4752000" y="1794240"/>
            <a:ext cx="244440" cy="1728720"/>
          </a:xfrm>
          <a:custGeom>
            <a:avLst/>
            <a:gdLst>
              <a:gd name="textAreaLeft" fmla="*/ 156240 w 244440"/>
              <a:gd name="textAreaRight" fmla="*/ 244440 w 2444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1241280" y="381636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3089160" y="2852640"/>
            <a:ext cx="5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3089160" y="3745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1"/>
          <p:cNvSpPr/>
          <p:nvPr/>
        </p:nvSpPr>
        <p:spPr>
          <a:xfrm>
            <a:off x="4081320" y="381636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1951200" y="4479840"/>
            <a:ext cx="1195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1.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3116160" y="4494240"/>
            <a:ext cx="871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4356000" y="4479840"/>
            <a:ext cx="1195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1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1965240" y="5156280"/>
            <a:ext cx="1195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1.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3130560" y="5170320"/>
            <a:ext cx="871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1203480" y="2881440"/>
            <a:ext cx="2360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 x jabl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4010040" y="2881440"/>
            <a:ext cx="1857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edno jabl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3851280" y="5084640"/>
            <a:ext cx="2951280" cy="1656000"/>
          </a:xfrm>
          <a:prstGeom prst="cloudCallout">
            <a:avLst>
              <a:gd name="adj1" fmla="val -96800"/>
              <a:gd name="adj2" fmla="val -156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Při násobení číslem jedna se hodnota nemění, a proto tuto jedničku psát nemusím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6012000" y="2852640"/>
            <a:ext cx="57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>
            <a:off x="5997600" y="3745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3"/>
          <p:cNvSpPr/>
          <p:nvPr/>
        </p:nvSpPr>
        <p:spPr>
          <a:xfrm>
            <a:off x="6818400" y="2881440"/>
            <a:ext cx="1857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bl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6"/>
          <p:cNvSpPr/>
          <p:nvPr/>
        </p:nvSpPr>
        <p:spPr>
          <a:xfrm>
            <a:off x="6012000" y="4495680"/>
            <a:ext cx="57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7"/>
          <p:cNvSpPr/>
          <p:nvPr/>
        </p:nvSpPr>
        <p:spPr>
          <a:xfrm>
            <a:off x="7351560" y="4479840"/>
            <a:ext cx="1195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8"/>
          <p:cNvSpPr/>
          <p:nvPr/>
        </p:nvSpPr>
        <p:spPr>
          <a:xfrm>
            <a:off x="7308720" y="5186520"/>
            <a:ext cx="1195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9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78160" cy="566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0" descr=""/>
          <p:cNvPicPr/>
          <p:nvPr/>
        </p:nvPicPr>
        <p:blipFill>
          <a:blip r:embed="rId2"/>
          <a:stretch/>
        </p:blipFill>
        <p:spPr>
          <a:xfrm>
            <a:off x="4570560" y="191628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1" descr=""/>
          <p:cNvPicPr/>
          <p:nvPr/>
        </p:nvPicPr>
        <p:blipFill>
          <a:blip r:embed="rId3"/>
          <a:stretch/>
        </p:blipFill>
        <p:spPr>
          <a:xfrm>
            <a:off x="1978200" y="372600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2" descr=""/>
          <p:cNvPicPr/>
          <p:nvPr/>
        </p:nvPicPr>
        <p:blipFill>
          <a:blip r:embed="rId4"/>
          <a:stretch/>
        </p:blipFill>
        <p:spPr>
          <a:xfrm>
            <a:off x="4714920" y="371628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3" descr=""/>
          <p:cNvPicPr/>
          <p:nvPr/>
        </p:nvPicPr>
        <p:blipFill>
          <a:blip r:embed="rId5"/>
          <a:stretch/>
        </p:blipFill>
        <p:spPr>
          <a:xfrm>
            <a:off x="7162920" y="3716280"/>
            <a:ext cx="577800" cy="5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09-08-26T23:08:50Z</dcterms:modified>
  <cp:revision>162</cp:revision>
  <dc:subject/>
  <dc:title>Výrazy – násobení</dc:title>
</cp:coreProperties>
</file>