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8BFC-66F7-4CEA-8C66-2C10F8B4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732-556E-4312-974A-1A955F29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CC2-46AC-460E-93EE-08F2ED6A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95A-4343-4E6F-BD99-092179BA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AE3F-1163-4D7C-B4E4-D8A807FC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12A9-8694-4FCB-84AB-C3987789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7571-1D82-49EA-B07F-50971889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A1DC-3CB8-44CD-84A3-677EFB1C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D44A-ACD9-497F-A8F0-0E2EB320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0833-7C2D-4119-98B3-B5C64E06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09F9-104C-4EB5-89D7-68AC4727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7A6-4BE4-47E2-A2CB-268972F1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5441-239B-426A-9C88-215A96D8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F22C-0C90-452B-AFE8-61CCF6E6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9F11-1623-4794-B947-80883F2C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18D4-78B8-4691-9F6A-1AF1312F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0602-E4ED-46F1-B502-FDC3DE66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7E5-6488-4C2F-B6EB-0CA13D5D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012-3A38-4886-8120-3B8965F3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719-996F-4ED1-A442-3FA2F401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D6B8-B01E-4D65-BB3F-BF5EDABF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706-437F-407F-9867-75BAE05B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C87-2B06-4381-A8C1-71D84279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A28-261A-4A57-88FE-2A0E412A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C7D8-F123-4E10-A7A8-F9B3EAB8B0B3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6351-0205-491A-8206-26C27218FCCC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Algebraické výraz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vod do učiva o výrazech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Druhy, hodnota výraz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Druhy algebraických výraz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258920" y="2060640"/>
                <a:ext cx="5112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3419640" y="2133720"/>
                <a:ext cx="1214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Rectangle 6"/>
          <p:cNvSpPr/>
          <p:nvPr/>
        </p:nvSpPr>
        <p:spPr>
          <a:xfrm>
            <a:off x="826920" y="119700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Trebuchet MS"/>
              </a:rPr>
              <a:t>2. Výrazy s proměnn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0"/>
              <p:cNvSpPr txBox="1"/>
              <p:nvPr/>
            </p:nvSpPr>
            <p:spPr>
              <a:xfrm>
                <a:off x="1116000" y="4653000"/>
                <a:ext cx="8208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6"/>
              <p:cNvSpPr txBox="1"/>
              <p:nvPr/>
            </p:nvSpPr>
            <p:spPr>
              <a:xfrm>
                <a:off x="1908000" y="3429000"/>
                <a:ext cx="14464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7"/>
              <p:cNvSpPr txBox="1"/>
              <p:nvPr/>
            </p:nvSpPr>
            <p:spPr>
              <a:xfrm>
                <a:off x="2771640" y="4797360"/>
                <a:ext cx="17971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AutoShape 18"/>
          <p:cNvSpPr/>
          <p:nvPr/>
        </p:nvSpPr>
        <p:spPr>
          <a:xfrm>
            <a:off x="5724360" y="2133720"/>
            <a:ext cx="2880000" cy="2808000"/>
          </a:xfrm>
          <a:prstGeom prst="cloudCallout">
            <a:avLst>
              <a:gd name="adj1" fmla="val -99393"/>
              <a:gd name="adj2" fmla="val 220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Je-li proměnná ve jmenovateli zlomku, jedná se o lomený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Hodnota výrazu s proměnn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1116000" y="1197000"/>
                <a:ext cx="6523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5"/>
          <p:cNvSpPr/>
          <p:nvPr/>
        </p:nvSpPr>
        <p:spPr>
          <a:xfrm>
            <a:off x="2050920" y="1197000"/>
            <a:ext cx="62661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Proměnnou ve výrazu rozumíme znak, který označuje libovolné číslo z určité množiny, kterou nazýváme obor proměnné nebo definiční obor výrazu. Dosadíme-li za proměnné do výrazu libovolná čísla, pro která má daný výraz smysl, a provedeme všechny předepsané operace, dostaneme jako výsledek číslo – hodnotu výr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3851280" y="5516640"/>
                <a:ext cx="1152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AutoShape 7"/>
          <p:cNvSpPr/>
          <p:nvPr/>
        </p:nvSpPr>
        <p:spPr>
          <a:xfrm>
            <a:off x="826920" y="3716280"/>
            <a:ext cx="2808360" cy="2376720"/>
          </a:xfrm>
          <a:prstGeom prst="cloudCallout">
            <a:avLst>
              <a:gd name="adj1" fmla="val -24787"/>
              <a:gd name="adj2" fmla="val -901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Nelze dosadit 0 (nulou nelze dělit). Dosadíme-li např. 1, hodnota výrazu bude 2; dosadíme-li 2, hodnota výrazu bude 1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435640" y="2924280"/>
            <a:ext cx="2951280" cy="2808360"/>
          </a:xfrm>
          <a:prstGeom prst="cloudCallout">
            <a:avLst>
              <a:gd name="adj1" fmla="val -79314"/>
              <a:gd name="adj2" fmla="val 414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Můžeme dosadit libovolné reálné číslo. Dosadíme-li např. 1, hodnota výrazu bude 7; dosadíme-li 2, hodnota výrazu bude 8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5"/>
          <p:cNvSpPr/>
          <p:nvPr/>
        </p:nvSpPr>
        <p:spPr>
          <a:xfrm>
            <a:off x="642960" y="85716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625320" y="90792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apiš jako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042920" y="1339920"/>
            <a:ext cx="71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546200" y="1339920"/>
            <a:ext cx="287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Dvojnásobek znaku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714920" y="1339920"/>
            <a:ext cx="143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042920" y="213192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546200" y="2131920"/>
            <a:ext cx="26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Rozdíl znaků 7 a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x.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4714920" y="213192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7 -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042920" y="292248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546200" y="2922480"/>
            <a:ext cx="26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 pět více jak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4729320" y="292248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a +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1042920" y="371628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4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1546200" y="3716280"/>
            <a:ext cx="280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Šestkrát méně než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4729320" y="371628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z :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1044720" y="4508640"/>
            <a:ext cx="1942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5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7"/>
          <p:cNvSpPr/>
          <p:nvPr/>
        </p:nvSpPr>
        <p:spPr>
          <a:xfrm>
            <a:off x="1547640" y="4508640"/>
            <a:ext cx="5027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oučet trojnásobku znaku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čísla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8"/>
          <p:cNvSpPr/>
          <p:nvPr/>
        </p:nvSpPr>
        <p:spPr>
          <a:xfrm>
            <a:off x="7164360" y="4508640"/>
            <a:ext cx="115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3b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1042920" y="537372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6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1546200" y="5373720"/>
            <a:ext cx="509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Čtyřnásobek rozdílu čísla 5 a znaku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1"/>
          <p:cNvSpPr/>
          <p:nvPr/>
        </p:nvSpPr>
        <p:spPr>
          <a:xfrm>
            <a:off x="7162920" y="537372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4.(5 –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2"/>
          <p:cNvSpPr/>
          <p:nvPr/>
        </p:nvSpPr>
        <p:spPr>
          <a:xfrm>
            <a:off x="1562040" y="181296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urči hodnotu výrazu pro x=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5133960" y="1698480"/>
            <a:ext cx="14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.5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4"/>
          <p:cNvSpPr/>
          <p:nvPr/>
        </p:nvSpPr>
        <p:spPr>
          <a:xfrm>
            <a:off x="1576440" y="260496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urči hodnotu výrazu pro x=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5"/>
          <p:cNvSpPr/>
          <p:nvPr/>
        </p:nvSpPr>
        <p:spPr>
          <a:xfrm>
            <a:off x="5148360" y="2490840"/>
            <a:ext cx="143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7 - 1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6"/>
          <p:cNvSpPr/>
          <p:nvPr/>
        </p:nvSpPr>
        <p:spPr>
          <a:xfrm>
            <a:off x="1576440" y="3411360"/>
            <a:ext cx="39607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urči hodnotu výrazu pro a=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7"/>
          <p:cNvSpPr/>
          <p:nvPr/>
        </p:nvSpPr>
        <p:spPr>
          <a:xfrm>
            <a:off x="5148360" y="3297240"/>
            <a:ext cx="143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 + 5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8"/>
          <p:cNvSpPr/>
          <p:nvPr/>
        </p:nvSpPr>
        <p:spPr>
          <a:xfrm>
            <a:off x="1590840" y="419112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urči hodnotu výrazu pro z=1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9"/>
          <p:cNvSpPr/>
          <p:nvPr/>
        </p:nvSpPr>
        <p:spPr>
          <a:xfrm>
            <a:off x="5162400" y="4076640"/>
            <a:ext cx="14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2:6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0"/>
          <p:cNvSpPr/>
          <p:nvPr/>
        </p:nvSpPr>
        <p:spPr>
          <a:xfrm>
            <a:off x="1604880" y="505476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urči hodnotu výrazu pro b=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1"/>
          <p:cNvSpPr/>
          <p:nvPr/>
        </p:nvSpPr>
        <p:spPr>
          <a:xfrm>
            <a:off x="5176800" y="4940280"/>
            <a:ext cx="342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3.3 + 8 = 9 + 8 =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1604880" y="590544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urči hodnotu výrazu pro b=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5176800" y="5805360"/>
            <a:ext cx="342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4.(5 – 5) = 4.0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9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611280" y="187200"/>
            <a:ext cx="8208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755640" y="1052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apiš jako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826920" y="158580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7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330200" y="1585800"/>
            <a:ext cx="633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Rozdíl desetinásobku čísla 2 a trojnásobku znaku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y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7653240" y="1585800"/>
            <a:ext cx="12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0.2 – 3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826920" y="249228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8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330200" y="2651040"/>
            <a:ext cx="769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oučin rozdílu čísla 5 a znaku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součtu pětinásobku znaku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čísla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125960" y="2851200"/>
            <a:ext cx="33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(5 – x).(5x +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798480" y="422100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9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1301760" y="4379760"/>
            <a:ext cx="769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oučet čtyřnásobku rozdílu čísla 4 a znaku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y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rozdílu čísla 2 a dvojnásobku znaku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y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4097160" y="458136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4.(4 – y) + (2 – 2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1374840" y="208908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urči hodnotu výrazu pro y=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4946760" y="1974960"/>
            <a:ext cx="3297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0.2 – 3.3 = 20 – 9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374840" y="354348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urči hodnotu výrazu pro x=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4875120" y="3573360"/>
            <a:ext cx="3657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(5 – 1).(5.1 + 5) = 4.(5 + 5) = = 4.10 =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1376280" y="527040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urči hodnotu výrazu pro y=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4876920" y="5300640"/>
            <a:ext cx="372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4.(4 – 0) + (2 – 2.0) = 4.4 +  </a:t>
            </a:r>
            <a:br>
              <a:rPr sz="20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+ (2 – 0) = 16 + 2 =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1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755640" y="1052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apiš jako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900000" y="1701720"/>
            <a:ext cx="71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1535040" y="1701720"/>
            <a:ext cx="52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Třetina rozdílu čísla 8 a znaku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6488280" y="1701720"/>
            <a:ext cx="143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(8 + c) 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898560" y="2925720"/>
            <a:ext cx="194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1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1546200" y="2925720"/>
            <a:ext cx="5675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oučet znaku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znaku o 9 menší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6500880" y="2925720"/>
            <a:ext cx="266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x + (x – 9) = 2x -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898560" y="4437000"/>
            <a:ext cx="194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2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1546200" y="4437000"/>
            <a:ext cx="4019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oučin výrazů 5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10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y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6502320" y="4437000"/>
            <a:ext cx="208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5x . 10y = 50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1562040" y="227808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urči hodnotu výrazu pro c=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4788000" y="2162160"/>
            <a:ext cx="3657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(8 + 7):3 = 15:3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1562040" y="351648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urči hodnotu výrazu pro x=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6"/>
          <p:cNvSpPr/>
          <p:nvPr/>
        </p:nvSpPr>
        <p:spPr>
          <a:xfrm>
            <a:off x="4875120" y="3400560"/>
            <a:ext cx="365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6 + (6 – 9) = 6 + (-3)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4873680" y="3789360"/>
            <a:ext cx="3657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.6 - 9 = 12 – 9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562040" y="498492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urči hodnotu výrazu pro x=3, y=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9"/>
          <p:cNvSpPr/>
          <p:nvPr/>
        </p:nvSpPr>
        <p:spPr>
          <a:xfrm>
            <a:off x="5378400" y="4869000"/>
            <a:ext cx="365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5.3 . 10.5 = 15.50 =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0"/>
          <p:cNvSpPr/>
          <p:nvPr/>
        </p:nvSpPr>
        <p:spPr>
          <a:xfrm>
            <a:off x="5376960" y="5257800"/>
            <a:ext cx="3657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50.3.5 =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000"/>
                            </p:stCondLst>
                            <p:childTnLst>
                              <p:par>
                                <p:cTn id="8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6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1052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apiš jako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969840" y="167328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3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617840" y="1673280"/>
            <a:ext cx="6107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Rozdíl výrazů 2x a 5y zmenšený o jejich souče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2036880" y="2033640"/>
            <a:ext cx="620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(2x – 5y) – (2x + 5y) = 2x – 5y – 2x – 5y = -10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957240" y="368784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4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604880" y="3687840"/>
            <a:ext cx="65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oučin výrazů 4u a 3v zvětšený o jejich souč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2166840" y="4048200"/>
            <a:ext cx="58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4u.3v + (4u + 3v) = 12uv + 4u + 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1704960" y="246528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urči hodnotu výrazu pro x=3, y=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2038320" y="2708280"/>
            <a:ext cx="7105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(2.3 – 5.1) – (2.3 + 5.1) = (6 – 5) – (6 + 5) = 1 – 11 = 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2038320" y="3068640"/>
            <a:ext cx="3657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-10.1 = 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1704960" y="453852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urči hodnotu výrazu pro u=1, v=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2038320" y="4797360"/>
            <a:ext cx="7105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4.1.3.0 + (4.1 + 3.0) = 0 + (4 + 0)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2038320" y="5156280"/>
            <a:ext cx="5486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2.1.0 + 4.1 + 3.0 = 0 + 4 + 0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755640" y="98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apiš jako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914400" y="170028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5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1562040" y="1859040"/>
            <a:ext cx="65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Rozdíl dvojnásobku součtu znaků x a y a trojnásobku rozdílu těchto zna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2124000" y="2419200"/>
            <a:ext cx="58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.(x + y) – 3.(x – y) = 2x + 2y – 3x + 3y = -x + 5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1619280" y="306864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 urči hodnotu výrazu pro x=5, y=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1952640" y="3284640"/>
            <a:ext cx="7105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.(5 + 4) – 3.(5 – 4) = 2.9 – 3.1 = 18 – 3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1952640" y="3659040"/>
            <a:ext cx="3657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-5 + 5.4 = -5 + 20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ávě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2811960" y="1125360"/>
            <a:ext cx="36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Arial"/>
              </a:rPr>
              <a:t>Algebraický výr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1028880" y="1830240"/>
            <a:ext cx="7084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= předpis jedné nebo více matematických operací </a:t>
            </a:r>
            <a:br>
              <a:rPr sz="2000"/>
            </a:b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(sčítání, odčítání, násobení, dělení, umocňování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1676520" y="4599000"/>
            <a:ext cx="62658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Proměnnou ve výrazu rozumíme znak, který označuje libovolné číslo z určité množiny, kterou nazýváme obor proměnné nebo definiční obor výrazu. Dosadíme-li za proměnné do výrazu libovolná čísla, pro která má daný výraz smysl, a provedeme všechny předepsané operace, dostaneme jako výsledek číslo – hodnotu výr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004840" y="3068640"/>
            <a:ext cx="55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Arial"/>
              </a:rPr>
              <a:t>Druhy algebraických výraz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957240" y="357336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1) Číselné výrazy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2) Výrazy s proměn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lgebraický výr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828720" y="1125360"/>
            <a:ext cx="727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předpis jedné nebo více matematických operací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sčítání, odčítání, násobení, dělení, umocňování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900000" y="5227560"/>
            <a:ext cx="7632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předpis, který obsahuje blíže neurčené znaky (a; b; c; v; z1; z2; Q; m; t… – mohou to být konstanty či proměnné a nemusíme znát ani jejich hodnotu), čísla a matematické operátory (sčítání, odčítání, násobení, dělení, umocňování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3"/>
              <p:cNvSpPr txBox="1"/>
              <p:nvPr/>
            </p:nvSpPr>
            <p:spPr>
              <a:xfrm>
                <a:off x="1403280" y="2205000"/>
                <a:ext cx="1800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5"/>
              <p:cNvSpPr txBox="1"/>
              <p:nvPr/>
            </p:nvSpPr>
            <p:spPr>
              <a:xfrm>
                <a:off x="6227640" y="2349360"/>
                <a:ext cx="14479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6"/>
              <p:cNvSpPr txBox="1"/>
              <p:nvPr/>
            </p:nvSpPr>
            <p:spPr>
              <a:xfrm>
                <a:off x="4067280" y="2924280"/>
                <a:ext cx="18777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7"/>
              <p:cNvSpPr txBox="1"/>
              <p:nvPr/>
            </p:nvSpPr>
            <p:spPr>
              <a:xfrm>
                <a:off x="1403280" y="3429000"/>
                <a:ext cx="23083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8"/>
              <p:cNvSpPr txBox="1"/>
              <p:nvPr/>
            </p:nvSpPr>
            <p:spPr>
              <a:xfrm>
                <a:off x="5724360" y="3500280"/>
                <a:ext cx="211320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AutoShape 29"/>
          <p:cNvSpPr/>
          <p:nvPr/>
        </p:nvSpPr>
        <p:spPr>
          <a:xfrm>
            <a:off x="3924360" y="2924280"/>
            <a:ext cx="2736720" cy="1944720"/>
          </a:xfrm>
          <a:prstGeom prst="cloudCallout">
            <a:avLst>
              <a:gd name="adj1" fmla="val -80856"/>
              <a:gd name="adj2" fmla="val -575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ýraz známe jako část vzorce pro výpočet obvodu trojúhel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0"/>
          <p:cNvSpPr/>
          <p:nvPr/>
        </p:nvSpPr>
        <p:spPr>
          <a:xfrm>
            <a:off x="971640" y="177336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Připomínají Vám něco následující výrazy? </a:t>
            </a:r>
            <a:br>
              <a:rPr sz="1800"/>
            </a:b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Které matematické operace obsahuj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1"/>
          <p:cNvSpPr/>
          <p:nvPr/>
        </p:nvSpPr>
        <p:spPr>
          <a:xfrm>
            <a:off x="2124000" y="3068640"/>
            <a:ext cx="2737080" cy="1944720"/>
          </a:xfrm>
          <a:prstGeom prst="cloudCallout">
            <a:avLst>
              <a:gd name="adj1" fmla="val 97041"/>
              <a:gd name="adj2" fmla="val -60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ýraz známe jako část vzorce pro výpočet objemu kvád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2"/>
          <p:cNvSpPr/>
          <p:nvPr/>
        </p:nvSpPr>
        <p:spPr>
          <a:xfrm>
            <a:off x="642960" y="4500720"/>
            <a:ext cx="2736720" cy="1944360"/>
          </a:xfrm>
          <a:prstGeom prst="cloudCallout">
            <a:avLst>
              <a:gd name="adj1" fmla="val 75291"/>
              <a:gd name="adj2" fmla="val -72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ýraz známe jako část vzorce pro výpočet obvodu čtve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3"/>
          <p:cNvSpPr/>
          <p:nvPr/>
        </p:nvSpPr>
        <p:spPr>
          <a:xfrm>
            <a:off x="5929200" y="4572000"/>
            <a:ext cx="2737080" cy="1944720"/>
          </a:xfrm>
          <a:prstGeom prst="cloudCallout">
            <a:avLst>
              <a:gd name="adj1" fmla="val -103712"/>
              <a:gd name="adj2" fmla="val -373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ýraz je částí vzorce pro výpočet obsahu lichoběž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4"/>
          <p:cNvSpPr/>
          <p:nvPr/>
        </p:nvSpPr>
        <p:spPr>
          <a:xfrm>
            <a:off x="3000240" y="4500720"/>
            <a:ext cx="2737080" cy="1944360"/>
          </a:xfrm>
          <a:prstGeom prst="cloudCallout">
            <a:avLst>
              <a:gd name="adj1" fmla="val 95592"/>
              <a:gd name="adj2" fmla="val -535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ýraz je částí vzorce pro výpočet měrné tepelné kapa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lgebraický výr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84080" y="1182600"/>
            <a:ext cx="784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říklady: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rčete a zdůvodněte, zda jde, nebo nejde o algebraický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6"/>
              <p:cNvSpPr txBox="1"/>
              <p:nvPr/>
            </p:nvSpPr>
            <p:spPr>
              <a:xfrm>
                <a:off x="971640" y="1944720"/>
                <a:ext cx="10951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7"/>
              <p:cNvSpPr txBox="1"/>
              <p:nvPr/>
            </p:nvSpPr>
            <p:spPr>
              <a:xfrm>
                <a:off x="971640" y="2925720"/>
                <a:ext cx="3906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Line 17"/>
          <p:cNvSpPr/>
          <p:nvPr/>
        </p:nvSpPr>
        <p:spPr>
          <a:xfrm>
            <a:off x="826920" y="177336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2195640" y="2119320"/>
            <a:ext cx="5975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no, obsahuje matematickou operaci sčítání      (operátor 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1461960" y="3040200"/>
            <a:ext cx="6926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e, neobsahuje operátor žádné matematické ope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0"/>
              <p:cNvSpPr txBox="1"/>
              <p:nvPr/>
            </p:nvSpPr>
            <p:spPr>
              <a:xfrm>
                <a:off x="982800" y="3673440"/>
                <a:ext cx="1054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21"/>
          <p:cNvSpPr/>
          <p:nvPr/>
        </p:nvSpPr>
        <p:spPr>
          <a:xfrm>
            <a:off x="2252520" y="3787920"/>
            <a:ext cx="6351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no, obsahuje operátor odčít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2"/>
              <p:cNvSpPr txBox="1"/>
              <p:nvPr/>
            </p:nvSpPr>
            <p:spPr>
              <a:xfrm>
                <a:off x="947880" y="5024520"/>
                <a:ext cx="5475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23"/>
          <p:cNvSpPr/>
          <p:nvPr/>
        </p:nvSpPr>
        <p:spPr>
          <a:xfrm>
            <a:off x="1749600" y="5589720"/>
            <a:ext cx="6351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no, obsahuje operátor dělení (v daném případě vyjádřen zlomkovou čár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4"/>
              <p:cNvSpPr txBox="1"/>
              <p:nvPr/>
            </p:nvSpPr>
            <p:spPr>
              <a:xfrm>
                <a:off x="971640" y="4465800"/>
                <a:ext cx="10555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Rectangle 25"/>
          <p:cNvSpPr/>
          <p:nvPr/>
        </p:nvSpPr>
        <p:spPr>
          <a:xfrm>
            <a:off x="2243160" y="4579920"/>
            <a:ext cx="6351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no, obsahuje operátor 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lgebraický výr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84080" y="1182600"/>
            <a:ext cx="784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říklady: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rčete a zdůvodněte, zda jde, nebo nejde o algebraický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879480" y="1844640"/>
                <a:ext cx="108576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1074600" y="3313080"/>
                <a:ext cx="9763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Line 7"/>
          <p:cNvSpPr/>
          <p:nvPr/>
        </p:nvSpPr>
        <p:spPr>
          <a:xfrm>
            <a:off x="826920" y="177336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2195640" y="2276640"/>
            <a:ext cx="61214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no, obsahuje matematické operace násobení a 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2254320" y="3414600"/>
            <a:ext cx="5630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no, obsahuje operátor násobení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898560" y="4149720"/>
            <a:ext cx="75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Proč jednou píšeme operátor operace násobení a jednou 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 flipH="1" flipV="1">
            <a:off x="1403280" y="2565000"/>
            <a:ext cx="2448000" cy="165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 flipH="1" flipV="1">
            <a:off x="1979280" y="3745080"/>
            <a:ext cx="5832360" cy="50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826920" y="5300640"/>
            <a:ext cx="756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Operátor píšeme tam, kde je to nezbytně nutné </a:t>
            </a:r>
            <a:br>
              <a:rPr sz="36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ebo pro větší přehl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lgebraický výr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84080" y="1182600"/>
            <a:ext cx="784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říklady: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rčete a zdůvodněte, zda jde, nebo nejde o algebraický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1258920" y="4724280"/>
                <a:ext cx="9190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Line 7"/>
          <p:cNvSpPr/>
          <p:nvPr/>
        </p:nvSpPr>
        <p:spPr>
          <a:xfrm>
            <a:off x="826920" y="177336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708360" y="5560920"/>
            <a:ext cx="18716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a rozdíl 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826920" y="2349360"/>
            <a:ext cx="756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Operátor píšeme tam, kde je to nezbytně nutné </a:t>
            </a:r>
            <a:br>
              <a:rPr sz="36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ebo pro větší přehl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4"/>
              <p:cNvSpPr txBox="1"/>
              <p:nvPr/>
            </p:nvSpPr>
            <p:spPr>
              <a:xfrm>
                <a:off x="5651640" y="4724280"/>
                <a:ext cx="110160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AutoShape 17"/>
          <p:cNvSpPr/>
          <p:nvPr/>
        </p:nvSpPr>
        <p:spPr>
          <a:xfrm>
            <a:off x="826920" y="2997360"/>
            <a:ext cx="2016360" cy="1152360"/>
          </a:xfrm>
          <a:prstGeom prst="cloudCallout">
            <a:avLst>
              <a:gd name="adj1" fmla="val -10314"/>
              <a:gd name="adj2" fmla="val 11680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Smíšené čí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6213600" y="2967120"/>
            <a:ext cx="2174760" cy="1325520"/>
          </a:xfrm>
          <a:prstGeom prst="cloudCallout">
            <a:avLst>
              <a:gd name="adj1" fmla="val -55111"/>
              <a:gd name="adj2" fmla="val 101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Násobení celého čísla a zlom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9"/>
              <p:cNvSpPr txBox="1"/>
              <p:nvPr/>
            </p:nvSpPr>
            <p:spPr>
              <a:xfrm>
                <a:off x="2268360" y="4724280"/>
                <a:ext cx="963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0"/>
              <p:cNvSpPr txBox="1"/>
              <p:nvPr/>
            </p:nvSpPr>
            <p:spPr>
              <a:xfrm>
                <a:off x="6877080" y="4724280"/>
                <a:ext cx="963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lgebraický výr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784080" y="1182600"/>
            <a:ext cx="784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říklady: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rčete a zdůvodněte, zda jde, nebo nejde o algebraický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1042920" y="2017800"/>
                <a:ext cx="665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1042920" y="2863800"/>
                <a:ext cx="4698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Line 7"/>
          <p:cNvSpPr/>
          <p:nvPr/>
        </p:nvSpPr>
        <p:spPr>
          <a:xfrm>
            <a:off x="826920" y="177336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835280" y="1989000"/>
            <a:ext cx="6264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no, obsahuje matematickou operaci násob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1692360" y="3213000"/>
            <a:ext cx="6494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no, obsahuje operátor 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1073160" y="4394160"/>
                <a:ext cx="15620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11"/>
          <p:cNvSpPr/>
          <p:nvPr/>
        </p:nvSpPr>
        <p:spPr>
          <a:xfrm>
            <a:off x="2786040" y="4500720"/>
            <a:ext cx="5942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no, obsahuje operátory násobení a odčít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4"/>
              <p:cNvSpPr txBox="1"/>
              <p:nvPr/>
            </p:nvSpPr>
            <p:spPr>
              <a:xfrm>
                <a:off x="1042920" y="5170320"/>
                <a:ext cx="1602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5"/>
          <p:cNvSpPr/>
          <p:nvPr/>
        </p:nvSpPr>
        <p:spPr>
          <a:xfrm>
            <a:off x="2757600" y="5675400"/>
            <a:ext cx="581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no, obsahuje operátory násobení, odčítání a 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lgebraický výr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784080" y="1182600"/>
            <a:ext cx="784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říklady: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rčete a zdůvodněte, zda jde, nebo nejde o algebraický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1065240" y="2017800"/>
                <a:ext cx="6206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1077840" y="2781360"/>
                <a:ext cx="469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Line 7"/>
          <p:cNvSpPr/>
          <p:nvPr/>
        </p:nvSpPr>
        <p:spPr>
          <a:xfrm>
            <a:off x="826920" y="177336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735200" y="2062080"/>
            <a:ext cx="6553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no, obsahuje matematickou operaci umoc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1763640" y="2809800"/>
            <a:ext cx="6494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e, neobsahuje žádný operá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1081080" y="4005360"/>
                <a:ext cx="21081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11"/>
          <p:cNvSpPr/>
          <p:nvPr/>
        </p:nvSpPr>
        <p:spPr>
          <a:xfrm>
            <a:off x="3348000" y="4608360"/>
            <a:ext cx="468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e, jedná se již o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rovnici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tzn. srovnání matematického výrazu na jedné straně s hodnotou znaku na straně dru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1547640" y="5373720"/>
                <a:ext cx="1211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13"/>
          <p:cNvSpPr/>
          <p:nvPr/>
        </p:nvSpPr>
        <p:spPr>
          <a:xfrm>
            <a:off x="3405240" y="5675400"/>
            <a:ext cx="4983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e, jedná se o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nerovnici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tzn. srovnání proměnné na jedné straně s hodnotou znaku na straně dru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1042920" y="3500280"/>
            <a:ext cx="6494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Poz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Druhy algebraických výraz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6"/>
              <p:cNvSpPr txBox="1"/>
              <p:nvPr/>
            </p:nvSpPr>
            <p:spPr>
              <a:xfrm>
                <a:off x="1187280" y="1989000"/>
                <a:ext cx="1055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5003640" y="4149720"/>
                <a:ext cx="1055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12"/>
          <p:cNvSpPr/>
          <p:nvPr/>
        </p:nvSpPr>
        <p:spPr>
          <a:xfrm>
            <a:off x="826920" y="119700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Trebuchet MS"/>
              </a:rPr>
              <a:t>1. Číselné vý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7"/>
              <p:cNvSpPr txBox="1"/>
              <p:nvPr/>
            </p:nvSpPr>
            <p:spPr>
              <a:xfrm>
                <a:off x="1187280" y="5445000"/>
                <a:ext cx="17211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8"/>
              <p:cNvSpPr txBox="1"/>
              <p:nvPr/>
            </p:nvSpPr>
            <p:spPr>
              <a:xfrm>
                <a:off x="3492360" y="2852640"/>
                <a:ext cx="24242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9"/>
              <p:cNvSpPr txBox="1"/>
              <p:nvPr/>
            </p:nvSpPr>
            <p:spPr>
              <a:xfrm>
                <a:off x="958680" y="3841920"/>
                <a:ext cx="2932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20"/>
              <p:cNvSpPr txBox="1"/>
              <p:nvPr/>
            </p:nvSpPr>
            <p:spPr>
              <a:xfrm>
                <a:off x="7164360" y="2349360"/>
                <a:ext cx="8604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1"/>
              <p:cNvSpPr txBox="1"/>
              <p:nvPr/>
            </p:nvSpPr>
            <p:spPr>
              <a:xfrm>
                <a:off x="3492360" y="4797360"/>
                <a:ext cx="9385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2"/>
              <p:cNvSpPr txBox="1"/>
              <p:nvPr/>
            </p:nvSpPr>
            <p:spPr>
              <a:xfrm>
                <a:off x="7110360" y="3241800"/>
                <a:ext cx="4698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3"/>
              <p:cNvSpPr txBox="1"/>
              <p:nvPr/>
            </p:nvSpPr>
            <p:spPr>
              <a:xfrm>
                <a:off x="4892760" y="5621400"/>
                <a:ext cx="585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4"/>
              <p:cNvSpPr txBox="1"/>
              <p:nvPr/>
            </p:nvSpPr>
            <p:spPr>
              <a:xfrm>
                <a:off x="1476360" y="2852640"/>
                <a:ext cx="1211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5"/>
              <p:cNvSpPr txBox="1"/>
              <p:nvPr/>
            </p:nvSpPr>
            <p:spPr>
              <a:xfrm>
                <a:off x="3924360" y="1916280"/>
                <a:ext cx="1836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6"/>
              <p:cNvSpPr txBox="1"/>
              <p:nvPr/>
            </p:nvSpPr>
            <p:spPr>
              <a:xfrm>
                <a:off x="6151680" y="5006880"/>
                <a:ext cx="179676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Druhy algebraických výraz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1187280" y="2008080"/>
                <a:ext cx="10558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5"/>
              <p:cNvSpPr txBox="1"/>
              <p:nvPr/>
            </p:nvSpPr>
            <p:spPr>
              <a:xfrm>
                <a:off x="4964040" y="4149720"/>
                <a:ext cx="1135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6"/>
          <p:cNvSpPr/>
          <p:nvPr/>
        </p:nvSpPr>
        <p:spPr>
          <a:xfrm>
            <a:off x="826920" y="119700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Trebuchet MS"/>
              </a:rPr>
              <a:t>2. Výrazy s proměnn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1090440" y="5445000"/>
                <a:ext cx="1916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3492360" y="2852640"/>
                <a:ext cx="24242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939960" y="3841920"/>
                <a:ext cx="2971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0"/>
              <p:cNvSpPr txBox="1"/>
              <p:nvPr/>
            </p:nvSpPr>
            <p:spPr>
              <a:xfrm>
                <a:off x="7105680" y="2349360"/>
                <a:ext cx="9777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1"/>
              <p:cNvSpPr txBox="1"/>
              <p:nvPr/>
            </p:nvSpPr>
            <p:spPr>
              <a:xfrm>
                <a:off x="3473280" y="4797360"/>
                <a:ext cx="9763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7110360" y="3241800"/>
                <a:ext cx="4698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3"/>
              <p:cNvSpPr txBox="1"/>
              <p:nvPr/>
            </p:nvSpPr>
            <p:spPr>
              <a:xfrm>
                <a:off x="4892760" y="5621400"/>
                <a:ext cx="585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4"/>
              <p:cNvSpPr txBox="1"/>
              <p:nvPr/>
            </p:nvSpPr>
            <p:spPr>
              <a:xfrm>
                <a:off x="1476360" y="2852640"/>
                <a:ext cx="1211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5"/>
              <p:cNvSpPr txBox="1"/>
              <p:nvPr/>
            </p:nvSpPr>
            <p:spPr>
              <a:xfrm>
                <a:off x="3905280" y="1916280"/>
                <a:ext cx="1874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6"/>
              <p:cNvSpPr txBox="1"/>
              <p:nvPr/>
            </p:nvSpPr>
            <p:spPr>
              <a:xfrm>
                <a:off x="6111720" y="5006880"/>
                <a:ext cx="18766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5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75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95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koubji</cp:lastModifiedBy>
  <dcterms:modified xsi:type="dcterms:W3CDTF">2010-02-19T07:10:52Z</dcterms:modified>
  <cp:revision>130</cp:revision>
  <dc:subject/>
  <dc:title>Výrazy - druhy, hodnota</dc:title>
</cp:coreProperties>
</file>