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0BFD-7CE1-43B0-B1C0-D1494B44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E20-AB88-4614-B027-0C35A9D8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FC62-DC32-4697-B8A0-B17C5CF3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1F6F-DA60-438D-9540-E7AC2559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DF91-9CD2-4C30-9C3F-894DA841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45DC-80F7-42A6-89DF-7EDEE1CD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DB5E-A281-40A0-AE73-8C241D22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0AF3-FEC3-4CA8-8FEB-05BAE25A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5323-01F2-457A-AF36-F6592F63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B3B4-EE45-42B8-BD53-78943168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2FA8-113B-4803-903D-7930DD84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83B4-4379-4302-AAC0-4394F5B8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5DF1-54E6-4BE3-9BF8-B0A5A75B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801A-CC80-4F6D-8156-E8BCA75B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6CD0-B757-40C6-988F-6476B02F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C19C-8710-4852-BC61-621F020D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8D93-9679-4013-B83D-32B61639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F6C-3B88-4396-81CF-ED074430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9AD9-9D85-4ED4-B0E7-AA83E9D6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C515-537F-445B-8521-C2F3A70E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345-E123-4841-8CE1-C5E6572F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FF6-AF14-4781-A8F6-D80BE521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ACE1-E299-4EB6-984C-79D71116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739-353D-4542-91A1-68645A5C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BE4D-8CD6-4162-853F-A819E4175D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0BFF-1B9E-4704-BEFB-E20C9FB36E87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lvm.usu.edu/en/nav/frames_asid_201_g_4_t_2.html?open=instructions&amp;hidepanel=true&amp;from=vlibrary.html" TargetMode="External"/><Relationship Id="rId3" Type="http://schemas.openxmlformats.org/officeDocument/2006/relationships/hyperlink" Target="http://nlvm.usu.edu/en/nav/frames_asid_201_g_4_t_2.html?open=instructions&amp;hidepanel=true&amp;from=vlibrary.html" TargetMode="External"/><Relationship Id="rId4" Type="http://schemas.openxmlformats.org/officeDocument/2006/relationships/hyperlink" Target="http://nlvm.usu.edu/en/nav/frames_asid_201_g_4_t_2.html?open=instructions&amp;hidepanel=true&amp;from=vlibrary.html" TargetMode="External"/><Relationship Id="rId5" Type="http://schemas.openxmlformats.org/officeDocument/2006/relationships/hyperlink" Target="http://nlvm.usu.edu/en/nav/frames_asid_201_g_4_t_2.html?open=instructions&amp;hidepanel=true&amp;from=vlibrary.html" TargetMode="External"/><Relationship Id="rId6" Type="http://schemas.openxmlformats.org/officeDocument/2006/relationships/hyperlink" Target="http://nlvm.usu.edu/en/nav/frames_asid_201_g_4_t_2.html?open=instructions&amp;hidepanel=true&amp;from=vlibrary.html" TargetMode="External"/><Relationship Id="rId7" Type="http://schemas.openxmlformats.org/officeDocument/2006/relationships/hyperlink" Target="http://nlvm.usu.edu/en/nav/frames_asid_201_g_4_t_2.html?open=instructions&amp;hidepanel=true&amp;from=vlibrary.html" TargetMode="External"/><Relationship Id="rId8" Type="http://schemas.openxmlformats.org/officeDocument/2006/relationships/hyperlink" Target="http://nlvm.usu.edu/en/nav/frames_asid_201_g_4_t_2.html?open=instructions&amp;hidepanel=true&amp;from=vlibrary.html" TargetMode="External"/><Relationship Id="rId9" Type="http://schemas.openxmlformats.org/officeDocument/2006/relationships/hyperlink" Target="http://nlvm.usu.edu/en/nav/frames_asid_201_g_4_t_2.html?open=instructions&amp;hidepanel=true&amp;from=vlibrary.html" TargetMode="External"/><Relationship Id="rId10" Type="http://schemas.openxmlformats.org/officeDocument/2006/relationships/hyperlink" Target="http://nlvm.usu.edu/en/nav/frames_asid_201_g_4_t_2.html?open=instructions&amp;hidepanel=true&amp;from=vlibrary.html" TargetMode="External"/><Relationship Id="rId11" Type="http://schemas.openxmlformats.org/officeDocument/2006/relationships/hyperlink" Target="http://nlvm.usu.edu/en/nav/frames_asid_201_g_4_t_2.html?open=instructions&amp;hidepanel=true&amp;from=vlibrary.html" TargetMode="External"/><Relationship Id="rId12" Type="http://schemas.openxmlformats.org/officeDocument/2006/relationships/hyperlink" Target="http://nlvm.usu.edu/en/nav/frames_asid_201_g_4_t_2.html?open=instructions&amp;hidepanel=true&amp;from=vlibrary.html" TargetMode="External"/><Relationship Id="rId13" Type="http://schemas.openxmlformats.org/officeDocument/2006/relationships/hyperlink" Target="http://nlvm.usu.edu/en/nav/frames_asid_201_g_4_t_2.html?open=instructions&amp;hidepanel=true&amp;from=vlibrary.html" TargetMode="External"/><Relationship Id="rId14" Type="http://schemas.openxmlformats.org/officeDocument/2006/relationships/hyperlink" Target="http://nlvm.usu.edu/en/nav/frames_asid_201_g_4_t_2.html?open=instructions&amp;hidepanel=true&amp;from=vlibrary.html" TargetMode="External"/><Relationship Id="rId15" Type="http://schemas.openxmlformats.org/officeDocument/2006/relationships/hyperlink" Target="http://nlvm.usu.edu/en/nav/frames_asid_201_g_4_t_2.html?open=instructions&amp;hidepanel=true&amp;from=vlibrary.html" TargetMode="External"/><Relationship Id="rId16" Type="http://schemas.openxmlformats.org/officeDocument/2006/relationships/hyperlink" Target="http://nlvm.usu.edu/en/nav/frames_asid_201_g_4_t_2.html?open=instructions&amp;hidepanel=true&amp;from=vlibrary.html" TargetMode="External"/><Relationship Id="rId17" Type="http://schemas.openxmlformats.org/officeDocument/2006/relationships/hyperlink" Target="http://nlvm.usu.edu/en/nav/frames_asid_201_g_4_t_2.html?open=instructions&amp;hidepanel=true&amp;from=vlibrary.html" TargetMode="External"/><Relationship Id="rId18" Type="http://schemas.openxmlformats.org/officeDocument/2006/relationships/hyperlink" Target="http://nlvm.usu.edu/en/nav/frames_asid_201_g_4_t_2.html?open=instructions&amp;hidepanel=true&amp;from=vlibrary.html" TargetMode="External"/><Relationship Id="rId19" Type="http://schemas.openxmlformats.org/officeDocument/2006/relationships/hyperlink" Target="http://nlvm.usu.edu/en/nav/frames_asid_201_g_4_t_2.html?open=instructions&amp;hidepanel=true&amp;from=vlibrary.html" TargetMode="External"/><Relationship Id="rId20" Type="http://schemas.openxmlformats.org/officeDocument/2006/relationships/hyperlink" Target="http://nlvm.usu.edu/en/nav/frames_asid_201_g_4_t_2.html?open=instructions&amp;hidepanel=true&amp;from=vlibrary.html" TargetMode="External"/><Relationship Id="rId21" Type="http://schemas.openxmlformats.org/officeDocument/2006/relationships/hyperlink" Target="http://nlvm.usu.edu/en/nav/frames_asid_201_g_4_t_2.html?open=instructions&amp;hidepanel=true&amp;from=vlibrary.html" TargetMode="External"/><Relationship Id="rId22" Type="http://schemas.openxmlformats.org/officeDocument/2006/relationships/hyperlink" Target="http://nlvm.usu.edu/en/nav/frames_asid_201_g_4_t_2.html?open=instructions&amp;hidepanel=true&amp;from=vlibrary.html" TargetMode="External"/><Relationship Id="rId23" Type="http://schemas.openxmlformats.org/officeDocument/2006/relationships/hyperlink" Target="http://nlvm.usu.edu/en/nav/frames_asid_201_g_4_t_2.html?open=instructions&amp;hidepanel=true&amp;from=vlibrary.html" TargetMode="External"/><Relationship Id="rId24" Type="http://schemas.openxmlformats.org/officeDocument/2006/relationships/hyperlink" Target="http://nlvm.usu.edu/en/nav/frames_asid_201_g_4_t_2.html?open=instructions&amp;hidepanel=true&amp;from=vlibrary.html" TargetMode="External"/><Relationship Id="rId25" Type="http://schemas.openxmlformats.org/officeDocument/2006/relationships/hyperlink" Target="http://nlvm.usu.edu/en/nav/frames_asid_201_g_4_t_2.html?open=instructions&amp;hidepanel=true&amp;from=vlibrary.html" TargetMode="External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Úvod do algebry</a:t>
            </a:r>
            <a:br>
              <a:rPr sz="4000"/>
            </a:b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(řešení jednoduchých rovnic)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3730680"/>
            <a:ext cx="807696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Algebra je zábava,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řešení hádanek (rébusů)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(1. ekvivalentní úprava rovnic)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527040" y="5818320"/>
            <a:ext cx="80773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razový materiál: Dostupný pod licencí GNU Free Documentation License na www: </a:t>
            </a:r>
            <a:r>
              <a:rPr b="0" lang="cs-CZ" sz="1600" spc="-1" strike="noStrike">
                <a:solidFill>
                  <a:srgbClr val="284c6a"/>
                </a:solidFill>
                <a:latin typeface="Arial"/>
              </a:rPr>
              <a:t>http://commons.wikimedia.org/wiki/File:Balance_icon.sv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666880" y="2421000"/>
            <a:ext cx="3810240" cy="30956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684360" y="1700280"/>
            <a:ext cx="7991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o udržení rovnováhy na vahách musíme na obě misky vah přidat, případně z nich ubrat toté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ováha – rovn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900000" y="105264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Zapamatuj s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684360" y="5661000"/>
            <a:ext cx="7991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ro udržení rovnosti musíme podobně jako na vahách totéž, co uděláme na jedné straně, udělat i na straně druhé!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2771640" y="4176720"/>
            <a:ext cx="10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5364000" y="4192560"/>
            <a:ext cx="10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095720" y="319896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786040" y="37018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+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5364000" y="3701880"/>
            <a:ext cx="10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+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Tak tedy ještě jednu hádanku spole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419640" y="1268280"/>
            <a:ext cx="303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+ 3 =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900000" y="206064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284c6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hceme odstranit +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"/>
          <p:cNvSpPr/>
          <p:nvPr/>
        </p:nvSpPr>
        <p:spPr>
          <a:xfrm>
            <a:off x="4008600" y="1022400"/>
            <a:ext cx="981000" cy="98100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7"/>
          <p:cNvSpPr/>
          <p:nvPr/>
        </p:nvSpPr>
        <p:spPr>
          <a:xfrm>
            <a:off x="4170240" y="1152360"/>
            <a:ext cx="657360" cy="73692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900000" y="263700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3333cc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Chcete-li odstranit +3, tak „uděláme pravý opak“,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v tomto případě ubereme (odečteme) -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419640" y="3400560"/>
            <a:ext cx="3038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+ 3 =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4097160" y="3933720"/>
            <a:ext cx="1468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-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3348000" y="4437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4513320" y="4538520"/>
            <a:ext cx="86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900000" y="5157720"/>
            <a:ext cx="7574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cc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Prováděnou úpravu však musíme uskutečnit na obou stran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5162400" y="3933720"/>
            <a:ext cx="1468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-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5578560" y="4537080"/>
            <a:ext cx="86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2254320" y="5791320"/>
            <a:ext cx="3038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</a:t>
            </a: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+ 0</a:t>
            </a: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6502320" y="5791320"/>
            <a:ext cx="181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=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5405400" y="5762520"/>
            <a:ext cx="1225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Tak a teď už sami.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te následující: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0" descr=""/>
          <p:cNvPicPr/>
          <p:nvPr/>
        </p:nvPicPr>
        <p:blipFill>
          <a:blip r:embed="rId2"/>
          <a:stretch/>
        </p:blipFill>
        <p:spPr>
          <a:xfrm>
            <a:off x="755640" y="1038240"/>
            <a:ext cx="7848720" cy="4911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1"/>
          <p:cNvSpPr/>
          <p:nvPr/>
        </p:nvSpPr>
        <p:spPr>
          <a:xfrm>
            <a:off x="6184800" y="5950080"/>
            <a:ext cx="259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Klikni pro ukázku výsled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Tak a teď už sami.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te následující: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2"/>
          <a:stretch/>
        </p:blipFill>
        <p:spPr>
          <a:xfrm>
            <a:off x="755640" y="1038240"/>
            <a:ext cx="7848720" cy="49118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6"/>
          <p:cNvSpPr/>
          <p:nvPr/>
        </p:nvSpPr>
        <p:spPr>
          <a:xfrm>
            <a:off x="1446120" y="1413000"/>
            <a:ext cx="2549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d obou stran odečteme číslo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476360" y="157176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 =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5292720" y="1413000"/>
            <a:ext cx="2792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K oběma stranám přičteme číslo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5423040" y="1628640"/>
            <a:ext cx="244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1504800" y="2463840"/>
            <a:ext cx="2562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 obou stran odečteme čísl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1476360" y="267984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5451480" y="2463840"/>
            <a:ext cx="2576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 obou stran odečteme číslo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5423040" y="2679840"/>
            <a:ext cx="24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1476360" y="3357720"/>
            <a:ext cx="2562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d obou stran odečteme číslo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1476360" y="357336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5451480" y="3357720"/>
            <a:ext cx="2576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d obou stran odečteme číslo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5423040" y="3573360"/>
            <a:ext cx="244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1433520" y="4317840"/>
            <a:ext cx="2706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K oběma stranám přičteme číslo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9"/>
          <p:cNvSpPr/>
          <p:nvPr/>
        </p:nvSpPr>
        <p:spPr>
          <a:xfrm>
            <a:off x="1476360" y="453384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0"/>
          <p:cNvSpPr/>
          <p:nvPr/>
        </p:nvSpPr>
        <p:spPr>
          <a:xfrm>
            <a:off x="5435640" y="4317840"/>
            <a:ext cx="2576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d obou stran odečteme číslo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5423040" y="4533840"/>
            <a:ext cx="244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2"/>
          <p:cNvSpPr/>
          <p:nvPr/>
        </p:nvSpPr>
        <p:spPr>
          <a:xfrm>
            <a:off x="1459080" y="5300640"/>
            <a:ext cx="2706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K oběma stranám přičteme číslo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1476360" y="551664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4"/>
          <p:cNvSpPr/>
          <p:nvPr/>
        </p:nvSpPr>
        <p:spPr>
          <a:xfrm>
            <a:off x="5292720" y="5300640"/>
            <a:ext cx="2792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K oběma stranám přičteme číslo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5"/>
          <p:cNvSpPr/>
          <p:nvPr/>
        </p:nvSpPr>
        <p:spPr>
          <a:xfrm>
            <a:off x="5423040" y="5516640"/>
            <a:ext cx="24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684360" y="1700280"/>
            <a:ext cx="7991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K oběma stranám rovnice můžeme přičíst stejné číslo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 rovnost se nezm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Závěr – 1. ekvivalentní úprava rov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900000" y="105264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Zapamatuj s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684360" y="5661000"/>
            <a:ext cx="7991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Od obou stran rovnice můžeme odečíst stejné číslo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 rovnost se nezm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2666880" y="2421000"/>
            <a:ext cx="3810240" cy="30956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2771640" y="4176720"/>
            <a:ext cx="10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364000" y="4192560"/>
            <a:ext cx="10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4095720" y="319896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786040" y="37018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+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364000" y="3701880"/>
            <a:ext cx="10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+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1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69600" y="981000"/>
            <a:ext cx="757404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Určete chybějící číslo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Vyřešíme společně hádanku (rébu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3046320" y="1771560"/>
            <a:ext cx="303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Webdings"/>
                <a:ea typeface="Webdings"/>
              </a:rPr>
              <a:t></a:t>
            </a:r>
            <a:r>
              <a:rPr b="0" lang="en-US" sz="4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- 2 =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885960" y="2924280"/>
            <a:ext cx="7573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rebuchet MS"/>
              </a:rPr>
              <a:t>Ano správně. Odpověď je číslo 6, protože 6 – 2 = 4. </a:t>
            </a:r>
            <a:br>
              <a:rPr sz="2000"/>
            </a:br>
            <a:r>
              <a:rPr b="0" lang="en-US" sz="2000" spc="-1" strike="noStrike">
                <a:solidFill>
                  <a:srgbClr val="00cc00"/>
                </a:solidFill>
                <a:latin typeface="Trebuchet MS"/>
              </a:rPr>
              <a:t>Jednoduché, ž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4"/>
          <p:cNvSpPr/>
          <p:nvPr/>
        </p:nvSpPr>
        <p:spPr>
          <a:xfrm>
            <a:off x="826920" y="26352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5"/>
          <p:cNvSpPr/>
          <p:nvPr/>
        </p:nvSpPr>
        <p:spPr>
          <a:xfrm>
            <a:off x="885960" y="3645000"/>
            <a:ext cx="7573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V algebře však nebudeme používat čtverce nebo obdélníky, ale písmenka. Obvykle x nebo y, ale možné je i jakékoliv jin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6"/>
          <p:cNvSpPr/>
          <p:nvPr/>
        </p:nvSpPr>
        <p:spPr>
          <a:xfrm>
            <a:off x="900000" y="443556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Takže budeme psá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8"/>
          <p:cNvSpPr/>
          <p:nvPr/>
        </p:nvSpPr>
        <p:spPr>
          <a:xfrm>
            <a:off x="3419640" y="4956120"/>
            <a:ext cx="303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- 2 =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885960" y="5734080"/>
            <a:ext cx="7573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Písmenko znamená to, co „zatím ještě nevíme“, a tak se obvykle nazývá neznámá nebo proměn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roč používáme písmenk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419640" y="1066680"/>
            <a:ext cx="303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- 2 =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885960" y="1700280"/>
            <a:ext cx="7573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Písmenko znamená to, co „zatím ještě nevíme“; tak se obvykle nazývá neznámá nebo proměn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826920" y="234936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885960" y="2565360"/>
            <a:ext cx="7573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Když neznámou určíme, zapíšeme ji tak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3132000" y="3141720"/>
            <a:ext cx="3038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884160" y="3860640"/>
            <a:ext cx="7574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Proč používáme písmenk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900000" y="4437000"/>
            <a:ext cx="7574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284c6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84c6a"/>
                </a:solidFill>
                <a:latin typeface="Trebuchet MS"/>
              </a:rPr>
              <a:t>Protože je snadnější psát „x“ než kreslit „prázdný čtvereček“ a číst „iks“ než „prázdný čtvereček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900000" y="5445000"/>
            <a:ext cx="7574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284c6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Protože v případě více neznámých by nám prázdné čtverečky nestačily (museli bychom je nějak odlišit), zatímco různá písmena nám různé neznámé okamžitě odliš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Jak postupujeme (řešíme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419640" y="1628640"/>
            <a:ext cx="303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- 2 = 4</a:t>
            </a:r>
            <a:r>
              <a:rPr b="1" lang="en-US" sz="2000" spc="-1" strike="noStrike">
                <a:solidFill>
                  <a:srgbClr val="22228b"/>
                </a:solidFill>
                <a:latin typeface="Trebuchet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885960" y="1052640"/>
            <a:ext cx="7573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Algebra je jako hádanka, kde začínáme s něčím podobným, jak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900000" y="2205000"/>
            <a:ext cx="7574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a končíme s podobným řešením, ja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3203640" y="2724120"/>
            <a:ext cx="303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= 6</a:t>
            </a:r>
            <a:r>
              <a:rPr b="1" lang="en-US" sz="2000" spc="-1" strike="noStrike">
                <a:solidFill>
                  <a:srgbClr val="22228b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4160" y="3286080"/>
            <a:ext cx="783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Než je ale možné říci, že x = 6, musíme udělat následující kro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900000" y="386244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284c6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Naším úkolem je osamostatnit x, tzn. všechno od něj odstranit tak, aby zůstalo jen „x = …“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900000" y="458316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284c6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Odstranění znamená „udělání pravého opaku“ (v našem případě přidáváme opak odečítání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900000" y="515952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284c6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Uskutečněný krok však musíme udělat na obou stran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885960" y="5805360"/>
            <a:ext cx="7573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rebuchet MS"/>
              </a:rPr>
              <a:t>Ukážeme si tento postup krok za krokem na našem konkrétním příkla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Řešení krok za kro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419640" y="1268280"/>
            <a:ext cx="303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- 2 =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206064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284c6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hceme odstranit -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4"/>
          <p:cNvSpPr/>
          <p:nvPr/>
        </p:nvSpPr>
        <p:spPr>
          <a:xfrm>
            <a:off x="4010040" y="1081080"/>
            <a:ext cx="863640" cy="86364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5"/>
          <p:cNvSpPr/>
          <p:nvPr/>
        </p:nvSpPr>
        <p:spPr>
          <a:xfrm>
            <a:off x="4154400" y="1197000"/>
            <a:ext cx="576360" cy="64764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900000" y="263700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3333cc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Chceme-li odstranit -2, tak „uděláme pravý opak“,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v tomto případě přidáme +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3419640" y="3400560"/>
            <a:ext cx="3038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- 2 =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3824280" y="3933720"/>
            <a:ext cx="1468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+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"/>
          <p:cNvSpPr/>
          <p:nvPr/>
        </p:nvSpPr>
        <p:spPr>
          <a:xfrm>
            <a:off x="3348000" y="4437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4384800" y="4538520"/>
            <a:ext cx="86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900000" y="5157720"/>
            <a:ext cx="7574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cc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Prováděnou úpravu však musíme uskutečnit na obou stran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932360" y="3933720"/>
            <a:ext cx="1468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+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5492880" y="4537080"/>
            <a:ext cx="86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7"/>
          <p:cNvSpPr/>
          <p:nvPr/>
        </p:nvSpPr>
        <p:spPr>
          <a:xfrm>
            <a:off x="2254320" y="5791320"/>
            <a:ext cx="3038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</a:t>
            </a: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+ 0</a:t>
            </a: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6502320" y="5791320"/>
            <a:ext cx="181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9"/>
          <p:cNvSpPr/>
          <p:nvPr/>
        </p:nvSpPr>
        <p:spPr>
          <a:xfrm>
            <a:off x="5405400" y="5762520"/>
            <a:ext cx="1225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24000" y="26028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roč musíme provádět úpravy na obou straná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900000" y="105264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usíme udržet rovnost, podobně jako rovnováhu na va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3348000" y="1844640"/>
            <a:ext cx="303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- 2 =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666880" y="2781360"/>
            <a:ext cx="3810240" cy="30956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2771640" y="4537080"/>
            <a:ext cx="10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364000" y="4552920"/>
            <a:ext cx="10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095720" y="355932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3333600" y="1844640"/>
            <a:ext cx="3038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- 2 =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324000" y="26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roč musíme provádět úpravy na obou straná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900000" y="105264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idáme-li na jedné straně +2, rovnováha se poruší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195640" y="183024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- 2 </a:t>
            </a: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+ 2 </a:t>
            </a:r>
            <a:r>
              <a:rPr b="1" lang="en-US" sz="48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666880" y="2781360"/>
            <a:ext cx="3810240" cy="30956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2771640" y="4537080"/>
            <a:ext cx="10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5364000" y="4552920"/>
            <a:ext cx="10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4095720" y="355932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666880" y="2781360"/>
            <a:ext cx="3810240" cy="3095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2843280" y="494172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814480" y="4494240"/>
            <a:ext cx="10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+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5364000" y="4365720"/>
            <a:ext cx="10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097160" y="3716280"/>
            <a:ext cx="10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666880" y="2781360"/>
            <a:ext cx="3810240" cy="3095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2"/>
          <p:cNvSpPr/>
          <p:nvPr/>
        </p:nvSpPr>
        <p:spPr>
          <a:xfrm>
            <a:off x="2195640" y="184464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- 2 </a:t>
            </a: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+ 2 </a:t>
            </a: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= 4 </a:t>
            </a: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+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1662120" y="183024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- 2 </a:t>
            </a: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+ 2 </a:t>
            </a:r>
            <a:r>
              <a:rPr b="1" lang="en-US" sz="48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24000" y="26028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roč musíme provádět úpravy na obou straná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900000" y="105264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idáme-li +2 i na druhé straně, rovnováha se navrátí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843280" y="494172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2814480" y="4510080"/>
            <a:ext cx="10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+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364000" y="4365720"/>
            <a:ext cx="10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097160" y="3716280"/>
            <a:ext cx="10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666880" y="2781360"/>
            <a:ext cx="3810240" cy="3095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2771640" y="4537080"/>
            <a:ext cx="10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64000" y="4552920"/>
            <a:ext cx="10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095720" y="355932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2786040" y="406224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+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5364000" y="4062240"/>
            <a:ext cx="10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+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611280" y="83664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24000" y="26028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roč musíme provádět úpravy na obou straná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743040" y="90792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zkoušejte si to na stránce pod následujícím odkazem. Skládejte na misky vah proměnné (neznámé) a čísla a zkoumejte, kdy nastává rovnost.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Stránku otevřete kliknutím na obrázek, případně adresu stránky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43040" y="1844640"/>
            <a:ext cx="8076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nlvm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.usu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edu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/en/nav/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frames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_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asid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_201_g_4_t_2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html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?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open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=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instructions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&amp;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hidepanel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=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true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&amp;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from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22"/>
              </a:rPr>
              <a:t>=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23"/>
              </a:rPr>
              <a:t>vlibrary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24"/>
              </a:rPr>
              <a:t>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25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6"/>
          <a:stretch/>
        </p:blipFill>
        <p:spPr>
          <a:xfrm>
            <a:off x="3706920" y="2185920"/>
            <a:ext cx="4897440" cy="39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Tereza Bížová</cp:lastModifiedBy>
  <dcterms:modified xsi:type="dcterms:W3CDTF">2009-11-30T13:59:12Z</dcterms:modified>
  <cp:revision>65</cp:revision>
  <dc:subject/>
  <dc:title>Úvod do algebry 1</dc:title>
</cp:coreProperties>
</file>