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D28-C3B4-4B30-9365-9243DECD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1E7-58A3-4FBD-A509-DD1B02E5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7E1-1925-45E8-BAA3-E902E495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093-7E7E-4F08-B574-B8534C45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CEBB-C853-4256-A68D-ADDB2B69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8E73-0D11-4160-B2DB-60622F5A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3A4C-6ACF-4E68-8B05-D4867BCF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8A7F-8B90-4F3B-B6D6-E633A5D8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FF6C-D2E3-4385-8922-E4664EB8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B907-E95F-4545-A5E8-F4876A51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41A1-9C5D-48A7-96F3-C7C7FDE2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5B6-E5F9-4766-87A5-82A2517C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8C4A-41FB-4FD1-B02D-C369D4E1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E942-E576-4529-96DB-AE28AF6E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3526-C1DD-4509-9DB5-8A6939B4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22B4-8EDD-4A78-BFF8-DEEF760B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9D2A-5761-4081-ADD4-30B0FDF4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242-67BC-48D7-9BC7-D90E1753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266-375E-4B35-AA24-07C34DD4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162-B1F8-4952-928D-BDAD21DA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D89-7077-40A9-99BD-E79567AF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402-61EF-4080-9BE8-2EE67276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C13-F204-43B1-BB40-5E5FAB0F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1E3-692D-41FA-B0CA-5537B02E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5159-0415-45B9-A0A3-FB49CBE1B8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68E4-A0EF-4FDC-A0B8-FF4D08DCD118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hsisfun.com/algebra/add-subtract-balance.html" TargetMode="External"/><Relationship Id="rId3" Type="http://schemas.openxmlformats.org/officeDocument/2006/relationships/hyperlink" Target="http://www.mathsisfun.com/algebra/add-subtract-balance.html" TargetMode="External"/><Relationship Id="rId4" Type="http://schemas.openxmlformats.org/officeDocument/2006/relationships/hyperlink" Target="http://www.mathsisfun.com/algebra/add-subtract-balance.html" TargetMode="External"/><Relationship Id="rId5" Type="http://schemas.openxmlformats.org/officeDocument/2006/relationships/hyperlink" Target="http://www.mathsisfun.com/algebra/add-subtract-balance.html" TargetMode="External"/><Relationship Id="rId6" Type="http://schemas.openxmlformats.org/officeDocument/2006/relationships/hyperlink" Target="http://www.mathsisfun.com/algebra/add-subtract-balance.html" TargetMode="External"/><Relationship Id="rId7" Type="http://schemas.openxmlformats.org/officeDocument/2006/relationships/hyperlink" Target="http://www.mathsisfun.com/algebra/add-subtract-balance.html" TargetMode="External"/><Relationship Id="rId8" Type="http://schemas.openxmlformats.org/officeDocument/2006/relationships/hyperlink" Target="http://www.mathsisfun.com/algebra/add-subtract-balance.html" TargetMode="External"/><Relationship Id="rId9" Type="http://schemas.openxmlformats.org/officeDocument/2006/relationships/hyperlink" Target="http://www.mathsisfun.com/algebra/add-subtract-balance.html" TargetMode="External"/><Relationship Id="rId10" Type="http://schemas.openxmlformats.org/officeDocument/2006/relationships/hyperlink" Target="http://www.mathsisfun.com/algebra/add-subtract-balance.html" TargetMode="External"/><Relationship Id="rId11" Type="http://schemas.openxmlformats.org/officeDocument/2006/relationships/hyperlink" Target="http://www.mathsisfun.com/algebra/add-subtract-balance.html" TargetMode="Externa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Úvod do algebry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(řešení jednoduchých rovnic)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373068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Algebra je zábava,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řešení hádanek (rébusů)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(kombinace 1. a 2. ekvivalentní úpravy rovnic)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27040" y="5818320"/>
            <a:ext cx="80773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brazový materiál:  [cit. 2009-27-01]. Dostupný pod licencí GNU Free Documentation License na http://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http://commons.wikimedia.org/wiki/File:Balance_icon.sv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14400" y="4508640"/>
            <a:ext cx="488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bě strany rovnice můžeme vynásobit stejným číslem různým od nuly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 rovnost se nez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apamatuj s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914400" y="5589720"/>
            <a:ext cx="4881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bě strany rovnice můžeme vydělit stejným číslem různým od nuly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 rovnost se nez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900000" y="1917720"/>
            <a:ext cx="518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K oběma stranám rovnice můžeme přičíst stejné číslo a rovnost se nez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900000" y="2637000"/>
            <a:ext cx="518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d obou stran rovnice můžeme odečíst stejné číslo a rovnost se nez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900000" y="1268280"/>
            <a:ext cx="518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. ekvivalentní úprava rov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928800" y="3687840"/>
            <a:ext cx="518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. ekvivalentní úprava rov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730840" y="1074600"/>
            <a:ext cx="3162240" cy="2570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5738760" y="260820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7923240" y="262260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848640" y="244944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738760" y="21477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7923240" y="216216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5767560" y="21477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7951680" y="216216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778360" y="3738600"/>
            <a:ext cx="3162600" cy="25700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5786280" y="527220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7970760" y="528624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6896160" y="511344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5786280" y="481176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7970760" y="482616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5815080" y="481176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999560" y="482616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611280" y="83664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24000" y="26028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Interaktivní vá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743040" y="1079640"/>
            <a:ext cx="80769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a úplný závěr si můžete vyzkoušet ještě složitější rovnice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 interaktivním apletu na stránce pod následujícím odkaz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743040" y="1370160"/>
            <a:ext cx="8076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www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mathsisfun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com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/algebra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add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8"/>
              </a:rPr>
              <a:t>-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9"/>
              </a:rPr>
              <a:t>subtract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10"/>
              </a:rPr>
              <a:t>-balance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11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12"/>
          <a:stretch/>
        </p:blipFill>
        <p:spPr>
          <a:xfrm>
            <a:off x="684360" y="1989000"/>
            <a:ext cx="7991280" cy="3672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7"/>
          <p:cNvSpPr/>
          <p:nvPr/>
        </p:nvSpPr>
        <p:spPr>
          <a:xfrm>
            <a:off x="2268360" y="5805360"/>
            <a:ext cx="5413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ávod naleznete na dalších snímcí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611280" y="83664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24000" y="26028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Interaktivní vá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743040" y="922320"/>
            <a:ext cx="80769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áv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991280" cy="36720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7"/>
          <p:cNvSpPr/>
          <p:nvPr/>
        </p:nvSpPr>
        <p:spPr>
          <a:xfrm>
            <a:off x="1403280" y="4941720"/>
            <a:ext cx="5689800" cy="1557360"/>
          </a:xfrm>
          <a:prstGeom prst="cloudCallout">
            <a:avLst>
              <a:gd name="adj1" fmla="val -39564"/>
              <a:gd name="adj2" fmla="val -1091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ady na obě misky přidávejte neb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z obou misek odebírejte čís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i neznámé tak dlouho, až určíte čemu se rovná neznám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611280" y="83664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24000" y="26028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Interaktivní vá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743040" y="922320"/>
            <a:ext cx="80769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áv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684360" y="2494080"/>
            <a:ext cx="7991280" cy="367164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6"/>
          <p:cNvSpPr/>
          <p:nvPr/>
        </p:nvSpPr>
        <p:spPr>
          <a:xfrm>
            <a:off x="2916360" y="907920"/>
            <a:ext cx="3168360" cy="1511280"/>
          </a:xfrm>
          <a:prstGeom prst="cloudCallout">
            <a:avLst>
              <a:gd name="adj1" fmla="val 76703"/>
              <a:gd name="adj2" fmla="val 713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ady vygenerujte novou rovni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84360" y="1700280"/>
            <a:ext cx="799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K oběma stranám rovnice můžeme přičíst stejné číslo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 rovnost se nez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opakujme 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00000" y="1052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1. ekvivalentní úprava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4360" y="5661000"/>
            <a:ext cx="7991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d obou stran rovnice můžeme odečíst stejné číslo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 rovnost se nez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666880" y="2421000"/>
            <a:ext cx="3810240" cy="3095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2771640" y="417672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364000" y="419256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095720" y="319896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771640" y="371628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364000" y="373212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800440" y="3716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92800" y="373212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Řešení krok za krok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419640" y="126828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- 2 =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00000" y="2060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hceme odstranit -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4010040" y="1081080"/>
            <a:ext cx="863640" cy="86364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4154400" y="1197000"/>
            <a:ext cx="576360" cy="64764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900000" y="263700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3333cc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Chceme-li odstranit -2, tak „uděláme pravý opak“,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v tomto případě přidáme +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419640" y="3400560"/>
            <a:ext cx="3038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- 2 =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3824280" y="3933720"/>
            <a:ext cx="146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+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443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384800" y="4538520"/>
            <a:ext cx="86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900000" y="515772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cc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Prováděnou úpravu však musíme uskutečnit na obou stra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4932360" y="3933720"/>
            <a:ext cx="146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+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5492880" y="4537080"/>
            <a:ext cx="86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2254320" y="5791320"/>
            <a:ext cx="3038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</a:t>
            </a: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+ 0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6502320" y="5791320"/>
            <a:ext cx="181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=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5405400" y="5762520"/>
            <a:ext cx="122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84360" y="1700280"/>
            <a:ext cx="799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bě strany rovnice můžeme vynásobit stejným číslem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ůzným od nuly a rovnost se nez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opakujme 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00000" y="1052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2. ekvivalentní úprava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84360" y="5661000"/>
            <a:ext cx="7991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bě strany rovnice můžeme vydělit stejným číslem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ůzným od nuly a rovnost se nez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666880" y="2421000"/>
            <a:ext cx="3810240" cy="3095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2771640" y="417672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364000" y="419256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095720" y="319896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771640" y="371628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64000" y="373212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800440" y="3716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: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392800" y="373212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: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Řešení krok za krok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419640" y="126828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4 x =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900000" y="2060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hceme odstranit násobení číslem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4"/>
          <p:cNvSpPr/>
          <p:nvPr/>
        </p:nvSpPr>
        <p:spPr>
          <a:xfrm>
            <a:off x="3419640" y="1211400"/>
            <a:ext cx="603000" cy="60300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3519360" y="1293840"/>
            <a:ext cx="403200" cy="45396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900000" y="2637000"/>
            <a:ext cx="777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3333cc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Chceme-li odstranit číslo 4, tak „uděláme pravý opak“ </a:t>
            </a: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(čtyřmi se násobilo)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, v tomto případě budeme číslem 4 děl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4054320" y="3400560"/>
            <a:ext cx="303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4x =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3838680" y="3933720"/>
            <a:ext cx="146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: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3564000" y="443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4110120" y="4538520"/>
            <a:ext cx="86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900000" y="515772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cc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Prováděnou úpravu však musíme uskutečnit na obou stra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5235480" y="3933720"/>
            <a:ext cx="146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: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5492880" y="4537080"/>
            <a:ext cx="86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3132000" y="5791320"/>
            <a:ext cx="303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1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= </a:t>
            </a: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6502320" y="5791320"/>
            <a:ext cx="181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=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5405400" y="5762520"/>
            <a:ext cx="122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3348000" y="3429000"/>
            <a:ext cx="5256360" cy="2376360"/>
          </a:xfrm>
          <a:prstGeom prst="cloudCallout">
            <a:avLst>
              <a:gd name="adj1" fmla="val -28768"/>
              <a:gd name="adj2" fmla="val -1140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akové složitější „hádanky“ se řeší po etapách. Nejprve využijeme 1. ekvivalentní úpravu a „odstraníme“ od neznámé „dvojku“ a pak pomoc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2. ekvivalentní úpravy i „trojku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Vyřešíme si nyní složitější hádan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627280" y="1268280"/>
            <a:ext cx="439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: 3 + 2 =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2060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hceme odstranit přičtení čísla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181400" y="1022400"/>
            <a:ext cx="981000" cy="98100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4343400" y="1152360"/>
            <a:ext cx="657360" cy="73692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900000" y="263700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3333cc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Chcete-li odstranit přičtení čísla 2, tak „uděláme pravý opak“, v tomto případě odečteme číslo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900000" y="515772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cc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Prováděnou úpravu však musíme uskutečnit na obou stra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1720800" y="5791320"/>
            <a:ext cx="424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: 3</a:t>
            </a: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 + 0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6227640" y="5791320"/>
            <a:ext cx="27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: 3 =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5448240" y="5762520"/>
            <a:ext cx="122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9"/>
          <p:cNvSpPr/>
          <p:nvPr/>
        </p:nvSpPr>
        <p:spPr>
          <a:xfrm>
            <a:off x="4255920" y="3933720"/>
            <a:ext cx="146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-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>
            <a:off x="3348000" y="443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1"/>
          <p:cNvSpPr/>
          <p:nvPr/>
        </p:nvSpPr>
        <p:spPr>
          <a:xfrm>
            <a:off x="4672080" y="4538520"/>
            <a:ext cx="86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2"/>
          <p:cNvSpPr/>
          <p:nvPr/>
        </p:nvSpPr>
        <p:spPr>
          <a:xfrm>
            <a:off x="5321160" y="3933720"/>
            <a:ext cx="146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-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3"/>
          <p:cNvSpPr/>
          <p:nvPr/>
        </p:nvSpPr>
        <p:spPr>
          <a:xfrm>
            <a:off x="5722920" y="4537080"/>
            <a:ext cx="86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4"/>
          <p:cNvSpPr/>
          <p:nvPr/>
        </p:nvSpPr>
        <p:spPr>
          <a:xfrm>
            <a:off x="2627280" y="3357720"/>
            <a:ext cx="43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: 3 + 2 =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Vyřešíme si nyní složitější hádan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635280" y="1268280"/>
            <a:ext cx="439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: 3 =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900000" y="2060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hceme odstranit dělení číslem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4181400" y="1022400"/>
            <a:ext cx="981000" cy="98100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4343400" y="1152360"/>
            <a:ext cx="657360" cy="73692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900000" y="2637000"/>
            <a:ext cx="763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3333cc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Chcete-li odstranit dělení číslem 3, tak „uděláme pravý opak“, v tomto případě budeme násobit číslem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900000" y="515772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cc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Prováděnou úpravu však musíme uskutečnit na obou stra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2916360" y="5791320"/>
            <a:ext cx="28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.1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502320" y="5791320"/>
            <a:ext cx="2030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=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5405400" y="5762520"/>
            <a:ext cx="122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4"/>
              <p:cNvSpPr txBox="1"/>
              <p:nvPr/>
            </p:nvSpPr>
            <p:spPr>
              <a:xfrm>
                <a:off x="3406680" y="3270240"/>
                <a:ext cx="244656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15"/>
          <p:cNvSpPr/>
          <p:nvPr/>
        </p:nvSpPr>
        <p:spPr>
          <a:xfrm>
            <a:off x="4040280" y="3817800"/>
            <a:ext cx="107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5724360" y="3817800"/>
            <a:ext cx="10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 flipV="1">
            <a:off x="3492360" y="4220640"/>
            <a:ext cx="50328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 flipV="1">
            <a:off x="4284720" y="3746160"/>
            <a:ext cx="50328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Tak a teď sami.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ásledující: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3" descr=""/>
          <p:cNvPicPr/>
          <p:nvPr/>
        </p:nvPicPr>
        <p:blipFill>
          <a:blip r:embed="rId2"/>
          <a:stretch/>
        </p:blipFill>
        <p:spPr>
          <a:xfrm>
            <a:off x="812880" y="949320"/>
            <a:ext cx="7759800" cy="53672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1"/>
          <p:cNvSpPr/>
          <p:nvPr/>
        </p:nvSpPr>
        <p:spPr>
          <a:xfrm>
            <a:off x="6184800" y="5950080"/>
            <a:ext cx="25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ukázku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6084720" y="155736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6182280" y="1109520"/>
            <a:ext cx="8924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Trebuchet MS"/>
              </a:rPr>
              <a:t>7 + 5x = 3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7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7759800" cy="53672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Tak a teď už sami.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ásledující: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971640" y="133992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d obou stran odečteme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2629080" y="133992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10x=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702320" y="133992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d obou stran odečteme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6445080" y="132552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5x=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971640" y="242100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 oběma stranám přičteme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2700360" y="242100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9x=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4702320" y="242100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d obou stran odečteme 3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445080" y="240660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4x=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971640" y="354348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 oběma stranám přičteme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2728800" y="354348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3x=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4702320" y="354348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 oběma stranám přičteme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6502320" y="352908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7x=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9"/>
          <p:cNvSpPr/>
          <p:nvPr/>
        </p:nvSpPr>
        <p:spPr>
          <a:xfrm>
            <a:off x="971640" y="460836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 oběma stranám přičteme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714760" y="4608360"/>
            <a:ext cx="24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8x=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4702320" y="4608360"/>
            <a:ext cx="24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d obou stran odečteme 3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6516720" y="459432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9x=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971640" y="568944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d obou stran odečteme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4"/>
          <p:cNvSpPr/>
          <p:nvPr/>
        </p:nvSpPr>
        <p:spPr>
          <a:xfrm>
            <a:off x="2700360" y="568944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7x=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5"/>
          <p:cNvSpPr/>
          <p:nvPr/>
        </p:nvSpPr>
        <p:spPr>
          <a:xfrm>
            <a:off x="4702320" y="5689440"/>
            <a:ext cx="24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K oběma stranám přičteme 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6"/>
          <p:cNvSpPr/>
          <p:nvPr/>
        </p:nvSpPr>
        <p:spPr>
          <a:xfrm>
            <a:off x="6573960" y="567540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9x=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8"/>
          <p:cNvSpPr/>
          <p:nvPr/>
        </p:nvSpPr>
        <p:spPr>
          <a:xfrm>
            <a:off x="971640" y="162864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9"/>
          <p:cNvSpPr/>
          <p:nvPr/>
        </p:nvSpPr>
        <p:spPr>
          <a:xfrm>
            <a:off x="4702320" y="1628640"/>
            <a:ext cx="24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0"/>
          <p:cNvSpPr/>
          <p:nvPr/>
        </p:nvSpPr>
        <p:spPr>
          <a:xfrm>
            <a:off x="971640" y="270972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1"/>
          <p:cNvSpPr/>
          <p:nvPr/>
        </p:nvSpPr>
        <p:spPr>
          <a:xfrm>
            <a:off x="4702320" y="2709720"/>
            <a:ext cx="24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2"/>
          <p:cNvSpPr/>
          <p:nvPr/>
        </p:nvSpPr>
        <p:spPr>
          <a:xfrm>
            <a:off x="971640" y="383220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3"/>
          <p:cNvSpPr/>
          <p:nvPr/>
        </p:nvSpPr>
        <p:spPr>
          <a:xfrm>
            <a:off x="4702320" y="3832200"/>
            <a:ext cx="24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971640" y="489744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4702320" y="489744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6"/>
          <p:cNvSpPr/>
          <p:nvPr/>
        </p:nvSpPr>
        <p:spPr>
          <a:xfrm>
            <a:off x="971640" y="597852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7"/>
          <p:cNvSpPr/>
          <p:nvPr/>
        </p:nvSpPr>
        <p:spPr>
          <a:xfrm>
            <a:off x="4702320" y="597852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8"/>
          <p:cNvSpPr/>
          <p:nvPr/>
        </p:nvSpPr>
        <p:spPr>
          <a:xfrm>
            <a:off x="2700360" y="161460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6182280" y="1109520"/>
            <a:ext cx="8924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8080"/>
                </a:solidFill>
                <a:latin typeface="Trebuchet MS"/>
              </a:rPr>
              <a:t>7 + 5x = 3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0"/>
          <p:cNvSpPr/>
          <p:nvPr/>
        </p:nvSpPr>
        <p:spPr>
          <a:xfrm>
            <a:off x="6443640" y="159876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2714760" y="270828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2"/>
          <p:cNvSpPr/>
          <p:nvPr/>
        </p:nvSpPr>
        <p:spPr>
          <a:xfrm>
            <a:off x="6488280" y="2709720"/>
            <a:ext cx="24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3"/>
          <p:cNvSpPr/>
          <p:nvPr/>
        </p:nvSpPr>
        <p:spPr>
          <a:xfrm>
            <a:off x="2771640" y="383220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6516720" y="380376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743200" y="491184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6531120" y="489744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714760" y="597852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6588000" y="596412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02-18T09:34:44Z</dcterms:modified>
  <cp:revision>63</cp:revision>
  <dc:subject/>
  <dc:title>Úvod do algebry - řešení rovnic</dc:title>
</cp:coreProperties>
</file>