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A80-3530-45B7-8316-2CD38680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B6D-3D91-4DCC-9A07-7765ACE5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F21-7A78-446E-A114-382FCB74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9E4-38DC-4F6E-A683-708F2C57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98C4-1DDF-4CBA-9C82-B06B2B65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CCB-A1B7-4698-AE3B-25A3BAC5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B19E-43B7-4CCD-83EB-73E5070A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7990-7AC7-455A-BFFC-36037BDC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3A86-D014-442C-A093-9654435B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916A-99F4-49E5-A0A0-623859B7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0805-6817-49C5-B55A-B72F8EAF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520-63DD-46BA-9C86-B7DB4D08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DBA0-CA32-49A6-AFE1-23CA972C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0EFA-DE00-4D3B-8210-F0B2408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9197-2ED0-4790-AE8B-E7AE9512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525B-E73A-4ED2-B897-0AF588BD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44FE-EEC0-4AAE-BE86-2CDA5FB0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6170-1509-483A-ACDE-A5D0E95F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A6C-B405-40AF-AC22-CD00498B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127-9A89-40B8-AFE6-504B685D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BD9-946A-4DB9-86DB-1BDF3FA5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E5B-60EC-4C65-9365-E4A82FB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E5D-2735-47EF-BF18-E466AFA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94A-3314-42AD-B010-3ACEEE63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C3DF-10C4-4C25-8CCF-35EEF5AB0B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3177-47F1-413D-AB10-2106228AAAD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Úvod do algebry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(řešení jednoduchých rovnic)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73068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Algebra je zábava,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řešení hádanek (rébusů)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(2. ekvivalentní úprava rovnic)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27040" y="5673600"/>
            <a:ext cx="8077320" cy="635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azový materiál:  [cit. 2009-27-01], pod licencí GNU Free Documentation License na http://commons.wikimedia.org, www: http://commons.wikimedia.org/wiki/File:Balance_icon.sv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9640" y="6093000"/>
            <a:ext cx="8077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Fotografie jablka: Mgr. Radomír Machá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11280" y="83664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musíme provádět úpravy na obou straná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43040" y="90792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zkoušejte si to na stránce pod následujícím odkazem. Skládej na misky vah proměnné (neznámé) a čísla a zkoumej, kdy nastává rovnost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Stránku otevřeš kliknutím na obrázek, případně adresu stránky)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743040" y="1844640"/>
            <a:ext cx="8076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http://nlvm.usu.edu/en/nav/frames_asid_201_g_4_t_2.html?open=instructions&amp;hidepanel=true&amp;from=category_g_4_t_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8480" y="2781360"/>
            <a:ext cx="380988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84360" y="1700280"/>
            <a:ext cx="79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 udržení rovnováhy na vahách musíme dané množství na obou miskách vah znásobit, případně podělit stejně (stejným číslem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ováha – rov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Zapamatuj s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84360" y="5661000"/>
            <a:ext cx="799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ro udržení rovnosti musíme podobně jako na vahách totéž, co uděláme na jedné straně, udělat i na straně druhé!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3809880" cy="30956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2843280" y="41767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435640" y="41925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095720" y="31989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43280" y="41781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5435640" y="4194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tedy ještě jednu hádanku spole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419640" y="126828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: 3 =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00000" y="2060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hceme odstranit dělení číslem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3951360" y="1022400"/>
            <a:ext cx="981000" cy="98100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4113360" y="1152360"/>
            <a:ext cx="657000" cy="73692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900000" y="263700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3333cc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hcete-li odstranit dělení číslem 3, tak „uděláme pravý opak“, v tomto případě vynásobíme číslem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900000" y="515772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cc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ováděnou úpravu však musíme uskutečni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2556000" y="5791320"/>
            <a:ext cx="33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.1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6502320" y="5791320"/>
            <a:ext cx="2030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5405400" y="576252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9"/>
              <p:cNvSpPr txBox="1"/>
              <p:nvPr/>
            </p:nvSpPr>
            <p:spPr>
              <a:xfrm>
                <a:off x="3406680" y="3270240"/>
                <a:ext cx="244656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1"/>
          <p:cNvSpPr/>
          <p:nvPr/>
        </p:nvSpPr>
        <p:spPr>
          <a:xfrm>
            <a:off x="4040280" y="3817800"/>
            <a:ext cx="107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5724360" y="3817800"/>
            <a:ext cx="107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>
            <a:off x="179280" y="3429000"/>
            <a:ext cx="2303640" cy="1727280"/>
          </a:xfrm>
          <a:prstGeom prst="cloudCallout">
            <a:avLst>
              <a:gd name="adj1" fmla="val 87351"/>
              <a:gd name="adj2" fmla="val -13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Zlomek je jen jiný (názornější) zápis děl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4"/>
          <p:cNvSpPr/>
          <p:nvPr/>
        </p:nvSpPr>
        <p:spPr>
          <a:xfrm flipV="1">
            <a:off x="3492360" y="4220640"/>
            <a:ext cx="50328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5"/>
          <p:cNvSpPr/>
          <p:nvPr/>
        </p:nvSpPr>
        <p:spPr>
          <a:xfrm flipV="1">
            <a:off x="4284720" y="3746160"/>
            <a:ext cx="50328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a teď už sami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ásledující: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6184800" y="595008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2" descr=""/>
          <p:cNvPicPr/>
          <p:nvPr/>
        </p:nvPicPr>
        <p:blipFill>
          <a:blip r:embed="rId2"/>
          <a:stretch/>
        </p:blipFill>
        <p:spPr>
          <a:xfrm>
            <a:off x="666720" y="1052640"/>
            <a:ext cx="8008920" cy="43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a teď už sami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ásledující: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66720" y="981000"/>
            <a:ext cx="8008920" cy="5256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1504800" y="14130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476360" y="162864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451480" y="141300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423040" y="162864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1504800" y="24638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1476360" y="26798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5451480" y="24638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5423040" y="267984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1504800" y="350208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1476360" y="371808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5451480" y="350208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5423040" y="371808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1504800" y="4581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1476360" y="4797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5451480" y="4581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5423040" y="479736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1504800" y="558972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1476360" y="5805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5451480" y="558972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Obě strany vydělíme číslem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5423040" y="5805360"/>
            <a:ext cx="2447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x=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4360" y="1700280"/>
            <a:ext cx="799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bě strany rovnice můžeme vynásobit stejným číslem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ůzným od nuly 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ávěr – 2. ekvivalentní úprava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apamatuj s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684360" y="5661000"/>
            <a:ext cx="799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bě strany rovnice můžeme vydělit stejným číslem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ůzným od nuly a rovnost se nezm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3809880" cy="30956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2843280" y="41767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5435640" y="41925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2843280" y="41781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435640" y="4194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095720" y="319896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843280" y="41497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435640" y="41655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1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600" y="981000"/>
            <a:ext cx="757404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Určete chybějící číslo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Vyřešíme společně hádanku (rébu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3046320" y="177156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Webdings"/>
                <a:ea typeface="Webdings"/>
              </a:rPr>
              <a:t></a:t>
            </a:r>
            <a:r>
              <a:rPr b="0" lang="en-US" sz="4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Trebuchet MS"/>
              </a:rPr>
              <a:t>.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4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885960" y="292428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Ano správně. Odpověď je číslo 2, protože 2.4=8. </a:t>
            </a:r>
            <a:br>
              <a:rPr sz="2000"/>
            </a:b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Jednoduché ž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826920" y="26352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885960" y="364500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V algebře ale nebudeme používat čtverce nebo obdélníky, ale písmenka. Obvykle </a:t>
            </a:r>
            <a:r>
              <a:rPr b="0" i="1" lang="en-US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nebo </a:t>
            </a:r>
            <a:r>
              <a:rPr b="0" i="1" lang="en-US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, ale možné je i jakékoliv ji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900000" y="443556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Takže budeme psá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3419640" y="495612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. 4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885960" y="573408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ísmenko znamená to, co „zatím ještě nevíme“ a tak se obvykle nazývá neznámá nebo proměn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Vyřešíme společně hádanku (rébu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419640" y="126828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. 4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885960" y="206064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Jak víme na základě komutativního zákona, tj. zákona o záměně činitelů, je stejné pokud píšeme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x.4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nebo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.x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3290760" y="2795760"/>
            <a:ext cx="303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 . 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587760" y="3529080"/>
            <a:ext cx="62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4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4600440" y="352908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= 4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108000" y="3514680"/>
            <a:ext cx="3095640" cy="1859040"/>
          </a:xfrm>
          <a:prstGeom prst="cloudCallout">
            <a:avLst>
              <a:gd name="adj1" fmla="val 76921"/>
              <a:gd name="adj2" fmla="val -600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ro větší názornost můžeme místo 4.x „čtyři krát x“ použít „čtyři krát jablko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5651640" y="3860640"/>
            <a:ext cx="3313080" cy="1873440"/>
          </a:xfrm>
          <a:prstGeom prst="cloudCallout">
            <a:avLst>
              <a:gd name="adj1" fmla="val -77120"/>
              <a:gd name="adj2" fmla="val -394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Přitom ale neříkáme „čtyři krát jablko“, ale „čtyři jablka“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A proto to t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i zapíšem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4920" y="530064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 obdobně tedy budeme zapisovat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3693960" y="5805360"/>
            <a:ext cx="303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25960" y="361620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437080" y="361620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používáme písmen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3549600" y="106668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885960" y="170028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ísmenko znamená to, co „zatím ještě nevíme“, a tak se obvykle nazývá neznámá nebo proměn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826920" y="234936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85960" y="2565360"/>
            <a:ext cx="7573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Když neznámou určíme, zapíšeme ji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3132000" y="3141720"/>
            <a:ext cx="303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84160" y="386064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roč používáme písmen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900000" y="443700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Protože je snadnější psát „x“ než kreslit „prázdný čtvereček“ a číst „iks“ než „prázdný čtvereček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900000" y="544500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rotože v případě více neznámých by nám prázdné čtverečky nestačily (museli bychom je nějak odlišit), zatímco různá písmena nám různé neznáme okamžitě odliš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ak postupujeme (řešíme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621240" y="162864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85960" y="1052640"/>
            <a:ext cx="757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lgebra je jako hádanka, kde začínáme s něčím podobným ja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900000" y="220500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 končíme s podobným řešením ja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203640" y="272412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884160" y="328608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ež je ale možné říci, že x = 2, musíme udělat následující kro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900000" y="38624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aším úkolem je osamostatnit x, tzn. všechno od něj odstranit tak, aby zůstalo jen „x = …“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900000" y="458316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Odstranění znamená „udělání pravého opaku“ (v našem případě přidáváme opak násobení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900000" y="515952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Uskutečněný krok však musíme uděla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85960" y="5805360"/>
            <a:ext cx="7573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rebuchet MS"/>
              </a:rPr>
              <a:t>Ukážeme si tento postup krok za krokem na našem konkrétním příkla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24000" y="260280"/>
            <a:ext cx="807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Řešení krok za krok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419640" y="126828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 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900000" y="2060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284c6a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hceme odstranit násobení číslem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3419640" y="1211400"/>
            <a:ext cx="603000" cy="603000"/>
          </a:xfrm>
          <a:prstGeom prst="ellipse">
            <a:avLst/>
          </a:prstGeom>
          <a:noFill/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3519360" y="1293840"/>
            <a:ext cx="403200" cy="45396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900000" y="2637000"/>
            <a:ext cx="777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3333cc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hceme-li odstranit číslo 4, tak „uděláme pravý opak “ </a:t>
            </a: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(čtyřmi se násobilo)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, v tomto případě budeme číslem 4 dě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054320" y="3400560"/>
            <a:ext cx="303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383868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: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3564000" y="44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4110120" y="4538520"/>
            <a:ext cx="86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900000" y="5157720"/>
            <a:ext cx="7574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cc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ováděnou úpravu však musíme uskutečnit na obou stra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5235480" y="3933720"/>
            <a:ext cx="1468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: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5492880" y="4537080"/>
            <a:ext cx="86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3132000" y="5791320"/>
            <a:ext cx="303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rebuchet MS"/>
              </a:rPr>
              <a:t>1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</a:t>
            </a:r>
            <a:r>
              <a:rPr b="1" lang="en-US" sz="48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502320" y="5791320"/>
            <a:ext cx="181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5405400" y="576252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musíme provádět úpravy na obou straná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052640"/>
            <a:ext cx="7574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usíme udržet rovnost, podobně jako rovnováhu na va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3103560" y="184464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666880" y="278136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2771640" y="453708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364000" y="455292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95720" y="35593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musíme provádět úpravy na obou straná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103560" y="184464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4x =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684360" y="1125360"/>
            <a:ext cx="79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bude-li na levé straně jen jedna neznámá, což odpovídá dělení levé strany číslem 4, rovnováha se poruš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3132000" y="1830240"/>
            <a:ext cx="303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666880" y="278136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2771640" y="453708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364000" y="455292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095720" y="35593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527200" y="2716200"/>
            <a:ext cx="4103640" cy="2930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2843280" y="416232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5464080" y="48704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11280" y="907920"/>
            <a:ext cx="8137440" cy="54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666880" y="2781360"/>
            <a:ext cx="3810240" cy="309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527200" y="2716200"/>
            <a:ext cx="4103640" cy="29304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843280" y="416232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464080" y="487044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809880" cy="3095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843280" y="453708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435640" y="455292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095720" y="355932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3132000" y="1830240"/>
            <a:ext cx="3038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24000" y="26028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roč musíme provádět úpravy na obou straná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84360" y="1125360"/>
            <a:ext cx="79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dělíme-li číslem 4 i pravou stranu (8:4=2), rovnováha se navrá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117960" y="1844640"/>
            <a:ext cx="3038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x =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2-18T09:13:13Z</dcterms:modified>
  <cp:revision>63</cp:revision>
  <dc:subject/>
  <dc:title>Úvod do algebry - 2. ekvivalentní úprava</dc:title>
</cp:coreProperties>
</file>