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347-9B43-47D3-9E78-34D95CB2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CC5-4743-4C1A-9BDE-52A620A9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6EF-97C5-45F6-8B2D-B3653864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AD1-2436-404A-8574-7EAFE437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190F-92CA-44FC-A5BC-FD813CAA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FD93-BBF5-48DE-812E-D618935C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B876-250C-4D93-9467-2FACB236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639E-303F-428A-814F-FE0F3DD4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22D2-1744-4448-80B8-F36BB81F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D9BF-9CD2-427C-B402-9F9C846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EE8B-D0C9-472B-BD9F-9AAB2A1B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54F-9F42-4530-9B51-3AF52CFC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D74E-530B-4FD5-A246-87C6E1E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9BFA-60F6-4B06-A382-A3EB816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5188-A745-49AD-94CF-17537FA4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A5C-CF66-4F55-B6B5-2CB16F8A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6BD-FA5B-404D-853B-93A8CCA2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5C3-ABAF-4BC1-B11C-25AF401D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3F6-DDC3-411B-AD83-FC943D44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AE1-D262-4557-B9B7-0BE74A6F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3CF-9F3B-4282-9E66-7677D307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499-1120-40F5-952F-83DFE7F3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918-A1DC-4C7A-9168-D5E3604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7B5-B70F-425E-BE76-5704AD6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C41C-66EA-495F-89F8-0E163AC45A36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5A0A-6AA7-4557-884E-42396B0C5A79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79280" y="5851440"/>
            <a:ext cx="8785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Obrázky: Vlastní fotograf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4360" y="357336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Poměr a úměrno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1984320"/>
            <a:ext cx="7632720" cy="3965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5292720" y="2449440"/>
                <a:ext cx="2736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: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6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vrzení, že dva poměry jsou rovnocenné, se nazývá úměrnost.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úměrnost je rovnice uvádějící, že dva poměry jsou stejné.</a:t>
            </a:r>
            <a:r>
              <a:rPr b="0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5292720" y="1728720"/>
            <a:ext cx="273672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Úměrnost se dá zapsat dvojím způsob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5940360" y="3154320"/>
                <a:ext cx="14623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9"/>
          <p:cNvSpPr/>
          <p:nvPr/>
        </p:nvSpPr>
        <p:spPr>
          <a:xfrm>
            <a:off x="5219640" y="4508640"/>
            <a:ext cx="302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Čteme a ku b je stejné jako c ku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0"/>
              <p:cNvSpPr txBox="1"/>
              <p:nvPr/>
            </p:nvSpPr>
            <p:spPr>
              <a:xfrm>
                <a:off x="1979640" y="2492280"/>
                <a:ext cx="9367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3851280" y="5084640"/>
                <a:ext cx="1077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4" descr=""/>
          <p:cNvPicPr/>
          <p:nvPr/>
        </p:nvPicPr>
        <p:blipFill>
          <a:blip r:embed="rId1"/>
          <a:stretch/>
        </p:blipFill>
        <p:spPr>
          <a:xfrm>
            <a:off x="684360" y="1984320"/>
            <a:ext cx="7632720" cy="3965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60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"/>
              <p:cNvSpPr txBox="1"/>
              <p:nvPr/>
            </p:nvSpPr>
            <p:spPr>
              <a:xfrm>
                <a:off x="4716360" y="2463840"/>
                <a:ext cx="3818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vrzení, že dva poměry jsou rovnocenné, se nazývá úměrnost.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úměrnost je rovnice uvádějící, že dva poměry jsou stejné.</a:t>
            </a:r>
            <a:r>
              <a:rPr b="0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292720" y="1728720"/>
            <a:ext cx="273672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 případě našeho příkladu tedy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5564160" y="3154320"/>
                <a:ext cx="22147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Rectangle 11"/>
          <p:cNvSpPr/>
          <p:nvPr/>
        </p:nvSpPr>
        <p:spPr>
          <a:xfrm>
            <a:off x="5219640" y="4508640"/>
            <a:ext cx="302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Čteme 45 ku 30 je stejné jako 120 ku 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2"/>
              <p:cNvSpPr txBox="1"/>
              <p:nvPr/>
            </p:nvSpPr>
            <p:spPr>
              <a:xfrm>
                <a:off x="1979640" y="2492280"/>
                <a:ext cx="9367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6"/>
              <p:cNvSpPr txBox="1"/>
              <p:nvPr/>
            </p:nvSpPr>
            <p:spPr>
              <a:xfrm>
                <a:off x="3851280" y="5084640"/>
                <a:ext cx="10778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11280" y="158580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25"/>
          <p:cNvSpPr/>
          <p:nvPr/>
        </p:nvSpPr>
        <p:spPr>
          <a:xfrm rot="8100000">
            <a:off x="3103200" y="2593440"/>
            <a:ext cx="2419200" cy="2419560"/>
          </a:xfrm>
          <a:custGeom>
            <a:avLst/>
            <a:gdLst>
              <a:gd name="textAreaLeft" fmla="*/ 0 w 2419200"/>
              <a:gd name="textAreaRight" fmla="*/ 2419200 w 2419200"/>
              <a:gd name="textAreaTop" fmla="*/ 0 h 2419560"/>
              <a:gd name="textAreaBottom" fmla="*/ 2419920 h 2419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23"/>
          <p:cNvSpPr/>
          <p:nvPr/>
        </p:nvSpPr>
        <p:spPr>
          <a:xfrm rot="18885600">
            <a:off x="3103200" y="1297080"/>
            <a:ext cx="2419200" cy="2419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8360" y="981000"/>
            <a:ext cx="828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Kolikrát se změní čitatel, tolikrát se změní jmenovatel.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Kolikrát se změní první člen poměru, tolikrát se změní druhý člen poměru.</a:t>
            </a:r>
            <a:r>
              <a:rPr b="0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6"/>
              <p:cNvSpPr txBox="1"/>
              <p:nvPr/>
            </p:nvSpPr>
            <p:spPr>
              <a:xfrm>
                <a:off x="1908000" y="5667480"/>
                <a:ext cx="5048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241720" y="2533680"/>
                <a:ext cx="4008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Arc 11"/>
          <p:cNvSpPr/>
          <p:nvPr/>
        </p:nvSpPr>
        <p:spPr>
          <a:xfrm rot="18885600">
            <a:off x="4947840" y="213192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2"/>
          <p:cNvSpPr/>
          <p:nvPr/>
        </p:nvSpPr>
        <p:spPr>
          <a:xfrm rot="8100000">
            <a:off x="4948200" y="34290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5003640" y="2162160"/>
            <a:ext cx="573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5003640" y="3573360"/>
            <a:ext cx="632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5"/>
          <p:cNvSpPr/>
          <p:nvPr/>
        </p:nvSpPr>
        <p:spPr>
          <a:xfrm rot="18885600">
            <a:off x="4962240" y="213192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6"/>
          <p:cNvSpPr/>
          <p:nvPr/>
        </p:nvSpPr>
        <p:spPr>
          <a:xfrm rot="8100000">
            <a:off x="4948200" y="34290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003640" y="2160720"/>
            <a:ext cx="646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5018040" y="3571920"/>
            <a:ext cx="63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: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19"/>
          <p:cNvSpPr/>
          <p:nvPr/>
        </p:nvSpPr>
        <p:spPr>
          <a:xfrm rot="18885600">
            <a:off x="3103200" y="1297080"/>
            <a:ext cx="2419200" cy="2419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4052880" y="1701720"/>
            <a:ext cx="590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21"/>
          <p:cNvSpPr/>
          <p:nvPr/>
        </p:nvSpPr>
        <p:spPr>
          <a:xfrm rot="8100000">
            <a:off x="3103200" y="2593440"/>
            <a:ext cx="2419200" cy="2419560"/>
          </a:xfrm>
          <a:custGeom>
            <a:avLst/>
            <a:gdLst>
              <a:gd name="textAreaLeft" fmla="*/ 0 w 2419200"/>
              <a:gd name="textAreaRight" fmla="*/ 2419200 w 2419200"/>
              <a:gd name="textAreaTop" fmla="*/ 0 h 2419560"/>
              <a:gd name="textAreaBottom" fmla="*/ 2419920 h 2419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4140360" y="407664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4"/>
          <p:cNvSpPr/>
          <p:nvPr/>
        </p:nvSpPr>
        <p:spPr>
          <a:xfrm>
            <a:off x="4052880" y="1701720"/>
            <a:ext cx="590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4140360" y="407664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179280" y="4149720"/>
            <a:ext cx="2160720" cy="1728720"/>
          </a:xfrm>
          <a:prstGeom prst="cloudCallout">
            <a:avLst>
              <a:gd name="adj1" fmla="val 41550"/>
              <a:gd name="adj2" fmla="val -974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ký vztah platí mezi odpovídajícími si čitateli a jmenovateli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8"/>
          <p:cNvSpPr/>
          <p:nvPr/>
        </p:nvSpPr>
        <p:spPr>
          <a:xfrm>
            <a:off x="6443640" y="3213000"/>
            <a:ext cx="2232000" cy="1871640"/>
          </a:xfrm>
          <a:prstGeom prst="cloudCallout">
            <a:avLst>
              <a:gd name="adj1" fmla="val -37481"/>
              <a:gd name="adj2" fmla="val 760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mezi prvními a druhými členy odpovídajících si poměr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Urči neznámou, aby platila daná úměrnost (rovni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971640" y="1908000"/>
                <a:ext cx="1677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1"/>
              <p:cNvSpPr txBox="1"/>
              <p:nvPr/>
            </p:nvSpPr>
            <p:spPr>
              <a:xfrm>
                <a:off x="4851360" y="1892160"/>
                <a:ext cx="1459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2"/>
              <p:cNvSpPr txBox="1"/>
              <p:nvPr/>
            </p:nvSpPr>
            <p:spPr>
              <a:xfrm>
                <a:off x="1081080" y="4226040"/>
                <a:ext cx="14590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3"/>
              <p:cNvSpPr txBox="1"/>
              <p:nvPr/>
            </p:nvSpPr>
            <p:spPr>
              <a:xfrm>
                <a:off x="4791240" y="4154400"/>
                <a:ext cx="1677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Rectangle 14"/>
          <p:cNvSpPr/>
          <p:nvPr/>
        </p:nvSpPr>
        <p:spPr>
          <a:xfrm>
            <a:off x="1089000" y="3154320"/>
            <a:ext cx="180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x = </a:t>
            </a:r>
            <a:r>
              <a:rPr b="0" lang="cs-CZ" sz="5400" spc="-1" strike="noStrike">
                <a:solidFill>
                  <a:srgbClr val="284c6a"/>
                </a:solidFill>
                <a:latin typeface="Webdings"/>
                <a:ea typeface="Webdings"/>
              </a:rPr>
              <a:t>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4857840" y="3154320"/>
            <a:ext cx="180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y = </a:t>
            </a:r>
            <a:r>
              <a:rPr b="0" lang="cs-CZ" sz="5400" spc="-1" strike="noStrike">
                <a:solidFill>
                  <a:srgbClr val="284c6a"/>
                </a:solidFill>
                <a:latin typeface="Webdings"/>
                <a:ea typeface="Webdings"/>
              </a:rPr>
              <a:t>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090440" y="5516640"/>
            <a:ext cx="180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 = </a:t>
            </a:r>
            <a:r>
              <a:rPr b="0" lang="cs-CZ" sz="5400" spc="-1" strike="noStrike">
                <a:solidFill>
                  <a:srgbClr val="284c6a"/>
                </a:solidFill>
                <a:latin typeface="Webdings"/>
                <a:ea typeface="Webdings"/>
              </a:rPr>
              <a:t>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4859280" y="5516640"/>
            <a:ext cx="180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b = </a:t>
            </a:r>
            <a:r>
              <a:rPr b="0" lang="cs-CZ" sz="5400" spc="-1" strike="noStrike">
                <a:solidFill>
                  <a:srgbClr val="284c6a"/>
                </a:solidFill>
                <a:latin typeface="Webdings"/>
                <a:ea typeface="Webdings"/>
              </a:rPr>
              <a:t>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Urči neznámou, aby platila daná úměrnost (rovnic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971640" y="1908000"/>
                <a:ext cx="1677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4851360" y="1892160"/>
                <a:ext cx="1459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1081080" y="4226040"/>
                <a:ext cx="14590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4791240" y="4154400"/>
                <a:ext cx="1677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9"/>
          <p:cNvSpPr/>
          <p:nvPr/>
        </p:nvSpPr>
        <p:spPr>
          <a:xfrm>
            <a:off x="1089000" y="3154320"/>
            <a:ext cx="180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x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857840" y="3154320"/>
            <a:ext cx="180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y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1090440" y="5516640"/>
            <a:ext cx="180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859280" y="5516640"/>
            <a:ext cx="180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b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 misce jsou dva druhy ovoce: banány a jablka. Banány ku jablkům jsou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 poměru 2:3. Kolik je jablek, je-li banánů 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5870520" y="3141720"/>
                <a:ext cx="169884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AutoShape 16"/>
          <p:cNvSpPr/>
          <p:nvPr/>
        </p:nvSpPr>
        <p:spPr>
          <a:xfrm>
            <a:off x="4211640" y="1844640"/>
            <a:ext cx="1512720" cy="1152720"/>
          </a:xfrm>
          <a:prstGeom prst="cloudCallout">
            <a:avLst>
              <a:gd name="adj1" fmla="val 61333"/>
              <a:gd name="adj2" fmla="val 65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aná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4211640" y="5084640"/>
            <a:ext cx="1512720" cy="1152720"/>
          </a:xfrm>
          <a:prstGeom prst="cloudCallout">
            <a:avLst>
              <a:gd name="adj1" fmla="val 57555"/>
              <a:gd name="adj2" fmla="val -953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bl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" descr="Snímek 2278"/>
          <p:cNvPicPr/>
          <p:nvPr/>
        </p:nvPicPr>
        <p:blipFill>
          <a:blip r:embed="rId1"/>
          <a:stretch/>
        </p:blipFill>
        <p:spPr>
          <a:xfrm>
            <a:off x="755640" y="168588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 misce jsou dva druhy ovoce: banány a jablka. Banány ku jablkům jsou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 poměru 2:3. Kolik je jablek, je-li banánů 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5870520" y="3141720"/>
                <a:ext cx="169884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AutoShape 7"/>
          <p:cNvSpPr/>
          <p:nvPr/>
        </p:nvSpPr>
        <p:spPr>
          <a:xfrm>
            <a:off x="4211640" y="1844640"/>
            <a:ext cx="1512720" cy="1152720"/>
          </a:xfrm>
          <a:prstGeom prst="cloudCallout">
            <a:avLst>
              <a:gd name="adj1" fmla="val 61333"/>
              <a:gd name="adj2" fmla="val 65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anán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4211640" y="5084640"/>
            <a:ext cx="1512720" cy="1152720"/>
          </a:xfrm>
          <a:prstGeom prst="cloudCallout">
            <a:avLst>
              <a:gd name="adj1" fmla="val 57555"/>
              <a:gd name="adj2" fmla="val -953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Jabl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9"/>
          <p:cNvSpPr/>
          <p:nvPr/>
        </p:nvSpPr>
        <p:spPr>
          <a:xfrm rot="18885600">
            <a:off x="6298920" y="2708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0"/>
          <p:cNvSpPr/>
          <p:nvPr/>
        </p:nvSpPr>
        <p:spPr>
          <a:xfrm rot="8100000">
            <a:off x="6284880" y="4292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6415200" y="275256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29240" y="443700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3"/>
          <p:cNvSpPr/>
          <p:nvPr/>
        </p:nvSpPr>
        <p:spPr>
          <a:xfrm>
            <a:off x="6084720" y="5516640"/>
            <a:ext cx="244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Jablek je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9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4" descr="Snímek 2278"/>
          <p:cNvPicPr/>
          <p:nvPr/>
        </p:nvPicPr>
        <p:blipFill>
          <a:blip r:embed="rId1"/>
          <a:stretch/>
        </p:blipFill>
        <p:spPr>
          <a:xfrm>
            <a:off x="755640" y="168588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611280" y="1989000"/>
            <a:ext cx="7777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468360" y="11667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nička připravuje limonádu. Při její přípravě obvykle míchá 6 sklenic vody se 2 sklenicemi šťávy. Tentokrát však nalila do džbánku o 3 sklenice vody více. Kolik sklenic šťávy musí přidat, aby měla limonáda stejnou chuť jako obvyk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3660840" y="3471840"/>
                <a:ext cx="169848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Rectangle 9"/>
          <p:cNvSpPr/>
          <p:nvPr/>
        </p:nvSpPr>
        <p:spPr>
          <a:xfrm>
            <a:off x="2627280" y="2205000"/>
            <a:ext cx="40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6 sklenic vody … 2 sklenice šť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627280" y="2563920"/>
            <a:ext cx="40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9 sklenic vody …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sklenic šť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042920" y="306864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12"/>
          <p:cNvSpPr/>
          <p:nvPr/>
        </p:nvSpPr>
        <p:spPr>
          <a:xfrm rot="18885600">
            <a:off x="4080960" y="3068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3"/>
          <p:cNvSpPr/>
          <p:nvPr/>
        </p:nvSpPr>
        <p:spPr>
          <a:xfrm rot="8100000">
            <a:off x="4067280" y="46530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4197240" y="311292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4211640" y="479736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: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1332000" y="4695840"/>
            <a:ext cx="1512720" cy="1152360"/>
          </a:xfrm>
          <a:prstGeom prst="cloudCallout">
            <a:avLst>
              <a:gd name="adj1" fmla="val 94384"/>
              <a:gd name="adj2" fmla="val -46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klenice vod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54560" y="4695840"/>
            <a:ext cx="1513080" cy="1152360"/>
          </a:xfrm>
          <a:prstGeom prst="cloudCallout">
            <a:avLst>
              <a:gd name="adj1" fmla="val -103305"/>
              <a:gd name="adj2" fmla="val -51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klenice šťáv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5805360"/>
            <a:ext cx="439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nička musí přidat 3 sklenice šťá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1"/>
              <p:cNvSpPr txBox="1"/>
              <p:nvPr/>
            </p:nvSpPr>
            <p:spPr>
              <a:xfrm>
                <a:off x="3718080" y="5270400"/>
                <a:ext cx="15048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1700280"/>
            <a:ext cx="7777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468360" y="9795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i řešení rovnic složitějších úměrností používáme metodu křížového násob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>
                <a:off x="3660840" y="1916280"/>
                <a:ext cx="169848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6" name="Rectangle 16"/>
          <p:cNvSpPr/>
          <p:nvPr/>
        </p:nvSpPr>
        <p:spPr>
          <a:xfrm>
            <a:off x="900000" y="3429000"/>
            <a:ext cx="74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o aplikování křížového násobení dostaneme ekvivalentní rov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V="1">
            <a:off x="4140360" y="2349360"/>
            <a:ext cx="647640" cy="648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124160" y="2363040"/>
            <a:ext cx="648000" cy="647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9"/>
              <p:cNvSpPr txBox="1"/>
              <p:nvPr/>
            </p:nvSpPr>
            <p:spPr>
              <a:xfrm>
                <a:off x="3368520" y="4005360"/>
                <a:ext cx="23781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3494160" y="4710240"/>
                <a:ext cx="20858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3782880" y="5373720"/>
                <a:ext cx="15033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6027840" y="4708440"/>
                <a:ext cx="1066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11280" y="1700280"/>
            <a:ext cx="7777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68360" y="979560"/>
            <a:ext cx="61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edpokládejme, že čtyři čísla tvoří rovnici úměr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4" descr=""/>
          <p:cNvPicPr/>
          <p:nvPr/>
        </p:nvPicPr>
        <p:blipFill>
          <a:blip r:embed="rId1"/>
          <a:stretch/>
        </p:blipFill>
        <p:spPr>
          <a:xfrm>
            <a:off x="3487680" y="2205000"/>
            <a:ext cx="1805040" cy="403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Object 15"/>
              <p:cNvSpPr txBox="1"/>
              <p:nvPr/>
            </p:nvSpPr>
            <p:spPr>
              <a:xfrm>
                <a:off x="6534000" y="816120"/>
                <a:ext cx="9176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17"/>
          <p:cNvSpPr/>
          <p:nvPr/>
        </p:nvSpPr>
        <p:spPr>
          <a:xfrm>
            <a:off x="826920" y="1844640"/>
            <a:ext cx="74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yberte všechny rovnice, které také vyjadřují výše uvedenou úměr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2708280"/>
            <a:ext cx="77770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- opakování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90680" y="105264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ojem poměr nás provází celým životem a setkáváme se s ním prakticky každodenn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92120" y="164160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Vzpomeňme jen na pár ukázkách některé případy, v nichž se v běžném životě s poměrem (pojmem poměr, vyjádřením poměru) setkávám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92120" y="2031840"/>
            <a:ext cx="8183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Tak například poměr ředění sirupů, postřiků, čisticích prostředků, oleje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484360" y="6049800"/>
            <a:ext cx="59119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Obrázky: vlastní fo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5" descr="1a"/>
          <p:cNvPicPr/>
          <p:nvPr/>
        </p:nvPicPr>
        <p:blipFill>
          <a:blip r:embed="rId1"/>
          <a:stretch/>
        </p:blipFill>
        <p:spPr>
          <a:xfrm>
            <a:off x="971640" y="2921040"/>
            <a:ext cx="2369880" cy="3159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6"/>
          <p:cNvSpPr/>
          <p:nvPr/>
        </p:nvSpPr>
        <p:spPr>
          <a:xfrm>
            <a:off x="4643280" y="2838600"/>
            <a:ext cx="3241800" cy="2952720"/>
          </a:xfrm>
          <a:prstGeom prst="cloudCallout">
            <a:avLst>
              <a:gd name="adj1" fmla="val -115865"/>
              <a:gd name="adj2" fmla="val 226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"/>
          <p:cNvPicPr/>
          <p:nvPr/>
        </p:nvPicPr>
        <p:blipFill>
          <a:blip r:embed="rId2"/>
          <a:stretch/>
        </p:blipFill>
        <p:spPr>
          <a:xfrm>
            <a:off x="5076720" y="3686040"/>
            <a:ext cx="2260800" cy="1173240"/>
          </a:xfrm>
          <a:prstGeom prst="rect">
            <a:avLst/>
          </a:prstGeom>
          <a:ln w="0">
            <a:noFill/>
          </a:ln>
        </p:spPr>
      </p:pic>
      <p:sp>
        <p:nvSpPr>
          <p:cNvPr id="96" name="Oval 18"/>
          <p:cNvSpPr/>
          <p:nvPr/>
        </p:nvSpPr>
        <p:spPr>
          <a:xfrm>
            <a:off x="6012000" y="4076640"/>
            <a:ext cx="1439640" cy="86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611280" y="1700280"/>
            <a:ext cx="77770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68360" y="979560"/>
            <a:ext cx="61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edpokládejme, že čtyři čísla tvoří rovnici úměr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3487680" y="2205000"/>
            <a:ext cx="1805040" cy="403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6534000" y="816120"/>
                <a:ext cx="9176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Rectangle 7"/>
          <p:cNvSpPr/>
          <p:nvPr/>
        </p:nvSpPr>
        <p:spPr>
          <a:xfrm>
            <a:off x="826920" y="1844640"/>
            <a:ext cx="74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yberte všechny rovnice, které také vyjadřují výše uvedenou úměr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3492360" y="2349360"/>
            <a:ext cx="93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cc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3492360" y="3817800"/>
            <a:ext cx="93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cc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492360" y="4565520"/>
            <a:ext cx="93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cc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11280" y="1341360"/>
            <a:ext cx="777708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468360" y="836640"/>
            <a:ext cx="61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poj odpovídající si tvary rovnic daných úměrn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2104920" y="1398600"/>
            <a:ext cx="462780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611280" y="1341360"/>
            <a:ext cx="777708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68360" y="836640"/>
            <a:ext cx="61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poj odpovídající si tvary rovnic daných úměrn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2104920" y="1398600"/>
            <a:ext cx="4627800" cy="4896000"/>
          </a:xfrm>
          <a:prstGeom prst="rect">
            <a:avLst/>
          </a:prstGeom>
          <a:ln w="0">
            <a:noFill/>
          </a:ln>
        </p:spPr>
      </p:pic>
      <p:sp>
        <p:nvSpPr>
          <p:cNvPr id="296" name="Line 6"/>
          <p:cNvSpPr/>
          <p:nvPr/>
        </p:nvSpPr>
        <p:spPr>
          <a:xfrm flipH="1">
            <a:off x="3649680" y="1960560"/>
            <a:ext cx="1657440" cy="13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 flipH="1">
            <a:off x="3649680" y="3889440"/>
            <a:ext cx="1657440" cy="13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3649680" y="2924280"/>
            <a:ext cx="1643040" cy="1714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 flipH="1" flipV="1">
            <a:off x="3664080" y="1930320"/>
            <a:ext cx="164304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 flipH="1" flipV="1">
            <a:off x="3693600" y="3860280"/>
            <a:ext cx="1584360" cy="19875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611280" y="1484280"/>
            <a:ext cx="777708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468360" y="9795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Ještě jednou řešení rovnice ve formě úměr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5"/>
              <p:cNvSpPr txBox="1"/>
              <p:nvPr/>
            </p:nvSpPr>
            <p:spPr>
              <a:xfrm>
                <a:off x="3228840" y="1628640"/>
                <a:ext cx="22798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Rectangle 6"/>
          <p:cNvSpPr/>
          <p:nvPr/>
        </p:nvSpPr>
        <p:spPr>
          <a:xfrm>
            <a:off x="900000" y="2781360"/>
            <a:ext cx="741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o aplikování křížového násobení dostaneme ekvivalentn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410000" y="1956960"/>
            <a:ext cx="647640" cy="647640"/>
          </a:xfrm>
          <a:prstGeom prst="line">
            <a:avLst/>
          </a:prstGeom>
          <a:ln w="28440">
            <a:solidFill>
              <a:srgbClr val="3333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4394160" y="1971000"/>
            <a:ext cx="647640" cy="647640"/>
          </a:xfrm>
          <a:prstGeom prst="line">
            <a:avLst/>
          </a:prstGeom>
          <a:ln w="28440">
            <a:solidFill>
              <a:srgbClr val="00cc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9"/>
              <p:cNvSpPr txBox="1"/>
              <p:nvPr/>
            </p:nvSpPr>
            <p:spPr>
              <a:xfrm>
                <a:off x="3233880" y="3164040"/>
                <a:ext cx="26334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13"/>
          <p:cNvSpPr/>
          <p:nvPr/>
        </p:nvSpPr>
        <p:spPr>
          <a:xfrm>
            <a:off x="784080" y="3573360"/>
            <a:ext cx="741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Roznásobíme závor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4"/>
              <p:cNvSpPr txBox="1"/>
              <p:nvPr/>
            </p:nvSpPr>
            <p:spPr>
              <a:xfrm>
                <a:off x="3492360" y="4005360"/>
                <a:ext cx="2048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Rectangle 15"/>
          <p:cNvSpPr/>
          <p:nvPr/>
        </p:nvSpPr>
        <p:spPr>
          <a:xfrm>
            <a:off x="798480" y="433692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evedeme neznámé na jednu stranu rovnice a čísla na druh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3924360" y="4767120"/>
                <a:ext cx="1203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7"/>
              <p:cNvSpPr txBox="1"/>
              <p:nvPr/>
            </p:nvSpPr>
            <p:spPr>
              <a:xfrm>
                <a:off x="3606840" y="5532480"/>
                <a:ext cx="1584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18"/>
          <p:cNvSpPr/>
          <p:nvPr/>
        </p:nvSpPr>
        <p:spPr>
          <a:xfrm>
            <a:off x="798480" y="508464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Obě strany rovnice vydělíme číslem 2 a následně zamění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9"/>
              <p:cNvSpPr txBox="1"/>
              <p:nvPr/>
            </p:nvSpPr>
            <p:spPr>
              <a:xfrm>
                <a:off x="3720960" y="5524560"/>
                <a:ext cx="1582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611280" y="1341360"/>
            <a:ext cx="777708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468360" y="836640"/>
            <a:ext cx="61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poj každou rovnici úměrnosti s jejím řeše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tretch/>
        </p:blipFill>
        <p:spPr>
          <a:xfrm>
            <a:off x="1690560" y="141300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611280" y="1341360"/>
            <a:ext cx="777708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68360" y="836640"/>
            <a:ext cx="611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poj každou rovnici úměrnosti s jejím řešen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690560" y="1413000"/>
            <a:ext cx="4969080" cy="4787640"/>
          </a:xfrm>
          <a:prstGeom prst="rect">
            <a:avLst/>
          </a:prstGeom>
          <a:ln w="0">
            <a:noFill/>
          </a:ln>
        </p:spPr>
      </p:pic>
      <p:sp>
        <p:nvSpPr>
          <p:cNvPr id="324" name="Line 6"/>
          <p:cNvSpPr/>
          <p:nvPr/>
        </p:nvSpPr>
        <p:spPr>
          <a:xfrm flipH="1">
            <a:off x="3909600" y="1887480"/>
            <a:ext cx="180036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 flipH="1">
            <a:off x="3895200" y="2795760"/>
            <a:ext cx="1800360" cy="1036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 flipH="1">
            <a:off x="3895200" y="3745080"/>
            <a:ext cx="180036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 flipH="1" flipV="1">
            <a:off x="3909600" y="1844640"/>
            <a:ext cx="1800360" cy="2881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"/>
          <p:cNvSpPr/>
          <p:nvPr/>
        </p:nvSpPr>
        <p:spPr>
          <a:xfrm flipH="1" flipV="1">
            <a:off x="3909600" y="2766960"/>
            <a:ext cx="180036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611280" y="1773360"/>
            <a:ext cx="777708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68360" y="1052640"/>
            <a:ext cx="838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e slunné dny objekty vrhají stíny. Poměr výšky největší matrjošky a jejího stínu je stejný jako poměr výšky druhé největší matrjošky a jejího stínu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tak dále. Situace je zobrazena na obrázku. Odpovězte na otázky.</a:t>
            </a:r>
            <a:r>
              <a:rPr b="0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84360" y="5789520"/>
            <a:ext cx="583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Doplň rovnici úměrnosti a vypočítej výšku největší matrjoš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6804000" y="5310360"/>
                <a:ext cx="11192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8"/>
          <p:cNvSpPr/>
          <p:nvPr/>
        </p:nvSpPr>
        <p:spPr>
          <a:xfrm>
            <a:off x="6788160" y="5734080"/>
            <a:ext cx="16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cs-CZ" sz="3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9" descr="123"/>
          <p:cNvPicPr/>
          <p:nvPr/>
        </p:nvPicPr>
        <p:blipFill>
          <a:blip r:embed="rId1"/>
          <a:stretch/>
        </p:blipFill>
        <p:spPr>
          <a:xfrm>
            <a:off x="814320" y="1901880"/>
            <a:ext cx="5761080" cy="38322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0"/>
          <p:cNvSpPr/>
          <p:nvPr/>
        </p:nvSpPr>
        <p:spPr>
          <a:xfrm>
            <a:off x="1763640" y="2421000"/>
            <a:ext cx="792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1319040" y="2925720"/>
            <a:ext cx="792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20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814320" y="3475080"/>
            <a:ext cx="792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1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468360" y="4437000"/>
            <a:ext cx="79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3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5680080" y="4149720"/>
            <a:ext cx="79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7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4903920" y="4565520"/>
            <a:ext cx="792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60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4140360" y="5041800"/>
            <a:ext cx="79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1547640" y="5056200"/>
            <a:ext cx="792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9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11280" y="1773360"/>
            <a:ext cx="777708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468360" y="1052640"/>
            <a:ext cx="846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e slunné dny objekty vrhají stíny. Poměr výšky největší matrjošky a jejího stínu je stejný jako poměr výšky druhé největší matrjošky a jejího stínu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tak dále. Situace je zobrazena na obrázku. Odpovězte na otáz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84360" y="1989000"/>
            <a:ext cx="583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Doplň rovnici úměrnosti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vypočítej výšku největší matrjoš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6602400" y="2208240"/>
                <a:ext cx="11192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Rectangle 8"/>
          <p:cNvSpPr/>
          <p:nvPr/>
        </p:nvSpPr>
        <p:spPr>
          <a:xfrm>
            <a:off x="6588000" y="2631960"/>
            <a:ext cx="1657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cs-CZ" sz="3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7"/>
          <p:cNvGrpSpPr/>
          <p:nvPr/>
        </p:nvGrpSpPr>
        <p:grpSpPr>
          <a:xfrm>
            <a:off x="468360" y="3343320"/>
            <a:ext cx="4895280" cy="2822400"/>
            <a:chOff x="468360" y="3343320"/>
            <a:chExt cx="4895280" cy="2822400"/>
          </a:xfrm>
        </p:grpSpPr>
        <p:pic>
          <p:nvPicPr>
            <p:cNvPr id="351" name="Picture 18" descr="123"/>
            <p:cNvPicPr/>
            <p:nvPr/>
          </p:nvPicPr>
          <p:blipFill>
            <a:blip r:embed="rId1"/>
            <a:stretch/>
          </p:blipFill>
          <p:spPr>
            <a:xfrm>
              <a:off x="745560" y="3343320"/>
              <a:ext cx="461808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Rectangle 19"/>
            <p:cNvSpPr/>
            <p:nvPr/>
          </p:nvSpPr>
          <p:spPr>
            <a:xfrm>
              <a:off x="1506600" y="372564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1150200" y="409716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745560" y="450180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1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2"/>
            <p:cNvSpPr/>
            <p:nvPr/>
          </p:nvSpPr>
          <p:spPr>
            <a:xfrm>
              <a:off x="468360" y="521028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3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3"/>
            <p:cNvSpPr/>
            <p:nvPr/>
          </p:nvSpPr>
          <p:spPr>
            <a:xfrm>
              <a:off x="4646160" y="499860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7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4"/>
            <p:cNvSpPr/>
            <p:nvPr/>
          </p:nvSpPr>
          <p:spPr>
            <a:xfrm>
              <a:off x="4024080" y="5304960"/>
              <a:ext cx="6346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6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5"/>
            <p:cNvSpPr/>
            <p:nvPr/>
          </p:nvSpPr>
          <p:spPr>
            <a:xfrm>
              <a:off x="3411720" y="565560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6"/>
            <p:cNvSpPr/>
            <p:nvPr/>
          </p:nvSpPr>
          <p:spPr>
            <a:xfrm>
              <a:off x="1333440" y="566640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9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11280" y="1773360"/>
            <a:ext cx="777708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68360" y="1052640"/>
            <a:ext cx="846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e slunné dny objekty vrhají stíny. Poměr výšky největší matrjošky a jejího stínu je stejný jako poměr výšky druhé největší matrjošky a jejího stínu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tak dále. Situace je zobrazena na obrázku. Odpovězte na otáz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6588000" y="2208240"/>
                <a:ext cx="11192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8"/>
          <p:cNvSpPr/>
          <p:nvPr/>
        </p:nvSpPr>
        <p:spPr>
          <a:xfrm>
            <a:off x="6588000" y="2631960"/>
            <a:ext cx="1657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r>
              <a:rPr b="1" lang="cs-CZ" sz="3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Webdings"/>
                <a:ea typeface="Webdings"/>
              </a:rPr>
              <a:t>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6575400" y="3241800"/>
                <a:ext cx="13543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1"/>
              <p:cNvSpPr txBox="1"/>
              <p:nvPr/>
            </p:nvSpPr>
            <p:spPr>
              <a:xfrm>
                <a:off x="5965920" y="4178160"/>
                <a:ext cx="21812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12"/>
              <p:cNvSpPr txBox="1"/>
              <p:nvPr/>
            </p:nvSpPr>
            <p:spPr>
              <a:xfrm>
                <a:off x="6141960" y="4654440"/>
                <a:ext cx="2001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3"/>
              <p:cNvSpPr txBox="1"/>
              <p:nvPr/>
            </p:nvSpPr>
            <p:spPr>
              <a:xfrm>
                <a:off x="5535720" y="5086440"/>
                <a:ext cx="2060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4"/>
              <p:cNvSpPr txBox="1"/>
              <p:nvPr/>
            </p:nvSpPr>
            <p:spPr>
              <a:xfrm>
                <a:off x="6531120" y="5516640"/>
                <a:ext cx="10890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5"/>
              <p:cNvSpPr txBox="1"/>
              <p:nvPr/>
            </p:nvSpPr>
            <p:spPr>
              <a:xfrm>
                <a:off x="6697800" y="5935680"/>
                <a:ext cx="1619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1" name="Group 26"/>
          <p:cNvGrpSpPr/>
          <p:nvPr/>
        </p:nvGrpSpPr>
        <p:grpSpPr>
          <a:xfrm>
            <a:off x="468360" y="3343320"/>
            <a:ext cx="4895280" cy="2822400"/>
            <a:chOff x="468360" y="3343320"/>
            <a:chExt cx="4895280" cy="2822400"/>
          </a:xfrm>
        </p:grpSpPr>
        <p:pic>
          <p:nvPicPr>
            <p:cNvPr id="372" name="Picture 27" descr="123"/>
            <p:cNvPicPr/>
            <p:nvPr/>
          </p:nvPicPr>
          <p:blipFill>
            <a:blip r:embed="rId1"/>
            <a:stretch/>
          </p:blipFill>
          <p:spPr>
            <a:xfrm>
              <a:off x="745560" y="3343320"/>
              <a:ext cx="461808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28"/>
            <p:cNvSpPr/>
            <p:nvPr/>
          </p:nvSpPr>
          <p:spPr>
            <a:xfrm>
              <a:off x="1506600" y="372564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"/>
            <p:cNvSpPr/>
            <p:nvPr/>
          </p:nvSpPr>
          <p:spPr>
            <a:xfrm>
              <a:off x="1150200" y="409716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745560" y="450180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1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468360" y="521028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3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2"/>
            <p:cNvSpPr/>
            <p:nvPr/>
          </p:nvSpPr>
          <p:spPr>
            <a:xfrm>
              <a:off x="4646160" y="499860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7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3"/>
            <p:cNvSpPr/>
            <p:nvPr/>
          </p:nvSpPr>
          <p:spPr>
            <a:xfrm>
              <a:off x="4024080" y="5304960"/>
              <a:ext cx="6346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6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4"/>
            <p:cNvSpPr/>
            <p:nvPr/>
          </p:nvSpPr>
          <p:spPr>
            <a:xfrm>
              <a:off x="3411720" y="565560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5"/>
            <p:cNvSpPr/>
            <p:nvPr/>
          </p:nvSpPr>
          <p:spPr>
            <a:xfrm>
              <a:off x="1333440" y="566640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9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36"/>
          <p:cNvSpPr/>
          <p:nvPr/>
        </p:nvSpPr>
        <p:spPr>
          <a:xfrm>
            <a:off x="684360" y="1989000"/>
            <a:ext cx="583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Doplň rovnici úměrnosti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vypočítej výšku největší matrjoš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611280" y="1773360"/>
            <a:ext cx="777708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68360" y="1052640"/>
            <a:ext cx="8389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e slunné dny objekty vrhají stíny. Poměr výšky největší matrjošky a jejího stínu je stejný jako poměr výšky druhé největší matrjošky a jejího stínu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tak dále. Situace je zobrazena na obrázku. Odpovězte na otáz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684360" y="5373720"/>
            <a:ext cx="75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yber správnou odpověď pro délku stínu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matrjošky vysoké 1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1"/>
          <p:cNvGrpSpPr/>
          <p:nvPr/>
        </p:nvGrpSpPr>
        <p:grpSpPr>
          <a:xfrm>
            <a:off x="468360" y="1916280"/>
            <a:ext cx="4895280" cy="2822400"/>
            <a:chOff x="468360" y="1916280"/>
            <a:chExt cx="4895280" cy="2822400"/>
          </a:xfrm>
        </p:grpSpPr>
        <p:pic>
          <p:nvPicPr>
            <p:cNvPr id="387" name="Picture 12" descr="123"/>
            <p:cNvPicPr/>
            <p:nvPr/>
          </p:nvPicPr>
          <p:blipFill>
            <a:blip r:embed="rId1"/>
            <a:stretch/>
          </p:blipFill>
          <p:spPr>
            <a:xfrm>
              <a:off x="745560" y="1916280"/>
              <a:ext cx="461808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3"/>
            <p:cNvSpPr/>
            <p:nvPr/>
          </p:nvSpPr>
          <p:spPr>
            <a:xfrm>
              <a:off x="1506600" y="229860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4"/>
            <p:cNvSpPr/>
            <p:nvPr/>
          </p:nvSpPr>
          <p:spPr>
            <a:xfrm>
              <a:off x="1150200" y="267012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5"/>
            <p:cNvSpPr/>
            <p:nvPr/>
          </p:nvSpPr>
          <p:spPr>
            <a:xfrm>
              <a:off x="745560" y="307476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1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468360" y="378324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3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7"/>
            <p:cNvSpPr/>
            <p:nvPr/>
          </p:nvSpPr>
          <p:spPr>
            <a:xfrm>
              <a:off x="4646160" y="357156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7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8"/>
            <p:cNvSpPr/>
            <p:nvPr/>
          </p:nvSpPr>
          <p:spPr>
            <a:xfrm>
              <a:off x="4024080" y="3877920"/>
              <a:ext cx="6346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6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"/>
            <p:cNvSpPr/>
            <p:nvPr/>
          </p:nvSpPr>
          <p:spPr>
            <a:xfrm>
              <a:off x="3411720" y="422856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0"/>
            <p:cNvSpPr/>
            <p:nvPr/>
          </p:nvSpPr>
          <p:spPr>
            <a:xfrm>
              <a:off x="1333440" y="423936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9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21"/>
          <p:cNvSpPr/>
          <p:nvPr/>
        </p:nvSpPr>
        <p:spPr>
          <a:xfrm>
            <a:off x="277020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4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154620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3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406728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4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521964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644364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5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- opakování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Nebo skóre sportovních utkání – např. poměr nastřílených branek domácím </a:t>
            </a:r>
            <a:br>
              <a:rPr sz="1700"/>
            </a:b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a hostujícím týmem, poměr střel, vyloučení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619280" y="2117880"/>
            <a:ext cx="5111640" cy="3398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176640" y="5516640"/>
            <a:ext cx="5067360" cy="73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2" name="Oval 7"/>
          <p:cNvSpPr/>
          <p:nvPr/>
        </p:nvSpPr>
        <p:spPr>
          <a:xfrm>
            <a:off x="5521320" y="2421000"/>
            <a:ext cx="1150920" cy="3024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820800" y="1835280"/>
            <a:ext cx="3895560" cy="65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Oval 9"/>
          <p:cNvSpPr/>
          <p:nvPr/>
        </p:nvSpPr>
        <p:spPr>
          <a:xfrm>
            <a:off x="1751040" y="1700280"/>
            <a:ext cx="1079640" cy="4334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165560" y="206064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5127480" y="5937120"/>
            <a:ext cx="648000" cy="287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6372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7596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28760" y="1857240"/>
            <a:ext cx="7777080" cy="45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468360" y="1052640"/>
            <a:ext cx="81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Ve slunné dny objekty vrhají stíny. Poměr výšky největší matrjošky a jejího stínu je stejný jako poměr výšky druhé největší matrjošky a jejího stínu a tak dále. Situace je zobrazena na obrázku. Odpovězte na otázk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8"/>
              <p:cNvSpPr txBox="1"/>
              <p:nvPr/>
            </p:nvSpPr>
            <p:spPr>
              <a:xfrm>
                <a:off x="6040440" y="1989000"/>
                <a:ext cx="13557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5634000" y="2967120"/>
                <a:ext cx="22114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3"/>
              <p:cNvSpPr txBox="1"/>
              <p:nvPr/>
            </p:nvSpPr>
            <p:spPr>
              <a:xfrm>
                <a:off x="6014880" y="3500280"/>
                <a:ext cx="18558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4"/>
              <p:cNvSpPr txBox="1"/>
              <p:nvPr/>
            </p:nvSpPr>
            <p:spPr>
              <a:xfrm>
                <a:off x="5407200" y="4037040"/>
                <a:ext cx="19126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5"/>
              <p:cNvSpPr txBox="1"/>
              <p:nvPr/>
            </p:nvSpPr>
            <p:spPr>
              <a:xfrm>
                <a:off x="6218280" y="4551480"/>
                <a:ext cx="11192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6"/>
              <p:cNvSpPr txBox="1"/>
              <p:nvPr/>
            </p:nvSpPr>
            <p:spPr>
              <a:xfrm>
                <a:off x="6356520" y="5013360"/>
                <a:ext cx="167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18"/>
          <p:cNvGrpSpPr/>
          <p:nvPr/>
        </p:nvGrpSpPr>
        <p:grpSpPr>
          <a:xfrm>
            <a:off x="468360" y="1916280"/>
            <a:ext cx="4895280" cy="2822400"/>
            <a:chOff x="468360" y="1916280"/>
            <a:chExt cx="4895280" cy="2822400"/>
          </a:xfrm>
        </p:grpSpPr>
        <p:pic>
          <p:nvPicPr>
            <p:cNvPr id="411" name="Picture 19" descr="123"/>
            <p:cNvPicPr/>
            <p:nvPr/>
          </p:nvPicPr>
          <p:blipFill>
            <a:blip r:embed="rId1"/>
            <a:stretch/>
          </p:blipFill>
          <p:spPr>
            <a:xfrm>
              <a:off x="745560" y="1916280"/>
              <a:ext cx="461808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20"/>
            <p:cNvSpPr/>
            <p:nvPr/>
          </p:nvSpPr>
          <p:spPr>
            <a:xfrm>
              <a:off x="1506600" y="229860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"/>
            <p:cNvSpPr/>
            <p:nvPr/>
          </p:nvSpPr>
          <p:spPr>
            <a:xfrm>
              <a:off x="1150200" y="267012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2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2"/>
            <p:cNvSpPr/>
            <p:nvPr/>
          </p:nvSpPr>
          <p:spPr>
            <a:xfrm>
              <a:off x="745560" y="307476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1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3"/>
            <p:cNvSpPr/>
            <p:nvPr/>
          </p:nvSpPr>
          <p:spPr>
            <a:xfrm>
              <a:off x="468360" y="378324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3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4"/>
            <p:cNvSpPr/>
            <p:nvPr/>
          </p:nvSpPr>
          <p:spPr>
            <a:xfrm>
              <a:off x="4646160" y="357156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75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5"/>
            <p:cNvSpPr/>
            <p:nvPr/>
          </p:nvSpPr>
          <p:spPr>
            <a:xfrm>
              <a:off x="4024080" y="3877920"/>
              <a:ext cx="63468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60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6"/>
            <p:cNvSpPr/>
            <p:nvPr/>
          </p:nvSpPr>
          <p:spPr>
            <a:xfrm>
              <a:off x="3411720" y="4228560"/>
              <a:ext cx="63468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7"/>
            <p:cNvSpPr/>
            <p:nvPr/>
          </p:nvSpPr>
          <p:spPr>
            <a:xfrm>
              <a:off x="1333440" y="4239360"/>
              <a:ext cx="635040" cy="21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ff0000"/>
                  </a:solidFill>
                  <a:latin typeface="Trebuchet MS"/>
                </a:rPr>
                <a:t>9 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28"/>
          <p:cNvSpPr/>
          <p:nvPr/>
        </p:nvSpPr>
        <p:spPr>
          <a:xfrm>
            <a:off x="684360" y="5373720"/>
            <a:ext cx="75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yber správnou odpověď pro délku stínu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matrjošky vysoké 1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277020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4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/>
          <p:cNvSpPr/>
          <p:nvPr/>
        </p:nvSpPr>
        <p:spPr>
          <a:xfrm>
            <a:off x="154620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3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406728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4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2"/>
          <p:cNvSpPr/>
          <p:nvPr/>
        </p:nvSpPr>
        <p:spPr>
          <a:xfrm>
            <a:off x="521964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3"/>
          <p:cNvSpPr/>
          <p:nvPr/>
        </p:nvSpPr>
        <p:spPr>
          <a:xfrm>
            <a:off x="6443640" y="587700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5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34"/>
          <p:cNvSpPr/>
          <p:nvPr/>
        </p:nvSpPr>
        <p:spPr>
          <a:xfrm>
            <a:off x="3995640" y="5877000"/>
            <a:ext cx="10810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 - závěr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vrzení, že dva poměry jsou rovnocenné, se nazývá úměrnost.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úměrnost je rovnice uvádějící, že dva poměry jsou stejné.</a:t>
            </a:r>
            <a:r>
              <a:rPr b="0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727200" y="4519440"/>
                <a:ext cx="398916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1031760" y="1814400"/>
                <a:ext cx="221472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Rectangle 8"/>
          <p:cNvSpPr/>
          <p:nvPr/>
        </p:nvSpPr>
        <p:spPr>
          <a:xfrm>
            <a:off x="826920" y="5372280"/>
            <a:ext cx="302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Kolikrát se změní první člen poměru, tolikrát se změní druhý člen pomě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826920" y="3500280"/>
            <a:ext cx="302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Kolikrát se změní čitatel, tolikrát se změní jmenovatel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1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4464000" cy="2319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5" name="Object 12"/>
              <p:cNvSpPr txBox="1"/>
              <p:nvPr/>
            </p:nvSpPr>
            <p:spPr>
              <a:xfrm>
                <a:off x="4572000" y="1989000"/>
                <a:ext cx="547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3"/>
              <p:cNvSpPr txBox="1"/>
              <p:nvPr/>
            </p:nvSpPr>
            <p:spPr>
              <a:xfrm>
                <a:off x="6515280" y="3529080"/>
                <a:ext cx="6300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0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1341360"/>
            <a:ext cx="792144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- opakování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14440" y="836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řípadně měřítka map či plán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1111"/>
          <p:cNvPicPr/>
          <p:nvPr/>
        </p:nvPicPr>
        <p:blipFill>
          <a:blip r:embed="rId1"/>
          <a:stretch/>
        </p:blipFill>
        <p:spPr>
          <a:xfrm>
            <a:off x="826920" y="1484280"/>
            <a:ext cx="3565800" cy="475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643280" y="1773360"/>
            <a:ext cx="3672000" cy="3168360"/>
          </a:xfrm>
          <a:prstGeom prst="cloudCallout">
            <a:avLst>
              <a:gd name="adj1" fmla="val -130935"/>
              <a:gd name="adj2" fmla="val 41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Snímek 065"/>
          <p:cNvPicPr/>
          <p:nvPr/>
        </p:nvPicPr>
        <p:blipFill>
          <a:blip r:embed="rId2"/>
          <a:stretch/>
        </p:blipFill>
        <p:spPr>
          <a:xfrm>
            <a:off x="5219640" y="234936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115" name="Oval 9"/>
          <p:cNvSpPr/>
          <p:nvPr/>
        </p:nvSpPr>
        <p:spPr>
          <a:xfrm>
            <a:off x="5435640" y="296856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1658880"/>
            <a:ext cx="792144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- opakování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82760" y="7920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o to tedy je ten poměr? Je to způsob porovnání dvou údaj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417080" cy="107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0" name="Rectangle 6"/>
          <p:cNvSpPr/>
          <p:nvPr/>
        </p:nvSpPr>
        <p:spPr>
          <a:xfrm>
            <a:off x="496800" y="112536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ba porovnávané údaje musí být ve stejných jednot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796000" y="1844640"/>
            <a:ext cx="2581200" cy="1152720"/>
          </a:xfrm>
          <a:prstGeom prst="cloudCallout">
            <a:avLst>
              <a:gd name="adj1" fmla="val 14759"/>
              <a:gd name="adj2" fmla="val 90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čet bra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920880" y="1928880"/>
            <a:ext cx="2282760" cy="1212840"/>
          </a:xfrm>
          <a:prstGeom prst="cloudCallout">
            <a:avLst>
              <a:gd name="adj1" fmla="val 1949"/>
              <a:gd name="adj2" fmla="val 131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čet stř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5724360" y="4807080"/>
            <a:ext cx="2376720" cy="1430280"/>
          </a:xfrm>
          <a:prstGeom prst="cloudCallout">
            <a:avLst>
              <a:gd name="adj1" fmla="val -39648"/>
              <a:gd name="adj2" fmla="val -76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čet využitých přesilov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24000" y="4941720"/>
            <a:ext cx="2282760" cy="1212840"/>
          </a:xfrm>
          <a:prstGeom prst="cloudCallout">
            <a:avLst>
              <a:gd name="adj1" fmla="val 37620"/>
              <a:gd name="adj2" fmla="val -93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Počet vylou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Snímek 065"/>
          <p:cNvPicPr/>
          <p:nvPr/>
        </p:nvPicPr>
        <p:blipFill>
          <a:blip r:embed="rId2"/>
          <a:stretch/>
        </p:blipFill>
        <p:spPr>
          <a:xfrm>
            <a:off x="5003640" y="1773360"/>
            <a:ext cx="3384720" cy="25398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/>
          <p:cNvSpPr/>
          <p:nvPr/>
        </p:nvSpPr>
        <p:spPr>
          <a:xfrm>
            <a:off x="755640" y="3789360"/>
            <a:ext cx="3672000" cy="2448000"/>
          </a:xfrm>
          <a:prstGeom prst="cloudCallout">
            <a:avLst>
              <a:gd name="adj1" fmla="val 84541"/>
              <a:gd name="adj2" fmla="val -75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1 cm : 1 000 00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116000" y="3789360"/>
            <a:ext cx="3384720" cy="2303640"/>
          </a:xfrm>
          <a:prstGeom prst="cloudCallout">
            <a:avLst>
              <a:gd name="adj1" fmla="val 86583"/>
              <a:gd name="adj2" fmla="val -756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Vzdále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907920"/>
            <a:ext cx="7921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- opakování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1268280"/>
            <a:ext cx="762012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 porovnávaných údajů </a:t>
            </a:r>
            <a:r>
              <a:rPr b="1" lang="cs-CZ" sz="3600" spc="-1" strike="noStrike">
                <a:solidFill>
                  <a:srgbClr val="3333cc"/>
                </a:solidFill>
                <a:latin typeface="Trebuchet MS"/>
              </a:rPr>
              <a:t>a,b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 zapisujeme</a:t>
            </a:r>
            <a:br>
              <a:rPr sz="4400"/>
            </a:br>
            <a:r>
              <a:rPr b="1" lang="cs-CZ" sz="8000" spc="-1" strike="noStrike">
                <a:solidFill>
                  <a:srgbClr val="3333cc"/>
                </a:solidFill>
                <a:latin typeface="Trebuchet MS"/>
              </a:rPr>
              <a:t>a : b</a:t>
            </a:r>
            <a:br>
              <a:rPr sz="4400"/>
            </a:b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 čteme </a:t>
            </a:r>
            <a:r>
              <a:rPr b="1" lang="cs-CZ" sz="3600" spc="-1" strike="noStrike">
                <a:solidFill>
                  <a:srgbClr val="3333cc"/>
                </a:solidFill>
                <a:latin typeface="Trebuchet MS"/>
              </a:rPr>
              <a:t>a ku b</a:t>
            </a: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 rot="20443200">
            <a:off x="1403280" y="202680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3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 rot="1263000">
            <a:off x="6803640" y="23144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9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 rot="886800">
            <a:off x="895320" y="335772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15: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0443200">
            <a:off x="6300720" y="3322440"/>
            <a:ext cx="129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1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54120" y="436572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oměr </a:t>
            </a: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a : b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můžeme zapsat ve tvaru zlom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3753000" y="5195880"/>
                <a:ext cx="16110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AutoShape 11"/>
          <p:cNvSpPr/>
          <p:nvPr/>
        </p:nvSpPr>
        <p:spPr>
          <a:xfrm>
            <a:off x="755640" y="4365720"/>
            <a:ext cx="2736720" cy="1873080"/>
          </a:xfrm>
          <a:prstGeom prst="cloudCallout">
            <a:avLst>
              <a:gd name="adj1" fmla="val 50870"/>
              <a:gd name="adj2" fmla="val -1098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a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první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580000" y="4363920"/>
            <a:ext cx="2737080" cy="1873440"/>
          </a:xfrm>
          <a:prstGeom prst="cloudCallout">
            <a:avLst>
              <a:gd name="adj1" fmla="val -55222"/>
              <a:gd name="adj2" fmla="val -110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íslo b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0 nazýváme druhý člen p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měr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Na obrázku jsou dvě PET lahve vrhající stín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7" descr=""/>
          <p:cNvPicPr/>
          <p:nvPr/>
        </p:nvPicPr>
        <p:blipFill>
          <a:blip r:embed="rId1"/>
          <a:stretch/>
        </p:blipFill>
        <p:spPr>
          <a:xfrm>
            <a:off x="684360" y="1984320"/>
            <a:ext cx="7632720" cy="396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" descr=""/>
          <p:cNvPicPr/>
          <p:nvPr/>
        </p:nvPicPr>
        <p:blipFill>
          <a:blip r:embed="rId1"/>
          <a:stretch/>
        </p:blipFill>
        <p:spPr>
          <a:xfrm>
            <a:off x="684360" y="1984320"/>
            <a:ext cx="7632720" cy="39657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rovnáme výšky PET lahv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7"/>
              <p:cNvSpPr txBox="1"/>
              <p:nvPr/>
            </p:nvSpPr>
            <p:spPr>
              <a:xfrm>
                <a:off x="4788000" y="2282760"/>
                <a:ext cx="22860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8"/>
          <p:cNvSpPr/>
          <p:nvPr/>
        </p:nvSpPr>
        <p:spPr>
          <a:xfrm>
            <a:off x="4716360" y="3502080"/>
            <a:ext cx="24465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Můžeme využít krácení zlomku (poměru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5156280" y="4581360"/>
                <a:ext cx="15764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5"/>
          <p:cNvSpPr/>
          <p:nvPr/>
        </p:nvSpPr>
        <p:spPr>
          <a:xfrm>
            <a:off x="1908000" y="2276640"/>
            <a:ext cx="936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45 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403280" y="3141720"/>
            <a:ext cx="936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30 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"/>
          <p:cNvPicPr/>
          <p:nvPr/>
        </p:nvPicPr>
        <p:blipFill>
          <a:blip r:embed="rId1"/>
          <a:stretch/>
        </p:blipFill>
        <p:spPr>
          <a:xfrm>
            <a:off x="684360" y="1984320"/>
            <a:ext cx="7632720" cy="3965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Obdobně srovnáme délky stín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976640" y="2112840"/>
                <a:ext cx="2308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6"/>
          <p:cNvSpPr/>
          <p:nvPr/>
        </p:nvSpPr>
        <p:spPr>
          <a:xfrm>
            <a:off x="4211640" y="3213000"/>
            <a:ext cx="3960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Můžeme využít krácení zlomku (poměru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470560" y="4005360"/>
                <a:ext cx="1387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12"/>
          <p:cNvSpPr/>
          <p:nvPr/>
        </p:nvSpPr>
        <p:spPr>
          <a:xfrm>
            <a:off x="6156360" y="5445000"/>
            <a:ext cx="1225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120 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3564000" y="5300640"/>
            <a:ext cx="1225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80 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1908000" y="2276640"/>
            <a:ext cx="936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45 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403280" y="3141720"/>
            <a:ext cx="936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30 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09T00:07:09Z</dcterms:modified>
  <cp:revision>211</cp:revision>
  <dc:subject/>
  <dc:title>Úměrnost</dc:title>
</cp:coreProperties>
</file>