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58D-4160-44D1-9801-613975C5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409-52FC-4905-8725-EE078282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25F-D2CD-4763-B8BC-BC655FE1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D0D-602E-4679-A2B8-5E1A7DB2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8FB8-BA11-47E8-86BB-75CF0009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14D4-A9CA-4EF7-B462-0C09181C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A412-0749-4D84-82DE-F3E63B41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0D16-E391-4593-8EFB-90CE93A7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052C-7B63-40F8-BBC1-8B15057D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EA90-8DB6-476D-840E-FF265D5E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1957-78F1-4652-B317-49429114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885-E65E-42F9-BB20-500BDDD4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EDC6-5A9D-47D8-82F3-6CEFA622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73A7-9F22-468D-9016-8E5E88C3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54CC-90FD-4D90-A6EB-5EFE89C5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089D-4AF6-47D5-8BAA-EC63A205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5AD9-69CD-434A-9D71-4E5D05BC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97E-F041-4785-A511-6BB0EB87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E44-EAC4-45BD-92E0-2E02D681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EA5-DAEF-4B81-8552-9277A6CD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8F0-DA00-415A-A28E-E213F8B7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C3A-FD88-4807-93D9-9C1C58E5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309-1E2C-4D22-B72F-B4FE6CDD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1D1-C194-4F6F-B736-1AEA6234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7274-B25B-4A12-A8EA-6790AAA2E8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B8EB-3542-4262-A24A-7B2555750A6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Dvourozměrné geometrické útvar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Úhel.</a:t>
            </a:r>
            <a:br>
              <a:rPr sz="4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Druhy úhlů a jejich vlas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ruhy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1916280"/>
            <a:ext cx="69138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2960" y="907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.) Nulový ú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26828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ulový úhel je úhel, jehož ramena leží na sobě. Mezi rameny není „</a:t>
            </a:r>
            <a:r>
              <a:rPr b="1" i="1" lang="en-US" sz="1800" spc="-1" strike="noStrike">
                <a:solidFill>
                  <a:srgbClr val="284c6a"/>
                </a:solidFill>
                <a:latin typeface="Trebuchet MS"/>
              </a:rPr>
              <a:t>nic“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195640" y="1973160"/>
            <a:ext cx="4883040" cy="4192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050920" y="4581360"/>
            <a:ext cx="2737080" cy="1513080"/>
          </a:xfrm>
          <a:prstGeom prst="cloudCallout">
            <a:avLst>
              <a:gd name="adj1" fmla="val 76680"/>
              <a:gd name="adj2" fmla="val -7434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Rameno VA splýv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s ramenem V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ruhy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1916280"/>
            <a:ext cx="69138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2960" y="907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2.) Ostrý ú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26828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Ostrý úhel je úhel vetší než nulový a menší než prav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124000" y="1973160"/>
            <a:ext cx="4883400" cy="4192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03280" y="4292640"/>
            <a:ext cx="2160720" cy="1728720"/>
          </a:xfrm>
          <a:prstGeom prst="cloudCallout">
            <a:avLst>
              <a:gd name="adj1" fmla="val 87620"/>
              <a:gd name="adj2" fmla="val -537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Je to tedy úhel mezi 0° </a:t>
            </a:r>
            <a:r>
              <a:rPr b="1" lang="en-US" sz="1800" spc="-1" strike="noStrike">
                <a:solidFill>
                  <a:srgbClr val="ffff00"/>
                </a:solidFill>
                <a:latin typeface="Trebuchet MS"/>
              </a:rPr>
              <a:t>a 90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57600" y="4076640"/>
            <a:ext cx="3456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57600" y="2060640"/>
            <a:ext cx="14400" cy="2016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4292640"/>
            <a:ext cx="2160720" cy="1728720"/>
          </a:xfrm>
          <a:prstGeom prst="cloudCallout">
            <a:avLst>
              <a:gd name="adj1" fmla="val 87620"/>
              <a:gd name="adj2" fmla="val -537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Je to tedy úhel mezi 0° a 90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ruhy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1916280"/>
            <a:ext cx="69138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2960" y="907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3.) Pravý ú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26828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ravý úhel je úhel, jehož ramena jsou na sebe kolm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124000" y="1973160"/>
            <a:ext cx="4883400" cy="4192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332000" y="2133720"/>
            <a:ext cx="2519280" cy="1366560"/>
          </a:xfrm>
          <a:prstGeom prst="cloudCallout">
            <a:avLst>
              <a:gd name="adj1" fmla="val 73125"/>
              <a:gd name="adj2" fmla="val 587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Je to tedy úh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 velikosti 9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4005360"/>
            <a:ext cx="2449440" cy="2089080"/>
          </a:xfrm>
          <a:prstGeom prst="cloudCallout">
            <a:avLst>
              <a:gd name="adj1" fmla="val 78319"/>
              <a:gd name="adj2" fmla="val -42782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Všimněte si, že pravý úhel se označuje obloučkem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 tečkou uprostř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4653000"/>
            <a:ext cx="2160360" cy="1369800"/>
          </a:xfrm>
          <a:prstGeom prst="cloudCallout">
            <a:avLst>
              <a:gd name="adj1" fmla="val -79685"/>
              <a:gd name="adj2" fmla="val -843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ravý úhel je polovina přímého úh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87280" y="1916280"/>
            <a:ext cx="69138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124000" y="1973160"/>
            <a:ext cx="4883400" cy="41925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ruhy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5" name=""/>
          <p:cNvSpPr/>
          <p:nvPr/>
        </p:nvSpPr>
        <p:spPr>
          <a:xfrm>
            <a:off x="912960" y="907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4.) Tupý ú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126828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upý úhel je úhel větší než pravý a zároveň menší než přím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57600" y="4062240"/>
            <a:ext cx="3456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57600" y="2060640"/>
            <a:ext cx="14400" cy="2016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4581360"/>
            <a:ext cx="2808360" cy="1800360"/>
          </a:xfrm>
          <a:prstGeom prst="cloudCallout">
            <a:avLst>
              <a:gd name="adj1" fmla="val 78379"/>
              <a:gd name="adj2" fmla="val -70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Je to tedy úh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 velikosti větší než 90°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57600" y="4075200"/>
            <a:ext cx="3456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03280" y="4076640"/>
            <a:ext cx="31543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4581360"/>
            <a:ext cx="2808360" cy="1800360"/>
          </a:xfrm>
          <a:prstGeom prst="cloudCallout">
            <a:avLst>
              <a:gd name="adj1" fmla="val -71708"/>
              <a:gd name="adj2" fmla="val -715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 zároveň menší než 18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ruhy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1916280"/>
            <a:ext cx="69138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2960" y="907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5.) Přímý ú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126828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mý úhel je úhel, jehož ramena jsou opačné polopřím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124000" y="1973160"/>
            <a:ext cx="4883400" cy="4192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867280" y="4653000"/>
            <a:ext cx="2089440" cy="1369800"/>
          </a:xfrm>
          <a:prstGeom prst="cloudCallout">
            <a:avLst>
              <a:gd name="adj1" fmla="val -100837"/>
              <a:gd name="adj2" fmla="val -83254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římý úhel je polovina plného úh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4651200"/>
            <a:ext cx="1944720" cy="1441800"/>
          </a:xfrm>
          <a:prstGeom prst="cloudCallout">
            <a:avLst>
              <a:gd name="adj1" fmla="val 99879"/>
              <a:gd name="adj2" fmla="val -81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Je to úh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 velikosti 18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19640" y="5229360"/>
            <a:ext cx="2376360" cy="1295280"/>
          </a:xfrm>
          <a:prstGeom prst="cloudCallout">
            <a:avLst>
              <a:gd name="adj1" fmla="val -1300"/>
              <a:gd name="adj2" fmla="val -116175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římý úhel je dvojnásobkem pravého úh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ruhy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1916280"/>
            <a:ext cx="69138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2960" y="765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6.) Plný úh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26828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lný úhel je úhel, jehož ramena leží na sobě. Za úhel se považuje celá rovina kolem n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124000" y="1973160"/>
            <a:ext cx="4883400" cy="4192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403280" y="4651200"/>
            <a:ext cx="1944720" cy="1441800"/>
          </a:xfrm>
          <a:prstGeom prst="cloudCallout">
            <a:avLst>
              <a:gd name="adj1" fmla="val 93101"/>
              <a:gd name="adj2" fmla="val -785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Je to úh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 velikosti 36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4653000"/>
            <a:ext cx="2376720" cy="1369800"/>
          </a:xfrm>
          <a:prstGeom prst="cloudCallout">
            <a:avLst>
              <a:gd name="adj1" fmla="val -78324"/>
              <a:gd name="adj2" fmla="val -7896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Přímý úhel je dvojnásobkem přímého úh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27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menuj daný úhel a zapiš j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633744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3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27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menuj daný úhel a zapiš j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6337440" cy="40975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066760" y="2637000"/>
            <a:ext cx="15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V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76360" y="2075040"/>
            <a:ext cx="2720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ostrý úhel EV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27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menuj daný úhel a zapiš j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58920" y="2249640"/>
            <a:ext cx="4773600" cy="39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3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27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menuj daný úhel a zapiš j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258920" y="2249640"/>
            <a:ext cx="4773600" cy="39877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321160" y="2765520"/>
            <a:ext cx="15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O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2203560"/>
            <a:ext cx="2865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pravý úhel O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2349360"/>
            <a:ext cx="7991280" cy="408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3932280"/>
            <a:ext cx="63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Nebo jako tuto naši bílou „nástěnku“ na psaní a rýs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4869000"/>
            <a:ext cx="63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To znamená plochu (rovinu), která za chviličku změní barvu. Takže pozor, klikni, te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349360"/>
            <a:ext cx="7991280" cy="4089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ina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bychom se mohli bavit o úhlech a pochopit, co vlastně znamenají, musíme nejdříve rozumět pojmu rov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54152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Rovina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je dvourozměrný geometrický útvar, který si lze představit jako neomezenou, dokonale rovnou plochu 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(jako její část si můžeme představit např. papír, na který rýsujeme, tabuli, na kterou píšeme, podlahu, na které stojíme, apod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4005360"/>
            <a:ext cx="4364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Dvourozměrný geometrický útvar proto, že má dva rozmě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5157720"/>
            <a:ext cx="4363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1.) dé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877000"/>
            <a:ext cx="79912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9360" y="2708280"/>
            <a:ext cx="3284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2.) šířku (výš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2349360"/>
            <a:ext cx="0" cy="4104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9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27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menuj daný úhel a zapiš j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247760" y="1773360"/>
            <a:ext cx="5195880" cy="43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27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menuj daný úhel a zapiš j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247760" y="1773360"/>
            <a:ext cx="5195880" cy="4367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599160" y="5718240"/>
            <a:ext cx="15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95640" y="515772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nekonvexní (konkávní) úhel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9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27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menuj daný úhel a zapiš j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198440" y="2612880"/>
            <a:ext cx="560556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3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27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menuj daný úhel a zapiš j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198440" y="2612880"/>
            <a:ext cx="5605560" cy="36244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580000" y="2637000"/>
            <a:ext cx="15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X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89600" y="2075040"/>
            <a:ext cx="2720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plný úhel X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9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27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menuj daný úhel a zapiš j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233360" y="2381400"/>
            <a:ext cx="6578640" cy="38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27000" y="9810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jmenuj daný úhel a zapiš j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233360" y="2381400"/>
            <a:ext cx="6578640" cy="3855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580000" y="2637000"/>
            <a:ext cx="15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A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89600" y="2075040"/>
            <a:ext cx="2720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tupý úhel A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9" name=""/>
          <p:cNvSpPr/>
          <p:nvPr/>
        </p:nvSpPr>
        <p:spPr>
          <a:xfrm>
            <a:off x="1042920" y="1628640"/>
            <a:ext cx="69138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981000"/>
            <a:ext cx="796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kaž úhel nekonvexní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FG, ostrý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PQ, pravý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YVZ, přím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503360" y="1689120"/>
            <a:ext cx="602136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5280" y="1341360"/>
            <a:ext cx="835344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532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k pro jistotu ještě jednou!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4" name="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2708280"/>
            <a:ext cx="201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ulov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11280" y="4508640"/>
            <a:ext cx="2116080" cy="1719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11280" y="4149720"/>
            <a:ext cx="201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str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611280" y="3141720"/>
            <a:ext cx="2303280" cy="7524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6300720" y="2060640"/>
            <a:ext cx="2298600" cy="2009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804000" y="2421000"/>
            <a:ext cx="201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av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32000" y="1773360"/>
            <a:ext cx="201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m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2987640" y="2276640"/>
            <a:ext cx="3024360" cy="6807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3132000" y="3429000"/>
            <a:ext cx="3130560" cy="2057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995640" y="4076640"/>
            <a:ext cx="201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up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7"/>
          <a:stretch/>
        </p:blipFill>
        <p:spPr>
          <a:xfrm>
            <a:off x="6300720" y="5157720"/>
            <a:ext cx="2306880" cy="1027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516720" y="4724280"/>
            <a:ext cx="2019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lný ú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2133720"/>
            <a:ext cx="5761080" cy="43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vina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912960" y="7938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Rovina může být určena dvěma způs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19700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.) Třemi různými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55736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.) Přímkou a bodem, který leží mimo přím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23120" y="2349360"/>
            <a:ext cx="232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ad 1.)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- body A, B, C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(rovina AB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43640" y="3068640"/>
            <a:ext cx="237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ad 2.) </a:t>
            </a:r>
            <a:br>
              <a:rPr sz="1800"/>
            </a:b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- přímkou p a bodem A (zápis: rovina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pA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5084640"/>
            <a:ext cx="237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Všechny uvedené zápisy vyjadřují tutéž rovinu, tzn platí:</a:t>
            </a:r>
            <a:br>
              <a:rPr sz="16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rovina ABC =</a:t>
            </a:r>
            <a:br>
              <a:rPr sz="16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= pA = pB =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43640" y="3716280"/>
            <a:ext cx="237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- přímkou p a bodem B (zápis: rovina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pB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422100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- přímkou p a bodem C (zápis: rovina 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pC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2206800"/>
            <a:ext cx="5616360" cy="417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84360" y="2206800"/>
            <a:ext cx="5616360" cy="417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84360" y="2206800"/>
            <a:ext cx="5616360" cy="417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84360" y="2206800"/>
            <a:ext cx="5616360" cy="417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684360" y="2206800"/>
            <a:ext cx="5616360" cy="417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2133720"/>
            <a:ext cx="5761080" cy="4305240"/>
          </a:xfrm>
          <a:prstGeom prst="rect">
            <a:avLst/>
          </a:prstGeom>
          <a:solidFill>
            <a:srgbClr val="00cc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2133720"/>
            <a:ext cx="7704000" cy="43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lorovina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912960" y="7938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Když už nám to tak jde, tak by jistě nebylo od věci si říci i to, co znamená pojem polorov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44144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Polorovina je část roviny, která vznikne rozdělením roviny jednou přím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332000" y="2463840"/>
            <a:ext cx="7041960" cy="39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6000" y="2492280"/>
            <a:ext cx="3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492280"/>
            <a:ext cx="3384720" cy="1657440"/>
          </a:xfrm>
          <a:prstGeom prst="cloudCallout">
            <a:avLst>
              <a:gd name="adj1" fmla="val 127861"/>
              <a:gd name="adj2" fmla="val -273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římka p nám rozdělila naši rovinu na dvě navzájem opačné poloroviny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2865240" y="930240"/>
            <a:ext cx="3960720" cy="7056360"/>
          </a:xfrm>
          <a:prstGeom prst="rtTriangle">
            <a:avLst/>
          </a:pr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360" y="2133720"/>
            <a:ext cx="7704000" cy="43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lorovina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4" name=""/>
          <p:cNvSpPr/>
          <p:nvPr/>
        </p:nvSpPr>
        <p:spPr>
          <a:xfrm>
            <a:off x="912960" y="7938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mka, která dělí rovinu na dvě navzájem opačné poloroviny, se nazývá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hraniční přímka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a patří do obou polorov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44144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lorovina je určena hraniční přímkou a bodem ležícím v dané polorovině (který už ovšem neleží na hraniční přím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32000" y="2463840"/>
            <a:ext cx="7041960" cy="397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6000" y="2492280"/>
            <a:ext cx="3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879640" y="930240"/>
            <a:ext cx="3960720" cy="7056360"/>
          </a:xfrm>
          <a:prstGeom prst="rtTriangle">
            <a:avLst/>
          </a:pr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422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317600" y="2478240"/>
            <a:ext cx="7056360" cy="396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6000" y="2492280"/>
            <a:ext cx="3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6000" y="1341360"/>
            <a:ext cx="4464000" cy="17272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450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98920" y="50608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5348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2565360"/>
            <a:ext cx="31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olorovina </a:t>
            </a: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5157720"/>
            <a:ext cx="21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olorovina </a:t>
            </a: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87280" y="206064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7680" y="2060640"/>
            <a:ext cx="5257800" cy="2305080"/>
          </a:xfrm>
          <a:custGeom>
            <a:avLst/>
            <a:gdLst/>
            <a:ahLst/>
            <a:rect l="l" t="t" r="r" b="b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nyní už přejděme k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 úhlům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1" name="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je část roviny vymezená dvěma polopřímkami se stejným počátk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yto polopřímky se nazývají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ramena úhlu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, jejich společný počátek je pak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vrchol úhlu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157720"/>
            <a:ext cx="813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Ještě si snad někdo myslí, že úhel jsou ty dvě „čáry“ (ramena), jak tomu občas bývá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14760" y="440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71720" y="206028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843280" y="306828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09640" y="2484720"/>
            <a:ext cx="210240" cy="8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74840" y="220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9240" y="3601080"/>
            <a:ext cx="6552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16840" y="3560760"/>
            <a:ext cx="1148400" cy="11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989000"/>
            <a:ext cx="1295640" cy="230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708000" y="1700280"/>
            <a:ext cx="1079640" cy="792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1700280"/>
            <a:ext cx="792000" cy="194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1125360"/>
            <a:ext cx="2305080" cy="1656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805360"/>
            <a:ext cx="842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ak tedy ještě jednou: </a:t>
            </a:r>
            <a:br>
              <a:rPr sz="1800"/>
            </a:b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Úhel jsou nejen ta dvě ramena, ale i všechny body mezi nimi!</a:t>
            </a:r>
            <a:br>
              <a:rPr sz="2200"/>
            </a:b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Je to část roviny vymezená rameny úhl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87280" y="328608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57680" y="3286080"/>
            <a:ext cx="5257800" cy="2305080"/>
          </a:xfrm>
          <a:custGeom>
            <a:avLst/>
            <a:gdLst/>
            <a:ahLst/>
            <a:rect l="l" t="t" r="r" b="b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Úhel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1" name=""/>
          <p:cNvSpPr/>
          <p:nvPr/>
        </p:nvSpPr>
        <p:spPr>
          <a:xfrm>
            <a:off x="912960" y="7509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se značí dvěma způs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pomocí vrcholu a dvou bodů, z nichž každý leží na jedno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 ramen. Písmenko označující vrchol se píše mezi těmito dvěma body (v našem příkladě jde o úhel AVB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53751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14760" y="5626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871720" y="328572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43280" y="429372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09640" y="3710520"/>
            <a:ext cx="210240" cy="8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74840" y="3430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9600" y="4826520"/>
            <a:ext cx="65160" cy="21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5014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16840" y="4786200"/>
            <a:ext cx="1148400" cy="114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62400" y="2131920"/>
            <a:ext cx="300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sujeme: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637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.) pomocí malých písmen řecké abecedy (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β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δ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43280" y="1557360"/>
            <a:ext cx="0" cy="38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578400" y="1542960"/>
            <a:ext cx="792000" cy="21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70400" y="1542960"/>
            <a:ext cx="1065240" cy="32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0" y="484020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2997360"/>
            <a:ext cx="6913800" cy="33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57680" y="2997360"/>
            <a:ext cx="5257800" cy="2304720"/>
          </a:xfrm>
          <a:custGeom>
            <a:avLst/>
            <a:gdLst/>
            <a:ahLst/>
            <a:rect l="l" t="t" r="r" b="b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Úhel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1" name=""/>
          <p:cNvSpPr/>
          <p:nvPr/>
        </p:nvSpPr>
        <p:spPr>
          <a:xfrm>
            <a:off x="912960" y="9079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Napadlo už někoho z Vás, že každé dvě polopřímky, které nám vymezují úhel, vymezují ve skutečnosti vlastně úhly dv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168768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O jednom už tedy víme. To je ten, který jsme si označili. Je to ten menší. Říkáme mu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úhel konvexní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tj. úhel přímý nebo menší než přímý)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5086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14760" y="53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871720" y="2997360"/>
            <a:ext cx="93672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843280" y="4005360"/>
            <a:ext cx="525780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09640" y="3421440"/>
            <a:ext cx="210240" cy="8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74840" y="3141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9600" y="4537440"/>
            <a:ext cx="65160" cy="21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4000" y="4726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16840" y="4497480"/>
            <a:ext cx="1148400" cy="11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234792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.) Ten druhý, větší, nazýváme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ekonvexní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neboli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konkávní úhel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5756000">
            <a:off x="2277720" y="4707000"/>
            <a:ext cx="1155240" cy="115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61" y="21580"/>
                </a:moveTo>
                <a:arcTo wR="10800" hR="10800" stAng="5189338" swAng="18189768"/>
                <a:lnTo>
                  <a:pt x="10800" y="10800"/>
                </a:lnTo>
                <a:close/>
              </a:path>
              <a:path fill="none" w="21600" h="21600">
                <a:moveTo>
                  <a:pt x="11461" y="21580"/>
                </a:moveTo>
                <a:arcTo wR="10800" hR="10800" stAng="5189338" swAng="1818976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14760" y="3355920"/>
            <a:ext cx="2721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konvexní úhel A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46040" y="5805360"/>
            <a:ext cx="2721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ekonvexní úhel A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87280" y="3357720"/>
            <a:ext cx="691380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elikost úhlu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8" name=""/>
          <p:cNvSpPr/>
          <p:nvPr/>
        </p:nvSpPr>
        <p:spPr>
          <a:xfrm>
            <a:off x="912960" y="8827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Jak je z již uvedeného jistě všem zřejmé, liší se úhly, tzn. části rovin vymezené dvěma polopřímkami, svou veliko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34136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yto „velikosti“, tedy říkejme raději úhly, se dají měř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77336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Existuje na to pomůcka, která se jmenuje 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úhloměr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ale o něm a o tom, jak se </a:t>
            </a:r>
            <a:br>
              <a:rPr sz="16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s ním pracuje, se pobavíme příšt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12960" y="2492280"/>
            <a:ext cx="804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dnotkou velikosti úhlů jsou stupně (°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- pozor, ne ty Celsiovy </a:t>
            </a:r>
            <a:r>
              <a:rPr b="1" lang="en-US" sz="2000" spc="-1" strike="noStrike">
                <a:solidFill>
                  <a:srgbClr val="284c6a"/>
                </a:solidFill>
                <a:latin typeface="Wingdings"/>
                <a:ea typeface="Wingdings"/>
              </a:rPr>
              <a:t>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), menší pak minuty či vteřiny. Dají se však měřit i v obloukových mírách, kde je jednotkou radián (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 tom blíže také až příště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2219400" cy="1905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724360" y="4581360"/>
            <a:ext cx="2016360" cy="1730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649680" y="3429000"/>
            <a:ext cx="1859040" cy="1595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3664080" y="4854600"/>
            <a:ext cx="2708280" cy="1382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1258920" y="3444840"/>
            <a:ext cx="2160720" cy="1855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1258920" y="4941720"/>
            <a:ext cx="2425680" cy="1366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3492360" y="3673440"/>
            <a:ext cx="219240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Bizova</cp:lastModifiedBy>
  <dcterms:modified xsi:type="dcterms:W3CDTF">2009-04-14T08:12:24Z</dcterms:modified>
  <cp:revision>158</cp:revision>
  <dc:subject/>
  <dc:title>Úhel - druhy a vlastnosti</dc:title>
</cp:coreProperties>
</file>