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A1DBA-83DA-4E58-B8D4-2FA32CA9FCA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CFC37-EF34-486E-9DEA-CEFAAF8D6AD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6CCB-9C94-4FB0-A56C-1E7D2F7F213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4CFCA-106F-4061-BADD-94FBAB7C0F9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6BA76-39A5-45E3-AA04-E3AA0912299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4633A-5E9F-4AE7-B6EA-F40403678E9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160D9-1B5C-4C4A-8751-C14C5705B6B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2980D-A227-42FA-A40C-EE4D0F2916A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C3931-C324-4E41-9590-73780AF1A0C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759E8-2E25-406B-94AF-F8A6ED34134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B262D-FEC8-472C-A431-DAE0C86D6F9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16D15-5087-4FD4-8C53-6BE434DEA05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CC354-D9F0-413C-92D2-F521F3C3E2A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50D5-9B26-400F-88DC-32A08AAFAC8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67019-AEC5-4330-82F3-F6731DA6B49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DAFA9-4D8F-467A-B4A5-6D82F0959E7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BB78D-2126-4500-97B4-D820B3EC3A8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D5857-CF03-4C44-8D75-502D78D281F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D7451-7335-4A85-9E7A-6B2F6A5E5A8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B09C4-7F2B-412F-9694-165CA594300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0668-E1ED-46CB-8EC4-C2EEBB6DB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5C68-7578-419E-8C70-B7E25B25C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767B-5FDB-4867-859C-F4D5AE942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DB9C-146D-4AAB-B27E-F343322D0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B4A40-229F-404F-81C0-89BD6AE34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605D6-FA31-43F1-A980-C0D262D33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F9862-2B10-4707-8D4D-A7CAF1E4C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299F4-CA66-4319-812C-62BD1741E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AF4A7-136C-4461-BBD7-9C727F66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20E0B-3907-4369-AB1A-23D1C2C0B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2E4DB-C5C5-411B-BADC-F72844BF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8FBD-2FFF-401F-AFCD-661B31FC1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FBB78-C449-48C8-9EA9-3FFF259C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64DF7-A38B-478E-90F5-5E7F34D9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B6DC4-E074-4879-A224-9D8335C89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E78AF-AD59-4D34-BF3F-EA8B84A17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11267-E069-4792-A6E2-CD538FD4C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1C4C-2481-4957-A932-F4CA4E118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FD0E-F7FC-4A56-8637-51046A2A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1D6B-A8CA-455C-8B24-3C8A6476B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5F7C-04D8-45A0-8356-59C16FEF7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21A9-35CB-4AB8-91CA-6FF2D660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2CFA-D3E4-46EC-936A-7EA28313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2EA2-8021-458D-9222-DBB4922F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B457B-1F8F-4B60-9034-E19525B46AD7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24518-BB85-4AFD-9667-5B097690147C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0" descr="notepad"/>
          <p:cNvPicPr/>
          <p:nvPr/>
        </p:nvPicPr>
        <p:blipFill>
          <a:blip r:embed="rId1"/>
          <a:stretch/>
        </p:blipFill>
        <p:spPr>
          <a:xfrm>
            <a:off x="1187280" y="353880"/>
            <a:ext cx="6913800" cy="57391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35200" y="3284280"/>
            <a:ext cx="7084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Slovní úlohy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7492320" y="6093000"/>
            <a:ext cx="53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r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3954600" y="4162320"/>
            <a:ext cx="39304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(řešené pomocí rovn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Zástupný symbol pro zápatí 3"/>
          <p:cNvSpPr/>
          <p:nvPr/>
        </p:nvSpPr>
        <p:spPr>
          <a:xfrm>
            <a:off x="816120" y="6165720"/>
            <a:ext cx="757224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000000"/>
                </a:solidFill>
                <a:latin typeface="Calibri"/>
              </a:rPr>
              <a:t>Autorem materiálu a všech jeho částí, není-li uvedeno jinak, je Mgr. Radomír Macháň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000000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441360" y="333360"/>
            <a:ext cx="7732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entury Gothic"/>
              </a:rPr>
              <a:t>Slovní úlohy řešené pomocí rov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468360" y="1052640"/>
            <a:ext cx="82519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entury Gothic"/>
              </a:rPr>
              <a:t>Petr dostal k narozeninám velkou čokoládu. První den snědl jednu čtvrtinu. Druhý den polovinu zbytku a na třetí den mu zůstalo 75 g čokolády. Kolik gramů vážila celá čokolád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468360" y="1973160"/>
            <a:ext cx="829476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Century Gothic"/>
              </a:rPr>
              <a:t>Mezi neznámými údaji zvol jeden, o kterém nevíš vůbec nic, jako neznámou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5"/>
          <p:cNvSpPr/>
          <p:nvPr/>
        </p:nvSpPr>
        <p:spPr>
          <a:xfrm>
            <a:off x="539640" y="191628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6"/>
          <p:cNvSpPr/>
          <p:nvPr/>
        </p:nvSpPr>
        <p:spPr>
          <a:xfrm>
            <a:off x="468360" y="2349360"/>
            <a:ext cx="829476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Hmotnost celé čokolády …….. x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468360" y="2662200"/>
            <a:ext cx="8294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Century Gothic"/>
              </a:rPr>
              <a:t>Vyjádři logickou rovnost plynoucí z textu úlohy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468360" y="3038400"/>
            <a:ext cx="8294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1. den + 2. den + 3. den = celá čokolád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468360" y="3514680"/>
            <a:ext cx="8294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Century Gothic"/>
              </a:rPr>
              <a:t>Pomocí zvolené neznámé a zadaných podmínek vyjádři všechny ostatní údaje z textu vystupující v logické rovnosti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468360" y="4017960"/>
            <a:ext cx="8294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1. den …….. ¼ . x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1"/>
          <p:cNvSpPr/>
          <p:nvPr/>
        </p:nvSpPr>
        <p:spPr>
          <a:xfrm>
            <a:off x="669960" y="4437000"/>
            <a:ext cx="8294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2. den …….. ½ . ¾ . x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30"/>
          <p:cNvSpPr/>
          <p:nvPr/>
        </p:nvSpPr>
        <p:spPr>
          <a:xfrm>
            <a:off x="468360" y="4854600"/>
            <a:ext cx="8294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3. den …….. 75 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35"/>
          <p:cNvSpPr/>
          <p:nvPr/>
        </p:nvSpPr>
        <p:spPr>
          <a:xfrm>
            <a:off x="468360" y="5415120"/>
            <a:ext cx="8294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Century Gothic"/>
              </a:rPr>
              <a:t>Na základě výše uvedené logické rovnosti a vyjádřených údajů sestavíme rovnici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6"/>
          <p:cNvSpPr/>
          <p:nvPr/>
        </p:nvSpPr>
        <p:spPr>
          <a:xfrm>
            <a:off x="468360" y="5718240"/>
            <a:ext cx="8294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¼ . x + ½ . ¾ . x + 75 = x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441360" y="333360"/>
            <a:ext cx="7732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entury Gothic"/>
              </a:rPr>
              <a:t>Slovní úlohy řešené pomocí rov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68360" y="1052640"/>
            <a:ext cx="82519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entury Gothic"/>
              </a:rPr>
              <a:t>Petr dostal k narozeninám velkou čokoládu. První den snědl jednu čtvrtinu. Druhý den polovinu zbytku a na třetí den mu zůstalo 75 g čokolády. Kolik gramů vážila celá čokolád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5"/>
          <p:cNvSpPr/>
          <p:nvPr/>
        </p:nvSpPr>
        <p:spPr>
          <a:xfrm>
            <a:off x="539640" y="191628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4"/>
          <p:cNvSpPr/>
          <p:nvPr/>
        </p:nvSpPr>
        <p:spPr>
          <a:xfrm>
            <a:off x="468360" y="2046240"/>
            <a:ext cx="8294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¼ . x + ½ . ¾ . x + 75 = x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5"/>
          <p:cNvSpPr/>
          <p:nvPr/>
        </p:nvSpPr>
        <p:spPr>
          <a:xfrm>
            <a:off x="468360" y="2492280"/>
            <a:ext cx="829476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Century Gothic"/>
              </a:rPr>
              <a:t>Vyřešíme sestavenou rovnici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7"/>
          <p:cNvSpPr/>
          <p:nvPr/>
        </p:nvSpPr>
        <p:spPr>
          <a:xfrm>
            <a:off x="468360" y="2909880"/>
            <a:ext cx="8294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1/4 . x + 3/8 . x + 75 = x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8"/>
          <p:cNvSpPr/>
          <p:nvPr/>
        </p:nvSpPr>
        <p:spPr>
          <a:xfrm>
            <a:off x="2182680" y="3270240"/>
            <a:ext cx="554364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2 . x + 3 . x + 600 = 8 . x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9"/>
          <p:cNvSpPr/>
          <p:nvPr/>
        </p:nvSpPr>
        <p:spPr>
          <a:xfrm>
            <a:off x="6084720" y="2881440"/>
            <a:ext cx="79236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/ . 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1"/>
          <p:cNvSpPr/>
          <p:nvPr/>
        </p:nvSpPr>
        <p:spPr>
          <a:xfrm>
            <a:off x="2685960" y="3703680"/>
            <a:ext cx="5183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5 . x + 600 = 8 . x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2"/>
          <p:cNvSpPr/>
          <p:nvPr/>
        </p:nvSpPr>
        <p:spPr>
          <a:xfrm>
            <a:off x="6443640" y="3718080"/>
            <a:ext cx="129708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/ – (8 . x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3"/>
          <p:cNvSpPr/>
          <p:nvPr/>
        </p:nvSpPr>
        <p:spPr>
          <a:xfrm>
            <a:off x="2238480" y="4151160"/>
            <a:ext cx="51829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5 . x + 600 – 8 . x = 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24"/>
          <p:cNvSpPr/>
          <p:nvPr/>
        </p:nvSpPr>
        <p:spPr>
          <a:xfrm>
            <a:off x="6126120" y="4164120"/>
            <a:ext cx="129708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/ – 6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5"/>
          <p:cNvSpPr/>
          <p:nvPr/>
        </p:nvSpPr>
        <p:spPr>
          <a:xfrm>
            <a:off x="2987640" y="4568760"/>
            <a:ext cx="5183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−</a:t>
            </a: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3 . x = 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−</a:t>
            </a: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6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6"/>
          <p:cNvSpPr/>
          <p:nvPr/>
        </p:nvSpPr>
        <p:spPr>
          <a:xfrm>
            <a:off x="6269040" y="4552920"/>
            <a:ext cx="12970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/ : (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−</a:t>
            </a: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3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7"/>
          <p:cNvSpPr/>
          <p:nvPr/>
        </p:nvSpPr>
        <p:spPr>
          <a:xfrm>
            <a:off x="3851280" y="4957920"/>
            <a:ext cx="43927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x = 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−</a:t>
            </a: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600 : (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−</a:t>
            </a: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3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8"/>
          <p:cNvSpPr/>
          <p:nvPr/>
        </p:nvSpPr>
        <p:spPr>
          <a:xfrm>
            <a:off x="3232080" y="5330880"/>
            <a:ext cx="5183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x = 200 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441360" y="333360"/>
            <a:ext cx="7732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entury Gothic"/>
              </a:rPr>
              <a:t>Slovní úlohy řešené pomocí rov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468360" y="1052640"/>
            <a:ext cx="82519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entury Gothic"/>
              </a:rPr>
              <a:t>Petr dostal k narozeninám velkou čokoládu. První den snědl jednu čtvrtinu. Druhý den polovinu zbytku a na třetí den mu zůstalo 75 g čokolády. Kolik gramů vážila celá čokolád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4"/>
          <p:cNvSpPr/>
          <p:nvPr/>
        </p:nvSpPr>
        <p:spPr>
          <a:xfrm>
            <a:off x="539640" y="191628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6"/>
          <p:cNvSpPr/>
          <p:nvPr/>
        </p:nvSpPr>
        <p:spPr>
          <a:xfrm>
            <a:off x="468360" y="2693880"/>
            <a:ext cx="829476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Century Gothic"/>
              </a:rPr>
              <a:t>Provedeme zkoušku, kterou ověříme, že získaný výsledek vyhovuje podmínkám úlohy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468360" y="3255840"/>
            <a:ext cx="829476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1. den snědl jednu čtvrtinu … 200 : 4 = 50 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8"/>
          <p:cNvSpPr/>
          <p:nvPr/>
        </p:nvSpPr>
        <p:spPr>
          <a:xfrm>
            <a:off x="1981080" y="2119320"/>
            <a:ext cx="5183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3300"/>
                </a:solidFill>
                <a:latin typeface="Century Gothic"/>
              </a:rPr>
              <a:t>x = 200 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9"/>
          <p:cNvSpPr/>
          <p:nvPr/>
        </p:nvSpPr>
        <p:spPr>
          <a:xfrm>
            <a:off x="468360" y="3687840"/>
            <a:ext cx="8294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Na další dny zbylo … 200 – 50 = 150 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0"/>
          <p:cNvSpPr/>
          <p:nvPr/>
        </p:nvSpPr>
        <p:spPr>
          <a:xfrm>
            <a:off x="468360" y="4191120"/>
            <a:ext cx="8294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2. den snědl polovinu ze zbytku … 150 : 2 = 75 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21"/>
          <p:cNvSpPr/>
          <p:nvPr/>
        </p:nvSpPr>
        <p:spPr>
          <a:xfrm>
            <a:off x="468360" y="4695840"/>
            <a:ext cx="8294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Na třetí den zbylo … 150 – 75 = 75 g … což odpovídá třetí podmínce zadání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22"/>
          <p:cNvSpPr/>
          <p:nvPr/>
        </p:nvSpPr>
        <p:spPr>
          <a:xfrm>
            <a:off x="453960" y="5315040"/>
            <a:ext cx="8294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Century Gothic"/>
              </a:rPr>
              <a:t>Napíšeme odpověď na zadanou otázku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3"/>
          <p:cNvSpPr/>
          <p:nvPr/>
        </p:nvSpPr>
        <p:spPr>
          <a:xfrm>
            <a:off x="468360" y="5761080"/>
            <a:ext cx="8294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3300"/>
                </a:solidFill>
                <a:latin typeface="Century Gothic"/>
              </a:rPr>
              <a:t>Celá čokoláda vážila 200 gramů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611280" y="504720"/>
            <a:ext cx="8137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Příklad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Turisté ušli za tři dny 45 km. Druhý den ušli dvakrát více než první den. Třetí den ušli o 5 km méně než druhý den. Kolik ušli turisté první, druhý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a třetí d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3"/>
          <p:cNvSpPr/>
          <p:nvPr/>
        </p:nvSpPr>
        <p:spPr>
          <a:xfrm>
            <a:off x="682560" y="1382760"/>
            <a:ext cx="799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611280" y="504720"/>
            <a:ext cx="8137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Příklad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Turisté ušli za tři dny 45 km. Druhý den ušli dvakrát více než první den. Třetí den ušli o 5 km méně než druhý den. Kolik ušli turisté první, druhý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a třetí d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1"/>
          <p:cNvSpPr/>
          <p:nvPr/>
        </p:nvSpPr>
        <p:spPr>
          <a:xfrm>
            <a:off x="682560" y="1382760"/>
            <a:ext cx="799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22"/>
          <p:cNvSpPr/>
          <p:nvPr/>
        </p:nvSpPr>
        <p:spPr>
          <a:xfrm>
            <a:off x="611280" y="1484280"/>
            <a:ext cx="684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1. den (turisté ušli) … x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23"/>
          <p:cNvSpPr/>
          <p:nvPr/>
        </p:nvSpPr>
        <p:spPr>
          <a:xfrm>
            <a:off x="611280" y="1773360"/>
            <a:ext cx="684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2. den (turisté ušli) … dvakrát více než 1. den … 2 . x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24"/>
          <p:cNvSpPr/>
          <p:nvPr/>
        </p:nvSpPr>
        <p:spPr>
          <a:xfrm>
            <a:off x="611280" y="2076480"/>
            <a:ext cx="684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3. den (turisté ušli) … o pět km méně než druhý den … 2 . x − 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25"/>
          <p:cNvSpPr/>
          <p:nvPr/>
        </p:nvSpPr>
        <p:spPr>
          <a:xfrm>
            <a:off x="612720" y="2705040"/>
            <a:ext cx="77043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Century Gothic"/>
              </a:rPr>
              <a:t>Logická rovnost plynoucí z textu úlohy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26"/>
          <p:cNvSpPr/>
          <p:nvPr/>
        </p:nvSpPr>
        <p:spPr>
          <a:xfrm>
            <a:off x="468360" y="3025800"/>
            <a:ext cx="6408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1. den + 2. den + 3. den = 45 k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27"/>
          <p:cNvSpPr/>
          <p:nvPr/>
        </p:nvSpPr>
        <p:spPr>
          <a:xfrm>
            <a:off x="596880" y="2349360"/>
            <a:ext cx="684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Všechny tři dny dohromady … 45 k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8"/>
          <p:cNvSpPr/>
          <p:nvPr/>
        </p:nvSpPr>
        <p:spPr>
          <a:xfrm>
            <a:off x="1965240" y="3443400"/>
            <a:ext cx="28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x  +  2 . x + 2 . x – 5 = 4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30"/>
          <p:cNvSpPr/>
          <p:nvPr/>
        </p:nvSpPr>
        <p:spPr>
          <a:xfrm>
            <a:off x="669960" y="3357720"/>
            <a:ext cx="799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31"/>
          <p:cNvSpPr/>
          <p:nvPr/>
        </p:nvSpPr>
        <p:spPr>
          <a:xfrm>
            <a:off x="3130560" y="3716280"/>
            <a:ext cx="2852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5 . x – 5 = 4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32"/>
          <p:cNvSpPr/>
          <p:nvPr/>
        </p:nvSpPr>
        <p:spPr>
          <a:xfrm>
            <a:off x="3490920" y="4005360"/>
            <a:ext cx="2852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5 . x = 45 + 5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33"/>
          <p:cNvSpPr/>
          <p:nvPr/>
        </p:nvSpPr>
        <p:spPr>
          <a:xfrm>
            <a:off x="3478320" y="4292640"/>
            <a:ext cx="2852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5 . x = 50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34"/>
          <p:cNvSpPr/>
          <p:nvPr/>
        </p:nvSpPr>
        <p:spPr>
          <a:xfrm>
            <a:off x="3778200" y="4567320"/>
            <a:ext cx="2852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x = 50 : 5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5"/>
          <p:cNvSpPr/>
          <p:nvPr/>
        </p:nvSpPr>
        <p:spPr>
          <a:xfrm>
            <a:off x="3780000" y="4854600"/>
            <a:ext cx="2852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entury Gothic"/>
              </a:rPr>
              <a:t>x = 10 km</a:t>
            </a: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 … 1. den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36"/>
          <p:cNvSpPr/>
          <p:nvPr/>
        </p:nvSpPr>
        <p:spPr>
          <a:xfrm>
            <a:off x="5132520" y="5100480"/>
            <a:ext cx="2852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2. den … 2 . 10 = </a:t>
            </a:r>
            <a:r>
              <a:rPr b="1" lang="en-US" sz="1700" spc="-1" strike="noStrike">
                <a:solidFill>
                  <a:srgbClr val="009900"/>
                </a:solidFill>
                <a:latin typeface="Century Gothic"/>
              </a:rPr>
              <a:t>20 km</a:t>
            </a: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37"/>
          <p:cNvSpPr/>
          <p:nvPr/>
        </p:nvSpPr>
        <p:spPr>
          <a:xfrm>
            <a:off x="5133960" y="5361120"/>
            <a:ext cx="2852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3. den … 20 – 5 = </a:t>
            </a:r>
            <a:r>
              <a:rPr b="1" lang="en-US" sz="1700" spc="-1" strike="noStrike">
                <a:solidFill>
                  <a:srgbClr val="009900"/>
                </a:solidFill>
                <a:latin typeface="Century Gothic"/>
              </a:rPr>
              <a:t>15 km</a:t>
            </a: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3"/>
          <p:cNvSpPr/>
          <p:nvPr/>
        </p:nvSpPr>
        <p:spPr>
          <a:xfrm>
            <a:off x="2197080" y="5776920"/>
            <a:ext cx="66960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entury Gothic"/>
              </a:rPr>
              <a:t>První den ušli turisté 10 km, druhý den 20 km a třetí den 15 km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55"/>
          <p:cNvSpPr/>
          <p:nvPr/>
        </p:nvSpPr>
        <p:spPr>
          <a:xfrm>
            <a:off x="6372360" y="2349360"/>
            <a:ext cx="2520720" cy="1870200"/>
          </a:xfrm>
          <a:prstGeom prst="cloudCallout">
            <a:avLst>
              <a:gd name="adj1" fmla="val -68435"/>
              <a:gd name="adj2" fmla="val 8956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Zkouška (sečteme trasy ušlé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 jednotlivých dnech): 10 + 20 + + 15 = 45 km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2"/>
          <p:cNvSpPr/>
          <p:nvPr/>
        </p:nvSpPr>
        <p:spPr>
          <a:xfrm>
            <a:off x="611280" y="504720"/>
            <a:ext cx="8137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Příklad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Na skládku teplárny přivezli koks. Hned první den spotřebovali polovinu z dovezeného množství, druhý den tři čtvrtiny ze zbytku a na třetí den zbylo 120 t. Kolik koksu na skládku přivezl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3"/>
          <p:cNvSpPr/>
          <p:nvPr/>
        </p:nvSpPr>
        <p:spPr>
          <a:xfrm>
            <a:off x="682560" y="1382760"/>
            <a:ext cx="799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611280" y="504720"/>
            <a:ext cx="8137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Příklad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Na skládku teplárny přivezli koks. Hned první den spotřebovali polovinu z dovezeného množství, druhý den tři čtvrtiny ze zbytku a na třetí den zbylo 120 t. Kolik koksu na skládku přivezl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3"/>
          <p:cNvSpPr/>
          <p:nvPr/>
        </p:nvSpPr>
        <p:spPr>
          <a:xfrm>
            <a:off x="682560" y="1382760"/>
            <a:ext cx="799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4"/>
          <p:cNvSpPr/>
          <p:nvPr/>
        </p:nvSpPr>
        <p:spPr>
          <a:xfrm>
            <a:off x="611280" y="1484280"/>
            <a:ext cx="684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Celkem (koksu na skládce) … x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611280" y="1773360"/>
            <a:ext cx="7632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1. den (spotřebovali koksu) … polovinu celkového množství … ½ . x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6"/>
          <p:cNvSpPr/>
          <p:nvPr/>
        </p:nvSpPr>
        <p:spPr>
          <a:xfrm>
            <a:off x="611280" y="2076480"/>
            <a:ext cx="684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2. den (spotřebovali) … tři čtvrtiny ze zbytku … ¾ . ½ . x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612720" y="2705040"/>
            <a:ext cx="77043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Century Gothic"/>
              </a:rPr>
              <a:t>Logická rovnost plynoucí z textu úlohy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8"/>
          <p:cNvSpPr/>
          <p:nvPr/>
        </p:nvSpPr>
        <p:spPr>
          <a:xfrm>
            <a:off x="625320" y="3025800"/>
            <a:ext cx="6408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1. den + 2. den + 3. den = celková spotřeb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9"/>
          <p:cNvSpPr/>
          <p:nvPr/>
        </p:nvSpPr>
        <p:spPr>
          <a:xfrm>
            <a:off x="625320" y="2349360"/>
            <a:ext cx="684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3. den (zbylo) … 120 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0"/>
          <p:cNvSpPr/>
          <p:nvPr/>
        </p:nvSpPr>
        <p:spPr>
          <a:xfrm>
            <a:off x="1965240" y="3443400"/>
            <a:ext cx="28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½ . x  + ¾ . ½ . x + 120 = x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11"/>
          <p:cNvSpPr/>
          <p:nvPr/>
        </p:nvSpPr>
        <p:spPr>
          <a:xfrm>
            <a:off x="669960" y="3357720"/>
            <a:ext cx="799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2"/>
          <p:cNvSpPr/>
          <p:nvPr/>
        </p:nvSpPr>
        <p:spPr>
          <a:xfrm>
            <a:off x="2224080" y="3716280"/>
            <a:ext cx="2852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½ . x + 3/8 . x + 120 = x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4"/>
          <p:cNvSpPr/>
          <p:nvPr/>
        </p:nvSpPr>
        <p:spPr>
          <a:xfrm>
            <a:off x="2484360" y="4033800"/>
            <a:ext cx="2852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4 . x + 3 . x + 960 = 8 . x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5"/>
          <p:cNvSpPr/>
          <p:nvPr/>
        </p:nvSpPr>
        <p:spPr>
          <a:xfrm>
            <a:off x="3922560" y="4365720"/>
            <a:ext cx="28530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−</a:t>
            </a: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x = −960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6"/>
          <p:cNvSpPr/>
          <p:nvPr/>
        </p:nvSpPr>
        <p:spPr>
          <a:xfrm>
            <a:off x="5118120" y="4978440"/>
            <a:ext cx="2852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1. den …  960 : 2 = 480 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7"/>
          <p:cNvSpPr/>
          <p:nvPr/>
        </p:nvSpPr>
        <p:spPr>
          <a:xfrm>
            <a:off x="5132520" y="5224320"/>
            <a:ext cx="2852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2. den … ¾ . 480 = 360 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8"/>
          <p:cNvSpPr/>
          <p:nvPr/>
        </p:nvSpPr>
        <p:spPr>
          <a:xfrm>
            <a:off x="5133960" y="5484960"/>
            <a:ext cx="2852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3. den … 120 t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9"/>
          <p:cNvSpPr/>
          <p:nvPr/>
        </p:nvSpPr>
        <p:spPr>
          <a:xfrm>
            <a:off x="4645080" y="5845320"/>
            <a:ext cx="4030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entury Gothic"/>
              </a:rPr>
              <a:t>Na skládku přivezli 960 tun koksu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20"/>
          <p:cNvSpPr/>
          <p:nvPr/>
        </p:nvSpPr>
        <p:spPr>
          <a:xfrm>
            <a:off x="5867280" y="2637000"/>
            <a:ext cx="3025800" cy="1728720"/>
          </a:xfrm>
          <a:prstGeom prst="cloudCallout">
            <a:avLst>
              <a:gd name="adj1" fmla="val -42078"/>
              <a:gd name="adj2" fmla="val 8526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Zkouška (vypočítám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 sečteme spotřebu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 jednotlivých dnech dle podmínek zadání): 480 + 360 + 120 = 960 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1"/>
          <p:cNvSpPr/>
          <p:nvPr/>
        </p:nvSpPr>
        <p:spPr>
          <a:xfrm>
            <a:off x="4095720" y="4692600"/>
            <a:ext cx="2852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entury Gothic"/>
              </a:rPr>
              <a:t>x = 960 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0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611280" y="504720"/>
            <a:ext cx="8137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Příklad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Zahrádkář chtěl porýt zahradu o výměře 300 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. První den poryl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o polovinu méně než druhý den, třetí den o polovinu více než druhý den. Kolik 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 poryl zahrádkář každý d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3"/>
          <p:cNvSpPr/>
          <p:nvPr/>
        </p:nvSpPr>
        <p:spPr>
          <a:xfrm>
            <a:off x="682560" y="1382760"/>
            <a:ext cx="799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0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500"/>
                            </p:stCondLst>
                            <p:childTnLst>
                              <p:par>
                                <p:cTn id="5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2"/>
          <p:cNvSpPr/>
          <p:nvPr/>
        </p:nvSpPr>
        <p:spPr>
          <a:xfrm>
            <a:off x="611280" y="504720"/>
            <a:ext cx="8137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Příklad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Zahrádkář chtěl porýt zahradu o výměře 300 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. První den poryl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o polovinu méně než druhý den, třetí den o polovinu více než druhý den. Kolik 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 poryl zahrádkář každý d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3"/>
          <p:cNvSpPr/>
          <p:nvPr/>
        </p:nvSpPr>
        <p:spPr>
          <a:xfrm>
            <a:off x="682560" y="1382760"/>
            <a:ext cx="799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611280" y="1484280"/>
            <a:ext cx="684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2. den (poryl) … x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5"/>
          <p:cNvSpPr/>
          <p:nvPr/>
        </p:nvSpPr>
        <p:spPr>
          <a:xfrm>
            <a:off x="611280" y="1773360"/>
            <a:ext cx="684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1. den (poryl) … o polovinu méně než druhý den … ½ . x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6"/>
          <p:cNvSpPr/>
          <p:nvPr/>
        </p:nvSpPr>
        <p:spPr>
          <a:xfrm>
            <a:off x="611280" y="2076480"/>
            <a:ext cx="684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3. den (poryl) … o polovinu více než 2. den … x + ½ . x = 3/2 . x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612720" y="2705040"/>
            <a:ext cx="77043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Century Gothic"/>
              </a:rPr>
              <a:t>Logická rovnost plynoucí z textu úlohy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8"/>
          <p:cNvSpPr/>
          <p:nvPr/>
        </p:nvSpPr>
        <p:spPr>
          <a:xfrm>
            <a:off x="468360" y="3025800"/>
            <a:ext cx="6408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1. den + 2. den + 3. den = 300 m</a:t>
            </a:r>
            <a:r>
              <a:rPr b="1" lang="en-US" sz="17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9"/>
          <p:cNvSpPr/>
          <p:nvPr/>
        </p:nvSpPr>
        <p:spPr>
          <a:xfrm>
            <a:off x="596880" y="2349360"/>
            <a:ext cx="684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Všechny tři dny dohromady … 300 m</a:t>
            </a:r>
            <a:r>
              <a:rPr b="1" lang="en-US" sz="17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0"/>
          <p:cNvSpPr/>
          <p:nvPr/>
        </p:nvSpPr>
        <p:spPr>
          <a:xfrm>
            <a:off x="2079720" y="3443400"/>
            <a:ext cx="2852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x  + ½ . x + 3/2 . x = 3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1"/>
          <p:cNvSpPr/>
          <p:nvPr/>
        </p:nvSpPr>
        <p:spPr>
          <a:xfrm>
            <a:off x="669960" y="3357720"/>
            <a:ext cx="799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2"/>
          <p:cNvSpPr/>
          <p:nvPr/>
        </p:nvSpPr>
        <p:spPr>
          <a:xfrm>
            <a:off x="3476520" y="3716280"/>
            <a:ext cx="28530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3 . x = 3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3"/>
          <p:cNvSpPr/>
          <p:nvPr/>
        </p:nvSpPr>
        <p:spPr>
          <a:xfrm>
            <a:off x="3765600" y="4005360"/>
            <a:ext cx="2852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x = 300 : 3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4"/>
          <p:cNvSpPr/>
          <p:nvPr/>
        </p:nvSpPr>
        <p:spPr>
          <a:xfrm>
            <a:off x="3763800" y="4292640"/>
            <a:ext cx="28530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entury Gothic"/>
              </a:rPr>
              <a:t>x = 100 m</a:t>
            </a:r>
            <a:r>
              <a:rPr b="1" lang="en-US" sz="1700" spc="-1" strike="noStrike" baseline="30000">
                <a:solidFill>
                  <a:srgbClr val="009900"/>
                </a:solidFill>
                <a:latin typeface="Century Gothic"/>
              </a:rPr>
              <a:t>2</a:t>
            </a:r>
            <a:r>
              <a:rPr b="1" lang="en-US" sz="1700" spc="-1" strike="noStrike" baseline="30000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… 2. den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7"/>
          <p:cNvSpPr/>
          <p:nvPr/>
        </p:nvSpPr>
        <p:spPr>
          <a:xfrm>
            <a:off x="5146560" y="4605480"/>
            <a:ext cx="28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1. den … ½ . 100 = </a:t>
            </a:r>
            <a:r>
              <a:rPr b="1" lang="en-US" sz="1700" spc="-1" strike="noStrike">
                <a:solidFill>
                  <a:srgbClr val="009900"/>
                </a:solidFill>
                <a:latin typeface="Century Gothic"/>
              </a:rPr>
              <a:t>50 m</a:t>
            </a:r>
            <a:r>
              <a:rPr b="1" lang="en-US" sz="1700" spc="-1" strike="noStrike" baseline="30000">
                <a:solidFill>
                  <a:srgbClr val="009900"/>
                </a:solidFill>
                <a:latin typeface="Century Gothic"/>
              </a:rPr>
              <a:t>2</a:t>
            </a: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8"/>
          <p:cNvSpPr/>
          <p:nvPr/>
        </p:nvSpPr>
        <p:spPr>
          <a:xfrm>
            <a:off x="5148360" y="4908600"/>
            <a:ext cx="3311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3. den … 3/2 . 100 = </a:t>
            </a:r>
            <a:r>
              <a:rPr b="1" lang="en-US" sz="1700" spc="-1" strike="noStrike">
                <a:solidFill>
                  <a:srgbClr val="009900"/>
                </a:solidFill>
                <a:latin typeface="Century Gothic"/>
              </a:rPr>
              <a:t>150 m</a:t>
            </a:r>
            <a:r>
              <a:rPr b="1" lang="en-US" sz="1700" spc="-1" strike="noStrike" baseline="30000">
                <a:solidFill>
                  <a:srgbClr val="009900"/>
                </a:solidFill>
                <a:latin typeface="Century Gothic"/>
              </a:rPr>
              <a:t>2</a:t>
            </a: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9"/>
          <p:cNvSpPr/>
          <p:nvPr/>
        </p:nvSpPr>
        <p:spPr>
          <a:xfrm>
            <a:off x="3276720" y="5516640"/>
            <a:ext cx="55450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9900"/>
                </a:solidFill>
                <a:latin typeface="Century Gothic"/>
              </a:rPr>
              <a:t>První den poryl zahrádkář 100 m</a:t>
            </a:r>
            <a:r>
              <a:rPr b="1" lang="en-US" sz="1700" spc="-1" strike="noStrike" baseline="30000">
                <a:solidFill>
                  <a:srgbClr val="009900"/>
                </a:solidFill>
                <a:latin typeface="Century Gothic"/>
              </a:rPr>
              <a:t>2</a:t>
            </a:r>
            <a:r>
              <a:rPr b="1" lang="en-US" sz="1700" spc="-1" strike="noStrike">
                <a:solidFill>
                  <a:srgbClr val="009900"/>
                </a:solidFill>
                <a:latin typeface="Century Gothic"/>
              </a:rPr>
              <a:t>, druhý den 50 m</a:t>
            </a:r>
            <a:r>
              <a:rPr b="1" lang="en-US" sz="1700" spc="-1" strike="noStrike" baseline="30000">
                <a:solidFill>
                  <a:srgbClr val="009900"/>
                </a:solidFill>
                <a:latin typeface="Century Gothic"/>
              </a:rPr>
              <a:t>2</a:t>
            </a:r>
            <a:r>
              <a:rPr b="1" lang="en-US" sz="1700" spc="-1" strike="noStrike">
                <a:solidFill>
                  <a:srgbClr val="009900"/>
                </a:solidFill>
                <a:latin typeface="Century Gothic"/>
              </a:rPr>
              <a:t> a třetí den 150 m</a:t>
            </a:r>
            <a:r>
              <a:rPr b="1" lang="en-US" sz="1700" spc="-1" strike="noStrike" baseline="30000">
                <a:solidFill>
                  <a:srgbClr val="009900"/>
                </a:solidFill>
                <a:latin typeface="Century Gothic"/>
              </a:rPr>
              <a:t>2</a:t>
            </a:r>
            <a:r>
              <a:rPr b="1" lang="en-US" sz="1700" spc="-1" strike="noStrike">
                <a:solidFill>
                  <a:srgbClr val="009900"/>
                </a:solidFill>
                <a:latin typeface="Century Gothic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20"/>
          <p:cNvSpPr/>
          <p:nvPr/>
        </p:nvSpPr>
        <p:spPr>
          <a:xfrm>
            <a:off x="6443640" y="2422440"/>
            <a:ext cx="2463840" cy="1870200"/>
          </a:xfrm>
          <a:prstGeom prst="cloudCallout">
            <a:avLst>
              <a:gd name="adj1" fmla="val -61856"/>
              <a:gd name="adj2" fmla="val 6315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Zkouška (sečteme poryté m</a:t>
            </a:r>
            <a:r>
              <a:rPr b="1" lang="en-US" sz="13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za jednotlivé dny): 100 + 50 + 150 = 300 m</a:t>
            </a:r>
            <a:r>
              <a:rPr b="1" lang="en-US" sz="13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21"/>
          <p:cNvSpPr/>
          <p:nvPr/>
        </p:nvSpPr>
        <p:spPr>
          <a:xfrm>
            <a:off x="1432080" y="1929240"/>
            <a:ext cx="590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šechny uveřejněné odkazy [cit. 2010–25–06]. Dostupné pod licencí Creative Commons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 WWW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2"/>
          <p:cNvSpPr/>
          <p:nvPr/>
        </p:nvSpPr>
        <p:spPr>
          <a:xfrm>
            <a:off x="1462680" y="3170160"/>
            <a:ext cx="565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brázek na pozadí: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ttp://www.clker.com/clipart-blackboard.html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3"/>
          <p:cNvSpPr/>
          <p:nvPr/>
        </p:nvSpPr>
        <p:spPr>
          <a:xfrm>
            <a:off x="1460880" y="4000680"/>
            <a:ext cx="42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br. 2: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ttp://www.clker.com/clipart-25039.html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4"/>
          <p:cNvSpPr/>
          <p:nvPr/>
        </p:nvSpPr>
        <p:spPr>
          <a:xfrm>
            <a:off x="1461240" y="4425840"/>
            <a:ext cx="416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br. 3: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ttp://www.clker.com/clipart-4117.html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25"/>
          <p:cNvSpPr/>
          <p:nvPr/>
        </p:nvSpPr>
        <p:spPr>
          <a:xfrm>
            <a:off x="1403280" y="915480"/>
            <a:ext cx="59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užité obrázk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26"/>
          <p:cNvSpPr/>
          <p:nvPr/>
        </p:nvSpPr>
        <p:spPr>
          <a:xfrm>
            <a:off x="1459080" y="3587760"/>
            <a:ext cx="45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br. 1: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ttp://www.clker.com/clipart-notepad-1.html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Zástupný symbol pro zápatí 3"/>
          <p:cNvSpPr/>
          <p:nvPr/>
        </p:nvSpPr>
        <p:spPr>
          <a:xfrm>
            <a:off x="971640" y="5300640"/>
            <a:ext cx="757224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000000"/>
                </a:solidFill>
                <a:latin typeface="Calibri"/>
              </a:rPr>
              <a:t>Autorem materiálu a všech jeho částí, není-li uvedeno jinak, je Mgr. Radomír Macháň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000000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8"/>
          <p:cNvSpPr/>
          <p:nvPr/>
        </p:nvSpPr>
        <p:spPr>
          <a:xfrm>
            <a:off x="496800" y="476280"/>
            <a:ext cx="7489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entury Gothic"/>
              </a:rPr>
              <a:t>Jak při řešení rovnic postupov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7"/>
          <p:cNvSpPr/>
          <p:nvPr/>
        </p:nvSpPr>
        <p:spPr>
          <a:xfrm>
            <a:off x="468360" y="1268280"/>
            <a:ext cx="7489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entury Gothic"/>
              </a:rPr>
              <a:t>1. Pozorně si přečti text úlohy (raději několikrá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3"/>
          <p:cNvSpPr/>
          <p:nvPr/>
        </p:nvSpPr>
        <p:spPr>
          <a:xfrm>
            <a:off x="482760" y="1916280"/>
            <a:ext cx="79056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entury Gothic"/>
              </a:rPr>
              <a:t>2. Mezi neznámými údaji zvol jeden, o kterém nevíš vůbec nic, </a:t>
            </a:r>
            <a:br>
              <a:rPr sz="2000"/>
            </a:br>
            <a:r>
              <a:rPr b="1" lang="en-US" sz="2000" spc="-1" strike="noStrike">
                <a:solidFill>
                  <a:srgbClr val="009900"/>
                </a:solidFill>
                <a:latin typeface="Century Gothic"/>
              </a:rPr>
              <a:t>    jako neznámo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4"/>
          <p:cNvSpPr/>
          <p:nvPr/>
        </p:nvSpPr>
        <p:spPr>
          <a:xfrm>
            <a:off x="482760" y="2708280"/>
            <a:ext cx="7489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entury Gothic"/>
              </a:rPr>
              <a:t>3. Pomocí zvolené neznámé a zadaných podmínek vyjádři </a:t>
            </a:r>
            <a:br>
              <a:rPr sz="2000"/>
            </a:br>
            <a:r>
              <a:rPr b="1" lang="en-US" sz="2000" spc="-1" strike="noStrike">
                <a:solidFill>
                  <a:srgbClr val="009900"/>
                </a:solidFill>
                <a:latin typeface="Century Gothic"/>
              </a:rPr>
              <a:t>    všechny ostatní údaje z tex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5"/>
          <p:cNvSpPr/>
          <p:nvPr/>
        </p:nvSpPr>
        <p:spPr>
          <a:xfrm>
            <a:off x="482760" y="3645000"/>
            <a:ext cx="5833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entury Gothic"/>
              </a:rPr>
              <a:t>4. Vyjádři logickou rovnost plynoucí z textu </a:t>
            </a:r>
            <a:br>
              <a:rPr sz="2000"/>
            </a:br>
            <a:r>
              <a:rPr b="1" lang="en-US" sz="2000" spc="-1" strike="noStrike">
                <a:solidFill>
                  <a:srgbClr val="009900"/>
                </a:solidFill>
                <a:latin typeface="Century Gothic"/>
              </a:rPr>
              <a:t>    úlohy a na jejím základě sestav rovnici </a:t>
            </a:r>
            <a:br>
              <a:rPr sz="2000"/>
            </a:br>
            <a:r>
              <a:rPr b="1" lang="en-US" sz="2000" spc="-1" strike="noStrike">
                <a:solidFill>
                  <a:srgbClr val="009900"/>
                </a:solidFill>
                <a:latin typeface="Century Gothic"/>
              </a:rPr>
              <a:t>    a vyřeš j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6"/>
          <p:cNvSpPr/>
          <p:nvPr/>
        </p:nvSpPr>
        <p:spPr>
          <a:xfrm>
            <a:off x="482760" y="4653000"/>
            <a:ext cx="56894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entury Gothic"/>
              </a:rPr>
              <a:t>5. Proveď zkoušku, kterou ověříš, že získané </a:t>
            </a:r>
            <a:br>
              <a:rPr sz="2000"/>
            </a:br>
            <a:r>
              <a:rPr b="1" lang="en-US" sz="2000" spc="-1" strike="noStrike">
                <a:solidFill>
                  <a:srgbClr val="009900"/>
                </a:solidFill>
                <a:latin typeface="Century Gothic"/>
              </a:rPr>
              <a:t>    výsledky vyhovují všem podmínkám  </a:t>
            </a:r>
            <a:br>
              <a:rPr sz="2000"/>
            </a:br>
            <a:r>
              <a:rPr b="1" lang="en-US" sz="2000" spc="-1" strike="noStrike">
                <a:solidFill>
                  <a:srgbClr val="009900"/>
                </a:solidFill>
                <a:latin typeface="Century Gothic"/>
              </a:rPr>
              <a:t>    úloh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7"/>
          <p:cNvSpPr/>
          <p:nvPr/>
        </p:nvSpPr>
        <p:spPr>
          <a:xfrm>
            <a:off x="482760" y="5372280"/>
            <a:ext cx="7489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entury Gothic"/>
              </a:rPr>
              <a:t>6. Napiš odpovědi na otázky zadané úloh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9" descr="kniha"/>
          <p:cNvPicPr/>
          <p:nvPr/>
        </p:nvPicPr>
        <p:blipFill>
          <a:blip r:embed="rId2"/>
          <a:stretch/>
        </p:blipFill>
        <p:spPr>
          <a:xfrm>
            <a:off x="6012000" y="4724280"/>
            <a:ext cx="2857320" cy="13716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41"/>
          <p:cNvSpPr/>
          <p:nvPr/>
        </p:nvSpPr>
        <p:spPr>
          <a:xfrm>
            <a:off x="8356680" y="5775480"/>
            <a:ext cx="53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r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0" descr="11949863261397212709gauffre_au_chocolat_01"/>
          <p:cNvPicPr/>
          <p:nvPr/>
        </p:nvPicPr>
        <p:blipFill>
          <a:blip r:embed="rId2"/>
          <a:stretch/>
        </p:blipFill>
        <p:spPr>
          <a:xfrm>
            <a:off x="539640" y="1327320"/>
            <a:ext cx="3733920" cy="344772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2"/>
          <p:cNvSpPr/>
          <p:nvPr/>
        </p:nvSpPr>
        <p:spPr>
          <a:xfrm>
            <a:off x="684360" y="549360"/>
            <a:ext cx="7489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entury Gothic"/>
              </a:rPr>
              <a:t>Slovní úlohy řešené pomocí rov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3130560" y="4653000"/>
            <a:ext cx="56894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entury Gothic"/>
              </a:rPr>
              <a:t>Petr dostal k narozeninám velkou čokoládu. První den snědl jednu čtvrtinu. Druhý den polovinu zbytku </a:t>
            </a:r>
            <a:br>
              <a:rPr sz="2400"/>
            </a:br>
            <a:r>
              <a:rPr b="1" lang="en-US" sz="2400" spc="-1" strike="noStrike">
                <a:solidFill>
                  <a:srgbClr val="009900"/>
                </a:solidFill>
                <a:latin typeface="Century Gothic"/>
              </a:rPr>
              <a:t>a na třetí den mu zůstalo 75 g čokolády. Kolik gramů vážila celá čokolád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4284720" y="3355920"/>
            <a:ext cx="4608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entury Gothic"/>
              </a:rPr>
              <a:t>Ukázka zadání takové úloh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9"/>
          <p:cNvSpPr/>
          <p:nvPr/>
        </p:nvSpPr>
        <p:spPr>
          <a:xfrm>
            <a:off x="542160" y="4437000"/>
            <a:ext cx="53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r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441360" y="333360"/>
            <a:ext cx="7732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entury Gothic"/>
              </a:rPr>
              <a:t>Slovní úlohy řešené pomocí rov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468360" y="1052640"/>
            <a:ext cx="82519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entury Gothic"/>
              </a:rPr>
              <a:t>Petr dostal k narozeninám velkou čokoládu. První den snědl jednu čtvrtinu. Druhý den polovinu zbytku a na třetí den mu zůstalo 75 g čokolády. Kolik gramů vážila celá čokolád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1787400"/>
            <a:ext cx="82947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entury Gothic"/>
              </a:rPr>
              <a:t>Pokusíme se nejdříve vyřešit úlohu logickým myšlenkovým postup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8"/>
          <p:cNvSpPr/>
          <p:nvPr/>
        </p:nvSpPr>
        <p:spPr>
          <a:xfrm>
            <a:off x="539640" y="191628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8"/>
          <p:cNvSpPr/>
          <p:nvPr/>
        </p:nvSpPr>
        <p:spPr>
          <a:xfrm>
            <a:off x="611280" y="2421000"/>
            <a:ext cx="3384360" cy="187164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42"/>
          <p:cNvGrpSpPr/>
          <p:nvPr/>
        </p:nvGrpSpPr>
        <p:grpSpPr>
          <a:xfrm>
            <a:off x="611280" y="2421000"/>
            <a:ext cx="3384360" cy="1871640"/>
            <a:chOff x="611280" y="2421000"/>
            <a:chExt cx="3384360" cy="1871640"/>
          </a:xfrm>
        </p:grpSpPr>
        <p:sp>
          <p:nvSpPr>
            <p:cNvPr id="114" name="Rectangle 39"/>
            <p:cNvSpPr/>
            <p:nvPr/>
          </p:nvSpPr>
          <p:spPr>
            <a:xfrm>
              <a:off x="611280" y="2421000"/>
              <a:ext cx="3384360" cy="187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40"/>
            <p:cNvSpPr/>
            <p:nvPr/>
          </p:nvSpPr>
          <p:spPr>
            <a:xfrm>
              <a:off x="2311200" y="2421000"/>
              <a:ext cx="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41"/>
            <p:cNvSpPr/>
            <p:nvPr/>
          </p:nvSpPr>
          <p:spPr>
            <a:xfrm>
              <a:off x="611280" y="3357360"/>
              <a:ext cx="33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Rectangle 44"/>
          <p:cNvSpPr/>
          <p:nvPr/>
        </p:nvSpPr>
        <p:spPr>
          <a:xfrm>
            <a:off x="611280" y="2421000"/>
            <a:ext cx="169056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51"/>
          <p:cNvGrpSpPr/>
          <p:nvPr/>
        </p:nvGrpSpPr>
        <p:grpSpPr>
          <a:xfrm>
            <a:off x="611280" y="2421000"/>
            <a:ext cx="3384360" cy="1871640"/>
            <a:chOff x="611280" y="2421000"/>
            <a:chExt cx="3384360" cy="1871640"/>
          </a:xfrm>
        </p:grpSpPr>
        <p:grpSp>
          <p:nvGrpSpPr>
            <p:cNvPr id="119" name="Group 45"/>
            <p:cNvGrpSpPr/>
            <p:nvPr/>
          </p:nvGrpSpPr>
          <p:grpSpPr>
            <a:xfrm>
              <a:off x="611280" y="2421000"/>
              <a:ext cx="3384360" cy="1871640"/>
              <a:chOff x="611280" y="2421000"/>
              <a:chExt cx="3384360" cy="1871640"/>
            </a:xfrm>
          </p:grpSpPr>
          <p:sp>
            <p:nvSpPr>
              <p:cNvPr id="120" name="Rectangle 46"/>
              <p:cNvSpPr/>
              <p:nvPr/>
            </p:nvSpPr>
            <p:spPr>
              <a:xfrm>
                <a:off x="611280" y="2421000"/>
                <a:ext cx="3384360" cy="1871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47"/>
              <p:cNvSpPr/>
              <p:nvPr/>
            </p:nvSpPr>
            <p:spPr>
              <a:xfrm>
                <a:off x="2311200" y="2421000"/>
                <a:ext cx="0" cy="187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48"/>
              <p:cNvSpPr/>
              <p:nvPr/>
            </p:nvSpPr>
            <p:spPr>
              <a:xfrm>
                <a:off x="611280" y="3357360"/>
                <a:ext cx="338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Line 49"/>
            <p:cNvSpPr/>
            <p:nvPr/>
          </p:nvSpPr>
          <p:spPr>
            <a:xfrm>
              <a:off x="1446120" y="2421000"/>
              <a:ext cx="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50"/>
            <p:cNvSpPr/>
            <p:nvPr/>
          </p:nvSpPr>
          <p:spPr>
            <a:xfrm>
              <a:off x="3130560" y="2421000"/>
              <a:ext cx="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57"/>
          <p:cNvGrpSpPr/>
          <p:nvPr/>
        </p:nvGrpSpPr>
        <p:grpSpPr>
          <a:xfrm>
            <a:off x="611280" y="3357720"/>
            <a:ext cx="2516040" cy="934920"/>
            <a:chOff x="611280" y="3357720"/>
            <a:chExt cx="2516040" cy="934920"/>
          </a:xfrm>
        </p:grpSpPr>
        <p:sp>
          <p:nvSpPr>
            <p:cNvPr id="126" name="Rectangle 53"/>
            <p:cNvSpPr/>
            <p:nvPr/>
          </p:nvSpPr>
          <p:spPr>
            <a:xfrm>
              <a:off x="611280" y="3357720"/>
              <a:ext cx="84600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54"/>
            <p:cNvSpPr/>
            <p:nvPr/>
          </p:nvSpPr>
          <p:spPr>
            <a:xfrm>
              <a:off x="1446120" y="3357720"/>
              <a:ext cx="84924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55"/>
            <p:cNvSpPr/>
            <p:nvPr/>
          </p:nvSpPr>
          <p:spPr>
            <a:xfrm>
              <a:off x="2300400" y="3357720"/>
              <a:ext cx="82692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Rectangle 58"/>
          <p:cNvSpPr/>
          <p:nvPr/>
        </p:nvSpPr>
        <p:spPr>
          <a:xfrm>
            <a:off x="4140360" y="2276640"/>
            <a:ext cx="4392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entury Gothic"/>
              </a:rPr>
              <a:t>Krok č. 1: Petr dostal k narozeninám </a:t>
            </a:r>
            <a:br>
              <a:rPr sz="1800"/>
            </a:br>
            <a:r>
              <a:rPr b="1" lang="en-US" sz="1800" spc="-1" strike="noStrike">
                <a:solidFill>
                  <a:srgbClr val="009900"/>
                </a:solidFill>
                <a:latin typeface="Century Gothic"/>
              </a:rPr>
              <a:t>                 velkou čokoládu.</a:t>
            </a:r>
            <a:r>
              <a:rPr b="1" lang="en-US" sz="2000" spc="-1" strike="noStrike">
                <a:solidFill>
                  <a:srgbClr val="009900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9"/>
          <p:cNvSpPr/>
          <p:nvPr/>
        </p:nvSpPr>
        <p:spPr>
          <a:xfrm>
            <a:off x="4140360" y="2894040"/>
            <a:ext cx="4392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entury Gothic"/>
              </a:rPr>
              <a:t>Krok č. 2: První den snědl jednu </a:t>
            </a:r>
            <a:br>
              <a:rPr sz="1800"/>
            </a:br>
            <a:r>
              <a:rPr b="1" lang="en-US" sz="1800" spc="-1" strike="noStrike">
                <a:solidFill>
                  <a:srgbClr val="009900"/>
                </a:solidFill>
                <a:latin typeface="Century Gothic"/>
              </a:rPr>
              <a:t>                 čtvrtinu.</a:t>
            </a:r>
            <a:r>
              <a:rPr b="1" lang="en-US" sz="2000" spc="-1" strike="noStrike">
                <a:solidFill>
                  <a:srgbClr val="009900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0"/>
          <p:cNvSpPr/>
          <p:nvPr/>
        </p:nvSpPr>
        <p:spPr>
          <a:xfrm>
            <a:off x="4140360" y="3355920"/>
            <a:ext cx="4392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entury Gothic"/>
              </a:rPr>
              <a:t>Krok č. 3: Druhý den polovinu zbytku.</a:t>
            </a:r>
            <a:r>
              <a:rPr b="1" lang="en-US" sz="2000" spc="-1" strike="noStrike">
                <a:solidFill>
                  <a:srgbClr val="009900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1"/>
          <p:cNvSpPr/>
          <p:nvPr/>
        </p:nvSpPr>
        <p:spPr>
          <a:xfrm>
            <a:off x="4140360" y="3859200"/>
            <a:ext cx="4392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entury Gothic"/>
              </a:rPr>
              <a:t>Krok č. 4: A na třetí den mu zůstalo </a:t>
            </a:r>
            <a:br>
              <a:rPr sz="1800"/>
            </a:br>
            <a:r>
              <a:rPr b="1" lang="en-US" sz="1800" spc="-1" strike="noStrike">
                <a:solidFill>
                  <a:srgbClr val="009900"/>
                </a:solidFill>
                <a:latin typeface="Century Gothic"/>
              </a:rPr>
              <a:t>                 75 gramů čokolády.</a:t>
            </a:r>
            <a:r>
              <a:rPr b="1" lang="en-US" sz="2000" spc="-1" strike="noStrike">
                <a:solidFill>
                  <a:srgbClr val="009900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2"/>
          <p:cNvSpPr/>
          <p:nvPr/>
        </p:nvSpPr>
        <p:spPr>
          <a:xfrm>
            <a:off x="468360" y="4521240"/>
            <a:ext cx="8294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entury Gothic"/>
              </a:rPr>
              <a:t>Na třetí den zůstalo 75 gramů čokolády, což dle obrázku odpovídá 3/8 čokolád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3"/>
          <p:cNvSpPr/>
          <p:nvPr/>
        </p:nvSpPr>
        <p:spPr>
          <a:xfrm>
            <a:off x="2887560" y="4906800"/>
            <a:ext cx="32403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3/8 čokolády …….. 75 gram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4"/>
          <p:cNvSpPr/>
          <p:nvPr/>
        </p:nvSpPr>
        <p:spPr>
          <a:xfrm>
            <a:off x="2887560" y="5211720"/>
            <a:ext cx="478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1/8 čokolády …….. 75 : 3 = 25 gram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5"/>
          <p:cNvSpPr/>
          <p:nvPr/>
        </p:nvSpPr>
        <p:spPr>
          <a:xfrm>
            <a:off x="2886120" y="5256360"/>
            <a:ext cx="60069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8/8 čokolády (celá čokoláda) …….. 25 . 8 = 200 gram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6"/>
          <p:cNvSpPr/>
          <p:nvPr/>
        </p:nvSpPr>
        <p:spPr>
          <a:xfrm>
            <a:off x="3765600" y="5734080"/>
            <a:ext cx="4983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entury Gothic"/>
              </a:rPr>
              <a:t>Celá čokoláda tedy vážila 200 gram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441360" y="333360"/>
            <a:ext cx="7732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entury Gothic"/>
              </a:rPr>
              <a:t>Slovní úlohy řešené pomocí rov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468360" y="1052640"/>
            <a:ext cx="82519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entury Gothic"/>
              </a:rPr>
              <a:t>Petr dostal k narozeninám velkou čokoládu. První den snědl jednu čtvrtinu. Druhý den polovinu zbytku a na třetí den mu zůstalo 75 g čokolády. Kolik gramů vážila celá čokolád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468360" y="1787400"/>
            <a:ext cx="82947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entury Gothic"/>
              </a:rPr>
              <a:t>Pokusíme se nejdříve vyřešit úlohu logickým myšlenkovým postup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5"/>
          <p:cNvSpPr/>
          <p:nvPr/>
        </p:nvSpPr>
        <p:spPr>
          <a:xfrm>
            <a:off x="539640" y="191628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611280" y="2421000"/>
            <a:ext cx="3384360" cy="187164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7"/>
          <p:cNvGrpSpPr/>
          <p:nvPr/>
        </p:nvGrpSpPr>
        <p:grpSpPr>
          <a:xfrm>
            <a:off x="611280" y="2421000"/>
            <a:ext cx="3384360" cy="1871640"/>
            <a:chOff x="611280" y="2421000"/>
            <a:chExt cx="3384360" cy="1871640"/>
          </a:xfrm>
        </p:grpSpPr>
        <p:sp>
          <p:nvSpPr>
            <p:cNvPr id="144" name="Rectangle 8"/>
            <p:cNvSpPr/>
            <p:nvPr/>
          </p:nvSpPr>
          <p:spPr>
            <a:xfrm>
              <a:off x="611280" y="2421000"/>
              <a:ext cx="3384360" cy="187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9"/>
            <p:cNvSpPr/>
            <p:nvPr/>
          </p:nvSpPr>
          <p:spPr>
            <a:xfrm>
              <a:off x="2311200" y="2421000"/>
              <a:ext cx="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0"/>
            <p:cNvSpPr/>
            <p:nvPr/>
          </p:nvSpPr>
          <p:spPr>
            <a:xfrm>
              <a:off x="611280" y="3357360"/>
              <a:ext cx="33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Rectangle 11"/>
          <p:cNvSpPr/>
          <p:nvPr/>
        </p:nvSpPr>
        <p:spPr>
          <a:xfrm>
            <a:off x="611280" y="2421000"/>
            <a:ext cx="169056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12"/>
          <p:cNvGrpSpPr/>
          <p:nvPr/>
        </p:nvGrpSpPr>
        <p:grpSpPr>
          <a:xfrm>
            <a:off x="611280" y="2421000"/>
            <a:ext cx="3384360" cy="1871640"/>
            <a:chOff x="611280" y="2421000"/>
            <a:chExt cx="3384360" cy="1871640"/>
          </a:xfrm>
        </p:grpSpPr>
        <p:grpSp>
          <p:nvGrpSpPr>
            <p:cNvPr id="149" name="Group 13"/>
            <p:cNvGrpSpPr/>
            <p:nvPr/>
          </p:nvGrpSpPr>
          <p:grpSpPr>
            <a:xfrm>
              <a:off x="611280" y="2421000"/>
              <a:ext cx="3384360" cy="1871640"/>
              <a:chOff x="611280" y="2421000"/>
              <a:chExt cx="3384360" cy="1871640"/>
            </a:xfrm>
          </p:grpSpPr>
          <p:sp>
            <p:nvSpPr>
              <p:cNvPr id="150" name="Rectangle 14"/>
              <p:cNvSpPr/>
              <p:nvPr/>
            </p:nvSpPr>
            <p:spPr>
              <a:xfrm>
                <a:off x="611280" y="2421000"/>
                <a:ext cx="3384360" cy="1871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Line 15"/>
              <p:cNvSpPr/>
              <p:nvPr/>
            </p:nvSpPr>
            <p:spPr>
              <a:xfrm>
                <a:off x="2311200" y="2421000"/>
                <a:ext cx="0" cy="187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Line 16"/>
              <p:cNvSpPr/>
              <p:nvPr/>
            </p:nvSpPr>
            <p:spPr>
              <a:xfrm>
                <a:off x="611280" y="3357360"/>
                <a:ext cx="338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Line 17"/>
            <p:cNvSpPr/>
            <p:nvPr/>
          </p:nvSpPr>
          <p:spPr>
            <a:xfrm>
              <a:off x="1446120" y="2421000"/>
              <a:ext cx="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8"/>
            <p:cNvSpPr/>
            <p:nvPr/>
          </p:nvSpPr>
          <p:spPr>
            <a:xfrm>
              <a:off x="3130560" y="2421000"/>
              <a:ext cx="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19"/>
          <p:cNvGrpSpPr/>
          <p:nvPr/>
        </p:nvGrpSpPr>
        <p:grpSpPr>
          <a:xfrm>
            <a:off x="611280" y="3357720"/>
            <a:ext cx="2516040" cy="934920"/>
            <a:chOff x="611280" y="3357720"/>
            <a:chExt cx="2516040" cy="934920"/>
          </a:xfrm>
        </p:grpSpPr>
        <p:sp>
          <p:nvSpPr>
            <p:cNvPr id="156" name="Rectangle 20"/>
            <p:cNvSpPr/>
            <p:nvPr/>
          </p:nvSpPr>
          <p:spPr>
            <a:xfrm>
              <a:off x="611280" y="3357720"/>
              <a:ext cx="84600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21"/>
            <p:cNvSpPr/>
            <p:nvPr/>
          </p:nvSpPr>
          <p:spPr>
            <a:xfrm>
              <a:off x="1446120" y="3357720"/>
              <a:ext cx="84924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22"/>
            <p:cNvSpPr/>
            <p:nvPr/>
          </p:nvSpPr>
          <p:spPr>
            <a:xfrm>
              <a:off x="2300400" y="3357720"/>
              <a:ext cx="82692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Rectangle 23"/>
          <p:cNvSpPr/>
          <p:nvPr/>
        </p:nvSpPr>
        <p:spPr>
          <a:xfrm>
            <a:off x="4140360" y="2276640"/>
            <a:ext cx="4392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entury Gothic"/>
              </a:rPr>
              <a:t>Krok č. 1: Petr dostal k narozeninám </a:t>
            </a:r>
            <a:br>
              <a:rPr sz="1800"/>
            </a:br>
            <a:r>
              <a:rPr b="1" lang="en-US" sz="1800" spc="-1" strike="noStrike">
                <a:solidFill>
                  <a:srgbClr val="009900"/>
                </a:solidFill>
                <a:latin typeface="Century Gothic"/>
              </a:rPr>
              <a:t>                 velkou čokoládu.</a:t>
            </a:r>
            <a:r>
              <a:rPr b="1" lang="en-US" sz="2000" spc="-1" strike="noStrike">
                <a:solidFill>
                  <a:srgbClr val="009900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4"/>
          <p:cNvSpPr/>
          <p:nvPr/>
        </p:nvSpPr>
        <p:spPr>
          <a:xfrm>
            <a:off x="4140360" y="2894040"/>
            <a:ext cx="4392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entury Gothic"/>
              </a:rPr>
              <a:t>Krok č. 2: První den snědl jednu </a:t>
            </a:r>
            <a:br>
              <a:rPr sz="1800"/>
            </a:br>
            <a:r>
              <a:rPr b="1" lang="en-US" sz="1800" spc="-1" strike="noStrike">
                <a:solidFill>
                  <a:srgbClr val="009900"/>
                </a:solidFill>
                <a:latin typeface="Century Gothic"/>
              </a:rPr>
              <a:t>                 čtvrtinu.</a:t>
            </a:r>
            <a:r>
              <a:rPr b="1" lang="en-US" sz="2000" spc="-1" strike="noStrike">
                <a:solidFill>
                  <a:srgbClr val="009900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5"/>
          <p:cNvSpPr/>
          <p:nvPr/>
        </p:nvSpPr>
        <p:spPr>
          <a:xfrm>
            <a:off x="4140360" y="3355920"/>
            <a:ext cx="4392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entury Gothic"/>
              </a:rPr>
              <a:t>Krok č. 3: Druhý den polovinu zbytku.</a:t>
            </a:r>
            <a:r>
              <a:rPr b="1" lang="en-US" sz="2000" spc="-1" strike="noStrike">
                <a:solidFill>
                  <a:srgbClr val="009900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6"/>
          <p:cNvSpPr/>
          <p:nvPr/>
        </p:nvSpPr>
        <p:spPr>
          <a:xfrm>
            <a:off x="4140360" y="3859200"/>
            <a:ext cx="4392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entury Gothic"/>
              </a:rPr>
              <a:t>Krok č. 4: A na třetí den mu zůstalo </a:t>
            </a:r>
            <a:br>
              <a:rPr sz="1800"/>
            </a:br>
            <a:r>
              <a:rPr b="1" lang="en-US" sz="1800" spc="-1" strike="noStrike">
                <a:solidFill>
                  <a:srgbClr val="009900"/>
                </a:solidFill>
                <a:latin typeface="Century Gothic"/>
              </a:rPr>
              <a:t>                 75 gramů čokolády.</a:t>
            </a:r>
            <a:r>
              <a:rPr b="1" lang="en-US" sz="2000" spc="-1" strike="noStrike">
                <a:solidFill>
                  <a:srgbClr val="009900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7"/>
          <p:cNvSpPr/>
          <p:nvPr/>
        </p:nvSpPr>
        <p:spPr>
          <a:xfrm>
            <a:off x="468360" y="4521240"/>
            <a:ext cx="8294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entury Gothic"/>
              </a:rPr>
              <a:t>Na třetí den zůstalo 75 gramů čokolády, což dle obrázku odpovídá 3/8 čokolád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8"/>
          <p:cNvSpPr/>
          <p:nvPr/>
        </p:nvSpPr>
        <p:spPr>
          <a:xfrm>
            <a:off x="2887560" y="4906800"/>
            <a:ext cx="32403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3/8 čokolády …….. 75 gram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9"/>
          <p:cNvSpPr/>
          <p:nvPr/>
        </p:nvSpPr>
        <p:spPr>
          <a:xfrm>
            <a:off x="2887560" y="5211720"/>
            <a:ext cx="478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1/8 čokolády …….. 75 : 3 = 25 gram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0"/>
          <p:cNvSpPr/>
          <p:nvPr/>
        </p:nvSpPr>
        <p:spPr>
          <a:xfrm>
            <a:off x="2886120" y="5256360"/>
            <a:ext cx="60069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8/8 čokolády (celá čokoláda) …….. 25 . 8 = 200 gram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1"/>
          <p:cNvSpPr/>
          <p:nvPr/>
        </p:nvSpPr>
        <p:spPr>
          <a:xfrm>
            <a:off x="3765600" y="5734080"/>
            <a:ext cx="4983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entury Gothic"/>
              </a:rPr>
              <a:t>Celá čokoláda tedy vážila 200 gram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32"/>
          <p:cNvSpPr/>
          <p:nvPr/>
        </p:nvSpPr>
        <p:spPr>
          <a:xfrm>
            <a:off x="539640" y="2565360"/>
            <a:ext cx="3889440" cy="2952720"/>
          </a:xfrm>
          <a:prstGeom prst="cloudCallout">
            <a:avLst>
              <a:gd name="adj1" fmla="val 84981"/>
              <a:gd name="adj2" fmla="val 5397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 to byl postup po „logické linii“. Nyní se pokusíme tutéž úlohu vyřešit pomocí rovn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441360" y="333360"/>
            <a:ext cx="7732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entury Gothic"/>
              </a:rPr>
              <a:t>Slovní úlohy řešené pomocí rov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468360" y="1052640"/>
            <a:ext cx="82519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entury Gothic"/>
              </a:rPr>
              <a:t>Petr dostal k narozeninám velkou čokoládu. První den snědl jednu čtvrtinu. Druhý den polovinu zbytku a na třetí den mu zůstalo 75 g čokolády. Kolik gramů vážila celá čokolád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468360" y="1973160"/>
            <a:ext cx="829476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Century Gothic"/>
              </a:rPr>
              <a:t>Mezi neznámými údaji zvol jeden, o kterém nevíš vůbec nic, jako neznámou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5"/>
          <p:cNvSpPr/>
          <p:nvPr/>
        </p:nvSpPr>
        <p:spPr>
          <a:xfrm>
            <a:off x="539640" y="191628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2"/>
          <p:cNvSpPr/>
          <p:nvPr/>
        </p:nvSpPr>
        <p:spPr>
          <a:xfrm>
            <a:off x="468360" y="2349360"/>
            <a:ext cx="829476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Hmotnost celé čokolády …….. x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3"/>
          <p:cNvSpPr/>
          <p:nvPr/>
        </p:nvSpPr>
        <p:spPr>
          <a:xfrm>
            <a:off x="468360" y="2662200"/>
            <a:ext cx="8294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Century Gothic"/>
              </a:rPr>
              <a:t>Vyjádři logickou rovnost plynoucí z textu úlohy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4"/>
          <p:cNvSpPr/>
          <p:nvPr/>
        </p:nvSpPr>
        <p:spPr>
          <a:xfrm>
            <a:off x="468360" y="3038400"/>
            <a:ext cx="8294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1. den + 2. den + 3. den = celá čokolád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35"/>
          <p:cNvSpPr/>
          <p:nvPr/>
        </p:nvSpPr>
        <p:spPr>
          <a:xfrm>
            <a:off x="2771640" y="4221000"/>
            <a:ext cx="3313080" cy="1584360"/>
          </a:xfrm>
          <a:prstGeom prst="cloudCallout">
            <a:avLst>
              <a:gd name="adj1" fmla="val -40319"/>
              <a:gd name="adj2" fmla="val -10310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šleno: část čokolády snědená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 den, část čokolády snědená 2. den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441360" y="333360"/>
            <a:ext cx="7732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entury Gothic"/>
              </a:rPr>
              <a:t>Slovní úlohy řešené pomocí rov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468360" y="1052640"/>
            <a:ext cx="82519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entury Gothic"/>
              </a:rPr>
              <a:t>Petr dostal k narozeninám velkou čokoládu. První den snědl jednu čtvrtinu. Druhý den polovinu zbytku a na třetí den mu zůstalo 75 g čokolády. Kolik gramů vážila celá čokolád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468360" y="1973160"/>
            <a:ext cx="829476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Century Gothic"/>
              </a:rPr>
              <a:t>Mezi neznámými údaji zvol jeden, o kterém nevíš vůbec nic, jako neznámou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5"/>
          <p:cNvSpPr/>
          <p:nvPr/>
        </p:nvSpPr>
        <p:spPr>
          <a:xfrm>
            <a:off x="539640" y="191628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468360" y="2349360"/>
            <a:ext cx="829476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Hmotnost celé čokolády …….. x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468360" y="2662200"/>
            <a:ext cx="8294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Century Gothic"/>
              </a:rPr>
              <a:t>Vyjádři logickou rovnost plynoucí z textu úlohy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468360" y="3038400"/>
            <a:ext cx="8294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1. den + 2. den + 3. den = celá čokolád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468360" y="3514680"/>
            <a:ext cx="8294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Century Gothic"/>
              </a:rPr>
              <a:t>Pomocí zvolené neznámé a zadaných podmínek vyjádři všechny ostatní údaje z textu vystupující v logické rovnosti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468360" y="4017960"/>
            <a:ext cx="8294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1. den …….. ¼ . x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2"/>
          <p:cNvSpPr/>
          <p:nvPr/>
        </p:nvSpPr>
        <p:spPr>
          <a:xfrm>
            <a:off x="5830920" y="4437000"/>
            <a:ext cx="3133800" cy="2160720"/>
          </a:xfrm>
          <a:prstGeom prst="cloudCallout">
            <a:avLst>
              <a:gd name="adj1" fmla="val -66513"/>
              <a:gd name="adj2" fmla="val -5256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roč takto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4"/>
          <p:cNvSpPr/>
          <p:nvPr/>
        </p:nvSpPr>
        <p:spPr>
          <a:xfrm>
            <a:off x="5824440" y="4437000"/>
            <a:ext cx="3133800" cy="2160720"/>
          </a:xfrm>
          <a:prstGeom prst="cloudCallout">
            <a:avLst>
              <a:gd name="adj1" fmla="val -66513"/>
              <a:gd name="adj2" fmla="val -5256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rotože 1. den Petr snědl jednu čtvrtinu čokolády a čokoládu jsme si označili jako x. To znamená, že snědl jednu čtvrtinu z „x“ (čokolády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2"/>
          <p:cNvSpPr/>
          <p:nvPr/>
        </p:nvSpPr>
        <p:spPr>
          <a:xfrm>
            <a:off x="763560" y="4437000"/>
            <a:ext cx="2368440" cy="13096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33"/>
          <p:cNvGrpSpPr/>
          <p:nvPr/>
        </p:nvGrpSpPr>
        <p:grpSpPr>
          <a:xfrm>
            <a:off x="763560" y="4437000"/>
            <a:ext cx="2368440" cy="1309680"/>
            <a:chOff x="763560" y="4437000"/>
            <a:chExt cx="2368440" cy="1309680"/>
          </a:xfrm>
        </p:grpSpPr>
        <p:sp>
          <p:nvSpPr>
            <p:cNvPr id="190" name="Rectangle 34"/>
            <p:cNvSpPr/>
            <p:nvPr/>
          </p:nvSpPr>
          <p:spPr>
            <a:xfrm>
              <a:off x="763560" y="4437000"/>
              <a:ext cx="2368440" cy="1309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35"/>
            <p:cNvSpPr/>
            <p:nvPr/>
          </p:nvSpPr>
          <p:spPr>
            <a:xfrm>
              <a:off x="1953360" y="4437000"/>
              <a:ext cx="0" cy="13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36"/>
            <p:cNvSpPr/>
            <p:nvPr/>
          </p:nvSpPr>
          <p:spPr>
            <a:xfrm>
              <a:off x="763560" y="5092200"/>
              <a:ext cx="236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Rectangle 37"/>
          <p:cNvSpPr/>
          <p:nvPr/>
        </p:nvSpPr>
        <p:spPr>
          <a:xfrm>
            <a:off x="763560" y="4437000"/>
            <a:ext cx="1184400" cy="65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400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441360" y="333360"/>
            <a:ext cx="7732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entury Gothic"/>
              </a:rPr>
              <a:t>Slovní úlohy řešené pomocí rov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468360" y="1052640"/>
            <a:ext cx="82519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entury Gothic"/>
              </a:rPr>
              <a:t>Petr dostal k narozeninám velkou čokoládu. První den snědl jednu čtvrtinu. Druhý den polovinu zbytku a na třetí den mu zůstalo 75 g čokolády. Kolik gramů vážila celá čokolád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468360" y="1973160"/>
            <a:ext cx="829476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Century Gothic"/>
              </a:rPr>
              <a:t>Mezi neznámými údaji zvol jeden, o kterém nevíš vůbec nic, jako neznámou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5"/>
          <p:cNvSpPr/>
          <p:nvPr/>
        </p:nvSpPr>
        <p:spPr>
          <a:xfrm>
            <a:off x="539640" y="191628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468360" y="2349360"/>
            <a:ext cx="829476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Hmotnost celé čokolády …….. x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468360" y="2662200"/>
            <a:ext cx="8294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Century Gothic"/>
              </a:rPr>
              <a:t>Vyjádři logickou rovnost plynoucí z textu úlohy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468360" y="3038400"/>
            <a:ext cx="8294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1. den + 2. den + 3. den = celá čokolád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9"/>
          <p:cNvSpPr/>
          <p:nvPr/>
        </p:nvSpPr>
        <p:spPr>
          <a:xfrm>
            <a:off x="468360" y="3514680"/>
            <a:ext cx="8294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Century Gothic"/>
              </a:rPr>
              <a:t>Pomocí zvolené neznámé a zadaných podmínek vyjádři všechny ostatní údaje z textu vystupující v logické rovnosti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0"/>
          <p:cNvSpPr/>
          <p:nvPr/>
        </p:nvSpPr>
        <p:spPr>
          <a:xfrm>
            <a:off x="468360" y="4017960"/>
            <a:ext cx="8294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1. den …….. ¼ . x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11"/>
          <p:cNvSpPr/>
          <p:nvPr/>
        </p:nvSpPr>
        <p:spPr>
          <a:xfrm>
            <a:off x="179280" y="4005360"/>
            <a:ext cx="3313080" cy="2663640"/>
          </a:xfrm>
          <a:prstGeom prst="cloudCallout">
            <a:avLst>
              <a:gd name="adj1" fmla="val 90777"/>
              <a:gd name="adj2" fmla="val -1960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 proč teď takto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2"/>
          <p:cNvSpPr/>
          <p:nvPr/>
        </p:nvSpPr>
        <p:spPr>
          <a:xfrm>
            <a:off x="669960" y="4437000"/>
            <a:ext cx="8294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2. den …….. ½ . ¾ . x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3"/>
          <p:cNvSpPr/>
          <p:nvPr/>
        </p:nvSpPr>
        <p:spPr>
          <a:xfrm>
            <a:off x="179280" y="4005360"/>
            <a:ext cx="3313080" cy="2663640"/>
          </a:xfrm>
          <a:prstGeom prst="cloudCallout">
            <a:avLst>
              <a:gd name="adj1" fmla="val 90777"/>
              <a:gd name="adj2" fmla="val -1960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rotože 2. den Petr snědl jednu polovinu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ze  zbytku čokolády. Tedy po snědení jedné čtvrtiny ze zbývajících tří čtvrtin. To znamená,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že snědl jednu polovinu ze tří čtvrtin „x“ (čokolády)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4"/>
          <p:cNvSpPr/>
          <p:nvPr/>
        </p:nvSpPr>
        <p:spPr>
          <a:xfrm>
            <a:off x="6235560" y="4430880"/>
            <a:ext cx="2368800" cy="13096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15"/>
          <p:cNvGrpSpPr/>
          <p:nvPr/>
        </p:nvGrpSpPr>
        <p:grpSpPr>
          <a:xfrm>
            <a:off x="6235560" y="4430880"/>
            <a:ext cx="2368800" cy="1309680"/>
            <a:chOff x="6235560" y="4430880"/>
            <a:chExt cx="2368800" cy="1309680"/>
          </a:xfrm>
        </p:grpSpPr>
        <p:sp>
          <p:nvSpPr>
            <p:cNvPr id="208" name="Rectangle 16"/>
            <p:cNvSpPr/>
            <p:nvPr/>
          </p:nvSpPr>
          <p:spPr>
            <a:xfrm>
              <a:off x="6235560" y="4430880"/>
              <a:ext cx="2368800" cy="1309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7"/>
            <p:cNvSpPr/>
            <p:nvPr/>
          </p:nvSpPr>
          <p:spPr>
            <a:xfrm>
              <a:off x="7425360" y="4430880"/>
              <a:ext cx="0" cy="13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8"/>
            <p:cNvSpPr/>
            <p:nvPr/>
          </p:nvSpPr>
          <p:spPr>
            <a:xfrm>
              <a:off x="6235560" y="5086080"/>
              <a:ext cx="236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Rectangle 19"/>
          <p:cNvSpPr/>
          <p:nvPr/>
        </p:nvSpPr>
        <p:spPr>
          <a:xfrm>
            <a:off x="6235560" y="4430880"/>
            <a:ext cx="1184400" cy="65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20"/>
          <p:cNvGrpSpPr/>
          <p:nvPr/>
        </p:nvGrpSpPr>
        <p:grpSpPr>
          <a:xfrm>
            <a:off x="6235560" y="4430880"/>
            <a:ext cx="2368800" cy="1309680"/>
            <a:chOff x="6235560" y="4430880"/>
            <a:chExt cx="2368800" cy="1309680"/>
          </a:xfrm>
        </p:grpSpPr>
        <p:grpSp>
          <p:nvGrpSpPr>
            <p:cNvPr id="213" name="Group 21"/>
            <p:cNvGrpSpPr/>
            <p:nvPr/>
          </p:nvGrpSpPr>
          <p:grpSpPr>
            <a:xfrm>
              <a:off x="6235560" y="4430880"/>
              <a:ext cx="2368800" cy="1309680"/>
              <a:chOff x="6235560" y="4430880"/>
              <a:chExt cx="2368800" cy="1309680"/>
            </a:xfrm>
          </p:grpSpPr>
          <p:sp>
            <p:nvSpPr>
              <p:cNvPr id="214" name="Rectangle 22"/>
              <p:cNvSpPr/>
              <p:nvPr/>
            </p:nvSpPr>
            <p:spPr>
              <a:xfrm>
                <a:off x="6235560" y="4430880"/>
                <a:ext cx="2368800" cy="1309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Line 23"/>
              <p:cNvSpPr/>
              <p:nvPr/>
            </p:nvSpPr>
            <p:spPr>
              <a:xfrm>
                <a:off x="7425360" y="4430880"/>
                <a:ext cx="0" cy="130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Line 24"/>
              <p:cNvSpPr/>
              <p:nvPr/>
            </p:nvSpPr>
            <p:spPr>
              <a:xfrm>
                <a:off x="6235560" y="5086080"/>
                <a:ext cx="2368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Line 25"/>
            <p:cNvSpPr/>
            <p:nvPr/>
          </p:nvSpPr>
          <p:spPr>
            <a:xfrm>
              <a:off x="6819840" y="4430880"/>
              <a:ext cx="0" cy="13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26"/>
            <p:cNvSpPr/>
            <p:nvPr/>
          </p:nvSpPr>
          <p:spPr>
            <a:xfrm>
              <a:off x="7998840" y="4430880"/>
              <a:ext cx="0" cy="13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27"/>
          <p:cNvGrpSpPr/>
          <p:nvPr/>
        </p:nvGrpSpPr>
        <p:grpSpPr>
          <a:xfrm>
            <a:off x="6235560" y="5086440"/>
            <a:ext cx="1761840" cy="654120"/>
            <a:chOff x="6235560" y="5086440"/>
            <a:chExt cx="1761840" cy="654120"/>
          </a:xfrm>
        </p:grpSpPr>
        <p:sp>
          <p:nvSpPr>
            <p:cNvPr id="220" name="Rectangle 28"/>
            <p:cNvSpPr/>
            <p:nvPr/>
          </p:nvSpPr>
          <p:spPr>
            <a:xfrm>
              <a:off x="6235560" y="5086440"/>
              <a:ext cx="592560" cy="65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29"/>
            <p:cNvSpPr/>
            <p:nvPr/>
          </p:nvSpPr>
          <p:spPr>
            <a:xfrm>
              <a:off x="6820200" y="5086440"/>
              <a:ext cx="594720" cy="65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30"/>
            <p:cNvSpPr/>
            <p:nvPr/>
          </p:nvSpPr>
          <p:spPr>
            <a:xfrm>
              <a:off x="7418520" y="5086440"/>
              <a:ext cx="578880" cy="65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500"/>
                            </p:stCondLst>
                            <p:childTnLst>
                              <p:par>
                                <p:cTn id="261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441360" y="333360"/>
            <a:ext cx="7732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entury Gothic"/>
              </a:rPr>
              <a:t>Slovní úlohy řešené pomocí rov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468360" y="1052640"/>
            <a:ext cx="82519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entury Gothic"/>
              </a:rPr>
              <a:t>Petr dostal k narozeninám velkou čokoládu. První den snědl jednu čtvrtinu. Druhý den polovinu zbytku a na třetí den mu zůstalo 75 g čokolády. Kolik gramů vážila celá čokolád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468360" y="1973160"/>
            <a:ext cx="829476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Century Gothic"/>
              </a:rPr>
              <a:t>Mezi neznámými údaji zvol jeden, o kterém nevíš vůbec nic, jako neznámou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5"/>
          <p:cNvSpPr/>
          <p:nvPr/>
        </p:nvSpPr>
        <p:spPr>
          <a:xfrm>
            <a:off x="539640" y="191628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468360" y="2349360"/>
            <a:ext cx="829476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Hmotnost celé čokolády …….. x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468360" y="2662200"/>
            <a:ext cx="8294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Century Gothic"/>
              </a:rPr>
              <a:t>Vyjádři logickou rovnost plynoucí z textu úlohy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468360" y="3038400"/>
            <a:ext cx="8294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1. den + 2. den + 3. den = celá čokolád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9"/>
          <p:cNvSpPr/>
          <p:nvPr/>
        </p:nvSpPr>
        <p:spPr>
          <a:xfrm>
            <a:off x="468360" y="3514680"/>
            <a:ext cx="8294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Century Gothic"/>
              </a:rPr>
              <a:t>Pomocí zvolené neznámé a zadaných podmínek vyjádři všechny ostatní údaje z textu vystupující v logické rovnosti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0"/>
          <p:cNvSpPr/>
          <p:nvPr/>
        </p:nvSpPr>
        <p:spPr>
          <a:xfrm>
            <a:off x="468360" y="4017960"/>
            <a:ext cx="8294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1. den …….. ¼ . x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2"/>
          <p:cNvSpPr/>
          <p:nvPr/>
        </p:nvSpPr>
        <p:spPr>
          <a:xfrm>
            <a:off x="669960" y="4437000"/>
            <a:ext cx="8294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2. den …….. ½ . ¾ . x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3"/>
          <p:cNvSpPr/>
          <p:nvPr/>
        </p:nvSpPr>
        <p:spPr>
          <a:xfrm>
            <a:off x="6516720" y="4508640"/>
            <a:ext cx="2303280" cy="1942920"/>
          </a:xfrm>
          <a:prstGeom prst="cloudCallout">
            <a:avLst>
              <a:gd name="adj1" fmla="val -88449"/>
              <a:gd name="adj2" fmla="val -2040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řetí den již Petr snědl přesně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 jasně daných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5 gramů…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 bylo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o čokoládě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4"/>
          <p:cNvSpPr/>
          <p:nvPr/>
        </p:nvSpPr>
        <p:spPr>
          <a:xfrm>
            <a:off x="755640" y="4357800"/>
            <a:ext cx="2368440" cy="13096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15"/>
          <p:cNvGrpSpPr/>
          <p:nvPr/>
        </p:nvGrpSpPr>
        <p:grpSpPr>
          <a:xfrm>
            <a:off x="755640" y="4357800"/>
            <a:ext cx="2368440" cy="1309680"/>
            <a:chOff x="755640" y="4357800"/>
            <a:chExt cx="2368440" cy="1309680"/>
          </a:xfrm>
        </p:grpSpPr>
        <p:sp>
          <p:nvSpPr>
            <p:cNvPr id="236" name="Rectangle 16"/>
            <p:cNvSpPr/>
            <p:nvPr/>
          </p:nvSpPr>
          <p:spPr>
            <a:xfrm>
              <a:off x="755640" y="4357800"/>
              <a:ext cx="2368440" cy="1309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17"/>
            <p:cNvSpPr/>
            <p:nvPr/>
          </p:nvSpPr>
          <p:spPr>
            <a:xfrm>
              <a:off x="1945440" y="4357800"/>
              <a:ext cx="0" cy="13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8"/>
            <p:cNvSpPr/>
            <p:nvPr/>
          </p:nvSpPr>
          <p:spPr>
            <a:xfrm>
              <a:off x="755640" y="5013000"/>
              <a:ext cx="236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Rectangle 19"/>
          <p:cNvSpPr/>
          <p:nvPr/>
        </p:nvSpPr>
        <p:spPr>
          <a:xfrm>
            <a:off x="755640" y="4357800"/>
            <a:ext cx="1184400" cy="65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20"/>
          <p:cNvGrpSpPr/>
          <p:nvPr/>
        </p:nvGrpSpPr>
        <p:grpSpPr>
          <a:xfrm>
            <a:off x="755640" y="4357800"/>
            <a:ext cx="2368440" cy="1309680"/>
            <a:chOff x="755640" y="4357800"/>
            <a:chExt cx="2368440" cy="1309680"/>
          </a:xfrm>
        </p:grpSpPr>
        <p:grpSp>
          <p:nvGrpSpPr>
            <p:cNvPr id="241" name="Group 21"/>
            <p:cNvGrpSpPr/>
            <p:nvPr/>
          </p:nvGrpSpPr>
          <p:grpSpPr>
            <a:xfrm>
              <a:off x="755640" y="4357800"/>
              <a:ext cx="2368440" cy="1309680"/>
              <a:chOff x="755640" y="4357800"/>
              <a:chExt cx="2368440" cy="1309680"/>
            </a:xfrm>
          </p:grpSpPr>
          <p:sp>
            <p:nvSpPr>
              <p:cNvPr id="242" name="Rectangle 22"/>
              <p:cNvSpPr/>
              <p:nvPr/>
            </p:nvSpPr>
            <p:spPr>
              <a:xfrm>
                <a:off x="755640" y="4357800"/>
                <a:ext cx="2368440" cy="1309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Line 23"/>
              <p:cNvSpPr/>
              <p:nvPr/>
            </p:nvSpPr>
            <p:spPr>
              <a:xfrm>
                <a:off x="1945440" y="4357800"/>
                <a:ext cx="0" cy="130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Line 24"/>
              <p:cNvSpPr/>
              <p:nvPr/>
            </p:nvSpPr>
            <p:spPr>
              <a:xfrm>
                <a:off x="755640" y="5013000"/>
                <a:ext cx="2368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5" name="Line 25"/>
            <p:cNvSpPr/>
            <p:nvPr/>
          </p:nvSpPr>
          <p:spPr>
            <a:xfrm>
              <a:off x="1339920" y="4357800"/>
              <a:ext cx="0" cy="13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26"/>
            <p:cNvSpPr/>
            <p:nvPr/>
          </p:nvSpPr>
          <p:spPr>
            <a:xfrm>
              <a:off x="2518560" y="4357800"/>
              <a:ext cx="0" cy="13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27"/>
          <p:cNvGrpSpPr/>
          <p:nvPr/>
        </p:nvGrpSpPr>
        <p:grpSpPr>
          <a:xfrm>
            <a:off x="755640" y="5013360"/>
            <a:ext cx="1761840" cy="654120"/>
            <a:chOff x="755640" y="5013360"/>
            <a:chExt cx="1761840" cy="654120"/>
          </a:xfrm>
        </p:grpSpPr>
        <p:sp>
          <p:nvSpPr>
            <p:cNvPr id="248" name="Rectangle 28"/>
            <p:cNvSpPr/>
            <p:nvPr/>
          </p:nvSpPr>
          <p:spPr>
            <a:xfrm>
              <a:off x="755640" y="5013360"/>
              <a:ext cx="592560" cy="65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29"/>
            <p:cNvSpPr/>
            <p:nvPr/>
          </p:nvSpPr>
          <p:spPr>
            <a:xfrm>
              <a:off x="1340280" y="5013360"/>
              <a:ext cx="594720" cy="65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30"/>
            <p:cNvSpPr/>
            <p:nvPr/>
          </p:nvSpPr>
          <p:spPr>
            <a:xfrm>
              <a:off x="1938600" y="5013360"/>
              <a:ext cx="578880" cy="65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Rectangle 31"/>
          <p:cNvSpPr/>
          <p:nvPr/>
        </p:nvSpPr>
        <p:spPr>
          <a:xfrm>
            <a:off x="468360" y="4854600"/>
            <a:ext cx="8294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3. den …….. 75 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38"/>
          <p:cNvGrpSpPr/>
          <p:nvPr/>
        </p:nvGrpSpPr>
        <p:grpSpPr>
          <a:xfrm>
            <a:off x="1933560" y="4359240"/>
            <a:ext cx="1190520" cy="1308240"/>
            <a:chOff x="1933560" y="4359240"/>
            <a:chExt cx="1190520" cy="1308240"/>
          </a:xfrm>
        </p:grpSpPr>
        <p:sp>
          <p:nvSpPr>
            <p:cNvPr id="253" name="Rectangle 32"/>
            <p:cNvSpPr/>
            <p:nvPr/>
          </p:nvSpPr>
          <p:spPr>
            <a:xfrm>
              <a:off x="1933560" y="4359240"/>
              <a:ext cx="1190520" cy="65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33"/>
            <p:cNvSpPr/>
            <p:nvPr/>
          </p:nvSpPr>
          <p:spPr>
            <a:xfrm>
              <a:off x="2513160" y="436572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35"/>
            <p:cNvSpPr/>
            <p:nvPr/>
          </p:nvSpPr>
          <p:spPr>
            <a:xfrm>
              <a:off x="2523960" y="5013360"/>
              <a:ext cx="597240" cy="65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Tereza Bížová</cp:lastModifiedBy>
  <dcterms:modified xsi:type="dcterms:W3CDTF">2010-12-13T10:15:37Z</dcterms:modified>
  <cp:revision>297</cp:revision>
  <dc:subject/>
  <dc:title>Slovní úlohy řešené pomocí rovnic 1</dc:title>
</cp:coreProperties>
</file>