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E6B-F761-48D7-963C-D85BF1093F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9217-E4FA-4FC0-84B2-8A39497917C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2D9E-F6D9-400F-A3A0-F5295532D7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9C9A-D2D5-4E08-8614-453D2598FC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37F2-4EC3-4781-A351-33D0FDE7D3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2951-63A5-4DAF-AED8-890B3B6858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42D2-5FBF-4495-8C83-4D9EA21D1A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2210-D48B-499D-B116-542DBCB7CC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5275-200D-4D1C-8D57-3B7ED44028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E38-CB74-4A96-8770-1825BFCE2C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4C27-11DB-42D3-BB82-A5AF58D620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F8C-D678-4FA9-8079-F68FEBECF7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2A25-084B-4798-8535-5AD73C3A4D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4858-355F-4F5E-888A-EAE9E6D13D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5CB-1E15-4AC8-90E4-AD7FC430D56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9355-5086-4A19-8352-8C7E2608EF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8A1B-5F20-4E20-820D-5876C57C0F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E55-688F-4AA7-A8B9-C8E3786652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24FA-5AAB-4CC9-AA6F-901745830B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9874-6B5C-4FDB-AA2A-9DC4558E76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6EE0-A693-4045-88E5-051DE1C560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8199-BB63-4F1F-9960-73FCFBCEED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92B-4FF1-4462-A5FA-2A5E49ED8B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98D0-B3D7-4231-9CCD-3FCFC7A6D7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D07-1989-4A2E-B747-F4F9FD32C8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DDB9-E4BE-4BA0-B4FD-9C7511C8D9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B3F-B941-4B8C-8C53-922F8B38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82E-EBE4-4A3F-9267-CF4DF767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0E1-C676-448B-9AE0-697B1543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432-ADBB-4B6D-896D-FB879EBA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6B0F-C313-4F0A-8D3B-402D1843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5B12-73EA-4CBF-A3C0-98D8A2F1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00E7-DC02-4820-8FB8-7ECDA45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32A9-05AE-42FD-AE9B-BFE8DAF8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62D-4C9A-4F78-8FFC-5817348C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6709-5B03-47B7-8592-ED7D645B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7AC8-1DCA-46D2-B197-0E0FD94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E6B-6330-4A66-8C53-3DD6312A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CEB0-BCD2-4612-AF55-ECE1279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8E1E-CE81-49BD-B04B-173ED9A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8DF7-0AF2-4BC4-B582-3F370BE3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2939-C8AC-44E2-B914-5A98C4B3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E5A-AD28-4F36-BFC7-441D595C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4F7-0BEA-49DE-B8BA-91608307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883-5DE2-4E8F-AAB2-811263C7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637-E1B5-4BF3-859B-381A098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F96-7F14-4AB7-99C6-1722ADC6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6CA-38FC-49C8-BAB8-A7138FE3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B20-032D-41C0-A123-45D6DD53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F89-D9E2-43FC-B8CB-9A483F51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9B71-B3FF-4495-BB41-09C172D26055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DB5A-8624-4988-AEFE-C13FE625FDBD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57320" y="1498320"/>
            <a:ext cx="708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lovní úlohy o pohybu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042920" y="3083040"/>
            <a:ext cx="708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Varianta 2: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Pohyby stejným směr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185840" y="4221000"/>
            <a:ext cx="4610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Tak co s tím? Jak jinak a přesně můžeme vyjádřit část celku, když nám to desetinná čísla neumožň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1547640" y="22050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059280" y="2103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33200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15636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1547640" y="332568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33200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15636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2857680" y="21351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6156360" y="3933720"/>
            <a:ext cx="1728720" cy="1293840"/>
          </a:xfrm>
          <a:prstGeom prst="cloudCallout">
            <a:avLst>
              <a:gd name="adj1" fmla="val -115379"/>
              <a:gd name="adj2" fmla="val 17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rávně, pomocí zlomk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606680" y="21621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1677960" y="23194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1619280" y="330048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690560" y="345744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1633680" y="243684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6588000" y="4797360"/>
            <a:ext cx="2270160" cy="1657440"/>
          </a:xfrm>
          <a:prstGeom prst="cloudCallout">
            <a:avLst>
              <a:gd name="adj1" fmla="val -124564"/>
              <a:gd name="adj2" fmla="val 4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 je to! Mám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 jsme potřebov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22"/>
              <p:cNvSpPr txBox="1"/>
              <p:nvPr/>
            </p:nvSpPr>
            <p:spPr>
              <a:xfrm>
                <a:off x="1835280" y="5200560"/>
                <a:ext cx="302580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185840" y="4581360"/>
            <a:ext cx="4970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Jak tedy vyjádříme, že cyklista vyjel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o 20 minut, což je 1/3 hodiny později a což znamená, že jeho čas bude o 1/3 kratš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1547640" y="22050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3059280" y="2103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33200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615636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1547640" y="332568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133200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615636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857680" y="21351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1606680" y="21621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1677960" y="23194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1619280" y="330048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1690560" y="345744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1633680" y="243684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3127320" y="5384880"/>
                <a:ext cx="868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Rectangle 21"/>
          <p:cNvSpPr/>
          <p:nvPr/>
        </p:nvSpPr>
        <p:spPr>
          <a:xfrm>
            <a:off x="1633680" y="3573360"/>
            <a:ext cx="136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7"/>
          <p:cNvSpPr/>
          <p:nvPr/>
        </p:nvSpPr>
        <p:spPr>
          <a:xfrm>
            <a:off x="1488960" y="321480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14889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4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3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4"/>
          <p:cNvSpPr/>
          <p:nvPr/>
        </p:nvSpPr>
        <p:spPr>
          <a:xfrm>
            <a:off x="2354400" y="4651200"/>
            <a:ext cx="316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1/3) = 24 . (t-1/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5"/>
          <p:cNvSpPr/>
          <p:nvPr/>
        </p:nvSpPr>
        <p:spPr>
          <a:xfrm>
            <a:off x="1257480" y="5013360"/>
            <a:ext cx="4970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A protože víme, že </a:t>
            </a:r>
            <a:r>
              <a:rPr b="1" i="1" lang="cs-CZ" sz="18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8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 se rovná </a:t>
            </a:r>
            <a:r>
              <a:rPr b="1" i="1" lang="cs-CZ" sz="18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, tak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6"/>
          <p:cNvSpPr/>
          <p:nvPr/>
        </p:nvSpPr>
        <p:spPr>
          <a:xfrm>
            <a:off x="1979640" y="5373720"/>
            <a:ext cx="5257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4t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24.(t-1/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4"/>
              <p:cNvSpPr txBox="1"/>
              <p:nvPr/>
            </p:nvSpPr>
            <p:spPr>
              <a:xfrm>
                <a:off x="2266920" y="2276640"/>
                <a:ext cx="25923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26"/>
              <p:cNvSpPr txBox="1"/>
              <p:nvPr/>
            </p:nvSpPr>
            <p:spPr>
              <a:xfrm>
                <a:off x="2266920" y="3357720"/>
                <a:ext cx="2016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7"/>
              <p:cNvSpPr txBox="1"/>
              <p:nvPr/>
            </p:nvSpPr>
            <p:spPr>
              <a:xfrm>
                <a:off x="1360440" y="3933720"/>
                <a:ext cx="2239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8"/>
              <p:cNvSpPr txBox="1"/>
              <p:nvPr/>
            </p:nvSpPr>
            <p:spPr>
              <a:xfrm>
                <a:off x="1828800" y="4508640"/>
                <a:ext cx="179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9"/>
              <p:cNvSpPr txBox="1"/>
              <p:nvPr/>
            </p:nvSpPr>
            <p:spPr>
              <a:xfrm>
                <a:off x="2538360" y="5067360"/>
                <a:ext cx="1471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3"/>
              <p:cNvSpPr txBox="1"/>
              <p:nvPr/>
            </p:nvSpPr>
            <p:spPr>
              <a:xfrm>
                <a:off x="2525760" y="5661000"/>
                <a:ext cx="17589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AutoShape 34"/>
          <p:cNvSpPr/>
          <p:nvPr/>
        </p:nvSpPr>
        <p:spPr>
          <a:xfrm>
            <a:off x="4932360" y="3213000"/>
            <a:ext cx="3568680" cy="2303640"/>
          </a:xfrm>
          <a:prstGeom prst="cloudCallout">
            <a:avLst>
              <a:gd name="adj1" fmla="val -65523"/>
              <a:gd name="adj2" fmla="val 63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dyby už někdo nevěděl, jak se přijde na minuty, ta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0,4 . 60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stě převod jednotek. </a:t>
            </a:r>
            <a:r>
              <a:rPr b="1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3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5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1488960" y="321480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14889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4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2354400" y="4651200"/>
            <a:ext cx="316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1/3) = 24 . (t-1/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539640" y="5157720"/>
            <a:ext cx="6194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Tak jsme vypočítali, že čas </a:t>
            </a:r>
            <a:r>
              <a:rPr b="1" i="1" lang="cs-CZ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 je 24 minut. Znamená to tedy, že cyklista dojede chodce za 24 min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539640" y="5803920"/>
            <a:ext cx="662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Kdepak. POZOR! Čas </a:t>
            </a:r>
            <a:r>
              <a:rPr b="1" i="1" lang="cs-CZ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 je časem chodce. Znamená to tedy, že 24 minut půjde chodec, než jej cyklista doje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 flipH="1" flipV="1">
            <a:off x="1763280" y="3687480"/>
            <a:ext cx="2879640" cy="2160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1490760" y="321300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 = 24 min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5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14889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8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4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0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2354400" y="4651200"/>
            <a:ext cx="316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1/3) = 24 . (t-1/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539640" y="5373720"/>
            <a:ext cx="6194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O cyklistovi však víme, že vyjel za chodcem až za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20 minut, což znamená, že jeho čas je o 20 minut kratš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2698920" y="5734080"/>
            <a:ext cx="39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entury Gothic"/>
              </a:rPr>
              <a:t>24 – 20 = 4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490760" y="321300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 = 24 min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>
            <a:off x="14907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 = 4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3"/>
          <p:cNvSpPr/>
          <p:nvPr/>
        </p:nvSpPr>
        <p:spPr>
          <a:xfrm>
            <a:off x="1490760" y="321300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 = 24 min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14907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 = 4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2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7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4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9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2354400" y="4651200"/>
            <a:ext cx="316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1/3) = 24 . (t-1/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539640" y="5013360"/>
            <a:ext cx="6194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A kolik kilometrů cyklista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25"/>
              <p:cNvSpPr txBox="1"/>
              <p:nvPr/>
            </p:nvSpPr>
            <p:spPr>
              <a:xfrm>
                <a:off x="1630440" y="5589720"/>
                <a:ext cx="5102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1,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AutoShape 27"/>
          <p:cNvSpPr/>
          <p:nvPr/>
        </p:nvSpPr>
        <p:spPr>
          <a:xfrm>
            <a:off x="5940360" y="4221000"/>
            <a:ext cx="3059280" cy="1513080"/>
          </a:xfrm>
          <a:prstGeom prst="cloudCallout">
            <a:avLst>
              <a:gd name="adj1" fmla="val -114245"/>
              <a:gd name="adj2" fmla="val 438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proč ne 4, ale 4/6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o protože si opět musíme dát pozor na stejné jednot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4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5"/>
          <p:cNvSpPr/>
          <p:nvPr/>
        </p:nvSpPr>
        <p:spPr>
          <a:xfrm>
            <a:off x="1028880" y="1914480"/>
            <a:ext cx="3744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t = 4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1028880" y="2349360"/>
            <a:ext cx="3744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= 1,6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1042920" y="2852640"/>
            <a:ext cx="7058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entury Gothic"/>
              </a:rPr>
              <a:t>Na závěr se provede zkouška toho, zda získané hodnoty vyhovují podmínkám úlo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1042920" y="3789360"/>
            <a:ext cx="5545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Kolik kilometrů ušel chodec při rychlosti 4 km/h za 24 minut své chůze do doby, než jej cyklista doj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8"/>
          <p:cNvSpPr/>
          <p:nvPr/>
        </p:nvSpPr>
        <p:spPr>
          <a:xfrm>
            <a:off x="1042920" y="5372280"/>
            <a:ext cx="5545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ušel do doby, než jej cyklista dojel, stejnou dráhu jako on.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Můžeme tedy napsat odpově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5977080" y="4653000"/>
            <a:ext cx="3058920" cy="2087640"/>
          </a:xfrm>
          <a:prstGeom prst="cloudCallout">
            <a:avLst>
              <a:gd name="adj1" fmla="val -88662"/>
              <a:gd name="adj2" fmla="val 20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yklista dojede chod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a 4 minu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ujede přit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,6 k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42"/>
              <p:cNvSpPr txBox="1"/>
              <p:nvPr/>
            </p:nvSpPr>
            <p:spPr>
              <a:xfrm>
                <a:off x="1144440" y="4653000"/>
                <a:ext cx="48945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1,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a cyklistou, který jel rychlostí 16 km/h, vyjel o 3 hodiny později motocyklista rychlostí 48 km/h. Kdy motocyklista dohonil cyklis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a cyklistou, který jel rychlostí 16 km/h, vyjel o 3 hodiny později motocyklista rychlostí 48 km/h. Kdy motocyklista dohonil cyklis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16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3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48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1488960" y="321480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4889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8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9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16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1"/>
          <p:cNvSpPr/>
          <p:nvPr/>
        </p:nvSpPr>
        <p:spPr>
          <a:xfrm>
            <a:off x="2482920" y="4651200"/>
            <a:ext cx="31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3) = 48 . (t-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2"/>
          <p:cNvSpPr/>
          <p:nvPr/>
        </p:nvSpPr>
        <p:spPr>
          <a:xfrm>
            <a:off x="1490760" y="321300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23"/>
              <p:cNvSpPr txBox="1"/>
              <p:nvPr/>
            </p:nvSpPr>
            <p:spPr>
              <a:xfrm>
                <a:off x="817560" y="5157720"/>
                <a:ext cx="1655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4"/>
              <p:cNvSpPr txBox="1"/>
              <p:nvPr/>
            </p:nvSpPr>
            <p:spPr>
              <a:xfrm>
                <a:off x="822240" y="5446800"/>
                <a:ext cx="16765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5"/>
              <p:cNvSpPr txBox="1"/>
              <p:nvPr/>
            </p:nvSpPr>
            <p:spPr>
              <a:xfrm>
                <a:off x="630360" y="5705640"/>
                <a:ext cx="141120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6"/>
              <p:cNvSpPr txBox="1"/>
              <p:nvPr/>
            </p:nvSpPr>
            <p:spPr>
              <a:xfrm>
                <a:off x="1087560" y="5991120"/>
                <a:ext cx="24955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7"/>
              <p:cNvSpPr txBox="1"/>
              <p:nvPr/>
            </p:nvSpPr>
            <p:spPr>
              <a:xfrm>
                <a:off x="3922560" y="5624640"/>
                <a:ext cx="14925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28"/>
          <p:cNvSpPr/>
          <p:nvPr/>
        </p:nvSpPr>
        <p:spPr>
          <a:xfrm>
            <a:off x="3851280" y="5818320"/>
            <a:ext cx="4826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Motocyklista dojel cyklistu za 1,5 hod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8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Jak při řešení rovnic postupov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1028880" y="13413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1. Pozorně si přečti text úlohy (raději několikrá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1042920" y="206064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2. Mezi neznámými údaji zvol jeden, o kterém nevíš vůbec nic, jako neznám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1042920" y="292752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3. Pomocí zvolené neznámé a zadaných podmínek vyjádři všechny ostatní údaje z tex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1042920" y="3863880"/>
            <a:ext cx="583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4. Vyjádři logickou rovnost plynoucí z textu úlohy a na jejím základě sestav rovnici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a vyřeš 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1042920" y="4869000"/>
            <a:ext cx="56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5. Proveď zkoušku, kterou ověříš, že získané výsledky vyhovují všem podmínkám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042920" y="56595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6. Napiš odpovědi na otázky zadané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 vesnice vyjel traktor rychlostí 20 km/h. Za 10 minut jel za ním motocyklista rychlostí 60 km/h. Za jakou dobu a v jaké vzdálenosti od vesnice dohoní motocyklista traktoris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 vesnice vyjel traktor rychlostí 20 km/h. Za 10 minut jel za ním motocyklista rychlostí 60 km/h. Za jakou dobu a v jaké vzdálenosti od vesnice dohoní motocyklista traktoris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2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6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1488960" y="321480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14889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8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20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2482920" y="4651200"/>
            <a:ext cx="31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1/6) = 60 . (t-1/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1490760" y="321300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23"/>
              <p:cNvSpPr txBox="1"/>
              <p:nvPr/>
            </p:nvSpPr>
            <p:spPr>
              <a:xfrm>
                <a:off x="755640" y="4751280"/>
                <a:ext cx="17272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4"/>
              <p:cNvSpPr txBox="1"/>
              <p:nvPr/>
            </p:nvSpPr>
            <p:spPr>
              <a:xfrm>
                <a:off x="763560" y="5418000"/>
                <a:ext cx="1533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25"/>
              <p:cNvSpPr txBox="1"/>
              <p:nvPr/>
            </p:nvSpPr>
            <p:spPr>
              <a:xfrm>
                <a:off x="592200" y="5705640"/>
                <a:ext cx="12873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6"/>
              <p:cNvSpPr txBox="1"/>
              <p:nvPr/>
            </p:nvSpPr>
            <p:spPr>
              <a:xfrm>
                <a:off x="1047600" y="5991120"/>
                <a:ext cx="3438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7"/>
              <p:cNvSpPr txBox="1"/>
              <p:nvPr/>
            </p:nvSpPr>
            <p:spPr>
              <a:xfrm>
                <a:off x="4500720" y="5191200"/>
                <a:ext cx="1635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28"/>
          <p:cNvSpPr/>
          <p:nvPr/>
        </p:nvSpPr>
        <p:spPr>
          <a:xfrm>
            <a:off x="4570560" y="5861160"/>
            <a:ext cx="4394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entury Gothic"/>
              </a:rPr>
              <a:t>Motocyklista dohoní traktoristu za 5 minut,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Century Gothic"/>
              </a:rPr>
              <a:t>ve vzdálenosti 5 kilomet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9"/>
              <p:cNvSpPr txBox="1"/>
              <p:nvPr/>
            </p:nvSpPr>
            <p:spPr>
              <a:xfrm>
                <a:off x="4545000" y="5391000"/>
                <a:ext cx="1900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7 hodin vyšel chodec průměrnou rychlostí 5 km/h.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10 hodin vyjel za ním cyklista rychlostí 14 km/h.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Kdy ho do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7 hodin vyšel chodec průměrnou rychlostí 5 km/h.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10 hodin vyjel za ním cyklista rychlostí 14 km/h.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Kdy ho do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5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1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1488960" y="321480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14889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8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5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0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"/>
          <p:cNvSpPr/>
          <p:nvPr/>
        </p:nvSpPr>
        <p:spPr>
          <a:xfrm>
            <a:off x="2482920" y="4651200"/>
            <a:ext cx="31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3) = 14 . (t-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1490760" y="321300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23"/>
              <p:cNvSpPr txBox="1"/>
              <p:nvPr/>
            </p:nvSpPr>
            <p:spPr>
              <a:xfrm>
                <a:off x="828720" y="4856040"/>
                <a:ext cx="1439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4"/>
              <p:cNvSpPr txBox="1"/>
              <p:nvPr/>
            </p:nvSpPr>
            <p:spPr>
              <a:xfrm>
                <a:off x="825480" y="5159520"/>
                <a:ext cx="140976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5"/>
              <p:cNvSpPr txBox="1"/>
              <p:nvPr/>
            </p:nvSpPr>
            <p:spPr>
              <a:xfrm>
                <a:off x="663480" y="5459400"/>
                <a:ext cx="11430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6"/>
              <p:cNvSpPr txBox="1"/>
              <p:nvPr/>
            </p:nvSpPr>
            <p:spPr>
              <a:xfrm>
                <a:off x="971640" y="5589720"/>
                <a:ext cx="3846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o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Rectangle 28"/>
          <p:cNvSpPr/>
          <p:nvPr/>
        </p:nvSpPr>
        <p:spPr>
          <a:xfrm>
            <a:off x="3348000" y="5919840"/>
            <a:ext cx="532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yklista dojede chodce v 11:40 hod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6:30 hodin vyplul z přístavu parník plující rychlost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12 km/h. Přesně v 10:00 hodin za ním vyplul motorový člun, který plul průměrnou rychlostí 40 km/h. V kolik hodin dohoní člun parní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6:30 hodin vyplul z přístavu parník plující rychlost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12 km/h. Přesně v 10:00 hodin za ním vyplul motorový člun, který plul průměrnou rychlostí 40 km/h. V kolik hodin dohoní člun parní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1403280" y="298296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"/>
          <p:cNvSpPr/>
          <p:nvPr/>
        </p:nvSpPr>
        <p:spPr>
          <a:xfrm>
            <a:off x="2914560" y="2881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187280" y="291132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012000" y="29113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1403280" y="381492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1187280" y="3743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6012000" y="3743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1"/>
          <p:cNvSpPr/>
          <p:nvPr/>
        </p:nvSpPr>
        <p:spPr>
          <a:xfrm>
            <a:off x="2712960" y="291312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1461960" y="29401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12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3"/>
          <p:cNvSpPr/>
          <p:nvPr/>
        </p:nvSpPr>
        <p:spPr>
          <a:xfrm>
            <a:off x="1533600" y="30970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4"/>
          <p:cNvSpPr/>
          <p:nvPr/>
        </p:nvSpPr>
        <p:spPr>
          <a:xfrm>
            <a:off x="1474920" y="37893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4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5"/>
          <p:cNvSpPr/>
          <p:nvPr/>
        </p:nvSpPr>
        <p:spPr>
          <a:xfrm>
            <a:off x="1546200" y="3946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6"/>
          <p:cNvSpPr/>
          <p:nvPr/>
        </p:nvSpPr>
        <p:spPr>
          <a:xfrm>
            <a:off x="1488960" y="321480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1488960" y="4062240"/>
            <a:ext cx="136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 – 3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8"/>
          <p:cNvSpPr/>
          <p:nvPr/>
        </p:nvSpPr>
        <p:spPr>
          <a:xfrm rot="5400000">
            <a:off x="3591000" y="24516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9"/>
          <p:cNvSpPr/>
          <p:nvPr/>
        </p:nvSpPr>
        <p:spPr>
          <a:xfrm>
            <a:off x="3003480" y="1914480"/>
            <a:ext cx="171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 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. t = 12 .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0"/>
          <p:cNvSpPr/>
          <p:nvPr/>
        </p:nvSpPr>
        <p:spPr>
          <a:xfrm rot="16200000">
            <a:off x="3607560" y="223092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1"/>
          <p:cNvSpPr/>
          <p:nvPr/>
        </p:nvSpPr>
        <p:spPr>
          <a:xfrm>
            <a:off x="2482920" y="4651200"/>
            <a:ext cx="31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 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. (t-3,5) = 40 . (t-3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2"/>
          <p:cNvSpPr/>
          <p:nvPr/>
        </p:nvSpPr>
        <p:spPr>
          <a:xfrm>
            <a:off x="1490760" y="3213000"/>
            <a:ext cx="1643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23"/>
              <p:cNvSpPr txBox="1"/>
              <p:nvPr/>
            </p:nvSpPr>
            <p:spPr>
              <a:xfrm>
                <a:off x="727200" y="5081760"/>
                <a:ext cx="187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24"/>
              <p:cNvSpPr txBox="1"/>
              <p:nvPr/>
            </p:nvSpPr>
            <p:spPr>
              <a:xfrm>
                <a:off x="722160" y="5407200"/>
                <a:ext cx="16750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25"/>
              <p:cNvSpPr txBox="1"/>
              <p:nvPr/>
            </p:nvSpPr>
            <p:spPr>
              <a:xfrm>
                <a:off x="531720" y="5735520"/>
                <a:ext cx="14083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26"/>
              <p:cNvSpPr txBox="1"/>
              <p:nvPr/>
            </p:nvSpPr>
            <p:spPr>
              <a:xfrm>
                <a:off x="971640" y="6021360"/>
                <a:ext cx="2271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Rectangle 27"/>
          <p:cNvSpPr/>
          <p:nvPr/>
        </p:nvSpPr>
        <p:spPr>
          <a:xfrm>
            <a:off x="3490920" y="5919840"/>
            <a:ext cx="532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Člun dohoní parník v 11:30 hod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042920" y="206064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Touto variantou se myslí úlohy, ve kterých pohybující se tělesa vycházejí, vyjíždějí, odlétají ze stejného místa, jen v jiném čase a pohybují se stejným směrem. Jelikož je těleso vyrážející později rychlejší, předpokládá se, že těleso první za určitou dobu dostih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900000" y="3930480"/>
            <a:ext cx="1152360" cy="706320"/>
            <a:chOff x="900000" y="3930480"/>
            <a:chExt cx="1152360" cy="706320"/>
          </a:xfrm>
        </p:grpSpPr>
        <p:sp>
          <p:nvSpPr>
            <p:cNvPr id="103" name="Oval 9"/>
            <p:cNvSpPr/>
            <p:nvPr/>
          </p:nvSpPr>
          <p:spPr>
            <a:xfrm>
              <a:off x="1028520" y="434772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1663560" y="433512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900000" y="410328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3"/>
            <p:cNvSpPr/>
            <p:nvPr/>
          </p:nvSpPr>
          <p:spPr>
            <a:xfrm>
              <a:off x="1172880" y="393048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9"/>
          <p:cNvSpPr/>
          <p:nvPr/>
        </p:nvSpPr>
        <p:spPr>
          <a:xfrm>
            <a:off x="1116000" y="472284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2627280" y="46213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900000" y="465120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724360" y="465120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1"/>
          <p:cNvGrpSpPr/>
          <p:nvPr/>
        </p:nvGrpSpPr>
        <p:grpSpPr>
          <a:xfrm>
            <a:off x="971640" y="5154480"/>
            <a:ext cx="1152360" cy="706680"/>
            <a:chOff x="971640" y="5154480"/>
            <a:chExt cx="1152360" cy="706680"/>
          </a:xfrm>
        </p:grpSpPr>
        <p:sp>
          <p:nvSpPr>
            <p:cNvPr id="112" name="Oval 32"/>
            <p:cNvSpPr/>
            <p:nvPr/>
          </p:nvSpPr>
          <p:spPr>
            <a:xfrm>
              <a:off x="1100160" y="557208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3"/>
            <p:cNvSpPr/>
            <p:nvPr/>
          </p:nvSpPr>
          <p:spPr>
            <a:xfrm>
              <a:off x="1735200" y="555948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4"/>
            <p:cNvSpPr/>
            <p:nvPr/>
          </p:nvSpPr>
          <p:spPr>
            <a:xfrm>
              <a:off x="971640" y="5327640"/>
              <a:ext cx="1152360" cy="36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>
              <a:off x="1244520" y="5154480"/>
              <a:ext cx="604800" cy="31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Line 36"/>
          <p:cNvSpPr/>
          <p:nvPr/>
        </p:nvSpPr>
        <p:spPr>
          <a:xfrm>
            <a:off x="1116000" y="594684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900000" y="587520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5724360" y="587520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2425680" y="465300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08092E-006 L 0.43298 0.00116 E">
                                      <p:cBhvr>
                                        <p:cTn id="82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8.33333E-007 2.02312E-006 L 0.43316 0.00115 E">
                                      <p:cBhvr>
                                        <p:cTn id="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14560" y="4508640"/>
            <a:ext cx="547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hodec jde průměrnou rychlost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4 km/h. Za 20 minut vyjel za ním cyklista průměrnou rychlost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4 km/h. Za jakou dobu předjede cyklista chodce a kolik kilometrů přitom uje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1114560" y="2995560"/>
            <a:ext cx="547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Ukázka zadání takové úlo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5219640" y="1557360"/>
            <a:ext cx="1152360" cy="706320"/>
            <a:chOff x="5219640" y="1557360"/>
            <a:chExt cx="1152360" cy="706320"/>
          </a:xfrm>
        </p:grpSpPr>
        <p:sp>
          <p:nvSpPr>
            <p:cNvPr id="124" name="Oval 24"/>
            <p:cNvSpPr/>
            <p:nvPr/>
          </p:nvSpPr>
          <p:spPr>
            <a:xfrm>
              <a:off x="5348160" y="197460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5"/>
            <p:cNvSpPr/>
            <p:nvPr/>
          </p:nvSpPr>
          <p:spPr>
            <a:xfrm>
              <a:off x="5983200" y="196200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"/>
            <p:cNvSpPr/>
            <p:nvPr/>
          </p:nvSpPr>
          <p:spPr>
            <a:xfrm>
              <a:off x="5219640" y="173016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7"/>
            <p:cNvSpPr/>
            <p:nvPr/>
          </p:nvSpPr>
          <p:spPr>
            <a:xfrm>
              <a:off x="5492520" y="155736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8"/>
          <p:cNvGrpSpPr/>
          <p:nvPr/>
        </p:nvGrpSpPr>
        <p:grpSpPr>
          <a:xfrm>
            <a:off x="6372360" y="2133720"/>
            <a:ext cx="1152360" cy="705960"/>
            <a:chOff x="6372360" y="2133720"/>
            <a:chExt cx="1152360" cy="705960"/>
          </a:xfrm>
        </p:grpSpPr>
        <p:sp>
          <p:nvSpPr>
            <p:cNvPr id="129" name="Oval 29"/>
            <p:cNvSpPr/>
            <p:nvPr/>
          </p:nvSpPr>
          <p:spPr>
            <a:xfrm>
              <a:off x="6500880" y="255096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30"/>
            <p:cNvSpPr/>
            <p:nvPr/>
          </p:nvSpPr>
          <p:spPr>
            <a:xfrm>
              <a:off x="7135920" y="253836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31"/>
            <p:cNvSpPr/>
            <p:nvPr/>
          </p:nvSpPr>
          <p:spPr>
            <a:xfrm>
              <a:off x="6372360" y="2306520"/>
              <a:ext cx="1152360" cy="36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2"/>
            <p:cNvSpPr/>
            <p:nvPr/>
          </p:nvSpPr>
          <p:spPr>
            <a:xfrm>
              <a:off x="6645240" y="2133720"/>
              <a:ext cx="604800" cy="31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30200" y="494028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Obě pohybující se tělesa přitom urazí stejnou dráhu, a tudíž platí, že dráha </a:t>
            </a:r>
            <a:r>
              <a:rPr b="1" i="1" lang="cs-CZ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se rovná dráze </a:t>
            </a:r>
            <a:r>
              <a:rPr b="1" i="1" lang="cs-CZ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317600" y="5027760"/>
            <a:ext cx="52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Tato logická rovnost plynouc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z textu úlohy je i základem pro sestavení rovnice pro výpočet hledané neznám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4572000" y="5516640"/>
            <a:ext cx="216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7"/>
          <p:cNvGrpSpPr/>
          <p:nvPr/>
        </p:nvGrpSpPr>
        <p:grpSpPr>
          <a:xfrm>
            <a:off x="1116000" y="1197000"/>
            <a:ext cx="1152360" cy="706320"/>
            <a:chOff x="1116000" y="1197000"/>
            <a:chExt cx="1152360" cy="706320"/>
          </a:xfrm>
        </p:grpSpPr>
        <p:sp>
          <p:nvSpPr>
            <p:cNvPr id="138" name="Oval 28"/>
            <p:cNvSpPr/>
            <p:nvPr/>
          </p:nvSpPr>
          <p:spPr>
            <a:xfrm>
              <a:off x="1244520" y="161424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9"/>
            <p:cNvSpPr/>
            <p:nvPr/>
          </p:nvSpPr>
          <p:spPr>
            <a:xfrm>
              <a:off x="1879560" y="160164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0"/>
            <p:cNvSpPr/>
            <p:nvPr/>
          </p:nvSpPr>
          <p:spPr>
            <a:xfrm>
              <a:off x="1116000" y="136980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1"/>
            <p:cNvSpPr/>
            <p:nvPr/>
          </p:nvSpPr>
          <p:spPr>
            <a:xfrm>
              <a:off x="1388880" y="119700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32"/>
          <p:cNvSpPr/>
          <p:nvPr/>
        </p:nvSpPr>
        <p:spPr>
          <a:xfrm>
            <a:off x="1332000" y="19890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3"/>
          <p:cNvSpPr/>
          <p:nvPr/>
        </p:nvSpPr>
        <p:spPr>
          <a:xfrm>
            <a:off x="2843280" y="1887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"/>
          <p:cNvSpPr/>
          <p:nvPr/>
        </p:nvSpPr>
        <p:spPr>
          <a:xfrm>
            <a:off x="1116000" y="19177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5940360" y="19177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6"/>
          <p:cNvGrpSpPr/>
          <p:nvPr/>
        </p:nvGrpSpPr>
        <p:grpSpPr>
          <a:xfrm>
            <a:off x="1187280" y="2851200"/>
            <a:ext cx="1152360" cy="705960"/>
            <a:chOff x="1187280" y="2851200"/>
            <a:chExt cx="1152360" cy="705960"/>
          </a:xfrm>
        </p:grpSpPr>
        <p:sp>
          <p:nvSpPr>
            <p:cNvPr id="147" name="Oval 37"/>
            <p:cNvSpPr/>
            <p:nvPr/>
          </p:nvSpPr>
          <p:spPr>
            <a:xfrm>
              <a:off x="1315800" y="326844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8"/>
            <p:cNvSpPr/>
            <p:nvPr/>
          </p:nvSpPr>
          <p:spPr>
            <a:xfrm>
              <a:off x="1950840" y="325584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9"/>
            <p:cNvSpPr/>
            <p:nvPr/>
          </p:nvSpPr>
          <p:spPr>
            <a:xfrm>
              <a:off x="1187280" y="3024000"/>
              <a:ext cx="1152360" cy="36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40"/>
            <p:cNvSpPr/>
            <p:nvPr/>
          </p:nvSpPr>
          <p:spPr>
            <a:xfrm>
              <a:off x="1460160" y="2851200"/>
              <a:ext cx="604800" cy="31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41"/>
          <p:cNvSpPr/>
          <p:nvPr/>
        </p:nvSpPr>
        <p:spPr>
          <a:xfrm>
            <a:off x="1332000" y="36432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1116000" y="35719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3"/>
          <p:cNvSpPr/>
          <p:nvPr/>
        </p:nvSpPr>
        <p:spPr>
          <a:xfrm>
            <a:off x="5940360" y="35719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4"/>
          <p:cNvSpPr/>
          <p:nvPr/>
        </p:nvSpPr>
        <p:spPr>
          <a:xfrm>
            <a:off x="2641680" y="19191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5"/>
          <p:cNvSpPr/>
          <p:nvPr/>
        </p:nvSpPr>
        <p:spPr>
          <a:xfrm rot="16200000">
            <a:off x="3534120" y="18792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3565440" y="2492280"/>
            <a:ext cx="9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7"/>
          <p:cNvSpPr/>
          <p:nvPr/>
        </p:nvSpPr>
        <p:spPr>
          <a:xfrm rot="16200000">
            <a:off x="3536280" y="187200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3567240" y="4176720"/>
            <a:ext cx="93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08092E-006 L 0.43298 0.00116 E">
                                      <p:cBhvr>
                                        <p:cTn id="143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8.33333E-007 2.02312E-006 L 0.43316 0.00115 E">
                                      <p:cBhvr>
                                        <p:cTn id="145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2"/>
          <p:cNvSpPr/>
          <p:nvPr/>
        </p:nvSpPr>
        <p:spPr>
          <a:xfrm>
            <a:off x="4859280" y="5516640"/>
            <a:ext cx="2160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1116000" y="1197000"/>
            <a:ext cx="1152360" cy="706320"/>
            <a:chOff x="1116000" y="1197000"/>
            <a:chExt cx="1152360" cy="706320"/>
          </a:xfrm>
        </p:grpSpPr>
        <p:sp>
          <p:nvSpPr>
            <p:cNvPr id="162" name="Oval 7"/>
            <p:cNvSpPr/>
            <p:nvPr/>
          </p:nvSpPr>
          <p:spPr>
            <a:xfrm>
              <a:off x="1244520" y="161424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1879560" y="160164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1116000" y="136980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1388880" y="119700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1"/>
          <p:cNvSpPr/>
          <p:nvPr/>
        </p:nvSpPr>
        <p:spPr>
          <a:xfrm>
            <a:off x="1332000" y="19890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2843280" y="1887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1116000" y="19177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5940360" y="191772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5"/>
          <p:cNvGrpSpPr/>
          <p:nvPr/>
        </p:nvGrpSpPr>
        <p:grpSpPr>
          <a:xfrm>
            <a:off x="1187280" y="2706840"/>
            <a:ext cx="1152360" cy="705960"/>
            <a:chOff x="1187280" y="2706840"/>
            <a:chExt cx="1152360" cy="705960"/>
          </a:xfrm>
        </p:grpSpPr>
        <p:sp>
          <p:nvSpPr>
            <p:cNvPr id="171" name="Oval 16"/>
            <p:cNvSpPr/>
            <p:nvPr/>
          </p:nvSpPr>
          <p:spPr>
            <a:xfrm>
              <a:off x="1315800" y="312408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"/>
            <p:cNvSpPr/>
            <p:nvPr/>
          </p:nvSpPr>
          <p:spPr>
            <a:xfrm>
              <a:off x="1950840" y="311148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8"/>
            <p:cNvSpPr/>
            <p:nvPr/>
          </p:nvSpPr>
          <p:spPr>
            <a:xfrm>
              <a:off x="1187280" y="2879640"/>
              <a:ext cx="1152360" cy="36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9"/>
            <p:cNvSpPr/>
            <p:nvPr/>
          </p:nvSpPr>
          <p:spPr>
            <a:xfrm>
              <a:off x="1460160" y="2706840"/>
              <a:ext cx="604800" cy="31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Line 20"/>
          <p:cNvSpPr/>
          <p:nvPr/>
        </p:nvSpPr>
        <p:spPr>
          <a:xfrm>
            <a:off x="1332000" y="349884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1116000" y="342756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5940360" y="342756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2641680" y="19191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4"/>
          <p:cNvSpPr/>
          <p:nvPr/>
        </p:nvSpPr>
        <p:spPr>
          <a:xfrm rot="16200000">
            <a:off x="3534120" y="187920"/>
            <a:ext cx="346320" cy="47545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3565440" y="2506680"/>
            <a:ext cx="9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6"/>
          <p:cNvSpPr/>
          <p:nvPr/>
        </p:nvSpPr>
        <p:spPr>
          <a:xfrm rot="16200000">
            <a:off x="3536280" y="1727640"/>
            <a:ext cx="345960" cy="4754520"/>
          </a:xfrm>
          <a:custGeom>
            <a:avLst/>
            <a:gdLst>
              <a:gd name="textAreaLeft" fmla="*/ 221040 w 345960"/>
              <a:gd name="textAreaRight" fmla="*/ 346320 w 345960"/>
              <a:gd name="textAreaTop" fmla="*/ 123840 h 4754520"/>
              <a:gd name="textAreaBottom" fmla="*/ 4630680 h 47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7"/>
          <p:cNvSpPr/>
          <p:nvPr/>
        </p:nvSpPr>
        <p:spPr>
          <a:xfrm>
            <a:off x="3567240" y="4073400"/>
            <a:ext cx="93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1114560" y="505620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Ujetá dráha se přitom vypočítá jako součin průměrné rychlosti pohybujícího se tělesa a doby pohybu: </a:t>
            </a:r>
            <a:r>
              <a:rPr b="1" i="1" lang="cs-CZ" sz="2400" spc="-1" strike="noStrike">
                <a:solidFill>
                  <a:srgbClr val="000000"/>
                </a:solidFill>
                <a:latin typeface="Century Gothic"/>
              </a:rPr>
              <a:t>s = v .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3564000" y="2508120"/>
            <a:ext cx="122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.t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564000" y="407520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.t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4284720" y="5516640"/>
            <a:ext cx="3456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.t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.t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1187280" y="515772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i řešení nejen slovních úloh o pohybu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je pro větší názornost vždy velmi přínosný obrázek vykreslující situaci úlohy. Do něj si zapíšeme všechny známé i neznámé úd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1187280" y="515772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Nejprve tedy ty známé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1185840" y="4365720"/>
            <a:ext cx="52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A potom ty neznámé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1187280" y="4940280"/>
            <a:ext cx="46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našem případě je to čas pohybu obou os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1201680" y="558792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Jelikož o čase cyklisty něco víme, bude tou úplně neznámou čas chodce. Označíme si jej tedy </a:t>
            </a:r>
            <a:r>
              <a:rPr b="1" i="1" lang="cs-CZ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6"/>
          <p:cNvSpPr/>
          <p:nvPr/>
        </p:nvSpPr>
        <p:spPr>
          <a:xfrm>
            <a:off x="1547640" y="22050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7"/>
          <p:cNvSpPr/>
          <p:nvPr/>
        </p:nvSpPr>
        <p:spPr>
          <a:xfrm>
            <a:off x="3059280" y="2103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8"/>
          <p:cNvSpPr/>
          <p:nvPr/>
        </p:nvSpPr>
        <p:spPr>
          <a:xfrm>
            <a:off x="133200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9"/>
          <p:cNvSpPr/>
          <p:nvPr/>
        </p:nvSpPr>
        <p:spPr>
          <a:xfrm>
            <a:off x="615636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5"/>
          <p:cNvSpPr/>
          <p:nvPr/>
        </p:nvSpPr>
        <p:spPr>
          <a:xfrm>
            <a:off x="1547640" y="332568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33200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615636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8"/>
          <p:cNvSpPr/>
          <p:nvPr/>
        </p:nvSpPr>
        <p:spPr>
          <a:xfrm>
            <a:off x="2857680" y="21351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3"/>
          <p:cNvSpPr/>
          <p:nvPr/>
        </p:nvSpPr>
        <p:spPr>
          <a:xfrm>
            <a:off x="5551560" y="3573360"/>
            <a:ext cx="3197160" cy="1871640"/>
          </a:xfrm>
          <a:prstGeom prst="cloudCallout">
            <a:avLst>
              <a:gd name="adj1" fmla="val -121351"/>
              <a:gd name="adj2" fmla="val -116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od C je místo, kde se bude nacházet chodec v době, kdy bude cyklista teprve vyjíždě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1606680" y="21621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1677960" y="23194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6"/>
          <p:cNvSpPr/>
          <p:nvPr/>
        </p:nvSpPr>
        <p:spPr>
          <a:xfrm>
            <a:off x="1619280" y="330048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1690560" y="345744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1633680" y="243684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185840" y="4365720"/>
            <a:ext cx="38908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Jaký tedy bude čas cyklisty a co o něm vlastně ví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1547640" y="22050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059280" y="2103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133200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15636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1547640" y="332568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133200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615636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2857680" y="21351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5551560" y="3573360"/>
            <a:ext cx="3197160" cy="1871640"/>
          </a:xfrm>
          <a:prstGeom prst="cloudCallout">
            <a:avLst>
              <a:gd name="adj1" fmla="val -121351"/>
              <a:gd name="adj2" fmla="val -116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od C je místo, kde se bude nacházet chodec v době, kdy bude cyklista teprve vyjíždě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1606680" y="21621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1677960" y="23194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1619280" y="330048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>
            <a:off x="1690560" y="345744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1633680" y="243684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1187280" y="5040360"/>
            <a:ext cx="482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íme, že cyklista vyjel o 20 minut později a tedy i čas bude o 20 minut krat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187280" y="5732640"/>
            <a:ext cx="532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Ovšem pozor! Rychlost máme vyjádřenou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km/h. Můžeme tedy počítat i s minuta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jde průměrnou rychlostí 4 km/h. Za 20 minut vyjel za ním cyklista průměrnou rychlostí 24 km/h. Za jakou dobu dojede cyklista chodce a kolik kilometrů přitom uje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185840" y="4221000"/>
            <a:ext cx="3890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Správně. Nemůžeme, a proto si 20 minut převedeme na hod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547640" y="220500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3059280" y="21034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3200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156360" y="213372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1547640" y="3325680"/>
            <a:ext cx="474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33200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6156360" y="325440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2857680" y="21351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6156360" y="3933720"/>
            <a:ext cx="1728720" cy="1293840"/>
          </a:xfrm>
          <a:prstGeom prst="cloudCallout">
            <a:avLst>
              <a:gd name="adj1" fmla="val -125388"/>
              <a:gd name="adj2" fmla="val 7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íme, jak na 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1606680" y="216216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 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1677960" y="2319480"/>
            <a:ext cx="647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1619280" y="330048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 2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690560" y="345744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633680" y="243684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1187280" y="4896000"/>
            <a:ext cx="482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20 : 60 = 0,33333333333333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1187280" y="5587920"/>
            <a:ext cx="532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Kdepak. Každé zaokrouhlení znamená odchýlení od přesného výsledku a my přece chceme počítat přesně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1"/>
          <p:cNvSpPr/>
          <p:nvPr/>
        </p:nvSpPr>
        <p:spPr>
          <a:xfrm>
            <a:off x="6429240" y="4797360"/>
            <a:ext cx="2463840" cy="1656000"/>
          </a:xfrm>
          <a:prstGeom prst="cloudCallout">
            <a:avLst>
              <a:gd name="adj1" fmla="val -134712"/>
              <a:gd name="adj2" fmla="val -14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jej, perioda! Co s tím? Zaokrouhlíme 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4-23T09:33:52Z</dcterms:modified>
  <cp:revision>232</cp:revision>
  <dc:subject/>
  <dc:title>Slovní úlohy o pohybu - 2. varianta - 1</dc:title>
</cp:coreProperties>
</file>