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B3C-B811-4E4D-8B93-7539BBC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7C1-0CF0-453B-93C8-8F61AF7B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8A9-DFCF-486F-9D52-EA9181A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804-F493-4560-A12D-D4C8B73C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6AA-E884-4A19-AA42-E1D50639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9BB-BB3C-46BF-AB26-B6FB9A7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EC8C-021A-4BBE-80F4-826FC4D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7EC-E1E0-43ED-8193-8A4FC8AB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7A8-5FCB-48A6-9D07-6A73670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515D-98CC-488B-A031-3E3D2C5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483A-FBCE-41BC-998F-BFD45666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966-D695-44CA-94C0-BFF15E26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C9C6-38D8-42F3-93EB-7FC25CA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9FB-D047-4E03-BFB0-B776A87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8265-AA11-452A-A16E-0AFF7A09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CC7-DC6D-47A1-9B7A-F0E3BB38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4245-35C6-459A-A68F-E4965E0B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EDC-4240-484C-B801-412D3DF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393-7C10-445B-8823-5C6B7FD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F24-E10B-49B0-946A-5F7FDAB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415-9376-4971-BA78-E762F98A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D3C-D2EC-4313-9313-F4397B9B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143-71AF-4AE5-A459-CF00978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4AF-4374-4CC9-89E5-83F6E8D4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EDE-EB73-4D18-8ADA-E2D4C417BA5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80A9-845C-4E17-ABB4-73F11AE6FD1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image" Target="../media/image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Úhel</a:t>
            </a:r>
            <a:br>
              <a:rPr sz="4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Rýsování konvexních úh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Arial"/>
              </a:rPr>
              <a:t>Autor obrázků </a:t>
            </a:r>
            <a:r>
              <a:rPr b="0" lang="en-US" sz="1400" spc="-1" strike="noStrike">
                <a:solidFill>
                  <a:srgbClr val="284c6a"/>
                </a:solidFill>
                <a:latin typeface="Arial"/>
                <a:ea typeface="Arial"/>
              </a:rPr>
              <a:t>©</a:t>
            </a:r>
            <a:r>
              <a:rPr b="0" lang="cs-CZ" sz="1400" spc="-1" strike="noStrike">
                <a:solidFill>
                  <a:srgbClr val="284c6a"/>
                </a:solidFill>
                <a:latin typeface="Arial"/>
                <a:ea typeface="Arial"/>
              </a:rPr>
              <a:t> Mgr. Radomír Machá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3" descr=""/>
          <p:cNvPicPr/>
          <p:nvPr/>
        </p:nvPicPr>
        <p:blipFill>
          <a:blip r:embed="rId2"/>
          <a:stretch/>
        </p:blipFill>
        <p:spPr>
          <a:xfrm>
            <a:off x="890640" y="2103480"/>
            <a:ext cx="5640480" cy="428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" descr=""/>
          <p:cNvPicPr/>
          <p:nvPr/>
        </p:nvPicPr>
        <p:blipFill>
          <a:blip r:embed="rId3"/>
          <a:stretch/>
        </p:blipFill>
        <p:spPr>
          <a:xfrm>
            <a:off x="890640" y="2103480"/>
            <a:ext cx="5640480" cy="428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protractor0"/>
          <p:cNvPicPr/>
          <p:nvPr/>
        </p:nvPicPr>
        <p:blipFill>
          <a:blip r:embed="rId4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180" name="Line 10"/>
          <p:cNvSpPr/>
          <p:nvPr/>
        </p:nvSpPr>
        <p:spPr>
          <a:xfrm>
            <a:off x="1187280" y="1557360"/>
            <a:ext cx="3816360" cy="410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3132000" y="1557360"/>
            <a:ext cx="2448000" cy="410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3276720" y="573264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50920" y="1844640"/>
            <a:ext cx="3168720" cy="2808360"/>
          </a:xfrm>
          <a:prstGeom prst="cloudCallout">
            <a:avLst>
              <a:gd name="adj1" fmla="val 43888"/>
              <a:gd name="adj2" fmla="val 82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danému rameni budoucího úhlu jsme přiložili levé rameno úhloměru a z toho plyne, že budeme měřit na stupnici od nuly zleva (ve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8"/>
          <p:cNvSpPr/>
          <p:nvPr/>
        </p:nvSpPr>
        <p:spPr>
          <a:xfrm flipH="1">
            <a:off x="2697120" y="3429000"/>
            <a:ext cx="3062160" cy="2305080"/>
          </a:xfrm>
          <a:custGeom>
            <a:avLst/>
            <a:gdLst>
              <a:gd name="textAreaLeft" fmla="*/ 360 w 3062160"/>
              <a:gd name="textAreaRight" fmla="*/ 3062880 w 30621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fill="none" w="28689" h="21600">
                <a:moveTo>
                  <a:pt x="0" y="1196"/>
                </a:moveTo>
                <a:cubicBezTo>
                  <a:pt x="2279" y="404"/>
                  <a:pt x="4675" y="-1"/>
                  <a:pt x="7089" y="0"/>
                </a:cubicBezTo>
                <a:cubicBezTo>
                  <a:pt x="19018" y="0"/>
                  <a:pt x="28689" y="9670"/>
                  <a:pt x="28689" y="21600"/>
                </a:cubicBezTo>
              </a:path>
              <a:path stroke="0" w="28689" h="21600">
                <a:moveTo>
                  <a:pt x="0" y="1196"/>
                </a:moveTo>
                <a:cubicBezTo>
                  <a:pt x="2279" y="404"/>
                  <a:pt x="4675" y="-1"/>
                  <a:pt x="7089" y="0"/>
                </a:cubicBezTo>
                <a:cubicBezTo>
                  <a:pt x="19018" y="0"/>
                  <a:pt x="28689" y="9670"/>
                  <a:pt x="28689" y="21600"/>
                </a:cubicBezTo>
                <a:lnTo>
                  <a:pt x="7089" y="216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ýsová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582480" y="98100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Úhly daných velikostí rýsujeme pomocí úhloměru. A to tak, že vycházím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 daného vrcholu úhlu a jednoho jeho ramene. Úhloměr pak přiložíme svým počátkem k vrcholu úhlu a jednou jeho nulou (ramenem) k danému rameni rýsovaného úh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 flipH="1">
            <a:off x="5762880" y="3466800"/>
            <a:ext cx="70200" cy="197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"/>
          <p:cNvPicPr/>
          <p:nvPr/>
        </p:nvPicPr>
        <p:blipFill>
          <a:blip r:embed="rId5"/>
          <a:stretch/>
        </p:blipFill>
        <p:spPr>
          <a:xfrm>
            <a:off x="890640" y="2103480"/>
            <a:ext cx="5640480" cy="4286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"/>
          <p:cNvPicPr/>
          <p:nvPr/>
        </p:nvPicPr>
        <p:blipFill>
          <a:blip r:embed="rId6"/>
          <a:stretch/>
        </p:blipFill>
        <p:spPr>
          <a:xfrm>
            <a:off x="890640" y="2103480"/>
            <a:ext cx="5640480" cy="42861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2"/>
          <p:cNvSpPr/>
          <p:nvPr/>
        </p:nvSpPr>
        <p:spPr>
          <a:xfrm>
            <a:off x="5492880" y="5157720"/>
            <a:ext cx="316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Sestroj úhel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 = 11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2151 0.2252 E">
                                      <p:cBhvr>
                                        <p:cTn id="42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876240" y="2060640"/>
            <a:ext cx="5711760" cy="434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3"/>
          <a:stretch/>
        </p:blipFill>
        <p:spPr>
          <a:xfrm>
            <a:off x="876240" y="2060640"/>
            <a:ext cx="5711760" cy="4340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protractor0"/>
          <p:cNvPicPr/>
          <p:nvPr/>
        </p:nvPicPr>
        <p:blipFill>
          <a:blip r:embed="rId4"/>
          <a:stretch/>
        </p:blipFill>
        <p:spPr>
          <a:xfrm rot="20040000">
            <a:off x="-2021040" y="3081240"/>
            <a:ext cx="6002640" cy="3429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ýsová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82480" y="98100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Úhly daných velikostí rýsujeme pomocí úhloměru. A to tak, že vycházím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 daného vrcholu úhlu a jednoho jeho ramene. Úhloměr pak přiložíme svým počátkem k vrcholu úhlu a jednou jeho nulou (ramenem) k danému rameni rýsovaného úh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872360" y="2770560"/>
            <a:ext cx="23760" cy="235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6" descr=""/>
          <p:cNvPicPr/>
          <p:nvPr/>
        </p:nvPicPr>
        <p:blipFill>
          <a:blip r:embed="rId5"/>
          <a:stretch/>
        </p:blipFill>
        <p:spPr>
          <a:xfrm>
            <a:off x="876240" y="2060640"/>
            <a:ext cx="5711760" cy="4340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8" descr=""/>
          <p:cNvPicPr/>
          <p:nvPr/>
        </p:nvPicPr>
        <p:blipFill>
          <a:blip r:embed="rId6"/>
          <a:stretch/>
        </p:blipFill>
        <p:spPr>
          <a:xfrm>
            <a:off x="857160" y="2071800"/>
            <a:ext cx="5711760" cy="43401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3"/>
          <p:cNvSpPr/>
          <p:nvPr/>
        </p:nvSpPr>
        <p:spPr>
          <a:xfrm>
            <a:off x="5492880" y="5157720"/>
            <a:ext cx="316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Sestroj úhel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 = 58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estroj k přímce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v bodě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přímku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q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tak, aby s přímkou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svírala úhel 125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estroj k přímce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v bodě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přímku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q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tak, aby s přímkou </a:t>
            </a:r>
            <a:r>
              <a:rPr b="1" i="1" lang="en-US" sz="17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svírala úhel 125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 rot="60000">
            <a:off x="94248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3"/>
          <a:stretch/>
        </p:blipFill>
        <p:spPr>
          <a:xfrm rot="60000">
            <a:off x="94248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protractor0"/>
          <p:cNvPicPr/>
          <p:nvPr/>
        </p:nvPicPr>
        <p:blipFill>
          <a:blip r:embed="rId4"/>
          <a:stretch/>
        </p:blipFill>
        <p:spPr>
          <a:xfrm rot="20029800">
            <a:off x="1677600" y="1533240"/>
            <a:ext cx="5327640" cy="3046320"/>
          </a:xfrm>
          <a:prstGeom prst="rect">
            <a:avLst/>
          </a:prstGeom>
          <a:ln w="0">
            <a:noFill/>
          </a:ln>
        </p:spPr>
      </p:pic>
      <p:sp>
        <p:nvSpPr>
          <p:cNvPr id="210" name="Line 8"/>
          <p:cNvSpPr/>
          <p:nvPr/>
        </p:nvSpPr>
        <p:spPr>
          <a:xfrm flipV="1">
            <a:off x="5240880" y="1263240"/>
            <a:ext cx="30600" cy="2260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 rot="60000">
            <a:off x="942480" y="1341360"/>
            <a:ext cx="7445520" cy="50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 úsečce AB sestroj úhel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4° 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P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98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 úsečce AB sestroj úhel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4° 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P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98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protractor0"/>
          <p:cNvPicPr/>
          <p:nvPr/>
        </p:nvPicPr>
        <p:blipFill>
          <a:blip r:embed="rId3"/>
          <a:stretch/>
        </p:blipFill>
        <p:spPr>
          <a:xfrm rot="410400">
            <a:off x="-193680" y="2534760"/>
            <a:ext cx="5030640" cy="2873520"/>
          </a:xfrm>
          <a:prstGeom prst="rect">
            <a:avLst/>
          </a:prstGeom>
          <a:ln w="0">
            <a:noFill/>
          </a:ln>
        </p:spPr>
      </p:pic>
      <p:sp>
        <p:nvSpPr>
          <p:cNvPr id="220" name="Line 7"/>
          <p:cNvSpPr/>
          <p:nvPr/>
        </p:nvSpPr>
        <p:spPr>
          <a:xfrm flipV="1">
            <a:off x="4384800" y="3846600"/>
            <a:ext cx="144360" cy="71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4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protractor0"/>
          <p:cNvPicPr/>
          <p:nvPr/>
        </p:nvPicPr>
        <p:blipFill>
          <a:blip r:embed="rId5"/>
          <a:stretch/>
        </p:blipFill>
        <p:spPr>
          <a:xfrm rot="410400">
            <a:off x="3774600" y="3018960"/>
            <a:ext cx="5031000" cy="2873520"/>
          </a:xfrm>
          <a:prstGeom prst="rect">
            <a:avLst/>
          </a:prstGeom>
          <a:ln w="0">
            <a:noFill/>
          </a:ln>
        </p:spPr>
      </p:pic>
      <p:sp>
        <p:nvSpPr>
          <p:cNvPr id="223" name="Line 10"/>
          <p:cNvSpPr/>
          <p:nvPr/>
        </p:nvSpPr>
        <p:spPr>
          <a:xfrm flipV="1">
            <a:off x="6810120" y="2919240"/>
            <a:ext cx="58680" cy="211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"/>
          <p:cNvPicPr/>
          <p:nvPr/>
        </p:nvPicPr>
        <p:blipFill>
          <a:blip r:embed="rId6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"/>
          <p:cNvPicPr/>
          <p:nvPr/>
        </p:nvPicPr>
        <p:blipFill>
          <a:blip r:embed="rId7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 úsečce AB sestroj úhel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4° 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P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98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2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1042920" y="1413000"/>
            <a:ext cx="2521080" cy="2160360"/>
          </a:xfrm>
          <a:prstGeom prst="cloudCallout">
            <a:avLst>
              <a:gd name="adj1" fmla="val 94143"/>
              <a:gd name="adj2" fmla="val 68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aký geometrický útvar vznik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3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6" descr="protractor0"/>
          <p:cNvPicPr/>
          <p:nvPr/>
        </p:nvPicPr>
        <p:blipFill>
          <a:blip r:embed="rId4"/>
          <a:stretch/>
        </p:blipFill>
        <p:spPr>
          <a:xfrm rot="9180000">
            <a:off x="4927320" y="2125080"/>
            <a:ext cx="5030640" cy="287316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17"/>
          <p:cNvSpPr/>
          <p:nvPr/>
        </p:nvSpPr>
        <p:spPr>
          <a:xfrm>
            <a:off x="1258920" y="1628640"/>
            <a:ext cx="2521080" cy="2160720"/>
          </a:xfrm>
          <a:prstGeom prst="cloudCallout">
            <a:avLst>
              <a:gd name="adj1" fmla="val 165555"/>
              <a:gd name="adj2" fmla="val 7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měřte třetí vnitřní úhel trojúheln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9" descr=""/>
          <p:cNvPicPr/>
          <p:nvPr/>
        </p:nvPicPr>
        <p:blipFill>
          <a:blip r:embed="rId5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 úsečce AB sestroj úhel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AB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4° 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BP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98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"/>
          <p:cNvPicPr/>
          <p:nvPr/>
        </p:nvPicPr>
        <p:blipFill>
          <a:blip r:embed="rId2"/>
          <a:stretch/>
        </p:blipFill>
        <p:spPr>
          <a:xfrm>
            <a:off x="942840" y="1341360"/>
            <a:ext cx="7445520" cy="50277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2"/>
          <p:cNvSpPr/>
          <p:nvPr/>
        </p:nvSpPr>
        <p:spPr>
          <a:xfrm>
            <a:off x="826920" y="2421000"/>
            <a:ext cx="2808360" cy="2089080"/>
          </a:xfrm>
          <a:prstGeom prst="cloudCallout">
            <a:avLst>
              <a:gd name="adj1" fmla="val 136037"/>
              <a:gd name="adj2" fmla="val -13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věř platnost „věty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nitřních úhlech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857160" y="1413000"/>
            <a:ext cx="7747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+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34°+ 98°+ 48°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 na závěr ještě jednou to nejdůležitějš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Úhly rýs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úhlomě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v jednotkách zvanýc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pně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2427120" y="3392640"/>
            <a:ext cx="3710160" cy="284472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 flipH="1">
            <a:off x="4125600" y="4076640"/>
            <a:ext cx="1152360" cy="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268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hrnutí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1908000" y="3414600"/>
            <a:ext cx="468000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425680" y="3386160"/>
            <a:ext cx="3710160" cy="2844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4714920" y="3141720"/>
            <a:ext cx="41925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54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protractor0"/>
          <p:cNvPicPr/>
          <p:nvPr/>
        </p:nvPicPr>
        <p:blipFill>
          <a:blip r:embed="rId4"/>
          <a:stretch/>
        </p:blipFill>
        <p:spPr>
          <a:xfrm>
            <a:off x="611280" y="3684600"/>
            <a:ext cx="441936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3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 nejdříve, co o úhlu už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tedy myslí si ještě stále někdo, že úhel jsou ty dvě „čáry“ (ramen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1"/>
          <p:cNvSpPr/>
          <p:nvPr/>
        </p:nvSpPr>
        <p:spPr>
          <a:xfrm>
            <a:off x="3191040" y="3560760"/>
            <a:ext cx="574560" cy="57456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5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857680" y="328608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2871720" y="32857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V="1">
            <a:off x="2843280" y="42937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509640" y="37105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5439600" y="48265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6"/>
          <p:cNvSpPr/>
          <p:nvPr/>
        </p:nvSpPr>
        <p:spPr>
          <a:xfrm>
            <a:off x="3191040" y="4786200"/>
            <a:ext cx="574560" cy="57492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843280" y="15573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 flipH="1">
            <a:off x="3578400" y="15429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749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el je veličina, která se dá měřit, ale zároveň i rýsovat pomocí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úhloměru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6" descr="protractor0"/>
          <p:cNvPicPr/>
          <p:nvPr/>
        </p:nvPicPr>
        <p:blipFill>
          <a:blip r:embed="rId2"/>
          <a:stretch/>
        </p:blipFill>
        <p:spPr>
          <a:xfrm>
            <a:off x="2239920" y="3641760"/>
            <a:ext cx="44197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ákladní jednotkou velikosti úhlů 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upe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pozor ne ten Celsiův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068720" y="357336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ikost úhlu AVB se značí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6184800" y="4005360"/>
            <a:ext cx="230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bo jen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72000" y="479592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men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572000" y="551664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vět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6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enšími jednotkami velikosti úhlů jso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nut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teřin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7200" y="410544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ý stupeň má 60 minut (1°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′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</a:t>
            </a:r>
            <a:br>
              <a:rPr sz="32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á minuta má 60 vteřin (1′ 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″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340000" y="545940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1°= 60′ = 3600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ly se dají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d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27200" y="400536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se mluví o sčítání nebo odčítání úhlů,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yslí se tím sčítání a odčítání jejich velikostí.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mají úhly stejnou velikost, tak jsou shodné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778040" y="5300640"/>
            <a:ext cx="54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i sčítání a odčítání se zvlášť sčítají a odčítají stupně a zvlášť minuty, případně vteř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yní se zaměříme na to, abychom se naučili úhly daných velikostí rýsov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2427120" y="3392640"/>
            <a:ext cx="3710160" cy="28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protractor0"/>
          <p:cNvPicPr/>
          <p:nvPr/>
        </p:nvPicPr>
        <p:blipFill>
          <a:blip r:embed="rId3"/>
          <a:stretch/>
        </p:blipFill>
        <p:spPr>
          <a:xfrm>
            <a:off x="611280" y="368460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5234040" y="3141720"/>
            <a:ext cx="37670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54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125600" y="4076640"/>
            <a:ext cx="1152360" cy="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0" descr=""/>
          <p:cNvPicPr/>
          <p:nvPr/>
        </p:nvPicPr>
        <p:blipFill>
          <a:blip r:embed="rId2"/>
          <a:stretch/>
        </p:blipFill>
        <p:spPr>
          <a:xfrm>
            <a:off x="3171960" y="1873080"/>
            <a:ext cx="4884480" cy="430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1" descr=""/>
          <p:cNvPicPr/>
          <p:nvPr/>
        </p:nvPicPr>
        <p:blipFill>
          <a:blip r:embed="rId3"/>
          <a:stretch/>
        </p:blipFill>
        <p:spPr>
          <a:xfrm>
            <a:off x="3171960" y="1873080"/>
            <a:ext cx="4884480" cy="4307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ýsová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82480" y="98100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Úhly daných velikostí rýsujeme pomocí úhloměru. A to tak, že vycházím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 daného vrcholu úhlu a jednoho jeho ramene. Úhloměr pak přiložíme svým počátkem k vrcholu úhlu a jednou jeho nulou (ramenem) k danému rameni rýsovaného úh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3" descr="protractor0"/>
          <p:cNvPicPr/>
          <p:nvPr/>
        </p:nvPicPr>
        <p:blipFill>
          <a:blip r:embed="rId4"/>
          <a:stretch/>
        </p:blipFill>
        <p:spPr>
          <a:xfrm>
            <a:off x="8413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162" name="Line 24"/>
          <p:cNvSpPr/>
          <p:nvPr/>
        </p:nvSpPr>
        <p:spPr>
          <a:xfrm>
            <a:off x="1360440" y="1557360"/>
            <a:ext cx="1655640" cy="25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1402920" y="1557360"/>
            <a:ext cx="3745080" cy="25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 flipH="1">
            <a:off x="4716360" y="1557360"/>
            <a:ext cx="432000" cy="25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2411280" y="1557360"/>
            <a:ext cx="1224000" cy="3959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 flipH="1">
            <a:off x="5363640" y="1557360"/>
            <a:ext cx="2953080" cy="403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3664080" y="566100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724360" y="1700280"/>
            <a:ext cx="3168720" cy="2808360"/>
          </a:xfrm>
          <a:prstGeom prst="cloudCallout">
            <a:avLst>
              <a:gd name="adj1" fmla="val -58314"/>
              <a:gd name="adj2" fmla="val 83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danému rameni budoucího úhlu jsme přiložili pravé rameno úhloměru a z toho plyne, že budeme měřit na stupnici od nuly zprava (proti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33"/>
          <p:cNvSpPr/>
          <p:nvPr/>
        </p:nvSpPr>
        <p:spPr>
          <a:xfrm>
            <a:off x="3648240" y="3716280"/>
            <a:ext cx="2247840" cy="19447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fill="none" w="21600" h="18686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</a:path>
              <a:path stroke="0" w="21600" h="18686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  <a:lnTo>
                  <a:pt x="0" y="18686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7"/>
          <p:cNvSpPr/>
          <p:nvPr/>
        </p:nvSpPr>
        <p:spPr>
          <a:xfrm>
            <a:off x="2484360" y="1268280"/>
            <a:ext cx="1150920" cy="424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8"/>
          <p:cNvSpPr/>
          <p:nvPr/>
        </p:nvSpPr>
        <p:spPr>
          <a:xfrm>
            <a:off x="5148360" y="1268280"/>
            <a:ext cx="936360" cy="424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2"/>
          <p:cNvSpPr/>
          <p:nvPr/>
        </p:nvSpPr>
        <p:spPr>
          <a:xfrm flipV="1">
            <a:off x="4744800" y="3662280"/>
            <a:ext cx="68400" cy="118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3" descr=""/>
          <p:cNvPicPr/>
          <p:nvPr/>
        </p:nvPicPr>
        <p:blipFill>
          <a:blip r:embed="rId5"/>
          <a:stretch/>
        </p:blipFill>
        <p:spPr>
          <a:xfrm>
            <a:off x="3173400" y="1873080"/>
            <a:ext cx="4884840" cy="4307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"/>
          <p:cNvPicPr/>
          <p:nvPr/>
        </p:nvPicPr>
        <p:blipFill>
          <a:blip r:embed="rId6"/>
          <a:stretch/>
        </p:blipFill>
        <p:spPr>
          <a:xfrm>
            <a:off x="3171960" y="1874880"/>
            <a:ext cx="4884480" cy="4306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5"/>
          <p:cNvSpPr/>
          <p:nvPr/>
        </p:nvSpPr>
        <p:spPr>
          <a:xfrm>
            <a:off x="755640" y="5156280"/>
            <a:ext cx="367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Sestroj úhe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06545 0.21456 E">
                                      <p:cBhvr>
                                        <p:cTn id="33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3-03T14:44:12Z</dcterms:modified>
  <cp:revision>212</cp:revision>
  <dc:subject/>
  <dc:title>Rýsování úhlů konvexních</dc:title>
</cp:coreProperties>
</file>