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ED42-52D2-47E3-AAED-EC3891CA16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73AF-7683-49B7-926F-E51248F1C7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D54-E69C-49E9-9EE5-6A923A7A39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26D-41B3-4C8C-A46F-63043642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F49-0935-417F-A9B4-FC182822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DA5-84D6-4C7F-B4DF-4A92B41B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404-5AEF-4668-B578-921087E3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1FEE-D3C2-44EE-8358-3F8DBDF3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013B-A612-4F26-B03A-3A647575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44A3-9CED-4BCF-BCBD-4FB2C62F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9116-58C7-4631-974A-6B141AF3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2A02-B00C-4872-A506-8A73FD10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0993-5AFA-425C-B46D-839BF3F1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D1DA-0B0D-45AB-93D3-84E2545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9AC-FBBB-4680-A576-A3CB3C20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234D-6903-4BC3-9A2F-8707BFD0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8A72-7EF9-42AD-8661-808C905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7E9A-6DE7-42B4-ADFD-290476EE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05C0-EF40-4EDE-B48D-3E8493F0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8C2F-585B-4783-A210-A200F83A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A8B-3A86-4DD9-8A2A-59440384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05E-C72B-4AB9-BA27-4DE1C604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C0D-0EE0-4C59-8641-AD9A1749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F1D-313B-498C-97C9-C59C4771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F2E-F8E6-4C72-850B-05C6FB8A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9DC-887A-43A8-BD2A-88D4C0C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E2A-9CF4-441B-96A7-73075A85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10AD-54CE-4415-9021-729D3FB267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66280" y="153828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1A55-9B31-4B78-8FC7-5244B4CD177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lker.com/clipart-blackboard.html" TargetMode="External"/><Relationship Id="rId3" Type="http://schemas.openxmlformats.org/officeDocument/2006/relationships/hyperlink" Target="http://www.clker.com/clipart-blackboard.html" TargetMode="External"/><Relationship Id="rId4" Type="http://schemas.openxmlformats.org/officeDocument/2006/relationships/hyperlink" Target="http://www.clker.com/clipart-blackboard.html" TargetMode="External"/><Relationship Id="rId5" Type="http://schemas.openxmlformats.org/officeDocument/2006/relationships/hyperlink" Target="http://www.clker.com/clipart-blackboard.html" TargetMode="External"/><Relationship Id="rId6" Type="http://schemas.openxmlformats.org/officeDocument/2006/relationships/hyperlink" Target="http://www.clker.com/clipart-blackboard.html" TargetMode="External"/><Relationship Id="rId7" Type="http://schemas.openxmlformats.org/officeDocument/2006/relationships/hyperlink" Target="http://www.clker.com/clipart-blackboard.html" TargetMode="External"/><Relationship Id="rId8" Type="http://schemas.openxmlformats.org/officeDocument/2006/relationships/hyperlink" Target="http://www.clker.com/clipart-blackboard.html" TargetMode="External"/><Relationship Id="rId9" Type="http://schemas.openxmlformats.org/officeDocument/2006/relationships/hyperlink" Target="http://www.clker.com/clipart-blackboard.html" TargetMode="External"/><Relationship Id="rId10" Type="http://schemas.openxmlformats.org/officeDocument/2006/relationships/hyperlink" Target="http://www.clker.com/clipart-blackboard.html" TargetMode="External"/><Relationship Id="rId11" Type="http://schemas.openxmlformats.org/officeDocument/2006/relationships/hyperlink" Target="http://www.clker.com/clipart-blackboard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154728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84c6a"/>
                </a:solidFill>
                <a:latin typeface="Trebuchet MS"/>
              </a:rPr>
              <a:t>Řešení lineárních rovnic s neznámou ve jmenovateli</a:t>
            </a:r>
            <a:endParaRPr b="0" lang="en-US" sz="5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84360" y="401472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82560" y="4014720"/>
            <a:ext cx="7848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3. č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3760" y="5501520"/>
            <a:ext cx="764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Arial"/>
              </a:rPr>
              <a:t>Autorem materiálu a všech jeho částí, není-li uvedeno jinak, je</a:t>
            </a:r>
            <a:r>
              <a:rPr b="1" i="1" lang="cs-CZ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1c1c1c"/>
                </a:solidFill>
                <a:latin typeface="Arial"/>
              </a:rPr>
              <a:t>Mgr. Radomír Machá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Arial"/>
              </a:rPr>
              <a:t>Dostupné z Metodického portálu www.rvp.cz, ISSN: 1802-4785, financovaného z ESF a státního rozpočtu ČR.</a:t>
            </a:r>
            <a:br>
              <a:rPr sz="1200"/>
            </a:br>
            <a:r>
              <a:rPr b="0" i="1" lang="cs-CZ" sz="1200" spc="-1" strike="noStrike">
                <a:solidFill>
                  <a:srgbClr val="1c1c1c"/>
                </a:solidFill>
                <a:latin typeface="Arial"/>
              </a:rPr>
              <a:t>Provozováno Výzkumným ústavem pedagogickým v Praze</a:t>
            </a:r>
            <a:r>
              <a:rPr b="0" lang="cs-CZ" sz="12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 jdeme na to. Vypočítej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římá spojovací čára 12"/>
          <p:cNvSpPr/>
          <p:nvPr/>
        </p:nvSpPr>
        <p:spPr>
          <a:xfrm>
            <a:off x="542880" y="158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51280" y="758880"/>
                <a:ext cx="32259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Rectangle 12"/>
          <p:cNvSpPr/>
          <p:nvPr/>
        </p:nvSpPr>
        <p:spPr>
          <a:xfrm>
            <a:off x="5251320" y="188424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6"/>
          <p:cNvSpPr/>
          <p:nvPr/>
        </p:nvSpPr>
        <p:spPr>
          <a:xfrm flipV="1">
            <a:off x="2232000" y="2126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8"/>
          <p:cNvSpPr/>
          <p:nvPr/>
        </p:nvSpPr>
        <p:spPr>
          <a:xfrm flipV="1">
            <a:off x="3328920" y="2124000"/>
            <a:ext cx="270000" cy="3463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6031080" y="18842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6330960" y="18842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2"/>
          <p:cNvSpPr/>
          <p:nvPr/>
        </p:nvSpPr>
        <p:spPr>
          <a:xfrm flipV="1">
            <a:off x="611280" y="213804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 flipV="1">
            <a:off x="1241280" y="2139840"/>
            <a:ext cx="270000" cy="34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11280" y="1662120"/>
                <a:ext cx="419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12"/>
          <p:cNvSpPr/>
          <p:nvPr/>
        </p:nvSpPr>
        <p:spPr>
          <a:xfrm>
            <a:off x="5816520" y="1884240"/>
            <a:ext cx="6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8"/>
          <p:cNvSpPr/>
          <p:nvPr/>
        </p:nvSpPr>
        <p:spPr>
          <a:xfrm flipV="1">
            <a:off x="2546280" y="212400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V="1">
            <a:off x="3668760" y="212400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3"/>
          <p:cNvSpPr/>
          <p:nvPr/>
        </p:nvSpPr>
        <p:spPr>
          <a:xfrm flipV="1">
            <a:off x="2862360" y="213804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5"/>
          <p:cNvSpPr/>
          <p:nvPr/>
        </p:nvSpPr>
        <p:spPr>
          <a:xfrm flipV="1">
            <a:off x="1557360" y="2138040"/>
            <a:ext cx="27000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7"/>
          <p:cNvSpPr/>
          <p:nvPr/>
        </p:nvSpPr>
        <p:spPr>
          <a:xfrm flipV="1">
            <a:off x="4495680" y="2138040"/>
            <a:ext cx="27000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0"/>
          <p:cNvSpPr/>
          <p:nvPr/>
        </p:nvSpPr>
        <p:spPr>
          <a:xfrm flipV="1">
            <a:off x="4000680" y="2124000"/>
            <a:ext cx="269640" cy="3463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778800" y="1871640"/>
            <a:ext cx="1303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39720" y="2665440"/>
                <a:ext cx="6291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Line 35"/>
          <p:cNvSpPr/>
          <p:nvPr/>
        </p:nvSpPr>
        <p:spPr>
          <a:xfrm flipV="1">
            <a:off x="657360" y="312876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5"/>
          <p:cNvSpPr/>
          <p:nvPr/>
        </p:nvSpPr>
        <p:spPr>
          <a:xfrm flipV="1">
            <a:off x="1044720" y="287460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85680" y="2619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5"/>
          <p:cNvSpPr/>
          <p:nvPr/>
        </p:nvSpPr>
        <p:spPr>
          <a:xfrm flipV="1">
            <a:off x="1962000" y="312876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5"/>
          <p:cNvSpPr/>
          <p:nvPr/>
        </p:nvSpPr>
        <p:spPr>
          <a:xfrm flipV="1">
            <a:off x="2739960" y="287460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81280" y="2619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5"/>
          <p:cNvSpPr/>
          <p:nvPr/>
        </p:nvSpPr>
        <p:spPr>
          <a:xfrm flipV="1">
            <a:off x="3581280" y="312876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5"/>
          <p:cNvSpPr/>
          <p:nvPr/>
        </p:nvSpPr>
        <p:spPr>
          <a:xfrm flipV="1">
            <a:off x="4014720" y="287460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4737240" y="312876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5"/>
          <p:cNvSpPr/>
          <p:nvPr/>
        </p:nvSpPr>
        <p:spPr>
          <a:xfrm flipV="1">
            <a:off x="5288040" y="287460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29360" y="261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5"/>
          <p:cNvSpPr/>
          <p:nvPr/>
        </p:nvSpPr>
        <p:spPr>
          <a:xfrm flipV="1">
            <a:off x="6026040" y="3128760"/>
            <a:ext cx="27000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5"/>
          <p:cNvSpPr/>
          <p:nvPr/>
        </p:nvSpPr>
        <p:spPr>
          <a:xfrm flipV="1">
            <a:off x="6688080" y="2874600"/>
            <a:ext cx="27000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5"/>
          <p:cNvSpPr/>
          <p:nvPr/>
        </p:nvSpPr>
        <p:spPr>
          <a:xfrm flipV="1">
            <a:off x="2141640" y="3143160"/>
            <a:ext cx="26964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5"/>
          <p:cNvSpPr/>
          <p:nvPr/>
        </p:nvSpPr>
        <p:spPr>
          <a:xfrm flipV="1">
            <a:off x="2997360" y="2889000"/>
            <a:ext cx="26964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5"/>
          <p:cNvSpPr/>
          <p:nvPr/>
        </p:nvSpPr>
        <p:spPr>
          <a:xfrm flipV="1">
            <a:off x="4917960" y="314316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5"/>
          <p:cNvSpPr/>
          <p:nvPr/>
        </p:nvSpPr>
        <p:spPr>
          <a:xfrm flipV="1">
            <a:off x="5562720" y="2889000"/>
            <a:ext cx="26964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284120" y="3517920"/>
                <a:ext cx="36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422360" y="3952800"/>
                <a:ext cx="349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630440" y="4438800"/>
                <a:ext cx="33066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284560" y="4856040"/>
                <a:ext cx="2257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079960" y="4854600"/>
                <a:ext cx="752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890800" y="5246640"/>
                <a:ext cx="1505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068800" y="5261040"/>
                <a:ext cx="779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027240" y="5637240"/>
                <a:ext cx="7257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172120" y="5826240"/>
                <a:ext cx="13492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642000" y="5773680"/>
                <a:ext cx="752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22360" y="2001960"/>
                <a:ext cx="6805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22360" y="3147840"/>
                <a:ext cx="8324640" cy="222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96880" y="5423040"/>
            <a:ext cx="1093680" cy="4521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 jdeme na to. Vypočítej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římá spojovací čára 12"/>
          <p:cNvSpPr/>
          <p:nvPr/>
        </p:nvSpPr>
        <p:spPr>
          <a:xfrm>
            <a:off x="542880" y="158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751280" y="758880"/>
                <a:ext cx="32259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Rectangle 12"/>
          <p:cNvSpPr/>
          <p:nvPr/>
        </p:nvSpPr>
        <p:spPr>
          <a:xfrm>
            <a:off x="490680" y="1584360"/>
            <a:ext cx="2550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kouška pro x =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 jdeme na to. Vypočítej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římá spojovací čára 12"/>
          <p:cNvSpPr/>
          <p:nvPr/>
        </p:nvSpPr>
        <p:spPr>
          <a:xfrm>
            <a:off x="542880" y="158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751280" y="758880"/>
                <a:ext cx="32259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Rectangle 12"/>
          <p:cNvSpPr/>
          <p:nvPr/>
        </p:nvSpPr>
        <p:spPr>
          <a:xfrm>
            <a:off x="5251320" y="188424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6"/>
          <p:cNvSpPr/>
          <p:nvPr/>
        </p:nvSpPr>
        <p:spPr>
          <a:xfrm flipV="1">
            <a:off x="2232000" y="2126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8"/>
          <p:cNvSpPr/>
          <p:nvPr/>
        </p:nvSpPr>
        <p:spPr>
          <a:xfrm flipV="1">
            <a:off x="3328920" y="2124000"/>
            <a:ext cx="270000" cy="3463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6031080" y="18842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330960" y="18842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2"/>
          <p:cNvSpPr/>
          <p:nvPr/>
        </p:nvSpPr>
        <p:spPr>
          <a:xfrm flipV="1">
            <a:off x="611280" y="213804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3"/>
          <p:cNvSpPr/>
          <p:nvPr/>
        </p:nvSpPr>
        <p:spPr>
          <a:xfrm flipV="1">
            <a:off x="1241280" y="2139840"/>
            <a:ext cx="270000" cy="34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11280" y="1662120"/>
                <a:ext cx="419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Rectangle 12"/>
          <p:cNvSpPr/>
          <p:nvPr/>
        </p:nvSpPr>
        <p:spPr>
          <a:xfrm>
            <a:off x="5816520" y="1884240"/>
            <a:ext cx="6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8"/>
          <p:cNvSpPr/>
          <p:nvPr/>
        </p:nvSpPr>
        <p:spPr>
          <a:xfrm flipV="1">
            <a:off x="2546280" y="212400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8"/>
          <p:cNvSpPr/>
          <p:nvPr/>
        </p:nvSpPr>
        <p:spPr>
          <a:xfrm flipV="1">
            <a:off x="3668760" y="212400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3"/>
          <p:cNvSpPr/>
          <p:nvPr/>
        </p:nvSpPr>
        <p:spPr>
          <a:xfrm flipV="1">
            <a:off x="2862360" y="213804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5"/>
          <p:cNvSpPr/>
          <p:nvPr/>
        </p:nvSpPr>
        <p:spPr>
          <a:xfrm flipV="1">
            <a:off x="1557360" y="2138040"/>
            <a:ext cx="27000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7"/>
          <p:cNvSpPr/>
          <p:nvPr/>
        </p:nvSpPr>
        <p:spPr>
          <a:xfrm flipV="1">
            <a:off x="4495680" y="2138040"/>
            <a:ext cx="27000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0"/>
          <p:cNvSpPr/>
          <p:nvPr/>
        </p:nvSpPr>
        <p:spPr>
          <a:xfrm flipV="1">
            <a:off x="4000680" y="2124000"/>
            <a:ext cx="269640" cy="3463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6778800" y="1871640"/>
            <a:ext cx="1303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39720" y="2665440"/>
                <a:ext cx="6291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35"/>
          <p:cNvSpPr/>
          <p:nvPr/>
        </p:nvSpPr>
        <p:spPr>
          <a:xfrm flipV="1">
            <a:off x="657360" y="312876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5"/>
          <p:cNvSpPr/>
          <p:nvPr/>
        </p:nvSpPr>
        <p:spPr>
          <a:xfrm flipV="1">
            <a:off x="1044720" y="287460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85680" y="2619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5"/>
          <p:cNvSpPr/>
          <p:nvPr/>
        </p:nvSpPr>
        <p:spPr>
          <a:xfrm flipV="1">
            <a:off x="1962000" y="312876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5"/>
          <p:cNvSpPr/>
          <p:nvPr/>
        </p:nvSpPr>
        <p:spPr>
          <a:xfrm flipV="1">
            <a:off x="2739960" y="287460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81280" y="2619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 flipV="1">
            <a:off x="3581280" y="312876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4014720" y="287460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5"/>
          <p:cNvSpPr/>
          <p:nvPr/>
        </p:nvSpPr>
        <p:spPr>
          <a:xfrm flipV="1">
            <a:off x="4737240" y="312876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5"/>
          <p:cNvSpPr/>
          <p:nvPr/>
        </p:nvSpPr>
        <p:spPr>
          <a:xfrm flipV="1">
            <a:off x="5288040" y="287460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29360" y="261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5"/>
          <p:cNvSpPr/>
          <p:nvPr/>
        </p:nvSpPr>
        <p:spPr>
          <a:xfrm flipV="1">
            <a:off x="6026040" y="3128760"/>
            <a:ext cx="27000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 flipV="1">
            <a:off x="6688080" y="2874600"/>
            <a:ext cx="27000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5"/>
          <p:cNvSpPr/>
          <p:nvPr/>
        </p:nvSpPr>
        <p:spPr>
          <a:xfrm flipV="1">
            <a:off x="2141640" y="3143160"/>
            <a:ext cx="26964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5"/>
          <p:cNvSpPr/>
          <p:nvPr/>
        </p:nvSpPr>
        <p:spPr>
          <a:xfrm flipV="1">
            <a:off x="2997360" y="2889000"/>
            <a:ext cx="26964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 flipV="1">
            <a:off x="4917960" y="314316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 flipV="1">
            <a:off x="5562720" y="2889000"/>
            <a:ext cx="26964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284120" y="3517920"/>
                <a:ext cx="36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422360" y="3952800"/>
                <a:ext cx="349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630440" y="4438800"/>
                <a:ext cx="33066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284560" y="4856040"/>
                <a:ext cx="2257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079960" y="4854600"/>
                <a:ext cx="752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0800" y="5246640"/>
                <a:ext cx="1505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5068800" y="5261040"/>
                <a:ext cx="779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027240" y="5637240"/>
                <a:ext cx="7257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172120" y="5826240"/>
                <a:ext cx="13492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642000" y="5773680"/>
                <a:ext cx="752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011400" y="60102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1400" y="60706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566640" y="927000"/>
            <a:ext cx="6075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nyní opět trošku pozměníme typ rovnic (jmenovatele s neznámou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492120" y="2006640"/>
            <a:ext cx="826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o ale měnit nebudeme, je postup, jak rovnice s neznámou ve jmenovateli řeš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6551640" y="695160"/>
                <a:ext cx="162072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Rectangle 12"/>
          <p:cNvSpPr/>
          <p:nvPr/>
        </p:nvSpPr>
        <p:spPr>
          <a:xfrm>
            <a:off x="490680" y="2771640"/>
            <a:ext cx="8265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čneme tedy opět rozkladem všech jmenovatelů na součin, což nám umožní nalézt společného jmenovatele, kterým celou rovnici vynásobíme, abychom se zbavili lomených výrazů (zlomků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566640" y="3473280"/>
                <a:ext cx="225576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Rectangle 12"/>
          <p:cNvSpPr/>
          <p:nvPr/>
        </p:nvSpPr>
        <p:spPr>
          <a:xfrm>
            <a:off x="3002040" y="38336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6"/>
          <p:cNvSpPr/>
          <p:nvPr/>
        </p:nvSpPr>
        <p:spPr>
          <a:xfrm flipV="1">
            <a:off x="581040" y="415260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8"/>
          <p:cNvSpPr/>
          <p:nvPr/>
        </p:nvSpPr>
        <p:spPr>
          <a:xfrm flipV="1">
            <a:off x="2487600" y="414936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371760" y="383364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y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8"/>
          <p:cNvSpPr/>
          <p:nvPr/>
        </p:nvSpPr>
        <p:spPr>
          <a:xfrm flipV="1">
            <a:off x="1003320" y="4103280"/>
            <a:ext cx="1079640" cy="43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566640" y="927000"/>
            <a:ext cx="6075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nyní opět trošku pozměníme typ rovnic (jmenovatele s neznámou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492120" y="2006640"/>
            <a:ext cx="826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o ale měnit nebudeme, je postup, jak rovnice s neznámou ve jmenovateli řeš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6"/>
              <p:cNvSpPr txBox="1"/>
              <p:nvPr/>
            </p:nvSpPr>
            <p:spPr>
              <a:xfrm>
                <a:off x="6551640" y="695160"/>
                <a:ext cx="162072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Rectangle 12"/>
          <p:cNvSpPr/>
          <p:nvPr/>
        </p:nvSpPr>
        <p:spPr>
          <a:xfrm>
            <a:off x="490680" y="2771640"/>
            <a:ext cx="8265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čneme tedy opět rozkladem všech jmenovatelů na součin, což nám umožní nalézt společného jmenovatele, kterým celou rovnici vynásobíme, abychom se zbavili lomených výrazů (zlomků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566640" y="3473280"/>
                <a:ext cx="225576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6" name="Rectangle 12"/>
          <p:cNvSpPr/>
          <p:nvPr/>
        </p:nvSpPr>
        <p:spPr>
          <a:xfrm>
            <a:off x="3002040" y="38336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6"/>
          <p:cNvSpPr/>
          <p:nvPr/>
        </p:nvSpPr>
        <p:spPr>
          <a:xfrm flipV="1">
            <a:off x="581040" y="415260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8"/>
          <p:cNvSpPr/>
          <p:nvPr/>
        </p:nvSpPr>
        <p:spPr>
          <a:xfrm flipV="1">
            <a:off x="2487600" y="414936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3371760" y="3833640"/>
            <a:ext cx="14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y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8"/>
          <p:cNvSpPr/>
          <p:nvPr/>
        </p:nvSpPr>
        <p:spPr>
          <a:xfrm flipV="1">
            <a:off x="1003320" y="4103280"/>
            <a:ext cx="1079640" cy="43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5202360" y="3608280"/>
                <a:ext cx="3217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3060720" y="3760920"/>
                <a:ext cx="1452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662360" y="38336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226120" y="4164120"/>
            <a:ext cx="735120" cy="239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140520" y="3921120"/>
            <a:ext cx="735120" cy="239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6275520" y="4408560"/>
                <a:ext cx="18158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6"/>
              <p:cNvSpPr txBox="1"/>
              <p:nvPr/>
            </p:nvSpPr>
            <p:spPr>
              <a:xfrm>
                <a:off x="8296200" y="4417920"/>
                <a:ext cx="550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6"/>
              <p:cNvSpPr txBox="1"/>
              <p:nvPr/>
            </p:nvSpPr>
            <p:spPr>
              <a:xfrm>
                <a:off x="6676920" y="4824360"/>
                <a:ext cx="15400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6"/>
              <p:cNvSpPr txBox="1"/>
              <p:nvPr/>
            </p:nvSpPr>
            <p:spPr>
              <a:xfrm>
                <a:off x="8307360" y="4867200"/>
                <a:ext cx="657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6"/>
              <p:cNvSpPr txBox="1"/>
              <p:nvPr/>
            </p:nvSpPr>
            <p:spPr>
              <a:xfrm>
                <a:off x="6286680" y="5199120"/>
                <a:ext cx="15397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6"/>
              <p:cNvSpPr txBox="1"/>
              <p:nvPr/>
            </p:nvSpPr>
            <p:spPr>
              <a:xfrm>
                <a:off x="8128080" y="5221440"/>
                <a:ext cx="815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6"/>
              <p:cNvSpPr txBox="1"/>
              <p:nvPr/>
            </p:nvSpPr>
            <p:spPr>
              <a:xfrm>
                <a:off x="6700680" y="5605560"/>
                <a:ext cx="770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566640" y="927000"/>
            <a:ext cx="6075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 nyní opět trošku pozměníme typ rovnic (jmenovatele s neznámou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6551640" y="695160"/>
                <a:ext cx="162072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Rectangle 12"/>
          <p:cNvSpPr/>
          <p:nvPr/>
        </p:nvSpPr>
        <p:spPr>
          <a:xfrm>
            <a:off x="566640" y="3807000"/>
            <a:ext cx="255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kouška pro y =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657360" y="4275000"/>
                <a:ext cx="2340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6"/>
              <p:cNvSpPr txBox="1"/>
              <p:nvPr/>
            </p:nvSpPr>
            <p:spPr>
              <a:xfrm>
                <a:off x="657360" y="5164200"/>
                <a:ext cx="815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655560" y="5634000"/>
                <a:ext cx="871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Rectangle 12"/>
          <p:cNvSpPr/>
          <p:nvPr/>
        </p:nvSpPr>
        <p:spPr>
          <a:xfrm>
            <a:off x="566640" y="1957320"/>
            <a:ext cx="369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mínky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nulou nelze dělit!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6"/>
              <p:cNvSpPr txBox="1"/>
              <p:nvPr/>
            </p:nvSpPr>
            <p:spPr>
              <a:xfrm>
                <a:off x="614520" y="2320920"/>
                <a:ext cx="1093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566640" y="2722680"/>
            <a:ext cx="765360" cy="404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67000" y="279252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6"/>
              <p:cNvSpPr txBox="1"/>
              <p:nvPr/>
            </p:nvSpPr>
            <p:spPr>
              <a:xfrm>
                <a:off x="1871640" y="2751120"/>
                <a:ext cx="1395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6"/>
              <p:cNvSpPr txBox="1"/>
              <p:nvPr/>
            </p:nvSpPr>
            <p:spPr>
              <a:xfrm>
                <a:off x="2367000" y="3156120"/>
                <a:ext cx="8888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4724280" y="3606840"/>
                <a:ext cx="3218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5797440" y="4406760"/>
                <a:ext cx="181620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6"/>
              <p:cNvSpPr txBox="1"/>
              <p:nvPr/>
            </p:nvSpPr>
            <p:spPr>
              <a:xfrm>
                <a:off x="7818480" y="4416480"/>
                <a:ext cx="550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6199200" y="4822920"/>
                <a:ext cx="15397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6"/>
              <p:cNvSpPr txBox="1"/>
              <p:nvPr/>
            </p:nvSpPr>
            <p:spPr>
              <a:xfrm>
                <a:off x="7829640" y="4865760"/>
                <a:ext cx="657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6"/>
              <p:cNvSpPr txBox="1"/>
              <p:nvPr/>
            </p:nvSpPr>
            <p:spPr>
              <a:xfrm>
                <a:off x="5808600" y="5197320"/>
                <a:ext cx="15400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6"/>
              <p:cNvSpPr txBox="1"/>
              <p:nvPr/>
            </p:nvSpPr>
            <p:spPr>
              <a:xfrm>
                <a:off x="7650000" y="5219640"/>
                <a:ext cx="8161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6"/>
              <p:cNvSpPr txBox="1"/>
              <p:nvPr/>
            </p:nvSpPr>
            <p:spPr>
              <a:xfrm>
                <a:off x="6222960" y="5603760"/>
                <a:ext cx="7700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6251400" y="60246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51400" y="6084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1" name="Object 6"/>
              <p:cNvSpPr txBox="1"/>
              <p:nvPr/>
            </p:nvSpPr>
            <p:spPr>
              <a:xfrm>
                <a:off x="4302000" y="2168640"/>
                <a:ext cx="15940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536400" y="792000"/>
            <a:ext cx="471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ak ještě jednou. Vypočítej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5460840" y="728640"/>
                <a:ext cx="1938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6"/>
              <p:cNvSpPr txBox="1"/>
              <p:nvPr/>
            </p:nvSpPr>
            <p:spPr>
              <a:xfrm>
                <a:off x="1751040" y="1898640"/>
                <a:ext cx="22906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1" name="Rectangle 12"/>
          <p:cNvSpPr/>
          <p:nvPr/>
        </p:nvSpPr>
        <p:spPr>
          <a:xfrm>
            <a:off x="4203720" y="2259000"/>
            <a:ext cx="853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6"/>
          <p:cNvSpPr/>
          <p:nvPr/>
        </p:nvSpPr>
        <p:spPr>
          <a:xfrm flipV="1">
            <a:off x="1782720" y="2577960"/>
            <a:ext cx="270000" cy="3463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8"/>
          <p:cNvSpPr/>
          <p:nvPr/>
        </p:nvSpPr>
        <p:spPr>
          <a:xfrm flipV="1">
            <a:off x="3689280" y="257472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4662360" y="2259000"/>
            <a:ext cx="144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8"/>
          <p:cNvSpPr/>
          <p:nvPr/>
        </p:nvSpPr>
        <p:spPr>
          <a:xfrm flipV="1">
            <a:off x="2205000" y="2529000"/>
            <a:ext cx="1079640" cy="43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6"/>
              <p:cNvSpPr txBox="1"/>
              <p:nvPr/>
            </p:nvSpPr>
            <p:spPr>
              <a:xfrm>
                <a:off x="912960" y="3114720"/>
                <a:ext cx="4289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 flipV="1">
            <a:off x="1346040" y="3652920"/>
            <a:ext cx="735120" cy="239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2600" y="3409920"/>
            <a:ext cx="735120" cy="239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6"/>
              <p:cNvSpPr txBox="1"/>
              <p:nvPr/>
            </p:nvSpPr>
            <p:spPr>
              <a:xfrm>
                <a:off x="2538360" y="3984480"/>
                <a:ext cx="1760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42000" y="4024440"/>
                <a:ext cx="606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6"/>
              <p:cNvSpPr txBox="1"/>
              <p:nvPr/>
            </p:nvSpPr>
            <p:spPr>
              <a:xfrm>
                <a:off x="2989440" y="4489560"/>
                <a:ext cx="1401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6"/>
              <p:cNvSpPr txBox="1"/>
              <p:nvPr/>
            </p:nvSpPr>
            <p:spPr>
              <a:xfrm>
                <a:off x="4805280" y="4530600"/>
                <a:ext cx="622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6"/>
              <p:cNvSpPr txBox="1"/>
              <p:nvPr/>
            </p:nvSpPr>
            <p:spPr>
              <a:xfrm>
                <a:off x="3027240" y="5002200"/>
                <a:ext cx="90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6"/>
              <p:cNvSpPr txBox="1"/>
              <p:nvPr/>
            </p:nvSpPr>
            <p:spPr>
              <a:xfrm>
                <a:off x="4792680" y="5018040"/>
                <a:ext cx="5587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6"/>
              <p:cNvSpPr txBox="1"/>
              <p:nvPr/>
            </p:nvSpPr>
            <p:spPr>
              <a:xfrm>
                <a:off x="3176640" y="5376960"/>
                <a:ext cx="82404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 flipV="1">
            <a:off x="952560" y="3636720"/>
            <a:ext cx="225360" cy="26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211480" y="3387600"/>
            <a:ext cx="225360" cy="27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672000" y="3624120"/>
            <a:ext cx="225360" cy="27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017960" y="3373200"/>
            <a:ext cx="225360" cy="269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6"/>
              <p:cNvSpPr txBox="1"/>
              <p:nvPr/>
            </p:nvSpPr>
            <p:spPr>
              <a:xfrm>
                <a:off x="4076640" y="5364000"/>
                <a:ext cx="7146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536400" y="792000"/>
            <a:ext cx="471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ak ještě jednou. Vypočítej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5460840" y="728640"/>
                <a:ext cx="1938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Rectangle 12"/>
          <p:cNvSpPr/>
          <p:nvPr/>
        </p:nvSpPr>
        <p:spPr>
          <a:xfrm>
            <a:off x="566640" y="4167360"/>
            <a:ext cx="255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kouška pro x = 4/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6"/>
              <p:cNvSpPr txBox="1"/>
              <p:nvPr/>
            </p:nvSpPr>
            <p:spPr>
              <a:xfrm>
                <a:off x="566640" y="4464000"/>
                <a:ext cx="6005520" cy="16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6"/>
              <p:cNvSpPr txBox="1"/>
              <p:nvPr/>
            </p:nvSpPr>
            <p:spPr>
              <a:xfrm>
                <a:off x="7272360" y="4869000"/>
                <a:ext cx="900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6"/>
              <p:cNvSpPr txBox="1"/>
              <p:nvPr/>
            </p:nvSpPr>
            <p:spPr>
              <a:xfrm>
                <a:off x="7286760" y="5815080"/>
                <a:ext cx="871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Rectangle 12"/>
          <p:cNvSpPr/>
          <p:nvPr/>
        </p:nvSpPr>
        <p:spPr>
          <a:xfrm>
            <a:off x="566640" y="1957320"/>
            <a:ext cx="369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mínky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nulou nelze dělit!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6"/>
              <p:cNvSpPr txBox="1"/>
              <p:nvPr/>
            </p:nvSpPr>
            <p:spPr>
              <a:xfrm>
                <a:off x="520560" y="2343240"/>
                <a:ext cx="1308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520560" y="2695680"/>
            <a:ext cx="855720" cy="436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917400">
            <a:off x="1375920" y="292716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6"/>
              <p:cNvSpPr txBox="1"/>
              <p:nvPr/>
            </p:nvSpPr>
            <p:spPr>
              <a:xfrm>
                <a:off x="1806480" y="3063960"/>
                <a:ext cx="1235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6"/>
              <p:cNvSpPr txBox="1"/>
              <p:nvPr/>
            </p:nvSpPr>
            <p:spPr>
              <a:xfrm>
                <a:off x="2198520" y="3338640"/>
                <a:ext cx="1016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6"/>
              <p:cNvSpPr txBox="1"/>
              <p:nvPr/>
            </p:nvSpPr>
            <p:spPr>
              <a:xfrm>
                <a:off x="2328840" y="3625920"/>
                <a:ext cx="8431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Object 6"/>
              <p:cNvSpPr txBox="1"/>
              <p:nvPr/>
            </p:nvSpPr>
            <p:spPr>
              <a:xfrm>
                <a:off x="4314960" y="2168640"/>
                <a:ext cx="1593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536400" y="792000"/>
            <a:ext cx="471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ak ještě jednou. Vypočítej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6"/>
              <p:cNvSpPr txBox="1"/>
              <p:nvPr/>
            </p:nvSpPr>
            <p:spPr>
              <a:xfrm>
                <a:off x="5460840" y="728640"/>
                <a:ext cx="19386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1751040" y="1898640"/>
                <a:ext cx="22906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6"/>
              <p:cNvSpPr txBox="1"/>
              <p:nvPr/>
            </p:nvSpPr>
            <p:spPr>
              <a:xfrm>
                <a:off x="912960" y="3114720"/>
                <a:ext cx="4289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6"/>
              <p:cNvSpPr txBox="1"/>
              <p:nvPr/>
            </p:nvSpPr>
            <p:spPr>
              <a:xfrm>
                <a:off x="2538360" y="3984480"/>
                <a:ext cx="1760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6"/>
              <p:cNvSpPr txBox="1"/>
              <p:nvPr/>
            </p:nvSpPr>
            <p:spPr>
              <a:xfrm>
                <a:off x="4842000" y="4024440"/>
                <a:ext cx="606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6"/>
              <p:cNvSpPr txBox="1"/>
              <p:nvPr/>
            </p:nvSpPr>
            <p:spPr>
              <a:xfrm>
                <a:off x="2989440" y="4489560"/>
                <a:ext cx="1401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6"/>
              <p:cNvSpPr txBox="1"/>
              <p:nvPr/>
            </p:nvSpPr>
            <p:spPr>
              <a:xfrm>
                <a:off x="4805280" y="4530600"/>
                <a:ext cx="6224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6"/>
              <p:cNvSpPr txBox="1"/>
              <p:nvPr/>
            </p:nvSpPr>
            <p:spPr>
              <a:xfrm>
                <a:off x="3027240" y="5002200"/>
                <a:ext cx="90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4792680" y="5018040"/>
                <a:ext cx="5587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6"/>
              <p:cNvSpPr txBox="1"/>
              <p:nvPr/>
            </p:nvSpPr>
            <p:spPr>
              <a:xfrm>
                <a:off x="3176640" y="5376960"/>
                <a:ext cx="82404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6"/>
              <p:cNvSpPr txBox="1"/>
              <p:nvPr/>
            </p:nvSpPr>
            <p:spPr>
              <a:xfrm>
                <a:off x="4076640" y="5364000"/>
                <a:ext cx="7146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3191040" y="6188040"/>
            <a:ext cx="1574640" cy="46080"/>
            <a:chOff x="3191040" y="6188040"/>
            <a:chExt cx="1574640" cy="46080"/>
          </a:xfrm>
        </p:grpSpPr>
        <p:sp>
          <p:nvSpPr>
            <p:cNvPr id="480" name=""/>
            <p:cNvSpPr/>
            <p:nvPr/>
          </p:nvSpPr>
          <p:spPr>
            <a:xfrm>
              <a:off x="3191040" y="6188040"/>
              <a:ext cx="157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91040" y="6234120"/>
              <a:ext cx="157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6"/>
              <p:cNvSpPr txBox="1"/>
              <p:nvPr/>
            </p:nvSpPr>
            <p:spPr>
              <a:xfrm>
                <a:off x="2874960" y="728640"/>
                <a:ext cx="17985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9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25400" y="16686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kvivalentní = rovnocenný, stejný, se stejným účinkem, se stejnou platností</a:t>
            </a: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39800" y="24606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kvivalentní úprava = úprava, při které rovnice původní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upravená rovnice mají stejné kořeny (řešen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39800" y="32529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inými slovy: Změní se matematický zápis rovnice, nikoli však rovnost stran a řeš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74720" y="40449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vnost dvou stran rovnice můžeme přirovnat k rovnováze na váhá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rak 13"/>
          <p:cNvSpPr/>
          <p:nvPr/>
        </p:nvSpPr>
        <p:spPr>
          <a:xfrm>
            <a:off x="1557360" y="1449360"/>
            <a:ext cx="6886440" cy="4410000"/>
          </a:xfrm>
          <a:prstGeom prst="pie">
            <a:avLst/>
          </a:prstGeom>
          <a:solidFill>
            <a:srgbClr val="ffff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i řešení rovnic se používají ekvivalentní úprav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5246640" y="189864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12"/>
              <p:cNvSpPr txBox="1"/>
              <p:nvPr/>
            </p:nvSpPr>
            <p:spPr>
              <a:xfrm>
                <a:off x="6665760" y="1898640"/>
                <a:ext cx="11923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9" name="Rectangle 12"/>
          <p:cNvSpPr/>
          <p:nvPr/>
        </p:nvSpPr>
        <p:spPr>
          <a:xfrm>
            <a:off x="5246640" y="302436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13"/>
              <p:cNvSpPr txBox="1"/>
              <p:nvPr/>
            </p:nvSpPr>
            <p:spPr>
              <a:xfrm>
                <a:off x="5292720" y="3519360"/>
                <a:ext cx="32590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14"/>
              <p:cNvSpPr txBox="1"/>
              <p:nvPr/>
            </p:nvSpPr>
            <p:spPr>
              <a:xfrm>
                <a:off x="5268960" y="4387680"/>
                <a:ext cx="6714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Object 15" descr=""/>
          <p:cNvPicPr/>
          <p:nvPr/>
        </p:nvPicPr>
        <p:blipFill>
          <a:blip r:embed="rId2"/>
          <a:stretch/>
        </p:blipFill>
        <p:spPr>
          <a:xfrm>
            <a:off x="5278320" y="4867200"/>
            <a:ext cx="1092240" cy="452520"/>
          </a:xfrm>
          <a:prstGeom prst="rect">
            <a:avLst/>
          </a:prstGeom>
          <a:ln w="0">
            <a:noFill/>
          </a:ln>
        </p:spPr>
      </p:pic>
      <p:sp>
        <p:nvSpPr>
          <p:cNvPr id="503" name="Přímá spojovací čára 35"/>
          <p:cNvSpPr/>
          <p:nvPr/>
        </p:nvSpPr>
        <p:spPr>
          <a:xfrm>
            <a:off x="2367000" y="5199120"/>
            <a:ext cx="946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římá spojovací čára 36"/>
          <p:cNvSpPr/>
          <p:nvPr/>
        </p:nvSpPr>
        <p:spPr>
          <a:xfrm>
            <a:off x="2368440" y="5243400"/>
            <a:ext cx="9464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790640" y="1935000"/>
                <a:ext cx="26463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/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925560" y="2670120"/>
                <a:ext cx="31510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871640" y="3519360"/>
                <a:ext cx="18954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000680" y="3519360"/>
                <a:ext cx="58716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325600" y="3952800"/>
                <a:ext cx="1470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4000680" y="3954600"/>
                <a:ext cx="749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311560" y="4421160"/>
                <a:ext cx="880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986280" y="4373640"/>
                <a:ext cx="5619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489040" y="4824360"/>
                <a:ext cx="747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6"/>
              <p:cNvSpPr txBox="1"/>
              <p:nvPr/>
            </p:nvSpPr>
            <p:spPr>
              <a:xfrm>
                <a:off x="2874960" y="728640"/>
                <a:ext cx="17985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12"/>
              <p:cNvSpPr txBox="1"/>
              <p:nvPr/>
            </p:nvSpPr>
            <p:spPr>
              <a:xfrm>
                <a:off x="7058160" y="2271600"/>
                <a:ext cx="9651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2936880" y="728640"/>
                <a:ext cx="1622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3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5"/>
              <p:cNvSpPr txBox="1"/>
              <p:nvPr/>
            </p:nvSpPr>
            <p:spPr>
              <a:xfrm>
                <a:off x="1692360" y="1866960"/>
                <a:ext cx="33112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/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4"/>
              <p:cNvSpPr txBox="1"/>
              <p:nvPr/>
            </p:nvSpPr>
            <p:spPr>
              <a:xfrm>
                <a:off x="438120" y="2948040"/>
                <a:ext cx="2784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12"/>
          <p:cNvSpPr/>
          <p:nvPr/>
        </p:nvSpPr>
        <p:spPr>
          <a:xfrm>
            <a:off x="5464080" y="207972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12"/>
              <p:cNvSpPr txBox="1"/>
              <p:nvPr/>
            </p:nvSpPr>
            <p:spPr>
              <a:xfrm>
                <a:off x="6846840" y="2033640"/>
                <a:ext cx="155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12"/>
          <p:cNvSpPr/>
          <p:nvPr/>
        </p:nvSpPr>
        <p:spPr>
          <a:xfrm>
            <a:off x="5464080" y="313056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3"/>
              <p:cNvSpPr txBox="1"/>
              <p:nvPr/>
            </p:nvSpPr>
            <p:spPr>
              <a:xfrm>
                <a:off x="5562720" y="3675240"/>
                <a:ext cx="9442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14"/>
              <p:cNvSpPr txBox="1"/>
              <p:nvPr/>
            </p:nvSpPr>
            <p:spPr>
              <a:xfrm>
                <a:off x="5540400" y="4238640"/>
                <a:ext cx="25876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8" name="Object 15" descr=""/>
          <p:cNvPicPr/>
          <p:nvPr/>
        </p:nvPicPr>
        <p:blipFill>
          <a:blip r:embed="rId2"/>
          <a:stretch/>
        </p:blipFill>
        <p:spPr>
          <a:xfrm>
            <a:off x="5516640" y="5408640"/>
            <a:ext cx="1092240" cy="452520"/>
          </a:xfrm>
          <a:prstGeom prst="rect">
            <a:avLst/>
          </a:prstGeom>
          <a:ln w="0">
            <a:noFill/>
          </a:ln>
        </p:spPr>
      </p:pic>
      <p:sp>
        <p:nvSpPr>
          <p:cNvPr id="539" name="Přímá spojovací čára 35"/>
          <p:cNvSpPr/>
          <p:nvPr/>
        </p:nvSpPr>
        <p:spPr>
          <a:xfrm>
            <a:off x="1665360" y="581508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římá spojovací čára 36"/>
          <p:cNvSpPr/>
          <p:nvPr/>
        </p:nvSpPr>
        <p:spPr>
          <a:xfrm>
            <a:off x="1666800" y="585936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627360" y="3562200"/>
                <a:ext cx="10209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63480" y="3540240"/>
                <a:ext cx="25732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98920" y="4694400"/>
                <a:ext cx="7398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438200" y="4746600"/>
                <a:ext cx="14083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459080" y="4140360"/>
                <a:ext cx="1973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613320" y="4122720"/>
                <a:ext cx="80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665360" y="5310360"/>
                <a:ext cx="9874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6"/>
              <p:cNvSpPr txBox="1"/>
              <p:nvPr/>
            </p:nvSpPr>
            <p:spPr>
              <a:xfrm>
                <a:off x="2936880" y="728640"/>
                <a:ext cx="1622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12"/>
              <p:cNvSpPr txBox="1"/>
              <p:nvPr/>
            </p:nvSpPr>
            <p:spPr>
              <a:xfrm>
                <a:off x="7427880" y="2492280"/>
                <a:ext cx="9860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2708280" y="728640"/>
                <a:ext cx="2077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7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5"/>
              <p:cNvSpPr txBox="1"/>
              <p:nvPr/>
            </p:nvSpPr>
            <p:spPr>
              <a:xfrm>
                <a:off x="1812960" y="1943280"/>
                <a:ext cx="343368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/>
                    </m:f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4"/>
              <p:cNvSpPr txBox="1"/>
              <p:nvPr/>
            </p:nvSpPr>
            <p:spPr>
              <a:xfrm>
                <a:off x="341280" y="2913120"/>
                <a:ext cx="4511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6" name="Rectangle 12"/>
          <p:cNvSpPr/>
          <p:nvPr/>
        </p:nvSpPr>
        <p:spPr>
          <a:xfrm>
            <a:off x="5770440" y="194328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12"/>
              <p:cNvSpPr txBox="1"/>
              <p:nvPr/>
            </p:nvSpPr>
            <p:spPr>
              <a:xfrm>
                <a:off x="7238880" y="1987560"/>
                <a:ext cx="13255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Rectangle 12"/>
          <p:cNvSpPr/>
          <p:nvPr/>
        </p:nvSpPr>
        <p:spPr>
          <a:xfrm>
            <a:off x="5786280" y="329400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13"/>
              <p:cNvSpPr txBox="1"/>
              <p:nvPr/>
            </p:nvSpPr>
            <p:spPr>
              <a:xfrm>
                <a:off x="5864400" y="3611520"/>
                <a:ext cx="297000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4"/>
              <p:cNvSpPr txBox="1"/>
              <p:nvPr/>
            </p:nvSpPr>
            <p:spPr>
              <a:xfrm>
                <a:off x="5956200" y="5664240"/>
                <a:ext cx="7779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71" name="Object 15" descr=""/>
          <p:cNvPicPr/>
          <p:nvPr/>
        </p:nvPicPr>
        <p:blipFill>
          <a:blip r:embed="rId2"/>
          <a:stretch/>
        </p:blipFill>
        <p:spPr>
          <a:xfrm>
            <a:off x="7767720" y="5767560"/>
            <a:ext cx="1092240" cy="452160"/>
          </a:xfrm>
          <a:prstGeom prst="rect">
            <a:avLst/>
          </a:prstGeom>
          <a:ln w="0">
            <a:noFill/>
          </a:ln>
        </p:spPr>
      </p:pic>
      <p:sp>
        <p:nvSpPr>
          <p:cNvPr id="572" name="Přímá spojovací čára 35"/>
          <p:cNvSpPr/>
          <p:nvPr/>
        </p:nvSpPr>
        <p:spPr>
          <a:xfrm>
            <a:off x="2457360" y="621972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římá spojovací čára 36"/>
          <p:cNvSpPr/>
          <p:nvPr/>
        </p:nvSpPr>
        <p:spPr>
          <a:xfrm>
            <a:off x="2459160" y="6264360"/>
            <a:ext cx="944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436760" y="3780000"/>
                <a:ext cx="296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6"/>
              <p:cNvSpPr txBox="1"/>
              <p:nvPr/>
            </p:nvSpPr>
            <p:spPr>
              <a:xfrm>
                <a:off x="2708280" y="728640"/>
                <a:ext cx="2077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1982880" y="4280040"/>
                <a:ext cx="20937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4481640" y="4294080"/>
                <a:ext cx="598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416320" y="4695840"/>
                <a:ext cx="16030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4451400" y="4699080"/>
                <a:ext cx="9255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2185920" y="5102280"/>
                <a:ext cx="1305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410000" y="5033880"/>
                <a:ext cx="981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557440" y="5418000"/>
                <a:ext cx="816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12"/>
              <p:cNvSpPr txBox="1"/>
              <p:nvPr/>
            </p:nvSpPr>
            <p:spPr>
              <a:xfrm>
                <a:off x="7664400" y="2295360"/>
                <a:ext cx="900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2"/>
              <p:cNvSpPr txBox="1"/>
              <p:nvPr/>
            </p:nvSpPr>
            <p:spPr>
              <a:xfrm>
                <a:off x="7797960" y="2602080"/>
                <a:ext cx="793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6"/>
              <p:cNvSpPr txBox="1"/>
              <p:nvPr/>
            </p:nvSpPr>
            <p:spPr>
              <a:xfrm>
                <a:off x="2411280" y="728640"/>
                <a:ext cx="35100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Přímá spojovací čára 12"/>
          <p:cNvSpPr/>
          <p:nvPr/>
        </p:nvSpPr>
        <p:spPr>
          <a:xfrm>
            <a:off x="542880" y="1719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římá spojovací čára 12"/>
          <p:cNvSpPr/>
          <p:nvPr/>
        </p:nvSpPr>
        <p:spPr>
          <a:xfrm>
            <a:off x="542880" y="168768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5"/>
              <p:cNvSpPr txBox="1"/>
              <p:nvPr/>
            </p:nvSpPr>
            <p:spPr>
              <a:xfrm>
                <a:off x="2519280" y="1700280"/>
                <a:ext cx="4049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/>
                    </m:f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0" name="Rectangle 12"/>
          <p:cNvSpPr/>
          <p:nvPr/>
        </p:nvSpPr>
        <p:spPr>
          <a:xfrm>
            <a:off x="7227720" y="1854360"/>
            <a:ext cx="145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12"/>
              <p:cNvSpPr txBox="1"/>
              <p:nvPr/>
            </p:nvSpPr>
            <p:spPr>
              <a:xfrm>
                <a:off x="7318440" y="2214720"/>
                <a:ext cx="11667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Rectangle 12"/>
          <p:cNvSpPr/>
          <p:nvPr/>
        </p:nvSpPr>
        <p:spPr>
          <a:xfrm>
            <a:off x="431640" y="4778280"/>
            <a:ext cx="1216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13"/>
              <p:cNvSpPr txBox="1"/>
              <p:nvPr/>
            </p:nvSpPr>
            <p:spPr>
              <a:xfrm>
                <a:off x="485640" y="5183280"/>
                <a:ext cx="8091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,5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7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14"/>
              <p:cNvSpPr txBox="1"/>
              <p:nvPr/>
            </p:nvSpPr>
            <p:spPr>
              <a:xfrm>
                <a:off x="4032360" y="5783400"/>
                <a:ext cx="3510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5" name="Object 15" descr=""/>
          <p:cNvPicPr/>
          <p:nvPr/>
        </p:nvPicPr>
        <p:blipFill>
          <a:blip r:embed="rId2"/>
          <a:stretch/>
        </p:blipFill>
        <p:spPr>
          <a:xfrm>
            <a:off x="8023320" y="5937120"/>
            <a:ext cx="822240" cy="341280"/>
          </a:xfrm>
          <a:prstGeom prst="rect">
            <a:avLst/>
          </a:prstGeom>
          <a:ln w="0">
            <a:noFill/>
          </a:ln>
        </p:spPr>
      </p:pic>
      <p:sp>
        <p:nvSpPr>
          <p:cNvPr id="606" name="Přímá spojovací čára 35"/>
          <p:cNvSpPr/>
          <p:nvPr/>
        </p:nvSpPr>
        <p:spPr>
          <a:xfrm>
            <a:off x="3941640" y="5072040"/>
            <a:ext cx="1170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římá spojovací čára 36"/>
          <p:cNvSpPr/>
          <p:nvPr/>
        </p:nvSpPr>
        <p:spPr>
          <a:xfrm>
            <a:off x="3943440" y="5116680"/>
            <a:ext cx="11682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481720" y="3753000"/>
                <a:ext cx="664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12"/>
              <p:cNvSpPr txBox="1"/>
              <p:nvPr/>
            </p:nvSpPr>
            <p:spPr>
              <a:xfrm>
                <a:off x="7753320" y="2522520"/>
                <a:ext cx="900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6"/>
              <p:cNvSpPr txBox="1"/>
              <p:nvPr/>
            </p:nvSpPr>
            <p:spPr>
              <a:xfrm>
                <a:off x="2411280" y="728640"/>
                <a:ext cx="35100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5"/>
              <p:cNvSpPr txBox="1"/>
              <p:nvPr/>
            </p:nvSpPr>
            <p:spPr>
              <a:xfrm>
                <a:off x="341280" y="2344680"/>
                <a:ext cx="5943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5"/>
              <p:cNvSpPr txBox="1"/>
              <p:nvPr/>
            </p:nvSpPr>
            <p:spPr>
              <a:xfrm>
                <a:off x="1643040" y="3008160"/>
                <a:ext cx="44751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5"/>
              <p:cNvSpPr txBox="1"/>
              <p:nvPr/>
            </p:nvSpPr>
            <p:spPr>
              <a:xfrm>
                <a:off x="1568520" y="3332160"/>
                <a:ext cx="4759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3281400" y="3738600"/>
                <a:ext cx="2025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481720" y="4097160"/>
                <a:ext cx="664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5"/>
              <p:cNvSpPr txBox="1"/>
              <p:nvPr/>
            </p:nvSpPr>
            <p:spPr>
              <a:xfrm>
                <a:off x="3824280" y="4083120"/>
                <a:ext cx="16192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5"/>
              <p:cNvSpPr txBox="1"/>
              <p:nvPr/>
            </p:nvSpPr>
            <p:spPr>
              <a:xfrm>
                <a:off x="3821040" y="4429080"/>
                <a:ext cx="1095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5472000" y="4457880"/>
                <a:ext cx="4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3976560" y="4748040"/>
                <a:ext cx="1167120" cy="3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1403280" y="186912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ny uveřejněné odkazy [cit. 2010-05-07]. Dostupné pod licencí Public domain na WWW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lker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clipart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-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blackboard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20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1332000" y="119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užité obráz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476280" y="425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násob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3680" y="542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děl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31640" y="1211400"/>
            <a:ext cx="834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Můžeme zaměnit levou a pravou stranu rovnice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31640" y="317664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d obou stran rovnice můžeme ode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43164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60440" y="380700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600" spc="-1" strike="noStrike">
                <a:solidFill>
                  <a:srgbClr val="284c6a"/>
                </a:solidFill>
                <a:latin typeface="Arial"/>
                <a:ea typeface="Arial"/>
              </a:rPr>
              <a:t>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31640" y="16653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31640" y="209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K oběma stranám rovnice můžeme při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446040" y="27417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31640" y="4976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Základní postup při řešen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76280" y="387036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leny s neznámou převeď na jednu stranu, ostatní členy na stranu druh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3680" y="473400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ypočítej neznám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31640" y="1106640"/>
            <a:ext cx="834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sou-li v rovnici závorky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zbav se jich (výpočtem, roznásobení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431640" y="2879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Když můžeš jednotlivé strany rovnice zjednodušit, zjednoduš je (sečti, odečti, vynásob či vyděl, co se dá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3164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60440" y="342108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431640" y="15447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31640" y="190332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sou-li v rovnici zlomky, odstraň je (vynásob rovnici společným jmenovatel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31640" y="2484360"/>
            <a:ext cx="831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růběž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431640" y="4419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3680" y="542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Urči podmínky řešitelnosti a proveď zkouš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431640" y="5111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 nyní už tedy jdeme na řešení lineárních rovnic s neznámou ve jmenovateli. Poznáš, čím se liší od těch, které jsme do dneška řeši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951280" y="2979720"/>
            <a:ext cx="2744640" cy="1260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789440" y="1528920"/>
            <a:ext cx="2986200" cy="1135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921280" y="4194000"/>
            <a:ext cx="2438640" cy="1244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062000" y="4373640"/>
            <a:ext cx="3008520" cy="13320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5" descr=""/>
          <p:cNvPicPr/>
          <p:nvPr/>
        </p:nvPicPr>
        <p:blipFill>
          <a:blip r:embed="rId6"/>
          <a:stretch/>
        </p:blipFill>
        <p:spPr>
          <a:xfrm>
            <a:off x="816120" y="1898640"/>
            <a:ext cx="121896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 nyní už tedy jdeme na řešení lineárních rovnic s neznámou ve jmenovateli. Poznáš, čím se liší od těch, které jsme do dneška řeši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ject 1" descr=""/>
          <p:cNvPicPr/>
          <p:nvPr/>
        </p:nvPicPr>
        <p:blipFill>
          <a:blip r:embed="rId2"/>
          <a:stretch/>
        </p:blipFill>
        <p:spPr>
          <a:xfrm>
            <a:off x="2951280" y="2979720"/>
            <a:ext cx="2744640" cy="1260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3" descr=""/>
          <p:cNvPicPr/>
          <p:nvPr/>
        </p:nvPicPr>
        <p:blipFill>
          <a:blip r:embed="rId3"/>
          <a:stretch/>
        </p:blipFill>
        <p:spPr>
          <a:xfrm>
            <a:off x="4789440" y="1528920"/>
            <a:ext cx="2986200" cy="1135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ject 5" descr=""/>
          <p:cNvPicPr/>
          <p:nvPr/>
        </p:nvPicPr>
        <p:blipFill>
          <a:blip r:embed="rId4"/>
          <a:stretch/>
        </p:blipFill>
        <p:spPr>
          <a:xfrm>
            <a:off x="5921280" y="4194000"/>
            <a:ext cx="2438640" cy="1244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ject 7" descr=""/>
          <p:cNvPicPr/>
          <p:nvPr/>
        </p:nvPicPr>
        <p:blipFill>
          <a:blip r:embed="rId5"/>
          <a:stretch/>
        </p:blipFill>
        <p:spPr>
          <a:xfrm>
            <a:off x="1062000" y="4373640"/>
            <a:ext cx="3008520" cy="133200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6"/>
          <a:stretch/>
        </p:blipFill>
        <p:spPr>
          <a:xfrm>
            <a:off x="816120" y="1898640"/>
            <a:ext cx="1218960" cy="1244520"/>
          </a:xfrm>
          <a:prstGeom prst="rect">
            <a:avLst/>
          </a:prstGeom>
          <a:ln w="0">
            <a:noFill/>
          </a:ln>
        </p:spPr>
      </p:pic>
      <p:sp>
        <p:nvSpPr>
          <p:cNvPr id="145" name="Mrak 12"/>
          <p:cNvSpPr/>
          <p:nvPr/>
        </p:nvSpPr>
        <p:spPr>
          <a:xfrm>
            <a:off x="1150920" y="1494000"/>
            <a:ext cx="6886440" cy="4410000"/>
          </a:xfrm>
          <a:prstGeom prst="pie">
            <a:avLst/>
          </a:prstGeom>
          <a:solidFill>
            <a:srgbClr val="ffff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známá se vyskytuje ve členech vyjádřených zlomk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ve jmenovateli těchto zlomk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Na jednom příkladu zopakujeme, co už víme. Co to 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9"/>
          <p:cNvSpPr/>
          <p:nvPr/>
        </p:nvSpPr>
        <p:spPr>
          <a:xfrm>
            <a:off x="1736640" y="2124000"/>
            <a:ext cx="7021440" cy="3554640"/>
          </a:xfrm>
          <a:prstGeom prst="cloudCallout">
            <a:avLst>
              <a:gd name="adj1" fmla="val 23884"/>
              <a:gd name="adj2" fmla="val -909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ákladem při řešení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neznámou ve jmenovateli je rozklad všech jmenovatelů vyskytujících se v rovnici na součin pomocí dvou nám již známých možností. Buď vytýkáním před závorku nebo rozkladem pomocí rozkladných vzorc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6280" y="2664000"/>
            <a:ext cx="4635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nám umožní snáze nalézt společného jmenovatele, kterým následně celou rovnici vynásobíme, abychom se zbavili lomených výrazů (zlomk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 jdeme na to. Vypočítej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římá spojovací čára 12"/>
          <p:cNvSpPr/>
          <p:nvPr/>
        </p:nvSpPr>
        <p:spPr>
          <a:xfrm>
            <a:off x="542880" y="158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751280" y="758880"/>
                <a:ext cx="32259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Rectangle 12"/>
          <p:cNvSpPr/>
          <p:nvPr/>
        </p:nvSpPr>
        <p:spPr>
          <a:xfrm>
            <a:off x="5251320" y="188424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6"/>
          <p:cNvSpPr/>
          <p:nvPr/>
        </p:nvSpPr>
        <p:spPr>
          <a:xfrm flipV="1">
            <a:off x="2232000" y="2126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8"/>
          <p:cNvSpPr/>
          <p:nvPr/>
        </p:nvSpPr>
        <p:spPr>
          <a:xfrm flipV="1">
            <a:off x="3328920" y="2124000"/>
            <a:ext cx="270000" cy="3463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6031080" y="18842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6330960" y="18842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2"/>
          <p:cNvSpPr/>
          <p:nvPr/>
        </p:nvSpPr>
        <p:spPr>
          <a:xfrm flipV="1">
            <a:off x="611280" y="213804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 flipV="1">
            <a:off x="1241280" y="2139840"/>
            <a:ext cx="270000" cy="34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11280" y="1662120"/>
                <a:ext cx="419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Rectangle 12"/>
          <p:cNvSpPr/>
          <p:nvPr/>
        </p:nvSpPr>
        <p:spPr>
          <a:xfrm>
            <a:off x="5816520" y="1884240"/>
            <a:ext cx="6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8"/>
          <p:cNvSpPr/>
          <p:nvPr/>
        </p:nvSpPr>
        <p:spPr>
          <a:xfrm flipV="1">
            <a:off x="2546280" y="212400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8"/>
          <p:cNvSpPr/>
          <p:nvPr/>
        </p:nvSpPr>
        <p:spPr>
          <a:xfrm flipV="1">
            <a:off x="3668760" y="212400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3"/>
          <p:cNvSpPr/>
          <p:nvPr/>
        </p:nvSpPr>
        <p:spPr>
          <a:xfrm flipV="1">
            <a:off x="2862360" y="213804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5"/>
          <p:cNvSpPr/>
          <p:nvPr/>
        </p:nvSpPr>
        <p:spPr>
          <a:xfrm flipV="1">
            <a:off x="1557360" y="2138040"/>
            <a:ext cx="27000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7"/>
          <p:cNvSpPr/>
          <p:nvPr/>
        </p:nvSpPr>
        <p:spPr>
          <a:xfrm flipV="1">
            <a:off x="4495680" y="2138040"/>
            <a:ext cx="27000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0"/>
          <p:cNvSpPr/>
          <p:nvPr/>
        </p:nvSpPr>
        <p:spPr>
          <a:xfrm flipV="1">
            <a:off x="4000680" y="2124000"/>
            <a:ext cx="269640" cy="3463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778800" y="1871640"/>
            <a:ext cx="1303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39720" y="2665440"/>
                <a:ext cx="6291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 jdeme na to. Vypočítej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římá spojovací čára 12"/>
          <p:cNvSpPr/>
          <p:nvPr/>
        </p:nvSpPr>
        <p:spPr>
          <a:xfrm>
            <a:off x="542880" y="158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751280" y="758880"/>
                <a:ext cx="32259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Rectangle 12"/>
          <p:cNvSpPr/>
          <p:nvPr/>
        </p:nvSpPr>
        <p:spPr>
          <a:xfrm>
            <a:off x="5251320" y="188424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6"/>
          <p:cNvSpPr/>
          <p:nvPr/>
        </p:nvSpPr>
        <p:spPr>
          <a:xfrm flipV="1">
            <a:off x="2232000" y="2126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8"/>
          <p:cNvSpPr/>
          <p:nvPr/>
        </p:nvSpPr>
        <p:spPr>
          <a:xfrm flipV="1">
            <a:off x="3328920" y="2124000"/>
            <a:ext cx="270000" cy="3463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6031080" y="18842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330960" y="188424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2"/>
          <p:cNvSpPr/>
          <p:nvPr/>
        </p:nvSpPr>
        <p:spPr>
          <a:xfrm flipV="1">
            <a:off x="611280" y="213804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 flipV="1">
            <a:off x="1241280" y="2139840"/>
            <a:ext cx="270000" cy="34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11280" y="1662120"/>
                <a:ext cx="419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Rectangle 12"/>
          <p:cNvSpPr/>
          <p:nvPr/>
        </p:nvSpPr>
        <p:spPr>
          <a:xfrm>
            <a:off x="5816520" y="1884240"/>
            <a:ext cx="614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 flipV="1">
            <a:off x="2546280" y="212400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 flipV="1">
            <a:off x="3668760" y="212400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3"/>
          <p:cNvSpPr/>
          <p:nvPr/>
        </p:nvSpPr>
        <p:spPr>
          <a:xfrm flipV="1">
            <a:off x="2862360" y="213804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 flipV="1">
            <a:off x="1557360" y="2138040"/>
            <a:ext cx="27000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4495680" y="2138040"/>
            <a:ext cx="27000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0"/>
          <p:cNvSpPr/>
          <p:nvPr/>
        </p:nvSpPr>
        <p:spPr>
          <a:xfrm flipV="1">
            <a:off x="4000680" y="2124000"/>
            <a:ext cx="269640" cy="3463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6778800" y="1871640"/>
            <a:ext cx="1303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39720" y="2665440"/>
                <a:ext cx="6291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Line 35"/>
          <p:cNvSpPr/>
          <p:nvPr/>
        </p:nvSpPr>
        <p:spPr>
          <a:xfrm flipV="1">
            <a:off x="657360" y="312876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5"/>
          <p:cNvSpPr/>
          <p:nvPr/>
        </p:nvSpPr>
        <p:spPr>
          <a:xfrm flipV="1">
            <a:off x="1044720" y="287460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2619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 flipV="1">
            <a:off x="1962000" y="312876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5"/>
          <p:cNvSpPr/>
          <p:nvPr/>
        </p:nvSpPr>
        <p:spPr>
          <a:xfrm flipV="1">
            <a:off x="2739960" y="287460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81280" y="261936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5"/>
          <p:cNvSpPr/>
          <p:nvPr/>
        </p:nvSpPr>
        <p:spPr>
          <a:xfrm flipV="1">
            <a:off x="3581280" y="312876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5"/>
          <p:cNvSpPr/>
          <p:nvPr/>
        </p:nvSpPr>
        <p:spPr>
          <a:xfrm flipV="1">
            <a:off x="4014720" y="2874600"/>
            <a:ext cx="27000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 flipV="1">
            <a:off x="4737240" y="312876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 flipV="1">
            <a:off x="5288040" y="2874600"/>
            <a:ext cx="269640" cy="34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29360" y="2619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 flipV="1">
            <a:off x="6026040" y="3128760"/>
            <a:ext cx="27000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5"/>
          <p:cNvSpPr/>
          <p:nvPr/>
        </p:nvSpPr>
        <p:spPr>
          <a:xfrm flipV="1">
            <a:off x="6688080" y="2874600"/>
            <a:ext cx="27000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 flipV="1">
            <a:off x="2141640" y="3143160"/>
            <a:ext cx="26964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5"/>
          <p:cNvSpPr/>
          <p:nvPr/>
        </p:nvSpPr>
        <p:spPr>
          <a:xfrm flipV="1">
            <a:off x="2997360" y="2889000"/>
            <a:ext cx="26964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5"/>
          <p:cNvSpPr/>
          <p:nvPr/>
        </p:nvSpPr>
        <p:spPr>
          <a:xfrm flipV="1">
            <a:off x="4917960" y="3143160"/>
            <a:ext cx="270000" cy="346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5"/>
          <p:cNvSpPr/>
          <p:nvPr/>
        </p:nvSpPr>
        <p:spPr>
          <a:xfrm flipV="1">
            <a:off x="5562720" y="2889000"/>
            <a:ext cx="269640" cy="345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Autorem materiálu a všech jeho částí, není-li uvedeno jinak, je Mgr. Radomír Macháň.
Dostupné z Metodického portálu www.rvp.cz, ISSN: 1802-4785, financovaného z ESF a státního rozpočtu ČR. Provozováno Výzkumným ústavem pedagogickým v Praze.
</dc:description>
  <dc:language>en-US</dc:language>
  <cp:lastModifiedBy>Hlavata</cp:lastModifiedBy>
  <dcterms:modified xsi:type="dcterms:W3CDTF">2011-06-30T10:26:08Z</dcterms:modified>
  <cp:revision>364</cp:revision>
  <dc:subject/>
  <dc:title>Lineární rovnice</dc:title>
</cp:coreProperties>
</file>