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E343-4DC4-4B1B-B42A-B11F50D3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3E5-29D4-4FBB-BD15-D3D3BC60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EC69-AA07-4DA2-A00E-23E075C9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0315-3800-4597-8499-AEA27403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6D5F-5B3A-45B4-B9B6-06DED4E6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80DC-21E2-4575-AB26-F7A512C7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C0CB-1230-4B5E-B6E0-38A4286C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5D93-BE25-4436-BD14-D073BE94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80D6-6020-4EF5-ABA4-FC593FE0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A5C4-BD43-4574-BC11-1905B9BC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AABA-24E9-4495-87DF-C10F976D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C49-34BD-4BC9-A03C-69E9E112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163F-58FE-467E-9C8F-B5A3747B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9DD5-C849-46E2-8F78-ABDDC74B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B3F2-0015-4AD3-9EB9-3F31C227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0EA9-A88E-4F0D-8B51-44C17366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CE7B-04B0-417C-88E5-660484E5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DC6-39CE-4FCB-AB21-95F2B05E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A82C-52CD-4F5A-804F-8C8511CA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388-E806-4170-9689-DF33E023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C6DC-E4DE-461D-AF5D-3F772F2D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473-FFBD-4B28-8808-516F77D8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035F-385C-46F1-AFC2-DCB9CF00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C6B-93D4-46FB-83C7-D942CFBF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1BA5-EBB2-489A-9D22-66B79E01A34B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E3C6-250A-4DA9-AD37-29BF50589253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284c6a"/>
                </a:solidFill>
                <a:latin typeface="Trebuchet MS"/>
              </a:rPr>
              <a:t>Procenta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Výpočet základ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971640" y="119556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o dvaceti procentním zdražení stojí bunda 1200,- Kč. Kolik stála před zdražení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971640" y="184464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042920" y="443700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ůvodní (základní) cena bundy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755640" y="2809800"/>
            <a:ext cx="2952720" cy="1513080"/>
          </a:xfrm>
          <a:prstGeom prst="cloudCallout">
            <a:avLst>
              <a:gd name="adj1" fmla="val 72203"/>
              <a:gd name="adj2" fmla="val -117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Kolika procentům odpovídá cena 1200,- Kč po zdraže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5219640" y="2565360"/>
            <a:ext cx="3097440" cy="1655640"/>
          </a:xfrm>
          <a:prstGeom prst="cloudCallout">
            <a:avLst>
              <a:gd name="adj1" fmla="val -62148"/>
              <a:gd name="adj2" fmla="val -9582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Kolika procentům odpovídala původní cena bundy, tedy cena „základní“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1114560" y="4869000"/>
            <a:ext cx="705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ena bundy po 20-ti % zdražení … 100 % + 20 % = 1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1116000" y="530064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ena po zdražení, tj. 1200,- Kč … 120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1116000" y="573264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ůvodní cena bundy, tj.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… 100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971640" y="119556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o dvaceti procentním zdražení stojí bunda 1200,- Kč. Kolik stála před zdražení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"/>
          <p:cNvSpPr/>
          <p:nvPr/>
        </p:nvSpPr>
        <p:spPr>
          <a:xfrm>
            <a:off x="971640" y="184464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971640" y="2058840"/>
            <a:ext cx="727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20 % ………………………….. 1200,-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971640" y="270684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00 % …………………………………… x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971640" y="341460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1042920" y="443700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ůvodní (základní) cena bundy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1114560" y="4869000"/>
            <a:ext cx="705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ena bundy po 20-ti % zdražení … 100 % + 20 % = 1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1116000" y="530064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ena po zdražení, tj. 1200,- Kč … 1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1116000" y="573264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ůvodní cena bundy, tj.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4500720" y="5214960"/>
            <a:ext cx="2808000" cy="10810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4"/>
          <p:cNvSpPr/>
          <p:nvPr/>
        </p:nvSpPr>
        <p:spPr>
          <a:xfrm>
            <a:off x="179280" y="3716280"/>
            <a:ext cx="2808360" cy="1368360"/>
          </a:xfrm>
          <a:prstGeom prst="cloudCallout">
            <a:avLst>
              <a:gd name="adj1" fmla="val 21055"/>
              <a:gd name="adj2" fmla="val -851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Ve stejném poměru, v jakém je zmenšen počet procent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3060720" y="3860640"/>
            <a:ext cx="194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1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4643280" y="3773520"/>
            <a:ext cx="50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4944960" y="3701880"/>
            <a:ext cx="108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8"/>
          <p:cNvSpPr/>
          <p:nvPr/>
        </p:nvSpPr>
        <p:spPr>
          <a:xfrm>
            <a:off x="4930920" y="417672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"/>
          <p:cNvSpPr/>
          <p:nvPr/>
        </p:nvSpPr>
        <p:spPr>
          <a:xfrm>
            <a:off x="3130560" y="4653000"/>
            <a:ext cx="352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12000 :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3362400" y="5229360"/>
            <a:ext cx="273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1000,-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1906560" y="5734080"/>
            <a:ext cx="59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Bunda stála původně 1000,- K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2"/>
          <p:cNvSpPr/>
          <p:nvPr/>
        </p:nvSpPr>
        <p:spPr>
          <a:xfrm>
            <a:off x="4917960" y="360216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3"/>
          <p:cNvSpPr/>
          <p:nvPr/>
        </p:nvSpPr>
        <p:spPr>
          <a:xfrm>
            <a:off x="6156360" y="3645000"/>
            <a:ext cx="2736720" cy="1081080"/>
          </a:xfrm>
          <a:prstGeom prst="cloudCallout">
            <a:avLst>
              <a:gd name="adj1" fmla="val -22851"/>
              <a:gd name="adj2" fmla="val -850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bude zmenšena i cena bun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4"/>
          <p:cNvSpPr/>
          <p:nvPr/>
        </p:nvSpPr>
        <p:spPr>
          <a:xfrm>
            <a:off x="1332000" y="4956120"/>
            <a:ext cx="4479840" cy="1773360"/>
          </a:xfrm>
          <a:prstGeom prst="cloudCallout">
            <a:avLst>
              <a:gd name="adj1" fmla="val 15166"/>
              <a:gd name="adj2" fmla="val -85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Číslo v daném poměru zmenšujeme tak, že je násobíme poměrem zapsaným do zlomku menšího než jedna (tj. čitatel je menší než jmenovat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25"/>
          <p:cNvSpPr/>
          <p:nvPr/>
        </p:nvSpPr>
        <p:spPr>
          <a:xfrm>
            <a:off x="1547640" y="1903320"/>
            <a:ext cx="1440000" cy="1440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6"/>
          <p:cNvSpPr/>
          <p:nvPr/>
        </p:nvSpPr>
        <p:spPr>
          <a:xfrm>
            <a:off x="4657680" y="3371760"/>
            <a:ext cx="1440000" cy="1440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7"/>
          <p:cNvSpPr/>
          <p:nvPr/>
        </p:nvSpPr>
        <p:spPr>
          <a:xfrm flipV="1">
            <a:off x="5464080" y="3658680"/>
            <a:ext cx="14292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8"/>
          <p:cNvSpPr/>
          <p:nvPr/>
        </p:nvSpPr>
        <p:spPr>
          <a:xfrm flipV="1">
            <a:off x="5478480" y="4235040"/>
            <a:ext cx="14292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Základní úd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971640" y="1268280"/>
            <a:ext cx="727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odstatou příkladů s procenty je vždy práce se čtyřmi základními hodnotami dvou zadaných či počítaných veličin, z nichž jednou jsou procenta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971640" y="566100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olik žáků je celkem ve třídě, jestliže 7 dojíždějících žáků činí 25 % všech žáků tříd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/>
          <p:cNvSpPr/>
          <p:nvPr/>
        </p:nvSpPr>
        <p:spPr>
          <a:xfrm>
            <a:off x="0" y="3284640"/>
            <a:ext cx="2376360" cy="1584360"/>
          </a:xfrm>
          <a:prstGeom prst="cloudCallout">
            <a:avLst>
              <a:gd name="adj1" fmla="val 70439"/>
              <a:gd name="adj2" fmla="val 95791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Celkové množství, tj. 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základ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7"/>
          <p:cNvSpPr/>
          <p:nvPr/>
        </p:nvSpPr>
        <p:spPr>
          <a:xfrm>
            <a:off x="2050920" y="2349360"/>
            <a:ext cx="2448000" cy="1225800"/>
          </a:xfrm>
          <a:prstGeom prst="cloudCallout">
            <a:avLst>
              <a:gd name="adj1" fmla="val -15305"/>
              <a:gd name="adj2" fmla="val 21373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Základ je vždy 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100 %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8"/>
          <p:cNvSpPr/>
          <p:nvPr/>
        </p:nvSpPr>
        <p:spPr>
          <a:xfrm>
            <a:off x="3708360" y="3357720"/>
            <a:ext cx="2376360" cy="1584000"/>
          </a:xfrm>
          <a:prstGeom prst="cloudCallout">
            <a:avLst>
              <a:gd name="adj1" fmla="val -46861"/>
              <a:gd name="adj2" fmla="val 1099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Část celku, vyjádřená 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počtem procent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9"/>
          <p:cNvSpPr/>
          <p:nvPr/>
        </p:nvSpPr>
        <p:spPr>
          <a:xfrm>
            <a:off x="6012000" y="1989000"/>
            <a:ext cx="2916000" cy="2378160"/>
          </a:xfrm>
          <a:prstGeom prst="cloudCallout">
            <a:avLst>
              <a:gd name="adj1" fmla="val -57564"/>
              <a:gd name="adj2" fmla="val 98398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Část celku odpovídající danému počtu procent, tzv. 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procentová část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3"/>
          <p:cNvSpPr/>
          <p:nvPr/>
        </p:nvSpPr>
        <p:spPr>
          <a:xfrm>
            <a:off x="6156360" y="4869000"/>
            <a:ext cx="1441440" cy="14414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1519200" y="4867200"/>
            <a:ext cx="1441440" cy="144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Zápis příklad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971640" y="4363920"/>
            <a:ext cx="727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olik žáků je celkem ve třídě, jestliže 7 dojíždějících žáků činí 25 % všech žáků tříd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08000" y="1989000"/>
            <a:ext cx="2376360" cy="1584360"/>
          </a:xfrm>
          <a:prstGeom prst="cloudCallout">
            <a:avLst>
              <a:gd name="adj1" fmla="val 63625"/>
              <a:gd name="adj2" fmla="val 94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Počáteční, celkové množství, tj. 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základ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2050920" y="1052640"/>
            <a:ext cx="2448000" cy="1225440"/>
          </a:xfrm>
          <a:prstGeom prst="cloudCallout">
            <a:avLst>
              <a:gd name="adj1" fmla="val -17120"/>
              <a:gd name="adj2" fmla="val 2113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Základ je vždy 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100 %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3708360" y="2060640"/>
            <a:ext cx="2376360" cy="1584360"/>
          </a:xfrm>
          <a:prstGeom prst="cloudCallout">
            <a:avLst>
              <a:gd name="adj1" fmla="val -45592"/>
              <a:gd name="adj2" fmla="val 1109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Část celku, vyjádřená 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počtem procent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6084720" y="620640"/>
            <a:ext cx="2843280" cy="2449440"/>
          </a:xfrm>
          <a:prstGeom prst="cloudCallout">
            <a:avLst>
              <a:gd name="adj1" fmla="val -60384"/>
              <a:gd name="adj2" fmla="val 97504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ást celku odpovídající danému počtu procent, tzv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centová část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>
            <a:off x="971640" y="501336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1073160" y="5170320"/>
            <a:ext cx="727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25 % ……………………..………… 7 žá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971640" y="560232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00 % ………………………………… x žá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0"/>
          <p:cNvSpPr/>
          <p:nvPr/>
        </p:nvSpPr>
        <p:spPr>
          <a:xfrm>
            <a:off x="1258920" y="3284640"/>
            <a:ext cx="5041800" cy="2449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1"/>
          <p:cNvSpPr/>
          <p:nvPr/>
        </p:nvSpPr>
        <p:spPr>
          <a:xfrm flipH="1">
            <a:off x="1835280" y="1944720"/>
            <a:ext cx="1195200" cy="3716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2"/>
          <p:cNvSpPr/>
          <p:nvPr/>
        </p:nvSpPr>
        <p:spPr>
          <a:xfrm flipH="1">
            <a:off x="2195280" y="3371760"/>
            <a:ext cx="2592360" cy="1857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3"/>
          <p:cNvSpPr/>
          <p:nvPr/>
        </p:nvSpPr>
        <p:spPr>
          <a:xfrm flipH="1">
            <a:off x="6516720" y="2795760"/>
            <a:ext cx="892080" cy="2361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2"/>
          <p:cNvSpPr/>
          <p:nvPr/>
        </p:nvSpPr>
        <p:spPr>
          <a:xfrm>
            <a:off x="108000" y="5300640"/>
            <a:ext cx="3600360" cy="1513080"/>
          </a:xfrm>
          <a:prstGeom prst="cloudCallout">
            <a:avLst>
              <a:gd name="adj1" fmla="val 11902"/>
              <a:gd name="adj2" fmla="val -96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Jak určíme 100 % všech žáků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5"/>
          <p:cNvSpPr/>
          <p:nvPr/>
        </p:nvSpPr>
        <p:spPr>
          <a:xfrm>
            <a:off x="108000" y="5300640"/>
            <a:ext cx="3600360" cy="1513080"/>
          </a:xfrm>
          <a:prstGeom prst="cloudCallout">
            <a:avLst>
              <a:gd name="adj1" fmla="val 11902"/>
              <a:gd name="adj2" fmla="val -96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100 % je 100x více než jedno procento, které známe. Jak tedy určíme 100 %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8"/>
          <p:cNvSpPr/>
          <p:nvPr/>
        </p:nvSpPr>
        <p:spPr>
          <a:xfrm>
            <a:off x="108000" y="5300640"/>
            <a:ext cx="3600360" cy="1513080"/>
          </a:xfrm>
          <a:prstGeom prst="cloudCallout">
            <a:avLst>
              <a:gd name="adj1" fmla="val 11902"/>
              <a:gd name="adj2" fmla="val -96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Násobením 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ostup výpočtu č. 1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– přes jedno proc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971640" y="119556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olik žáků je celkem ve třídě, jestliže 7 dojíždějících žáků činí 25 % všech žáků tříd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971640" y="184464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1071720" y="200196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25 % ……………………………….. 7 žá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971640" y="243360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00 % ………………………………… x žá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971640" y="301140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1892160" y="3068640"/>
            <a:ext cx="5905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25 % …………. 7 žá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1677960" y="3573360"/>
            <a:ext cx="5905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 % …………. 7 : 25 = 0,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1287360" y="4091040"/>
            <a:ext cx="59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00 % ………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6"/>
          <p:cNvSpPr/>
          <p:nvPr/>
        </p:nvSpPr>
        <p:spPr>
          <a:xfrm>
            <a:off x="1289160" y="4091040"/>
            <a:ext cx="59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00 % …………. 0,28 .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9"/>
          <p:cNvSpPr/>
          <p:nvPr/>
        </p:nvSpPr>
        <p:spPr>
          <a:xfrm>
            <a:off x="1285920" y="4091040"/>
            <a:ext cx="68295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00 % …………. 0,28 . 100 = 28 žá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0"/>
          <p:cNvSpPr/>
          <p:nvPr/>
        </p:nvSpPr>
        <p:spPr>
          <a:xfrm>
            <a:off x="1692360" y="4653000"/>
            <a:ext cx="59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Ve třídě je celkem 28 žák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1"/>
          <p:cNvSpPr/>
          <p:nvPr/>
        </p:nvSpPr>
        <p:spPr>
          <a:xfrm>
            <a:off x="5364000" y="5373720"/>
            <a:ext cx="3456000" cy="1224000"/>
          </a:xfrm>
          <a:prstGeom prst="cloudCallout">
            <a:avLst>
              <a:gd name="adj1" fmla="val -75356"/>
              <a:gd name="adj2" fmla="val -1011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Čím příklad ukončí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2"/>
          <p:cNvSpPr/>
          <p:nvPr/>
        </p:nvSpPr>
        <p:spPr>
          <a:xfrm>
            <a:off x="5364000" y="5373720"/>
            <a:ext cx="3456000" cy="1224000"/>
          </a:xfrm>
          <a:prstGeom prst="cloudCallout">
            <a:avLst>
              <a:gd name="adj1" fmla="val -75356"/>
              <a:gd name="adj2" fmla="val -1011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Odpovědí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6"/>
          <p:cNvSpPr/>
          <p:nvPr/>
        </p:nvSpPr>
        <p:spPr>
          <a:xfrm>
            <a:off x="1908000" y="4941720"/>
            <a:ext cx="2953080" cy="1513080"/>
          </a:xfrm>
          <a:prstGeom prst="cloudCallout">
            <a:avLst>
              <a:gd name="adj1" fmla="val 29837"/>
              <a:gd name="adj2" fmla="val -8787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7 tedy zvětší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v poměru 4: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2"/>
          <p:cNvSpPr/>
          <p:nvPr/>
        </p:nvSpPr>
        <p:spPr>
          <a:xfrm>
            <a:off x="1258920" y="4941720"/>
            <a:ext cx="3960720" cy="1656000"/>
          </a:xfrm>
          <a:prstGeom prst="cloudCallout">
            <a:avLst>
              <a:gd name="adj1" fmla="val 25912"/>
              <a:gd name="adj2" fmla="val -846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Číslo se zvětšuje tak, že se vynásobí poměrem zapsaným do zlomku většího než jedna (čitatel větší než jmenovate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ostup výpočtu č. 2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– pomocí trojčlen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119556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olik žáků je celkem ve třídě, jestliže 7 dojíždějících žáků činí 25 % všech žáků tříd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971640" y="184464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971640" y="2058840"/>
            <a:ext cx="727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25 % ……………………..………… 7 žá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71640" y="270684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00 % ………………………………… x žá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971640" y="341460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3635280" y="3860640"/>
            <a:ext cx="194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1639800" y="1905120"/>
            <a:ext cx="1276560" cy="1438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2"/>
          <p:cNvSpPr/>
          <p:nvPr/>
        </p:nvSpPr>
        <p:spPr>
          <a:xfrm>
            <a:off x="5940360" y="1916280"/>
            <a:ext cx="1749600" cy="1438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3"/>
          <p:cNvSpPr/>
          <p:nvPr/>
        </p:nvSpPr>
        <p:spPr>
          <a:xfrm>
            <a:off x="5796000" y="4437000"/>
            <a:ext cx="2952720" cy="1513080"/>
          </a:xfrm>
          <a:prstGeom prst="cloudCallout">
            <a:avLst>
              <a:gd name="adj1" fmla="val -9245"/>
              <a:gd name="adj2" fmla="val -1194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Počet žáků se mění ve stejném poměru jako počet proc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4"/>
          <p:cNvSpPr/>
          <p:nvPr/>
        </p:nvSpPr>
        <p:spPr>
          <a:xfrm>
            <a:off x="395280" y="4365720"/>
            <a:ext cx="2952720" cy="1512720"/>
          </a:xfrm>
          <a:prstGeom prst="cloudCallout">
            <a:avLst>
              <a:gd name="adj1" fmla="val 7902"/>
              <a:gd name="adj2" fmla="val -113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V jakém poměru se mění počet proc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5"/>
          <p:cNvSpPr/>
          <p:nvPr/>
        </p:nvSpPr>
        <p:spPr>
          <a:xfrm>
            <a:off x="395280" y="4365720"/>
            <a:ext cx="2952720" cy="1512720"/>
          </a:xfrm>
          <a:prstGeom prst="cloudCallout">
            <a:avLst>
              <a:gd name="adj1" fmla="val 7365"/>
              <a:gd name="adj2" fmla="val -113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rebuchet MS"/>
              </a:rPr>
              <a:t>100:25, tj. 4: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7"/>
          <p:cNvSpPr/>
          <p:nvPr/>
        </p:nvSpPr>
        <p:spPr>
          <a:xfrm>
            <a:off x="4643280" y="3773520"/>
            <a:ext cx="50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8"/>
          <p:cNvSpPr/>
          <p:nvPr/>
        </p:nvSpPr>
        <p:spPr>
          <a:xfrm>
            <a:off x="4944960" y="3701880"/>
            <a:ext cx="108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9"/>
          <p:cNvSpPr/>
          <p:nvPr/>
        </p:nvSpPr>
        <p:spPr>
          <a:xfrm>
            <a:off x="5160960" y="360216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0"/>
          <p:cNvSpPr/>
          <p:nvPr/>
        </p:nvSpPr>
        <p:spPr>
          <a:xfrm>
            <a:off x="5146560" y="417672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3"/>
          <p:cNvSpPr/>
          <p:nvPr/>
        </p:nvSpPr>
        <p:spPr>
          <a:xfrm>
            <a:off x="3765600" y="4653000"/>
            <a:ext cx="273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7 .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4"/>
          <p:cNvSpPr/>
          <p:nvPr/>
        </p:nvSpPr>
        <p:spPr>
          <a:xfrm>
            <a:off x="3780000" y="5229360"/>
            <a:ext cx="273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28 žá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5"/>
          <p:cNvSpPr/>
          <p:nvPr/>
        </p:nvSpPr>
        <p:spPr>
          <a:xfrm>
            <a:off x="2484360" y="5734080"/>
            <a:ext cx="59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Ve třídě je celkem 28 žák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755640" y="1195560"/>
            <a:ext cx="763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 závodě je zaměstnáno 344 žen, což je 43 % všech zaměstnanců. Kolik zaměstnanců má záv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971640" y="184464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042920" y="486900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elkový (základní) počet zaměstnanců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755640" y="2852640"/>
            <a:ext cx="2952720" cy="1513080"/>
          </a:xfrm>
          <a:prstGeom prst="cloudCallout">
            <a:avLst>
              <a:gd name="adj1" fmla="val 72203"/>
              <a:gd name="adj2" fmla="val -117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Kolika procentům odpovídá 344 žen zaměstnaný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v závodě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5364000" y="2738520"/>
            <a:ext cx="2953080" cy="1800000"/>
          </a:xfrm>
          <a:prstGeom prst="cloudCallout">
            <a:avLst>
              <a:gd name="adj1" fmla="val -67634"/>
              <a:gd name="adj2" fmla="val -1000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Kolika procentům odpovídá celkový („základní“) počet všech zaměstnanců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114560" y="5300640"/>
            <a:ext cx="705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očet zaměstnaných žen, tj. 344 žen … 4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1116000" y="573264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očet všech zaměstnanců, tj.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… 100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755640" y="1195560"/>
            <a:ext cx="763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 závodě je zaměstnáno 344 žen, což je 43 % všech zaměstnanců. Kolik zaměstnanců má záv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971640" y="184464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042920" y="486900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elkový (základní) počet zaměstnanců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1114560" y="5300640"/>
            <a:ext cx="705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očet zaměstnaných žen, tj. 344 žen … 4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1116000" y="573264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očet všech zaměstnanců, tj.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… 100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5148360" y="5214960"/>
            <a:ext cx="2376360" cy="10810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971640" y="2058840"/>
            <a:ext cx="727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43 % ……………………………… 344 zaměstna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971640" y="270684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00 % ………………………………. x zaměstna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>
            <a:off x="971640" y="341460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5"/>
          <p:cNvSpPr/>
          <p:nvPr/>
        </p:nvSpPr>
        <p:spPr>
          <a:xfrm>
            <a:off x="179280" y="4149720"/>
            <a:ext cx="2808360" cy="1368360"/>
          </a:xfrm>
          <a:prstGeom prst="cloudCallout">
            <a:avLst>
              <a:gd name="adj1" fmla="val -2740"/>
              <a:gd name="adj2" fmla="val -10301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Ve stejném poměru, v jakém je zvětšen počet procent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24360" y="3789360"/>
            <a:ext cx="3168720" cy="1152360"/>
          </a:xfrm>
          <a:prstGeom prst="cloudCallout">
            <a:avLst>
              <a:gd name="adj1" fmla="val -12925"/>
              <a:gd name="adj2" fmla="val -9545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bude zvětšen 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i počet zaměstnanc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7"/>
          <p:cNvSpPr/>
          <p:nvPr/>
        </p:nvSpPr>
        <p:spPr>
          <a:xfrm>
            <a:off x="828720" y="1903320"/>
            <a:ext cx="1439640" cy="1440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3276720" y="3860640"/>
            <a:ext cx="194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3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4643280" y="3773520"/>
            <a:ext cx="50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4944960" y="3701880"/>
            <a:ext cx="108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5062680" y="417672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3203640" y="4653000"/>
            <a:ext cx="273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34400 : 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3706920" y="5229360"/>
            <a:ext cx="273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4917960" y="360216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5"/>
          <p:cNvSpPr/>
          <p:nvPr/>
        </p:nvSpPr>
        <p:spPr>
          <a:xfrm>
            <a:off x="4657680" y="3371760"/>
            <a:ext cx="1440000" cy="1440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6"/>
          <p:cNvSpPr/>
          <p:nvPr/>
        </p:nvSpPr>
        <p:spPr>
          <a:xfrm>
            <a:off x="1906560" y="5734080"/>
            <a:ext cx="59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Závod má 800 zaměstnanc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7"/>
          <p:cNvSpPr/>
          <p:nvPr/>
        </p:nvSpPr>
        <p:spPr>
          <a:xfrm>
            <a:off x="1778040" y="5013360"/>
            <a:ext cx="4479840" cy="1773360"/>
          </a:xfrm>
          <a:prstGeom prst="cloudCallout">
            <a:avLst>
              <a:gd name="adj1" fmla="val 5208"/>
              <a:gd name="adj2" fmla="val -899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Číslo v daném poměru zvětšujeme tak, že je násobíme poměrem zapsaným do zlomku většího než jedna (tj. čitatel je větší než jmenovat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971640" y="119556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olik stála původně košile, jestliže po slevě o 15 % stála 459,- Kč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971640" y="184464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1042920" y="443700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ůvodní (základní) cena košile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4"/>
          <p:cNvSpPr/>
          <p:nvPr/>
        </p:nvSpPr>
        <p:spPr>
          <a:xfrm>
            <a:off x="755640" y="2809800"/>
            <a:ext cx="2952720" cy="1513080"/>
          </a:xfrm>
          <a:prstGeom prst="cloudCallout">
            <a:avLst>
              <a:gd name="adj1" fmla="val 72203"/>
              <a:gd name="adj2" fmla="val -117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Kolika procentům odpovídá 459,- Kč po slevě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5"/>
          <p:cNvSpPr/>
          <p:nvPr/>
        </p:nvSpPr>
        <p:spPr>
          <a:xfrm>
            <a:off x="5364000" y="2708280"/>
            <a:ext cx="2953080" cy="1512720"/>
          </a:xfrm>
          <a:prstGeom prst="cloudCallout">
            <a:avLst>
              <a:gd name="adj1" fmla="val -67634"/>
              <a:gd name="adj2" fmla="val -1096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Kolika procentům odpovídá původní cena košile, tedy cena „základní“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1114560" y="4869000"/>
            <a:ext cx="705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ena košile po 15 % slevě … 100 % - 15 % = 8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1116000" y="530064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ena po slevě, tj. 459,- Kč … 85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8"/>
          <p:cNvSpPr/>
          <p:nvPr/>
        </p:nvSpPr>
        <p:spPr>
          <a:xfrm>
            <a:off x="1116000" y="573264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ůvodní cena košile, tj.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… 100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971640" y="119556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olik stála původně košile, jestliže po slevě o 15 % stála 459,- Kč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971640" y="184464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971640" y="2058840"/>
            <a:ext cx="727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85 % ………………………….. 459,-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971640" y="270684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00 % …………………………………… x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971640" y="341460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1042920" y="443700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ůvodní (základní) cena košile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1114560" y="4869000"/>
            <a:ext cx="705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ena košile po 15 % slevě … 100 % - 15 % = 8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1116000" y="530064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ena po slevě, tj. 459,- Kč … 8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1116000" y="573264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ůvodní cena košile, tj.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7"/>
          <p:cNvSpPr/>
          <p:nvPr/>
        </p:nvSpPr>
        <p:spPr>
          <a:xfrm>
            <a:off x="4500720" y="5214960"/>
            <a:ext cx="2808000" cy="10810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8"/>
          <p:cNvSpPr/>
          <p:nvPr/>
        </p:nvSpPr>
        <p:spPr>
          <a:xfrm>
            <a:off x="179280" y="3716280"/>
            <a:ext cx="2808360" cy="1368360"/>
          </a:xfrm>
          <a:prstGeom prst="cloudCallout">
            <a:avLst>
              <a:gd name="adj1" fmla="val 21055"/>
              <a:gd name="adj2" fmla="val -851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Ve stejném poměru, v jakém je zvětšen počet procent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3246480" y="3860640"/>
            <a:ext cx="194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4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0"/>
          <p:cNvSpPr/>
          <p:nvPr/>
        </p:nvSpPr>
        <p:spPr>
          <a:xfrm>
            <a:off x="4643280" y="3773520"/>
            <a:ext cx="50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1"/>
          <p:cNvSpPr/>
          <p:nvPr/>
        </p:nvSpPr>
        <p:spPr>
          <a:xfrm>
            <a:off x="4944960" y="3701880"/>
            <a:ext cx="108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2"/>
          <p:cNvSpPr/>
          <p:nvPr/>
        </p:nvSpPr>
        <p:spPr>
          <a:xfrm>
            <a:off x="5032440" y="417672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3"/>
          <p:cNvSpPr/>
          <p:nvPr/>
        </p:nvSpPr>
        <p:spPr>
          <a:xfrm>
            <a:off x="3059280" y="4653000"/>
            <a:ext cx="352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45900 : 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4"/>
          <p:cNvSpPr/>
          <p:nvPr/>
        </p:nvSpPr>
        <p:spPr>
          <a:xfrm>
            <a:off x="3362400" y="5229360"/>
            <a:ext cx="273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540,-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5"/>
          <p:cNvSpPr/>
          <p:nvPr/>
        </p:nvSpPr>
        <p:spPr>
          <a:xfrm>
            <a:off x="1906560" y="5734080"/>
            <a:ext cx="59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Košile stála původně 540,- K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6"/>
          <p:cNvSpPr/>
          <p:nvPr/>
        </p:nvSpPr>
        <p:spPr>
          <a:xfrm>
            <a:off x="4930920" y="360216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7"/>
          <p:cNvSpPr/>
          <p:nvPr/>
        </p:nvSpPr>
        <p:spPr>
          <a:xfrm>
            <a:off x="6156360" y="3645000"/>
            <a:ext cx="2736720" cy="1081080"/>
          </a:xfrm>
          <a:prstGeom prst="cloudCallout">
            <a:avLst>
              <a:gd name="adj1" fmla="val -22851"/>
              <a:gd name="adj2" fmla="val -850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bude zvětšena i cena koš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8"/>
          <p:cNvSpPr/>
          <p:nvPr/>
        </p:nvSpPr>
        <p:spPr>
          <a:xfrm>
            <a:off x="1316160" y="4970520"/>
            <a:ext cx="4479840" cy="1773360"/>
          </a:xfrm>
          <a:prstGeom prst="cloudCallout">
            <a:avLst>
              <a:gd name="adj1" fmla="val 15166"/>
              <a:gd name="adj2" fmla="val -85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Číslo v daném poměru zvětšujeme tak, že je násobíme poměrem zapsaným do zlomku většího než jedna (tj. čitatel je větší než jmenovat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9"/>
          <p:cNvSpPr/>
          <p:nvPr/>
        </p:nvSpPr>
        <p:spPr>
          <a:xfrm>
            <a:off x="1547640" y="1903320"/>
            <a:ext cx="1440000" cy="1440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30"/>
          <p:cNvSpPr/>
          <p:nvPr/>
        </p:nvSpPr>
        <p:spPr>
          <a:xfrm>
            <a:off x="4657680" y="3371760"/>
            <a:ext cx="1440000" cy="1440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5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2-14T23:26:47Z</dcterms:modified>
  <cp:revision>161</cp:revision>
  <dc:subject/>
  <dc:title>Procenta - výpočet základu</dc:title>
</cp:coreProperties>
</file>