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CCFB-E301-44AB-9384-C8FD3FD4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5603-AF3C-4031-8254-2CA363C5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9281-FFC6-482C-ADD0-A5BB6146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87A8-E85E-4685-9F55-FDDA0178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A5C3-0842-4170-98BA-A9195F6B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2894-D5DE-4C49-86E9-6782838F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0BA0-86BF-402C-AE85-3F129EE2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B3D6-CD19-4CBF-9418-5C59EC1B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B231-23AB-461A-A7CB-C5A233DF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1DE9-1FA8-4F6D-B506-6EB36507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B1C2-7A90-4EDB-B7DE-E3EED13A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CD22-1BB8-4F35-815B-6736F3AF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DA07-FF8A-47F0-90F7-680D685B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6F48-CD1E-4552-9A92-06CFBEED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8CA9-5D5F-4FE0-896A-9D853595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1EEE-BC13-40E9-9E6B-5086D3B88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0979-7A30-4DF5-A3CB-D55EEEE5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7F13-F898-45D7-A81B-ED40D591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20F4-6944-4388-A676-96D695C4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149F-8331-427A-8F22-BB34C79F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8B05-07AC-4845-8E79-8B11D373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3C9A-622C-49F2-9A02-849F0DC5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1F54-7078-44BD-85ED-A2C2246B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4D55-CF41-4F3E-B33B-2A1684CF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B690-EB86-4A32-8ECE-4EA3E9DF1ACB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7551-FBB9-4079-8D7E-ABA1D31B181A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284c6a"/>
                </a:solidFill>
                <a:latin typeface="Trebuchet MS"/>
              </a:rPr>
              <a:t>Procenta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Výpočet procentové čá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971640" y="119556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Jaká bude prodejní cena bundy, jejíž původní cena byla 300 Kč, po zdražení 20 %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971640" y="191628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1042920" y="443700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ůvodní (základní) cena bundy … 10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755640" y="3068640"/>
            <a:ext cx="2952720" cy="1512720"/>
          </a:xfrm>
          <a:prstGeom prst="cloudCallout">
            <a:avLst>
              <a:gd name="adj1" fmla="val 72203"/>
              <a:gd name="adj2" fmla="val -117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lika procentům bude odpovídat její nová prodejní cen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8"/>
          <p:cNvSpPr/>
          <p:nvPr/>
        </p:nvSpPr>
        <p:spPr>
          <a:xfrm>
            <a:off x="5219640" y="2679840"/>
            <a:ext cx="3097440" cy="1800000"/>
          </a:xfrm>
          <a:prstGeom prst="cloudCallout">
            <a:avLst>
              <a:gd name="adj1" fmla="val -62148"/>
              <a:gd name="adj2" fmla="val -841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lika procentům odpovídá původní „základní“ cena bund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755640" y="5430960"/>
            <a:ext cx="770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Kolika procentům bude odpovídat prodejní cena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… 100 % + 20 % = 12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1042920" y="587700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rodejní cena 120 % …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1116000" y="492768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ůvodní cena bundy, tj. 300,- Kč … 10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971640" y="119556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Jaká bude prodejní cena bundy, jejíž původní cena byla 300 Kč, po zdražení 20 %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971640" y="191628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971640" y="2058840"/>
            <a:ext cx="727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00 % …………………………. 350,-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971640" y="270684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20 % ………………………………… x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971640" y="341460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34920" y="3860640"/>
            <a:ext cx="2808360" cy="1368720"/>
          </a:xfrm>
          <a:prstGeom prst="cloudCallout">
            <a:avLst>
              <a:gd name="adj1" fmla="val 21055"/>
              <a:gd name="adj2" fmla="val -851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Ve stejném poměru, v jakém je zvětšen počet procent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3246480" y="3860640"/>
            <a:ext cx="194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4643280" y="3773520"/>
            <a:ext cx="50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4989600" y="3701880"/>
            <a:ext cx="108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3"/>
          <p:cNvSpPr/>
          <p:nvPr/>
        </p:nvSpPr>
        <p:spPr>
          <a:xfrm>
            <a:off x="5075280" y="417672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4"/>
          <p:cNvSpPr/>
          <p:nvPr/>
        </p:nvSpPr>
        <p:spPr>
          <a:xfrm>
            <a:off x="3780000" y="5229360"/>
            <a:ext cx="273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4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5"/>
          <p:cNvSpPr/>
          <p:nvPr/>
        </p:nvSpPr>
        <p:spPr>
          <a:xfrm>
            <a:off x="1403280" y="5734080"/>
            <a:ext cx="698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Prodejní cena bundy bude 420,- K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6"/>
          <p:cNvSpPr/>
          <p:nvPr/>
        </p:nvSpPr>
        <p:spPr>
          <a:xfrm>
            <a:off x="5075280" y="360216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7"/>
          <p:cNvSpPr/>
          <p:nvPr/>
        </p:nvSpPr>
        <p:spPr>
          <a:xfrm>
            <a:off x="6156360" y="3645000"/>
            <a:ext cx="2736720" cy="1081080"/>
          </a:xfrm>
          <a:prstGeom prst="cloudCallout">
            <a:avLst>
              <a:gd name="adj1" fmla="val -29814"/>
              <a:gd name="adj2" fmla="val -9185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bude zvětšena i cena bun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8"/>
          <p:cNvSpPr/>
          <p:nvPr/>
        </p:nvSpPr>
        <p:spPr>
          <a:xfrm>
            <a:off x="1892160" y="4984920"/>
            <a:ext cx="4480200" cy="1773000"/>
          </a:xfrm>
          <a:prstGeom prst="cloudCallout">
            <a:avLst>
              <a:gd name="adj1" fmla="val 15166"/>
              <a:gd name="adj2" fmla="val -85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Číslo v daném poměru zvětšujeme tak, že je násobíme poměrem zapsaným do zlomku většího než jedna (tj. čitatel je větší než jmenovat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9"/>
          <p:cNvSpPr/>
          <p:nvPr/>
        </p:nvSpPr>
        <p:spPr>
          <a:xfrm>
            <a:off x="1677960" y="1903320"/>
            <a:ext cx="1440000" cy="1440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20"/>
          <p:cNvSpPr/>
          <p:nvPr/>
        </p:nvSpPr>
        <p:spPr>
          <a:xfrm>
            <a:off x="4818240" y="3371760"/>
            <a:ext cx="1439640" cy="1440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1"/>
          <p:cNvSpPr/>
          <p:nvPr/>
        </p:nvSpPr>
        <p:spPr>
          <a:xfrm>
            <a:off x="1042920" y="443700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ůvodní (základní) cena bundy … 10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2"/>
          <p:cNvSpPr/>
          <p:nvPr/>
        </p:nvSpPr>
        <p:spPr>
          <a:xfrm>
            <a:off x="755640" y="5430960"/>
            <a:ext cx="770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Kolika procentům bude odpovídat prodejní cena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… 100 % + 20 % = 12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1042920" y="587700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rodejní cena 120 % …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1116000" y="492768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ůvodní cena bundy, tj. 300,- Kč … 10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3780000" y="4653000"/>
            <a:ext cx="352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35 .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6"/>
          <p:cNvSpPr/>
          <p:nvPr/>
        </p:nvSpPr>
        <p:spPr>
          <a:xfrm flipV="1">
            <a:off x="4427640" y="3990600"/>
            <a:ext cx="12996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7"/>
          <p:cNvSpPr/>
          <p:nvPr/>
        </p:nvSpPr>
        <p:spPr>
          <a:xfrm flipV="1">
            <a:off x="5435640" y="4306680"/>
            <a:ext cx="36036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0"/>
          <p:cNvSpPr/>
          <p:nvPr/>
        </p:nvSpPr>
        <p:spPr>
          <a:xfrm flipV="1">
            <a:off x="5637240" y="3717720"/>
            <a:ext cx="13032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500"/>
                            </p:stCondLst>
                            <p:childTnLst>
                              <p:par>
                                <p:cTn id="6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Základní úd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971640" y="1268280"/>
            <a:ext cx="727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odstatou příkladů s procenty je vždy práce se čtyřmi základními hodnotami dvou zadaných či počítaných veličin, z nichž jednou jsou procenta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971640" y="566100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e třídě je 28 žáků, z nichž 25 % je dojíždějících.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olik je dojíždějících žáků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6"/>
          <p:cNvSpPr/>
          <p:nvPr/>
        </p:nvSpPr>
        <p:spPr>
          <a:xfrm>
            <a:off x="0" y="3284640"/>
            <a:ext cx="2376360" cy="1584360"/>
          </a:xfrm>
          <a:prstGeom prst="cloudCallout">
            <a:avLst>
              <a:gd name="adj1" fmla="val 84467"/>
              <a:gd name="adj2" fmla="val 9118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Počáteční, celkové množství, tj. 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základ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7"/>
          <p:cNvSpPr/>
          <p:nvPr/>
        </p:nvSpPr>
        <p:spPr>
          <a:xfrm>
            <a:off x="2050920" y="2349360"/>
            <a:ext cx="2448000" cy="1225800"/>
          </a:xfrm>
          <a:prstGeom prst="cloudCallout">
            <a:avLst>
              <a:gd name="adj1" fmla="val 3046"/>
              <a:gd name="adj2" fmla="val 206606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Základ je vždy 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100 %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8"/>
          <p:cNvSpPr/>
          <p:nvPr/>
        </p:nvSpPr>
        <p:spPr>
          <a:xfrm>
            <a:off x="3708360" y="3357720"/>
            <a:ext cx="2376360" cy="1584000"/>
          </a:xfrm>
          <a:prstGeom prst="cloudCallout">
            <a:avLst>
              <a:gd name="adj1" fmla="val 12393"/>
              <a:gd name="adj2" fmla="val 8797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Část celku, vyjádřená 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počtem procent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9"/>
          <p:cNvSpPr/>
          <p:nvPr/>
        </p:nvSpPr>
        <p:spPr>
          <a:xfrm>
            <a:off x="6227640" y="1989000"/>
            <a:ext cx="2916360" cy="2378160"/>
          </a:xfrm>
          <a:prstGeom prst="cloudCallout">
            <a:avLst>
              <a:gd name="adj1" fmla="val -74550"/>
              <a:gd name="adj2" fmla="val 116023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Část celku odpovídající danému počtu procent, tzv. 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procentová část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3"/>
          <p:cNvSpPr/>
          <p:nvPr/>
        </p:nvSpPr>
        <p:spPr>
          <a:xfrm>
            <a:off x="1704960" y="4869000"/>
            <a:ext cx="1441440" cy="1441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4"/>
          <p:cNvSpPr/>
          <p:nvPr/>
        </p:nvSpPr>
        <p:spPr>
          <a:xfrm>
            <a:off x="6168960" y="4867200"/>
            <a:ext cx="1441440" cy="14414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Zápis příklad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971640" y="4363920"/>
            <a:ext cx="727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e třídě je 28 žáků, z nichž 25 % je dojíždějících.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olik je dojíždějících žáků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08000" y="1989000"/>
            <a:ext cx="2376360" cy="1584360"/>
          </a:xfrm>
          <a:prstGeom prst="cloudCallout">
            <a:avLst>
              <a:gd name="adj1" fmla="val 83199"/>
              <a:gd name="adj2" fmla="val 9198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Počáteční, celkové množství, tj. 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základ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2050920" y="1052640"/>
            <a:ext cx="2448000" cy="1225440"/>
          </a:xfrm>
          <a:prstGeom prst="cloudCallout">
            <a:avLst>
              <a:gd name="adj1" fmla="val 3046"/>
              <a:gd name="adj2" fmla="val 206606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Základ je vždy 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100 %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3708360" y="2060640"/>
            <a:ext cx="2376360" cy="1584360"/>
          </a:xfrm>
          <a:prstGeom prst="cloudCallout">
            <a:avLst>
              <a:gd name="adj1" fmla="val 12393"/>
              <a:gd name="adj2" fmla="val 87976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Část celku, vyjádřená 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počtem procent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6084720" y="620640"/>
            <a:ext cx="2843280" cy="2449440"/>
          </a:xfrm>
          <a:prstGeom prst="cloudCallout">
            <a:avLst>
              <a:gd name="adj1" fmla="val -70601"/>
              <a:gd name="adj2" fmla="val 11474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Část celku odpovídající danému počtu procent, tzv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centová část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>
            <a:off x="971640" y="501336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971640" y="5170320"/>
            <a:ext cx="727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28 žáků ……………………………… 10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971640" y="560232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žáků ………………………………… 2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0"/>
          <p:cNvSpPr/>
          <p:nvPr/>
        </p:nvSpPr>
        <p:spPr>
          <a:xfrm>
            <a:off x="1258920" y="3284640"/>
            <a:ext cx="72072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1"/>
          <p:cNvSpPr/>
          <p:nvPr/>
        </p:nvSpPr>
        <p:spPr>
          <a:xfrm>
            <a:off x="3030480" y="1944720"/>
            <a:ext cx="3527640" cy="3298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2"/>
          <p:cNvSpPr/>
          <p:nvPr/>
        </p:nvSpPr>
        <p:spPr>
          <a:xfrm>
            <a:off x="4788000" y="3371760"/>
            <a:ext cx="1800000" cy="2362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3"/>
          <p:cNvSpPr/>
          <p:nvPr/>
        </p:nvSpPr>
        <p:spPr>
          <a:xfrm flipH="1">
            <a:off x="1979280" y="2795760"/>
            <a:ext cx="5429160" cy="2938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2"/>
          <p:cNvSpPr/>
          <p:nvPr/>
        </p:nvSpPr>
        <p:spPr>
          <a:xfrm>
            <a:off x="108000" y="5300640"/>
            <a:ext cx="3600360" cy="1513080"/>
          </a:xfrm>
          <a:prstGeom prst="cloudCallout">
            <a:avLst>
              <a:gd name="adj1" fmla="val 11902"/>
              <a:gd name="adj2" fmla="val -962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Jak určíme 25 % ze všech žáků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5"/>
          <p:cNvSpPr/>
          <p:nvPr/>
        </p:nvSpPr>
        <p:spPr>
          <a:xfrm>
            <a:off x="108000" y="5300640"/>
            <a:ext cx="3600360" cy="1513080"/>
          </a:xfrm>
          <a:prstGeom prst="cloudCallout">
            <a:avLst>
              <a:gd name="adj1" fmla="val 11902"/>
              <a:gd name="adj2" fmla="val -962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25 % je 25x více než jedno procento, které známe. Jak tedy určíme 25 %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8"/>
          <p:cNvSpPr/>
          <p:nvPr/>
        </p:nvSpPr>
        <p:spPr>
          <a:xfrm>
            <a:off x="108000" y="5300640"/>
            <a:ext cx="3600360" cy="1513080"/>
          </a:xfrm>
          <a:prstGeom prst="cloudCallout">
            <a:avLst>
              <a:gd name="adj1" fmla="val 11902"/>
              <a:gd name="adj2" fmla="val -962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Násobení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ostup výpočtu č. 1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– přes jedno proc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971640" y="119556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e třídě je 28 žáků, z nichž 25 % je dojíždějících.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olik je dojíždějících žáků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971640" y="184464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971640" y="200196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28 žáků ……………………………… 10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971640" y="243360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žáků ………………………………… 2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971640" y="301140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1690560" y="3068640"/>
            <a:ext cx="5905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00 % …………. 28 žá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1677960" y="3573360"/>
            <a:ext cx="5905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   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 % …………. 28 : 100 = 0,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1476360" y="4091040"/>
            <a:ext cx="59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   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25 % ………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6"/>
          <p:cNvSpPr/>
          <p:nvPr/>
        </p:nvSpPr>
        <p:spPr>
          <a:xfrm>
            <a:off x="1476360" y="4091040"/>
            <a:ext cx="59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   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25 % …………. 25 . 0,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9"/>
          <p:cNvSpPr/>
          <p:nvPr/>
        </p:nvSpPr>
        <p:spPr>
          <a:xfrm>
            <a:off x="1476360" y="4091040"/>
            <a:ext cx="59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   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25 % …………. 25 . 0,28 = 7 žá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0"/>
          <p:cNvSpPr/>
          <p:nvPr/>
        </p:nvSpPr>
        <p:spPr>
          <a:xfrm>
            <a:off x="1692360" y="4653000"/>
            <a:ext cx="59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Dojíždějících žáků je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1"/>
          <p:cNvSpPr/>
          <p:nvPr/>
        </p:nvSpPr>
        <p:spPr>
          <a:xfrm>
            <a:off x="5364000" y="5373720"/>
            <a:ext cx="3456000" cy="1224000"/>
          </a:xfrm>
          <a:prstGeom prst="cloudCallout">
            <a:avLst>
              <a:gd name="adj1" fmla="val -75356"/>
              <a:gd name="adj2" fmla="val -10110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Čím příklad ukončí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2"/>
          <p:cNvSpPr/>
          <p:nvPr/>
        </p:nvSpPr>
        <p:spPr>
          <a:xfrm>
            <a:off x="5364000" y="5373720"/>
            <a:ext cx="3456000" cy="1224000"/>
          </a:xfrm>
          <a:prstGeom prst="cloudCallout">
            <a:avLst>
              <a:gd name="adj1" fmla="val -75356"/>
              <a:gd name="adj2" fmla="val -10110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Odpovědí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6"/>
          <p:cNvSpPr/>
          <p:nvPr/>
        </p:nvSpPr>
        <p:spPr>
          <a:xfrm>
            <a:off x="1908000" y="4941720"/>
            <a:ext cx="2953080" cy="1513080"/>
          </a:xfrm>
          <a:prstGeom prst="cloudCallout">
            <a:avLst>
              <a:gd name="adj1" fmla="val 29837"/>
              <a:gd name="adj2" fmla="val -8787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28 tedy zmenší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v poměru 1: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2"/>
          <p:cNvSpPr/>
          <p:nvPr/>
        </p:nvSpPr>
        <p:spPr>
          <a:xfrm>
            <a:off x="1258920" y="4941720"/>
            <a:ext cx="3960720" cy="1656000"/>
          </a:xfrm>
          <a:prstGeom prst="cloudCallout">
            <a:avLst>
              <a:gd name="adj1" fmla="val 25912"/>
              <a:gd name="adj2" fmla="val -8461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Číslo se zmenšuje tak, že se vynásobí poměrem zapsaným do zlomku menšího než jed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ostup výpočtu č. 2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– pomocí trojčlen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71640" y="119556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e třídě je 28 žáků, z nichž 25 % je dojíždějících.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olik je dojíždějících žáků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971640" y="184464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971640" y="2058840"/>
            <a:ext cx="727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28 žáků ……………………………… 10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971640" y="270684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žáků ………………………………… 2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971640" y="341460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3419640" y="3860640"/>
            <a:ext cx="1944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1"/>
          <p:cNvSpPr/>
          <p:nvPr/>
        </p:nvSpPr>
        <p:spPr>
          <a:xfrm>
            <a:off x="6297480" y="1905120"/>
            <a:ext cx="1276560" cy="1438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2"/>
          <p:cNvSpPr/>
          <p:nvPr/>
        </p:nvSpPr>
        <p:spPr>
          <a:xfrm>
            <a:off x="1541520" y="1916280"/>
            <a:ext cx="1749240" cy="1438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3"/>
          <p:cNvSpPr/>
          <p:nvPr/>
        </p:nvSpPr>
        <p:spPr>
          <a:xfrm>
            <a:off x="250920" y="4437000"/>
            <a:ext cx="2952720" cy="1513080"/>
          </a:xfrm>
          <a:prstGeom prst="cloudCallout">
            <a:avLst>
              <a:gd name="adj1" fmla="val 19300"/>
              <a:gd name="adj2" fmla="val -11851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Počet žáků se mění ve stejném poměru jako počet proc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4"/>
          <p:cNvSpPr/>
          <p:nvPr/>
        </p:nvSpPr>
        <p:spPr>
          <a:xfrm>
            <a:off x="5580000" y="4365720"/>
            <a:ext cx="2952720" cy="1512720"/>
          </a:xfrm>
          <a:prstGeom prst="cloudCallout">
            <a:avLst>
              <a:gd name="adj1" fmla="val -3388"/>
              <a:gd name="adj2" fmla="val -113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V jakém poměru se mění počet proc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5"/>
          <p:cNvSpPr/>
          <p:nvPr/>
        </p:nvSpPr>
        <p:spPr>
          <a:xfrm>
            <a:off x="5580000" y="4365720"/>
            <a:ext cx="2952720" cy="1512720"/>
          </a:xfrm>
          <a:prstGeom prst="cloudCallout">
            <a:avLst>
              <a:gd name="adj1" fmla="val -2958"/>
              <a:gd name="adj2" fmla="val -113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rebuchet MS"/>
              </a:rPr>
              <a:t>25:100, tj. 1: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7"/>
          <p:cNvSpPr/>
          <p:nvPr/>
        </p:nvSpPr>
        <p:spPr>
          <a:xfrm>
            <a:off x="4643280" y="3773520"/>
            <a:ext cx="50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8"/>
          <p:cNvSpPr/>
          <p:nvPr/>
        </p:nvSpPr>
        <p:spPr>
          <a:xfrm>
            <a:off x="4944960" y="3701880"/>
            <a:ext cx="108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9"/>
          <p:cNvSpPr/>
          <p:nvPr/>
        </p:nvSpPr>
        <p:spPr>
          <a:xfrm>
            <a:off x="5160960" y="360216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0"/>
          <p:cNvSpPr/>
          <p:nvPr/>
        </p:nvSpPr>
        <p:spPr>
          <a:xfrm>
            <a:off x="5146560" y="417672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3"/>
          <p:cNvSpPr/>
          <p:nvPr/>
        </p:nvSpPr>
        <p:spPr>
          <a:xfrm>
            <a:off x="3549600" y="4653000"/>
            <a:ext cx="273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28 :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4"/>
          <p:cNvSpPr/>
          <p:nvPr/>
        </p:nvSpPr>
        <p:spPr>
          <a:xfrm>
            <a:off x="3564000" y="5229360"/>
            <a:ext cx="273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7 žá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5"/>
          <p:cNvSpPr/>
          <p:nvPr/>
        </p:nvSpPr>
        <p:spPr>
          <a:xfrm>
            <a:off x="2484360" y="5734080"/>
            <a:ext cx="59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Dojíždějících žáků je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755640" y="1195560"/>
            <a:ext cx="7632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Množství krve v lidském těle je přibližně 7,6 % hmotnosti těla. Kolik kg krve je v těle dospělého člověka o hmotnosti 75 k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971640" y="191628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042920" y="465300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Hmotnost (základní) dospělého člověka … 10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755640" y="3038400"/>
            <a:ext cx="2952720" cy="1513080"/>
          </a:xfrm>
          <a:prstGeom prst="cloudCallout">
            <a:avLst>
              <a:gd name="adj1" fmla="val 72203"/>
              <a:gd name="adj2" fmla="val -117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Kolika kilogramům bude odpovídat množství krv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5003640" y="2924280"/>
            <a:ext cx="3313440" cy="1512720"/>
          </a:xfrm>
          <a:prstGeom prst="cloudCallout">
            <a:avLst>
              <a:gd name="adj1" fmla="val -54837"/>
              <a:gd name="adj2" fmla="val -10960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Kolika procentům odpovídá „základní“ hmotnost dospělého člověk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1114560" y="5084640"/>
            <a:ext cx="7057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Hmotnost dospělého člověka, tj. 75 kg … 10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116000" y="551664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Hmotnost krve, tj. 7,6 % …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k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755640" y="1195560"/>
            <a:ext cx="7632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Množství krve v lidském těle je přibližně 7,6 % hmotnosti těla. Kolik kg krve je v těle dospělého člověka o hmotnosti 75 k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971640" y="191628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042920" y="482292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Hmotnost (základní) dospělého člověka … 10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1114560" y="5254560"/>
            <a:ext cx="7057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Hmotnost dospělého člověka, tj. 75 kg … 10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1116000" y="573264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Hmotnost krve, tj. 7,6 % …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9"/>
          <p:cNvSpPr/>
          <p:nvPr/>
        </p:nvSpPr>
        <p:spPr>
          <a:xfrm>
            <a:off x="4788000" y="5214960"/>
            <a:ext cx="2952720" cy="10810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971640" y="2058840"/>
            <a:ext cx="727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00 % ……………………………… 75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971640" y="270684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7,6 % ………………………………. x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2"/>
          <p:cNvSpPr/>
          <p:nvPr/>
        </p:nvSpPr>
        <p:spPr>
          <a:xfrm>
            <a:off x="971640" y="341460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3"/>
          <p:cNvSpPr/>
          <p:nvPr/>
        </p:nvSpPr>
        <p:spPr>
          <a:xfrm>
            <a:off x="179280" y="4149720"/>
            <a:ext cx="2808360" cy="1368360"/>
          </a:xfrm>
          <a:prstGeom prst="cloudCallout">
            <a:avLst>
              <a:gd name="adj1" fmla="val 17384"/>
              <a:gd name="adj2" fmla="val -10626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Ve stejném poměru, v jakém je zmenšen počet procent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4"/>
          <p:cNvSpPr/>
          <p:nvPr/>
        </p:nvSpPr>
        <p:spPr>
          <a:xfrm>
            <a:off x="5724360" y="3789360"/>
            <a:ext cx="3168720" cy="1152360"/>
          </a:xfrm>
          <a:prstGeom prst="cloudCallout">
            <a:avLst>
              <a:gd name="adj1" fmla="val -12925"/>
              <a:gd name="adj2" fmla="val -9545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bude zmenšena 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i hmotn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5"/>
          <p:cNvSpPr/>
          <p:nvPr/>
        </p:nvSpPr>
        <p:spPr>
          <a:xfrm>
            <a:off x="1778040" y="1903320"/>
            <a:ext cx="1440000" cy="1440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6"/>
          <p:cNvSpPr/>
          <p:nvPr/>
        </p:nvSpPr>
        <p:spPr>
          <a:xfrm>
            <a:off x="3276720" y="3860640"/>
            <a:ext cx="194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4500720" y="3773520"/>
            <a:ext cx="50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8"/>
          <p:cNvSpPr/>
          <p:nvPr/>
        </p:nvSpPr>
        <p:spPr>
          <a:xfrm>
            <a:off x="4741920" y="3701880"/>
            <a:ext cx="108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9"/>
          <p:cNvSpPr/>
          <p:nvPr/>
        </p:nvSpPr>
        <p:spPr>
          <a:xfrm>
            <a:off x="4730760" y="417672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3348000" y="4653000"/>
            <a:ext cx="273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3 . 7,6 :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3706920" y="5229360"/>
            <a:ext cx="273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5,7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2"/>
          <p:cNvSpPr/>
          <p:nvPr/>
        </p:nvSpPr>
        <p:spPr>
          <a:xfrm>
            <a:off x="4786200" y="360216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7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3"/>
          <p:cNvSpPr/>
          <p:nvPr/>
        </p:nvSpPr>
        <p:spPr>
          <a:xfrm>
            <a:off x="4500720" y="3371760"/>
            <a:ext cx="1439640" cy="1440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4"/>
          <p:cNvSpPr/>
          <p:nvPr/>
        </p:nvSpPr>
        <p:spPr>
          <a:xfrm>
            <a:off x="1187280" y="5661000"/>
            <a:ext cx="7129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V těle dospělého člověka je 5,7 kg kr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5"/>
          <p:cNvSpPr/>
          <p:nvPr/>
        </p:nvSpPr>
        <p:spPr>
          <a:xfrm>
            <a:off x="2179800" y="4968720"/>
            <a:ext cx="4479840" cy="1773360"/>
          </a:xfrm>
          <a:prstGeom prst="cloudCallout">
            <a:avLst>
              <a:gd name="adj1" fmla="val 5208"/>
              <a:gd name="adj2" fmla="val -899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Číslo v daném poměru zmenšujeme tak, že je násobíme poměrem zapsaným do zlomku menšího než jedna (tj. čitatel je menší než jmenovat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6"/>
          <p:cNvSpPr/>
          <p:nvPr/>
        </p:nvSpPr>
        <p:spPr>
          <a:xfrm flipV="1">
            <a:off x="3995640" y="4005000"/>
            <a:ext cx="36036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7"/>
          <p:cNvSpPr/>
          <p:nvPr/>
        </p:nvSpPr>
        <p:spPr>
          <a:xfrm flipV="1">
            <a:off x="5003640" y="4335480"/>
            <a:ext cx="561960" cy="18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0"/>
          <p:cNvSpPr/>
          <p:nvPr/>
        </p:nvSpPr>
        <p:spPr>
          <a:xfrm>
            <a:off x="4213080" y="3573360"/>
            <a:ext cx="358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5292720" y="4363920"/>
            <a:ext cx="358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971640" y="119556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e 700 výrobků bylo 20 % vadných. Kolik výrobků bylo bez vad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971640" y="184464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1042920" y="443700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Celkový (základní) počet výrobků … 10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755640" y="2809800"/>
            <a:ext cx="2952720" cy="1513080"/>
          </a:xfrm>
          <a:prstGeom prst="cloudCallout">
            <a:avLst>
              <a:gd name="adj1" fmla="val 72203"/>
              <a:gd name="adj2" fmla="val -117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lika procentům odpovídá celkový „základní“ počet výrobků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5219640" y="2421000"/>
            <a:ext cx="3097440" cy="1800000"/>
          </a:xfrm>
          <a:prstGeom prst="cloudCallout">
            <a:avLst>
              <a:gd name="adj1" fmla="val -62148"/>
              <a:gd name="adj2" fmla="val -841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lik procent výrobků je bez vady a kolika výrobkům to odpovídá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1041480" y="5430960"/>
            <a:ext cx="7057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olik procent výrobků je bez vady … 100 % - 20 % = 8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1042920" y="587700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olika výrobkům odpovídá 80 % …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výrob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1116000" y="492768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Celkový počet výrobků, tj. 700 … 100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971640" y="119556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e 700 výrobků bylo 20 % vadných. Kolik výrobků bylo bez vad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5"/>
          <p:cNvSpPr/>
          <p:nvPr/>
        </p:nvSpPr>
        <p:spPr>
          <a:xfrm>
            <a:off x="971640" y="184464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971640" y="2058840"/>
            <a:ext cx="727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00 % …………………. 700 výrob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971640" y="270684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80 % ……………………. x výrob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8"/>
          <p:cNvSpPr/>
          <p:nvPr/>
        </p:nvSpPr>
        <p:spPr>
          <a:xfrm>
            <a:off x="971640" y="341460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0"/>
          <p:cNvSpPr/>
          <p:nvPr/>
        </p:nvSpPr>
        <p:spPr>
          <a:xfrm>
            <a:off x="34920" y="3860640"/>
            <a:ext cx="2808360" cy="1368720"/>
          </a:xfrm>
          <a:prstGeom prst="cloudCallout">
            <a:avLst>
              <a:gd name="adj1" fmla="val 21055"/>
              <a:gd name="adj2" fmla="val -851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Ve stejném poměru, v jakém je zmenšen počet procent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3246480" y="3860640"/>
            <a:ext cx="194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4643280" y="3773520"/>
            <a:ext cx="50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989600" y="3701880"/>
            <a:ext cx="108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5075280" y="417672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5"/>
          <p:cNvSpPr/>
          <p:nvPr/>
        </p:nvSpPr>
        <p:spPr>
          <a:xfrm>
            <a:off x="3780000" y="5229360"/>
            <a:ext cx="273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5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6"/>
          <p:cNvSpPr/>
          <p:nvPr/>
        </p:nvSpPr>
        <p:spPr>
          <a:xfrm>
            <a:off x="1906560" y="5734080"/>
            <a:ext cx="59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Bez vady bylo 560 výrobk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7"/>
          <p:cNvSpPr/>
          <p:nvPr/>
        </p:nvSpPr>
        <p:spPr>
          <a:xfrm>
            <a:off x="5146560" y="360216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8"/>
          <p:cNvSpPr/>
          <p:nvPr/>
        </p:nvSpPr>
        <p:spPr>
          <a:xfrm>
            <a:off x="6156360" y="3645000"/>
            <a:ext cx="2736720" cy="1081080"/>
          </a:xfrm>
          <a:prstGeom prst="cloudCallout">
            <a:avLst>
              <a:gd name="adj1" fmla="val -53652"/>
              <a:gd name="adj2" fmla="val -9052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bude zmenšen i počet výrobk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9"/>
          <p:cNvSpPr/>
          <p:nvPr/>
        </p:nvSpPr>
        <p:spPr>
          <a:xfrm>
            <a:off x="1835280" y="4984920"/>
            <a:ext cx="4479840" cy="1773000"/>
          </a:xfrm>
          <a:prstGeom prst="cloudCallout">
            <a:avLst>
              <a:gd name="adj1" fmla="val 15166"/>
              <a:gd name="adj2" fmla="val -85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Číslo v daném poměru zmenšujeme tak, že je násobíme poměrem zapsaným do zlomku menšího než jedna (tj. čitatel je menší než jmenovat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0"/>
          <p:cNvSpPr/>
          <p:nvPr/>
        </p:nvSpPr>
        <p:spPr>
          <a:xfrm>
            <a:off x="1749600" y="1903320"/>
            <a:ext cx="1439640" cy="1440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1"/>
          <p:cNvSpPr/>
          <p:nvPr/>
        </p:nvSpPr>
        <p:spPr>
          <a:xfrm>
            <a:off x="4818240" y="3371760"/>
            <a:ext cx="1439640" cy="1440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2"/>
          <p:cNvSpPr/>
          <p:nvPr/>
        </p:nvSpPr>
        <p:spPr>
          <a:xfrm>
            <a:off x="1042920" y="443700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Celkový (základní) počet výrobků … 10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3"/>
          <p:cNvSpPr/>
          <p:nvPr/>
        </p:nvSpPr>
        <p:spPr>
          <a:xfrm>
            <a:off x="1041480" y="5430960"/>
            <a:ext cx="7057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olik procent výrobků je bez vady … 100 % - 20 % = 8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4"/>
          <p:cNvSpPr/>
          <p:nvPr/>
        </p:nvSpPr>
        <p:spPr>
          <a:xfrm>
            <a:off x="1042920" y="587700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olika výrobkům odpovídá 80 % …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výrob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1116000" y="492768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Celkový počet výrobků, tj. 700 … 10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3780000" y="4653000"/>
            <a:ext cx="352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7 . 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7"/>
          <p:cNvSpPr/>
          <p:nvPr/>
        </p:nvSpPr>
        <p:spPr>
          <a:xfrm flipV="1">
            <a:off x="4197240" y="399096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8"/>
          <p:cNvSpPr/>
          <p:nvPr/>
        </p:nvSpPr>
        <p:spPr>
          <a:xfrm flipV="1">
            <a:off x="5435640" y="4306680"/>
            <a:ext cx="36036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9"/>
          <p:cNvSpPr/>
          <p:nvPr/>
        </p:nvSpPr>
        <p:spPr>
          <a:xfrm>
            <a:off x="5435640" y="5373720"/>
            <a:ext cx="158436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0"/>
          <p:cNvSpPr/>
          <p:nvPr/>
        </p:nvSpPr>
        <p:spPr>
          <a:xfrm flipV="1">
            <a:off x="5119560" y="6308640"/>
            <a:ext cx="2175120" cy="1440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500"/>
                            </p:stCondLst>
                            <p:childTnLst>
                              <p:par>
                                <p:cTn id="5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2-14T23:39:29Z</dcterms:modified>
  <cp:revision>162</cp:revision>
  <dc:subject/>
  <dc:title>Procenta - výpočet procentové části</dc:title>
</cp:coreProperties>
</file>