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E4E-4D63-453F-AF68-FF58DD87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13D-C3FD-45E1-9669-43FDED3C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D83-8471-4039-B04A-6E3B4AEA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B34-1CAC-4D21-BE3E-BE516F1D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5104-7351-4372-896E-DFB9A562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06DD-DDA4-4941-A52C-9DC76E42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3D79-35EC-4EEF-B925-6AA4D72D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FFBB-98EB-4266-BFB9-DCB937C0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BDB0-CDF2-4DF8-BA53-59899D2D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8AC8-2C1A-402D-8485-45E45735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0ACF-3795-4A24-9D8F-DFF5BC54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9F4-BF04-430D-BBB8-CEEED341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5CF7-C631-4035-BA2D-6680DCB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A94A-EB26-46AB-BD2E-B187ED1D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E181-6230-49F8-B67C-752D3372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E253-C575-43AF-94A5-A5870D41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65C7-461E-4254-B6CA-8C0E5D74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88E-2522-4388-9B84-6F42C354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BFB-ECC5-4AF6-9365-8B715703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A7B-57A9-454E-B71B-B81521DA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EAF-4263-4D50-BEC0-F88E5EA8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AB2-2996-4555-96F7-C1DCF5DC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E31-0C0B-49B5-8F02-94DBC9DA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691-44A1-493E-9D31-F8B99FA7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E5BE-200F-46D6-B45B-FDFF3C78AD26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4F9F-B242-4F47-B5C3-4AA6172E13DD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Procent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Výpočet počtu procen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 roce 2000 byla cena za 1 litr benzínu natural 22,50 Kč. Nyní stojí 27,- Kč. O kolik procent se cena zvýši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benzínu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755640" y="2421000"/>
            <a:ext cx="2952720" cy="1901880"/>
          </a:xfrm>
          <a:prstGeom prst="cloudCallout">
            <a:avLst>
              <a:gd name="adj1" fmla="val 72203"/>
              <a:gd name="adj2" fmla="val -828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O kolik korun se zvýšila cena benzínu a kolika procentům to odpovídá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5219640" y="2565360"/>
            <a:ext cx="3097440" cy="1655640"/>
          </a:xfrm>
          <a:prstGeom prst="cloudCallout">
            <a:avLst>
              <a:gd name="adj1" fmla="val -62148"/>
              <a:gd name="adj2" fmla="val -958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procentům odpovídala původní cena benzínu, tedy cena „základní“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1114560" y="530064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výšení ceny benzínu … 27 – 22,50 = 4,5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1116000" y="5732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výšení ceny benzínu, tj. 4,50 Kč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1042920" y="49179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benzínu, tj. 22,50 Kč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 roce 2000 byla cena za 1 litr benzínu natural 22,50 Kč. Nyní stojí 27,- Kč. O kolik procent se cena zvýši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2,50 Kč …………………………..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,50 Kč ………………………………… x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benzínu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1114560" y="486900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benzínu, tj. 22,50 Kč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1116000" y="5300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výšení ceny benzínu … 27 – 22,50 = 4,5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1116000" y="5732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výšení ceny benzínu, tj. 4,50 Kč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3"/>
          <p:cNvSpPr/>
          <p:nvPr/>
        </p:nvSpPr>
        <p:spPr>
          <a:xfrm>
            <a:off x="4643280" y="4724280"/>
            <a:ext cx="3600720" cy="15717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50920" y="3860640"/>
            <a:ext cx="2808360" cy="1368720"/>
          </a:xfrm>
          <a:prstGeom prst="cloudCallout">
            <a:avLst>
              <a:gd name="adj1" fmla="val 21055"/>
              <a:gd name="adj2" fmla="val -851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e stejném poměru, v jakém je zmenšena cena benzínu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3246480" y="386064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6"/>
          <p:cNvSpPr/>
          <p:nvPr/>
        </p:nvSpPr>
        <p:spPr>
          <a:xfrm>
            <a:off x="4643280" y="377352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494496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8"/>
          <p:cNvSpPr/>
          <p:nvPr/>
        </p:nvSpPr>
        <p:spPr>
          <a:xfrm>
            <a:off x="485928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3274920" y="4653000"/>
            <a:ext cx="352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450 : 2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3706920" y="522936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1906560" y="566100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Cena benzínu se zvýšila o 20 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2"/>
          <p:cNvSpPr/>
          <p:nvPr/>
        </p:nvSpPr>
        <p:spPr>
          <a:xfrm>
            <a:off x="491796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156360" y="3645000"/>
            <a:ext cx="2736720" cy="1081080"/>
          </a:xfrm>
          <a:prstGeom prst="cloudCallout">
            <a:avLst>
              <a:gd name="adj1" fmla="val -22851"/>
              <a:gd name="adj2" fmla="val -850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bude zmenšen i počet pro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4"/>
          <p:cNvSpPr/>
          <p:nvPr/>
        </p:nvSpPr>
        <p:spPr>
          <a:xfrm>
            <a:off x="1316160" y="4956120"/>
            <a:ext cx="4479840" cy="1773360"/>
          </a:xfrm>
          <a:prstGeom prst="cloudCallout">
            <a:avLst>
              <a:gd name="adj1" fmla="val 15166"/>
              <a:gd name="adj2" fmla="val -8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Číslo v daném poměru zmenšujeme tak, že je násobíme poměrem zapsaným do zlomku menšího než jedna (tj. čitatel menší než jmenovat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5"/>
          <p:cNvSpPr/>
          <p:nvPr/>
        </p:nvSpPr>
        <p:spPr>
          <a:xfrm>
            <a:off x="1604880" y="190332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6"/>
          <p:cNvSpPr/>
          <p:nvPr/>
        </p:nvSpPr>
        <p:spPr>
          <a:xfrm>
            <a:off x="4657680" y="337176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ákladní ú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971640" y="126828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dstatou příkladů s procenty je vždy práce se čtyřmi základními hodnotami dvou zadaných či počítaných veličin, z nichž jednou jsou procenta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971640" y="566100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e třídě je 28 žáků, z nichž 7 je dojíždějících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procent činí dojíždějící žác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0" y="3284640"/>
            <a:ext cx="2376360" cy="1584360"/>
          </a:xfrm>
          <a:prstGeom prst="cloudCallout">
            <a:avLst>
              <a:gd name="adj1" fmla="val 84467"/>
              <a:gd name="adj2" fmla="val 911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Počáteční, celkové množství, tj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základ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2050920" y="2349360"/>
            <a:ext cx="2448000" cy="1225800"/>
          </a:xfrm>
          <a:prstGeom prst="cloudCallout">
            <a:avLst>
              <a:gd name="adj1" fmla="val 3046"/>
              <a:gd name="adj2" fmla="val 206606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Základ je vždy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100 %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>
            <a:off x="3708360" y="3357720"/>
            <a:ext cx="2376360" cy="1584000"/>
          </a:xfrm>
          <a:prstGeom prst="cloudCallout">
            <a:avLst>
              <a:gd name="adj1" fmla="val 12393"/>
              <a:gd name="adj2" fmla="val 879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ást celku, tzv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rocentová část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9"/>
          <p:cNvSpPr/>
          <p:nvPr/>
        </p:nvSpPr>
        <p:spPr>
          <a:xfrm>
            <a:off x="6084720" y="2492280"/>
            <a:ext cx="2843280" cy="1874880"/>
          </a:xfrm>
          <a:prstGeom prst="cloudCallout">
            <a:avLst>
              <a:gd name="adj1" fmla="val -135875"/>
              <a:gd name="adj2" fmla="val 133828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I část celku lze vyjádřit pomocí procent, tzv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očtem procent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1704960" y="4869000"/>
            <a:ext cx="144144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6168960" y="4867200"/>
            <a:ext cx="1441440" cy="14414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ápis příkla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71640" y="436392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e třídě je 28 žáků, z nichž 7 je dojíždějících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procent činí dojíždějící žác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08000" y="1989000"/>
            <a:ext cx="2376360" cy="1584360"/>
          </a:xfrm>
          <a:prstGeom prst="cloudCallout">
            <a:avLst>
              <a:gd name="adj1" fmla="val 83199"/>
              <a:gd name="adj2" fmla="val 919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Počáteční, celkové množství, tj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základ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2050920" y="1052640"/>
            <a:ext cx="2448000" cy="1225440"/>
          </a:xfrm>
          <a:prstGeom prst="cloudCallout">
            <a:avLst>
              <a:gd name="adj1" fmla="val 3046"/>
              <a:gd name="adj2" fmla="val 206606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Základ je vždy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100 %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3708360" y="2060640"/>
            <a:ext cx="2376360" cy="1584360"/>
          </a:xfrm>
          <a:prstGeom prst="cloudCallout">
            <a:avLst>
              <a:gd name="adj1" fmla="val 12393"/>
              <a:gd name="adj2" fmla="val 879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ást celku, tzv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rocentová část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6084720" y="1195560"/>
            <a:ext cx="2843280" cy="1874520"/>
          </a:xfrm>
          <a:prstGeom prst="cloudCallout">
            <a:avLst>
              <a:gd name="adj1" fmla="val -134421"/>
              <a:gd name="adj2" fmla="val 13374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I část celku lze vyjádřit pomocí procent, tzv.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očtem procent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971640" y="501336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971640" y="517032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8 žáků ………………………………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971640" y="560232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 žáků …………………………………… x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1258920" y="3284640"/>
            <a:ext cx="72072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3030480" y="1944720"/>
            <a:ext cx="3527640" cy="3298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 flipH="1">
            <a:off x="2050560" y="3371760"/>
            <a:ext cx="2737080" cy="230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 flipH="1">
            <a:off x="6976800" y="2795760"/>
            <a:ext cx="431640" cy="287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stup výpočtu č. 1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– přes jedno proc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e třídě je 28 žáků, z nichž 7 je dojíždějících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procent činí dojíždějící žác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971640" y="20019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8 žáků ………………………………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971640" y="243360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 žáků …………………………………… x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971640" y="30114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1690560" y="3068640"/>
            <a:ext cx="590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0 % …………. 28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1677960" y="3573360"/>
            <a:ext cx="5905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 % …………. 28 : 100 = 0,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692360" y="409104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% ………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2"/>
          <p:cNvSpPr/>
          <p:nvPr/>
        </p:nvSpPr>
        <p:spPr>
          <a:xfrm>
            <a:off x="108000" y="5300640"/>
            <a:ext cx="3600360" cy="1513080"/>
          </a:xfrm>
          <a:prstGeom prst="cloudCallout">
            <a:avLst>
              <a:gd name="adj1" fmla="val 11902"/>
              <a:gd name="adj2" fmla="val -96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 procent to bud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5"/>
          <p:cNvSpPr/>
          <p:nvPr/>
        </p:nvSpPr>
        <p:spPr>
          <a:xfrm>
            <a:off x="108000" y="5300640"/>
            <a:ext cx="3600360" cy="1513080"/>
          </a:xfrm>
          <a:prstGeom prst="cloudCallout">
            <a:avLst>
              <a:gd name="adj1" fmla="val 11902"/>
              <a:gd name="adj2" fmla="val -96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Tolik, kolikrát se jedno procento vejde do dané části celku, tj. 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1692360" y="4092480"/>
            <a:ext cx="5905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% …………. 7 : 0,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08000" y="5300640"/>
            <a:ext cx="3600360" cy="1513080"/>
          </a:xfrm>
          <a:prstGeom prst="cloudCallout">
            <a:avLst>
              <a:gd name="adj1" fmla="val 11902"/>
              <a:gd name="adj2" fmla="val -96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A jak se určí, kolikrát se něco do něčeho vej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108000" y="5300640"/>
            <a:ext cx="3600360" cy="1513080"/>
          </a:xfrm>
          <a:prstGeom prst="cloudCallout">
            <a:avLst>
              <a:gd name="adj1" fmla="val 11902"/>
              <a:gd name="adj2" fmla="val -96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Dělení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1692360" y="409104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% …………. 7 : 0,28 =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1692360" y="465300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Dojíždějících žáků je 25 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1"/>
          <p:cNvSpPr/>
          <p:nvPr/>
        </p:nvSpPr>
        <p:spPr>
          <a:xfrm>
            <a:off x="5364000" y="5373720"/>
            <a:ext cx="3456000" cy="1224000"/>
          </a:xfrm>
          <a:prstGeom prst="cloudCallout">
            <a:avLst>
              <a:gd name="adj1" fmla="val -75356"/>
              <a:gd name="adj2" fmla="val -101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ím příklad ukončí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2"/>
          <p:cNvSpPr/>
          <p:nvPr/>
        </p:nvSpPr>
        <p:spPr>
          <a:xfrm>
            <a:off x="5364000" y="5373720"/>
            <a:ext cx="3456000" cy="1224000"/>
          </a:xfrm>
          <a:prstGeom prst="cloudCallout">
            <a:avLst>
              <a:gd name="adj1" fmla="val -75356"/>
              <a:gd name="adj2" fmla="val -101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Odpovědí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stup výpočtu č. 2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– pomocí trojčlen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e třídě je 28 žáků, z nichž 7 je dojíždějících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procent činí dojíždějící žác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8 žáků ………………………………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 žáků …………………………………… x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203640" y="386064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1"/>
          <p:cNvSpPr/>
          <p:nvPr/>
        </p:nvSpPr>
        <p:spPr>
          <a:xfrm>
            <a:off x="6297480" y="1905120"/>
            <a:ext cx="1276560" cy="1438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2"/>
          <p:cNvSpPr/>
          <p:nvPr/>
        </p:nvSpPr>
        <p:spPr>
          <a:xfrm>
            <a:off x="1541520" y="1916280"/>
            <a:ext cx="1749240" cy="1438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"/>
          <p:cNvSpPr/>
          <p:nvPr/>
        </p:nvSpPr>
        <p:spPr>
          <a:xfrm>
            <a:off x="5796000" y="4437000"/>
            <a:ext cx="2952720" cy="1513080"/>
          </a:xfrm>
          <a:prstGeom prst="cloudCallout">
            <a:avLst>
              <a:gd name="adj1" fmla="val -6291"/>
              <a:gd name="adj2" fmla="val -119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Počet procent se mění ve stejném poměru jako počet žák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395280" y="4365720"/>
            <a:ext cx="2952720" cy="1512720"/>
          </a:xfrm>
          <a:prstGeom prst="cloudCallout">
            <a:avLst>
              <a:gd name="adj1" fmla="val 11773"/>
              <a:gd name="adj2" fmla="val -113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 jakém poměru se mění počet žák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5"/>
          <p:cNvSpPr/>
          <p:nvPr/>
        </p:nvSpPr>
        <p:spPr>
          <a:xfrm>
            <a:off x="395280" y="4365720"/>
            <a:ext cx="2952720" cy="1512720"/>
          </a:xfrm>
          <a:prstGeom prst="cloudCallout">
            <a:avLst>
              <a:gd name="adj1" fmla="val 11773"/>
              <a:gd name="adj2" fmla="val -113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rebuchet MS"/>
              </a:rPr>
              <a:t>7: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6"/>
          <p:cNvSpPr/>
          <p:nvPr/>
        </p:nvSpPr>
        <p:spPr>
          <a:xfrm>
            <a:off x="1908000" y="4941720"/>
            <a:ext cx="2953080" cy="1513080"/>
          </a:xfrm>
          <a:prstGeom prst="cloudCallout">
            <a:avLst>
              <a:gd name="adj1" fmla="val 29837"/>
              <a:gd name="adj2" fmla="val -878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100 % tedy zmenší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 poměru 7: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4643280" y="377352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494496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9"/>
          <p:cNvSpPr/>
          <p:nvPr/>
        </p:nvSpPr>
        <p:spPr>
          <a:xfrm>
            <a:off x="516096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503244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2"/>
          <p:cNvSpPr/>
          <p:nvPr/>
        </p:nvSpPr>
        <p:spPr>
          <a:xfrm>
            <a:off x="1258920" y="4941720"/>
            <a:ext cx="3960720" cy="1656000"/>
          </a:xfrm>
          <a:prstGeom prst="cloudCallout">
            <a:avLst>
              <a:gd name="adj1" fmla="val 25912"/>
              <a:gd name="adj2" fmla="val -846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Číslo se zmenšuje tak, že se vynásobí poměrem zapsaným do zlomku menšího než jed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3348000" y="465300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700 :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3780000" y="5229360"/>
            <a:ext cx="27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224080" y="573408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Dojíždějících žáků je 25 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755640" y="119556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a konci zimní sezóny byla bunda, která stála 2000,- Kč,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zlevněna o 250,- Kč. O kolik % byla bunda zlevně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042920" y="4869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bundy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755640" y="2852640"/>
            <a:ext cx="2952720" cy="1513080"/>
          </a:xfrm>
          <a:prstGeom prst="cloudCallout">
            <a:avLst>
              <a:gd name="adj1" fmla="val 72203"/>
              <a:gd name="adj2" fmla="val -117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procentům odpovídá sle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o 250,- K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5364000" y="2738520"/>
            <a:ext cx="2953080" cy="1800000"/>
          </a:xfrm>
          <a:prstGeom prst="cloudCallout">
            <a:avLst>
              <a:gd name="adj1" fmla="val -67634"/>
              <a:gd name="adj2" fmla="val -100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procentům odpovídá původní „základní“ cena bund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1114560" y="530064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cena bundy, tj. 2000,- Kč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1116000" y="5732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leva bundy, tj. 250,- Kč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19556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a konci zimní sezóny byla bunda, která stála 2000,- Kč,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zlevněna o 250,- Kč. O kolik % byla bunda zlevně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042920" y="4869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(základní) cena bundy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14560" y="530064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ůvodní cena bundy, tj. 2000,- Kč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116000" y="573264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leva bundy, tj. 250,- Kč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4427640" y="5214960"/>
            <a:ext cx="2952720" cy="1081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000,- Kč ………………………………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50,- Kč ………………………………. x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179280" y="4149720"/>
            <a:ext cx="2808360" cy="1368360"/>
          </a:xfrm>
          <a:prstGeom prst="cloudCallout">
            <a:avLst>
              <a:gd name="adj1" fmla="val 17384"/>
              <a:gd name="adj2" fmla="val -1062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e stejném poměru, v jakém je zmenšena cena bundy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724360" y="3789360"/>
            <a:ext cx="3168720" cy="1152360"/>
          </a:xfrm>
          <a:prstGeom prst="cloudCallout">
            <a:avLst>
              <a:gd name="adj1" fmla="val -12925"/>
              <a:gd name="adj2" fmla="val -954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bude zmenšen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i počet pro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1476360" y="190332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276720" y="386064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4643280" y="377352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494496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485928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635280" y="4653000"/>
            <a:ext cx="27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25 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3635280" y="5229360"/>
            <a:ext cx="27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12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491796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4657680" y="337176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1906560" y="573408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Bunda byla zlevněna o 12,5 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5"/>
          <p:cNvSpPr/>
          <p:nvPr/>
        </p:nvSpPr>
        <p:spPr>
          <a:xfrm>
            <a:off x="1820880" y="5013360"/>
            <a:ext cx="4479840" cy="1773360"/>
          </a:xfrm>
          <a:prstGeom prst="cloudCallout">
            <a:avLst>
              <a:gd name="adj1" fmla="val 5208"/>
              <a:gd name="adj2" fmla="val -899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Číslo v daném poměru zmenšujeme tak, že je násobíme poměrem zapsaným do zlomku menšího než jedna (tj. čitatel je menší než jmenovat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 flipV="1">
            <a:off x="4211640" y="4005000"/>
            <a:ext cx="36036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 flipV="1">
            <a:off x="5392800" y="432108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 flipV="1">
            <a:off x="5450040" y="3701520"/>
            <a:ext cx="14436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 flipV="1">
            <a:off x="5205240" y="4262040"/>
            <a:ext cx="14472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 1 600 součástek bylo 44 vadných. Kolik procent součástek bylo bez va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lkový (základní) počet součástek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755640" y="2809800"/>
            <a:ext cx="2952720" cy="1513080"/>
          </a:xfrm>
          <a:prstGeom prst="cloudCallout">
            <a:avLst>
              <a:gd name="adj1" fmla="val 72203"/>
              <a:gd name="adj2" fmla="val -117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 součástek je bez vady a kolika procentům to odpovídá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5364000" y="2708280"/>
            <a:ext cx="2953080" cy="1512720"/>
          </a:xfrm>
          <a:prstGeom prst="cloudCallout">
            <a:avLst>
              <a:gd name="adj1" fmla="val -67634"/>
              <a:gd name="adj2" fmla="val -1096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Kolika procentům odpovídá celkový „základní“ počet součást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041480" y="543096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součástek je bez vady … 1600 - 44 = 15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042920" y="587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procent je 1556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1116000" y="492768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lkový počet součástek, tj. 1600 … 100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971640" y="11955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 1 600 součástek bylo 44 vadných. Kolik procent součástek bylo bez va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971640" y="1844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971640" y="205884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600 součástek …………………...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71640" y="27068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556 součástek ………………………… x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971640" y="341460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4154400" y="4724280"/>
            <a:ext cx="3313080" cy="16574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4920" y="3860640"/>
            <a:ext cx="2808360" cy="1368720"/>
          </a:xfrm>
          <a:prstGeom prst="cloudCallout">
            <a:avLst>
              <a:gd name="adj1" fmla="val 21055"/>
              <a:gd name="adj2" fmla="val -851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e stejném poměru, v jakém je zmenšen počet součástek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3246480" y="386064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4643280" y="3773520"/>
            <a:ext cx="50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4989600" y="3701880"/>
            <a:ext cx="10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4946760" y="417672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3635280" y="5229360"/>
            <a:ext cx="27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97,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1906560" y="5734080"/>
            <a:ext cx="59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Bez vady bylo 97,25 % součást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4930920" y="36021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5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3"/>
          <p:cNvSpPr/>
          <p:nvPr/>
        </p:nvSpPr>
        <p:spPr>
          <a:xfrm>
            <a:off x="6156360" y="3645000"/>
            <a:ext cx="2736720" cy="1081080"/>
          </a:xfrm>
          <a:prstGeom prst="cloudCallout">
            <a:avLst>
              <a:gd name="adj1" fmla="val -11194"/>
              <a:gd name="adj2" fmla="val -944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bude zmenšen i počet pro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4"/>
          <p:cNvSpPr/>
          <p:nvPr/>
        </p:nvSpPr>
        <p:spPr>
          <a:xfrm>
            <a:off x="1332000" y="4984920"/>
            <a:ext cx="4479840" cy="1773000"/>
          </a:xfrm>
          <a:prstGeom prst="cloudCallout">
            <a:avLst>
              <a:gd name="adj1" fmla="val 15166"/>
              <a:gd name="adj2" fmla="val -8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Číslo v daném poměru zmenšujeme tak, že je násobíme poměrem zapsaným do zlomku menšího než jedna (tj. čitatel je menší než jmenovat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5"/>
          <p:cNvSpPr/>
          <p:nvPr/>
        </p:nvSpPr>
        <p:spPr>
          <a:xfrm>
            <a:off x="1317600" y="190332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6"/>
          <p:cNvSpPr/>
          <p:nvPr/>
        </p:nvSpPr>
        <p:spPr>
          <a:xfrm>
            <a:off x="4657680" y="3371760"/>
            <a:ext cx="1440000" cy="14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1042920" y="443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lkový (základní) počet součástek … 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8"/>
          <p:cNvSpPr/>
          <p:nvPr/>
        </p:nvSpPr>
        <p:spPr>
          <a:xfrm>
            <a:off x="1041480" y="5430960"/>
            <a:ext cx="705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součástek je bez vady … 1600 - 44 = 15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9"/>
          <p:cNvSpPr/>
          <p:nvPr/>
        </p:nvSpPr>
        <p:spPr>
          <a:xfrm>
            <a:off x="1042920" y="587700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lik procent je 1556 …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0"/>
          <p:cNvSpPr/>
          <p:nvPr/>
        </p:nvSpPr>
        <p:spPr>
          <a:xfrm>
            <a:off x="1116000" y="4927680"/>
            <a:ext cx="70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elkový počet součástek, tj. 1600 … 100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1"/>
          <p:cNvSpPr/>
          <p:nvPr/>
        </p:nvSpPr>
        <p:spPr>
          <a:xfrm>
            <a:off x="3419640" y="4653000"/>
            <a:ext cx="35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= 1556 :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2"/>
          <p:cNvSpPr/>
          <p:nvPr/>
        </p:nvSpPr>
        <p:spPr>
          <a:xfrm flipV="1">
            <a:off x="4211640" y="4005000"/>
            <a:ext cx="36036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3"/>
          <p:cNvSpPr/>
          <p:nvPr/>
        </p:nvSpPr>
        <p:spPr>
          <a:xfrm flipV="1">
            <a:off x="5506920" y="4306680"/>
            <a:ext cx="36036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2-15T00:00:57Z</dcterms:modified>
  <cp:revision>158</cp:revision>
  <dc:subject/>
  <dc:title>Procenta - výpočet počtu procent</dc:title>
</cp:coreProperties>
</file>