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F70-BC58-4FE7-A7ED-30BA1198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4A0-1DD0-4A47-AB8E-B4CFF67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758-B753-4107-A997-7284EC80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211-D0BC-46B8-A5EE-F8C3ABC5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546-459F-4C4A-A965-81B73006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EF1B-1AEA-438C-A15F-56C7AB52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F2EC-7DEA-4FD3-9CC4-43AE1939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CCC-0B0A-4D85-933E-2434CBF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6149-BCDD-4971-B73D-EF93969A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B6F6-DDA5-483C-81FB-C3D7FA3A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1CA7-ACC4-4D56-B450-5A7C104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C2A-34C2-4C6C-B8B1-B4E4A77D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6D2C-2AAB-4E8A-943B-828ABE0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22A2-6079-450F-9FBC-3D165843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3F21-FEF7-415A-BD1A-EED6328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1A59-D9FD-49BD-8AFE-48F0F0D4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6013-DFA2-41B3-B2AF-53B4680E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B7B-8C52-4081-BA7B-952C6339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E03-3C77-493E-8F11-09EA292E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C70-EAA2-4472-B0B5-C2D105EF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8D8-E6F2-4907-9740-A8F9C72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EF9-E874-4756-BE30-2A03349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7FF-B794-4F66-B223-C1DD712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A52-7AED-4617-A074-A390ACB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12B2-90BA-4DB3-8847-CEBC659FA246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2EF9-C9C4-41AE-B4AA-EE717F478CAA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Úměrnosti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4360" y="414972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Rovnice a graf přímé úměrnos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4360" y="342900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má úměrno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5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4"/>
          <p:cNvSpPr/>
          <p:nvPr/>
        </p:nvSpPr>
        <p:spPr>
          <a:xfrm>
            <a:off x="6515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7"/>
          <p:cNvSpPr/>
          <p:nvPr/>
        </p:nvSpPr>
        <p:spPr>
          <a:xfrm>
            <a:off x="1042920" y="3141720"/>
            <a:ext cx="2233800" cy="1584360"/>
          </a:xfrm>
          <a:prstGeom prst="cloudCallout">
            <a:avLst>
              <a:gd name="adj1" fmla="val 93425"/>
              <a:gd name="adj2" fmla="val 23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o je grafem naší přímé úměr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1042920" y="4005360"/>
            <a:ext cx="2233800" cy="1584360"/>
          </a:xfrm>
          <a:prstGeom prst="cloudCallout">
            <a:avLst>
              <a:gd name="adj1" fmla="val 92787"/>
              <a:gd name="adj2" fmla="val -31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Jsou to jen sestrojené bod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971640" y="3500280"/>
            <a:ext cx="2233440" cy="1584360"/>
          </a:xfrm>
          <a:prstGeom prst="cloudCallout">
            <a:avLst>
              <a:gd name="adj1" fmla="val 95416"/>
              <a:gd name="adj2" fmla="val -6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dy to nebudou jen tyto bod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0.12604 -0.00208 E">
                                      <p:cBhvr>
                                        <p:cTn id="21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5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2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0"/>
          <p:cNvSpPr/>
          <p:nvPr/>
        </p:nvSpPr>
        <p:spPr>
          <a:xfrm>
            <a:off x="539640" y="2924280"/>
            <a:ext cx="2665440" cy="2303280"/>
          </a:xfrm>
          <a:prstGeom prst="cloudCallout">
            <a:avLst>
              <a:gd name="adj1" fmla="val 88060"/>
              <a:gd name="adj2" fmla="val 8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Grafem přímé úměry, která popisuje závislost ujeté dráhy na čase při průměrné rychlosti 60 km/h je polopřímka, procházející „našimi body“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7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6"/>
          <p:cNvSpPr/>
          <p:nvPr/>
        </p:nvSpPr>
        <p:spPr>
          <a:xfrm>
            <a:off x="468360" y="2995560"/>
            <a:ext cx="37432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Grafem přímé úměrnosti je obecně přímka procházející počátkem soustavy souřadnic (pokud je definičním oborem množina reálných čísel). </a:t>
            </a:r>
            <a:br>
              <a:rPr sz="1500"/>
            </a:b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Avšak vzhledem k definičnímu oboru pracujeme většinou pouze </a:t>
            </a:r>
            <a:br>
              <a:rPr sz="1500"/>
            </a:b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s podmnožinami přímky, </a:t>
            </a:r>
            <a:br>
              <a:rPr sz="1500"/>
            </a:b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tj. buď s polopřímkou nebo s úsečkou.</a:t>
            </a:r>
            <a:br>
              <a:rPr sz="1500"/>
            </a:b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Pokud je však definičním oborem množina přirozených čísel, pak grafem závislosti je množina izolovaných bodů ležících na přímce (event. na polopřímce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611280" y="3213000"/>
            <a:ext cx="2881080" cy="2376720"/>
          </a:xfrm>
          <a:prstGeom prst="cloudCallout">
            <a:avLst>
              <a:gd name="adj1" fmla="val 110990"/>
              <a:gd name="adj2" fmla="val 26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Jak jsme si tedy vyvodili, grafem přímé úměry je polopřímka, která znázorňuje graficky množinu všech bodů, které odpovídají dané přímé úměř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684360" y="3068640"/>
            <a:ext cx="2808000" cy="2592360"/>
          </a:xfrm>
          <a:prstGeom prst="cloudCallout">
            <a:avLst>
              <a:gd name="adj1" fmla="val 112578"/>
              <a:gd name="adj2" fmla="val 283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Existuje nějaký vztah, vzorec, rovnice, která nám pomůže všechny body odpovídající naší přímé úměře, všechny uspořádané dvojice času a k němu odpovídající dráhy „najít“, vypočít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7"/>
          <p:cNvSpPr/>
          <p:nvPr/>
        </p:nvSpPr>
        <p:spPr>
          <a:xfrm>
            <a:off x="684360" y="3068640"/>
            <a:ext cx="2808000" cy="2592360"/>
          </a:xfrm>
          <a:prstGeom prst="cloudCallout">
            <a:avLst>
              <a:gd name="adj1" fmla="val 112578"/>
              <a:gd name="adj2" fmla="val 283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no existu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 my si tuto rovnici společně odvodí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2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8360" y="24638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dívejte se na tabulku a pokuste se najít vztah mezi odpovídajícími si hodnotami času a drá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190656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9"/>
          <p:cNvSpPr/>
          <p:nvPr/>
        </p:nvSpPr>
        <p:spPr>
          <a:xfrm>
            <a:off x="3059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0"/>
          <p:cNvSpPr/>
          <p:nvPr/>
        </p:nvSpPr>
        <p:spPr>
          <a:xfrm>
            <a:off x="422604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536400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6515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3"/>
          <p:cNvSpPr/>
          <p:nvPr/>
        </p:nvSpPr>
        <p:spPr>
          <a:xfrm>
            <a:off x="766764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541440" y="29955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0  :  1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468360" y="335772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20  :  2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468360" y="371628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80  :  3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468360" y="407664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40  :  4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468360" y="443700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00  :  5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9"/>
          <p:cNvSpPr/>
          <p:nvPr/>
        </p:nvSpPr>
        <p:spPr>
          <a:xfrm>
            <a:off x="468360" y="47973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60  :  6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0"/>
          <p:cNvSpPr/>
          <p:nvPr/>
        </p:nvSpPr>
        <p:spPr>
          <a:xfrm>
            <a:off x="2741760" y="3025800"/>
            <a:ext cx="606240" cy="22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1"/>
          <p:cNvSpPr/>
          <p:nvPr/>
        </p:nvSpPr>
        <p:spPr>
          <a:xfrm>
            <a:off x="4427640" y="4149720"/>
            <a:ext cx="2160360" cy="2016000"/>
          </a:xfrm>
          <a:prstGeom prst="cloudCallout">
            <a:avLst>
              <a:gd name="adj1" fmla="val -96435"/>
              <a:gd name="adj2" fmla="val -9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onstan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našem případě číslo 60, tedy průměrná rychlost automobil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60 km/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4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vnice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68360" y="24638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dívejte se na tabulku a pokuste se najít vztah mezi odpovídajícími si hodnotami času a drá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34"/>
          <p:cNvSpPr/>
          <p:nvPr/>
        </p:nvSpPr>
        <p:spPr>
          <a:xfrm>
            <a:off x="190656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5"/>
          <p:cNvSpPr/>
          <p:nvPr/>
        </p:nvSpPr>
        <p:spPr>
          <a:xfrm>
            <a:off x="3059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422604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7"/>
          <p:cNvSpPr/>
          <p:nvPr/>
        </p:nvSpPr>
        <p:spPr>
          <a:xfrm>
            <a:off x="536400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8"/>
          <p:cNvSpPr/>
          <p:nvPr/>
        </p:nvSpPr>
        <p:spPr>
          <a:xfrm>
            <a:off x="6515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9"/>
          <p:cNvSpPr/>
          <p:nvPr/>
        </p:nvSpPr>
        <p:spPr>
          <a:xfrm>
            <a:off x="766764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541440" y="29955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0  :  1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1"/>
          <p:cNvSpPr/>
          <p:nvPr/>
        </p:nvSpPr>
        <p:spPr>
          <a:xfrm>
            <a:off x="468360" y="335772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20  :  2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468360" y="371628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80  :  3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468360" y="407664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40  :  4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468360" y="443700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00  :  5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468360" y="47973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60  :  6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2741760" y="3025800"/>
            <a:ext cx="606240" cy="22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7"/>
          <p:cNvSpPr/>
          <p:nvPr/>
        </p:nvSpPr>
        <p:spPr>
          <a:xfrm>
            <a:off x="4427640" y="4149720"/>
            <a:ext cx="2160360" cy="2016000"/>
          </a:xfrm>
          <a:prstGeom prst="cloudCallout">
            <a:avLst>
              <a:gd name="adj1" fmla="val -101138"/>
              <a:gd name="adj2" fmla="val -14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onstan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našem případě číslo 60, tedy průměrná rychlost automobil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60 km/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8"/>
          <p:cNvSpPr/>
          <p:nvPr/>
        </p:nvSpPr>
        <p:spPr>
          <a:xfrm>
            <a:off x="2181240" y="3025800"/>
            <a:ext cx="403200" cy="22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9"/>
          <p:cNvSpPr/>
          <p:nvPr/>
        </p:nvSpPr>
        <p:spPr>
          <a:xfrm>
            <a:off x="1835280" y="5805360"/>
            <a:ext cx="1081080" cy="719280"/>
          </a:xfrm>
          <a:prstGeom prst="cloudCallout">
            <a:avLst>
              <a:gd name="adj1" fmla="val -805"/>
              <a:gd name="adj2" fmla="val -127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0"/>
          <p:cNvSpPr/>
          <p:nvPr/>
        </p:nvSpPr>
        <p:spPr>
          <a:xfrm>
            <a:off x="1317600" y="3040200"/>
            <a:ext cx="749160" cy="2232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1"/>
          <p:cNvSpPr/>
          <p:nvPr/>
        </p:nvSpPr>
        <p:spPr>
          <a:xfrm>
            <a:off x="179280" y="5516640"/>
            <a:ext cx="1081080" cy="718920"/>
          </a:xfrm>
          <a:prstGeom prst="cloudCallout">
            <a:avLst>
              <a:gd name="adj1" fmla="val 79810"/>
              <a:gd name="adj2" fmla="val -89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ráh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468360" y="530064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s  :  t  =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468360" y="567540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s  =  v 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1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ecná rovnice přímé úměrnosti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(úměry)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68360" y="24638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dívejte se na tabulku a pokuste se najít vztah mezi odpovídajícími si hodnotami času a drá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0"/>
          <p:cNvSpPr/>
          <p:nvPr/>
        </p:nvSpPr>
        <p:spPr>
          <a:xfrm>
            <a:off x="541440" y="29955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0  :  1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>
            <a:off x="468360" y="335772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20  :  2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468360" y="371628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80  :  3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>
            <a:off x="468360" y="407664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40  :  4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4"/>
          <p:cNvSpPr/>
          <p:nvPr/>
        </p:nvSpPr>
        <p:spPr>
          <a:xfrm>
            <a:off x="468360" y="443700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00  :  5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468360" y="47973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60  :  6  =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468360" y="530064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s  :  t  = 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3"/>
          <p:cNvSpPr/>
          <p:nvPr/>
        </p:nvSpPr>
        <p:spPr>
          <a:xfrm>
            <a:off x="468360" y="5832360"/>
            <a:ext cx="37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s  =  v 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4"/>
          <p:cNvSpPr/>
          <p:nvPr/>
        </p:nvSpPr>
        <p:spPr>
          <a:xfrm>
            <a:off x="4427640" y="4149720"/>
            <a:ext cx="2160360" cy="2016000"/>
          </a:xfrm>
          <a:prstGeom prst="cloudCallout">
            <a:avLst>
              <a:gd name="adj1" fmla="val -97759"/>
              <a:gd name="adj2" fmla="val 382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Rovnici naší přímé úměrnosti si nyní zobecní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5"/>
          <p:cNvSpPr/>
          <p:nvPr/>
        </p:nvSpPr>
        <p:spPr>
          <a:xfrm>
            <a:off x="611280" y="1628640"/>
            <a:ext cx="1008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6"/>
          <p:cNvSpPr/>
          <p:nvPr/>
        </p:nvSpPr>
        <p:spPr>
          <a:xfrm>
            <a:off x="611280" y="2062080"/>
            <a:ext cx="1008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7"/>
          <p:cNvSpPr/>
          <p:nvPr/>
        </p:nvSpPr>
        <p:spPr>
          <a:xfrm>
            <a:off x="7956720" y="6093000"/>
            <a:ext cx="3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8"/>
          <p:cNvSpPr/>
          <p:nvPr/>
        </p:nvSpPr>
        <p:spPr>
          <a:xfrm>
            <a:off x="4052880" y="2781360"/>
            <a:ext cx="360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9"/>
          <p:cNvSpPr/>
          <p:nvPr/>
        </p:nvSpPr>
        <p:spPr>
          <a:xfrm>
            <a:off x="468360" y="5300640"/>
            <a:ext cx="374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rebuchet MS"/>
              </a:rPr>
              <a:t>y  :  x  =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2"/>
          <p:cNvSpPr/>
          <p:nvPr/>
        </p:nvSpPr>
        <p:spPr>
          <a:xfrm>
            <a:off x="482760" y="5877000"/>
            <a:ext cx="37432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y  =  k .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3"/>
          <p:cNvSpPr/>
          <p:nvPr/>
        </p:nvSpPr>
        <p:spPr>
          <a:xfrm>
            <a:off x="395280" y="2997360"/>
            <a:ext cx="3319560" cy="2016000"/>
          </a:xfrm>
          <a:prstGeom prst="cloudCallout">
            <a:avLst>
              <a:gd name="adj1" fmla="val -1254"/>
              <a:gd name="adj2" fmla="val 96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rči pomocí rovnice a následně i grafu další odpovídající hodnoty. Např. jakou dráhu ujede automobil za 1,5 hodiny, za jak dlouho ujede 330 km, at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01" descr=""/>
          <p:cNvPicPr/>
          <p:nvPr/>
        </p:nvPicPr>
        <p:blipFill>
          <a:blip r:embed="rId1"/>
          <a:stretch/>
        </p:blipFill>
        <p:spPr>
          <a:xfrm>
            <a:off x="3492360" y="2867040"/>
            <a:ext cx="4838760" cy="3514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má úměrnost (úměra) – příklady - 1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96800" y="1974960"/>
          <a:ext cx="8136000" cy="873000"/>
        </p:xfrm>
        <a:graphic>
          <a:graphicData uri="http://schemas.openxmlformats.org/drawingml/2006/table">
            <a:tbl>
              <a:tblPr/>
              <a:tblGrid>
                <a:gridCol w="2922840"/>
                <a:gridCol w="647640"/>
                <a:gridCol w="649080"/>
                <a:gridCol w="647640"/>
                <a:gridCol w="648000"/>
                <a:gridCol w="647640"/>
                <a:gridCol w="649080"/>
                <a:gridCol w="648000"/>
                <a:gridCol w="676080"/>
              </a:tblGrid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 … počet rohlíků (kusů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 … cena rohlíků (Kč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136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Jeden rohlík stojí 2,- Kč. Kolik korun budou stát 2, 3, …, 8 rohlíků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7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8"/>
          <p:cNvSpPr/>
          <p:nvPr/>
        </p:nvSpPr>
        <p:spPr>
          <a:xfrm>
            <a:off x="468360" y="14130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Sestav tabulku přímé úmě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1"/>
          <p:cNvSpPr/>
          <p:nvPr/>
        </p:nvSpPr>
        <p:spPr>
          <a:xfrm>
            <a:off x="468360" y="2852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Urči rovnici přímé úmě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2"/>
          <p:cNvSpPr/>
          <p:nvPr/>
        </p:nvSpPr>
        <p:spPr>
          <a:xfrm>
            <a:off x="684360" y="321300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2 : 1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3"/>
          <p:cNvSpPr/>
          <p:nvPr/>
        </p:nvSpPr>
        <p:spPr>
          <a:xfrm>
            <a:off x="684360" y="342900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4 : 2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4"/>
          <p:cNvSpPr/>
          <p:nvPr/>
        </p:nvSpPr>
        <p:spPr>
          <a:xfrm>
            <a:off x="684360" y="3645000"/>
            <a:ext cx="266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6 : 3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5"/>
          <p:cNvSpPr/>
          <p:nvPr/>
        </p:nvSpPr>
        <p:spPr>
          <a:xfrm>
            <a:off x="684360" y="3860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8 : 4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96"/>
          <p:cNvSpPr/>
          <p:nvPr/>
        </p:nvSpPr>
        <p:spPr>
          <a:xfrm>
            <a:off x="684360" y="4076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97"/>
          <p:cNvSpPr/>
          <p:nvPr/>
        </p:nvSpPr>
        <p:spPr>
          <a:xfrm>
            <a:off x="684360" y="458136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k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98"/>
          <p:cNvSpPr/>
          <p:nvPr/>
        </p:nvSpPr>
        <p:spPr>
          <a:xfrm>
            <a:off x="684360" y="553068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y = 2 .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9"/>
          <p:cNvSpPr/>
          <p:nvPr/>
        </p:nvSpPr>
        <p:spPr>
          <a:xfrm>
            <a:off x="684360" y="504180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y = k 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02" descr=""/>
          <p:cNvPicPr/>
          <p:nvPr/>
        </p:nvPicPr>
        <p:blipFill>
          <a:blip r:embed="rId2"/>
          <a:stretch/>
        </p:blipFill>
        <p:spPr>
          <a:xfrm>
            <a:off x="3490920" y="2867040"/>
            <a:ext cx="4838760" cy="3514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00"/>
          <p:cNvSpPr/>
          <p:nvPr/>
        </p:nvSpPr>
        <p:spPr>
          <a:xfrm>
            <a:off x="5148360" y="2852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Sestroj graf přímé úmě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14440" y="13986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4440" y="13986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Oval 37"/>
          <p:cNvSpPr/>
          <p:nvPr/>
        </p:nvSpPr>
        <p:spPr>
          <a:xfrm>
            <a:off x="6012000" y="1441440"/>
            <a:ext cx="647640" cy="792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8"/>
          <p:cNvSpPr/>
          <p:nvPr/>
        </p:nvSpPr>
        <p:spPr>
          <a:xfrm>
            <a:off x="53964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Konstanta k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36 : 12 = 3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9"/>
          <p:cNvSpPr/>
          <p:nvPr/>
        </p:nvSpPr>
        <p:spPr>
          <a:xfrm>
            <a:off x="539640" y="393372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ovnice přímé úměry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y = k . x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y =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68360" y="15429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Určete, zda se jedná o přímou úměru a své tvrzení zdůvodně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468360" y="34862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Sestavte tabulku této přímé úmě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68360" y="1557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5640" y="4076640"/>
          <a:ext cx="8147160" cy="2108160"/>
        </p:xfrm>
        <a:graphic>
          <a:graphicData uri="http://schemas.openxmlformats.org/drawingml/2006/table">
            <a:tbl>
              <a:tblPr/>
              <a:tblGrid>
                <a:gridCol w="1163880"/>
                <a:gridCol w="1162080"/>
                <a:gridCol w="1163520"/>
                <a:gridCol w="1166760"/>
                <a:gridCol w="1160640"/>
                <a:gridCol w="1164960"/>
                <a:gridCol w="1165320"/>
              </a:tblGrid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47"/>
          <p:cNvSpPr/>
          <p:nvPr/>
        </p:nvSpPr>
        <p:spPr>
          <a:xfrm>
            <a:off x="468360" y="191628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no. Jde o přímou úměru dráhy a ča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468360" y="25639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ůměrná rychlost 60 km/h znamená, že automobil ujede 60 kilometrů za jednu hodinu, jinými slovy 60 kilometrů každou hodinu. Za jednu hodinu tedy 60 kilometrů, za dvě hodiny dvakrát více, za tři hodiny třikrát více, atd. Z toho tedy vyplývá, že kolikrát se zvětší jedna veličina, tolikrát se zvětší i veličina druh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14440" y="13986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Rectangle 38"/>
          <p:cNvSpPr/>
          <p:nvPr/>
        </p:nvSpPr>
        <p:spPr>
          <a:xfrm>
            <a:off x="53964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Konstanta k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36 : 12 = 3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539640" y="393372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ovnice přímé úměry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y = k . x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y = 3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1" descr=""/>
          <p:cNvPicPr/>
          <p:nvPr/>
        </p:nvPicPr>
        <p:blipFill>
          <a:blip r:embed="rId1"/>
          <a:stretch/>
        </p:blipFill>
        <p:spPr>
          <a:xfrm>
            <a:off x="3255840" y="2386080"/>
            <a:ext cx="5061240" cy="3995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2" descr=""/>
          <p:cNvPicPr/>
          <p:nvPr/>
        </p:nvPicPr>
        <p:blipFill>
          <a:blip r:embed="rId2"/>
          <a:stretch/>
        </p:blipFill>
        <p:spPr>
          <a:xfrm>
            <a:off x="3255840" y="2386080"/>
            <a:ext cx="5061240" cy="3995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3" descr=""/>
          <p:cNvPicPr/>
          <p:nvPr/>
        </p:nvPicPr>
        <p:blipFill>
          <a:blip r:embed="rId3"/>
          <a:stretch/>
        </p:blipFill>
        <p:spPr>
          <a:xfrm>
            <a:off x="3255840" y="2386080"/>
            <a:ext cx="5061240" cy="399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0"/>
          <p:cNvSpPr/>
          <p:nvPr/>
        </p:nvSpPr>
        <p:spPr>
          <a:xfrm>
            <a:off x="4140360" y="249228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Gra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3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</a:t>
            </a:r>
            <a:r>
              <a:rPr b="1" lang="cs-CZ" sz="16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14440" y="14130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3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</a:t>
            </a:r>
            <a:r>
              <a:rPr b="1" lang="cs-CZ" sz="16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514440" y="14130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Oval 37"/>
          <p:cNvSpPr/>
          <p:nvPr/>
        </p:nvSpPr>
        <p:spPr>
          <a:xfrm>
            <a:off x="4241880" y="1441440"/>
            <a:ext cx="647640" cy="792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8"/>
          <p:cNvSpPr/>
          <p:nvPr/>
        </p:nvSpPr>
        <p:spPr>
          <a:xfrm>
            <a:off x="53964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Konstanta k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0 : 20 = 0,5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 = 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9"/>
          <p:cNvSpPr/>
          <p:nvPr/>
        </p:nvSpPr>
        <p:spPr>
          <a:xfrm>
            <a:off x="539640" y="393372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ovnice přímé úměry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y = k . x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y = 0,5 .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3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468360" y="907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rči rovnici přímé úměry, doplň tabulku a sestroj graf dané úměry (v R</a:t>
            </a:r>
            <a:r>
              <a:rPr b="1" lang="cs-CZ" sz="16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514440" y="1413000"/>
          <a:ext cx="8076960" cy="8730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200"/>
                <a:gridCol w="897120"/>
                <a:gridCol w="896760"/>
              </a:tblGrid>
              <a:tr h="43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3333cc"/>
                          </a:solidFill>
                          <a:latin typeface="Trebuchet MS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38"/>
          <p:cNvSpPr/>
          <p:nvPr/>
        </p:nvSpPr>
        <p:spPr>
          <a:xfrm>
            <a:off x="53964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Konstanta k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0 : 20 = 0,5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 = 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9"/>
          <p:cNvSpPr/>
          <p:nvPr/>
        </p:nvSpPr>
        <p:spPr>
          <a:xfrm>
            <a:off x="539640" y="393372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ovnice přímé úměry: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y = k . x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y = 0,5 .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0" descr=""/>
          <p:cNvPicPr/>
          <p:nvPr/>
        </p:nvPicPr>
        <p:blipFill>
          <a:blip r:embed="rId1"/>
          <a:stretch/>
        </p:blipFill>
        <p:spPr>
          <a:xfrm>
            <a:off x="3398760" y="2386080"/>
            <a:ext cx="5060880" cy="3995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1" descr=""/>
          <p:cNvPicPr/>
          <p:nvPr/>
        </p:nvPicPr>
        <p:blipFill>
          <a:blip r:embed="rId2"/>
          <a:stretch/>
        </p:blipFill>
        <p:spPr>
          <a:xfrm>
            <a:off x="3398760" y="2386080"/>
            <a:ext cx="5060880" cy="3995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2" descr=""/>
          <p:cNvPicPr/>
          <p:nvPr/>
        </p:nvPicPr>
        <p:blipFill>
          <a:blip r:embed="rId3"/>
          <a:stretch/>
        </p:blipFill>
        <p:spPr>
          <a:xfrm>
            <a:off x="3398760" y="2387520"/>
            <a:ext cx="5060880" cy="39956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3"/>
          <p:cNvSpPr/>
          <p:nvPr/>
        </p:nvSpPr>
        <p:spPr>
          <a:xfrm>
            <a:off x="4140360" y="249228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Gra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má úměrnost (úměra)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- závěr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8360" y="30402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Shrňme si, co již o přímé úměrnosti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8360" y="332892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cc00"/>
                </a:solidFill>
                <a:latin typeface="Trebuchet MS"/>
              </a:rPr>
              <a:t>Kolikrát se zvětší (zmenší) jedna veličina, tolikrát se zvětší (zmenší) druhá velič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8360" y="3760920"/>
            <a:ext cx="820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rebuchet MS"/>
              </a:rPr>
              <a:t>V jakém poměru se zvětší (zmenší) jedna veličina, v takovém poměru se zvětší (zmenší) druhá velič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8360" y="419256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Takový vztah mezi dvěma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veličinami se nazývá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římá úměrnost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468360" y="449568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Říkáme, že </a:t>
            </a:r>
            <a:r>
              <a:rPr b="1" lang="en-GB" sz="1600" spc="-1" strike="noStrike">
                <a:solidFill>
                  <a:srgbClr val="ff0000"/>
                </a:solidFill>
                <a:latin typeface="Trebuchet MS"/>
              </a:rPr>
              <a:t>veličiny jsou přímo úměrné</a:t>
            </a:r>
            <a:r>
              <a:rPr b="1" lang="en-GB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1440" y="1689120"/>
          <a:ext cx="8076960" cy="14526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Rectangle 35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6"/>
          <p:cNvSpPr/>
          <p:nvPr/>
        </p:nvSpPr>
        <p:spPr>
          <a:xfrm>
            <a:off x="468360" y="1557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7"/>
          <p:cNvSpPr/>
          <p:nvPr/>
        </p:nvSpPr>
        <p:spPr>
          <a:xfrm>
            <a:off x="468360" y="479736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Rovnice přímé úměry …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y = k .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8"/>
          <p:cNvSpPr/>
          <p:nvPr/>
        </p:nvSpPr>
        <p:spPr>
          <a:xfrm>
            <a:off x="468360" y="555948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Grafem přímé úměrnosti je obecně přímka procházející počátkem soustavy souřadnic </a:t>
            </a: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(pokud je definičním oborem množina reálných čísel). Avšak vzhledem k definičnímu oboru pracujeme většinou pouze s podmnožinami přímky, tj. buď s polopřímkou nebo </a:t>
            </a:r>
            <a:br>
              <a:rPr sz="1500"/>
            </a:b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s úsečkou. Pokud je však definičním oborem množina přirozených čísel, pak grafem závislosti je množina izolovaných bodů ležících na přímce (event. na polopřímc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má úměrnost (úměra)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- opakování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468360" y="3139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opakujme si, co již o přímé úměrnosti ví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468360" y="36450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rebuchet MS"/>
              </a:rPr>
              <a:t>Kolikrát se zvětší (zmenší) jedna veličina, tolikrát se zvětší (zmenší) druh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8"/>
          <p:cNvSpPr/>
          <p:nvPr/>
        </p:nvSpPr>
        <p:spPr>
          <a:xfrm>
            <a:off x="468360" y="4437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rebuchet MS"/>
              </a:rPr>
              <a:t>V jakém poměru se zvětší (zmenší) jedna veličina,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rebuchet MS"/>
              </a:rPr>
              <a:t>v takovém poměru se zvětší (zmenší) druh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9"/>
          <p:cNvSpPr/>
          <p:nvPr/>
        </p:nvSpPr>
        <p:spPr>
          <a:xfrm>
            <a:off x="468360" y="52722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akový vztah mezi dvěma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veličinami se nazývá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přímá úměrnost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468360" y="5877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Říkáme, že </a:t>
            </a: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veličiny jsou přímo úměrné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41440" y="1689120"/>
          <a:ext cx="8076960" cy="14526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69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0"/>
          <p:cNvSpPr/>
          <p:nvPr/>
        </p:nvSpPr>
        <p:spPr>
          <a:xfrm>
            <a:off x="468360" y="155736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35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6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0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1"/>
          <p:cNvSpPr/>
          <p:nvPr/>
        </p:nvSpPr>
        <p:spPr>
          <a:xfrm>
            <a:off x="611280" y="2997360"/>
            <a:ext cx="2665440" cy="1728720"/>
          </a:xfrm>
          <a:prstGeom prst="cloudCallout">
            <a:avLst>
              <a:gd name="adj1" fmla="val 86388"/>
              <a:gd name="adj2" fmla="val 25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ejdříve si sestrojíme vhodně volenou kartézskou soustavu souřadn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2"/>
          <p:cNvSpPr/>
          <p:nvPr/>
        </p:nvSpPr>
        <p:spPr>
          <a:xfrm>
            <a:off x="2124000" y="4869000"/>
            <a:ext cx="1801800" cy="1150920"/>
          </a:xfrm>
          <a:prstGeom prst="cloudCallout">
            <a:avLst>
              <a:gd name="adj1" fmla="val 86652"/>
              <a:gd name="adj2" fmla="val 24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Jen v kladných hodnotác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3"/>
          <p:cNvSpPr/>
          <p:nvPr/>
        </p:nvSpPr>
        <p:spPr>
          <a:xfrm>
            <a:off x="7020000" y="4221000"/>
            <a:ext cx="1801800" cy="1151280"/>
          </a:xfrm>
          <a:prstGeom prst="cloudCallout">
            <a:avLst>
              <a:gd name="adj1" fmla="val -28768"/>
              <a:gd name="adj2" fmla="val 95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1 dílek na ose času odpovíd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1 hodině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5219640" y="2924280"/>
            <a:ext cx="1995480" cy="1150920"/>
          </a:xfrm>
          <a:prstGeom prst="cloudCallout">
            <a:avLst>
              <a:gd name="adj1" fmla="val -86740"/>
              <a:gd name="adj2" fmla="val 33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 1 dílek na ose dráhy odpovíd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60 kilometrů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1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3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8"/>
          <p:cNvSpPr/>
          <p:nvPr/>
        </p:nvSpPr>
        <p:spPr>
          <a:xfrm>
            <a:off x="1042920" y="3141720"/>
            <a:ext cx="2233800" cy="1584360"/>
          </a:xfrm>
          <a:prstGeom prst="cloudCallout">
            <a:avLst>
              <a:gd name="adj1" fmla="val 93425"/>
              <a:gd name="adj2" fmla="val 23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té již do grafu postupně sestrojíme příslušné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9"/>
          <p:cNvSpPr/>
          <p:nvPr/>
        </p:nvSpPr>
        <p:spPr>
          <a:xfrm>
            <a:off x="1908000" y="1628640"/>
            <a:ext cx="72108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0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27" name="Line 41"/>
          <p:cNvSpPr/>
          <p:nvPr/>
        </p:nvSpPr>
        <p:spPr>
          <a:xfrm flipV="1">
            <a:off x="4932360" y="2781360"/>
            <a:ext cx="0" cy="345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3"/>
          <p:cNvSpPr/>
          <p:nvPr/>
        </p:nvSpPr>
        <p:spPr>
          <a:xfrm>
            <a:off x="3924360" y="5575320"/>
            <a:ext cx="4535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6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31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1908000" y="1628640"/>
            <a:ext cx="72108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7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0.12604 -0.00208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5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05928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6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0.12604 -0.00208 E">
                                      <p:cBhvr>
                                        <p:cTn id="18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5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422604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6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0.12604 -0.00208 E">
                                      <p:cBhvr>
                                        <p:cTn id="19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5" descr=""/>
          <p:cNvPicPr/>
          <p:nvPr/>
        </p:nvPicPr>
        <p:blipFill>
          <a:blip r:embed="rId1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Graf přímé úměrnosti (úměry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360" y="23623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e zadaných a vypočtených hodnot v tabulce sestav graf závislosti dráhy na č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1440" y="1573200"/>
          <a:ext cx="8076960" cy="873000"/>
        </p:xfrm>
        <a:graphic>
          <a:graphicData uri="http://schemas.openxmlformats.org/drawingml/2006/table">
            <a:tbl>
              <a:tblPr/>
              <a:tblGrid>
                <a:gridCol w="1152360"/>
                <a:gridCol w="1154160"/>
                <a:gridCol w="1152720"/>
                <a:gridCol w="1157040"/>
                <a:gridCol w="1150920"/>
                <a:gridCol w="1154160"/>
                <a:gridCol w="115560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Čas (hod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ráha (km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32"/>
          <p:cNvSpPr/>
          <p:nvPr/>
        </p:nvSpPr>
        <p:spPr>
          <a:xfrm>
            <a:off x="468360" y="9381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klad: Automobil jede průměrnou rychlostí 60 km/h. Urči kolik kilometrů ujede od chvíle, kdy začneme měřit čas za 1, 2, 3, 4, 5, 6 hod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4"/>
          <p:cNvSpPr/>
          <p:nvPr/>
        </p:nvSpPr>
        <p:spPr>
          <a:xfrm>
            <a:off x="5364000" y="1628640"/>
            <a:ext cx="720720" cy="7779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7" descr=""/>
          <p:cNvPicPr/>
          <p:nvPr/>
        </p:nvPicPr>
        <p:blipFill>
          <a:blip r:embed="rId2"/>
          <a:stretch/>
        </p:blipFill>
        <p:spPr>
          <a:xfrm>
            <a:off x="3849840" y="2867040"/>
            <a:ext cx="446724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6 L 0.12604 -0.00208 E">
                                      <p:cBhvr>
                                        <p:cTn id="2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08T23:29:31Z</dcterms:modified>
  <cp:revision>222</cp:revision>
  <dc:subject/>
  <dc:title>Přímá úměrnost - graf a rovnice</dc:title>
</cp:coreProperties>
</file>