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D9F-EB21-488B-A39C-490D25D3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6B4-F366-462F-BCF8-D6D54128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F1D-4BB7-4548-8FBB-0E1CDA6F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F08-9D0D-46A8-B0B1-77E16CF4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950A-6507-4E69-85AE-7FE59BEA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E028-8A6B-4DC4-BBCB-2EA0FBC6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340B-47FA-453E-ADDE-0764291F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819A-D936-43F4-A3DE-2AAB51DF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C1A6-08B8-4976-8B00-190541C2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A199-0FC8-4C1D-A651-43703ABE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6136-CCDE-4C46-8E12-702A5D77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13F-AB17-4710-9551-53DA81EF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453F-E2E7-4DE7-BC76-738666A1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8D89-033A-42E9-B161-1DCFB1BE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4DC6-FBFE-4167-A65A-02EABD14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2BB0-3B8B-404C-973F-E16A9687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FFEF-26DE-489A-8A35-651ABCAF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A74-B10C-48DE-A40B-9726087A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D42-6416-4415-A729-90D02553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F39-0651-454F-9589-C6745DC1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26A-66CC-4701-AFAA-E6BEE429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AD1-2312-4305-82BD-7680F821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91B-D2C7-4878-A41F-9C24E794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0CC-1FB1-4BD6-86EA-AEFE8CA6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3C8B-FF5C-43FE-BA7D-65637C5A57E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entury Gothic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55B3-9555-4624-AA4E-A0B0C8991DC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odobnost 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68360" y="3789000"/>
            <a:ext cx="4896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Věty o podobnosti trojúhelníků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1332000" y="186840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1"/>
          <p:cNvSpPr/>
          <p:nvPr/>
        </p:nvSpPr>
        <p:spPr>
          <a:xfrm>
            <a:off x="1057320" y="1038240"/>
            <a:ext cx="439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Porovnejme nyní vnitřní úh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2"/>
              <p:cNvSpPr txBox="1"/>
              <p:nvPr/>
            </p:nvSpPr>
            <p:spPr>
              <a:xfrm>
                <a:off x="611280" y="5589720"/>
                <a:ext cx="29383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A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ZXY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4" name="Picture 19" descr=""/>
          <p:cNvPicPr/>
          <p:nvPr/>
        </p:nvPicPr>
        <p:blipFill>
          <a:blip r:embed="rId2"/>
          <a:stretch/>
        </p:blipFill>
        <p:spPr>
          <a:xfrm>
            <a:off x="1327320" y="1868400"/>
            <a:ext cx="6456240" cy="3576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uhlom"/>
          <p:cNvPicPr/>
          <p:nvPr/>
        </p:nvPicPr>
        <p:blipFill>
          <a:blip r:embed="rId3"/>
          <a:stretch/>
        </p:blipFill>
        <p:spPr>
          <a:xfrm>
            <a:off x="-598320" y="2882880"/>
            <a:ext cx="4381200" cy="2476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6165720"/>
            <a:ext cx="1557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Autor © Radomír Machá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332000" y="186840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1057320" y="1038240"/>
            <a:ext cx="439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Porovnejme nyní vnitřní úh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2"/>
          <a:stretch/>
        </p:blipFill>
        <p:spPr>
          <a:xfrm>
            <a:off x="1327320" y="186840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193" name="Line 11"/>
          <p:cNvSpPr/>
          <p:nvPr/>
        </p:nvSpPr>
        <p:spPr>
          <a:xfrm flipH="1" flipV="1">
            <a:off x="2900520" y="2982600"/>
            <a:ext cx="158400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2"/>
              <p:cNvSpPr txBox="1"/>
              <p:nvPr/>
            </p:nvSpPr>
            <p:spPr>
              <a:xfrm>
                <a:off x="3780000" y="5589720"/>
                <a:ext cx="1757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5" name="Picture 20" descr="uhlom"/>
          <p:cNvPicPr/>
          <p:nvPr/>
        </p:nvPicPr>
        <p:blipFill>
          <a:blip r:embed="rId3"/>
          <a:stretch/>
        </p:blipFill>
        <p:spPr>
          <a:xfrm>
            <a:off x="2263680" y="2882880"/>
            <a:ext cx="4381560" cy="2476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uhlom"/>
          <p:cNvPicPr/>
          <p:nvPr/>
        </p:nvPicPr>
        <p:blipFill>
          <a:blip r:embed="rId4"/>
          <a:stretch/>
        </p:blipFill>
        <p:spPr>
          <a:xfrm>
            <a:off x="5130720" y="2881440"/>
            <a:ext cx="4381560" cy="24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7" name="Object 24"/>
              <p:cNvSpPr txBox="1"/>
              <p:nvPr/>
            </p:nvSpPr>
            <p:spPr>
              <a:xfrm>
                <a:off x="5529240" y="5589720"/>
                <a:ext cx="1203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98" name="Picture 25" descr=""/>
          <p:cNvPicPr/>
          <p:nvPr/>
        </p:nvPicPr>
        <p:blipFill>
          <a:blip r:embed="rId5"/>
          <a:stretch/>
        </p:blipFill>
        <p:spPr>
          <a:xfrm>
            <a:off x="1327320" y="186840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6165720"/>
            <a:ext cx="1557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Autor © Radomír Machá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1327320" y="186840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057320" y="1038240"/>
            <a:ext cx="439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Porovnejme nyní vnitřní úh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1301760" y="2585880"/>
                <a:ext cx="1731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CA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2"/>
              <p:cNvSpPr txBox="1"/>
              <p:nvPr/>
            </p:nvSpPr>
            <p:spPr>
              <a:xfrm>
                <a:off x="3049560" y="2585880"/>
                <a:ext cx="1227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YZ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7" name="Picture 14" descr="uhlom"/>
          <p:cNvPicPr/>
          <p:nvPr/>
        </p:nvPicPr>
        <p:blipFill>
          <a:blip r:embed="rId2"/>
          <a:stretch/>
        </p:blipFill>
        <p:spPr>
          <a:xfrm rot="13980000">
            <a:off x="495360" y="3052080"/>
            <a:ext cx="4381560" cy="2476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uhlom"/>
          <p:cNvPicPr/>
          <p:nvPr/>
        </p:nvPicPr>
        <p:blipFill>
          <a:blip r:embed="rId3"/>
          <a:stretch/>
        </p:blipFill>
        <p:spPr>
          <a:xfrm rot="13980000">
            <a:off x="2324160" y="1672560"/>
            <a:ext cx="4381560" cy="247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4"/>
          <a:stretch/>
        </p:blipFill>
        <p:spPr>
          <a:xfrm>
            <a:off x="1327320" y="186840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6165720"/>
            <a:ext cx="1557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Autor © Radomír Machá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"/>
          <p:cNvPicPr/>
          <p:nvPr/>
        </p:nvPicPr>
        <p:blipFill>
          <a:blip r:embed="rId1"/>
          <a:stretch/>
        </p:blipFill>
        <p:spPr>
          <a:xfrm>
            <a:off x="1327320" y="186840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057320" y="1038240"/>
            <a:ext cx="439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Porovnejme nyní vnitřní úh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985680" y="5343480"/>
            <a:ext cx="748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va podobné trojúhelníky ABC a XYZ mají odpovídající si vnitřní úhly shodné (vnitřní úhly mají stejnou veliko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684360" y="5818320"/>
            <a:ext cx="799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CAB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ZXY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ABC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 =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XYZ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,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BCA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 =  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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YZX</a:t>
            </a:r>
            <a:r>
              <a:rPr b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327320" y="143676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985680" y="5013360"/>
            <a:ext cx="7488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ěta o podobnosti trojúhelníků: </a:t>
            </a:r>
            <a:r>
              <a:rPr b="1" lang="cs-CZ" sz="2400" spc="-1" strike="noStrike">
                <a:solidFill>
                  <a:srgbClr val="333399"/>
                </a:solidFill>
                <a:latin typeface="Century Gothic"/>
              </a:rPr>
              <a:t>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969840" y="5589720"/>
            <a:ext cx="7705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aždé dva trojúhelníky, které se shodují ve dvou úhlech, jsou podob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4859280" y="2708280"/>
            <a:ext cx="2665440" cy="1584360"/>
          </a:xfrm>
          <a:prstGeom prst="cloudCallout">
            <a:avLst>
              <a:gd name="adj1" fmla="val -54814"/>
              <a:gd name="adj2" fmla="val 10431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íš, proč jen „dva úhly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4859280" y="2205000"/>
            <a:ext cx="3816360" cy="2158920"/>
          </a:xfrm>
          <a:prstGeom prst="cloudCallout">
            <a:avLst>
              <a:gd name="adj1" fmla="val -52708"/>
              <a:gd name="adj2" fmla="val 865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likož součet všech tří úhlů je 180°, i třetí dvojice úhlů se musí rovn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1327320" y="143676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985680" y="4753080"/>
            <a:ext cx="7488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A na závěr ještě věta o podobnosti trojúhelníků třetí: </a:t>
            </a:r>
            <a:r>
              <a:rPr b="1" lang="cs-CZ" sz="2400" spc="-1" strike="noStrike">
                <a:solidFill>
                  <a:srgbClr val="333399"/>
                </a:solidFill>
                <a:latin typeface="Century Gothic"/>
              </a:rPr>
              <a:t>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969840" y="5487840"/>
            <a:ext cx="7705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aždé dva trojúhelníky, které mají sobě rovné poměry délek dvou odpovídajících si stran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hodují se v úhlu jimi sevřeném, jsou podob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5686560" y="1052640"/>
            <a:ext cx="3457440" cy="2158920"/>
          </a:xfrm>
          <a:prstGeom prst="cloudCallout">
            <a:avLst>
              <a:gd name="adj1" fmla="val -6976"/>
              <a:gd name="adj2" fmla="val 123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základě předcházejících zjištění již určitě není třeba vysvětlovat ví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"/>
          <p:cNvPicPr/>
          <p:nvPr/>
        </p:nvPicPr>
        <p:blipFill>
          <a:blip r:embed="rId1"/>
          <a:stretch/>
        </p:blipFill>
        <p:spPr>
          <a:xfrm>
            <a:off x="1716120" y="165276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332000" y="1627200"/>
            <a:ext cx="439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Zápis podob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052720" y="5300640"/>
            <a:ext cx="504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ABC  </a:t>
            </a: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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 XY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0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1" descr=""/>
          <p:cNvPicPr/>
          <p:nvPr/>
        </p:nvPicPr>
        <p:blipFill>
          <a:blip r:embed="rId1"/>
          <a:stretch/>
        </p:blipFill>
        <p:spPr>
          <a:xfrm>
            <a:off x="2076480" y="273204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8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9" descr=""/>
          <p:cNvPicPr/>
          <p:nvPr/>
        </p:nvPicPr>
        <p:blipFill>
          <a:blip r:embed="rId2"/>
          <a:stretch/>
        </p:blipFill>
        <p:spPr>
          <a:xfrm>
            <a:off x="1060560" y="942840"/>
            <a:ext cx="4232160" cy="2630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"/>
          <p:cNvPicPr/>
          <p:nvPr/>
        </p:nvPicPr>
        <p:blipFill>
          <a:blip r:embed="rId3"/>
          <a:stretch/>
        </p:blipFill>
        <p:spPr>
          <a:xfrm>
            <a:off x="2209680" y="5951520"/>
            <a:ext cx="6042240" cy="136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2" name="Object 25"/>
              <p:cNvSpPr txBox="1"/>
              <p:nvPr/>
            </p:nvSpPr>
            <p:spPr>
              <a:xfrm>
                <a:off x="6948360" y="776160"/>
                <a:ext cx="1500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3" name="Picture 27" descr=""/>
          <p:cNvPicPr/>
          <p:nvPr/>
        </p:nvPicPr>
        <p:blipFill>
          <a:blip r:embed="rId4"/>
          <a:stretch/>
        </p:blipFill>
        <p:spPr>
          <a:xfrm>
            <a:off x="1454040" y="3025800"/>
            <a:ext cx="6042240" cy="1363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165720"/>
            <a:ext cx="1557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Autor © Radomír Machá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076480" y="273204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1060560" y="942840"/>
            <a:ext cx="4232160" cy="2630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 rot="3162000">
            <a:off x="4161960" y="5205600"/>
            <a:ext cx="6041880" cy="136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6948360" y="776160"/>
                <a:ext cx="1500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2" name="Picture 9" descr=""/>
          <p:cNvPicPr/>
          <p:nvPr/>
        </p:nvPicPr>
        <p:blipFill>
          <a:blip r:embed="rId4"/>
          <a:stretch/>
        </p:blipFill>
        <p:spPr>
          <a:xfrm rot="3114000">
            <a:off x="1603800" y="3629520"/>
            <a:ext cx="6042240" cy="136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7020000" y="1628640"/>
                <a:ext cx="1334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6165720"/>
            <a:ext cx="1557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Autor © Radomír Machá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76480" y="273204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1060560" y="942840"/>
            <a:ext cx="4232160" cy="26305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 rot="19378200">
            <a:off x="2050920" y="4095720"/>
            <a:ext cx="6042240" cy="136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6948360" y="776160"/>
                <a:ext cx="1500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2" name="Picture 9" descr=""/>
          <p:cNvPicPr/>
          <p:nvPr/>
        </p:nvPicPr>
        <p:blipFill>
          <a:blip r:embed="rId4"/>
          <a:stretch/>
        </p:blipFill>
        <p:spPr>
          <a:xfrm rot="19386000">
            <a:off x="1289160" y="1182600"/>
            <a:ext cx="6041880" cy="136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Object 10"/>
              <p:cNvSpPr txBox="1"/>
              <p:nvPr/>
            </p:nvSpPr>
            <p:spPr>
              <a:xfrm>
                <a:off x="7020000" y="1628640"/>
                <a:ext cx="1334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7047000" y="2503440"/>
                <a:ext cx="1355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X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6165720"/>
            <a:ext cx="1557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Autor © Radomír Machá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2076480" y="273204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060560" y="942840"/>
            <a:ext cx="4232160" cy="26305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3"/>
          <a:stretch/>
        </p:blipFill>
        <p:spPr>
          <a:xfrm>
            <a:off x="1332000" y="1220760"/>
            <a:ext cx="645624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6948360" y="776160"/>
                <a:ext cx="1500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0"/>
              <p:cNvSpPr txBox="1"/>
              <p:nvPr/>
            </p:nvSpPr>
            <p:spPr>
              <a:xfrm>
                <a:off x="7020000" y="1628640"/>
                <a:ext cx="1334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047000" y="2503440"/>
                <a:ext cx="1355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X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13"/>
          <p:cNvSpPr/>
          <p:nvPr/>
        </p:nvSpPr>
        <p:spPr>
          <a:xfrm>
            <a:off x="985680" y="4853160"/>
            <a:ext cx="7488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va trojúhelníky ABC a XYZ jsou podobné, jestliže pro délky jejich stran plat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684360" y="5443560"/>
            <a:ext cx="806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XY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= k .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AB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YZ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= k .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BC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ZX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= k .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CA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, k </a:t>
            </a: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&gt;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2556000" y="5875200"/>
            <a:ext cx="439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entury Gothic"/>
              </a:rPr>
              <a:t>k … koeficient (poměr) podob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060560" y="942840"/>
            <a:ext cx="4232160" cy="2630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1332000" y="1220760"/>
            <a:ext cx="645624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Object 8"/>
              <p:cNvSpPr txBox="1"/>
              <p:nvPr/>
            </p:nvSpPr>
            <p:spPr>
              <a:xfrm>
                <a:off x="6948360" y="776160"/>
                <a:ext cx="1500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7020000" y="1628640"/>
                <a:ext cx="1334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7047000" y="2503440"/>
                <a:ext cx="1355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X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11"/>
          <p:cNvSpPr/>
          <p:nvPr/>
        </p:nvSpPr>
        <p:spPr>
          <a:xfrm>
            <a:off x="985680" y="4853160"/>
            <a:ext cx="7488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va trojúhelníky ABC a XYZ jsou podobné, jestliže pro délky jejich stran plat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684360" y="5443560"/>
            <a:ext cx="806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XY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= k .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AB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YZ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= k .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BC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ZX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= k .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CA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, k </a:t>
            </a: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&gt;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2556000" y="5875200"/>
            <a:ext cx="439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entury Gothic"/>
              </a:rPr>
              <a:t>k … koeficient (poměr) podob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6659640" y="4005360"/>
            <a:ext cx="2158920" cy="1439640"/>
          </a:xfrm>
          <a:prstGeom prst="cloudCallout">
            <a:avLst>
              <a:gd name="adj1" fmla="val 25074"/>
              <a:gd name="adj2" fmla="val -113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e-li k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1, nazývá se podobnost zvět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060560" y="942840"/>
            <a:ext cx="4232160" cy="2630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1332000" y="1220760"/>
            <a:ext cx="645624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6948360" y="776160"/>
                <a:ext cx="1500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7020000" y="1628640"/>
                <a:ext cx="1334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7047000" y="2503440"/>
                <a:ext cx="1355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X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11"/>
          <p:cNvSpPr/>
          <p:nvPr/>
        </p:nvSpPr>
        <p:spPr>
          <a:xfrm>
            <a:off x="985680" y="4853160"/>
            <a:ext cx="7488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va trojúhelníky ABC a XYZ jsou podobné, jestliže pro délky jejich stran plat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84360" y="5443560"/>
            <a:ext cx="7991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AB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= k .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XY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BC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= k .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YZ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CA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= k .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ZX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, k </a:t>
            </a: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&gt;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2556000" y="5875200"/>
            <a:ext cx="439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entury Gothic"/>
              </a:rPr>
              <a:t>k … koeficient (poměr) podob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1057320" y="1038240"/>
            <a:ext cx="439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Porovnáme-li strany obráceně, 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6"/>
              <p:cNvSpPr txBox="1"/>
              <p:nvPr/>
            </p:nvSpPr>
            <p:spPr>
              <a:xfrm>
                <a:off x="6927840" y="765000"/>
                <a:ext cx="1541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7"/>
              <p:cNvSpPr txBox="1"/>
              <p:nvPr/>
            </p:nvSpPr>
            <p:spPr>
              <a:xfrm>
                <a:off x="6999120" y="1617840"/>
                <a:ext cx="13766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8"/>
              <p:cNvSpPr txBox="1"/>
              <p:nvPr/>
            </p:nvSpPr>
            <p:spPr>
              <a:xfrm>
                <a:off x="7027920" y="2492280"/>
                <a:ext cx="1395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060560" y="942840"/>
            <a:ext cx="4232160" cy="2630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1332000" y="122076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0"/>
          <p:cNvSpPr/>
          <p:nvPr/>
        </p:nvSpPr>
        <p:spPr>
          <a:xfrm>
            <a:off x="985680" y="4853160"/>
            <a:ext cx="7488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va trojúhelníky ABC a XYZ jsou podobné, jestliže pro délky jejich stran plat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684360" y="5443560"/>
            <a:ext cx="8135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AB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= k .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XY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BC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= k .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YZ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,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CA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= k . 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ZX</a:t>
            </a:r>
            <a:r>
              <a:rPr b="1" lang="cs-CZ" sz="2800" spc="-1" strike="noStrike">
                <a:solidFill>
                  <a:srgbClr val="ff0000"/>
                </a:solidFill>
                <a:latin typeface="Symbol"/>
                <a:ea typeface="Symbol"/>
              </a:rPr>
              <a:t>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, k </a:t>
            </a: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&gt;</a:t>
            </a:r>
            <a:r>
              <a:rPr b="1" lang="cs-CZ" sz="2800" spc="-1" strike="noStrike">
                <a:solidFill>
                  <a:srgbClr val="ff0000"/>
                </a:solidFill>
                <a:latin typeface="Century Gothic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2556000" y="5875200"/>
            <a:ext cx="439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entury Gothic"/>
              </a:rPr>
              <a:t>k … koeficient (poměr) podob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6659640" y="4005360"/>
            <a:ext cx="2158920" cy="1439640"/>
          </a:xfrm>
          <a:prstGeom prst="cloudCallout">
            <a:avLst>
              <a:gd name="adj1" fmla="val 16324"/>
              <a:gd name="adj2" fmla="val -1011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e-li k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1, nazývá se podobnost zmen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1057320" y="1038240"/>
            <a:ext cx="4392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Gothic"/>
              </a:rPr>
              <a:t>Porovnáme-li strany obráceně, pla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5"/>
              <p:cNvSpPr txBox="1"/>
              <p:nvPr/>
            </p:nvSpPr>
            <p:spPr>
              <a:xfrm>
                <a:off x="6775560" y="765000"/>
                <a:ext cx="1541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6"/>
              <p:cNvSpPr txBox="1"/>
              <p:nvPr/>
            </p:nvSpPr>
            <p:spPr>
              <a:xfrm>
                <a:off x="6846840" y="1617840"/>
                <a:ext cx="13762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7"/>
              <p:cNvSpPr txBox="1"/>
              <p:nvPr/>
            </p:nvSpPr>
            <p:spPr>
              <a:xfrm>
                <a:off x="6875640" y="2492280"/>
                <a:ext cx="1395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14480" y="1125360"/>
            <a:ext cx="7632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042920" y="11253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060560" y="942840"/>
            <a:ext cx="4232160" cy="2630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042920" y="547560"/>
            <a:ext cx="7201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odobnost trojúhel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1332000" y="1220760"/>
            <a:ext cx="6456240" cy="3576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985680" y="4724280"/>
            <a:ext cx="748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</a:rPr>
              <a:t>Věta o podobnosti trojúhelníků: </a:t>
            </a:r>
            <a:r>
              <a:rPr b="1" lang="cs-CZ" sz="2400" spc="-1" strike="noStrike">
                <a:solidFill>
                  <a:srgbClr val="333399"/>
                </a:solidFill>
                <a:latin typeface="Century Gothic"/>
              </a:rPr>
              <a:t>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969840" y="5443560"/>
            <a:ext cx="7705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aždé dva trojúhelníky, které mají sobě rovné poměry délek všech tří dvojic odpovídajících si stran, jsou podob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2"/>
              <p:cNvSpPr txBox="1"/>
              <p:nvPr/>
            </p:nvSpPr>
            <p:spPr>
              <a:xfrm>
                <a:off x="6775560" y="765000"/>
                <a:ext cx="15415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3"/>
              <p:cNvSpPr txBox="1"/>
              <p:nvPr/>
            </p:nvSpPr>
            <p:spPr>
              <a:xfrm>
                <a:off x="6846840" y="1617840"/>
                <a:ext cx="13762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Z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4"/>
              <p:cNvSpPr txBox="1"/>
              <p:nvPr/>
            </p:nvSpPr>
            <p:spPr>
              <a:xfrm>
                <a:off x="6875640" y="2492280"/>
                <a:ext cx="1395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Tereza Bížová</cp:lastModifiedBy>
  <dcterms:modified xsi:type="dcterms:W3CDTF">2010-07-26T09:14:16Z</dcterms:modified>
  <cp:revision>167</cp:revision>
  <dc:subject/>
  <dc:title>Podobnost - věty o podobnosti trojúhelníků</dc:title>
</cp:coreProperties>
</file>