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D5B-5F5B-4A95-83E2-BD15F0A1D0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C1A-449D-459F-9ADB-641668030D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9560-B418-4E06-95BF-51DE02C385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223B-8437-4C36-AB7B-52E849DCF8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92EF-A43A-4AAB-972F-C5F19B209F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EF48-C88A-4B33-B832-152B3678DA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2D23-B168-438B-BB25-74C3B44385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945B-DCA0-424D-9E47-787548D278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8E2F-816F-4008-B829-B94583B98D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B26-0027-40B8-BD99-F06C99FD7A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A1E-66E0-4E7B-A6F6-F16E5C6809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381F-87A3-47D2-AD57-FB249185B0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BCB5-59B0-4EB9-9ABF-A1272E6E01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4F6C-3ADF-4F00-99AF-CA765AEF80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B7B0-94E5-4211-923D-1871135C04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64A-2E6B-4790-96EB-4129CC3085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6F0-6EAA-4F4E-9C3B-4CE4E36D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C3E-243A-4A90-A26A-A593628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029-12EB-41EE-8CEA-D76A8749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FF7-ABEA-4018-9315-F6B54870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E9CA-9CF9-4EB8-B254-E0605DD8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589D-9397-4AAC-8F48-605ED562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677F-F3B8-47D6-82FA-85483A11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1D78-0847-4F48-9A3B-14AAA8B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23FB-F4C5-4A0D-8073-A91A1547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E66D-6829-4D23-81A1-3A4E07E7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1B0C-058F-47EF-98B3-3FDDF64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D13-C56C-4758-9480-C68D86C6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6C4C-4C5A-41BB-A33F-C3DD22B4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9BD4-7632-4381-A1B9-DC45A4E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71B4-154C-491A-8159-4D3AA090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520B-9CA9-4A65-9DE9-54153718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778E-3AC5-4F06-90D3-B0A2995D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B71-4E67-4B5E-9230-0E39E142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9FB-5A60-4004-8CDB-673C1029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0B5-95B3-44E7-BC42-E099497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ADE-2FF0-4589-A8F2-6463AE4F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239-C44C-4605-861A-F911B2B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DEC-549B-4DBF-B4A0-543259F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1DF-CCBA-4D36-8CEE-DE76CC8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E9B4-00B7-4899-8F3C-C81966CD43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126-58B3-409C-BB54-091A025E1C5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1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6280" y="1223640"/>
            <a:ext cx="8101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4c6a"/>
                </a:solidFill>
                <a:latin typeface="Trebuchet MS"/>
              </a:rPr>
              <a:t>Hra</a:t>
            </a: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 zopakování a procvičení učiva </a:t>
            </a:r>
            <a:br>
              <a:rPr sz="3200"/>
            </a:b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Test 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nalostí)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84360" y="447372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odob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5640" y="5927760"/>
            <a:ext cx="81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Dostupné z Metodického portálu www.rvp.cz, ISSN: 1802-4785, financovaného </a:t>
            </a:r>
            <a:br>
              <a:rPr sz="1600"/>
            </a:b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z ESF a státního rozpočtu ČR. Provozováno Výzkumným ústavem pedagogickým v Praze.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85920" y="728640"/>
            <a:ext cx="83721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sou podobné trojúhelníky ABC a OPQ, jestliže: a = 3 cm, b = 2 cm, c = 1,5 mm, o = 60 mm, p = 45 mm, q = 9 cm?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kud ano, jaký je poměr podobn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522360" y="183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6113520" y="167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8096400" y="2124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no, k = 1/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41280" y="728640"/>
            <a:ext cx="841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rojúhelníky ABC a A´B´C´jsou podobné: a = 18 cm, b = 1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´C´A´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, a´ = 6 cm. Urči poměr podob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522360" y="156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113520" y="140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096400" y="1854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566640" y="5823000"/>
            <a:ext cx="585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k =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76280" y="89208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rojúhelníky ABC a A´B´C´jsou podobné: a = 18 cm, b = 1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´C´A´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, a´ = 6 cm. Urči stranu b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522360" y="15843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6113520" y="14176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8096400" y="18684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b´ =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76280" y="89208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i, zda jsou pravoúhlé trojúhelníky ABC a DEF podobné. Pokud ano, urči velikost strany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F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22360" y="156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6113520" y="140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8096400" y="1854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no (uu),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F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6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1"/>
          <p:cNvSpPr/>
          <p:nvPr/>
        </p:nvSpPr>
        <p:spPr>
          <a:xfrm rot="20791800">
            <a:off x="4030560" y="1546200"/>
            <a:ext cx="3463920" cy="1701720"/>
          </a:xfrm>
          <a:prstGeom prst="rtTriangl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 rot="6898200">
            <a:off x="746640" y="2624760"/>
            <a:ext cx="2295720" cy="1125360"/>
          </a:xfrm>
          <a:prstGeom prst="rtTriangl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3941640" y="1987560"/>
            <a:ext cx="85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63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7496280" y="271620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701640" y="388764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816280" y="227484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1600200" y="150012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58"/>
          <p:cNvSpPr/>
          <p:nvPr/>
        </p:nvSpPr>
        <p:spPr>
          <a:xfrm flipH="1" rot="9997800">
            <a:off x="3956040" y="1899720"/>
            <a:ext cx="584280" cy="628920"/>
          </a:xfrm>
          <a:custGeom>
            <a:avLst/>
            <a:gdLst>
              <a:gd name="textAreaLeft" fmla="*/ 0 w 584280"/>
              <a:gd name="textAreaRight" fmla="*/ 584280 w 58428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fill="none" w="20065" h="21600">
                <a:moveTo>
                  <a:pt x="0" y="34"/>
                </a:moveTo>
                <a:cubicBezTo>
                  <a:pt x="406" y="11"/>
                  <a:pt x="813" y="-1"/>
                  <a:pt x="1220" y="0"/>
                </a:cubicBezTo>
                <a:cubicBezTo>
                  <a:pt x="9037" y="0"/>
                  <a:pt x="16245" y="4224"/>
                  <a:pt x="20065" y="11044"/>
                </a:cubicBezTo>
              </a:path>
              <a:path stroke="0" w="20065" h="21600">
                <a:moveTo>
                  <a:pt x="0" y="34"/>
                </a:moveTo>
                <a:cubicBezTo>
                  <a:pt x="406" y="11"/>
                  <a:pt x="813" y="-1"/>
                  <a:pt x="1220" y="0"/>
                </a:cubicBezTo>
                <a:cubicBezTo>
                  <a:pt x="9037" y="0"/>
                  <a:pt x="16245" y="4224"/>
                  <a:pt x="20065" y="11044"/>
                </a:cubicBezTo>
                <a:lnTo>
                  <a:pt x="122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4076640" y="353520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5427720" y="1914480"/>
            <a:ext cx="1035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3686040" y="1514520"/>
            <a:ext cx="5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1781280" y="3038400"/>
            <a:ext cx="1035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5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5472000" y="3165480"/>
            <a:ext cx="1035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2230560" y="2166840"/>
            <a:ext cx="85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63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65"/>
          <p:cNvSpPr/>
          <p:nvPr/>
        </p:nvSpPr>
        <p:spPr>
          <a:xfrm flipH="1" rot="17458200">
            <a:off x="2215800" y="2198520"/>
            <a:ext cx="584640" cy="628560"/>
          </a:xfrm>
          <a:custGeom>
            <a:avLst/>
            <a:gdLst>
              <a:gd name="textAreaLeft" fmla="*/ 360 w 584640"/>
              <a:gd name="textAreaRight" fmla="*/ 585360 w 5846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fill="none" w="20065" h="21600">
                <a:moveTo>
                  <a:pt x="0" y="34"/>
                </a:moveTo>
                <a:cubicBezTo>
                  <a:pt x="406" y="11"/>
                  <a:pt x="813" y="-1"/>
                  <a:pt x="1220" y="0"/>
                </a:cubicBezTo>
                <a:cubicBezTo>
                  <a:pt x="9037" y="0"/>
                  <a:pt x="16245" y="4224"/>
                  <a:pt x="20065" y="11044"/>
                </a:cubicBezTo>
              </a:path>
              <a:path stroke="0" w="20065" h="21600">
                <a:moveTo>
                  <a:pt x="0" y="34"/>
                </a:moveTo>
                <a:cubicBezTo>
                  <a:pt x="406" y="11"/>
                  <a:pt x="813" y="-1"/>
                  <a:pt x="1220" y="0"/>
                </a:cubicBezTo>
                <a:cubicBezTo>
                  <a:pt x="9037" y="0"/>
                  <a:pt x="16245" y="4224"/>
                  <a:pt x="20065" y="11044"/>
                </a:cubicBezTo>
                <a:lnTo>
                  <a:pt x="122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1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31640" y="684360"/>
            <a:ext cx="8280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Pravoúhlé trojúhelníky ABC a DEF jsou podobné: Urči velikost úhlu </a:t>
            </a:r>
            <a:r>
              <a:rPr b="1" lang="en-US" sz="19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FDE</a:t>
            </a:r>
            <a:r>
              <a:rPr b="1" lang="en-US" sz="19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 a uveď, na základě které věty o podobnosti trojúhelníků jsou podob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522360" y="1434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6113520" y="1268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8096400" y="1719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7628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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FDE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27°; věta 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 rot="20791800">
            <a:off x="4030560" y="1405080"/>
            <a:ext cx="3463920" cy="1701720"/>
          </a:xfrm>
          <a:prstGeom prst="rtTriangl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 rot="6898200">
            <a:off x="747000" y="2483640"/>
            <a:ext cx="2295360" cy="1125360"/>
          </a:xfrm>
          <a:prstGeom prst="rtTriangl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941640" y="1846440"/>
            <a:ext cx="85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63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7496280" y="2575080"/>
            <a:ext cx="58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3714840" y="139068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701640" y="374652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2816280" y="2133720"/>
            <a:ext cx="58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1600200" y="1359000"/>
            <a:ext cx="58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rc 20"/>
          <p:cNvSpPr/>
          <p:nvPr/>
        </p:nvSpPr>
        <p:spPr>
          <a:xfrm flipH="1" rot="9997800">
            <a:off x="3956040" y="1758960"/>
            <a:ext cx="584280" cy="628560"/>
          </a:xfrm>
          <a:custGeom>
            <a:avLst/>
            <a:gdLst>
              <a:gd name="textAreaLeft" fmla="*/ 0 w 584280"/>
              <a:gd name="textAreaRight" fmla="*/ 584280 w 58428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fill="none" w="20065" h="21600">
                <a:moveTo>
                  <a:pt x="0" y="34"/>
                </a:moveTo>
                <a:cubicBezTo>
                  <a:pt x="406" y="11"/>
                  <a:pt x="813" y="-1"/>
                  <a:pt x="1220" y="0"/>
                </a:cubicBezTo>
                <a:cubicBezTo>
                  <a:pt x="9037" y="0"/>
                  <a:pt x="16245" y="4224"/>
                  <a:pt x="20065" y="11044"/>
                </a:cubicBezTo>
              </a:path>
              <a:path stroke="0" w="20065" h="21600">
                <a:moveTo>
                  <a:pt x="0" y="34"/>
                </a:moveTo>
                <a:cubicBezTo>
                  <a:pt x="406" y="11"/>
                  <a:pt x="813" y="-1"/>
                  <a:pt x="1220" y="0"/>
                </a:cubicBezTo>
                <a:cubicBezTo>
                  <a:pt x="9037" y="0"/>
                  <a:pt x="16245" y="4224"/>
                  <a:pt x="20065" y="11044"/>
                </a:cubicBezTo>
                <a:lnTo>
                  <a:pt x="122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4076640" y="339408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1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7628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avoúhlé trojúhelníky ABC a DEF jsou podobné. Urči velikost strany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522360" y="146700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6113520" y="1300320"/>
            <a:ext cx="2809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8096400" y="175104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,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2"/>
          <p:cNvSpPr/>
          <p:nvPr/>
        </p:nvSpPr>
        <p:spPr>
          <a:xfrm rot="20791800">
            <a:off x="4030560" y="1405080"/>
            <a:ext cx="3463920" cy="1701720"/>
          </a:xfrm>
          <a:prstGeom prst="rtTriangl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3"/>
          <p:cNvSpPr/>
          <p:nvPr/>
        </p:nvSpPr>
        <p:spPr>
          <a:xfrm rot="6898200">
            <a:off x="747000" y="2483640"/>
            <a:ext cx="2295360" cy="1125360"/>
          </a:xfrm>
          <a:prstGeom prst="rtTriangl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7496280" y="2575080"/>
            <a:ext cx="58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701640" y="374652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2816280" y="2133720"/>
            <a:ext cx="58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1600200" y="1359000"/>
            <a:ext cx="58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4076640" y="3394080"/>
            <a:ext cx="58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5427720" y="1773360"/>
            <a:ext cx="103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3686040" y="1373040"/>
            <a:ext cx="5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3"/>
          <p:cNvSpPr/>
          <p:nvPr/>
        </p:nvSpPr>
        <p:spPr>
          <a:xfrm>
            <a:off x="1781280" y="2897280"/>
            <a:ext cx="103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5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4"/>
          <p:cNvSpPr/>
          <p:nvPr/>
        </p:nvSpPr>
        <p:spPr>
          <a:xfrm>
            <a:off x="5472000" y="3024360"/>
            <a:ext cx="1035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Zdroj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5920" y="1719360"/>
            <a:ext cx="8077320" cy="1574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Všechny uveřejněné odkazy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cit. 2010-09-2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. Dostupné pod licencí Creative Commons na </a:t>
            </a:r>
            <a:r>
              <a:rPr b="0" lang="cs-CZ" sz="1800" spc="-1" strike="noStrike">
                <a:solidFill>
                  <a:srgbClr val="ff6600"/>
                </a:solidFill>
                <a:latin typeface="Trebuchet MS"/>
              </a:rPr>
              <a:t>http://www.wikimedia.org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</a:rPr>
              <a:t>http://commons.wikimedia.org/wiki/File:Kapitolinischer_Pythagoras_adjusted.jpg 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6" name=""/>
          <p:cNvSpPr/>
          <p:nvPr/>
        </p:nvSpPr>
        <p:spPr>
          <a:xfrm>
            <a:off x="575640" y="5927760"/>
            <a:ext cx="81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Dostupné z Metodického portálu www.rvp.cz, ISSN: 1802-4785, financovaného </a:t>
            </a:r>
            <a:br>
              <a:rPr sz="1600"/>
            </a:br>
            <a:r>
              <a:rPr b="0" i="1" lang="cs-CZ" sz="1600" spc="-1" strike="noStrike">
                <a:solidFill>
                  <a:srgbClr val="000000"/>
                </a:solidFill>
                <a:latin typeface="Trebuchet MS"/>
              </a:rPr>
              <a:t>z ESF a státního rozpočtu ČR. Provozováno Výzkumným ústavem pedagogickým v Praze.</a:t>
            </a:r>
            <a:r>
              <a:rPr b="0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06280" y="728640"/>
            <a:ext cx="8542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Návod, jak postupov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1"/>
          <p:cNvSpPr/>
          <p:nvPr/>
        </p:nvSpPr>
        <p:spPr>
          <a:xfrm>
            <a:off x="385920" y="696960"/>
            <a:ext cx="82915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ru hrají tři hráči (tři družstv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 první volbu otázky si hráči střihnou „kámen, nůžky, papír“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Vybraný hráč družstva vybere z tabulky otázek políčko s číslem od 1 do 24. Kliknutím na vybrané políčko se otevře soutěžní otázka. Od jejího přečtení běží časový limit pro odpověď. V případě správné odpovědi se hra vrací na počá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ru řídí porotce (učitel), jehož úkolem je přiřazovat do hracího plánu družstva (hráče), které danou otázku zodpovědělo správně, body, a to kliknutím na příslušné pole tabulky v barvě družstva (hráč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V případě nesprávné odpovědi možnost odpovědět dostává druhé družstvo (hráč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tázky volí družstva vždy střídavě. Po správné odpovědi jednoho družstva volí otázku družstvo dalš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Ve hře vítězí družstvo (hráč), jež má po vyčerpání všech otázek nejvyšší počet získaných bod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Bonusové body může získat rychlejší družstvo i za odhalení toho, co se skrývá na obrázku pod číslem v tabulce otáz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4346640" y="4025880"/>
            <a:ext cx="3286080" cy="235728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3627360" y="1584360"/>
            <a:ext cx="1665360" cy="30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6012000" y="2214720"/>
            <a:ext cx="1170000" cy="20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22" descr=""/>
          <p:cNvPicPr/>
          <p:nvPr/>
        </p:nvPicPr>
        <p:blipFill>
          <a:blip r:embed="rId1"/>
          <a:stretch/>
        </p:blipFill>
        <p:spPr>
          <a:xfrm>
            <a:off x="880920" y="1927080"/>
            <a:ext cx="4365720" cy="315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851040" y="1920960"/>
          <a:ext cx="4437000" cy="3186000"/>
        </p:xfrm>
        <a:graphic>
          <a:graphicData uri="http://schemas.openxmlformats.org/drawingml/2006/table">
            <a:tbl>
              <a:tblPr/>
              <a:tblGrid>
                <a:gridCol w="1108080"/>
                <a:gridCol w="1082520"/>
                <a:gridCol w="1138320"/>
                <a:gridCol w="1108080"/>
              </a:tblGrid>
              <a:tr h="1063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60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bulka otá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83360" y="1449360"/>
          <a:ext cx="2014560" cy="108108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4720"/>
                <a:gridCol w="50184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229">
            <a:hlinkClick r:id="rId2" action="ppaction://hlinksldjump"/>
          </p:cNvPr>
          <p:cNvSpPr/>
          <p:nvPr/>
        </p:nvSpPr>
        <p:spPr>
          <a:xfrm>
            <a:off x="3075120" y="1940040"/>
            <a:ext cx="1090440" cy="10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2"/>
          <p:cNvSpPr/>
          <p:nvPr/>
        </p:nvSpPr>
        <p:spPr>
          <a:xfrm>
            <a:off x="5770440" y="1042920"/>
            <a:ext cx="309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těžící (družstvo) č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3"/>
          <p:cNvSpPr/>
          <p:nvPr/>
        </p:nvSpPr>
        <p:spPr>
          <a:xfrm>
            <a:off x="5773680" y="2870280"/>
            <a:ext cx="3097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těžící (družstvo) č.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7">
            <a:hlinkClick r:id="rId3" action="ppaction://hlinksldjump"/>
          </p:cNvPr>
          <p:cNvSpPr/>
          <p:nvPr/>
        </p:nvSpPr>
        <p:spPr>
          <a:xfrm>
            <a:off x="874800" y="194616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8">
            <a:hlinkClick r:id="rId4" action="ppaction://hlinksldjump"/>
          </p:cNvPr>
          <p:cNvSpPr/>
          <p:nvPr/>
        </p:nvSpPr>
        <p:spPr>
          <a:xfrm>
            <a:off x="1974960" y="194616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0">
            <a:hlinkClick r:id="rId5" action="ppaction://hlinksldjump"/>
          </p:cNvPr>
          <p:cNvSpPr/>
          <p:nvPr/>
        </p:nvSpPr>
        <p:spPr>
          <a:xfrm>
            <a:off x="4172040" y="194616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5">
            <a:hlinkClick r:id="rId6" action="ppaction://hlinksldjump"/>
          </p:cNvPr>
          <p:cNvSpPr/>
          <p:nvPr/>
        </p:nvSpPr>
        <p:spPr>
          <a:xfrm>
            <a:off x="874800" y="299232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6">
            <a:hlinkClick r:id="rId7" action="ppaction://hlinksldjump"/>
          </p:cNvPr>
          <p:cNvSpPr/>
          <p:nvPr/>
        </p:nvSpPr>
        <p:spPr>
          <a:xfrm>
            <a:off x="1974960" y="299556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1">
            <a:hlinkClick r:id="rId8" action="ppaction://hlinksldjump"/>
          </p:cNvPr>
          <p:cNvSpPr/>
          <p:nvPr/>
        </p:nvSpPr>
        <p:spPr>
          <a:xfrm>
            <a:off x="874800" y="404172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2">
            <a:hlinkClick r:id="rId9" action="ppaction://hlinksldjump"/>
          </p:cNvPr>
          <p:cNvSpPr/>
          <p:nvPr/>
        </p:nvSpPr>
        <p:spPr>
          <a:xfrm>
            <a:off x="1978200" y="404172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3">
            <a:hlinkClick r:id="rId10" action="ppaction://hlinksldjump"/>
          </p:cNvPr>
          <p:cNvSpPr/>
          <p:nvPr/>
        </p:nvSpPr>
        <p:spPr>
          <a:xfrm>
            <a:off x="3075120" y="4043520"/>
            <a:ext cx="1090440" cy="10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4">
            <a:hlinkClick r:id="rId11" action="ppaction://hlinksldjump"/>
          </p:cNvPr>
          <p:cNvSpPr/>
          <p:nvPr/>
        </p:nvSpPr>
        <p:spPr>
          <a:xfrm>
            <a:off x="4172040" y="4043520"/>
            <a:ext cx="1090440" cy="10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4"/>
          <p:cNvSpPr/>
          <p:nvPr/>
        </p:nvSpPr>
        <p:spPr>
          <a:xfrm>
            <a:off x="6232680" y="1500120"/>
            <a:ext cx="404640" cy="27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5"/>
          <p:cNvSpPr/>
          <p:nvPr/>
        </p:nvSpPr>
        <p:spPr>
          <a:xfrm>
            <a:off x="6730920" y="1500120"/>
            <a:ext cx="405000" cy="27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6"/>
          <p:cNvSpPr/>
          <p:nvPr/>
        </p:nvSpPr>
        <p:spPr>
          <a:xfrm>
            <a:off x="7238880" y="1500120"/>
            <a:ext cx="405000" cy="27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7"/>
          <p:cNvSpPr/>
          <p:nvPr/>
        </p:nvSpPr>
        <p:spPr>
          <a:xfrm>
            <a:off x="7734240" y="1500120"/>
            <a:ext cx="405000" cy="27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5"/>
          <p:cNvSpPr/>
          <p:nvPr/>
        </p:nvSpPr>
        <p:spPr>
          <a:xfrm>
            <a:off x="6238800" y="1846440"/>
            <a:ext cx="40500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6"/>
          <p:cNvSpPr/>
          <p:nvPr/>
        </p:nvSpPr>
        <p:spPr>
          <a:xfrm>
            <a:off x="6737400" y="1846440"/>
            <a:ext cx="40464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7"/>
          <p:cNvSpPr/>
          <p:nvPr/>
        </p:nvSpPr>
        <p:spPr>
          <a:xfrm>
            <a:off x="7245360" y="1846440"/>
            <a:ext cx="40464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8"/>
          <p:cNvSpPr/>
          <p:nvPr/>
        </p:nvSpPr>
        <p:spPr>
          <a:xfrm>
            <a:off x="7740720" y="1846440"/>
            <a:ext cx="40464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71"/>
          <p:cNvSpPr/>
          <p:nvPr/>
        </p:nvSpPr>
        <p:spPr>
          <a:xfrm>
            <a:off x="6238800" y="2206800"/>
            <a:ext cx="40500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72"/>
          <p:cNvSpPr/>
          <p:nvPr/>
        </p:nvSpPr>
        <p:spPr>
          <a:xfrm>
            <a:off x="6737400" y="2206800"/>
            <a:ext cx="40464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3"/>
          <p:cNvSpPr/>
          <p:nvPr/>
        </p:nvSpPr>
        <p:spPr>
          <a:xfrm>
            <a:off x="7245360" y="2206800"/>
            <a:ext cx="40464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4"/>
          <p:cNvSpPr/>
          <p:nvPr/>
        </p:nvSpPr>
        <p:spPr>
          <a:xfrm>
            <a:off x="7740720" y="2206800"/>
            <a:ext cx="404640" cy="26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8">
            <a:hlinkClick r:id="rId12" action="ppaction://hlinksldjump"/>
          </p:cNvPr>
          <p:cNvSpPr/>
          <p:nvPr/>
        </p:nvSpPr>
        <p:spPr>
          <a:xfrm>
            <a:off x="4172040" y="299232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80120" y="3252960"/>
          <a:ext cx="2014560" cy="108108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5080"/>
                <a:gridCol w="50148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338"/>
          <p:cNvSpPr/>
          <p:nvPr/>
        </p:nvSpPr>
        <p:spPr>
          <a:xfrm>
            <a:off x="6229440" y="3303720"/>
            <a:ext cx="404640" cy="26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9"/>
          <p:cNvSpPr/>
          <p:nvPr/>
        </p:nvSpPr>
        <p:spPr>
          <a:xfrm>
            <a:off x="6727680" y="3303720"/>
            <a:ext cx="405000" cy="26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40"/>
          <p:cNvSpPr/>
          <p:nvPr/>
        </p:nvSpPr>
        <p:spPr>
          <a:xfrm>
            <a:off x="7236000" y="3303720"/>
            <a:ext cx="404640" cy="26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1"/>
          <p:cNvSpPr/>
          <p:nvPr/>
        </p:nvSpPr>
        <p:spPr>
          <a:xfrm>
            <a:off x="7731000" y="3303720"/>
            <a:ext cx="405000" cy="26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42"/>
          <p:cNvSpPr/>
          <p:nvPr/>
        </p:nvSpPr>
        <p:spPr>
          <a:xfrm>
            <a:off x="6235560" y="3649680"/>
            <a:ext cx="40500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43"/>
          <p:cNvSpPr/>
          <p:nvPr/>
        </p:nvSpPr>
        <p:spPr>
          <a:xfrm>
            <a:off x="6734160" y="3649680"/>
            <a:ext cx="40500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44"/>
          <p:cNvSpPr/>
          <p:nvPr/>
        </p:nvSpPr>
        <p:spPr>
          <a:xfrm>
            <a:off x="7242120" y="3649680"/>
            <a:ext cx="40500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45"/>
          <p:cNvSpPr/>
          <p:nvPr/>
        </p:nvSpPr>
        <p:spPr>
          <a:xfrm>
            <a:off x="7737480" y="3649680"/>
            <a:ext cx="40464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46"/>
          <p:cNvSpPr/>
          <p:nvPr/>
        </p:nvSpPr>
        <p:spPr>
          <a:xfrm>
            <a:off x="6235560" y="4010040"/>
            <a:ext cx="40500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47"/>
          <p:cNvSpPr/>
          <p:nvPr/>
        </p:nvSpPr>
        <p:spPr>
          <a:xfrm>
            <a:off x="6734160" y="4010040"/>
            <a:ext cx="40500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48"/>
          <p:cNvSpPr/>
          <p:nvPr/>
        </p:nvSpPr>
        <p:spPr>
          <a:xfrm>
            <a:off x="7242120" y="4010040"/>
            <a:ext cx="40500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9"/>
          <p:cNvSpPr/>
          <p:nvPr/>
        </p:nvSpPr>
        <p:spPr>
          <a:xfrm>
            <a:off x="7737480" y="4010040"/>
            <a:ext cx="404640" cy="27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86600" y="5052960"/>
          <a:ext cx="2014560" cy="1081080"/>
        </p:xfrm>
        <a:graphic>
          <a:graphicData uri="http://schemas.openxmlformats.org/drawingml/2006/table">
            <a:tbl>
              <a:tblPr/>
              <a:tblGrid>
                <a:gridCol w="503280"/>
                <a:gridCol w="504720"/>
                <a:gridCol w="504720"/>
                <a:gridCol w="50184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72"/>
          <p:cNvSpPr/>
          <p:nvPr/>
        </p:nvSpPr>
        <p:spPr>
          <a:xfrm>
            <a:off x="6235560" y="5103720"/>
            <a:ext cx="405000" cy="270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73"/>
          <p:cNvSpPr/>
          <p:nvPr/>
        </p:nvSpPr>
        <p:spPr>
          <a:xfrm>
            <a:off x="6734160" y="5103720"/>
            <a:ext cx="405000" cy="270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74"/>
          <p:cNvSpPr/>
          <p:nvPr/>
        </p:nvSpPr>
        <p:spPr>
          <a:xfrm>
            <a:off x="7242120" y="5103720"/>
            <a:ext cx="405000" cy="270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5"/>
          <p:cNvSpPr/>
          <p:nvPr/>
        </p:nvSpPr>
        <p:spPr>
          <a:xfrm>
            <a:off x="7737480" y="5103720"/>
            <a:ext cx="404640" cy="270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6"/>
          <p:cNvSpPr/>
          <p:nvPr/>
        </p:nvSpPr>
        <p:spPr>
          <a:xfrm>
            <a:off x="6242040" y="5450040"/>
            <a:ext cx="40500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77"/>
          <p:cNvSpPr/>
          <p:nvPr/>
        </p:nvSpPr>
        <p:spPr>
          <a:xfrm>
            <a:off x="6740640" y="5450040"/>
            <a:ext cx="40464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78"/>
          <p:cNvSpPr/>
          <p:nvPr/>
        </p:nvSpPr>
        <p:spPr>
          <a:xfrm>
            <a:off x="7248600" y="5450040"/>
            <a:ext cx="40464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79"/>
          <p:cNvSpPr/>
          <p:nvPr/>
        </p:nvSpPr>
        <p:spPr>
          <a:xfrm>
            <a:off x="7743960" y="5450040"/>
            <a:ext cx="40464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80"/>
          <p:cNvSpPr/>
          <p:nvPr/>
        </p:nvSpPr>
        <p:spPr>
          <a:xfrm>
            <a:off x="6242040" y="5810400"/>
            <a:ext cx="40500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1"/>
          <p:cNvSpPr/>
          <p:nvPr/>
        </p:nvSpPr>
        <p:spPr>
          <a:xfrm>
            <a:off x="6740640" y="5810400"/>
            <a:ext cx="40464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2"/>
          <p:cNvSpPr/>
          <p:nvPr/>
        </p:nvSpPr>
        <p:spPr>
          <a:xfrm>
            <a:off x="7248600" y="5810400"/>
            <a:ext cx="40464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83"/>
          <p:cNvSpPr/>
          <p:nvPr/>
        </p:nvSpPr>
        <p:spPr>
          <a:xfrm>
            <a:off x="7743960" y="5810400"/>
            <a:ext cx="404640" cy="269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8"/>
          <p:cNvSpPr/>
          <p:nvPr/>
        </p:nvSpPr>
        <p:spPr>
          <a:xfrm>
            <a:off x="5770440" y="4670280"/>
            <a:ext cx="3097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těžící (družstvo) č.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37">
            <a:hlinkClick r:id="rId13" action="ppaction://hlinksldjump"/>
          </p:cNvPr>
          <p:cNvSpPr/>
          <p:nvPr/>
        </p:nvSpPr>
        <p:spPr>
          <a:xfrm>
            <a:off x="3071880" y="2992320"/>
            <a:ext cx="1090440" cy="104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0"/>
          <p:cNvSpPr/>
          <p:nvPr/>
        </p:nvSpPr>
        <p:spPr>
          <a:xfrm>
            <a:off x="476280" y="863640"/>
            <a:ext cx="823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délník ABCD má délky stran: a = 2,5 dm, b = 5 dm. Vypočítejte rozměry podobného obdélníku EFGH, je-li poměr podobnosti k =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91">
            <a:hlinkClick r:id="rId1" action="ppaction://hlinksldjump"/>
          </p:cNvPr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3"/>
          <p:cNvSpPr/>
          <p:nvPr/>
        </p:nvSpPr>
        <p:spPr>
          <a:xfrm>
            <a:off x="522360" y="156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4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5"/>
          <p:cNvSpPr/>
          <p:nvPr/>
        </p:nvSpPr>
        <p:spPr>
          <a:xfrm>
            <a:off x="6113520" y="140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96"/>
          <p:cNvSpPr/>
          <p:nvPr/>
        </p:nvSpPr>
        <p:spPr>
          <a:xfrm>
            <a:off x="8096400" y="185436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7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e = 10 dm, f = 20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85920" y="728640"/>
            <a:ext cx="846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sou podobné trojúhelníky ABC a KLM, jestliže: a = 1,2 dm, b = 8 cm, c = 5 cm, k = 6 cm, l = 40 mm, m = 0,3 dm? Pokud ano, jaký je poměr podobn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>
            <a:hlinkClick r:id="rId1" action="ppaction://hlinksldjump"/>
          </p:cNvPr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2360" y="183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113520" y="167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096400" y="2124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85920" y="728640"/>
            <a:ext cx="8372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jistěte, zda jsou podobné trojúhelníky ABC a TUV, mají-li jejich strany délky: a = 8,8 cm, b = 56 mm, c = 4,2 cm, t = 84 m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 = 1,32 dm, v = 6,3 cm. Pokud ano, určete poměr podob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rId1" action="ppaction://hlinksldjump"/>
          </p:cNvPr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522360" y="183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6113520" y="167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8096400" y="2124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no, k = 1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85920" y="773280"/>
            <a:ext cx="822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jistěte, zda jsou podobné trojúhelníky CDE a XYZ, mají-li jejich strany délky: c = 9 cm, d = 0,6 dm, e = 45 mm, x = 40 m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y = 0,3 dm, z = 6 cm. Pokud ano, zapište podob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1" action="ppaction://hlinksldjump"/>
          </p:cNvPr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22360" y="183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6113520" y="167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8096400" y="2124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47628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no,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CDE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85920" y="728640"/>
            <a:ext cx="822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bdélníky KLMN a EFGH (KLMN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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EFGH) jsou podobné a mají strany dlouhé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L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50 mm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LM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4 cm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EF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2,5 cm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poměr podobnosti a vypočítejte délku strany F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rId1" action="ppaction://hlinksldjump"/>
          </p:cNvPr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522360" y="183996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6113520" y="1673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8096400" y="2124000"/>
            <a:ext cx="539640" cy="5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k = 2,5;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|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FG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|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95280" y="728640"/>
            <a:ext cx="8353440" cy="568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4128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tázka číslo 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5920" y="728640"/>
            <a:ext cx="82263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sou podobné trojúhelníky se stranami o délkách: 3 dm, 20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50 mm a 12 dm, 8 dm, 5 dm?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kud ano, jaký je poměr podobn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rId1" action="ppaction://hlinksldjump"/>
          </p:cNvPr>
          <p:cNvSpPr/>
          <p:nvPr/>
        </p:nvSpPr>
        <p:spPr>
          <a:xfrm>
            <a:off x="7362720" y="5543640"/>
            <a:ext cx="1214640" cy="8557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522360" y="1886040"/>
            <a:ext cx="80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04720" y="5418000"/>
            <a:ext cx="249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právná odpově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113520" y="1719360"/>
            <a:ext cx="2809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rebuchet MS"/>
              </a:rPr>
              <a:t>Pro správnou odpověď klikni na smajlík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8096400" y="2170080"/>
            <a:ext cx="539640" cy="53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565200" y="5823000"/>
            <a:ext cx="585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9-20T12:25:23Z</dcterms:modified>
  <cp:revision>222</cp:revision>
  <dc:subject/>
  <dc:title>Podobnost</dc:title>
</cp:coreProperties>
</file>