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286-9A41-46F2-8B21-73143282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CB7B-7864-4083-9189-B11237A0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791-029E-41CC-AA8E-F3EE3964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02E9-CA5F-4CA4-B641-0CC4917C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B617-B228-4BAA-82D6-093DC7A7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062D-55CF-4728-8171-C3ACA673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FC64-1168-4F2A-B8D5-0375BCF0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C243-6631-4B55-80D2-A5B3FE9E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BFA3-2028-43F5-841D-EFD64D89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7BDA-3CCB-4ACC-815D-B0EB8DEC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8E9F-CB26-4BF1-9465-C21C0226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0FF5-9E3B-46D1-B840-2FE3CF2F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7345-F42C-4BC4-A3CE-5D22785E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8271-6987-4704-B857-45255238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AFB3-CE72-4CBF-B706-5CEE0DB2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1757-AB6E-4A92-92D2-502EE8BA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E50B-1064-4F31-86A1-07FB0352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CEBB-54D6-4019-9FEB-EFA5B1D0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47C4-0CA1-4DF8-8C76-24787893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C8B-FA79-4F3C-944A-F98A190D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4C5-8C95-44C9-BF8D-D478AA35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400C-4424-4847-8CAB-9DE9C853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17C-B02E-46C2-A940-57040498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368-C01F-4269-8934-2CCC319E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D084-97B8-4EBF-88AD-D6289F71E750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5B77-2FCF-452D-B1E8-02BD76FAFD5C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270936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284c6a"/>
                </a:solidFill>
                <a:latin typeface="Trebuchet MS"/>
              </a:rPr>
              <a:t>Lichoběžník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Obvod lichoběžníku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42920" y="1628640"/>
            <a:ext cx="6985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500040" y="981000"/>
            <a:ext cx="7777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počítejte obvod lichoběžníku ABCD (viz obrázek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3929040" y="1344600"/>
            <a:ext cx="4286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okud si nebudete vědět rady, klikněte a já vás povedu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4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4267440" cy="2781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5"/>
          <p:cNvSpPr/>
          <p:nvPr/>
        </p:nvSpPr>
        <p:spPr>
          <a:xfrm>
            <a:off x="2771640" y="422100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a = 7,2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4645080" y="292428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b = 4,5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3276720" y="18446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 = 1,8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1547640" y="285264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d = 5,5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042920" y="1628640"/>
            <a:ext cx="6985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500040" y="981000"/>
            <a:ext cx="7777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počítejte obvod lichoběžníku ABCD (viz obrázek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929040" y="1344600"/>
            <a:ext cx="4286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okud si nebudete vědět rady, klikněte a já vás povedu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4267440" cy="2781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7"/>
          <p:cNvSpPr/>
          <p:nvPr/>
        </p:nvSpPr>
        <p:spPr>
          <a:xfrm>
            <a:off x="2771640" y="422100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a = 7,2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4645080" y="292428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b = 4,5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276720" y="18446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 = 1,8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1547640" y="285264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d = 5,5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4527720" y="5086440"/>
            <a:ext cx="4005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 = a + b + c + 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4527720" y="5446800"/>
            <a:ext cx="4005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 = 7,2 + 4,5 + 1,8 + 5,5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4527720" y="5805360"/>
            <a:ext cx="4005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 = 19 c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1042920" y="1628640"/>
            <a:ext cx="6985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1" descr=""/>
          <p:cNvPicPr/>
          <p:nvPr/>
        </p:nvPicPr>
        <p:blipFill>
          <a:blip r:embed="rId1"/>
          <a:stretch/>
        </p:blipFill>
        <p:spPr>
          <a:xfrm>
            <a:off x="1881360" y="1716120"/>
            <a:ext cx="2619360" cy="36576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00040" y="981000"/>
            <a:ext cx="7777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počítejte obvod lichoběžníku ABCD (viz obrázek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929040" y="1344600"/>
            <a:ext cx="4286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okud si nebudete vědět rady, klikněte a já vás povedu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060720" y="414828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a = 5,1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4140360" y="278136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b = 15 m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2843280" y="198900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 = 0,39 d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1346040" y="285264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d = 58 m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042920" y="1628640"/>
            <a:ext cx="6985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1881360" y="1716120"/>
            <a:ext cx="2619360" cy="3657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00040" y="981000"/>
            <a:ext cx="7777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počítejte obvod lichoběžníku ABCD (viz obrázek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4360" y="1368360"/>
            <a:ext cx="436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okud si nebudete vědět rady, klikněte a já vás povedu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060720" y="414828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a = 5,1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4140360" y="278136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b = 15 m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2843280" y="198900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 = 0,39 d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1346040" y="285264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d = 58 m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4527720" y="4508640"/>
            <a:ext cx="4005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 = a + b + c + 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4527720" y="4869000"/>
            <a:ext cx="4005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 = 51 + 15 + 39 + 5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4527720" y="5227560"/>
            <a:ext cx="4005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 = 163 m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5651640" y="1844640"/>
            <a:ext cx="2952720" cy="2305080"/>
          </a:xfrm>
          <a:prstGeom prst="cloudCallout">
            <a:avLst>
              <a:gd name="adj1" fmla="val -90055"/>
              <a:gd name="adj2" fmla="val 188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ZOR NA JEDNOTKY!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osazujeme až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o převodu na stejné jednotky. Tak např.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na milimetry, abychom se zbavili desetinných čárek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1042920" y="1628640"/>
            <a:ext cx="6985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4267080" cy="27813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500040" y="981000"/>
            <a:ext cx="7777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počítejte obvod lichoběžníku ABCD (viz obrázek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929040" y="1344600"/>
            <a:ext cx="4286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okud si nebudete vědět rady, klikněte a já vás povedu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2814480" y="412128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a = 7,2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2786040" y="181620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 = 2,2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1246320" y="278136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d = 4,8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1042920" y="1628640"/>
            <a:ext cx="6985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4267080" cy="27813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500040" y="981000"/>
            <a:ext cx="7777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počítejte obvod lichoběžníku ABCD (viz obrázek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929040" y="1344600"/>
            <a:ext cx="42148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okud si nebudete vědět rady, klikněte a já vás povedu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2814480" y="412128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a = 7,2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2786040" y="181620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 = 2,2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1246320" y="278136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d = 4,8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4527720" y="5086440"/>
            <a:ext cx="4005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 = a + b + c + 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4527720" y="5446800"/>
            <a:ext cx="4005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 = 7,2 + 4,8 + 2,2 + 4,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3"/>
          <p:cNvSpPr/>
          <p:nvPr/>
        </p:nvSpPr>
        <p:spPr>
          <a:xfrm>
            <a:off x="4527720" y="5805360"/>
            <a:ext cx="4005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 = 19 c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4"/>
          <p:cNvSpPr/>
          <p:nvPr/>
        </p:nvSpPr>
        <p:spPr>
          <a:xfrm>
            <a:off x="5292720" y="1700280"/>
            <a:ext cx="2664000" cy="1944720"/>
          </a:xfrm>
          <a:prstGeom prst="cloudCallout">
            <a:avLst>
              <a:gd name="adj1" fmla="val -85814"/>
              <a:gd name="adj2" fmla="val 8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Že vám chybí délka jedné strany? Za to víte, že lichoběžník má dva stejné vnitřní úhly. Co to znamená?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 nepomůže nám to?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5"/>
          <p:cNvSpPr/>
          <p:nvPr/>
        </p:nvSpPr>
        <p:spPr>
          <a:xfrm>
            <a:off x="5286240" y="1571760"/>
            <a:ext cx="2617920" cy="2143080"/>
          </a:xfrm>
          <a:prstGeom prst="cloudCallout">
            <a:avLst>
              <a:gd name="adj1" fmla="val -85814"/>
              <a:gd name="adj2" fmla="val 8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lyne z toho,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že se jedná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o rovnoramenný lichoběžník a kromě dvou dvojic stejných úhlů má i jednu dvojici stejných stran, ramen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7"/>
          <p:cNvSpPr/>
          <p:nvPr/>
        </p:nvSpPr>
        <p:spPr>
          <a:xfrm>
            <a:off x="4429080" y="278136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 = 4,8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1042920" y="1628640"/>
            <a:ext cx="6985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0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4267080" cy="27813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00040" y="1038240"/>
            <a:ext cx="7777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počítejte neznámou stranu lichoběžníku ABCD, znáte-li jeho obvod (viz obrázek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3929040" y="1344600"/>
            <a:ext cx="4286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okud si nebudete vědět rady, klikněte a já vás povedu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2814480" y="412128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a = 7,2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1490760" y="181620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 = 1,7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1246320" y="28526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3564000" y="278136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a = 6,9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2050920" y="342900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o = 19,5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5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30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35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40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1042920" y="1628640"/>
            <a:ext cx="6985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4267080" cy="27813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500040" y="1038240"/>
            <a:ext cx="7777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počítejte neznámou stranu lichoběžníku ABCD, znáte-li jeho obvod (viz obrázek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3924360" y="1357200"/>
            <a:ext cx="42908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okud si nebudete vědět rady, klikněte a já vás povedu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2814480" y="412128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a = 7,2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1490760" y="181620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 = 1,7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1246320" y="28526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d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3564000" y="278136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a = 6,9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2050920" y="342900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o = 19,5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4527720" y="4654440"/>
            <a:ext cx="4005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 = a + b + c + 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4513320" y="5029200"/>
            <a:ext cx="4005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9,5 = 7,2 + 6,9 + 1,7 + 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4527720" y="5373720"/>
            <a:ext cx="4005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d = 19,5 – 7,2 – 6,9 – 1,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4529160" y="5734080"/>
            <a:ext cx="4005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d = 3,7 c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1042920" y="1628640"/>
            <a:ext cx="6985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3" descr=""/>
          <p:cNvPicPr/>
          <p:nvPr/>
        </p:nvPicPr>
        <p:blipFill>
          <a:blip r:embed="rId1"/>
          <a:stretch/>
        </p:blipFill>
        <p:spPr>
          <a:xfrm>
            <a:off x="1841400" y="1716120"/>
            <a:ext cx="3810240" cy="36576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500040" y="1038240"/>
            <a:ext cx="7777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počítejte neznámé strany lichoběžníku ABCD, znáte-li jeho obvod (viz obrázek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3929040" y="1344600"/>
            <a:ext cx="45007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okud si nebudete vědět rady, klikněte a já vás povedu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564000" y="443700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a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3564000" y="234936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1260360" y="328464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d = 5,8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5364000" y="342900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b = 1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2916360" y="32846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o = 20,2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30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35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1042920" y="1628640"/>
            <a:ext cx="6985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1841400" y="1716120"/>
            <a:ext cx="381024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16"/>
          <p:cNvSpPr/>
          <p:nvPr/>
        </p:nvSpPr>
        <p:spPr>
          <a:xfrm>
            <a:off x="5292720" y="1700280"/>
            <a:ext cx="2664000" cy="1944720"/>
          </a:xfrm>
          <a:prstGeom prst="cloudCallout">
            <a:avLst>
              <a:gd name="adj1" fmla="val -85814"/>
              <a:gd name="adj2" fmla="val 8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Že vám chybí délka jedné strany? Za to víte, že lichoběžník má dva stejné vnitřní úhly. Co to znamená? A nepomůže nám  to?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7"/>
          <p:cNvSpPr/>
          <p:nvPr/>
        </p:nvSpPr>
        <p:spPr>
          <a:xfrm>
            <a:off x="5286240" y="1571760"/>
            <a:ext cx="2617920" cy="2214360"/>
          </a:xfrm>
          <a:prstGeom prst="cloudCallout">
            <a:avLst>
              <a:gd name="adj1" fmla="val -85814"/>
              <a:gd name="adj2" fmla="val 8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lyne z toho,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že se jedná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o rovnoramenný lichoběžník a kromě dvou dvojic stejných úhlů má i jednu dvojici stejných stran, ramen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500040" y="1038240"/>
            <a:ext cx="7777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počítejte neznámé strany lichoběžníku ABCD, znáte-li jeho obvod (viz obrázek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3929040" y="1344600"/>
            <a:ext cx="435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okud si nebudete vědět rady, klikněte a já vás povedu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564000" y="443700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a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3564000" y="234936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1260360" y="328464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d = 5,8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5364000" y="342900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b = 1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2916360" y="32846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o = 20,2 c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4957920" y="4005360"/>
            <a:ext cx="4005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 = a + b + c + 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943520" y="4941720"/>
            <a:ext cx="4005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0,2 = 2a + 1 + 5,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4"/>
          <p:cNvSpPr/>
          <p:nvPr/>
        </p:nvSpPr>
        <p:spPr>
          <a:xfrm>
            <a:off x="4957920" y="5300640"/>
            <a:ext cx="4005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a = 20,2 – 1 – 5,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4959360" y="5964120"/>
            <a:ext cx="4005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 = 13,4 : 2 = 6,7 cm = 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9"/>
          <p:cNvSpPr/>
          <p:nvPr/>
        </p:nvSpPr>
        <p:spPr>
          <a:xfrm>
            <a:off x="6904080" y="3602160"/>
            <a:ext cx="1700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a = c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0"/>
          <p:cNvSpPr/>
          <p:nvPr/>
        </p:nvSpPr>
        <p:spPr>
          <a:xfrm>
            <a:off x="4959360" y="4294080"/>
            <a:ext cx="4005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 = a + b + a + 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1"/>
          <p:cNvSpPr/>
          <p:nvPr/>
        </p:nvSpPr>
        <p:spPr>
          <a:xfrm>
            <a:off x="4960800" y="4581360"/>
            <a:ext cx="4005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 = 2a + b + 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4960800" y="5618160"/>
            <a:ext cx="4005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a = 13,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042920" y="2179800"/>
            <a:ext cx="691380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1" descr=""/>
          <p:cNvPicPr/>
          <p:nvPr/>
        </p:nvPicPr>
        <p:blipFill>
          <a:blip r:embed="rId1"/>
          <a:stretch/>
        </p:blipFill>
        <p:spPr>
          <a:xfrm>
            <a:off x="1403280" y="2236680"/>
            <a:ext cx="6188040" cy="3714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5"/>
          <p:cNvSpPr/>
          <p:nvPr/>
        </p:nvSpPr>
        <p:spPr>
          <a:xfrm>
            <a:off x="6661080" y="155736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AB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C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09760" y="133992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Lichoběžník je čtyřúhelník, který má jen jednu dvojici protilehlých stran rovnoběžnou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 flipH="1">
            <a:off x="4571640" y="2060640"/>
            <a:ext cx="230508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H="1">
            <a:off x="3779640" y="2060640"/>
            <a:ext cx="3097080" cy="72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500040" y="808200"/>
            <a:ext cx="7273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Zopakujme si nejdříve základní vlastnosti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1187280" y="5948280"/>
            <a:ext cx="5677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Který čtyřúhelník má obě dvojice protilehlých stran rovnoběžné?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6730920" y="595008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Rovnoběžník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1042920" y="2205000"/>
            <a:ext cx="69138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1" descr=""/>
          <p:cNvPicPr/>
          <p:nvPr/>
        </p:nvPicPr>
        <p:blipFill>
          <a:blip r:embed="rId1"/>
          <a:stretch/>
        </p:blipFill>
        <p:spPr>
          <a:xfrm>
            <a:off x="1108080" y="2251080"/>
            <a:ext cx="5985000" cy="40356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2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4730760" cy="373212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571680" y="155736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Ne vždy budeme mít zadán lichoběžník ABCD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Obvod lichoběžníku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571680" y="105264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na závěr ještě zobecnění!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9" descr=""/>
          <p:cNvPicPr/>
          <p:nvPr/>
        </p:nvPicPr>
        <p:blipFill>
          <a:blip r:embed="rId3"/>
          <a:stretch/>
        </p:blipFill>
        <p:spPr>
          <a:xfrm>
            <a:off x="1533600" y="2473200"/>
            <a:ext cx="4968720" cy="36831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12"/>
          <p:cNvSpPr/>
          <p:nvPr/>
        </p:nvSpPr>
        <p:spPr>
          <a:xfrm>
            <a:off x="5653080" y="2565360"/>
            <a:ext cx="7779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5940360" y="2565360"/>
            <a:ext cx="120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+b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6573960" y="2565360"/>
            <a:ext cx="120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+c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5"/>
          <p:cNvSpPr/>
          <p:nvPr/>
        </p:nvSpPr>
        <p:spPr>
          <a:xfrm>
            <a:off x="7135920" y="2565360"/>
            <a:ext cx="1065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+d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6"/>
          <p:cNvSpPr/>
          <p:nvPr/>
        </p:nvSpPr>
        <p:spPr>
          <a:xfrm>
            <a:off x="5019840" y="2565360"/>
            <a:ext cx="1064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o=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5003640" y="3070080"/>
            <a:ext cx="2953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o=p+q+r+s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5003640" y="3587760"/>
            <a:ext cx="2953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o=k+l+m+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1116000" y="5013360"/>
            <a:ext cx="604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Trebuchet MS"/>
              </a:rPr>
              <a:t>Obecně tedy platí, že obvod lichoběžníku vypočítáme jako součet všech čtyř jeho stran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42920" y="2179800"/>
            <a:ext cx="691380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403280" y="2236680"/>
            <a:ext cx="61880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6661080" y="155736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AB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C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500040" y="1138320"/>
            <a:ext cx="799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Rovnoběžným stranám říkáme základny lichoběžníku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 flipH="1">
            <a:off x="4571640" y="2060640"/>
            <a:ext cx="230508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H="1">
            <a:off x="3779640" y="2060640"/>
            <a:ext cx="3097080" cy="72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09760" y="879480"/>
            <a:ext cx="7777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Zopakujme si nejdříve základní vlastnosti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1187280" y="5948280"/>
            <a:ext cx="5677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Nepřipomíná vám to označení něco?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4500720" y="5950080"/>
            <a:ext cx="3527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Rovnoramenný trojúhelník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500040" y="1495440"/>
            <a:ext cx="799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nerovnoběžným ramena lichoběžníku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6645240" y="1557360"/>
            <a:ext cx="2448000" cy="576000"/>
            <a:chOff x="6645240" y="1557360"/>
            <a:chExt cx="2448000" cy="576000"/>
          </a:xfrm>
        </p:grpSpPr>
        <p:sp>
          <p:nvSpPr>
            <p:cNvPr id="108" name="Rectangle 13"/>
            <p:cNvSpPr/>
            <p:nvPr/>
          </p:nvSpPr>
          <p:spPr>
            <a:xfrm>
              <a:off x="6645240" y="1557360"/>
              <a:ext cx="244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b</a:t>
              </a:r>
              <a:r>
                <a:rPr b="1" lang="en-US" sz="2400" spc="-1" strike="noStrike">
                  <a:solidFill>
                    <a:srgbClr val="00cc00"/>
                  </a:solidFill>
                  <a:latin typeface="Trebuchet MS"/>
                </a:rPr>
                <a:t> </a:t>
              </a:r>
              <a:r>
                <a:rPr b="1" lang="en-US" sz="32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</a:t>
              </a:r>
              <a:r>
                <a:rPr b="1" lang="en-US" sz="2400" spc="-1" strike="noStrike">
                  <a:solidFill>
                    <a:srgbClr val="00cc00"/>
                  </a:solidFill>
                  <a:latin typeface="Trebuchet MS"/>
                </a:rPr>
                <a:t> </a:t>
              </a: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d</a:t>
              </a:r>
              <a:r>
                <a:rPr b="1" lang="en-US" sz="2400" spc="-1" strike="noStrike">
                  <a:solidFill>
                    <a:srgbClr val="00cc00"/>
                  </a:solidFill>
                  <a:latin typeface="Trebuchet MS"/>
                </a:rPr>
                <a:t> </a:t>
              </a: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; BC </a:t>
              </a:r>
              <a:r>
                <a:rPr b="1" lang="en-US" sz="32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</a:t>
              </a: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 DA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4"/>
            <p:cNvSpPr/>
            <p:nvPr/>
          </p:nvSpPr>
          <p:spPr>
            <a:xfrm flipV="1">
              <a:off x="6946920" y="1773000"/>
              <a:ext cx="287280" cy="28728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5"/>
            <p:cNvSpPr/>
            <p:nvPr/>
          </p:nvSpPr>
          <p:spPr>
            <a:xfrm flipV="1">
              <a:off x="8128080" y="1773000"/>
              <a:ext cx="287280" cy="28728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17"/>
          <p:cNvSpPr/>
          <p:nvPr/>
        </p:nvSpPr>
        <p:spPr>
          <a:xfrm flipH="1">
            <a:off x="5795640" y="2060640"/>
            <a:ext cx="1081080" cy="1873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H="1">
            <a:off x="2555640" y="2060640"/>
            <a:ext cx="4321080" cy="19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265400" y="2378160"/>
            <a:ext cx="6475320" cy="38876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5364000" y="1484280"/>
            <a:ext cx="36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180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00040" y="1082520"/>
            <a:ext cx="8037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Součet velikostí úhlů při jednom rameni je vždy 180°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6516720" y="1989000"/>
            <a:ext cx="360360" cy="338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 flipH="1">
            <a:off x="4657320" y="1974960"/>
            <a:ext cx="2233800" cy="1224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500040" y="1527120"/>
            <a:ext cx="60199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Součet velikostí úhlů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při rameni </a:t>
            </a:r>
            <a:r>
              <a:rPr b="1" i="1" lang="cs-CZ" sz="1800" spc="-1" strike="noStrike">
                <a:solidFill>
                  <a:srgbClr val="284c6a"/>
                </a:solidFill>
                <a:latin typeface="Trebuchet MS"/>
              </a:rPr>
              <a:t>b 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je 180°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5435640" y="1514520"/>
            <a:ext cx="28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 = 180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500040" y="1527120"/>
            <a:ext cx="60199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Součet velikostí úhlů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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při rameni </a:t>
            </a:r>
            <a:r>
              <a:rPr b="1" i="1" lang="cs-CZ" sz="1800" spc="-1" strike="noStrike">
                <a:solidFill>
                  <a:srgbClr val="284c6a"/>
                </a:solidFill>
                <a:latin typeface="Trebuchet MS"/>
              </a:rPr>
              <a:t>d 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je 180°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 flipH="1">
            <a:off x="3203640" y="1989000"/>
            <a:ext cx="3168720" cy="129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 flipH="1">
            <a:off x="2339640" y="1974960"/>
            <a:ext cx="4551480" cy="33987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5435640" y="1514520"/>
            <a:ext cx="28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 = 180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1" descr=""/>
          <p:cNvPicPr/>
          <p:nvPr/>
        </p:nvPicPr>
        <p:blipFill>
          <a:blip r:embed="rId1"/>
          <a:stretch/>
        </p:blipFill>
        <p:spPr>
          <a:xfrm>
            <a:off x="1265400" y="2378160"/>
            <a:ext cx="6475320" cy="3887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5059440" y="1614600"/>
            <a:ext cx="3155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360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500040" y="1268280"/>
            <a:ext cx="77770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Součet velikostí všech vnitřních úhlů je 360°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 flipH="1">
            <a:off x="2050920" y="2133720"/>
            <a:ext cx="3168720" cy="3382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5796000" y="2133720"/>
            <a:ext cx="1008000" cy="345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 flipH="1">
            <a:off x="4427640" y="2133720"/>
            <a:ext cx="1728720" cy="1150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 flipH="1">
            <a:off x="2916360" y="2133720"/>
            <a:ext cx="3743280" cy="107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1114560" y="2349360"/>
            <a:ext cx="691344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00040" y="1109520"/>
            <a:ext cx="77770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Výška lichoběžníku je kolmá vzdálenost rovnoběžných stra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500040" y="1700280"/>
            <a:ext cx="51562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ýšku lichoběžníku značíme písmenem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v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500040" y="1944720"/>
            <a:ext cx="84297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ýšek můžeme sestrojit nekonečně mnoho, všechny však budou mít stejnou velikost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"/>
          <p:cNvPicPr/>
          <p:nvPr/>
        </p:nvPicPr>
        <p:blipFill>
          <a:blip r:embed="rId1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"/>
          <p:cNvPicPr/>
          <p:nvPr/>
        </p:nvPicPr>
        <p:blipFill>
          <a:blip r:embed="rId2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"/>
          <p:cNvPicPr/>
          <p:nvPr/>
        </p:nvPicPr>
        <p:blipFill>
          <a:blip r:embed="rId3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0" descr=""/>
          <p:cNvPicPr/>
          <p:nvPr/>
        </p:nvPicPr>
        <p:blipFill>
          <a:blip r:embed="rId4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"/>
          <p:cNvPicPr/>
          <p:nvPr/>
        </p:nvPicPr>
        <p:blipFill>
          <a:blip r:embed="rId5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"/>
          <p:cNvPicPr/>
          <p:nvPr/>
        </p:nvPicPr>
        <p:blipFill>
          <a:blip r:embed="rId6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"/>
          <p:cNvPicPr/>
          <p:nvPr/>
        </p:nvPicPr>
        <p:blipFill>
          <a:blip r:embed="rId7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4" descr=""/>
          <p:cNvPicPr/>
          <p:nvPr/>
        </p:nvPicPr>
        <p:blipFill>
          <a:blip r:embed="rId8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"/>
          <p:cNvPicPr/>
          <p:nvPr/>
        </p:nvPicPr>
        <p:blipFill>
          <a:blip r:embed="rId9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114560" y="2637000"/>
            <a:ext cx="6913440" cy="37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Lichoběžník a jeho druh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00040" y="82224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rozatím jsme vše opakovali na lichoběžníku, kterému se říká </a:t>
            </a:r>
            <a:r>
              <a:rPr b="1" lang="cs-CZ" sz="1600" spc="-1" strike="noStrike">
                <a:solidFill>
                  <a:srgbClr val="ff0000"/>
                </a:solidFill>
                <a:latin typeface="Trebuchet MS"/>
              </a:rPr>
              <a:t>obecný lichoběžník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07960" y="1233360"/>
            <a:ext cx="8064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Objevila se tady však už i zmínka o podobnosti s rovnoramenným trojúhelníkem, co se označení stran týká. Podobnost však může být ještě větší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500040" y="1550880"/>
            <a:ext cx="45306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Jakému trojúhelníku říkáme rovnoramenný?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4357800" y="1643040"/>
            <a:ext cx="40989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Takovému, který má dvě strany stejně dlouhé, který má shodná ramena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500040" y="214776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tento případ může nastat i u lichoběžníku. Pak mu říkáme </a:t>
            </a:r>
            <a:r>
              <a:rPr b="1" lang="cs-CZ" sz="1600" spc="-1" strike="noStrike">
                <a:solidFill>
                  <a:srgbClr val="ff0000"/>
                </a:solidFill>
                <a:latin typeface="Trebuchet MS"/>
              </a:rPr>
              <a:t>rovnoramenný lichoběžník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8" descr=""/>
          <p:cNvPicPr/>
          <p:nvPr/>
        </p:nvPicPr>
        <p:blipFill>
          <a:blip r:embed="rId1"/>
          <a:stretch/>
        </p:blipFill>
        <p:spPr>
          <a:xfrm>
            <a:off x="1535040" y="2700360"/>
            <a:ext cx="598968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3691080" y="4465800"/>
            <a:ext cx="17445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cc00"/>
                </a:solidFill>
                <a:latin typeface="Trebuchet MS"/>
              </a:rPr>
              <a:t>b = d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"/>
          <p:cNvPicPr/>
          <p:nvPr/>
        </p:nvPicPr>
        <p:blipFill>
          <a:blip r:embed="rId2"/>
          <a:stretch/>
        </p:blipFill>
        <p:spPr>
          <a:xfrm>
            <a:off x="1547640" y="2666880"/>
            <a:ext cx="6043680" cy="36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14560" y="2637000"/>
            <a:ext cx="6913440" cy="37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1"/>
          <a:stretch/>
        </p:blipFill>
        <p:spPr>
          <a:xfrm>
            <a:off x="1535040" y="2700360"/>
            <a:ext cx="5989680" cy="360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"/>
          <p:cNvPicPr/>
          <p:nvPr/>
        </p:nvPicPr>
        <p:blipFill>
          <a:blip r:embed="rId2"/>
          <a:stretch/>
        </p:blipFill>
        <p:spPr>
          <a:xfrm>
            <a:off x="1535040" y="2703600"/>
            <a:ext cx="5975280" cy="3592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Lichoběžník a jeho druh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00040" y="98100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Rovnoramenný lichoběžník má nejen shodná ramena, ale i dvě dvojice úhlů </a:t>
            </a:r>
            <a:br>
              <a:rPr sz="1600"/>
            </a:b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i obou základnách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500040" y="198900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 takovém případě mu také říkáme </a:t>
            </a:r>
            <a:r>
              <a:rPr b="1" lang="cs-CZ" sz="1600" spc="-1" strike="noStrike">
                <a:solidFill>
                  <a:srgbClr val="ff0000"/>
                </a:solidFill>
                <a:latin typeface="Trebuchet MS"/>
              </a:rPr>
              <a:t>pravoúhlý lichoběžník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500040" y="141300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A když už jsme u úhlů, vzpomeňme si ještě na další typ trojúhelníku </a:t>
            </a:r>
            <a:r>
              <a:rPr b="1" lang="cs-CZ" sz="14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–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trojúhelník s jedním pravým vnitřním úhlem, kterému říkáme pravoúhlý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500040" y="175896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I lichoběžník může mít některý z vnitřních úhlů pravý.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"/>
          <p:cNvPicPr/>
          <p:nvPr/>
        </p:nvPicPr>
        <p:blipFill>
          <a:blip r:embed="rId3"/>
          <a:stretch/>
        </p:blipFill>
        <p:spPr>
          <a:xfrm>
            <a:off x="1606680" y="2746440"/>
            <a:ext cx="5918040" cy="35575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5"/>
          <p:cNvSpPr/>
          <p:nvPr/>
        </p:nvSpPr>
        <p:spPr>
          <a:xfrm>
            <a:off x="500040" y="223344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jak je vidět na obrázku, pravoúhlý lichoběžník má pravé úhly dokonce dva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042920" y="2205000"/>
            <a:ext cx="69138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1"/>
          <a:stretch/>
        </p:blipFill>
        <p:spPr>
          <a:xfrm>
            <a:off x="1108080" y="2251080"/>
            <a:ext cx="5985000" cy="40356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500040" y="1571760"/>
            <a:ext cx="7777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Nás nyní zajímá délka hraniční křivky vymezující lichoběžník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Obvod lichoběžníku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500040" y="105264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bvod znamená vymezení nějaké plochy, jde o hraniční křivku rovinného útvaru nebo </a:t>
            </a:r>
            <a:r>
              <a:rPr b="1" lang="cs-CZ" sz="1600" spc="-1" strike="noStrike">
                <a:solidFill>
                  <a:srgbClr val="ff0000"/>
                </a:solidFill>
                <a:latin typeface="Trebuchet MS"/>
              </a:rPr>
              <a:t>její délku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0" descr=""/>
          <p:cNvPicPr/>
          <p:nvPr/>
        </p:nvPicPr>
        <p:blipFill>
          <a:blip r:embed="rId2"/>
          <a:stretch/>
        </p:blipFill>
        <p:spPr>
          <a:xfrm>
            <a:off x="1108080" y="2247840"/>
            <a:ext cx="5985000" cy="4035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2" descr=""/>
          <p:cNvPicPr/>
          <p:nvPr/>
        </p:nvPicPr>
        <p:blipFill>
          <a:blip r:embed="rId3"/>
          <a:stretch/>
        </p:blipFill>
        <p:spPr>
          <a:xfrm>
            <a:off x="1108080" y="2251080"/>
            <a:ext cx="5985000" cy="4035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4" descr=""/>
          <p:cNvPicPr/>
          <p:nvPr/>
        </p:nvPicPr>
        <p:blipFill>
          <a:blip r:embed="rId4"/>
          <a:stretch/>
        </p:blipFill>
        <p:spPr>
          <a:xfrm>
            <a:off x="1108080" y="2251080"/>
            <a:ext cx="5985000" cy="4035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6" descr=""/>
          <p:cNvPicPr/>
          <p:nvPr/>
        </p:nvPicPr>
        <p:blipFill>
          <a:blip r:embed="rId5"/>
          <a:stretch/>
        </p:blipFill>
        <p:spPr>
          <a:xfrm>
            <a:off x="1108080" y="2251080"/>
            <a:ext cx="5985000" cy="4035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8" descr=""/>
          <p:cNvPicPr/>
          <p:nvPr/>
        </p:nvPicPr>
        <p:blipFill>
          <a:blip r:embed="rId6"/>
          <a:stretch/>
        </p:blipFill>
        <p:spPr>
          <a:xfrm>
            <a:off x="1108080" y="2251080"/>
            <a:ext cx="5985000" cy="40356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3"/>
          <p:cNvSpPr/>
          <p:nvPr/>
        </p:nvSpPr>
        <p:spPr>
          <a:xfrm>
            <a:off x="5653080" y="2565360"/>
            <a:ext cx="7779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5"/>
          <p:cNvSpPr/>
          <p:nvPr/>
        </p:nvSpPr>
        <p:spPr>
          <a:xfrm>
            <a:off x="5940360" y="2565360"/>
            <a:ext cx="120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+b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7"/>
          <p:cNvSpPr/>
          <p:nvPr/>
        </p:nvSpPr>
        <p:spPr>
          <a:xfrm>
            <a:off x="6573960" y="2565360"/>
            <a:ext cx="120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+c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9"/>
          <p:cNvSpPr/>
          <p:nvPr/>
        </p:nvSpPr>
        <p:spPr>
          <a:xfrm>
            <a:off x="7135920" y="2565360"/>
            <a:ext cx="1065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+d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4"/>
          <p:cNvSpPr/>
          <p:nvPr/>
        </p:nvSpPr>
        <p:spPr>
          <a:xfrm>
            <a:off x="5019840" y="2565360"/>
            <a:ext cx="1064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o=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 Švejdová</cp:lastModifiedBy>
  <dcterms:modified xsi:type="dcterms:W3CDTF">2010-05-04T11:53:00Z</dcterms:modified>
  <cp:revision>132</cp:revision>
  <dc:subject/>
  <dc:title>Obvod lichoběžníku</dc:title>
</cp:coreProperties>
</file>