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3F5-3287-4BF5-8F33-3C702640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33E-0673-4023-95B0-50C1147F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526-D141-4C3E-A447-5F61A1E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E71-811E-4778-9190-F40E9930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9A0-2346-4B6D-813C-C3A98A0F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81F1-E4B6-415C-8E79-D6ADFDC3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E900-870B-4BEA-A650-A444AF03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A258-E30E-4F9E-AEE5-53BAAF79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121-A028-4CC7-8E46-5B5AECD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348A-3463-4853-9BAA-8A02E13F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1C9-2F32-42BD-966E-646C525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E288-D42E-465D-AE57-F65A701D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4AE0-26EC-4424-8144-70AFDFD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8505-FDB0-4217-A851-F64F6AC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56C-F266-49CA-B7A4-CC4A048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AD53-9E7D-41AC-A493-9C506966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4F79-D954-4997-A303-61EB2DB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E8E-6B64-4177-A51E-2D3B63F9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0F4-09D2-4AB0-8FA5-8234DB6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211-C317-4C9F-91AB-C784FDD1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2F6-BAC1-414E-9C95-0D810FE0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49A-BF83-4044-A688-B35B751A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E2AA-6952-4A1C-9908-12E0B31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C88-ADA4-4A5C-93C7-C3DBB28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021-C3EF-4C03-AC1B-C96C4BB6C687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48320"/>
            <a:ext cx="75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900000" y="6448320"/>
            <a:ext cx="757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458-52CC-4FE6-8F52-A0B5EE355061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284c6a"/>
                </a:solidFill>
                <a:latin typeface="Trebuchet MS"/>
              </a:rPr>
              <a:t>Ne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4306680"/>
            <a:ext cx="8076960" cy="63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284c6a"/>
                </a:solidFill>
                <a:latin typeface="Trebuchet MS"/>
              </a:rPr>
              <a:t>Druhy řešení.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920" y="1028520"/>
            <a:ext cx="777744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daných upravených tvarů nerovnic vyber ty, jejichž řešením jsou všechna reálná čísla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643280" y="4581360"/>
            <a:ext cx="201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120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6948360" y="5157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1187280" y="5589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059280" y="213372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3274920" y="3500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5003640" y="2492280"/>
            <a:ext cx="151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,5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5796000" y="3573360"/>
            <a:ext cx="18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20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443640" y="191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1476360" y="256536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1258920" y="429264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4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3419640" y="551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6767640" y="6156360"/>
            <a:ext cx="2197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správnou odpově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5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6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920" y="1028520"/>
            <a:ext cx="777744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daných upravených tvarů nerovnic vyber ty, jejichž řešením jsou všechna reálná čísla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643280" y="4581360"/>
            <a:ext cx="201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120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948360" y="5157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187280" y="5589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3059280" y="213372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3274920" y="3500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003640" y="2492280"/>
            <a:ext cx="151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,5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796000" y="3573360"/>
            <a:ext cx="18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20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6443640" y="191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1476360" y="256536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1258920" y="429264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4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3419640" y="551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059280" y="213372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4643280" y="4581360"/>
            <a:ext cx="201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-120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3276720" y="3500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849240"/>
            <a:ext cx="777708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é řešení v reálných číslech mají následující nerovnice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042920" y="1341360"/>
            <a:ext cx="24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6767640" y="6156360"/>
            <a:ext cx="2197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správnou odpově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1042920" y="191628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1042920" y="2492280"/>
            <a:ext cx="24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a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1042920" y="306864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6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042920" y="364500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5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-9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1042920" y="4221000"/>
            <a:ext cx="27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-5,7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7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1042920" y="479736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7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678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1042920" y="537372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8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3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280" y="849240"/>
            <a:ext cx="777708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aké řešení v reálných číslech mají následující nerovnice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042920" y="1341360"/>
            <a:ext cx="24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1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2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042920" y="191628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1042920" y="2492280"/>
            <a:ext cx="24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3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a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1042920" y="306864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4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6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042920" y="3645000"/>
            <a:ext cx="24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5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-9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042920" y="4221000"/>
            <a:ext cx="273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6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-5,7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7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1042920" y="479736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7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678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1042920" y="5373720"/>
            <a:ext cx="273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8)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 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4140360" y="1341360"/>
            <a:ext cx="253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Nemá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140360" y="1916280"/>
            <a:ext cx="2531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-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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; 3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4140360" y="2492280"/>
            <a:ext cx="253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-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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; -2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4140360" y="3068640"/>
            <a:ext cx="33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Všechna reálná čí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8"/>
          <p:cNvSpPr/>
          <p:nvPr/>
        </p:nvSpPr>
        <p:spPr>
          <a:xfrm>
            <a:off x="4140360" y="3645000"/>
            <a:ext cx="2531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x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00"/>
                </a:solidFill>
                <a:latin typeface="Symbol"/>
                <a:ea typeface="Symbol"/>
              </a:rPr>
              <a:t>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-9;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9"/>
          <p:cNvSpPr/>
          <p:nvPr/>
        </p:nvSpPr>
        <p:spPr>
          <a:xfrm>
            <a:off x="4140360" y="4221000"/>
            <a:ext cx="324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Všechna reálná čí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140360" y="4797360"/>
            <a:ext cx="283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y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678;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4140360" y="5373720"/>
            <a:ext cx="283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z 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cc00"/>
                </a:solidFill>
                <a:latin typeface="Trebuchet MS"/>
              </a:rPr>
              <a:t>(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-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</a:t>
            </a:r>
            <a:r>
              <a:rPr b="1" lang="cs-CZ" sz="2800" spc="-1" strike="noStrike">
                <a:solidFill>
                  <a:srgbClr val="00cc00"/>
                </a:solidFill>
                <a:latin typeface="Trebuchet MS"/>
              </a:rPr>
              <a:t>; 0</a:t>
            </a:r>
            <a:r>
              <a:rPr b="1" lang="cs-CZ" sz="2800" spc="-1" strike="noStrike">
                <a:solidFill>
                  <a:srgbClr val="00cc00"/>
                </a:solidFill>
                <a:latin typeface="Symbol"/>
                <a:ea typeface="Symbol"/>
              </a:rPr>
              <a:t>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744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Nerovnice může mít 3 různá řešení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26920" y="121932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o několika krocích ekvivalentních úprav, tak můžeme dostat některé z následujících řešení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2"/>
          <p:cNvSpPr/>
          <p:nvPr/>
        </p:nvSpPr>
        <p:spPr>
          <a:xfrm>
            <a:off x="1116000" y="19018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3419640" y="5013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5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y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4"/>
          <p:cNvSpPr/>
          <p:nvPr/>
        </p:nvSpPr>
        <p:spPr>
          <a:xfrm>
            <a:off x="2484360" y="1973160"/>
            <a:ext cx="453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5"/>
          <p:cNvSpPr/>
          <p:nvPr/>
        </p:nvSpPr>
        <p:spPr>
          <a:xfrm>
            <a:off x="1619280" y="2492280"/>
            <a:ext cx="684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Tedy nepravdivý matematický výraz, nepravdivá nerovnost, což znamená, že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nerovnice nemá žádné řešení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6"/>
          <p:cNvSpPr/>
          <p:nvPr/>
        </p:nvSpPr>
        <p:spPr>
          <a:xfrm>
            <a:off x="1116000" y="313992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7"/>
          <p:cNvSpPr/>
          <p:nvPr/>
        </p:nvSpPr>
        <p:spPr>
          <a:xfrm>
            <a:off x="2484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8"/>
          <p:cNvSpPr/>
          <p:nvPr/>
        </p:nvSpPr>
        <p:spPr>
          <a:xfrm>
            <a:off x="1619280" y="4119480"/>
            <a:ext cx="67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Tedy pravdivý matematický výraz, pravdivá nerovnost, což znamená, že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nerovnice má nekonečně mnoho řešení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, přesněji řečeno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všechna čísla z dané množiny definičního oboru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9"/>
          <p:cNvSpPr/>
          <p:nvPr/>
        </p:nvSpPr>
        <p:spPr>
          <a:xfrm>
            <a:off x="1116000" y="49402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1619280" y="5661000"/>
            <a:ext cx="67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Tedy nerovnost, určující také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 nekonečně mnoho řešení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, přesněji řečeno interval čísel. Řešením je tedy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spojitá část (množina) čísel definičního oboru</a:t>
            </a:r>
            <a:r>
              <a:rPr b="1" lang="cs-CZ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1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330200" y="3429000"/>
            <a:ext cx="68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84c6a"/>
                </a:solidFill>
                <a:latin typeface="Trebuchet MS"/>
              </a:rPr>
              <a:t>Postup řešení nerovnic je obdobný, jako při řešení rovnic s tou výjimkou, že pokud násobíme nebo dělíme nerovnici záporným číslem, mění se znak nerovnosti v opač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3"/>
          <p:cNvSpPr/>
          <p:nvPr/>
        </p:nvSpPr>
        <p:spPr>
          <a:xfrm>
            <a:off x="1330200" y="3860640"/>
            <a:ext cx="5473800" cy="2521080"/>
          </a:xfrm>
          <a:prstGeom prst="cloudCallout">
            <a:avLst>
              <a:gd name="adj1" fmla="val 11689"/>
              <a:gd name="adj2" fmla="val -90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ísto znaménka = (rovná se) užívaného v rovnicích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nerovnicích objevují znamén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ž)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ž),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bo rovno) nebo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bo rov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520" y="1267920"/>
            <a:ext cx="7574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Lineární nerovnice je zápis nerovnosti dvou výrazů (v obecném tvaru a.x + b &lt; 0 , kde se mohou vyskytovat znaménka nerovnosti &gt;,  &lt;, 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,  </a:t>
            </a:r>
            <a:r>
              <a:rPr b="1" lang="cs-CZ" sz="1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1800" spc="-1" strike="noStrike">
                <a:solidFill>
                  <a:srgbClr val="284c6a"/>
                </a:solidFill>
                <a:latin typeface="Trebuchet MS"/>
              </a:rPr>
              <a:t> ), ve kterém máme najít všechna čísla dané množiny (neznámé), která splňují danou nerovnost. 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Lineární nerovnice - opaková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63640" y="2205000"/>
            <a:ext cx="3441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2.x  +  6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 0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801720" y="4437000"/>
            <a:ext cx="7777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U nerovnic a určení jejich řešení hraje podstatnou roli i číselný obor, ve kterém nerovnici řeší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781200" y="5518080"/>
            <a:ext cx="777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Jestliže řešíme nerovnici v přirozených či celých číslech, pak je řešením zpravidla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množina prvků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Jestliže řešíme nerovnici v reálných číslech, pak je řešením zpravidla 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interval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64960" y="189000"/>
            <a:ext cx="2578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809880" y="981000"/>
                <a:ext cx="2446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Line 7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5148360" y="981000"/>
            <a:ext cx="3384360" cy="3816360"/>
          </a:xfrm>
          <a:prstGeom prst="cloudCallout">
            <a:avLst>
              <a:gd name="adj1" fmla="val -61023"/>
              <a:gd name="adj2" fmla="val 64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sledkem je nerovnost, ze které vyplývá, že řešením jsou všechna reálná čísla rovna nebo větší než číslo 1. Tento výsledek je obdobou situaci při řešení rovnic, kdy např. vyšlo, že 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4. Na rozdíl od rovnic, kdy existovalo jediné řešení, u nerovnic je řešení nekonečně mno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6688080" y="5445000"/>
                <a:ext cx="2032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Line 10"/>
          <p:cNvSpPr/>
          <p:nvPr/>
        </p:nvSpPr>
        <p:spPr>
          <a:xfrm>
            <a:off x="6732720" y="6165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6732720" y="623736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148360" y="371628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Nerovnice má nekonečně mnoho řešení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(spojitá část množiny reálných čísel - interv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8"/>
              <p:cNvSpPr txBox="1"/>
              <p:nvPr/>
            </p:nvSpPr>
            <p:spPr>
              <a:xfrm>
                <a:off x="1447920" y="1557360"/>
                <a:ext cx="26492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AutoShape 3"/>
          <p:cNvSpPr/>
          <p:nvPr/>
        </p:nvSpPr>
        <p:spPr>
          <a:xfrm>
            <a:off x="5364000" y="2781360"/>
            <a:ext cx="2953080" cy="1584360"/>
          </a:xfrm>
          <a:prstGeom prst="cloudCallout">
            <a:avLst>
              <a:gd name="adj1" fmla="val -106129"/>
              <a:gd name="adj2" fmla="val -1042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dříve se zbavíme závorky, a to tak, že ji roznásob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9"/>
              <p:cNvSpPr txBox="1"/>
              <p:nvPr/>
            </p:nvSpPr>
            <p:spPr>
              <a:xfrm>
                <a:off x="1447920" y="2060640"/>
                <a:ext cx="2355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0"/>
              <p:cNvSpPr txBox="1"/>
              <p:nvPr/>
            </p:nvSpPr>
            <p:spPr>
              <a:xfrm>
                <a:off x="1461960" y="2529000"/>
                <a:ext cx="2355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1"/>
              <p:cNvSpPr txBox="1"/>
              <p:nvPr/>
            </p:nvSpPr>
            <p:spPr>
              <a:xfrm>
                <a:off x="1461960" y="3019320"/>
                <a:ext cx="1914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2"/>
              <p:cNvSpPr txBox="1"/>
              <p:nvPr/>
            </p:nvSpPr>
            <p:spPr>
              <a:xfrm>
                <a:off x="3833640" y="3083040"/>
                <a:ext cx="6670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AutoShape 33"/>
          <p:cNvSpPr/>
          <p:nvPr/>
        </p:nvSpPr>
        <p:spPr>
          <a:xfrm>
            <a:off x="4572000" y="3860640"/>
            <a:ext cx="3168720" cy="1943280"/>
          </a:xfrm>
          <a:prstGeom prst="cloudCallout">
            <a:avLst>
              <a:gd name="adj1" fmla="val -105009"/>
              <a:gd name="adj2" fmla="val -73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evedeme všechny členy s neznámou na jednu stranu a členy bez neznámé na stranu druh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4"/>
              <p:cNvSpPr txBox="1"/>
              <p:nvPr/>
            </p:nvSpPr>
            <p:spPr>
              <a:xfrm>
                <a:off x="838080" y="3483000"/>
                <a:ext cx="31654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5"/>
              <p:cNvSpPr txBox="1"/>
              <p:nvPr/>
            </p:nvSpPr>
            <p:spPr>
              <a:xfrm>
                <a:off x="1662120" y="3944880"/>
                <a:ext cx="11286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6"/>
              <p:cNvSpPr txBox="1"/>
              <p:nvPr/>
            </p:nvSpPr>
            <p:spPr>
              <a:xfrm>
                <a:off x="1295280" y="4379760"/>
                <a:ext cx="18655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8"/>
              <p:cNvSpPr txBox="1"/>
              <p:nvPr/>
            </p:nvSpPr>
            <p:spPr>
              <a:xfrm>
                <a:off x="3189240" y="4005360"/>
                <a:ext cx="463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9"/>
              <p:cNvSpPr txBox="1"/>
              <p:nvPr/>
            </p:nvSpPr>
            <p:spPr>
              <a:xfrm>
                <a:off x="2055960" y="4840200"/>
                <a:ext cx="6872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40" descr=""/>
          <p:cNvPicPr/>
          <p:nvPr/>
        </p:nvPicPr>
        <p:blipFill>
          <a:blip r:embed="rId1"/>
          <a:stretch/>
        </p:blipFill>
        <p:spPr>
          <a:xfrm>
            <a:off x="669960" y="5730840"/>
            <a:ext cx="5581440" cy="5238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41"/>
          <p:cNvSpPr/>
          <p:nvPr/>
        </p:nvSpPr>
        <p:spPr>
          <a:xfrm>
            <a:off x="3693960" y="5489640"/>
            <a:ext cx="2979720" cy="431640"/>
          </a:xfrm>
          <a:custGeom>
            <a:avLst/>
            <a:gdLst>
              <a:gd name="textAreaLeft" fmla="*/ 0 w 2979720"/>
              <a:gd name="textAreaRight" fmla="*/ 2980080 w 2979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86" h="272">
                <a:moveTo>
                  <a:pt x="0" y="272"/>
                </a:moveTo>
                <a:lnTo>
                  <a:pt x="0" y="0"/>
                </a:lnTo>
                <a:lnTo>
                  <a:pt x="2586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2"/>
          <p:cNvSpPr/>
          <p:nvPr/>
        </p:nvSpPr>
        <p:spPr>
          <a:xfrm>
            <a:off x="3622680" y="5415120"/>
            <a:ext cx="14616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V="1">
            <a:off x="3767040" y="55404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4"/>
          <p:cNvSpPr/>
          <p:nvPr/>
        </p:nvSpPr>
        <p:spPr>
          <a:xfrm flipV="1">
            <a:off x="398304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419904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6"/>
          <p:cNvSpPr/>
          <p:nvPr/>
        </p:nvSpPr>
        <p:spPr>
          <a:xfrm flipV="1">
            <a:off x="4414680" y="552924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7"/>
          <p:cNvSpPr/>
          <p:nvPr/>
        </p:nvSpPr>
        <p:spPr>
          <a:xfrm flipV="1">
            <a:off x="463068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8"/>
          <p:cNvSpPr/>
          <p:nvPr/>
        </p:nvSpPr>
        <p:spPr>
          <a:xfrm flipV="1">
            <a:off x="484668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9"/>
          <p:cNvSpPr/>
          <p:nvPr/>
        </p:nvSpPr>
        <p:spPr>
          <a:xfrm flipV="1">
            <a:off x="506268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527832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1"/>
          <p:cNvSpPr/>
          <p:nvPr/>
        </p:nvSpPr>
        <p:spPr>
          <a:xfrm flipV="1">
            <a:off x="549432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2"/>
          <p:cNvSpPr/>
          <p:nvPr/>
        </p:nvSpPr>
        <p:spPr>
          <a:xfrm flipV="1">
            <a:off x="571032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3"/>
          <p:cNvSpPr/>
          <p:nvPr/>
        </p:nvSpPr>
        <p:spPr>
          <a:xfrm flipV="1">
            <a:off x="5925960" y="552924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4"/>
          <p:cNvSpPr/>
          <p:nvPr/>
        </p:nvSpPr>
        <p:spPr>
          <a:xfrm flipV="1">
            <a:off x="6141960" y="5529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5"/>
          <p:cNvSpPr/>
          <p:nvPr/>
        </p:nvSpPr>
        <p:spPr>
          <a:xfrm>
            <a:off x="3619440" y="5405400"/>
            <a:ext cx="14616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64960" y="189000"/>
            <a:ext cx="5747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 - ov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9"/>
              <p:cNvSpPr txBox="1"/>
              <p:nvPr/>
            </p:nvSpPr>
            <p:spPr>
              <a:xfrm>
                <a:off x="3319560" y="938160"/>
                <a:ext cx="2952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Line 5"/>
          <p:cNvSpPr/>
          <p:nvPr/>
        </p:nvSpPr>
        <p:spPr>
          <a:xfrm>
            <a:off x="539640" y="1484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39640" y="1555920"/>
            <a:ext cx="404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věř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205080" y="2708280"/>
            <a:ext cx="4464000" cy="2305080"/>
          </a:xfrm>
          <a:prstGeom prst="cloudCallout">
            <a:avLst>
              <a:gd name="adj1" fmla="val -81865"/>
              <a:gd name="adj2" fmla="val -842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Ověření správnosti, ne tedy zkouška, proto, že většinou je řešením celý interval a my nemáme možnost všechna čísla z daného intervalu dosad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39640" y="184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Provedeme si tedy ověření správnosti, nejprve pro „hraniční“ číslo x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1"/>
              <p:cNvSpPr txBox="1"/>
              <p:nvPr/>
            </p:nvSpPr>
            <p:spPr>
              <a:xfrm>
                <a:off x="801720" y="2133720"/>
                <a:ext cx="9745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19"/>
          <p:cNvSpPr/>
          <p:nvPr/>
        </p:nvSpPr>
        <p:spPr>
          <a:xfrm>
            <a:off x="611280" y="335592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nyní si provedeme ověření správnosti pro jiné než „krajní“ číslo intervalu řešení, např. pro x=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2"/>
              <p:cNvSpPr txBox="1"/>
              <p:nvPr/>
            </p:nvSpPr>
            <p:spPr>
              <a:xfrm>
                <a:off x="1776240" y="2197080"/>
                <a:ext cx="1175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3"/>
              <p:cNvSpPr txBox="1"/>
              <p:nvPr/>
            </p:nvSpPr>
            <p:spPr>
              <a:xfrm>
                <a:off x="2979720" y="2211480"/>
                <a:ext cx="957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4"/>
              <p:cNvSpPr txBox="1"/>
              <p:nvPr/>
            </p:nvSpPr>
            <p:spPr>
              <a:xfrm>
                <a:off x="3936960" y="2208240"/>
                <a:ext cx="274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5"/>
              <p:cNvSpPr txBox="1"/>
              <p:nvPr/>
            </p:nvSpPr>
            <p:spPr>
              <a:xfrm>
                <a:off x="800280" y="2637000"/>
                <a:ext cx="10062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6"/>
              <p:cNvSpPr txBox="1"/>
              <p:nvPr/>
            </p:nvSpPr>
            <p:spPr>
              <a:xfrm>
                <a:off x="1801800" y="2681280"/>
                <a:ext cx="1911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7"/>
              <p:cNvSpPr txBox="1"/>
              <p:nvPr/>
            </p:nvSpPr>
            <p:spPr>
              <a:xfrm>
                <a:off x="3720960" y="2682720"/>
                <a:ext cx="1282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8"/>
              <p:cNvSpPr txBox="1"/>
              <p:nvPr/>
            </p:nvSpPr>
            <p:spPr>
              <a:xfrm>
                <a:off x="5002200" y="2687760"/>
                <a:ext cx="1009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6027840" y="2687760"/>
                <a:ext cx="272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0"/>
              <p:cNvSpPr txBox="1"/>
              <p:nvPr/>
            </p:nvSpPr>
            <p:spPr>
              <a:xfrm>
                <a:off x="6808680" y="1066680"/>
                <a:ext cx="165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Řešení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2"/>
              <p:cNvSpPr txBox="1"/>
              <p:nvPr/>
            </p:nvSpPr>
            <p:spPr>
              <a:xfrm>
                <a:off x="6840360" y="2637000"/>
                <a:ext cx="16765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AutoShape 43"/>
          <p:cNvSpPr/>
          <p:nvPr/>
        </p:nvSpPr>
        <p:spPr>
          <a:xfrm>
            <a:off x="4427640" y="3860640"/>
            <a:ext cx="3889440" cy="1584360"/>
          </a:xfrm>
          <a:prstGeom prst="cloudCallout">
            <a:avLst>
              <a:gd name="adj1" fmla="val 30000"/>
              <a:gd name="adj2" fmla="val -97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Pro hraniční bod intervalu řešení, ovšem jen pokud je součástí řešení, nastává vždy rovno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4"/>
              <p:cNvSpPr txBox="1"/>
              <p:nvPr/>
            </p:nvSpPr>
            <p:spPr>
              <a:xfrm>
                <a:off x="798480" y="3789360"/>
                <a:ext cx="103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5"/>
              <p:cNvSpPr txBox="1"/>
              <p:nvPr/>
            </p:nvSpPr>
            <p:spPr>
              <a:xfrm>
                <a:off x="1776240" y="3852720"/>
                <a:ext cx="1229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6"/>
              <p:cNvSpPr txBox="1"/>
              <p:nvPr/>
            </p:nvSpPr>
            <p:spPr>
              <a:xfrm>
                <a:off x="3006720" y="3852720"/>
                <a:ext cx="957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7"/>
              <p:cNvSpPr txBox="1"/>
              <p:nvPr/>
            </p:nvSpPr>
            <p:spPr>
              <a:xfrm>
                <a:off x="3963960" y="3863880"/>
                <a:ext cx="274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8"/>
              <p:cNvSpPr txBox="1"/>
              <p:nvPr/>
            </p:nvSpPr>
            <p:spPr>
              <a:xfrm>
                <a:off x="797040" y="4292640"/>
                <a:ext cx="1066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9"/>
              <p:cNvSpPr txBox="1"/>
              <p:nvPr/>
            </p:nvSpPr>
            <p:spPr>
              <a:xfrm>
                <a:off x="1801800" y="4336920"/>
                <a:ext cx="19652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0"/>
              <p:cNvSpPr txBox="1"/>
              <p:nvPr/>
            </p:nvSpPr>
            <p:spPr>
              <a:xfrm>
                <a:off x="3747960" y="4338720"/>
                <a:ext cx="1282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1"/>
              <p:cNvSpPr txBox="1"/>
              <p:nvPr/>
            </p:nvSpPr>
            <p:spPr>
              <a:xfrm>
                <a:off x="5018040" y="4357800"/>
                <a:ext cx="1173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52"/>
              <p:cNvSpPr txBox="1"/>
              <p:nvPr/>
            </p:nvSpPr>
            <p:spPr>
              <a:xfrm>
                <a:off x="6153120" y="4357800"/>
                <a:ext cx="273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53"/>
              <p:cNvSpPr txBox="1"/>
              <p:nvPr/>
            </p:nvSpPr>
            <p:spPr>
              <a:xfrm>
                <a:off x="6808680" y="4292640"/>
                <a:ext cx="1797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AutoShape 54"/>
          <p:cNvSpPr/>
          <p:nvPr/>
        </p:nvSpPr>
        <p:spPr>
          <a:xfrm>
            <a:off x="2484360" y="5013360"/>
            <a:ext cx="3889440" cy="1584360"/>
          </a:xfrm>
          <a:prstGeom prst="cloudCallout">
            <a:avLst>
              <a:gd name="adj1" fmla="val 79592"/>
              <a:gd name="adj2" fmla="val -6573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Pro jiné než „hraniční“ číslo intervalu řešení platí daná nerovno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5"/>
          <p:cNvSpPr/>
          <p:nvPr/>
        </p:nvSpPr>
        <p:spPr>
          <a:xfrm>
            <a:off x="611280" y="492444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A na závěr si provedeme ověření správnosti pro číslo, které není řešením nerovnice, které nepatří do intervalu řešení, např. pro x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56"/>
              <p:cNvSpPr txBox="1"/>
              <p:nvPr/>
            </p:nvSpPr>
            <p:spPr>
              <a:xfrm>
                <a:off x="798480" y="5357880"/>
                <a:ext cx="103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7"/>
              <p:cNvSpPr txBox="1"/>
              <p:nvPr/>
            </p:nvSpPr>
            <p:spPr>
              <a:xfrm>
                <a:off x="1776240" y="5421240"/>
                <a:ext cx="1229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8"/>
              <p:cNvSpPr txBox="1"/>
              <p:nvPr/>
            </p:nvSpPr>
            <p:spPr>
              <a:xfrm>
                <a:off x="3006720" y="5421240"/>
                <a:ext cx="9572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9"/>
              <p:cNvSpPr txBox="1"/>
              <p:nvPr/>
            </p:nvSpPr>
            <p:spPr>
              <a:xfrm>
                <a:off x="3990960" y="5446800"/>
                <a:ext cx="219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0"/>
              <p:cNvSpPr txBox="1"/>
              <p:nvPr/>
            </p:nvSpPr>
            <p:spPr>
              <a:xfrm>
                <a:off x="797040" y="5861160"/>
                <a:ext cx="1066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1"/>
              <p:cNvSpPr txBox="1"/>
              <p:nvPr/>
            </p:nvSpPr>
            <p:spPr>
              <a:xfrm>
                <a:off x="1801800" y="5905440"/>
                <a:ext cx="1965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62"/>
              <p:cNvSpPr txBox="1"/>
              <p:nvPr/>
            </p:nvSpPr>
            <p:spPr>
              <a:xfrm>
                <a:off x="3747960" y="5907240"/>
                <a:ext cx="1282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3"/>
              <p:cNvSpPr txBox="1"/>
              <p:nvPr/>
            </p:nvSpPr>
            <p:spPr>
              <a:xfrm>
                <a:off x="5029200" y="5913360"/>
                <a:ext cx="1009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4"/>
              <p:cNvSpPr txBox="1"/>
              <p:nvPr/>
            </p:nvSpPr>
            <p:spPr>
              <a:xfrm>
                <a:off x="6054840" y="5924520"/>
                <a:ext cx="272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5"/>
              <p:cNvSpPr txBox="1"/>
              <p:nvPr/>
            </p:nvSpPr>
            <p:spPr>
              <a:xfrm>
                <a:off x="6823080" y="5861160"/>
                <a:ext cx="1768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AutoShape 66"/>
          <p:cNvSpPr/>
          <p:nvPr/>
        </p:nvSpPr>
        <p:spPr>
          <a:xfrm>
            <a:off x="4788000" y="3284640"/>
            <a:ext cx="3889440" cy="1584360"/>
          </a:xfrm>
          <a:prstGeom prst="cloudCallout">
            <a:avLst>
              <a:gd name="adj1" fmla="val 24569"/>
              <a:gd name="adj2" fmla="val 112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Pro číslo, které není řešením, tedy není z intervalu řešení, daná nerovnost neplat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5003640" y="3357720"/>
            <a:ext cx="3600720" cy="2519280"/>
          </a:xfrm>
          <a:prstGeom prst="cloudCallout">
            <a:avLst>
              <a:gd name="adj1" fmla="val -69884"/>
              <a:gd name="adj2" fmla="val -82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prve se zbavíme závorek, a to tak, že je roznásobíme, přičemž využijeme i možnosti krácení zlomků do kříž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64960" y="189000"/>
            <a:ext cx="2578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722760" y="946080"/>
                <a:ext cx="2433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Line 7"/>
          <p:cNvSpPr/>
          <p:nvPr/>
        </p:nvSpPr>
        <p:spPr>
          <a:xfrm>
            <a:off x="900000" y="162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2"/>
          <p:cNvSpPr/>
          <p:nvPr/>
        </p:nvSpPr>
        <p:spPr>
          <a:xfrm>
            <a:off x="5148360" y="1989000"/>
            <a:ext cx="3384360" cy="3527640"/>
          </a:xfrm>
          <a:prstGeom prst="cloudCallout">
            <a:avLst>
              <a:gd name="adj1" fmla="val -63416"/>
              <a:gd name="adj2" fmla="val 56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sledkem je pravdivá nerovnost, obdobná situaci při řešení rovnic, kdy např. vyšlo, že 4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4. V takovém případě rovnice měla nekonečně mnoho řešení. Obdobně tedy platí i zde, že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nerovnice má nekonečně mnoho řeše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9"/>
              <p:cNvSpPr txBox="1"/>
              <p:nvPr/>
            </p:nvSpPr>
            <p:spPr>
              <a:xfrm>
                <a:off x="5867280" y="5489640"/>
                <a:ext cx="1368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Line 30"/>
          <p:cNvSpPr/>
          <p:nvPr/>
        </p:nvSpPr>
        <p:spPr>
          <a:xfrm>
            <a:off x="5867280" y="602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5867280" y="609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5292720" y="386064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rebuchet MS"/>
              </a:rPr>
              <a:t>Nerovnice má nekonečně mnoho řešení 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(všechna reální čísl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5"/>
              <p:cNvSpPr txBox="1"/>
              <p:nvPr/>
            </p:nvSpPr>
            <p:spPr>
              <a:xfrm>
                <a:off x="852480" y="1773360"/>
                <a:ext cx="3790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6"/>
              <p:cNvSpPr txBox="1"/>
              <p:nvPr/>
            </p:nvSpPr>
            <p:spPr>
              <a:xfrm>
                <a:off x="770040" y="2852640"/>
                <a:ext cx="3905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7"/>
              <p:cNvSpPr txBox="1"/>
              <p:nvPr/>
            </p:nvSpPr>
            <p:spPr>
              <a:xfrm>
                <a:off x="738360" y="3933720"/>
                <a:ext cx="396396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8"/>
              <p:cNvSpPr txBox="1"/>
              <p:nvPr/>
            </p:nvSpPr>
            <p:spPr>
              <a:xfrm>
                <a:off x="2166840" y="4834080"/>
                <a:ext cx="25480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9"/>
              <p:cNvSpPr txBox="1"/>
              <p:nvPr/>
            </p:nvSpPr>
            <p:spPr>
              <a:xfrm>
                <a:off x="3662280" y="5877000"/>
                <a:ext cx="1068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Line 40"/>
          <p:cNvSpPr/>
          <p:nvPr/>
        </p:nvSpPr>
        <p:spPr>
          <a:xfrm flipV="1">
            <a:off x="1187280" y="447984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1"/>
          <p:cNvSpPr/>
          <p:nvPr/>
        </p:nvSpPr>
        <p:spPr>
          <a:xfrm flipV="1">
            <a:off x="741240" y="399096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2"/>
          <p:cNvSpPr/>
          <p:nvPr/>
        </p:nvSpPr>
        <p:spPr>
          <a:xfrm flipV="1">
            <a:off x="3016080" y="447984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3"/>
          <p:cNvSpPr/>
          <p:nvPr/>
        </p:nvSpPr>
        <p:spPr>
          <a:xfrm flipV="1">
            <a:off x="2570040" y="399096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1332000" y="4610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5"/>
          <p:cNvSpPr/>
          <p:nvPr/>
        </p:nvSpPr>
        <p:spPr>
          <a:xfrm>
            <a:off x="3160800" y="4610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6"/>
          <p:cNvSpPr/>
          <p:nvPr/>
        </p:nvSpPr>
        <p:spPr>
          <a:xfrm flipV="1">
            <a:off x="2181240" y="4911480"/>
            <a:ext cx="372960" cy="77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7"/>
          <p:cNvSpPr/>
          <p:nvPr/>
        </p:nvSpPr>
        <p:spPr>
          <a:xfrm flipV="1">
            <a:off x="3276720" y="4912920"/>
            <a:ext cx="372960" cy="77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64960" y="189000"/>
            <a:ext cx="6899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 - ov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900000" y="162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826920" y="1773360"/>
            <a:ext cx="404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Ověř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5"/>
              <p:cNvSpPr txBox="1"/>
              <p:nvPr/>
            </p:nvSpPr>
            <p:spPr>
              <a:xfrm>
                <a:off x="3722760" y="946080"/>
                <a:ext cx="2433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37"/>
          <p:cNvSpPr/>
          <p:nvPr/>
        </p:nvSpPr>
        <p:spPr>
          <a:xfrm>
            <a:off x="3205080" y="2708280"/>
            <a:ext cx="4464000" cy="2305080"/>
          </a:xfrm>
          <a:prstGeom prst="cloudCallout">
            <a:avLst>
              <a:gd name="adj1" fmla="val -74074"/>
              <a:gd name="adj2" fmla="val -7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Arial"/>
              </a:rPr>
              <a:t>Ověření správnosti, ne tedy zkouška, proto, že většinou je řešením celý interval a my nemáme možnost všechna čísla z daného intervalu dosad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900000" y="206064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rovedeme si tedy ověření správnosti pro x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9"/>
              <p:cNvSpPr txBox="1"/>
              <p:nvPr/>
            </p:nvSpPr>
            <p:spPr>
              <a:xfrm>
                <a:off x="2190600" y="2492280"/>
                <a:ext cx="3071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0"/>
              <p:cNvSpPr txBox="1"/>
              <p:nvPr/>
            </p:nvSpPr>
            <p:spPr>
              <a:xfrm>
                <a:off x="915840" y="2637000"/>
                <a:ext cx="1136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1"/>
              <p:cNvSpPr txBox="1"/>
              <p:nvPr/>
            </p:nvSpPr>
            <p:spPr>
              <a:xfrm>
                <a:off x="5437080" y="2711520"/>
                <a:ext cx="2659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2"/>
              <p:cNvSpPr txBox="1"/>
              <p:nvPr/>
            </p:nvSpPr>
            <p:spPr>
              <a:xfrm>
                <a:off x="1765440" y="3429000"/>
                <a:ext cx="1780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3"/>
              <p:cNvSpPr txBox="1"/>
              <p:nvPr/>
            </p:nvSpPr>
            <p:spPr>
              <a:xfrm>
                <a:off x="3637080" y="3416400"/>
                <a:ext cx="928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4"/>
              <p:cNvSpPr txBox="1"/>
              <p:nvPr/>
            </p:nvSpPr>
            <p:spPr>
              <a:xfrm>
                <a:off x="4657680" y="3414600"/>
                <a:ext cx="4906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5"/>
              <p:cNvSpPr txBox="1"/>
              <p:nvPr/>
            </p:nvSpPr>
            <p:spPr>
              <a:xfrm>
                <a:off x="898560" y="3789360"/>
                <a:ext cx="1170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6"/>
              <p:cNvSpPr txBox="1"/>
              <p:nvPr/>
            </p:nvSpPr>
            <p:spPr>
              <a:xfrm>
                <a:off x="2182680" y="3890880"/>
                <a:ext cx="2588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7"/>
              <p:cNvSpPr txBox="1"/>
              <p:nvPr/>
            </p:nvSpPr>
            <p:spPr>
              <a:xfrm>
                <a:off x="5657760" y="3789360"/>
                <a:ext cx="1940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Rectangle 49"/>
          <p:cNvSpPr/>
          <p:nvPr/>
        </p:nvSpPr>
        <p:spPr>
          <a:xfrm>
            <a:off x="900000" y="429264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Provedeme si ověření správnosti ještě jednou pro x = 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0"/>
              <p:cNvSpPr txBox="1"/>
              <p:nvPr/>
            </p:nvSpPr>
            <p:spPr>
              <a:xfrm>
                <a:off x="2116080" y="4584600"/>
                <a:ext cx="3484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1"/>
              <p:cNvSpPr txBox="1"/>
              <p:nvPr/>
            </p:nvSpPr>
            <p:spPr>
              <a:xfrm>
                <a:off x="755640" y="4729320"/>
                <a:ext cx="1403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2"/>
              <p:cNvSpPr txBox="1"/>
              <p:nvPr/>
            </p:nvSpPr>
            <p:spPr>
              <a:xfrm>
                <a:off x="5626080" y="4803840"/>
                <a:ext cx="3122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3"/>
              <p:cNvSpPr txBox="1"/>
              <p:nvPr/>
            </p:nvSpPr>
            <p:spPr>
              <a:xfrm>
                <a:off x="1677960" y="5483160"/>
                <a:ext cx="2220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54"/>
              <p:cNvSpPr txBox="1"/>
              <p:nvPr/>
            </p:nvSpPr>
            <p:spPr>
              <a:xfrm>
                <a:off x="3916440" y="5479920"/>
                <a:ext cx="11602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5"/>
              <p:cNvSpPr txBox="1"/>
              <p:nvPr/>
            </p:nvSpPr>
            <p:spPr>
              <a:xfrm>
                <a:off x="5148360" y="5492880"/>
                <a:ext cx="4903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6"/>
              <p:cNvSpPr txBox="1"/>
              <p:nvPr/>
            </p:nvSpPr>
            <p:spPr>
              <a:xfrm>
                <a:off x="826920" y="5881680"/>
                <a:ext cx="1170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57"/>
              <p:cNvSpPr txBox="1"/>
              <p:nvPr/>
            </p:nvSpPr>
            <p:spPr>
              <a:xfrm>
                <a:off x="2109960" y="5981760"/>
                <a:ext cx="2584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8"/>
              <p:cNvSpPr txBox="1"/>
              <p:nvPr/>
            </p:nvSpPr>
            <p:spPr>
              <a:xfrm>
                <a:off x="5489640" y="5881680"/>
                <a:ext cx="2541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264960" y="189000"/>
            <a:ext cx="2578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6"/>
              <p:cNvSpPr txBox="1"/>
              <p:nvPr/>
            </p:nvSpPr>
            <p:spPr>
              <a:xfrm>
                <a:off x="3722760" y="893880"/>
                <a:ext cx="2089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8"/>
              <p:cNvSpPr txBox="1"/>
              <p:nvPr/>
            </p:nvSpPr>
            <p:spPr>
              <a:xfrm>
                <a:off x="1646280" y="1700280"/>
                <a:ext cx="259380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Line 59"/>
          <p:cNvSpPr/>
          <p:nvPr/>
        </p:nvSpPr>
        <p:spPr>
          <a:xfrm>
            <a:off x="900000" y="1628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0"/>
          <p:cNvSpPr/>
          <p:nvPr/>
        </p:nvSpPr>
        <p:spPr>
          <a:xfrm>
            <a:off x="3924360" y="3068640"/>
            <a:ext cx="4753080" cy="2376360"/>
          </a:xfrm>
          <a:prstGeom prst="cloudCallout">
            <a:avLst>
              <a:gd name="adj1" fmla="val -48129"/>
              <a:gd name="adj2" fmla="val -768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prve se zbavíme zlomků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to tak, že celou rovnici vynásobíme společným jmenovatelem. Tím je číslo čtyři, což je kladné číslo, proto se znak nerovnosti nemě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61"/>
              <p:cNvSpPr txBox="1"/>
              <p:nvPr/>
            </p:nvSpPr>
            <p:spPr>
              <a:xfrm>
                <a:off x="1285920" y="4622760"/>
                <a:ext cx="3084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62"/>
              <p:cNvSpPr txBox="1"/>
              <p:nvPr/>
            </p:nvSpPr>
            <p:spPr>
              <a:xfrm>
                <a:off x="4643280" y="1944720"/>
                <a:ext cx="5479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3"/>
              <p:cNvSpPr txBox="1"/>
              <p:nvPr/>
            </p:nvSpPr>
            <p:spPr>
              <a:xfrm>
                <a:off x="939960" y="2637000"/>
                <a:ext cx="36892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64"/>
              <p:cNvSpPr txBox="1"/>
              <p:nvPr/>
            </p:nvSpPr>
            <p:spPr>
              <a:xfrm>
                <a:off x="838080" y="3573360"/>
                <a:ext cx="38052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6"/>
              <p:cNvSpPr txBox="1"/>
              <p:nvPr/>
            </p:nvSpPr>
            <p:spPr>
              <a:xfrm>
                <a:off x="1630440" y="5157720"/>
                <a:ext cx="27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7"/>
              <p:cNvSpPr txBox="1"/>
              <p:nvPr/>
            </p:nvSpPr>
            <p:spPr>
              <a:xfrm>
                <a:off x="3289320" y="5661000"/>
                <a:ext cx="10954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Line 68"/>
          <p:cNvSpPr/>
          <p:nvPr/>
        </p:nvSpPr>
        <p:spPr>
          <a:xfrm flipV="1">
            <a:off x="1216080" y="4105080"/>
            <a:ext cx="303120" cy="317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9"/>
          <p:cNvSpPr/>
          <p:nvPr/>
        </p:nvSpPr>
        <p:spPr>
          <a:xfrm flipV="1">
            <a:off x="1965240" y="3616200"/>
            <a:ext cx="30312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0"/>
          <p:cNvSpPr/>
          <p:nvPr/>
        </p:nvSpPr>
        <p:spPr>
          <a:xfrm flipV="1">
            <a:off x="2755800" y="413388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1"/>
          <p:cNvSpPr/>
          <p:nvPr/>
        </p:nvSpPr>
        <p:spPr>
          <a:xfrm flipV="1">
            <a:off x="3449520" y="3645000"/>
            <a:ext cx="303480" cy="31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2"/>
          <p:cNvSpPr/>
          <p:nvPr/>
        </p:nvSpPr>
        <p:spPr>
          <a:xfrm>
            <a:off x="3708360" y="34718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73"/>
          <p:cNvSpPr/>
          <p:nvPr/>
        </p:nvSpPr>
        <p:spPr>
          <a:xfrm flipV="1">
            <a:off x="1633680" y="5172120"/>
            <a:ext cx="51912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4"/>
          <p:cNvSpPr/>
          <p:nvPr/>
        </p:nvSpPr>
        <p:spPr>
          <a:xfrm flipV="1">
            <a:off x="2728800" y="5172120"/>
            <a:ext cx="519120" cy="358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5"/>
          <p:cNvSpPr/>
          <p:nvPr/>
        </p:nvSpPr>
        <p:spPr>
          <a:xfrm>
            <a:off x="4932360" y="1916280"/>
            <a:ext cx="3960720" cy="3600360"/>
          </a:xfrm>
          <a:prstGeom prst="cloudCallout">
            <a:avLst>
              <a:gd name="adj1" fmla="val -61504"/>
              <a:gd name="adj2" fmla="val 569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sledkem je nepravdivá nerovnost, obdobná situaci při řešení rovnic, kdy např. vyšlo, že 7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takovém případě rovnice neměla řešení. Obdobně tedy platí i zde, že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rovnice nemá řeše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7"/>
          <p:cNvSpPr/>
          <p:nvPr/>
        </p:nvSpPr>
        <p:spPr>
          <a:xfrm flipV="1">
            <a:off x="3851280" y="574848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8"/>
          <p:cNvSpPr/>
          <p:nvPr/>
        </p:nvSpPr>
        <p:spPr>
          <a:xfrm flipV="1">
            <a:off x="3851280" y="52434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9"/>
          <p:cNvSpPr/>
          <p:nvPr/>
        </p:nvSpPr>
        <p:spPr>
          <a:xfrm flipV="1">
            <a:off x="3851280" y="469584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0"/>
          <p:cNvSpPr/>
          <p:nvPr/>
        </p:nvSpPr>
        <p:spPr>
          <a:xfrm flipV="1">
            <a:off x="3851280" y="388944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1"/>
          <p:cNvSpPr/>
          <p:nvPr/>
        </p:nvSpPr>
        <p:spPr>
          <a:xfrm flipV="1">
            <a:off x="3836880" y="2937960"/>
            <a:ext cx="144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2"/>
          <p:cNvSpPr/>
          <p:nvPr/>
        </p:nvSpPr>
        <p:spPr>
          <a:xfrm flipV="1">
            <a:off x="3794040" y="2019240"/>
            <a:ext cx="1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83"/>
              <p:cNvSpPr txBox="1"/>
              <p:nvPr/>
            </p:nvSpPr>
            <p:spPr>
              <a:xfrm>
                <a:off x="5867280" y="5468760"/>
                <a:ext cx="1368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84"/>
          <p:cNvSpPr/>
          <p:nvPr/>
        </p:nvSpPr>
        <p:spPr>
          <a:xfrm>
            <a:off x="5867280" y="6021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5"/>
          <p:cNvSpPr/>
          <p:nvPr/>
        </p:nvSpPr>
        <p:spPr>
          <a:xfrm>
            <a:off x="5867280" y="609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6"/>
          <p:cNvSpPr/>
          <p:nvPr/>
        </p:nvSpPr>
        <p:spPr>
          <a:xfrm>
            <a:off x="5435640" y="393228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rebuchet MS"/>
              </a:rPr>
              <a:t>Nerovnice nemá řešení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6920" y="1028520"/>
            <a:ext cx="777744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daných upravených tvarů nerovnic vyber ty, které nemají žádné řešení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4643280" y="4581360"/>
            <a:ext cx="201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120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6948360" y="5157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187280" y="5589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3059280" y="213372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3274920" y="3500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5003640" y="2492280"/>
            <a:ext cx="151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,5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5796000" y="3573360"/>
            <a:ext cx="18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20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6443640" y="191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1476360" y="256536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1258920" y="429264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4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419640" y="551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6767640" y="6156360"/>
            <a:ext cx="2197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284c6a"/>
                </a:solidFill>
                <a:latin typeface="Trebuchet MS"/>
              </a:rPr>
              <a:t>Klikni pro správnou odpově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5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60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Pří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1028520"/>
            <a:ext cx="7777440" cy="45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Z daných upravených tvarů nerovnic vyber ty, které nemají žádné řešení.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643280" y="4581360"/>
            <a:ext cx="201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120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948360" y="5157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x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187280" y="5589720"/>
            <a:ext cx="12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3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059280" y="213372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7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3274920" y="3500280"/>
            <a:ext cx="194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5003640" y="2492280"/>
            <a:ext cx="1513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6,5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5796000" y="3573360"/>
            <a:ext cx="180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200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6443640" y="191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1476360" y="2565360"/>
            <a:ext cx="129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1258920" y="429264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-4,5 </a:t>
            </a: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3419640" y="551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y </a:t>
            </a:r>
            <a:r>
              <a:rPr b="1" lang="en-US" sz="2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cs-CZ" sz="2800" spc="-1" strike="noStrike">
                <a:solidFill>
                  <a:srgbClr val="284c6a"/>
                </a:solidFill>
                <a:latin typeface="Trebuchet MS"/>
              </a:rPr>
              <a:t>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6443640" y="1916280"/>
            <a:ext cx="194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4,3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258920" y="429264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-4,5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 -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29T12:45:35Z</dcterms:modified>
  <cp:revision>117</cp:revision>
  <dc:subject/>
  <dc:title>Nerovnice - druhy řešení</dc:title>
</cp:coreProperties>
</file>