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1E2-FFE8-4165-801E-C4BCC091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C16-68CC-4049-AFA3-BED04EAA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1D3-B9ED-4AD7-A754-843D6029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A85-AD7F-43F1-A825-8847DA7A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E271-C96C-44B4-8BD1-2387A308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90E1-1A32-410F-8511-B916126F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3FF3-5D1B-4E7B-97AC-1CFDA87B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9DD4-DC69-448A-BACC-5C092842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2682-2086-4A82-A03E-1A5407AD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6CED-06E9-47DD-B752-F9F2DA64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A0C7-30DE-4C6C-91C0-5203FE88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87A-22AE-4A4F-82F8-21FED4D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082B-7642-49D8-B9A7-0EAFC0C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011E-42BB-4A1F-AAC2-0DF51E1D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3166-B9A7-47CB-BB88-842EBFD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59F9-2B50-45FF-AC2B-FEC5FCC9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24C-25CA-43B7-99CA-9EBD663D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FDC-B774-4245-AB7D-4A3DB2D6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58A-6D6C-474F-8F8E-A692D0F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EE3-4752-4368-92C9-8963B62F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396-1AF1-402F-8B4B-8D8CAD9B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C0D-2228-4FF6-AAF5-126578D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2D5-7E99-4CBD-913F-80BE8A49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24A-F9D6-492C-AD7F-EAC3847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A5A5-4AC5-4F08-8D7B-D8A65693EB58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8D9B-A1AE-4320-870D-4E1A191001CC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Úměrnosti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4360" y="451008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Zavedení pojmu </a:t>
            </a:r>
            <a:br>
              <a:rPr sz="2800"/>
            </a:b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nepřímá úměr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ázky © Radomír Machá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684360" y="342900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Nepřímá úměrno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5" name="Rectangle 116"/>
          <p:cNvSpPr/>
          <p:nvPr/>
        </p:nvSpPr>
        <p:spPr>
          <a:xfrm>
            <a:off x="468360" y="299736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ávěr, který pro nás ze všech našich zjištění vyplýv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7"/>
          <p:cNvSpPr/>
          <p:nvPr/>
        </p:nvSpPr>
        <p:spPr>
          <a:xfrm>
            <a:off x="468360" y="364500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00"/>
                </a:solidFill>
                <a:latin typeface="Trebuchet MS"/>
              </a:rPr>
              <a:t>Kolikrát se zvětší (zmenší) jedna veličina, tolikrát se zmenší (zvětší) druhá velič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8"/>
          <p:cNvSpPr/>
          <p:nvPr/>
        </p:nvSpPr>
        <p:spPr>
          <a:xfrm>
            <a:off x="468360" y="4437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rebuchet MS"/>
              </a:rPr>
              <a:t>V jakém poměru se zvětší (zmenší) jedna veličina, 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Trebuchet MS"/>
              </a:rPr>
              <a:t>v takovém poměru se zmenší (zvětší) druhá velič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9"/>
          <p:cNvSpPr/>
          <p:nvPr/>
        </p:nvSpPr>
        <p:spPr>
          <a:xfrm>
            <a:off x="468360" y="527220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Takový vztah mezi dvěma</a:t>
            </a: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veličinami se nazývá</a:t>
            </a: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nepřímá úměrnost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0"/>
          <p:cNvSpPr/>
          <p:nvPr/>
        </p:nvSpPr>
        <p:spPr>
          <a:xfrm>
            <a:off x="468360" y="5877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Říkáme, že </a:t>
            </a: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veličiny jsou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ne</a:t>
            </a: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přímo úměrné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27040" y="1127160"/>
          <a:ext cx="8077320" cy="1595520"/>
        </p:xfrm>
        <a:graphic>
          <a:graphicData uri="http://schemas.openxmlformats.org/drawingml/2006/table">
            <a:tbl>
              <a:tblPr/>
              <a:tblGrid>
                <a:gridCol w="897120"/>
                <a:gridCol w="898200"/>
                <a:gridCol w="895680"/>
                <a:gridCol w="900000"/>
                <a:gridCol w="895320"/>
                <a:gridCol w="898560"/>
                <a:gridCol w="896760"/>
                <a:gridCol w="898560"/>
                <a:gridCol w="897120"/>
              </a:tblGrid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ps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dn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Rozhodni, zda se jedná o nepřímou úměr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68360" y="148608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Množství utěrek a délka jejich schnu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9"/>
          <p:cNvSpPr/>
          <p:nvPr/>
        </p:nvSpPr>
        <p:spPr>
          <a:xfrm>
            <a:off x="468360" y="20606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Množství kombajnů a doba sečení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0"/>
          <p:cNvSpPr/>
          <p:nvPr/>
        </p:nvSpPr>
        <p:spPr>
          <a:xfrm>
            <a:off x="468360" y="263700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aplacená částka za jablka a jejich hmot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1"/>
          <p:cNvSpPr/>
          <p:nvPr/>
        </p:nvSpPr>
        <p:spPr>
          <a:xfrm>
            <a:off x="468360" y="3213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élka hrany krychle a její povr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2"/>
          <p:cNvSpPr/>
          <p:nvPr/>
        </p:nvSpPr>
        <p:spPr>
          <a:xfrm>
            <a:off x="468360" y="37893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bjem krychlí o stejné hmotnosti a hustoty materiálu, z něhož jsou vyrob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3"/>
          <p:cNvSpPr/>
          <p:nvPr/>
        </p:nvSpPr>
        <p:spPr>
          <a:xfrm>
            <a:off x="468360" y="437976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Hmotnost krychlí o stejném objemu a hustoty materiálu, z něhož jsou vyrob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4"/>
          <p:cNvSpPr/>
          <p:nvPr/>
        </p:nvSpPr>
        <p:spPr>
          <a:xfrm>
            <a:off x="468360" y="49849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Množství čerpadel a doba vyprazdňování stud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5"/>
          <p:cNvSpPr/>
          <p:nvPr/>
        </p:nvSpPr>
        <p:spPr>
          <a:xfrm>
            <a:off x="468360" y="558972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Množství kopáčů a doba provedení daného výkop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1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4" name="Rectangle 42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edním čerpadlem se vyprázdní bazén za 420 minut. Doplň tabul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00040" y="1557360"/>
          <a:ext cx="8077320" cy="175248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900000"/>
                <a:gridCol w="895320"/>
                <a:gridCol w="898560"/>
                <a:gridCol w="898560"/>
                <a:gridCol w="896760"/>
                <a:gridCol w="897120"/>
              </a:tblGrid>
              <a:tr h="87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čerpad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kusů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oba čerpán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min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1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edním čerpadlem se vyprázdní bazén za 420 minut. Doplň tabul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00040" y="4581360"/>
          <a:ext cx="8077320" cy="175284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900000"/>
                <a:gridCol w="895320"/>
                <a:gridCol w="898560"/>
                <a:gridCol w="898560"/>
                <a:gridCol w="896760"/>
                <a:gridCol w="897120"/>
              </a:tblGrid>
              <a:tr h="87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čerpad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kusů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oba čerpán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min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zdálenost dvou míst je 120 km. Doplň tabul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00040" y="1557360"/>
          <a:ext cx="8077320" cy="1530360"/>
        </p:xfrm>
        <a:graphic>
          <a:graphicData uri="http://schemas.openxmlformats.org/drawingml/2006/table">
            <a:tbl>
              <a:tblPr/>
              <a:tblGrid>
                <a:gridCol w="1047600"/>
                <a:gridCol w="792360"/>
                <a:gridCol w="863640"/>
                <a:gridCol w="887400"/>
                <a:gridCol w="895320"/>
                <a:gridCol w="880920"/>
                <a:gridCol w="916200"/>
                <a:gridCol w="896760"/>
                <a:gridCol w="897120"/>
              </a:tblGrid>
              <a:tr h="87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Rychlost a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km/h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oba jíz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min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zdálenost dvou míst je 120 km. Doplň tabul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0040" y="4780080"/>
          <a:ext cx="8077320" cy="1530360"/>
        </p:xfrm>
        <a:graphic>
          <a:graphicData uri="http://schemas.openxmlformats.org/drawingml/2006/table">
            <a:tbl>
              <a:tblPr/>
              <a:tblGrid>
                <a:gridCol w="1047600"/>
                <a:gridCol w="792360"/>
                <a:gridCol w="863640"/>
                <a:gridCol w="887400"/>
                <a:gridCol w="895320"/>
                <a:gridCol w="880920"/>
                <a:gridCol w="916200"/>
                <a:gridCol w="896760"/>
                <a:gridCol w="897120"/>
              </a:tblGrid>
              <a:tr h="87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Rychlost a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km/h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Doba jíz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(min.)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3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Rozhodni, zda se jedná o nepřímou úměru. Zdůvodni svou odpově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417680" y="1628640"/>
          <a:ext cx="6283440" cy="14526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  <a:gridCol w="89856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4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Rozhodni, zda se jedná o nepřímou úměru. Zdůvodni svou odpově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403280" y="1628640"/>
          <a:ext cx="6283440" cy="145260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900000"/>
                <a:gridCol w="895320"/>
                <a:gridCol w="898560"/>
                <a:gridCol w="89856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5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Rozhodni, zda se jedná o nepřímou úměru. Zdůvodni svou odpově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457280" y="1628640"/>
          <a:ext cx="6283440" cy="145260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900000"/>
                <a:gridCol w="895320"/>
                <a:gridCol w="898560"/>
                <a:gridCol w="89856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6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oplň tabulku tak, aby šlo o nepřímou úmě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27040" y="1614600"/>
          <a:ext cx="8077320" cy="1595160"/>
        </p:xfrm>
        <a:graphic>
          <a:graphicData uri="http://schemas.openxmlformats.org/drawingml/2006/table">
            <a:tbl>
              <a:tblPr/>
              <a:tblGrid>
                <a:gridCol w="1009800"/>
                <a:gridCol w="1008000"/>
                <a:gridCol w="1009440"/>
                <a:gridCol w="1013040"/>
                <a:gridCol w="1006560"/>
                <a:gridCol w="1011240"/>
                <a:gridCol w="1009440"/>
                <a:gridCol w="1009800"/>
              </a:tblGrid>
              <a:tr h="79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39640" y="112536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hovatel psů má tři desetikilogramové balíky granulí. Vypočítejte, na jak dlouho mu tato zásoba krmiva vydrží pro 1, 2, 3, 5, 6, 10, 15 psů, předpokládáme-li, že jeden pes sežere denně průměrně 1 kg granul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3"/>
          <p:cNvSpPr/>
          <p:nvPr/>
        </p:nvSpPr>
        <p:spPr>
          <a:xfrm>
            <a:off x="3564000" y="5229360"/>
            <a:ext cx="381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rebuchet MS"/>
              </a:rPr>
              <a:t>Foto: Radomír Macháň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6"/>
          <p:cNvSpPr/>
          <p:nvPr/>
        </p:nvSpPr>
        <p:spPr>
          <a:xfrm>
            <a:off x="539640" y="5589720"/>
            <a:ext cx="806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10 + 10 + 10 = 30 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7" descr="a"/>
          <p:cNvPicPr/>
          <p:nvPr/>
        </p:nvPicPr>
        <p:blipFill>
          <a:blip r:embed="rId2"/>
          <a:stretch/>
        </p:blipFill>
        <p:spPr>
          <a:xfrm>
            <a:off x="1187280" y="2133720"/>
            <a:ext cx="2151360" cy="337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8" descr="a"/>
          <p:cNvPicPr/>
          <p:nvPr/>
        </p:nvPicPr>
        <p:blipFill>
          <a:blip r:embed="rId3"/>
          <a:stretch/>
        </p:blipFill>
        <p:spPr>
          <a:xfrm>
            <a:off x="3492360" y="1844640"/>
            <a:ext cx="2151360" cy="337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9" descr="a"/>
          <p:cNvPicPr/>
          <p:nvPr/>
        </p:nvPicPr>
        <p:blipFill>
          <a:blip r:embed="rId4"/>
          <a:stretch/>
        </p:blipFill>
        <p:spPr>
          <a:xfrm>
            <a:off x="5883120" y="2216160"/>
            <a:ext cx="2151360" cy="33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6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oplň tabulku tak, aby šlo o nepřímou úmě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27040" y="4713120"/>
          <a:ext cx="8077320" cy="1595520"/>
        </p:xfrm>
        <a:graphic>
          <a:graphicData uri="http://schemas.openxmlformats.org/drawingml/2006/table">
            <a:tbl>
              <a:tblPr/>
              <a:tblGrid>
                <a:gridCol w="1009800"/>
                <a:gridCol w="1008000"/>
                <a:gridCol w="1009440"/>
                <a:gridCol w="1013040"/>
                <a:gridCol w="1006560"/>
                <a:gridCol w="1011240"/>
                <a:gridCol w="1009440"/>
                <a:gridCol w="1009800"/>
              </a:tblGrid>
              <a:tr h="79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7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oplň tabulku tak, aby šlo o nepřímou úmě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14440" y="1557360"/>
          <a:ext cx="8076960" cy="1523880"/>
        </p:xfrm>
        <a:graphic>
          <a:graphicData uri="http://schemas.openxmlformats.org/drawingml/2006/table">
            <a:tbl>
              <a:tblPr/>
              <a:tblGrid>
                <a:gridCol w="1009440"/>
                <a:gridCol w="1008360"/>
                <a:gridCol w="1009440"/>
                <a:gridCol w="1012680"/>
                <a:gridCol w="1006560"/>
                <a:gridCol w="1011240"/>
                <a:gridCol w="1009800"/>
                <a:gridCol w="1009440"/>
              </a:tblGrid>
              <a:tr h="76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k procvičení - 7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oplň tabulku tak, aby šlo o nepřímou úmě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440" y="4784760"/>
          <a:ext cx="8076960" cy="1523880"/>
        </p:xfrm>
        <a:graphic>
          <a:graphicData uri="http://schemas.openxmlformats.org/drawingml/2006/table">
            <a:tbl>
              <a:tblPr/>
              <a:tblGrid>
                <a:gridCol w="1009440"/>
                <a:gridCol w="1008360"/>
                <a:gridCol w="1009440"/>
                <a:gridCol w="1012680"/>
                <a:gridCol w="1006560"/>
                <a:gridCol w="1011240"/>
                <a:gridCol w="1009800"/>
                <a:gridCol w="1009440"/>
              </a:tblGrid>
              <a:tr h="763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k procvičení - 8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estav tabulku tří libovolných nepřímých úmě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14440" y="1628640"/>
          <a:ext cx="5384880" cy="14526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514440" y="3213000"/>
          <a:ext cx="5384880" cy="1452600"/>
        </p:xfrm>
        <a:graphic>
          <a:graphicData uri="http://schemas.openxmlformats.org/drawingml/2006/table">
            <a:tbl>
              <a:tblPr/>
              <a:tblGrid>
                <a:gridCol w="896760"/>
                <a:gridCol w="897120"/>
                <a:gridCol w="896760"/>
                <a:gridCol w="900360"/>
                <a:gridCol w="895320"/>
                <a:gridCol w="89856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39640" y="4869000"/>
          <a:ext cx="5384880" cy="1452600"/>
        </p:xfrm>
        <a:graphic>
          <a:graphicData uri="http://schemas.openxmlformats.org/drawingml/2006/table">
            <a:tbl>
              <a:tblPr/>
              <a:tblGrid>
                <a:gridCol w="897120"/>
                <a:gridCol w="896760"/>
                <a:gridCol w="897120"/>
                <a:gridCol w="900000"/>
                <a:gridCol w="895320"/>
                <a:gridCol w="898560"/>
              </a:tblGrid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112536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hovatel psů má tři desetikilogramové balíky granulí. Vypočítejte, na jak dlouho mu tato zásoba potravy vydrží pro 1, 2, 3, 5, 6, 10, 15 psů, předpokládáme-li, že jeden pes sežere denně průměrně 1 kg granul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077320" cy="44956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  <a:gridCol w="1009800"/>
                <a:gridCol w="1009800"/>
                <a:gridCol w="1009440"/>
                <a:gridCol w="1009800"/>
              </a:tblGrid>
              <a:tr h="11239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psů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sežraných kilogramů denně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dnů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Picture 110" descr=""/>
          <p:cNvPicPr/>
          <p:nvPr/>
        </p:nvPicPr>
        <p:blipFill>
          <a:blip r:embed="rId2"/>
          <a:stretch/>
        </p:blipFill>
        <p:spPr>
          <a:xfrm>
            <a:off x="1857240" y="338292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1" descr=""/>
          <p:cNvPicPr/>
          <p:nvPr/>
        </p:nvPicPr>
        <p:blipFill>
          <a:blip r:embed="rId3"/>
          <a:stretch/>
        </p:blipFill>
        <p:spPr>
          <a:xfrm>
            <a:off x="2720880" y="338292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2" descr=""/>
          <p:cNvPicPr/>
          <p:nvPr/>
        </p:nvPicPr>
        <p:blipFill>
          <a:blip r:embed="rId4"/>
          <a:stretch/>
        </p:blipFill>
        <p:spPr>
          <a:xfrm>
            <a:off x="2936880" y="35989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3" descr=""/>
          <p:cNvPicPr/>
          <p:nvPr/>
        </p:nvPicPr>
        <p:blipFill>
          <a:blip r:embed="rId5"/>
          <a:stretch/>
        </p:blipFill>
        <p:spPr>
          <a:xfrm>
            <a:off x="3728880" y="31417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4" descr=""/>
          <p:cNvPicPr/>
          <p:nvPr/>
        </p:nvPicPr>
        <p:blipFill>
          <a:blip r:embed="rId6"/>
          <a:stretch/>
        </p:blipFill>
        <p:spPr>
          <a:xfrm>
            <a:off x="3944880" y="33577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5" descr=""/>
          <p:cNvPicPr/>
          <p:nvPr/>
        </p:nvPicPr>
        <p:blipFill>
          <a:blip r:embed="rId7"/>
          <a:stretch/>
        </p:blipFill>
        <p:spPr>
          <a:xfrm>
            <a:off x="3780000" y="3672000"/>
            <a:ext cx="266400" cy="261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6" descr=""/>
          <p:cNvPicPr/>
          <p:nvPr/>
        </p:nvPicPr>
        <p:blipFill>
          <a:blip r:embed="rId8"/>
          <a:stretch/>
        </p:blipFill>
        <p:spPr>
          <a:xfrm>
            <a:off x="5003640" y="31417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7" descr=""/>
          <p:cNvPicPr/>
          <p:nvPr/>
        </p:nvPicPr>
        <p:blipFill>
          <a:blip r:embed="rId9"/>
          <a:stretch/>
        </p:blipFill>
        <p:spPr>
          <a:xfrm>
            <a:off x="5219640" y="33577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8" descr=""/>
          <p:cNvPicPr/>
          <p:nvPr/>
        </p:nvPicPr>
        <p:blipFill>
          <a:blip r:embed="rId10"/>
          <a:stretch/>
        </p:blipFill>
        <p:spPr>
          <a:xfrm>
            <a:off x="5054760" y="3672000"/>
            <a:ext cx="266400" cy="261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9" descr=""/>
          <p:cNvPicPr/>
          <p:nvPr/>
        </p:nvPicPr>
        <p:blipFill>
          <a:blip r:embed="rId11"/>
          <a:stretch/>
        </p:blipFill>
        <p:spPr>
          <a:xfrm>
            <a:off x="4643280" y="328464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0" descr=""/>
          <p:cNvPicPr/>
          <p:nvPr/>
        </p:nvPicPr>
        <p:blipFill>
          <a:blip r:embed="rId12"/>
          <a:stretch/>
        </p:blipFill>
        <p:spPr>
          <a:xfrm>
            <a:off x="4859280" y="350028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2" descr=""/>
          <p:cNvPicPr/>
          <p:nvPr/>
        </p:nvPicPr>
        <p:blipFill>
          <a:blip r:embed="rId13"/>
          <a:stretch/>
        </p:blipFill>
        <p:spPr>
          <a:xfrm>
            <a:off x="5932440" y="31417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3" descr=""/>
          <p:cNvPicPr/>
          <p:nvPr/>
        </p:nvPicPr>
        <p:blipFill>
          <a:blip r:embed="rId14"/>
          <a:stretch/>
        </p:blipFill>
        <p:spPr>
          <a:xfrm>
            <a:off x="6148440" y="33577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4" descr=""/>
          <p:cNvPicPr/>
          <p:nvPr/>
        </p:nvPicPr>
        <p:blipFill>
          <a:blip r:embed="rId15"/>
          <a:stretch/>
        </p:blipFill>
        <p:spPr>
          <a:xfrm>
            <a:off x="5983200" y="367200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5" descr=""/>
          <p:cNvPicPr/>
          <p:nvPr/>
        </p:nvPicPr>
        <p:blipFill>
          <a:blip r:embed="rId16"/>
          <a:stretch/>
        </p:blipFill>
        <p:spPr>
          <a:xfrm>
            <a:off x="5572080" y="328464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6" descr=""/>
          <p:cNvPicPr/>
          <p:nvPr/>
        </p:nvPicPr>
        <p:blipFill>
          <a:blip r:embed="rId17"/>
          <a:stretch/>
        </p:blipFill>
        <p:spPr>
          <a:xfrm>
            <a:off x="5788080" y="350028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7" descr=""/>
          <p:cNvPicPr/>
          <p:nvPr/>
        </p:nvPicPr>
        <p:blipFill>
          <a:blip r:embed="rId18"/>
          <a:stretch/>
        </p:blipFill>
        <p:spPr>
          <a:xfrm>
            <a:off x="5622840" y="38149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8" descr=""/>
          <p:cNvPicPr/>
          <p:nvPr/>
        </p:nvPicPr>
        <p:blipFill>
          <a:blip r:embed="rId19"/>
          <a:stretch/>
        </p:blipFill>
        <p:spPr>
          <a:xfrm>
            <a:off x="6897600" y="306864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9" descr=""/>
          <p:cNvPicPr/>
          <p:nvPr/>
        </p:nvPicPr>
        <p:blipFill>
          <a:blip r:embed="rId20"/>
          <a:stretch/>
        </p:blipFill>
        <p:spPr>
          <a:xfrm>
            <a:off x="7113600" y="328464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0" descr=""/>
          <p:cNvPicPr/>
          <p:nvPr/>
        </p:nvPicPr>
        <p:blipFill>
          <a:blip r:embed="rId21"/>
          <a:stretch/>
        </p:blipFill>
        <p:spPr>
          <a:xfrm>
            <a:off x="6948360" y="35989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1" descr=""/>
          <p:cNvPicPr/>
          <p:nvPr/>
        </p:nvPicPr>
        <p:blipFill>
          <a:blip r:embed="rId22"/>
          <a:stretch/>
        </p:blipFill>
        <p:spPr>
          <a:xfrm>
            <a:off x="6537240" y="321156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2" descr=""/>
          <p:cNvPicPr/>
          <p:nvPr/>
        </p:nvPicPr>
        <p:blipFill>
          <a:blip r:embed="rId23"/>
          <a:stretch/>
        </p:blipFill>
        <p:spPr>
          <a:xfrm>
            <a:off x="6753240" y="342756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3" descr=""/>
          <p:cNvPicPr/>
          <p:nvPr/>
        </p:nvPicPr>
        <p:blipFill>
          <a:blip r:embed="rId24"/>
          <a:stretch/>
        </p:blipFill>
        <p:spPr>
          <a:xfrm>
            <a:off x="6588000" y="364500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4" descr=""/>
          <p:cNvPicPr/>
          <p:nvPr/>
        </p:nvPicPr>
        <p:blipFill>
          <a:blip r:embed="rId25"/>
          <a:stretch/>
        </p:blipFill>
        <p:spPr>
          <a:xfrm>
            <a:off x="7197840" y="350028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5" descr=""/>
          <p:cNvPicPr/>
          <p:nvPr/>
        </p:nvPicPr>
        <p:blipFill>
          <a:blip r:embed="rId26"/>
          <a:stretch/>
        </p:blipFill>
        <p:spPr>
          <a:xfrm>
            <a:off x="7032600" y="38149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6" descr=""/>
          <p:cNvPicPr/>
          <p:nvPr/>
        </p:nvPicPr>
        <p:blipFill>
          <a:blip r:embed="rId27"/>
          <a:stretch/>
        </p:blipFill>
        <p:spPr>
          <a:xfrm>
            <a:off x="7164360" y="306864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7" descr=""/>
          <p:cNvPicPr/>
          <p:nvPr/>
        </p:nvPicPr>
        <p:blipFill>
          <a:blip r:embed="rId28"/>
          <a:stretch/>
        </p:blipFill>
        <p:spPr>
          <a:xfrm>
            <a:off x="6659640" y="386064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8" descr=""/>
          <p:cNvPicPr/>
          <p:nvPr/>
        </p:nvPicPr>
        <p:blipFill>
          <a:blip r:embed="rId29"/>
          <a:stretch/>
        </p:blipFill>
        <p:spPr>
          <a:xfrm>
            <a:off x="7815240" y="304308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9" descr=""/>
          <p:cNvPicPr/>
          <p:nvPr/>
        </p:nvPicPr>
        <p:blipFill>
          <a:blip r:embed="rId30"/>
          <a:stretch/>
        </p:blipFill>
        <p:spPr>
          <a:xfrm>
            <a:off x="8056440" y="328464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0" descr=""/>
          <p:cNvPicPr/>
          <p:nvPr/>
        </p:nvPicPr>
        <p:blipFill>
          <a:blip r:embed="rId31"/>
          <a:stretch/>
        </p:blipFill>
        <p:spPr>
          <a:xfrm>
            <a:off x="7904160" y="361152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1" descr=""/>
          <p:cNvPicPr/>
          <p:nvPr/>
        </p:nvPicPr>
        <p:blipFill>
          <a:blip r:embed="rId32"/>
          <a:stretch/>
        </p:blipFill>
        <p:spPr>
          <a:xfrm>
            <a:off x="7581960" y="326232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2" descr=""/>
          <p:cNvPicPr/>
          <p:nvPr/>
        </p:nvPicPr>
        <p:blipFill>
          <a:blip r:embed="rId33"/>
          <a:stretch/>
        </p:blipFill>
        <p:spPr>
          <a:xfrm>
            <a:off x="7797960" y="3427560"/>
            <a:ext cx="266400" cy="26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3" descr=""/>
          <p:cNvPicPr/>
          <p:nvPr/>
        </p:nvPicPr>
        <p:blipFill>
          <a:blip r:embed="rId34"/>
          <a:stretch/>
        </p:blipFill>
        <p:spPr>
          <a:xfrm>
            <a:off x="7632720" y="364500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4" descr=""/>
          <p:cNvPicPr/>
          <p:nvPr/>
        </p:nvPicPr>
        <p:blipFill>
          <a:blip r:embed="rId35"/>
          <a:stretch/>
        </p:blipFill>
        <p:spPr>
          <a:xfrm>
            <a:off x="8229600" y="343692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6" descr=""/>
          <p:cNvPicPr/>
          <p:nvPr/>
        </p:nvPicPr>
        <p:blipFill>
          <a:blip r:embed="rId36"/>
          <a:stretch/>
        </p:blipFill>
        <p:spPr>
          <a:xfrm>
            <a:off x="8132760" y="304308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7" descr=""/>
          <p:cNvPicPr/>
          <p:nvPr/>
        </p:nvPicPr>
        <p:blipFill>
          <a:blip r:embed="rId37"/>
          <a:stretch/>
        </p:blipFill>
        <p:spPr>
          <a:xfrm>
            <a:off x="7786800" y="386064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8" descr=""/>
          <p:cNvPicPr/>
          <p:nvPr/>
        </p:nvPicPr>
        <p:blipFill>
          <a:blip r:embed="rId38"/>
          <a:stretch/>
        </p:blipFill>
        <p:spPr>
          <a:xfrm>
            <a:off x="7553160" y="306864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9" descr=""/>
          <p:cNvPicPr/>
          <p:nvPr/>
        </p:nvPicPr>
        <p:blipFill>
          <a:blip r:embed="rId39"/>
          <a:stretch/>
        </p:blipFill>
        <p:spPr>
          <a:xfrm>
            <a:off x="7537320" y="347832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0" descr=""/>
          <p:cNvPicPr/>
          <p:nvPr/>
        </p:nvPicPr>
        <p:blipFill>
          <a:blip r:embed="rId40"/>
          <a:stretch/>
        </p:blipFill>
        <p:spPr>
          <a:xfrm>
            <a:off x="7524720" y="384012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1" descr=""/>
          <p:cNvPicPr/>
          <p:nvPr/>
        </p:nvPicPr>
        <p:blipFill>
          <a:blip r:embed="rId41"/>
          <a:stretch/>
        </p:blipFill>
        <p:spPr>
          <a:xfrm>
            <a:off x="8253360" y="3873600"/>
            <a:ext cx="266760" cy="26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2" descr=""/>
          <p:cNvPicPr/>
          <p:nvPr/>
        </p:nvPicPr>
        <p:blipFill>
          <a:blip r:embed="rId42"/>
          <a:stretch/>
        </p:blipFill>
        <p:spPr>
          <a:xfrm>
            <a:off x="7812000" y="3251160"/>
            <a:ext cx="266760" cy="2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3" descr=""/>
          <p:cNvPicPr/>
          <p:nvPr/>
        </p:nvPicPr>
        <p:blipFill>
          <a:blip r:embed="rId43"/>
          <a:stretch/>
        </p:blipFill>
        <p:spPr>
          <a:xfrm>
            <a:off x="8172360" y="3645000"/>
            <a:ext cx="266760" cy="261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54"/>
          <p:cNvSpPr/>
          <p:nvPr/>
        </p:nvSpPr>
        <p:spPr>
          <a:xfrm>
            <a:off x="1806480" y="2205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5"/>
          <p:cNvSpPr/>
          <p:nvPr/>
        </p:nvSpPr>
        <p:spPr>
          <a:xfrm>
            <a:off x="1820880" y="4437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6"/>
          <p:cNvSpPr/>
          <p:nvPr/>
        </p:nvSpPr>
        <p:spPr>
          <a:xfrm>
            <a:off x="1460520" y="55738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30:1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7"/>
          <p:cNvSpPr/>
          <p:nvPr/>
        </p:nvSpPr>
        <p:spPr>
          <a:xfrm>
            <a:off x="2828880" y="2205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8"/>
          <p:cNvSpPr/>
          <p:nvPr/>
        </p:nvSpPr>
        <p:spPr>
          <a:xfrm>
            <a:off x="2843280" y="4437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9"/>
          <p:cNvSpPr/>
          <p:nvPr/>
        </p:nvSpPr>
        <p:spPr>
          <a:xfrm>
            <a:off x="2468520" y="5573880"/>
            <a:ext cx="115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30:2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0"/>
          <p:cNvSpPr/>
          <p:nvPr/>
        </p:nvSpPr>
        <p:spPr>
          <a:xfrm>
            <a:off x="3836880" y="2205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1"/>
          <p:cNvSpPr/>
          <p:nvPr/>
        </p:nvSpPr>
        <p:spPr>
          <a:xfrm>
            <a:off x="3851280" y="4437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2"/>
          <p:cNvSpPr/>
          <p:nvPr/>
        </p:nvSpPr>
        <p:spPr>
          <a:xfrm>
            <a:off x="3462480" y="55738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30:3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3"/>
          <p:cNvSpPr/>
          <p:nvPr/>
        </p:nvSpPr>
        <p:spPr>
          <a:xfrm>
            <a:off x="4859280" y="2205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4"/>
          <p:cNvSpPr/>
          <p:nvPr/>
        </p:nvSpPr>
        <p:spPr>
          <a:xfrm>
            <a:off x="4873680" y="4437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5"/>
          <p:cNvSpPr/>
          <p:nvPr/>
        </p:nvSpPr>
        <p:spPr>
          <a:xfrm>
            <a:off x="4527720" y="55738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30:5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6"/>
          <p:cNvSpPr/>
          <p:nvPr/>
        </p:nvSpPr>
        <p:spPr>
          <a:xfrm>
            <a:off x="5838840" y="2205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7"/>
          <p:cNvSpPr/>
          <p:nvPr/>
        </p:nvSpPr>
        <p:spPr>
          <a:xfrm>
            <a:off x="5853240" y="4437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8"/>
          <p:cNvSpPr/>
          <p:nvPr/>
        </p:nvSpPr>
        <p:spPr>
          <a:xfrm>
            <a:off x="5506920" y="5573880"/>
            <a:ext cx="115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30:6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9"/>
          <p:cNvSpPr/>
          <p:nvPr/>
        </p:nvSpPr>
        <p:spPr>
          <a:xfrm>
            <a:off x="6775560" y="2205000"/>
            <a:ext cx="60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0"/>
          <p:cNvSpPr/>
          <p:nvPr/>
        </p:nvSpPr>
        <p:spPr>
          <a:xfrm>
            <a:off x="6789600" y="4437000"/>
            <a:ext cx="519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500880" y="55738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30:10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2"/>
          <p:cNvSpPr/>
          <p:nvPr/>
        </p:nvSpPr>
        <p:spPr>
          <a:xfrm>
            <a:off x="7797960" y="2205000"/>
            <a:ext cx="604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3"/>
          <p:cNvSpPr/>
          <p:nvPr/>
        </p:nvSpPr>
        <p:spPr>
          <a:xfrm>
            <a:off x="7812000" y="4437000"/>
            <a:ext cx="519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4"/>
          <p:cNvSpPr/>
          <p:nvPr/>
        </p:nvSpPr>
        <p:spPr>
          <a:xfrm>
            <a:off x="7480440" y="55738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30:1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82760" y="2766960"/>
          <a:ext cx="8135640" cy="1258920"/>
        </p:xfrm>
        <a:graphic>
          <a:graphicData uri="http://schemas.openxmlformats.org/drawingml/2006/table">
            <a:tbl>
              <a:tblPr/>
              <a:tblGrid>
                <a:gridCol w="903240"/>
                <a:gridCol w="904680"/>
                <a:gridCol w="901800"/>
                <a:gridCol w="906480"/>
                <a:gridCol w="903240"/>
                <a:gridCol w="905040"/>
                <a:gridCol w="903240"/>
                <a:gridCol w="904680"/>
                <a:gridCol w="903240"/>
              </a:tblGrid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ps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dn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AutoShape 118"/>
          <p:cNvSpPr/>
          <p:nvPr/>
        </p:nvSpPr>
        <p:spPr>
          <a:xfrm>
            <a:off x="5076720" y="4653000"/>
            <a:ext cx="4067280" cy="1944720"/>
          </a:xfrm>
          <a:prstGeom prst="cloudCallout">
            <a:avLst>
              <a:gd name="adj1" fmla="val -90476"/>
              <a:gd name="adj2" fmla="val -770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ulka vyjadřuje závislost dvou veličin: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očtu psů a počtu dnů, na které jim při daném počtu vystačí zásoba krmiv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Objevíš sám zákonitost, která platí ve vztahu těchto velič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19"/>
          <p:cNvSpPr/>
          <p:nvPr/>
        </p:nvSpPr>
        <p:spPr>
          <a:xfrm>
            <a:off x="6084720" y="1052640"/>
            <a:ext cx="2087640" cy="1368360"/>
          </a:xfrm>
          <a:prstGeom prst="cloudCallout">
            <a:avLst>
              <a:gd name="adj1" fmla="val -107949"/>
              <a:gd name="adj2" fmla="val 61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kud jsi na ni ještě nepřišel, pokusím se ti pom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9" name="Arc 39"/>
          <p:cNvSpPr/>
          <p:nvPr/>
        </p:nvSpPr>
        <p:spPr>
          <a:xfrm rot="18960000">
            <a:off x="3049560" y="1750680"/>
            <a:ext cx="1882800" cy="1879560"/>
          </a:xfrm>
          <a:custGeom>
            <a:avLst/>
            <a:gdLst>
              <a:gd name="textAreaLeft" fmla="*/ 0 w 1882800"/>
              <a:gd name="textAreaRight" fmla="*/ 1883160 w 18828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3693960" y="20890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48"/>
          <p:cNvSpPr/>
          <p:nvPr/>
        </p:nvSpPr>
        <p:spPr>
          <a:xfrm flipV="1" rot="13639800">
            <a:off x="3226680" y="1306440"/>
            <a:ext cx="2703600" cy="2693880"/>
          </a:xfrm>
          <a:custGeom>
            <a:avLst/>
            <a:gdLst>
              <a:gd name="textAreaLeft" fmla="*/ 0 w 2703600"/>
              <a:gd name="textAreaRight" fmla="*/ 2703960 w 2703600"/>
              <a:gd name="textAreaTop" fmla="*/ -360 h 2693880"/>
              <a:gd name="textAreaBottom" fmla="*/ 2693880 h 2693880"/>
            </a:gdLst>
            <a:ahLst/>
            <a:rect l="textAreaLeft" t="textAreaTop" r="textAreaRight" b="textAreaBottom"/>
            <a:pathLst>
              <a:path fill="none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</a:path>
              <a:path stroke="0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  <a:lnTo>
                  <a:pt x="0" y="2151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4500720" y="181620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50"/>
          <p:cNvSpPr/>
          <p:nvPr/>
        </p:nvSpPr>
        <p:spPr>
          <a:xfrm rot="8151000">
            <a:off x="3072960" y="3688920"/>
            <a:ext cx="1857600" cy="185436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51"/>
          <p:cNvSpPr/>
          <p:nvPr/>
        </p:nvSpPr>
        <p:spPr>
          <a:xfrm flipV="1" rot="2859600">
            <a:off x="3082680" y="3263040"/>
            <a:ext cx="2703600" cy="2693880"/>
          </a:xfrm>
          <a:custGeom>
            <a:avLst/>
            <a:gdLst>
              <a:gd name="textAreaLeft" fmla="*/ 0 w 2703600"/>
              <a:gd name="textAreaRight" fmla="*/ 2703960 w 2703600"/>
              <a:gd name="textAreaTop" fmla="*/ -360 h 2693880"/>
              <a:gd name="textAreaBottom" fmla="*/ 2693880 h 2693880"/>
            </a:gdLst>
            <a:ahLst/>
            <a:rect l="textAreaLeft" t="textAreaTop" r="textAreaRight" b="textAreaBottom"/>
            <a:pathLst>
              <a:path fill="none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</a:path>
              <a:path stroke="0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  <a:lnTo>
                  <a:pt x="0" y="2151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52"/>
          <p:cNvSpPr/>
          <p:nvPr/>
        </p:nvSpPr>
        <p:spPr>
          <a:xfrm flipV="1" rot="13639800">
            <a:off x="3518280" y="555480"/>
            <a:ext cx="4055760" cy="4041720"/>
          </a:xfrm>
          <a:custGeom>
            <a:avLst/>
            <a:gdLst>
              <a:gd name="textAreaLeft" fmla="*/ 0 w 4055760"/>
              <a:gd name="textAreaRight" fmla="*/ 4056120 w 4055760"/>
              <a:gd name="textAreaTop" fmla="*/ -360 h 4041720"/>
              <a:gd name="textAreaBottom" fmla="*/ 4041720 h 4041720"/>
            </a:gdLst>
            <a:ahLst/>
            <a:rect l="textAreaLeft" t="textAreaTop" r="textAreaRight" b="textAreaBottom"/>
            <a:pathLst>
              <a:path fill="none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</a:path>
              <a:path stroke="0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  <a:lnTo>
                  <a:pt x="0" y="2151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54"/>
          <p:cNvSpPr/>
          <p:nvPr/>
        </p:nvSpPr>
        <p:spPr>
          <a:xfrm flipV="1" rot="2793600">
            <a:off x="3238920" y="2599920"/>
            <a:ext cx="4056120" cy="4041720"/>
          </a:xfrm>
          <a:custGeom>
            <a:avLst/>
            <a:gdLst>
              <a:gd name="textAreaLeft" fmla="*/ 0 w 4056120"/>
              <a:gd name="textAreaRight" fmla="*/ 4056120 w 4056120"/>
              <a:gd name="textAreaTop" fmla="*/ -360 h 4041720"/>
              <a:gd name="textAreaBottom" fmla="*/ 4041720 h 4041720"/>
            </a:gdLst>
            <a:ahLst/>
            <a:rect l="textAreaLeft" t="textAreaTop" r="textAreaRight" b="textAreaBottom"/>
            <a:pathLst>
              <a:path fill="none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</a:path>
              <a:path stroke="0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  <a:lnTo>
                  <a:pt x="0" y="2151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5"/>
          <p:cNvSpPr/>
          <p:nvPr/>
        </p:nvSpPr>
        <p:spPr>
          <a:xfrm>
            <a:off x="3708360" y="473868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6"/>
          <p:cNvSpPr/>
          <p:nvPr/>
        </p:nvSpPr>
        <p:spPr>
          <a:xfrm>
            <a:off x="4500720" y="501336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7"/>
          <p:cNvSpPr/>
          <p:nvPr/>
        </p:nvSpPr>
        <p:spPr>
          <a:xfrm>
            <a:off x="5219640" y="134136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8"/>
          <p:cNvSpPr/>
          <p:nvPr/>
        </p:nvSpPr>
        <p:spPr>
          <a:xfrm>
            <a:off x="5349960" y="540216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2754360"/>
          <a:ext cx="8077320" cy="1754280"/>
        </p:xfrm>
        <a:graphic>
          <a:graphicData uri="http://schemas.openxmlformats.org/drawingml/2006/table">
            <a:tbl>
              <a:tblPr/>
              <a:tblGrid>
                <a:gridCol w="896760"/>
                <a:gridCol w="898560"/>
                <a:gridCol w="895320"/>
                <a:gridCol w="900360"/>
                <a:gridCol w="895320"/>
                <a:gridCol w="898560"/>
                <a:gridCol w="896760"/>
                <a:gridCol w="898560"/>
                <a:gridCol w="897120"/>
              </a:tblGrid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ps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dn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4" name="Arc 4"/>
          <p:cNvSpPr/>
          <p:nvPr/>
        </p:nvSpPr>
        <p:spPr>
          <a:xfrm rot="18960000">
            <a:off x="3049560" y="1750680"/>
            <a:ext cx="1882800" cy="1879560"/>
          </a:xfrm>
          <a:custGeom>
            <a:avLst/>
            <a:gdLst>
              <a:gd name="textAreaLeft" fmla="*/ 0 w 1882800"/>
              <a:gd name="textAreaRight" fmla="*/ 1883160 w 1882800"/>
              <a:gd name="textAreaTop" fmla="*/ 0 h 1879560"/>
              <a:gd name="textAreaBottom" fmla="*/ 1879920 h 1879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93960" y="20890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6"/>
          <p:cNvSpPr/>
          <p:nvPr/>
        </p:nvSpPr>
        <p:spPr>
          <a:xfrm flipV="1" rot="13639800">
            <a:off x="3226680" y="1306440"/>
            <a:ext cx="2703600" cy="2693880"/>
          </a:xfrm>
          <a:custGeom>
            <a:avLst/>
            <a:gdLst>
              <a:gd name="textAreaLeft" fmla="*/ 0 w 2703600"/>
              <a:gd name="textAreaRight" fmla="*/ 2703960 w 2703600"/>
              <a:gd name="textAreaTop" fmla="*/ -360 h 2693880"/>
              <a:gd name="textAreaBottom" fmla="*/ 2693880 h 2693880"/>
            </a:gdLst>
            <a:ahLst/>
            <a:rect l="textAreaLeft" t="textAreaTop" r="textAreaRight" b="textAreaBottom"/>
            <a:pathLst>
              <a:path fill="none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</a:path>
              <a:path stroke="0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  <a:lnTo>
                  <a:pt x="0" y="2151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500720" y="181620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8"/>
          <p:cNvSpPr/>
          <p:nvPr/>
        </p:nvSpPr>
        <p:spPr>
          <a:xfrm rot="8151000">
            <a:off x="3072960" y="3688920"/>
            <a:ext cx="1857600" cy="185436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rc 9"/>
          <p:cNvSpPr/>
          <p:nvPr/>
        </p:nvSpPr>
        <p:spPr>
          <a:xfrm flipV="1" rot="2859600">
            <a:off x="3082680" y="3263040"/>
            <a:ext cx="2703600" cy="2693880"/>
          </a:xfrm>
          <a:custGeom>
            <a:avLst/>
            <a:gdLst>
              <a:gd name="textAreaLeft" fmla="*/ 0 w 2703600"/>
              <a:gd name="textAreaRight" fmla="*/ 2703960 w 2703600"/>
              <a:gd name="textAreaTop" fmla="*/ -360 h 2693880"/>
              <a:gd name="textAreaBottom" fmla="*/ 2693880 h 2693880"/>
            </a:gdLst>
            <a:ahLst/>
            <a:rect l="textAreaLeft" t="textAreaTop" r="textAreaRight" b="textAreaBottom"/>
            <a:pathLst>
              <a:path fill="none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</a:path>
              <a:path stroke="0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  <a:lnTo>
                  <a:pt x="0" y="2151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10"/>
          <p:cNvSpPr/>
          <p:nvPr/>
        </p:nvSpPr>
        <p:spPr>
          <a:xfrm flipV="1" rot="13639800">
            <a:off x="3518280" y="555480"/>
            <a:ext cx="4055760" cy="4041720"/>
          </a:xfrm>
          <a:custGeom>
            <a:avLst/>
            <a:gdLst>
              <a:gd name="textAreaLeft" fmla="*/ 0 w 4055760"/>
              <a:gd name="textAreaRight" fmla="*/ 4056120 w 4055760"/>
              <a:gd name="textAreaTop" fmla="*/ -360 h 4041720"/>
              <a:gd name="textAreaBottom" fmla="*/ 4041720 h 4041720"/>
            </a:gdLst>
            <a:ahLst/>
            <a:rect l="textAreaLeft" t="textAreaTop" r="textAreaRight" b="textAreaBottom"/>
            <a:pathLst>
              <a:path fill="none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</a:path>
              <a:path stroke="0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  <a:lnTo>
                  <a:pt x="0" y="2151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11"/>
          <p:cNvSpPr/>
          <p:nvPr/>
        </p:nvSpPr>
        <p:spPr>
          <a:xfrm flipV="1" rot="2793600">
            <a:off x="3238920" y="2599920"/>
            <a:ext cx="4056120" cy="4041720"/>
          </a:xfrm>
          <a:custGeom>
            <a:avLst/>
            <a:gdLst>
              <a:gd name="textAreaLeft" fmla="*/ 0 w 4056120"/>
              <a:gd name="textAreaRight" fmla="*/ 4056120 w 4056120"/>
              <a:gd name="textAreaTop" fmla="*/ -360 h 4041720"/>
              <a:gd name="textAreaBottom" fmla="*/ 4041720 h 4041720"/>
            </a:gdLst>
            <a:ahLst/>
            <a:rect l="textAreaLeft" t="textAreaTop" r="textAreaRight" b="textAreaBottom"/>
            <a:pathLst>
              <a:path fill="none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</a:path>
              <a:path stroke="0" w="21600" h="21510">
                <a:moveTo>
                  <a:pt x="1967" y="-1"/>
                </a:moveTo>
                <a:cubicBezTo>
                  <a:pt x="13087" y="1016"/>
                  <a:pt x="21600" y="10342"/>
                  <a:pt x="21600" y="21510"/>
                </a:cubicBezTo>
                <a:lnTo>
                  <a:pt x="0" y="2151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08360" y="473868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500720" y="5013360"/>
            <a:ext cx="79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5219640" y="1341360"/>
            <a:ext cx="7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5349960" y="540216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: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754360"/>
          <a:ext cx="8077320" cy="1754280"/>
        </p:xfrm>
        <a:graphic>
          <a:graphicData uri="http://schemas.openxmlformats.org/drawingml/2006/table">
            <a:tbl>
              <a:tblPr/>
              <a:tblGrid>
                <a:gridCol w="896760"/>
                <a:gridCol w="898560"/>
                <a:gridCol w="895320"/>
                <a:gridCol w="900360"/>
                <a:gridCol w="895320"/>
                <a:gridCol w="898560"/>
                <a:gridCol w="896760"/>
                <a:gridCol w="898560"/>
                <a:gridCol w="897120"/>
              </a:tblGrid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ps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dn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AutoShape 48"/>
          <p:cNvSpPr/>
          <p:nvPr/>
        </p:nvSpPr>
        <p:spPr>
          <a:xfrm>
            <a:off x="755640" y="765000"/>
            <a:ext cx="2158920" cy="1656000"/>
          </a:xfrm>
          <a:prstGeom prst="cloudCallout">
            <a:avLst>
              <a:gd name="adj1" fmla="val -34925"/>
              <a:gd name="adj2" fmla="val 85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likrát se zvětší počet psů, tolikrát se zmenší počet dnů, na které jim vystačí krmiv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9"/>
          <p:cNvSpPr/>
          <p:nvPr/>
        </p:nvSpPr>
        <p:spPr>
          <a:xfrm>
            <a:off x="324000" y="4869000"/>
            <a:ext cx="2014560" cy="1726920"/>
          </a:xfrm>
          <a:prstGeom prst="cloudCallout">
            <a:avLst>
              <a:gd name="adj1" fmla="val 88768"/>
              <a:gd name="adj2" fmla="val -289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inými slovy: Kolikrát se zvětší jedna veličina, tolikrát se zmenší veličina druh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okážete uvést i další příklady vztahu dvou veličin, pro které by platilo totéž, co jsme nyní vyvod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8360" y="416088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oba, za kterou auto ujede danou vzdálenost, je nepřímo úměrná průměrné rychlosti au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7"/>
          <p:cNvSpPr/>
          <p:nvPr/>
        </p:nvSpPr>
        <p:spPr>
          <a:xfrm>
            <a:off x="468360" y="45799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oba zhotovení dané zakázky a počet švadlen na ní pracující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8"/>
          <p:cNvSpPr/>
          <p:nvPr/>
        </p:nvSpPr>
        <p:spPr>
          <a:xfrm>
            <a:off x="468360" y="49118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oba napuštění bazénu a počet otevřených přítoků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9"/>
          <p:cNvSpPr/>
          <p:nvPr/>
        </p:nvSpPr>
        <p:spPr>
          <a:xfrm>
            <a:off x="468360" y="530064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čet otáček v závislosti na počtu zubů ozubených k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0"/>
          <p:cNvSpPr/>
          <p:nvPr/>
        </p:nvSpPr>
        <p:spPr>
          <a:xfrm>
            <a:off x="468360" y="364500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Nap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1"/>
          <p:cNvSpPr/>
          <p:nvPr/>
        </p:nvSpPr>
        <p:spPr>
          <a:xfrm>
            <a:off x="468360" y="563256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čet konzerv a jejich velikost při zavařování daného množství ma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2"/>
          <p:cNvSpPr/>
          <p:nvPr/>
        </p:nvSpPr>
        <p:spPr>
          <a:xfrm>
            <a:off x="468360" y="594828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čet kroků v závislosti na délce kroku při zdolání stejné vzdále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1" name="Arc 36"/>
          <p:cNvSpPr/>
          <p:nvPr/>
        </p:nvSpPr>
        <p:spPr>
          <a:xfrm rot="18960000">
            <a:off x="3898440" y="1445760"/>
            <a:ext cx="1281240" cy="12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4270320" y="16858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rc 40"/>
          <p:cNvSpPr/>
          <p:nvPr/>
        </p:nvSpPr>
        <p:spPr>
          <a:xfrm rot="8151000">
            <a:off x="3909600" y="3371400"/>
            <a:ext cx="1281240" cy="12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4"/>
          <p:cNvSpPr/>
          <p:nvPr/>
        </p:nvSpPr>
        <p:spPr>
          <a:xfrm>
            <a:off x="4284720" y="39765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8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rátíme se ještě jednou k našemu příkladu se psy a podíváme se na něj ještě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 jiného pohledu. Využijeme nedávno nabyté znalosti o pomě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468360" y="45086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Co můžeme říci o naznačeném zvětšení počtu psů? V jakém poměru se jejich počet zvětš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468360" y="53737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co můžeme říci o odpovídajícím snížení počtu dnů, na které vystačí dané množství krmiva? V jakém poměru se zmenšil jejich poč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1"/>
          <p:cNvSpPr/>
          <p:nvPr/>
        </p:nvSpPr>
        <p:spPr>
          <a:xfrm>
            <a:off x="2556000" y="4968720"/>
            <a:ext cx="36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6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5"/>
          <p:cNvSpPr/>
          <p:nvPr/>
        </p:nvSpPr>
        <p:spPr>
          <a:xfrm>
            <a:off x="2556000" y="497052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6 : 3 = 2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2556000" y="587700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5 :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6"/>
          <p:cNvSpPr/>
          <p:nvPr/>
        </p:nvSpPr>
        <p:spPr>
          <a:xfrm>
            <a:off x="2557440" y="587700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5 : 10 = 1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4"/>
          <p:cNvSpPr/>
          <p:nvPr/>
        </p:nvSpPr>
        <p:spPr>
          <a:xfrm>
            <a:off x="5724360" y="4941720"/>
            <a:ext cx="2014560" cy="1727280"/>
          </a:xfrm>
          <a:prstGeom prst="cloudCallout">
            <a:avLst>
              <a:gd name="adj1" fmla="val -144009"/>
              <a:gd name="adj2" fmla="val -289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ůžeme použít znalosti o krácení poměru a tento uvést do základního tva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8"/>
          <p:cNvSpPr/>
          <p:nvPr/>
        </p:nvSpPr>
        <p:spPr>
          <a:xfrm>
            <a:off x="4110120" y="4724280"/>
            <a:ext cx="1873080" cy="187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2293920"/>
          <a:ext cx="8077320" cy="1452600"/>
        </p:xfrm>
        <a:graphic>
          <a:graphicData uri="http://schemas.openxmlformats.org/drawingml/2006/table">
            <a:tbl>
              <a:tblPr/>
              <a:tblGrid>
                <a:gridCol w="896760"/>
                <a:gridCol w="898560"/>
                <a:gridCol w="895320"/>
                <a:gridCol w="900360"/>
                <a:gridCol w="895320"/>
                <a:gridCol w="898560"/>
                <a:gridCol w="896760"/>
                <a:gridCol w="898560"/>
                <a:gridCol w="89712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ps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dn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AutoShape 57"/>
          <p:cNvSpPr/>
          <p:nvPr/>
        </p:nvSpPr>
        <p:spPr>
          <a:xfrm>
            <a:off x="6084720" y="3645000"/>
            <a:ext cx="2016360" cy="863640"/>
          </a:xfrm>
          <a:prstGeom prst="cloudCallout">
            <a:avLst>
              <a:gd name="adj1" fmla="val -70078"/>
              <a:gd name="adj2" fmla="val 94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měry jsou opačné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95280" y="981000"/>
            <a:ext cx="8353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epřímá úměrnost (úměra)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8" name="Arc 4"/>
          <p:cNvSpPr/>
          <p:nvPr/>
        </p:nvSpPr>
        <p:spPr>
          <a:xfrm rot="18960000">
            <a:off x="4209840" y="1017720"/>
            <a:ext cx="2390760" cy="239688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148360" y="15289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rc 6"/>
          <p:cNvSpPr/>
          <p:nvPr/>
        </p:nvSpPr>
        <p:spPr>
          <a:xfrm rot="8151000">
            <a:off x="4223880" y="2636640"/>
            <a:ext cx="2378160" cy="238428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384280"/>
              <a:gd name="textAreaBottom" fmla="*/ 2384280 h 2384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205240" y="410544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: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68360" y="98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rátíme se ještě jednou k našemu příkladu se psy a podíváme se na něj ještě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 jiného pohledu. Využijeme nedávno nabyté znalosti o pomě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468360" y="45086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Co můžeme říci o naznačeném zvětšení počtu psů? V jakém poměru se jejich počet zvětši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68360" y="537372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co můžeme říci o odpovídajícím snížení počtu dnů, na které vystačí dané množství krmiva? V jakém poměru se zmenšil jejich poče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2556000" y="4968720"/>
            <a:ext cx="36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15 :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556000" y="497052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15 : 3 = 5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2556000" y="587700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2 :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2557440" y="587700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2 : 10 = 1 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>
            <a:off x="5724360" y="4941720"/>
            <a:ext cx="2014560" cy="1727280"/>
          </a:xfrm>
          <a:prstGeom prst="cloudCallout">
            <a:avLst>
              <a:gd name="adj1" fmla="val -130300"/>
              <a:gd name="adj2" fmla="val -247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ůžeme použít znalosti o krácení poměru a tento uvést do základního tva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"/>
          <p:cNvSpPr/>
          <p:nvPr/>
        </p:nvSpPr>
        <p:spPr>
          <a:xfrm>
            <a:off x="4267080" y="4724280"/>
            <a:ext cx="1873440" cy="187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2293920"/>
          <a:ext cx="8077320" cy="1452600"/>
        </p:xfrm>
        <a:graphic>
          <a:graphicData uri="http://schemas.openxmlformats.org/drawingml/2006/table">
            <a:tbl>
              <a:tblPr/>
              <a:tblGrid>
                <a:gridCol w="896760"/>
                <a:gridCol w="898560"/>
                <a:gridCol w="895320"/>
                <a:gridCol w="900360"/>
                <a:gridCol w="895320"/>
                <a:gridCol w="898560"/>
                <a:gridCol w="896760"/>
                <a:gridCol w="898560"/>
                <a:gridCol w="89712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ps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284c6a"/>
                          </a:solidFill>
                          <a:latin typeface="Trebuchet MS"/>
                        </a:rPr>
                        <a:t>Počet dnů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AutoShape 50"/>
          <p:cNvSpPr/>
          <p:nvPr/>
        </p:nvSpPr>
        <p:spPr>
          <a:xfrm>
            <a:off x="130320" y="2349360"/>
            <a:ext cx="2570040" cy="2246400"/>
          </a:xfrm>
          <a:prstGeom prst="cloudCallout">
            <a:avLst>
              <a:gd name="adj1" fmla="val 116212"/>
              <a:gd name="adj2" fmla="val 637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 tentokrát jsou poměry opačné. Platí tedy i to, ž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 jakém poměru se zvětší jedna veličin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 takovém se zmenší druhá velič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2-19T08:05:19Z</dcterms:modified>
  <cp:revision>219</cp:revision>
  <dc:subject/>
  <dc:title>Nepřímá úměrnost</dc:title>
</cp:coreProperties>
</file>