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FD6-B651-4509-BC7F-F73F2704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9D4E-A0CF-4337-AB36-A3A1C0BA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415A-58B0-4F18-B357-7A104D77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746-92B9-4356-B360-80CF0707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B5B3-3567-4CF3-A9FC-76770275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757A-A5AB-4B90-83C8-95B447C2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6319-1AD1-41A9-9BB0-7F7FA73A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D386-96B3-43DA-BF52-97E28198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D02A-A91C-4D08-899A-1467186D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2E39-35F2-43C6-8CC8-10347D7B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D452-EED2-4DE3-9C29-27812827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D26-055A-46F3-91A2-A9FD364A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036B-5B4B-4614-B750-C2CFDA32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49C7-F9BA-4D59-A2E5-DFCB6D37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6CF4-1AB0-4142-8154-5DB5DEF8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DF90-2300-4AB0-9189-0E1C2861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E9F1-A7BA-4F29-ADB1-C1681DF9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09B-5FDA-47B6-A38A-3FE03E90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12D-87AF-4ECC-AE6A-39236258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5CE5-C3F0-40FC-A05A-5BEAF1D6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3B7-3409-49D7-A69D-CE7FFBA9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9138-A167-4E8F-A641-5A8BC925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E82B-F711-4D92-B73B-FBF2508D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86E-E3EC-4BCE-90F7-E80CA088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AF29-33E1-4E04-AA5F-ABE18E7FB958}" type="slidenum">
              <a:rPr b="0" lang="cs-C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entury Gothic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entury Gothic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756D-FDDA-4CE5-84FC-E433BFBE8C15}" type="slidenum">
              <a:rPr b="0" lang="cs-C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57320" y="765000"/>
            <a:ext cx="7084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Mocniny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42920" y="2707920"/>
            <a:ext cx="61200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entury Gothic"/>
              </a:rPr>
              <a:t>Mocniny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entury Gothic"/>
              </a:rPr>
              <a:t>záporných číse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entury Gothic"/>
              </a:rPr>
              <a:t>(se záporným základem)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1042920" y="547560"/>
            <a:ext cx="59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057320" y="979560"/>
            <a:ext cx="7691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Napiš ve tvaru součinu a vypočítej mocnin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5"/>
          <p:cNvSpPr/>
          <p:nvPr/>
        </p:nvSpPr>
        <p:spPr>
          <a:xfrm>
            <a:off x="1071720" y="1413000"/>
            <a:ext cx="1353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2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1071720" y="184464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7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1071720" y="227808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5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4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1071720" y="270972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3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9"/>
          <p:cNvSpPr/>
          <p:nvPr/>
        </p:nvSpPr>
        <p:spPr>
          <a:xfrm>
            <a:off x="1071720" y="314172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2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1073160" y="355932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15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1071720" y="400536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421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1071720" y="443700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3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(-2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1071720" y="486900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5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(-7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1071720" y="5302080"/>
            <a:ext cx="257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3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(-2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(-5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042920" y="547560"/>
            <a:ext cx="59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057320" y="979560"/>
            <a:ext cx="7691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Napiš ve tvaru součinu a vypočítej mocnin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3276720" y="1413000"/>
            <a:ext cx="2447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2.(-2).(-2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3276720" y="184464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7.(-7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3276720" y="2278080"/>
            <a:ext cx="25905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5.(-5).(-5).(-5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3276720" y="270972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3.(-3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3276720" y="3141720"/>
            <a:ext cx="2950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2.(-2).(-2).(-2).(-2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3278160" y="3559320"/>
            <a:ext cx="23734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15.(-15).(-15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3276720" y="4005360"/>
            <a:ext cx="2158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421.(-421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2"/>
          <p:cNvSpPr/>
          <p:nvPr/>
        </p:nvSpPr>
        <p:spPr>
          <a:xfrm>
            <a:off x="3276720" y="4437000"/>
            <a:ext cx="2950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3.(-3).(-2).(-2).(-2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3"/>
          <p:cNvSpPr/>
          <p:nvPr/>
        </p:nvSpPr>
        <p:spPr>
          <a:xfrm>
            <a:off x="3276720" y="4869000"/>
            <a:ext cx="3095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5.(-5).(-5).(-7).(-7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4"/>
          <p:cNvSpPr/>
          <p:nvPr/>
        </p:nvSpPr>
        <p:spPr>
          <a:xfrm>
            <a:off x="3276720" y="5302080"/>
            <a:ext cx="4174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3.(-3).(-2).(-2).(-2).(-5).(-5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4888080" y="1413000"/>
            <a:ext cx="1353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4370400" y="184464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4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5464080" y="2276640"/>
            <a:ext cx="1714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6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4370400" y="270828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6026040" y="3141720"/>
            <a:ext cx="1714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5450040" y="357336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33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5018040" y="4005360"/>
            <a:ext cx="1714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1772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6070680" y="443700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9.(-8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4"/>
          <p:cNvSpPr/>
          <p:nvPr/>
        </p:nvSpPr>
        <p:spPr>
          <a:xfrm>
            <a:off x="7034040" y="4437000"/>
            <a:ext cx="1714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7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6084720" y="4869000"/>
            <a:ext cx="1714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125.49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6"/>
          <p:cNvSpPr/>
          <p:nvPr/>
        </p:nvSpPr>
        <p:spPr>
          <a:xfrm>
            <a:off x="7308720" y="4869000"/>
            <a:ext cx="1295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61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7"/>
          <p:cNvSpPr/>
          <p:nvPr/>
        </p:nvSpPr>
        <p:spPr>
          <a:xfrm>
            <a:off x="7135920" y="5300640"/>
            <a:ext cx="151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9.(-8).25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3003480" y="5734080"/>
            <a:ext cx="15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-72.25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9"/>
          <p:cNvSpPr/>
          <p:nvPr/>
        </p:nvSpPr>
        <p:spPr>
          <a:xfrm>
            <a:off x="4211640" y="5734080"/>
            <a:ext cx="993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18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2"/>
          <p:cNvSpPr/>
          <p:nvPr/>
        </p:nvSpPr>
        <p:spPr>
          <a:xfrm>
            <a:off x="1071720" y="1413000"/>
            <a:ext cx="1353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2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3"/>
          <p:cNvSpPr/>
          <p:nvPr/>
        </p:nvSpPr>
        <p:spPr>
          <a:xfrm>
            <a:off x="1071720" y="184464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7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4"/>
          <p:cNvSpPr/>
          <p:nvPr/>
        </p:nvSpPr>
        <p:spPr>
          <a:xfrm>
            <a:off x="1071720" y="227808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5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4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5"/>
          <p:cNvSpPr/>
          <p:nvPr/>
        </p:nvSpPr>
        <p:spPr>
          <a:xfrm>
            <a:off x="1071720" y="270972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3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6"/>
          <p:cNvSpPr/>
          <p:nvPr/>
        </p:nvSpPr>
        <p:spPr>
          <a:xfrm>
            <a:off x="1071720" y="314172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2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7"/>
          <p:cNvSpPr/>
          <p:nvPr/>
        </p:nvSpPr>
        <p:spPr>
          <a:xfrm>
            <a:off x="1073160" y="355932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15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8"/>
          <p:cNvSpPr/>
          <p:nvPr/>
        </p:nvSpPr>
        <p:spPr>
          <a:xfrm>
            <a:off x="1071720" y="400536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421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9"/>
          <p:cNvSpPr/>
          <p:nvPr/>
        </p:nvSpPr>
        <p:spPr>
          <a:xfrm>
            <a:off x="1071720" y="4437000"/>
            <a:ext cx="171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3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(-2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0"/>
          <p:cNvSpPr/>
          <p:nvPr/>
        </p:nvSpPr>
        <p:spPr>
          <a:xfrm>
            <a:off x="1071720" y="486900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5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(-7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1"/>
          <p:cNvSpPr/>
          <p:nvPr/>
        </p:nvSpPr>
        <p:spPr>
          <a:xfrm>
            <a:off x="1071720" y="5302080"/>
            <a:ext cx="257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3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(-2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(-5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042920" y="547560"/>
            <a:ext cx="38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Pozor na zápi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3"/>
              <p:cNvSpPr txBox="1"/>
              <p:nvPr/>
            </p:nvSpPr>
            <p:spPr>
              <a:xfrm>
                <a:off x="3754440" y="1603440"/>
                <a:ext cx="29782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6"/>
              <p:cNvSpPr txBox="1"/>
              <p:nvPr/>
            </p:nvSpPr>
            <p:spPr>
              <a:xfrm>
                <a:off x="1042920" y="1474920"/>
                <a:ext cx="265284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9"/>
              <p:cNvSpPr txBox="1"/>
              <p:nvPr/>
            </p:nvSpPr>
            <p:spPr>
              <a:xfrm>
                <a:off x="6924600" y="1657440"/>
                <a:ext cx="12286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8"/>
              <p:cNvSpPr txBox="1"/>
              <p:nvPr/>
            </p:nvSpPr>
            <p:spPr>
              <a:xfrm>
                <a:off x="3267000" y="4149720"/>
                <a:ext cx="20066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9"/>
              <p:cNvSpPr txBox="1"/>
              <p:nvPr/>
            </p:nvSpPr>
            <p:spPr>
              <a:xfrm>
                <a:off x="1042920" y="4021200"/>
                <a:ext cx="22003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0"/>
              <p:cNvSpPr txBox="1"/>
              <p:nvPr/>
            </p:nvSpPr>
            <p:spPr>
              <a:xfrm>
                <a:off x="5089680" y="4105440"/>
                <a:ext cx="16826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31"/>
          <p:cNvSpPr/>
          <p:nvPr/>
        </p:nvSpPr>
        <p:spPr>
          <a:xfrm>
            <a:off x="1103400" y="2852640"/>
            <a:ext cx="7213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00"/>
                </a:solidFill>
                <a:latin typeface="Century Gothic"/>
              </a:rPr>
              <a:t>Exponent se vztahuje na celou závorku, tzn. i na znaménko minus, a umocňujeme tedy „zápornou trojku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2"/>
          <p:cNvSpPr/>
          <p:nvPr/>
        </p:nvSpPr>
        <p:spPr>
          <a:xfrm>
            <a:off x="1101600" y="5083200"/>
            <a:ext cx="56311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00"/>
                </a:solidFill>
                <a:latin typeface="Century Gothic"/>
              </a:rPr>
              <a:t>Exponent se vztahuje jen na trojku, </a:t>
            </a:r>
            <a:br>
              <a:rPr sz="2200"/>
            </a:br>
            <a:r>
              <a:rPr b="1" lang="cs-CZ" sz="2200" spc="-1" strike="noStrike">
                <a:solidFill>
                  <a:srgbClr val="ff0000"/>
                </a:solidFill>
                <a:latin typeface="Century Gothic"/>
              </a:rPr>
              <a:t>tzn. že znaménko minus tedy opisujeme </a:t>
            </a:r>
            <a:br>
              <a:rPr sz="2200"/>
            </a:br>
            <a:r>
              <a:rPr b="1" lang="cs-CZ" sz="2200" spc="-1" strike="noStrike">
                <a:solidFill>
                  <a:srgbClr val="ff0000"/>
                </a:solidFill>
                <a:latin typeface="Century Gothic"/>
              </a:rPr>
              <a:t>a umocňujeme jen „kladnou trojku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042920" y="547560"/>
            <a:ext cx="38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Pamatuj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3116160" y="1596960"/>
                <a:ext cx="38703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965160" y="1484280"/>
                <a:ext cx="22176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5"/>
              <p:cNvSpPr txBox="1"/>
              <p:nvPr/>
            </p:nvSpPr>
            <p:spPr>
              <a:xfrm>
                <a:off x="7110360" y="1650960"/>
                <a:ext cx="1422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6"/>
              <p:cNvSpPr txBox="1"/>
              <p:nvPr/>
            </p:nvSpPr>
            <p:spPr>
              <a:xfrm>
                <a:off x="3132000" y="3975120"/>
                <a:ext cx="24512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7"/>
              <p:cNvSpPr txBox="1"/>
              <p:nvPr/>
            </p:nvSpPr>
            <p:spPr>
              <a:xfrm>
                <a:off x="968400" y="3860640"/>
                <a:ext cx="221760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8"/>
              <p:cNvSpPr txBox="1"/>
              <p:nvPr/>
            </p:nvSpPr>
            <p:spPr>
              <a:xfrm>
                <a:off x="5600880" y="4037040"/>
                <a:ext cx="1023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Rectangle 9"/>
          <p:cNvSpPr/>
          <p:nvPr/>
        </p:nvSpPr>
        <p:spPr>
          <a:xfrm>
            <a:off x="1103400" y="2765520"/>
            <a:ext cx="7213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33399"/>
                </a:solidFill>
                <a:latin typeface="Century Gothic"/>
              </a:rPr>
              <a:t>Je-li exponent mocniny záporného čísla (mocniny se záporným základem) </a:t>
            </a:r>
            <a:r>
              <a:rPr b="1" lang="cs-CZ" sz="2200" spc="-1" strike="noStrike">
                <a:solidFill>
                  <a:srgbClr val="ff0000"/>
                </a:solidFill>
                <a:latin typeface="Century Gothic"/>
              </a:rPr>
              <a:t>liché číslo</a:t>
            </a:r>
            <a:r>
              <a:rPr b="1" lang="cs-CZ" sz="2200" spc="-1" strike="noStrike">
                <a:solidFill>
                  <a:srgbClr val="333399"/>
                </a:solidFill>
                <a:latin typeface="Century Gothic"/>
              </a:rPr>
              <a:t>, je výsledek vždy </a:t>
            </a:r>
            <a:r>
              <a:rPr b="1" lang="cs-CZ" sz="2200" spc="-1" strike="noStrike">
                <a:solidFill>
                  <a:srgbClr val="ff0000"/>
                </a:solidFill>
                <a:latin typeface="Century Gothic"/>
              </a:rPr>
              <a:t>záporný (záporné číslo)</a:t>
            </a:r>
            <a:r>
              <a:rPr b="1" lang="cs-CZ" sz="2200" spc="-1" strike="noStrike">
                <a:solidFill>
                  <a:srgbClr val="333399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1101600" y="5083200"/>
            <a:ext cx="56311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333399"/>
                </a:solidFill>
                <a:latin typeface="Century Gothic"/>
              </a:rPr>
              <a:t>Je-li exponent mocniny záporného čísla (mocniny se záporným základem) </a:t>
            </a:r>
            <a:r>
              <a:rPr b="1" lang="cs-CZ" sz="2200" spc="-1" strike="noStrike">
                <a:solidFill>
                  <a:srgbClr val="ff0000"/>
                </a:solidFill>
                <a:latin typeface="Century Gothic"/>
              </a:rPr>
              <a:t>sudé číslo</a:t>
            </a:r>
            <a:r>
              <a:rPr b="1" lang="cs-CZ" sz="2200" spc="-1" strike="noStrike">
                <a:solidFill>
                  <a:srgbClr val="333399"/>
                </a:solidFill>
                <a:latin typeface="Century Gothic"/>
              </a:rPr>
              <a:t>, je výsledek vždy </a:t>
            </a:r>
            <a:r>
              <a:rPr b="1" lang="cs-CZ" sz="2200" spc="-1" strike="noStrike">
                <a:solidFill>
                  <a:srgbClr val="ff0000"/>
                </a:solidFill>
                <a:latin typeface="Century Gothic"/>
              </a:rPr>
              <a:t>kladný (kladné číslo)</a:t>
            </a:r>
            <a:r>
              <a:rPr b="1" lang="cs-CZ" sz="2200" spc="-1" strike="noStrike">
                <a:solidFill>
                  <a:srgbClr val="333399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2109960" y="1555920"/>
            <a:ext cx="43164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7726320" y="1873080"/>
            <a:ext cx="432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2138400" y="3932280"/>
            <a:ext cx="43164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042920" y="547560"/>
            <a:ext cx="38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Moc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932040" y="2187720"/>
                <a:ext cx="25603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" name="Rectangle 12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Součin sobě rovných čísel (činitelů) se nazývá mocn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5"/>
              <p:cNvSpPr txBox="1"/>
              <p:nvPr/>
            </p:nvSpPr>
            <p:spPr>
              <a:xfrm>
                <a:off x="958680" y="3228840"/>
                <a:ext cx="411804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6"/>
              <p:cNvSpPr txBox="1"/>
              <p:nvPr/>
            </p:nvSpPr>
            <p:spPr>
              <a:xfrm>
                <a:off x="981000" y="4307040"/>
                <a:ext cx="56786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7"/>
              <p:cNvSpPr txBox="1"/>
              <p:nvPr/>
            </p:nvSpPr>
            <p:spPr>
              <a:xfrm>
                <a:off x="1004760" y="5389560"/>
                <a:ext cx="71820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042920" y="547560"/>
            <a:ext cx="763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Druhy mocnin se záporným základem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a jejich zá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057320" y="1195560"/>
            <a:ext cx="7691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ocnina se nazývá podle počtu sobě rovných činitel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 rot="16200000">
            <a:off x="2022480" y="1814400"/>
            <a:ext cx="288720" cy="1152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2006640" y="2419200"/>
            <a:ext cx="5373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2 „minus dvojky“ … druhá mocnina čísla -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4"/>
              <p:cNvSpPr txBox="1"/>
              <p:nvPr/>
            </p:nvSpPr>
            <p:spPr>
              <a:xfrm>
                <a:off x="1533600" y="1754280"/>
                <a:ext cx="23940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" name="AutoShape 15"/>
          <p:cNvSpPr/>
          <p:nvPr/>
        </p:nvSpPr>
        <p:spPr>
          <a:xfrm rot="16200000">
            <a:off x="2346480" y="2600280"/>
            <a:ext cx="317520" cy="1828800"/>
          </a:xfrm>
          <a:custGeom>
            <a:avLst/>
            <a:gdLst>
              <a:gd name="textAreaLeft" fmla="*/ 203040 w 317520"/>
              <a:gd name="textAreaRight" fmla="*/ 317520 w 317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2340000" y="3571920"/>
            <a:ext cx="597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3 „minus dvojky“ … třetí mocnina čísla -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0"/>
          <p:cNvSpPr/>
          <p:nvPr/>
        </p:nvSpPr>
        <p:spPr>
          <a:xfrm rot="16200000">
            <a:off x="2648520" y="3450240"/>
            <a:ext cx="331920" cy="2505240"/>
          </a:xfrm>
          <a:custGeom>
            <a:avLst/>
            <a:gdLst>
              <a:gd name="textAreaLeft" fmla="*/ 212040 w 331920"/>
              <a:gd name="textAreaRight" fmla="*/ 332280 w 331920"/>
              <a:gd name="textAreaTop" fmla="*/ 65160 h 2505240"/>
              <a:gd name="textAreaBottom" fmla="*/ 2440080 h 250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2670120" y="4767120"/>
            <a:ext cx="5502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4 „minus dvojky“ … čtvrtá mocnina čísla -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3"/>
          <p:cNvSpPr/>
          <p:nvPr/>
        </p:nvSpPr>
        <p:spPr>
          <a:xfrm rot="16200000">
            <a:off x="3009240" y="4270680"/>
            <a:ext cx="331560" cy="3225960"/>
          </a:xfrm>
          <a:custGeom>
            <a:avLst/>
            <a:gdLst>
              <a:gd name="textAreaLeft" fmla="*/ 212040 w 331560"/>
              <a:gd name="textAreaRight" fmla="*/ 331920 w 331560"/>
              <a:gd name="textAreaTop" fmla="*/ 83880 h 3225960"/>
              <a:gd name="textAreaBottom" fmla="*/ 3142080 h 322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3030480" y="5962680"/>
            <a:ext cx="578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5 „minus dvojek“ … pátá mocnina čísla -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6"/>
              <p:cNvSpPr txBox="1"/>
              <p:nvPr/>
            </p:nvSpPr>
            <p:spPr>
              <a:xfrm>
                <a:off x="1474920" y="2824200"/>
                <a:ext cx="31543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27"/>
              <p:cNvSpPr txBox="1"/>
              <p:nvPr/>
            </p:nvSpPr>
            <p:spPr>
              <a:xfrm>
                <a:off x="1403280" y="4005360"/>
                <a:ext cx="39420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28"/>
              <p:cNvSpPr txBox="1"/>
              <p:nvPr/>
            </p:nvSpPr>
            <p:spPr>
              <a:xfrm>
                <a:off x="1403280" y="5211720"/>
                <a:ext cx="47293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42920" y="547560"/>
            <a:ext cx="59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Mocniny – pojmen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057320" y="1109520"/>
            <a:ext cx="76914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Obecný zápis mocni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 rot="16200000">
            <a:off x="3613680" y="8640"/>
            <a:ext cx="331920" cy="6048360"/>
          </a:xfrm>
          <a:custGeom>
            <a:avLst/>
            <a:gdLst>
              <a:gd name="textAreaLeft" fmla="*/ 212040 w 331920"/>
              <a:gd name="textAreaRight" fmla="*/ 332280 w 331920"/>
              <a:gd name="textAreaTop" fmla="*/ 157680 h 6048360"/>
              <a:gd name="textAreaBottom" fmla="*/ 5890680 h 60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3335400" y="3139920"/>
            <a:ext cx="934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 krá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9"/>
              <p:cNvSpPr txBox="1"/>
              <p:nvPr/>
            </p:nvSpPr>
            <p:spPr>
              <a:xfrm>
                <a:off x="522360" y="1803240"/>
                <a:ext cx="857232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20"/>
              <p:cNvSpPr txBox="1"/>
              <p:nvPr/>
            </p:nvSpPr>
            <p:spPr>
              <a:xfrm>
                <a:off x="520560" y="1916280"/>
                <a:ext cx="634680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21"/>
              <p:cNvSpPr txBox="1"/>
              <p:nvPr/>
            </p:nvSpPr>
            <p:spPr>
              <a:xfrm>
                <a:off x="826920" y="3860640"/>
                <a:ext cx="25038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3" name="Rectangle 22"/>
          <p:cNvSpPr/>
          <p:nvPr/>
        </p:nvSpPr>
        <p:spPr>
          <a:xfrm>
            <a:off x="826920" y="5689440"/>
            <a:ext cx="2476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Century Gothic"/>
              </a:rPr>
              <a:t>Základ mocn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3"/>
          <p:cNvSpPr/>
          <p:nvPr/>
        </p:nvSpPr>
        <p:spPr>
          <a:xfrm flipV="1">
            <a:off x="1806480" y="5157360"/>
            <a:ext cx="0" cy="576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3981600" y="4321080"/>
            <a:ext cx="3182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Century Gothic"/>
              </a:rPr>
              <a:t>Mocnitel, exponent (určuje počet stejných činitelů v součin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5"/>
          <p:cNvSpPr/>
          <p:nvPr/>
        </p:nvSpPr>
        <p:spPr>
          <a:xfrm flipH="1">
            <a:off x="3319560" y="4292640"/>
            <a:ext cx="57600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042920" y="547560"/>
            <a:ext cx="38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Výpočet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2124000" y="1158840"/>
                <a:ext cx="16560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2050920" y="1839960"/>
                <a:ext cx="2521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2049480" y="2602080"/>
                <a:ext cx="396252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611280" y="1084320"/>
                <a:ext cx="1474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3"/>
              <p:cNvSpPr txBox="1"/>
              <p:nvPr/>
            </p:nvSpPr>
            <p:spPr>
              <a:xfrm>
                <a:off x="639720" y="1770120"/>
                <a:ext cx="13971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6"/>
              <p:cNvSpPr txBox="1"/>
              <p:nvPr/>
            </p:nvSpPr>
            <p:spPr>
              <a:xfrm>
                <a:off x="611280" y="2522520"/>
                <a:ext cx="1461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20"/>
              <p:cNvSpPr txBox="1"/>
              <p:nvPr/>
            </p:nvSpPr>
            <p:spPr>
              <a:xfrm>
                <a:off x="3852720" y="1201680"/>
                <a:ext cx="719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1"/>
              <p:cNvSpPr txBox="1"/>
              <p:nvPr/>
            </p:nvSpPr>
            <p:spPr>
              <a:xfrm>
                <a:off x="4665600" y="1841400"/>
                <a:ext cx="1635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2"/>
              <p:cNvSpPr txBox="1"/>
              <p:nvPr/>
            </p:nvSpPr>
            <p:spPr>
              <a:xfrm>
                <a:off x="6311880" y="1841400"/>
                <a:ext cx="10224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23"/>
              <p:cNvSpPr txBox="1"/>
              <p:nvPr/>
            </p:nvSpPr>
            <p:spPr>
              <a:xfrm>
                <a:off x="5999040" y="2608200"/>
                <a:ext cx="2676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4"/>
              <p:cNvSpPr txBox="1"/>
              <p:nvPr/>
            </p:nvSpPr>
            <p:spPr>
              <a:xfrm>
                <a:off x="1706400" y="3213000"/>
                <a:ext cx="25657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5"/>
              <p:cNvSpPr txBox="1"/>
              <p:nvPr/>
            </p:nvSpPr>
            <p:spPr>
              <a:xfrm>
                <a:off x="4334040" y="3255840"/>
                <a:ext cx="5713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Oval 31"/>
          <p:cNvSpPr/>
          <p:nvPr/>
        </p:nvSpPr>
        <p:spPr>
          <a:xfrm>
            <a:off x="2022480" y="2535120"/>
            <a:ext cx="1671480" cy="7351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2"/>
          <p:cNvSpPr/>
          <p:nvPr/>
        </p:nvSpPr>
        <p:spPr>
          <a:xfrm>
            <a:off x="5954760" y="2550960"/>
            <a:ext cx="1425600" cy="720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5"/>
          <p:cNvSpPr/>
          <p:nvPr/>
        </p:nvSpPr>
        <p:spPr>
          <a:xfrm>
            <a:off x="2038320" y="1743120"/>
            <a:ext cx="1584360" cy="720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36"/>
              <p:cNvSpPr txBox="1"/>
              <p:nvPr/>
            </p:nvSpPr>
            <p:spPr>
              <a:xfrm>
                <a:off x="2058840" y="3954600"/>
                <a:ext cx="49611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7"/>
              <p:cNvSpPr txBox="1"/>
              <p:nvPr/>
            </p:nvSpPr>
            <p:spPr>
              <a:xfrm>
                <a:off x="611280" y="3875040"/>
                <a:ext cx="1461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9"/>
              <p:cNvSpPr txBox="1"/>
              <p:nvPr/>
            </p:nvSpPr>
            <p:spPr>
              <a:xfrm>
                <a:off x="1720800" y="4551480"/>
                <a:ext cx="22446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40"/>
              <p:cNvSpPr txBox="1"/>
              <p:nvPr/>
            </p:nvSpPr>
            <p:spPr>
              <a:xfrm>
                <a:off x="3992400" y="4583160"/>
                <a:ext cx="9655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Oval 41"/>
          <p:cNvSpPr/>
          <p:nvPr/>
        </p:nvSpPr>
        <p:spPr>
          <a:xfrm>
            <a:off x="2050920" y="3902040"/>
            <a:ext cx="3773520" cy="7351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3"/>
              <p:cNvSpPr txBox="1"/>
              <p:nvPr/>
            </p:nvSpPr>
            <p:spPr>
              <a:xfrm>
                <a:off x="2095560" y="5249880"/>
                <a:ext cx="5960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44"/>
              <p:cNvSpPr txBox="1"/>
              <p:nvPr/>
            </p:nvSpPr>
            <p:spPr>
              <a:xfrm>
                <a:off x="639720" y="5170320"/>
                <a:ext cx="1461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45"/>
              <p:cNvSpPr txBox="1"/>
              <p:nvPr/>
            </p:nvSpPr>
            <p:spPr>
              <a:xfrm>
                <a:off x="1728720" y="5846760"/>
                <a:ext cx="28148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46"/>
              <p:cNvSpPr txBox="1"/>
              <p:nvPr/>
            </p:nvSpPr>
            <p:spPr>
              <a:xfrm>
                <a:off x="4529160" y="5880240"/>
                <a:ext cx="6080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Oval 47"/>
          <p:cNvSpPr/>
          <p:nvPr/>
        </p:nvSpPr>
        <p:spPr>
          <a:xfrm>
            <a:off x="2038320" y="5157720"/>
            <a:ext cx="4753080" cy="7891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042920" y="547560"/>
            <a:ext cx="38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Výpočet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2124000" y="1158840"/>
                <a:ext cx="16560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2050920" y="1839960"/>
                <a:ext cx="2521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5"/>
              <p:cNvSpPr txBox="1"/>
              <p:nvPr/>
            </p:nvSpPr>
            <p:spPr>
              <a:xfrm>
                <a:off x="2049480" y="2602080"/>
                <a:ext cx="396252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6"/>
              <p:cNvSpPr txBox="1"/>
              <p:nvPr/>
            </p:nvSpPr>
            <p:spPr>
              <a:xfrm>
                <a:off x="611280" y="1084320"/>
                <a:ext cx="1474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639720" y="1770120"/>
                <a:ext cx="13971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8"/>
              <p:cNvSpPr txBox="1"/>
              <p:nvPr/>
            </p:nvSpPr>
            <p:spPr>
              <a:xfrm>
                <a:off x="611280" y="2522520"/>
                <a:ext cx="1461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3852720" y="1201680"/>
                <a:ext cx="719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4665600" y="1841400"/>
                <a:ext cx="1635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6311880" y="1841400"/>
                <a:ext cx="10224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2"/>
              <p:cNvSpPr txBox="1"/>
              <p:nvPr/>
            </p:nvSpPr>
            <p:spPr>
              <a:xfrm>
                <a:off x="5999040" y="2608200"/>
                <a:ext cx="2676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3"/>
              <p:cNvSpPr txBox="1"/>
              <p:nvPr/>
            </p:nvSpPr>
            <p:spPr>
              <a:xfrm>
                <a:off x="1706400" y="3213000"/>
                <a:ext cx="25657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4"/>
              <p:cNvSpPr txBox="1"/>
              <p:nvPr/>
            </p:nvSpPr>
            <p:spPr>
              <a:xfrm>
                <a:off x="4334040" y="3255840"/>
                <a:ext cx="5713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8"/>
              <p:cNvSpPr txBox="1"/>
              <p:nvPr/>
            </p:nvSpPr>
            <p:spPr>
              <a:xfrm>
                <a:off x="2058840" y="3954600"/>
                <a:ext cx="49611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9"/>
              <p:cNvSpPr txBox="1"/>
              <p:nvPr/>
            </p:nvSpPr>
            <p:spPr>
              <a:xfrm>
                <a:off x="611280" y="3875040"/>
                <a:ext cx="1461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0"/>
              <p:cNvSpPr txBox="1"/>
              <p:nvPr/>
            </p:nvSpPr>
            <p:spPr>
              <a:xfrm>
                <a:off x="1720800" y="4551480"/>
                <a:ext cx="22446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1"/>
              <p:cNvSpPr txBox="1"/>
              <p:nvPr/>
            </p:nvSpPr>
            <p:spPr>
              <a:xfrm>
                <a:off x="3992400" y="4583160"/>
                <a:ext cx="9655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3"/>
              <p:cNvSpPr txBox="1"/>
              <p:nvPr/>
            </p:nvSpPr>
            <p:spPr>
              <a:xfrm>
                <a:off x="2095560" y="5249880"/>
                <a:ext cx="5960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24"/>
              <p:cNvSpPr txBox="1"/>
              <p:nvPr/>
            </p:nvSpPr>
            <p:spPr>
              <a:xfrm>
                <a:off x="639720" y="5170320"/>
                <a:ext cx="1461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5"/>
              <p:cNvSpPr txBox="1"/>
              <p:nvPr/>
            </p:nvSpPr>
            <p:spPr>
              <a:xfrm>
                <a:off x="1728720" y="5846760"/>
                <a:ext cx="28148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6"/>
              <p:cNvSpPr txBox="1"/>
              <p:nvPr/>
            </p:nvSpPr>
            <p:spPr>
              <a:xfrm>
                <a:off x="4529160" y="5880240"/>
                <a:ext cx="6080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Oval 28"/>
          <p:cNvSpPr/>
          <p:nvPr/>
        </p:nvSpPr>
        <p:spPr>
          <a:xfrm>
            <a:off x="6659640" y="1959120"/>
            <a:ext cx="28872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9"/>
          <p:cNvSpPr/>
          <p:nvPr/>
        </p:nvSpPr>
        <p:spPr>
          <a:xfrm>
            <a:off x="4010040" y="4724280"/>
            <a:ext cx="289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0"/>
          <p:cNvSpPr/>
          <p:nvPr/>
        </p:nvSpPr>
        <p:spPr>
          <a:xfrm>
            <a:off x="6962760" y="189000"/>
            <a:ext cx="1655640" cy="1295280"/>
          </a:xfrm>
          <a:prstGeom prst="cloudCallout">
            <a:avLst>
              <a:gd name="adj1" fmla="val -53069"/>
              <a:gd name="adj2" fmla="val 8125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dy je výsledek záporn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31"/>
          <p:cNvSpPr/>
          <p:nvPr/>
        </p:nvSpPr>
        <p:spPr>
          <a:xfrm>
            <a:off x="1360440" y="1787400"/>
            <a:ext cx="289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32"/>
          <p:cNvSpPr/>
          <p:nvPr/>
        </p:nvSpPr>
        <p:spPr>
          <a:xfrm>
            <a:off x="1374840" y="3903840"/>
            <a:ext cx="28872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3"/>
          <p:cNvSpPr/>
          <p:nvPr/>
        </p:nvSpPr>
        <p:spPr>
          <a:xfrm>
            <a:off x="6732720" y="115920"/>
            <a:ext cx="2160360" cy="1368360"/>
          </a:xfrm>
          <a:prstGeom prst="cloudCallout">
            <a:avLst>
              <a:gd name="adj1" fmla="val -41699"/>
              <a:gd name="adj2" fmla="val 77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ýsledek je záporný, když exponent je liché čís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34"/>
              <p:cNvSpPr txBox="1"/>
              <p:nvPr/>
            </p:nvSpPr>
            <p:spPr>
              <a:xfrm>
                <a:off x="4643280" y="1185840"/>
                <a:ext cx="10083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 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35"/>
              <p:cNvSpPr txBox="1"/>
              <p:nvPr/>
            </p:nvSpPr>
            <p:spPr>
              <a:xfrm>
                <a:off x="5003640" y="3244680"/>
                <a:ext cx="12146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6"/>
              <p:cNvSpPr txBox="1"/>
              <p:nvPr/>
            </p:nvSpPr>
            <p:spPr>
              <a:xfrm>
                <a:off x="5264280" y="5884920"/>
                <a:ext cx="1252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042920" y="547560"/>
            <a:ext cx="38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Výpočet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3"/>
              <p:cNvSpPr txBox="1"/>
              <p:nvPr/>
            </p:nvSpPr>
            <p:spPr>
              <a:xfrm>
                <a:off x="2124000" y="1158840"/>
                <a:ext cx="16560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2050920" y="1839960"/>
                <a:ext cx="2521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5"/>
              <p:cNvSpPr txBox="1"/>
              <p:nvPr/>
            </p:nvSpPr>
            <p:spPr>
              <a:xfrm>
                <a:off x="2049480" y="2602080"/>
                <a:ext cx="396252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6"/>
              <p:cNvSpPr txBox="1"/>
              <p:nvPr/>
            </p:nvSpPr>
            <p:spPr>
              <a:xfrm>
                <a:off x="611280" y="1084320"/>
                <a:ext cx="1474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639720" y="1770120"/>
                <a:ext cx="13971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8"/>
              <p:cNvSpPr txBox="1"/>
              <p:nvPr/>
            </p:nvSpPr>
            <p:spPr>
              <a:xfrm>
                <a:off x="611280" y="2522520"/>
                <a:ext cx="1461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3852720" y="1201680"/>
                <a:ext cx="719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0"/>
              <p:cNvSpPr txBox="1"/>
              <p:nvPr/>
            </p:nvSpPr>
            <p:spPr>
              <a:xfrm>
                <a:off x="4665600" y="1841400"/>
                <a:ext cx="1635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1"/>
              <p:cNvSpPr txBox="1"/>
              <p:nvPr/>
            </p:nvSpPr>
            <p:spPr>
              <a:xfrm>
                <a:off x="6311880" y="1841400"/>
                <a:ext cx="10224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2"/>
              <p:cNvSpPr txBox="1"/>
              <p:nvPr/>
            </p:nvSpPr>
            <p:spPr>
              <a:xfrm>
                <a:off x="5999040" y="2608200"/>
                <a:ext cx="2676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3"/>
              <p:cNvSpPr txBox="1"/>
              <p:nvPr/>
            </p:nvSpPr>
            <p:spPr>
              <a:xfrm>
                <a:off x="1706400" y="3213000"/>
                <a:ext cx="25657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4"/>
              <p:cNvSpPr txBox="1"/>
              <p:nvPr/>
            </p:nvSpPr>
            <p:spPr>
              <a:xfrm>
                <a:off x="4334040" y="3255840"/>
                <a:ext cx="5713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5"/>
              <p:cNvSpPr txBox="1"/>
              <p:nvPr/>
            </p:nvSpPr>
            <p:spPr>
              <a:xfrm>
                <a:off x="2058840" y="3954600"/>
                <a:ext cx="49611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6"/>
              <p:cNvSpPr txBox="1"/>
              <p:nvPr/>
            </p:nvSpPr>
            <p:spPr>
              <a:xfrm>
                <a:off x="611280" y="3875040"/>
                <a:ext cx="1461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7"/>
              <p:cNvSpPr txBox="1"/>
              <p:nvPr/>
            </p:nvSpPr>
            <p:spPr>
              <a:xfrm>
                <a:off x="1720800" y="4551480"/>
                <a:ext cx="22446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8"/>
              <p:cNvSpPr txBox="1"/>
              <p:nvPr/>
            </p:nvSpPr>
            <p:spPr>
              <a:xfrm>
                <a:off x="3992400" y="4583160"/>
                <a:ext cx="9655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9"/>
              <p:cNvSpPr txBox="1"/>
              <p:nvPr/>
            </p:nvSpPr>
            <p:spPr>
              <a:xfrm>
                <a:off x="2095560" y="5249880"/>
                <a:ext cx="5960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0"/>
              <p:cNvSpPr txBox="1"/>
              <p:nvPr/>
            </p:nvSpPr>
            <p:spPr>
              <a:xfrm>
                <a:off x="639720" y="5170320"/>
                <a:ext cx="1461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1"/>
              <p:cNvSpPr txBox="1"/>
              <p:nvPr/>
            </p:nvSpPr>
            <p:spPr>
              <a:xfrm>
                <a:off x="1728720" y="5846760"/>
                <a:ext cx="28148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2"/>
              <p:cNvSpPr txBox="1"/>
              <p:nvPr/>
            </p:nvSpPr>
            <p:spPr>
              <a:xfrm>
                <a:off x="4529160" y="5880240"/>
                <a:ext cx="6080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Oval 23"/>
          <p:cNvSpPr/>
          <p:nvPr/>
        </p:nvSpPr>
        <p:spPr>
          <a:xfrm>
            <a:off x="6659640" y="1959120"/>
            <a:ext cx="28872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4"/>
          <p:cNvSpPr/>
          <p:nvPr/>
        </p:nvSpPr>
        <p:spPr>
          <a:xfrm>
            <a:off x="4010040" y="4724280"/>
            <a:ext cx="289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5"/>
          <p:cNvSpPr/>
          <p:nvPr/>
        </p:nvSpPr>
        <p:spPr>
          <a:xfrm>
            <a:off x="6962760" y="189000"/>
            <a:ext cx="1655640" cy="1295280"/>
          </a:xfrm>
          <a:prstGeom prst="cloudCallout">
            <a:avLst>
              <a:gd name="adj1" fmla="val -53069"/>
              <a:gd name="adj2" fmla="val 8125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dy je výsledek záporn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6"/>
          <p:cNvSpPr/>
          <p:nvPr/>
        </p:nvSpPr>
        <p:spPr>
          <a:xfrm>
            <a:off x="1360440" y="1787400"/>
            <a:ext cx="289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7"/>
          <p:cNvSpPr/>
          <p:nvPr/>
        </p:nvSpPr>
        <p:spPr>
          <a:xfrm>
            <a:off x="1374840" y="3903840"/>
            <a:ext cx="28872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8"/>
          <p:cNvSpPr/>
          <p:nvPr/>
        </p:nvSpPr>
        <p:spPr>
          <a:xfrm>
            <a:off x="6732720" y="115920"/>
            <a:ext cx="2160360" cy="1368360"/>
          </a:xfrm>
          <a:prstGeom prst="cloudCallout">
            <a:avLst>
              <a:gd name="adj1" fmla="val -41699"/>
              <a:gd name="adj2" fmla="val 77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ýsledek je záporný, když exponent je liché čís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9"/>
              <p:cNvSpPr txBox="1"/>
              <p:nvPr/>
            </p:nvSpPr>
            <p:spPr>
              <a:xfrm>
                <a:off x="4643280" y="1185840"/>
                <a:ext cx="10083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 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30"/>
              <p:cNvSpPr txBox="1"/>
              <p:nvPr/>
            </p:nvSpPr>
            <p:spPr>
              <a:xfrm>
                <a:off x="5003640" y="3244680"/>
                <a:ext cx="12146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1"/>
              <p:cNvSpPr txBox="1"/>
              <p:nvPr/>
            </p:nvSpPr>
            <p:spPr>
              <a:xfrm>
                <a:off x="5076720" y="5884920"/>
                <a:ext cx="12528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AutoShape 34"/>
          <p:cNvSpPr/>
          <p:nvPr/>
        </p:nvSpPr>
        <p:spPr>
          <a:xfrm>
            <a:off x="7093080" y="3357720"/>
            <a:ext cx="1655640" cy="1295280"/>
          </a:xfrm>
          <a:prstGeom prst="cloudCallout">
            <a:avLst>
              <a:gd name="adj1" fmla="val -133509"/>
              <a:gd name="adj2" fmla="val -24634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dy je výsledek kladn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5"/>
          <p:cNvSpPr/>
          <p:nvPr/>
        </p:nvSpPr>
        <p:spPr>
          <a:xfrm>
            <a:off x="6804000" y="3284640"/>
            <a:ext cx="2160720" cy="1368360"/>
          </a:xfrm>
          <a:prstGeom prst="cloudCallout">
            <a:avLst>
              <a:gd name="adj1" fmla="val -100625"/>
              <a:gd name="adj2" fmla="val -20185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ýsledek je kladný, když exponent je sudé čís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5018040" y="1341360"/>
            <a:ext cx="289080" cy="289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5376960" y="3384720"/>
            <a:ext cx="288720" cy="288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5448240" y="6019920"/>
            <a:ext cx="289080" cy="288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0"/>
          <p:cNvSpPr/>
          <p:nvPr/>
        </p:nvSpPr>
        <p:spPr>
          <a:xfrm>
            <a:off x="1389240" y="1125360"/>
            <a:ext cx="288720" cy="289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41"/>
          <p:cNvSpPr/>
          <p:nvPr/>
        </p:nvSpPr>
        <p:spPr>
          <a:xfrm>
            <a:off x="1403280" y="2565360"/>
            <a:ext cx="289080" cy="289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2"/>
          <p:cNvSpPr/>
          <p:nvPr/>
        </p:nvSpPr>
        <p:spPr>
          <a:xfrm>
            <a:off x="1417680" y="5200560"/>
            <a:ext cx="288720" cy="289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042920" y="547560"/>
            <a:ext cx="59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057320" y="979560"/>
            <a:ext cx="7691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Zapiš součin ve tvaru mocn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1273320" y="1411200"/>
            <a:ext cx="5603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2.(-2).(-2).(-2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1273320" y="1843200"/>
            <a:ext cx="4476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7.(-7).(-7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1273320" y="2276640"/>
            <a:ext cx="4476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5.(-5).(-5).(-5).(-5).(-5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1273320" y="2708280"/>
            <a:ext cx="4476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3.(-3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1273320" y="3139920"/>
            <a:ext cx="4476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8.(-8).(-8).(-8).(-8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8"/>
          <p:cNvSpPr/>
          <p:nvPr/>
        </p:nvSpPr>
        <p:spPr>
          <a:xfrm>
            <a:off x="1274760" y="3557520"/>
            <a:ext cx="4476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12.(-12).(-12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1273320" y="4003560"/>
            <a:ext cx="4476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523.(-523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1273320" y="4435560"/>
            <a:ext cx="4476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4.(-4).(-5).(-5).(-5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1273320" y="4867200"/>
            <a:ext cx="4476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2.(-7).(-2).(-7).(-2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2"/>
          <p:cNvSpPr/>
          <p:nvPr/>
        </p:nvSpPr>
        <p:spPr>
          <a:xfrm>
            <a:off x="1273320" y="5300640"/>
            <a:ext cx="6730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3.(-3).(-2).(-2).(-2).(-5).(-5).(-5).(-5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1273320" y="5732640"/>
            <a:ext cx="6730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5.(-2).(-2).(-5).(-9).(-5).(-9).(-2).(-9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1042920" y="547560"/>
            <a:ext cx="59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57320" y="979560"/>
            <a:ext cx="7691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Zapiš součin ve tvaru mocn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6300720" y="1413000"/>
            <a:ext cx="135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2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6300720" y="1844640"/>
            <a:ext cx="1714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7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6300720" y="2278080"/>
            <a:ext cx="1714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5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6300720" y="2709720"/>
            <a:ext cx="1714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3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6300720" y="3141720"/>
            <a:ext cx="1714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8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6302520" y="3559320"/>
            <a:ext cx="1714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12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6300720" y="4005360"/>
            <a:ext cx="1714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523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2"/>
          <p:cNvSpPr/>
          <p:nvPr/>
        </p:nvSpPr>
        <p:spPr>
          <a:xfrm>
            <a:off x="6300720" y="4437000"/>
            <a:ext cx="1714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4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(-5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3"/>
          <p:cNvSpPr/>
          <p:nvPr/>
        </p:nvSpPr>
        <p:spPr>
          <a:xfrm>
            <a:off x="6300720" y="4869000"/>
            <a:ext cx="1714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2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(-7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6300720" y="5302080"/>
            <a:ext cx="257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3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(-2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(-5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6300720" y="5734080"/>
            <a:ext cx="2578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(-2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(-5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.(-9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6"/>
          <p:cNvSpPr/>
          <p:nvPr/>
        </p:nvSpPr>
        <p:spPr>
          <a:xfrm>
            <a:off x="1273320" y="1411200"/>
            <a:ext cx="5603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2.(-2).(-2).(-2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1273320" y="1843200"/>
            <a:ext cx="4476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7.(-7).(-7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8"/>
          <p:cNvSpPr/>
          <p:nvPr/>
        </p:nvSpPr>
        <p:spPr>
          <a:xfrm>
            <a:off x="1273320" y="2276640"/>
            <a:ext cx="4476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5.(-5).(-5).(-5).(-5).(-5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9"/>
          <p:cNvSpPr/>
          <p:nvPr/>
        </p:nvSpPr>
        <p:spPr>
          <a:xfrm>
            <a:off x="1273320" y="2708280"/>
            <a:ext cx="4476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3.(-3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0"/>
          <p:cNvSpPr/>
          <p:nvPr/>
        </p:nvSpPr>
        <p:spPr>
          <a:xfrm>
            <a:off x="1273320" y="3139920"/>
            <a:ext cx="4476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8.(-8).(-8).(-8).(-8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1"/>
          <p:cNvSpPr/>
          <p:nvPr/>
        </p:nvSpPr>
        <p:spPr>
          <a:xfrm>
            <a:off x="1274760" y="3557520"/>
            <a:ext cx="4476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12.(-12).(-12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1273320" y="4003560"/>
            <a:ext cx="4476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523.(-523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1273320" y="4435560"/>
            <a:ext cx="4476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4.(-4).(-5).(-5).(-5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1273320" y="4867200"/>
            <a:ext cx="44766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2.(-7).(-2).(-7).(-2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1273320" y="5300640"/>
            <a:ext cx="6730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3.(-3).(-2).(-2).(-2).(-5).(-5).(-5).(-5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1273320" y="5732640"/>
            <a:ext cx="6730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-5.(-2).(-2).(-5).(-9).(-5).(-9).(-2).(-9)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2-15T00:34:34Z</dcterms:modified>
  <cp:revision>171</cp:revision>
  <dc:subject/>
  <dc:title>Mocniny se záporným základem</dc:title>
</cp:coreProperties>
</file>