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0259-7622-40A5-B364-5CA84CAB60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A96C-172C-4CFA-B4A3-078794BC94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E13-13F7-417A-A09A-93E8344E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3D6-888E-4E43-8FBC-73E15C46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9F8-C846-4E24-AE1C-BE210363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AFA-4229-4260-A410-A2DFA59C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26A8-DD20-4988-AD41-ECD00A39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10B7-EBE7-468B-ACDE-1E985EBA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AD17-0ABF-4A74-A27C-91162BAC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F709-B784-44FF-8CEF-600F2C25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8A80-63FF-4065-87C7-6AAEC5FA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C366-90B9-43D1-AB34-D8D0CB7C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72FB-6E64-482A-A575-55CA98D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7D0-C45C-4BB5-B573-21E2D859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AA75-30AA-47DB-B283-629315C0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98B1-DF13-44BB-A478-DB7F204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E1EF-5C8C-4666-B80A-13AEE1A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A30C-A9BD-4FFA-82DB-5CD4693E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5DB2-94C1-466C-874B-6FF18F58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5B1-B31D-4095-8AC6-2AF5711A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EF2-00A2-4F31-AC77-0A63AB55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323-F8B0-4903-9E8D-2BED3688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54E-3365-490A-BED5-64614A4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C2C-C67E-4848-BE50-552DDB5F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A57E-2973-4C7C-9FB3-4A4A4B39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FC3-1652-4A63-9971-4843E83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C33F-C470-4251-B7DD-45AC12D2EF7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FB8F-5D49-4923-99B6-590B8C01834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lker.com/clipart-blackboard.html" TargetMode="External"/><Relationship Id="rId3" Type="http://schemas.openxmlformats.org/officeDocument/2006/relationships/hyperlink" Target="http://www.clker.com/clipart-blackboard.html" TargetMode="External"/><Relationship Id="rId4" Type="http://schemas.openxmlformats.org/officeDocument/2006/relationships/hyperlink" Target="http://www.clker.com/clipart-blackboard.html" TargetMode="External"/><Relationship Id="rId5" Type="http://schemas.openxmlformats.org/officeDocument/2006/relationships/hyperlink" Target="http://www.clker.com/clipart-blackboard.html" TargetMode="External"/><Relationship Id="rId6" Type="http://schemas.openxmlformats.org/officeDocument/2006/relationships/hyperlink" Target="http://www.clker.com/clipart-blackboard.html" TargetMode="External"/><Relationship Id="rId7" Type="http://schemas.openxmlformats.org/officeDocument/2006/relationships/hyperlink" Target="http://www.clker.com/clipart-blackboard.html" TargetMode="External"/><Relationship Id="rId8" Type="http://schemas.openxmlformats.org/officeDocument/2006/relationships/hyperlink" Target="http://www.clker.com/clipart-blackboard.html" TargetMode="External"/><Relationship Id="rId9" Type="http://schemas.openxmlformats.org/officeDocument/2006/relationships/hyperlink" Target="http://www.clker.com/clipart-blackboard.html" TargetMode="External"/><Relationship Id="rId10" Type="http://schemas.openxmlformats.org/officeDocument/2006/relationships/hyperlink" Target="http://www.clker.com/clipart-blackboard.html" TargetMode="External"/><Relationship Id="rId11" Type="http://schemas.openxmlformats.org/officeDocument/2006/relationships/hyperlink" Target="http://www.clker.com/clipart-blackboard.html" TargetMode="External"/><Relationship Id="rId12" Type="http://schemas.openxmlformats.org/officeDocument/2006/relationships/hyperlink" Target="http://www.clker.com/clipart-notepad-1.html" TargetMode="External"/><Relationship Id="rId13" Type="http://schemas.openxmlformats.org/officeDocument/2006/relationships/hyperlink" Target="http://www.clker.com/clipart-notepad-1.html" TargetMode="External"/><Relationship Id="rId14" Type="http://schemas.openxmlformats.org/officeDocument/2006/relationships/hyperlink" Target="http://www.clker.com/clipart-notepad-1.html" TargetMode="External"/><Relationship Id="rId15" Type="http://schemas.openxmlformats.org/officeDocument/2006/relationships/hyperlink" Target="http://www.clker.com/clipart-notepad-1.html" TargetMode="External"/><Relationship Id="rId16" Type="http://schemas.openxmlformats.org/officeDocument/2006/relationships/hyperlink" Target="http://www.clker.com/clipart-notepad-1.html" TargetMode="External"/><Relationship Id="rId17" Type="http://schemas.openxmlformats.org/officeDocument/2006/relationships/hyperlink" Target="http://www.clker.com/clipart-notepad-1.html" TargetMode="External"/><Relationship Id="rId18" Type="http://schemas.openxmlformats.org/officeDocument/2006/relationships/hyperlink" Target="http://www.clker.com/clipart-notepad-1.html" TargetMode="External"/><Relationship Id="rId19" Type="http://schemas.openxmlformats.org/officeDocument/2006/relationships/hyperlink" Target="http://www.clker.com/clipart-notepad-1.html" TargetMode="External"/><Relationship Id="rId20" Type="http://schemas.openxmlformats.org/officeDocument/2006/relationships/hyperlink" Target="http://www.clker.com/clipart-notepad-1.html" TargetMode="External"/><Relationship Id="rId21" Type="http://schemas.openxmlformats.org/officeDocument/2006/relationships/hyperlink" Target="http://www.clker.com/clipart-notepad-1.html" TargetMode="Externa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notepad"/>
          <p:cNvPicPr/>
          <p:nvPr/>
        </p:nvPicPr>
        <p:blipFill>
          <a:blip r:embed="rId2"/>
          <a:stretch/>
        </p:blipFill>
        <p:spPr>
          <a:xfrm>
            <a:off x="1258920" y="619200"/>
            <a:ext cx="6481800" cy="4429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76360" y="2349360"/>
            <a:ext cx="59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ě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počítání s mocnin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403280" y="4292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entury Gothic"/>
              </a:rPr>
              <a:t>Věta o násobení moc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7956720" y="4869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rázek č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530028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Autorem materiálu a všech jeho částí, není-li uvedeno jinak, je Mgr. Radomír Macháň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Calibri"/>
              </a:rPr>
              <a:t>Dostupné z Metodického portálu www.rvp.cz, ISSN: 1802-4785, financovaného z ESF a státního rozpočtu ČR. Provozováno Výzkumným ústavem pedagogickým v Praz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Pokusíme se větu (vzorec) opět samozřejmě sami odvodit. Tak jdeme na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181240" y="1801800"/>
                <a:ext cx="496872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1332000" y="3548160"/>
                <a:ext cx="2581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6"/>
              <p:cNvSpPr txBox="1"/>
              <p:nvPr/>
            </p:nvSpPr>
            <p:spPr>
              <a:xfrm>
                <a:off x="4356000" y="3548160"/>
                <a:ext cx="2038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Line 7"/>
          <p:cNvSpPr/>
          <p:nvPr/>
        </p:nvSpPr>
        <p:spPr>
          <a:xfrm flipH="1">
            <a:off x="2195280" y="3040200"/>
            <a:ext cx="417240" cy="4600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612880" y="3040200"/>
            <a:ext cx="446400" cy="4600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4643280" y="3025800"/>
            <a:ext cx="735120" cy="4744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378400" y="3025800"/>
            <a:ext cx="706320" cy="5475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 flipH="1">
            <a:off x="5148000" y="3025800"/>
            <a:ext cx="230040" cy="5475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2"/>
              <p:cNvSpPr txBox="1"/>
              <p:nvPr/>
            </p:nvSpPr>
            <p:spPr>
              <a:xfrm>
                <a:off x="468360" y="4282920"/>
                <a:ext cx="71992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3"/>
              <p:cNvSpPr txBox="1"/>
              <p:nvPr/>
            </p:nvSpPr>
            <p:spPr>
              <a:xfrm>
                <a:off x="7585200" y="3691080"/>
                <a:ext cx="130788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AutoShape 14"/>
          <p:cNvSpPr/>
          <p:nvPr/>
        </p:nvSpPr>
        <p:spPr>
          <a:xfrm rot="5400000">
            <a:off x="2553120" y="3415320"/>
            <a:ext cx="235080" cy="3256200"/>
          </a:xfrm>
          <a:custGeom>
            <a:avLst/>
            <a:gdLst>
              <a:gd name="textAreaLeft" fmla="*/ 0 w 235080"/>
              <a:gd name="textAreaRight" fmla="*/ 84960 w 235080"/>
              <a:gd name="textAreaTop" fmla="*/ 84600 h 3256200"/>
              <a:gd name="textAreaBottom" fmla="*/ 3171600 h 325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2482920" y="51865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5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 rot="5400000">
            <a:off x="5653080" y="3789360"/>
            <a:ext cx="216000" cy="2520720"/>
          </a:xfrm>
          <a:custGeom>
            <a:avLst/>
            <a:gdLst>
              <a:gd name="textAreaLeft" fmla="*/ 0 w 216000"/>
              <a:gd name="textAreaRight" fmla="*/ 78120 w 21600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5565600" y="518652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4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 rot="5400000">
            <a:off x="3893040" y="2159640"/>
            <a:ext cx="304920" cy="5976720"/>
          </a:xfrm>
          <a:custGeom>
            <a:avLst/>
            <a:gdLst>
              <a:gd name="textAreaLeft" fmla="*/ 0 w 304920"/>
              <a:gd name="textAreaRight" fmla="*/ 110160 w 304920"/>
              <a:gd name="textAreaTop" fmla="*/ 155880 h 5976720"/>
              <a:gd name="textAreaBottom" fmla="*/ 5820840 h 59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867120" y="5356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9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3924360" y="5573880"/>
            <a:ext cx="489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A opět se dobře podívejte na exponen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1"/>
          <p:cNvSpPr/>
          <p:nvPr/>
        </p:nvSpPr>
        <p:spPr>
          <a:xfrm>
            <a:off x="2843280" y="1959120"/>
            <a:ext cx="57780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549760" y="1959120"/>
            <a:ext cx="57816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3"/>
          <p:cNvSpPr/>
          <p:nvPr/>
        </p:nvSpPr>
        <p:spPr>
          <a:xfrm>
            <a:off x="8256600" y="3848040"/>
            <a:ext cx="57780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2612880" y="3054240"/>
            <a:ext cx="14400" cy="5050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5"/>
          <p:cNvSpPr/>
          <p:nvPr/>
        </p:nvSpPr>
        <p:spPr>
          <a:xfrm>
            <a:off x="2612880" y="3040200"/>
            <a:ext cx="936720" cy="4460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6"/>
          <p:cNvSpPr/>
          <p:nvPr/>
        </p:nvSpPr>
        <p:spPr>
          <a:xfrm flipH="1">
            <a:off x="1663200" y="3040200"/>
            <a:ext cx="949320" cy="4460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7"/>
          <p:cNvSpPr/>
          <p:nvPr/>
        </p:nvSpPr>
        <p:spPr>
          <a:xfrm>
            <a:off x="5378400" y="3025800"/>
            <a:ext cx="201600" cy="5475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57320" y="133992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Mohli bychom klidně pokračovat, ale myslím, že už vám je všem jasné, jak to s násobením mocnin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542880" y="2428920"/>
                <a:ext cx="38498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20"/>
          <p:cNvSpPr/>
          <p:nvPr/>
        </p:nvSpPr>
        <p:spPr>
          <a:xfrm>
            <a:off x="870120" y="5229360"/>
            <a:ext cx="7461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Jak bychom tedy mohli naše zjištění zobecn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1"/>
          <p:cNvSpPr/>
          <p:nvPr/>
        </p:nvSpPr>
        <p:spPr>
          <a:xfrm>
            <a:off x="1220760" y="2604960"/>
            <a:ext cx="57780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2"/>
          <p:cNvSpPr/>
          <p:nvPr/>
        </p:nvSpPr>
        <p:spPr>
          <a:xfrm>
            <a:off x="2805120" y="2590920"/>
            <a:ext cx="57780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3"/>
          <p:cNvSpPr/>
          <p:nvPr/>
        </p:nvSpPr>
        <p:spPr>
          <a:xfrm>
            <a:off x="5051520" y="2590920"/>
            <a:ext cx="57780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7"/>
              <p:cNvSpPr txBox="1"/>
              <p:nvPr/>
            </p:nvSpPr>
            <p:spPr>
              <a:xfrm>
                <a:off x="4394160" y="2432160"/>
                <a:ext cx="22748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8"/>
              <p:cNvSpPr txBox="1"/>
              <p:nvPr/>
            </p:nvSpPr>
            <p:spPr>
              <a:xfrm>
                <a:off x="6667560" y="2432160"/>
                <a:ext cx="20127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9"/>
              <p:cNvSpPr txBox="1"/>
              <p:nvPr/>
            </p:nvSpPr>
            <p:spPr>
              <a:xfrm>
                <a:off x="539640" y="3825720"/>
                <a:ext cx="384984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Oval 30"/>
          <p:cNvSpPr/>
          <p:nvPr/>
        </p:nvSpPr>
        <p:spPr>
          <a:xfrm>
            <a:off x="1203480" y="3987720"/>
            <a:ext cx="57780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31"/>
          <p:cNvSpPr/>
          <p:nvPr/>
        </p:nvSpPr>
        <p:spPr>
          <a:xfrm>
            <a:off x="2844720" y="3987720"/>
            <a:ext cx="57780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2"/>
          <p:cNvSpPr/>
          <p:nvPr/>
        </p:nvSpPr>
        <p:spPr>
          <a:xfrm>
            <a:off x="5048280" y="3987720"/>
            <a:ext cx="57780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33"/>
              <p:cNvSpPr txBox="1"/>
              <p:nvPr/>
            </p:nvSpPr>
            <p:spPr>
              <a:xfrm>
                <a:off x="4390920" y="3828960"/>
                <a:ext cx="227484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4"/>
              <p:cNvSpPr txBox="1"/>
              <p:nvPr/>
            </p:nvSpPr>
            <p:spPr>
              <a:xfrm>
                <a:off x="6620040" y="3828960"/>
                <a:ext cx="21016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57320" y="162720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Gothic"/>
              </a:rPr>
              <a:t>Mocniny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se stejným základem</a:t>
            </a:r>
            <a:r>
              <a:rPr b="1" lang="en-US" sz="3200" spc="-1" strike="noStrike">
                <a:solidFill>
                  <a:srgbClr val="333399"/>
                </a:solidFill>
                <a:latin typeface="Century Gothic"/>
              </a:rPr>
              <a:t> vynásobíme tak, že základ umocníme součtem exponent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1201680" y="2781360"/>
                <a:ext cx="41623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7"/>
              <p:cNvSpPr txBox="1"/>
              <p:nvPr/>
            </p:nvSpPr>
            <p:spPr>
              <a:xfrm>
                <a:off x="5435640" y="2781360"/>
                <a:ext cx="23907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AutoShape 18"/>
          <p:cNvSpPr/>
          <p:nvPr/>
        </p:nvSpPr>
        <p:spPr>
          <a:xfrm>
            <a:off x="5075280" y="4365720"/>
            <a:ext cx="3744720" cy="1942920"/>
          </a:xfrm>
          <a:prstGeom prst="cloudCallout">
            <a:avLst>
              <a:gd name="adj1" fmla="val -78273"/>
              <a:gd name="adj2" fmla="val -60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šimněte si velice důležité podmínky, kterou js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definici barevně zvýraznil. Násobit takto můžeme jen mocniny se stejným základem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Dejme si pár příklad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042920" y="1557360"/>
                <a:ext cx="1425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1058760" y="1989000"/>
                <a:ext cx="15210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1069920" y="2421000"/>
                <a:ext cx="1327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3"/>
              <p:cNvSpPr txBox="1"/>
              <p:nvPr/>
            </p:nvSpPr>
            <p:spPr>
              <a:xfrm>
                <a:off x="1092240" y="2952720"/>
                <a:ext cx="13921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4"/>
              <p:cNvSpPr txBox="1"/>
              <p:nvPr/>
            </p:nvSpPr>
            <p:spPr>
              <a:xfrm>
                <a:off x="1085760" y="3443400"/>
                <a:ext cx="1230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5"/>
              <p:cNvSpPr txBox="1"/>
              <p:nvPr/>
            </p:nvSpPr>
            <p:spPr>
              <a:xfrm>
                <a:off x="1023840" y="3890880"/>
                <a:ext cx="2395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7"/>
              <p:cNvSpPr txBox="1"/>
              <p:nvPr/>
            </p:nvSpPr>
            <p:spPr>
              <a:xfrm>
                <a:off x="1066680" y="4437000"/>
                <a:ext cx="2006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7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0,7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8"/>
              <p:cNvSpPr txBox="1"/>
              <p:nvPr/>
            </p:nvSpPr>
            <p:spPr>
              <a:xfrm>
                <a:off x="969840" y="4929120"/>
                <a:ext cx="22338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Dejme si pár příklad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1042920" y="1557360"/>
                <a:ext cx="1425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1058760" y="1989000"/>
                <a:ext cx="15210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1069920" y="2421000"/>
                <a:ext cx="1327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1092240" y="2952720"/>
                <a:ext cx="13921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8"/>
              <p:cNvSpPr txBox="1"/>
              <p:nvPr/>
            </p:nvSpPr>
            <p:spPr>
              <a:xfrm>
                <a:off x="1085760" y="3443400"/>
                <a:ext cx="1230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9"/>
              <p:cNvSpPr txBox="1"/>
              <p:nvPr/>
            </p:nvSpPr>
            <p:spPr>
              <a:xfrm>
                <a:off x="1023840" y="3890880"/>
                <a:ext cx="2395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0"/>
              <p:cNvSpPr txBox="1"/>
              <p:nvPr/>
            </p:nvSpPr>
            <p:spPr>
              <a:xfrm>
                <a:off x="1066680" y="4437000"/>
                <a:ext cx="2006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7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0,7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969840" y="4929120"/>
                <a:ext cx="22338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2"/>
              <p:cNvSpPr txBox="1"/>
              <p:nvPr/>
            </p:nvSpPr>
            <p:spPr>
              <a:xfrm>
                <a:off x="7805880" y="1555920"/>
                <a:ext cx="582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3"/>
              <p:cNvSpPr txBox="1"/>
              <p:nvPr/>
            </p:nvSpPr>
            <p:spPr>
              <a:xfrm>
                <a:off x="7813800" y="1987560"/>
                <a:ext cx="549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4"/>
              <p:cNvSpPr txBox="1"/>
              <p:nvPr/>
            </p:nvSpPr>
            <p:spPr>
              <a:xfrm>
                <a:off x="7797960" y="2419200"/>
                <a:ext cx="5508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5"/>
              <p:cNvSpPr txBox="1"/>
              <p:nvPr/>
            </p:nvSpPr>
            <p:spPr>
              <a:xfrm>
                <a:off x="7827840" y="2951280"/>
                <a:ext cx="486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6"/>
              <p:cNvSpPr txBox="1"/>
              <p:nvPr/>
            </p:nvSpPr>
            <p:spPr>
              <a:xfrm>
                <a:off x="7812000" y="3441600"/>
                <a:ext cx="486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7"/>
              <p:cNvSpPr txBox="1"/>
              <p:nvPr/>
            </p:nvSpPr>
            <p:spPr>
              <a:xfrm>
                <a:off x="7754760" y="3889440"/>
                <a:ext cx="970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8"/>
              <p:cNvSpPr txBox="1"/>
              <p:nvPr/>
            </p:nvSpPr>
            <p:spPr>
              <a:xfrm>
                <a:off x="7812000" y="4435560"/>
                <a:ext cx="906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9"/>
              <p:cNvSpPr txBox="1"/>
              <p:nvPr/>
            </p:nvSpPr>
            <p:spPr>
              <a:xfrm>
                <a:off x="7769160" y="4927680"/>
                <a:ext cx="9064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57320" y="155592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Při násobení mocnin se samozřejmě mohou objevovat i mocniny s koeficienty, ať už kladnými či zápornými. V takových případech pak postupujeme následo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9"/>
              <p:cNvSpPr txBox="1"/>
              <p:nvPr/>
            </p:nvSpPr>
            <p:spPr>
              <a:xfrm>
                <a:off x="1530360" y="4775040"/>
                <a:ext cx="38847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13"/>
          <p:cNvSpPr/>
          <p:nvPr/>
        </p:nvSpPr>
        <p:spPr>
          <a:xfrm>
            <a:off x="1057320" y="26510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1) Určíme znaménko výsled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4"/>
              <p:cNvSpPr txBox="1"/>
              <p:nvPr/>
            </p:nvSpPr>
            <p:spPr>
              <a:xfrm>
                <a:off x="5437080" y="5194440"/>
                <a:ext cx="588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AutoShape 15"/>
          <p:cNvSpPr/>
          <p:nvPr/>
        </p:nvSpPr>
        <p:spPr>
          <a:xfrm>
            <a:off x="5076720" y="3429000"/>
            <a:ext cx="2089080" cy="1368360"/>
          </a:xfrm>
          <a:prstGeom prst="cloudCallout">
            <a:avLst>
              <a:gd name="adj1" fmla="val -125074"/>
              <a:gd name="adj2" fmla="val 531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us a plus dává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057320" y="155592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Při násobení mocnin se samozřejmě mohou objevovat i mocniny s koeficienty, ať už kladnými či zápornými. V takových případech pak postupujeme následo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530360" y="4775040"/>
                <a:ext cx="38847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5"/>
          <p:cNvSpPr/>
          <p:nvPr/>
        </p:nvSpPr>
        <p:spPr>
          <a:xfrm>
            <a:off x="1057320" y="26510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1) Určíme znaménko výsled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5437080" y="5194440"/>
                <a:ext cx="588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AutoShape 7"/>
          <p:cNvSpPr/>
          <p:nvPr/>
        </p:nvSpPr>
        <p:spPr>
          <a:xfrm>
            <a:off x="5076720" y="3716280"/>
            <a:ext cx="1800360" cy="1152720"/>
          </a:xfrm>
          <a:prstGeom prst="cloudCallout">
            <a:avLst>
              <a:gd name="adj1" fmla="val -117106"/>
              <a:gd name="adj2" fmla="val 475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.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1057320" y="306720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2) Vynásobíme koeficienty (čísl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9"/>
              <p:cNvSpPr txBox="1"/>
              <p:nvPr/>
            </p:nvSpPr>
            <p:spPr>
              <a:xfrm>
                <a:off x="5934240" y="4897440"/>
                <a:ext cx="1000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057320" y="155592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Při násobení mocnin se samozřejmě mohou objevovat i mocniny s koeficienty, ať už kladnými či zápornými. V takových případech pak postupujeme následo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476360" y="4775040"/>
                <a:ext cx="38847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5"/>
          <p:cNvSpPr/>
          <p:nvPr/>
        </p:nvSpPr>
        <p:spPr>
          <a:xfrm>
            <a:off x="1057320" y="26510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1) Určíme znaménko výsled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5437080" y="5194440"/>
                <a:ext cx="588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AutoShape 7"/>
          <p:cNvSpPr/>
          <p:nvPr/>
        </p:nvSpPr>
        <p:spPr>
          <a:xfrm>
            <a:off x="5853240" y="4091040"/>
            <a:ext cx="1800000" cy="792000"/>
          </a:xfrm>
          <a:prstGeom prst="cloudCallout">
            <a:avLst>
              <a:gd name="adj1" fmla="val -112259"/>
              <a:gd name="adj2" fmla="val 592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+ 4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1057320" y="306720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2) Vynásobíme koeficienty (čísl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9"/>
              <p:cNvSpPr txBox="1"/>
              <p:nvPr/>
            </p:nvSpPr>
            <p:spPr>
              <a:xfrm>
                <a:off x="5934240" y="4897440"/>
                <a:ext cx="1000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Rectangle 10"/>
          <p:cNvSpPr/>
          <p:nvPr/>
        </p:nvSpPr>
        <p:spPr>
          <a:xfrm>
            <a:off x="1057320" y="348624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3) Sečteme exponenty (vynásobíme mocni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1"/>
              <p:cNvSpPr txBox="1"/>
              <p:nvPr/>
            </p:nvSpPr>
            <p:spPr>
              <a:xfrm>
                <a:off x="6713640" y="4754520"/>
                <a:ext cx="882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Dejme si opět pár příklad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042920" y="1592280"/>
                <a:ext cx="1425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1003320" y="1987560"/>
                <a:ext cx="179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987480" y="2460600"/>
                <a:ext cx="1928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006560" y="2925720"/>
                <a:ext cx="2341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977760" y="3427560"/>
                <a:ext cx="2298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882720" y="3906720"/>
                <a:ext cx="3041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971640" y="4502160"/>
                <a:ext cx="27194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7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7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"/>
              <p:cNvSpPr txBox="1"/>
              <p:nvPr/>
            </p:nvSpPr>
            <p:spPr>
              <a:xfrm>
                <a:off x="1031760" y="5025960"/>
                <a:ext cx="2460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Dejme si opět pár příklad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1042920" y="1592280"/>
                <a:ext cx="1425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5"/>
              <p:cNvSpPr txBox="1"/>
              <p:nvPr/>
            </p:nvSpPr>
            <p:spPr>
              <a:xfrm>
                <a:off x="1003320" y="1987560"/>
                <a:ext cx="179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987480" y="2460600"/>
                <a:ext cx="1928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1006560" y="2925720"/>
                <a:ext cx="2341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"/>
              <p:cNvSpPr txBox="1"/>
              <p:nvPr/>
            </p:nvSpPr>
            <p:spPr>
              <a:xfrm>
                <a:off x="977760" y="3427560"/>
                <a:ext cx="2298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9"/>
              <p:cNvSpPr txBox="1"/>
              <p:nvPr/>
            </p:nvSpPr>
            <p:spPr>
              <a:xfrm>
                <a:off x="882720" y="3906720"/>
                <a:ext cx="3041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0"/>
              <p:cNvSpPr txBox="1"/>
              <p:nvPr/>
            </p:nvSpPr>
            <p:spPr>
              <a:xfrm>
                <a:off x="971640" y="4502160"/>
                <a:ext cx="27194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7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7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"/>
              <p:cNvSpPr txBox="1"/>
              <p:nvPr/>
            </p:nvSpPr>
            <p:spPr>
              <a:xfrm>
                <a:off x="1031760" y="5025960"/>
                <a:ext cx="2460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2"/>
              <p:cNvSpPr txBox="1"/>
              <p:nvPr/>
            </p:nvSpPr>
            <p:spPr>
              <a:xfrm>
                <a:off x="7437600" y="1600200"/>
                <a:ext cx="615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3"/>
              <p:cNvSpPr txBox="1"/>
              <p:nvPr/>
            </p:nvSpPr>
            <p:spPr>
              <a:xfrm>
                <a:off x="7408800" y="1995480"/>
                <a:ext cx="1008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4"/>
              <p:cNvSpPr txBox="1"/>
              <p:nvPr/>
            </p:nvSpPr>
            <p:spPr>
              <a:xfrm>
                <a:off x="7402680" y="2468520"/>
                <a:ext cx="1144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5"/>
              <p:cNvSpPr txBox="1"/>
              <p:nvPr/>
            </p:nvSpPr>
            <p:spPr>
              <a:xfrm>
                <a:off x="7394400" y="2979720"/>
                <a:ext cx="1186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6"/>
              <p:cNvSpPr txBox="1"/>
              <p:nvPr/>
            </p:nvSpPr>
            <p:spPr>
              <a:xfrm>
                <a:off x="7410600" y="3451320"/>
                <a:ext cx="9381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17"/>
              <p:cNvSpPr txBox="1"/>
              <p:nvPr/>
            </p:nvSpPr>
            <p:spPr>
              <a:xfrm>
                <a:off x="7439040" y="3914640"/>
                <a:ext cx="1001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6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18"/>
              <p:cNvSpPr txBox="1"/>
              <p:nvPr/>
            </p:nvSpPr>
            <p:spPr>
              <a:xfrm>
                <a:off x="7372440" y="4510080"/>
                <a:ext cx="1520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19"/>
              <p:cNvSpPr txBox="1"/>
              <p:nvPr/>
            </p:nvSpPr>
            <p:spPr>
              <a:xfrm>
                <a:off x="7407360" y="5033880"/>
                <a:ext cx="11970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Druhá 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130400" y="1989000"/>
                <a:ext cx="2504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Rectangle 12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Součin dvou sobě rovných čísel (činitelů) se nazývá druhá mocn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5"/>
              <p:cNvSpPr txBox="1"/>
              <p:nvPr/>
            </p:nvSpPr>
            <p:spPr>
              <a:xfrm>
                <a:off x="2124000" y="2905200"/>
                <a:ext cx="47293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16000" y="4106880"/>
                <a:ext cx="361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7"/>
              <p:cNvSpPr txBox="1"/>
              <p:nvPr/>
            </p:nvSpPr>
            <p:spPr>
              <a:xfrm>
                <a:off x="2268360" y="5135400"/>
                <a:ext cx="4119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057320" y="11955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Stejně jako při násobení čísel můžeme najednou násobit i libovolný počet moc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324000" y="4811760"/>
                <a:ext cx="6699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Rectangle 5"/>
          <p:cNvSpPr/>
          <p:nvPr/>
        </p:nvSpPr>
        <p:spPr>
          <a:xfrm>
            <a:off x="1057320" y="220500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1) Určíme znaménko výsled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6"/>
              <p:cNvSpPr txBox="1"/>
              <p:nvPr/>
            </p:nvSpPr>
            <p:spPr>
              <a:xfrm>
                <a:off x="6951600" y="5172120"/>
                <a:ext cx="503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7"/>
          <p:cNvSpPr/>
          <p:nvPr/>
        </p:nvSpPr>
        <p:spPr>
          <a:xfrm>
            <a:off x="6372360" y="2781360"/>
            <a:ext cx="2305080" cy="1368360"/>
          </a:xfrm>
          <a:prstGeom prst="cloudCallout">
            <a:avLst>
              <a:gd name="adj1" fmla="val -132092"/>
              <a:gd name="adj2" fmla="val 82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us, minus, plus a minus dává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057320" y="11955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Stejně jako při násobení čísel můžeme najednou násobit i libovolný počet moc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324000" y="4811760"/>
                <a:ext cx="6699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5"/>
          <p:cNvSpPr/>
          <p:nvPr/>
        </p:nvSpPr>
        <p:spPr>
          <a:xfrm>
            <a:off x="1057320" y="220500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1) Určíme znaménko výsled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6951600" y="5172120"/>
                <a:ext cx="503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AutoShape 7"/>
          <p:cNvSpPr/>
          <p:nvPr/>
        </p:nvSpPr>
        <p:spPr>
          <a:xfrm>
            <a:off x="6227640" y="2997360"/>
            <a:ext cx="2449800" cy="1368360"/>
          </a:xfrm>
          <a:prstGeom prst="cloudCallout">
            <a:avLst>
              <a:gd name="adj1" fmla="val -120125"/>
              <a:gd name="adj2" fmla="val 70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. 3 . 7 . 1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071720" y="269388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2) Vynásobíme koeficienty (čísl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7378560" y="4923000"/>
                <a:ext cx="851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1057320" y="11955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Stejně jako při násobení čísel můžeme najednou násobit i libovolný počet moc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324000" y="4811760"/>
                <a:ext cx="66992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Rectangle 5"/>
          <p:cNvSpPr/>
          <p:nvPr/>
        </p:nvSpPr>
        <p:spPr>
          <a:xfrm>
            <a:off x="1057320" y="220500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1) Určíme znaménko výsled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6951600" y="5172120"/>
                <a:ext cx="503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AutoShape 7"/>
          <p:cNvSpPr/>
          <p:nvPr/>
        </p:nvSpPr>
        <p:spPr>
          <a:xfrm>
            <a:off x="6084720" y="3774960"/>
            <a:ext cx="2808360" cy="1081080"/>
          </a:xfrm>
          <a:prstGeom prst="cloudCallout">
            <a:avLst>
              <a:gd name="adj1" fmla="val -80592"/>
              <a:gd name="adj2" fmla="val 43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+ 1 + 4 + 2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1071720" y="269388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2) Vynásobíme koeficienty (čísl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7378560" y="4923000"/>
                <a:ext cx="851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10"/>
          <p:cNvSpPr/>
          <p:nvPr/>
        </p:nvSpPr>
        <p:spPr>
          <a:xfrm>
            <a:off x="1085760" y="31989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Century Gothic"/>
              </a:rPr>
              <a:t>3) Sečteme exponenty (vynásobíme mocni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8070840" y="4811760"/>
                <a:ext cx="9507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Dejme si opět pár příklad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860400" y="1652760"/>
                <a:ext cx="1728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5"/>
              <p:cNvSpPr txBox="1"/>
              <p:nvPr/>
            </p:nvSpPr>
            <p:spPr>
              <a:xfrm>
                <a:off x="830160" y="2054160"/>
                <a:ext cx="2306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868320" y="2525760"/>
                <a:ext cx="2613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846000" y="2973240"/>
                <a:ext cx="3538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8"/>
              <p:cNvSpPr txBox="1"/>
              <p:nvPr/>
            </p:nvSpPr>
            <p:spPr>
              <a:xfrm>
                <a:off x="865080" y="3481560"/>
                <a:ext cx="4157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826920" y="3979800"/>
                <a:ext cx="37497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,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10"/>
              <p:cNvSpPr txBox="1"/>
              <p:nvPr/>
            </p:nvSpPr>
            <p:spPr>
              <a:xfrm>
                <a:off x="947880" y="4559400"/>
                <a:ext cx="3654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,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1"/>
              <p:cNvSpPr txBox="1"/>
              <p:nvPr/>
            </p:nvSpPr>
            <p:spPr>
              <a:xfrm>
                <a:off x="846000" y="5056200"/>
                <a:ext cx="3202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1057320" y="105084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Dejme si opět pár příklad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4"/>
              <p:cNvSpPr txBox="1"/>
              <p:nvPr/>
            </p:nvSpPr>
            <p:spPr>
              <a:xfrm>
                <a:off x="860400" y="1652760"/>
                <a:ext cx="1728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"/>
              <p:cNvSpPr txBox="1"/>
              <p:nvPr/>
            </p:nvSpPr>
            <p:spPr>
              <a:xfrm>
                <a:off x="830160" y="2054160"/>
                <a:ext cx="23068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868320" y="2525760"/>
                <a:ext cx="2613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846000" y="2973240"/>
                <a:ext cx="3538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865080" y="3481560"/>
                <a:ext cx="4157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826920" y="3979800"/>
                <a:ext cx="37497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,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947880" y="4559400"/>
                <a:ext cx="3654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2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,2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11"/>
              <p:cNvSpPr txBox="1"/>
              <p:nvPr/>
            </p:nvSpPr>
            <p:spPr>
              <a:xfrm>
                <a:off x="846000" y="5056200"/>
                <a:ext cx="32022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2"/>
              <p:cNvSpPr txBox="1"/>
              <p:nvPr/>
            </p:nvSpPr>
            <p:spPr>
              <a:xfrm>
                <a:off x="7451640" y="1657440"/>
                <a:ext cx="6922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3"/>
              <p:cNvSpPr txBox="1"/>
              <p:nvPr/>
            </p:nvSpPr>
            <p:spPr>
              <a:xfrm>
                <a:off x="7416720" y="2058840"/>
                <a:ext cx="900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4"/>
              <p:cNvSpPr txBox="1"/>
              <p:nvPr/>
            </p:nvSpPr>
            <p:spPr>
              <a:xfrm>
                <a:off x="7459560" y="2530440"/>
                <a:ext cx="784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5"/>
              <p:cNvSpPr txBox="1"/>
              <p:nvPr/>
            </p:nvSpPr>
            <p:spPr>
              <a:xfrm>
                <a:off x="7466040" y="3006720"/>
                <a:ext cx="941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16"/>
              <p:cNvSpPr txBox="1"/>
              <p:nvPr/>
            </p:nvSpPr>
            <p:spPr>
              <a:xfrm>
                <a:off x="7451640" y="3514680"/>
                <a:ext cx="8254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7"/>
              <p:cNvSpPr txBox="1"/>
              <p:nvPr/>
            </p:nvSpPr>
            <p:spPr>
              <a:xfrm>
                <a:off x="7451640" y="3984480"/>
                <a:ext cx="930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18"/>
              <p:cNvSpPr txBox="1"/>
              <p:nvPr/>
            </p:nvSpPr>
            <p:spPr>
              <a:xfrm>
                <a:off x="7416720" y="4564080"/>
                <a:ext cx="1403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19"/>
              <p:cNvSpPr txBox="1"/>
              <p:nvPr/>
            </p:nvSpPr>
            <p:spPr>
              <a:xfrm>
                <a:off x="7424640" y="5103720"/>
                <a:ext cx="963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1432080" y="1836360"/>
            <a:ext cx="70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[cit. 2010–13–07]. Dostupné pod licencí Creative Commons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WWW: &lt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ker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lipar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lackboard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m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www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clker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om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clipar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-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notepad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1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m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1403280" y="91548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užité obráz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Třetí 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1116000" y="1916280"/>
                <a:ext cx="317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Součin tří sobě rovných čísel (činitelů) se nazývá třetí mocn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971640" y="2805120"/>
                <a:ext cx="6230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1119240" y="4006800"/>
                <a:ext cx="46767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1116000" y="5035680"/>
                <a:ext cx="5343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entury Gothic"/>
              </a:rPr>
              <a:t>Opakování: n-tá 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1116000" y="1916280"/>
                <a:ext cx="33847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Century Gothic"/>
              </a:rPr>
              <a:t>Součin </a:t>
            </a:r>
            <a:r>
              <a:rPr b="1" i="1" lang="cs-CZ" sz="2400" spc="-1" strike="noStrike">
                <a:solidFill>
                  <a:srgbClr val="333399"/>
                </a:solidFill>
                <a:latin typeface="Century Gothic"/>
              </a:rPr>
              <a:t>n</a:t>
            </a:r>
            <a:r>
              <a:rPr b="1" lang="cs-CZ" sz="2400" spc="-1" strike="noStrike">
                <a:solidFill>
                  <a:srgbClr val="333399"/>
                </a:solidFill>
                <a:latin typeface="Century Gothic"/>
              </a:rPr>
              <a:t> sobě rovných čísel (činitelů) se nazývá n-tá mocn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3092400" y="2708280"/>
                <a:ext cx="572760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1042920" y="4076640"/>
                <a:ext cx="4467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3643200" y="5027760"/>
                <a:ext cx="496116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AutoShape 8"/>
          <p:cNvSpPr/>
          <p:nvPr/>
        </p:nvSpPr>
        <p:spPr>
          <a:xfrm rot="5400000">
            <a:off x="2143800" y="1521360"/>
            <a:ext cx="216000" cy="2303280"/>
          </a:xfrm>
          <a:custGeom>
            <a:avLst/>
            <a:gdLst>
              <a:gd name="textAreaLeft" fmla="*/ 0 w 216000"/>
              <a:gd name="textAreaRight" fmla="*/ 78120 w 216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792440" y="27957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n činit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 rot="5400000">
            <a:off x="4938480" y="1636560"/>
            <a:ext cx="274680" cy="3888000"/>
          </a:xfrm>
          <a:custGeom>
            <a:avLst/>
            <a:gdLst>
              <a:gd name="textAreaLeft" fmla="*/ 0 w 274680"/>
              <a:gd name="textAreaRight" fmla="*/ 99000 w 27468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614840" y="37148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n činit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2"/>
          <p:cNvSpPr/>
          <p:nvPr/>
        </p:nvSpPr>
        <p:spPr>
          <a:xfrm rot="5400000">
            <a:off x="2460960" y="3322080"/>
            <a:ext cx="219240" cy="3052440"/>
          </a:xfrm>
          <a:custGeom>
            <a:avLst/>
            <a:gdLst>
              <a:gd name="textAreaLeft" fmla="*/ 0 w 219240"/>
              <a:gd name="textAreaRight" fmla="*/ 79200 w 219240"/>
              <a:gd name="textAreaTop" fmla="*/ 79560 h 3052440"/>
              <a:gd name="textAreaBottom" fmla="*/ 2972880 h 30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81160" y="496872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n činit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 rot="5400000">
            <a:off x="5206320" y="4091760"/>
            <a:ext cx="288720" cy="3456000"/>
          </a:xfrm>
          <a:custGeom>
            <a:avLst/>
            <a:gdLst>
              <a:gd name="textAreaLeft" fmla="*/ 0 w 288720"/>
              <a:gd name="textAreaRight" fmla="*/ 104040 w 28872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859280" y="59612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n činit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jen pro úp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406600" y="2744640"/>
                <a:ext cx="1444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Rectangle 4"/>
          <p:cNvSpPr/>
          <p:nvPr/>
        </p:nvSpPr>
        <p:spPr>
          <a:xfrm>
            <a:off x="1057320" y="148428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I s první mocninou se budeme setkávat, byť se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o ní prakticky nemluví a ani se jako mocnina nezapisuje. Pro následující výpočty však i o tom musíme vědět.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4925880" y="3327480"/>
                <a:ext cx="252576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2109960" y="4365720"/>
                <a:ext cx="20304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4935600" y="4941720"/>
                <a:ext cx="2300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7" name="AutoShape 8"/>
          <p:cNvSpPr/>
          <p:nvPr/>
        </p:nvSpPr>
        <p:spPr>
          <a:xfrm rot="5400000">
            <a:off x="2550960" y="3166920"/>
            <a:ext cx="173160" cy="519120"/>
          </a:xfrm>
          <a:custGeom>
            <a:avLst/>
            <a:gdLst>
              <a:gd name="textAreaLeft" fmla="*/ 0 w 173160"/>
              <a:gd name="textAreaRight" fmla="*/ 62640 w 173160"/>
              <a:gd name="textAreaTop" fmla="*/ 13320 h 519120"/>
              <a:gd name="textAreaBottom" fmla="*/ 50580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19400" y="35560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1 čin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 rot="5400000">
            <a:off x="5265360" y="3817800"/>
            <a:ext cx="158760" cy="647640"/>
          </a:xfrm>
          <a:custGeom>
            <a:avLst/>
            <a:gdLst>
              <a:gd name="textAreaLeft" fmla="*/ 0 w 158760"/>
              <a:gd name="textAreaRight" fmla="*/ 57240 w 1587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4933800" y="42908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1 čin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 rot="5400000">
            <a:off x="2396880" y="4687560"/>
            <a:ext cx="158760" cy="749520"/>
          </a:xfrm>
          <a:custGeom>
            <a:avLst/>
            <a:gdLst>
              <a:gd name="textAreaLeft" fmla="*/ 0 w 158760"/>
              <a:gd name="textAreaRight" fmla="*/ 57240 w 158760"/>
              <a:gd name="textAreaTop" fmla="*/ 19440 h 749520"/>
              <a:gd name="textAreaBottom" fmla="*/ 730080 h 74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030400" y="51991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1 čin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 rot="5400000">
            <a:off x="5279760" y="5256360"/>
            <a:ext cx="144360" cy="811080"/>
          </a:xfrm>
          <a:custGeom>
            <a:avLst/>
            <a:gdLst>
              <a:gd name="textAreaLeft" fmla="*/ 0 w 144360"/>
              <a:gd name="textAreaRight" fmla="*/ 52200 w 144360"/>
              <a:gd name="textAreaTop" fmla="*/ 20880 h 811080"/>
              <a:gd name="textAreaBottom" fmla="*/ 790200 h 81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932360" y="5805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1 čini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Sčítání moc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Sčítat můžeme jen mocniny se stejným základem i exponen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1042920" y="206064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 zopak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9"/>
              <p:cNvSpPr txBox="1"/>
              <p:nvPr/>
            </p:nvSpPr>
            <p:spPr>
              <a:xfrm>
                <a:off x="3060720" y="1989000"/>
                <a:ext cx="309564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AutoShape 21"/>
          <p:cNvSpPr/>
          <p:nvPr/>
        </p:nvSpPr>
        <p:spPr>
          <a:xfrm>
            <a:off x="468360" y="4508640"/>
            <a:ext cx="2160720" cy="1296720"/>
          </a:xfrm>
          <a:prstGeom prst="cloudCallout">
            <a:avLst>
              <a:gd name="adj1" fmla="val 86296"/>
              <a:gd name="adj2" fmla="val -51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klad mocn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2"/>
          <p:cNvSpPr/>
          <p:nvPr/>
        </p:nvSpPr>
        <p:spPr>
          <a:xfrm>
            <a:off x="6588000" y="3068640"/>
            <a:ext cx="2160720" cy="1297080"/>
          </a:xfrm>
          <a:prstGeom prst="cloudCallout">
            <a:avLst>
              <a:gd name="adj1" fmla="val -92175"/>
              <a:gd name="adj2" fmla="val -256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bol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cn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Sčítání moc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Sčítat můžeme jen mocniny se stejným základem i exponen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1116000" y="1917720"/>
                <a:ext cx="2519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3708360" y="1919160"/>
                <a:ext cx="29815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2"/>
              <p:cNvSpPr txBox="1"/>
              <p:nvPr/>
            </p:nvSpPr>
            <p:spPr>
              <a:xfrm>
                <a:off x="1116000" y="2692440"/>
                <a:ext cx="3187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4441680" y="2693880"/>
                <a:ext cx="11304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7"/>
              <p:cNvSpPr txBox="1"/>
              <p:nvPr/>
            </p:nvSpPr>
            <p:spPr>
              <a:xfrm>
                <a:off x="1116000" y="3541680"/>
                <a:ext cx="43704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8"/>
              <p:cNvSpPr txBox="1"/>
              <p:nvPr/>
            </p:nvSpPr>
            <p:spPr>
              <a:xfrm>
                <a:off x="5538960" y="3543480"/>
                <a:ext cx="14382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4"/>
              <p:cNvSpPr txBox="1"/>
              <p:nvPr/>
            </p:nvSpPr>
            <p:spPr>
              <a:xfrm>
                <a:off x="1116000" y="4394160"/>
                <a:ext cx="2519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6"/>
              <p:cNvSpPr txBox="1"/>
              <p:nvPr/>
            </p:nvSpPr>
            <p:spPr>
              <a:xfrm>
                <a:off x="1143000" y="5170320"/>
                <a:ext cx="25192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 Box 28"/>
          <p:cNvSpPr/>
          <p:nvPr/>
        </p:nvSpPr>
        <p:spPr>
          <a:xfrm>
            <a:off x="3564000" y="471168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Nelze sčítat, protože není stejný zákla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3564000" y="5472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Nelze sčítat, protože není stejný expon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95200" y="3803760"/>
            <a:ext cx="8920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6588000" y="2421000"/>
            <a:ext cx="2160720" cy="1297080"/>
          </a:xfrm>
          <a:prstGeom prst="cloudCallout">
            <a:avLst>
              <a:gd name="adj1" fmla="val -122444"/>
              <a:gd name="adj2" fmla="val 545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čítat lze najednou libovolný počet mocn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6516720" y="3141720"/>
            <a:ext cx="2160720" cy="1297080"/>
          </a:xfrm>
          <a:prstGeom prst="cloudCallout">
            <a:avLst>
              <a:gd name="adj1" fmla="val -92250"/>
              <a:gd name="adj2" fmla="val -399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eficienty sečteme, zákl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exponent opíš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Odčítání mocn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Odčítat můžeme jen mocniny se stejným základem i exponen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130400" y="1919160"/>
                <a:ext cx="31669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4427640" y="1919160"/>
                <a:ext cx="11300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114560" y="2692440"/>
                <a:ext cx="2827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4040280" y="2693880"/>
                <a:ext cx="22604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1144440" y="3500280"/>
                <a:ext cx="393876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5103720" y="3502080"/>
                <a:ext cx="3843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1116000" y="4394160"/>
                <a:ext cx="2519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1"/>
              <p:cNvSpPr txBox="1"/>
              <p:nvPr/>
            </p:nvSpPr>
            <p:spPr>
              <a:xfrm>
                <a:off x="1143000" y="5170320"/>
                <a:ext cx="251928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Text Box 12"/>
          <p:cNvSpPr/>
          <p:nvPr/>
        </p:nvSpPr>
        <p:spPr>
          <a:xfrm>
            <a:off x="3564000" y="47116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Nelze odčítat, protože není stejný zákla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564000" y="547200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Nelze odčítat, protože není stejný expon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295200" y="3803760"/>
            <a:ext cx="8920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5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6659640" y="1989000"/>
            <a:ext cx="2160360" cy="1297080"/>
          </a:xfrm>
          <a:prstGeom prst="cloudCallout">
            <a:avLst>
              <a:gd name="adj1" fmla="val -71305"/>
              <a:gd name="adj2" fmla="val 74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čítat lze mocniny, podobně jako čísla, vždy jen po dv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6516720" y="3716280"/>
            <a:ext cx="2160720" cy="1297080"/>
          </a:xfrm>
          <a:prstGeom prst="cloudCallout">
            <a:avLst>
              <a:gd name="adj1" fmla="val -91587"/>
              <a:gd name="adj2" fmla="val -664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eficienty odečteme, základ a exponent opíš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ěta o násobení moc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Pokusíme se větu (vzorec) opět samozřejmě sami odvodit. Tak jdeme na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181240" y="1801800"/>
                <a:ext cx="496872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9"/>
              <p:cNvSpPr txBox="1"/>
              <p:nvPr/>
            </p:nvSpPr>
            <p:spPr>
              <a:xfrm>
                <a:off x="1892160" y="3313080"/>
                <a:ext cx="13543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0"/>
              <p:cNvSpPr txBox="1"/>
              <p:nvPr/>
            </p:nvSpPr>
            <p:spPr>
              <a:xfrm>
                <a:off x="4297320" y="3313080"/>
                <a:ext cx="21193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21"/>
          <p:cNvSpPr/>
          <p:nvPr/>
        </p:nvSpPr>
        <p:spPr>
          <a:xfrm flipH="1">
            <a:off x="2396880" y="3040200"/>
            <a:ext cx="215640" cy="3585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2612880" y="3040200"/>
            <a:ext cx="216000" cy="3585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4728960" y="3025800"/>
            <a:ext cx="649080" cy="358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5378400" y="3025800"/>
            <a:ext cx="647640" cy="358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5378400" y="3025800"/>
            <a:ext cx="0" cy="358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6"/>
              <p:cNvSpPr txBox="1"/>
              <p:nvPr/>
            </p:nvSpPr>
            <p:spPr>
              <a:xfrm>
                <a:off x="420840" y="4122720"/>
                <a:ext cx="6972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0"/>
              <p:cNvSpPr txBox="1"/>
              <p:nvPr/>
            </p:nvSpPr>
            <p:spPr>
              <a:xfrm>
                <a:off x="7469280" y="3773520"/>
                <a:ext cx="13078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AutoShape 31"/>
          <p:cNvSpPr/>
          <p:nvPr/>
        </p:nvSpPr>
        <p:spPr>
          <a:xfrm rot="5400000">
            <a:off x="2136600" y="4244760"/>
            <a:ext cx="245880" cy="1744560"/>
          </a:xfrm>
          <a:custGeom>
            <a:avLst/>
            <a:gdLst>
              <a:gd name="textAreaLeft" fmla="*/ 0 w 245880"/>
              <a:gd name="textAreaRight" fmla="*/ 88920 w 245880"/>
              <a:gd name="textAreaTop" fmla="*/ 45360 h 1744560"/>
              <a:gd name="textAreaBottom" fmla="*/ 1699200 h 17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2050920" y="523872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2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3"/>
          <p:cNvSpPr/>
          <p:nvPr/>
        </p:nvSpPr>
        <p:spPr>
          <a:xfrm rot="5400000">
            <a:off x="4880520" y="3677400"/>
            <a:ext cx="245880" cy="2879640"/>
          </a:xfrm>
          <a:custGeom>
            <a:avLst/>
            <a:gdLst>
              <a:gd name="textAreaLeft" fmla="*/ 0 w 245880"/>
              <a:gd name="textAreaRight" fmla="*/ 88920 w 2458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4802040" y="523872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3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5"/>
          <p:cNvSpPr/>
          <p:nvPr/>
        </p:nvSpPr>
        <p:spPr>
          <a:xfrm rot="5400000">
            <a:off x="3764160" y="2634120"/>
            <a:ext cx="317520" cy="5040360"/>
          </a:xfrm>
          <a:custGeom>
            <a:avLst/>
            <a:gdLst>
              <a:gd name="textAreaLeft" fmla="*/ 0 w 317520"/>
              <a:gd name="textAreaRight" fmla="*/ 114480 w 31752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3706920" y="53848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5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8"/>
          <p:cNvSpPr/>
          <p:nvPr/>
        </p:nvSpPr>
        <p:spPr>
          <a:xfrm>
            <a:off x="855720" y="5502240"/>
            <a:ext cx="784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Zatím se dobře podívejte na exponenty a půjdeme odvozovat dá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9"/>
          <p:cNvSpPr/>
          <p:nvPr/>
        </p:nvSpPr>
        <p:spPr>
          <a:xfrm>
            <a:off x="2843280" y="1959120"/>
            <a:ext cx="57780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1"/>
          <p:cNvSpPr/>
          <p:nvPr/>
        </p:nvSpPr>
        <p:spPr>
          <a:xfrm>
            <a:off x="5549760" y="1959120"/>
            <a:ext cx="578160" cy="57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2"/>
          <p:cNvSpPr/>
          <p:nvPr/>
        </p:nvSpPr>
        <p:spPr>
          <a:xfrm>
            <a:off x="8140680" y="3930480"/>
            <a:ext cx="577800" cy="57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11-09T13:28:16Z</dcterms:modified>
  <cp:revision>187</cp:revision>
  <dc:subject/>
  <dc:title>Mocniny - věty o mocninách</dc:title>
</cp:coreProperties>
</file>