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0E3-F577-4976-AA4C-E3383E91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696-E265-4D69-8AA5-DF25CC9D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ABA-3474-4535-9EFC-C47B56BD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912-0D62-4948-9D6A-56C50C0F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23E7-EF8E-489C-BCCD-8CF68903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6AA4-1A6F-4EBE-8FD0-1563F2D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A1CB-85FB-4D7E-B337-E15F972F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9231-75E9-48C9-A665-4CFA2A48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F16C-0C55-4CEC-9BA4-DDAE45F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D518-14E9-4D67-8EE5-EC8D89F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1B2-0D82-41B8-96C9-2A3B225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67E-0A45-4223-808B-6EE9275F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D8C4-D45F-4EBC-A51B-E197A238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E1CE-C123-4C96-823E-C1C0E192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A987-AD85-437A-83F4-A479E62D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AC8C-DF83-4CD2-B919-BAE96C7D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1D81-089C-4F61-AE64-388CDAEB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991-94A2-4099-BF9B-8F4E017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38F-A70C-458A-8819-7C1A0C59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291-7EA4-48AB-AC62-6207F5B6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287-F712-4C62-882C-FED3FAE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8B1-393E-484F-BE97-A5D100A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F62-2466-4788-9A45-97429BF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94C-9BAD-4F40-AA88-115723AF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E29F-E794-4FD4-A1CD-9D9B572E9197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108-72B7-4028-854A-1AF7BB7ADA41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ocniny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84360" y="3789000"/>
            <a:ext cx="4896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Druhá mocnin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Napiš ve tvaru součinu a 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07172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07172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071720" y="22780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07172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07172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107316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1071720" y="40053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21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1071720" y="44370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107172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071720" y="530208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1071720" y="5734080"/>
            <a:ext cx="2577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9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3492360" y="1413000"/>
            <a:ext cx="135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.2.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3492360" y="184464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.7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3492360" y="227808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.5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3492360" y="270972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.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3492360" y="314172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.2.2.2.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349416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5.15.1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3492360" y="400536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21.421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2"/>
          <p:cNvSpPr/>
          <p:nvPr/>
        </p:nvSpPr>
        <p:spPr>
          <a:xfrm>
            <a:off x="3492360" y="443700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.3.2.2.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3492360" y="486900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.5.5.7.7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3492360" y="5302080"/>
            <a:ext cx="257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.3.2.2.2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3492360" y="5734080"/>
            <a:ext cx="273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.2.2.2.2.5.5.5.9.9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434340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4154400" y="184464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4587840" y="227664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6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4154400" y="270828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80384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4875120" y="357336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3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4875120" y="400536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772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3"/>
          <p:cNvSpPr/>
          <p:nvPr/>
        </p:nvSpPr>
        <p:spPr>
          <a:xfrm>
            <a:off x="4803840" y="44370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9.8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394240" y="443700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480384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25.49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595476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6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5307120" y="5300640"/>
            <a:ext cx="1282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9.8.2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6315120" y="5300640"/>
            <a:ext cx="1282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2.2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7251840" y="5300640"/>
            <a:ext cx="993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5970600" y="573408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2.125.81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7524720" y="5734080"/>
            <a:ext cx="129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24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Opakování - souč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2117880" y="1917720"/>
                <a:ext cx="33051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8"/>
          <p:cNvSpPr/>
          <p:nvPr/>
        </p:nvSpPr>
        <p:spPr>
          <a:xfrm>
            <a:off x="165240" y="4292640"/>
            <a:ext cx="28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Century Gothic"/>
              </a:rPr>
              <a:t>čitat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1533600" y="2925720"/>
            <a:ext cx="792000" cy="129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 flipV="1">
            <a:off x="3549240" y="2925720"/>
            <a:ext cx="73080" cy="122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35000" y="4941720"/>
            <a:ext cx="6885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násobení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souč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81240" y="4292640"/>
            <a:ext cx="260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Century Gothic"/>
              </a:rPr>
              <a:t>.   čita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4557600" y="4292640"/>
            <a:ext cx="231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Century Gothic"/>
              </a:rPr>
              <a:t>=   souč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 flipV="1">
            <a:off x="5060520" y="2925720"/>
            <a:ext cx="793800" cy="129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539640" y="5589720"/>
            <a:ext cx="64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Century Gothic"/>
              </a:rPr>
              <a:t>Znamená zvětšení ve smyslu … kolikrát více!</a:t>
            </a:r>
            <a:br>
              <a:rPr sz="2000"/>
            </a:br>
            <a:r>
              <a:rPr b="1" lang="cs-CZ" sz="1400" spc="-1" strike="noStrike">
                <a:solidFill>
                  <a:srgbClr val="333399"/>
                </a:solidFill>
                <a:latin typeface="Century Gothic"/>
              </a:rPr>
              <a:t>(na rozdíl od … o kolik více … kde jde o sčítání, tzn. souč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547640" y="1911240"/>
                <a:ext cx="1224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Rectangle 12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Součin sobě rovných čísel (činitelů) se nazývá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1547640" y="2919240"/>
                <a:ext cx="18925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6"/>
              <p:cNvSpPr txBox="1"/>
              <p:nvPr/>
            </p:nvSpPr>
            <p:spPr>
              <a:xfrm>
                <a:off x="1533600" y="4000680"/>
                <a:ext cx="26161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1533600" y="5008680"/>
                <a:ext cx="3284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y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057320" y="1109520"/>
            <a:ext cx="7691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ocnina se nazývá podle počtu sobě rovných činitel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1547640" y="1708200"/>
                <a:ext cx="1224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547640" y="2803680"/>
                <a:ext cx="1892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0"/>
              <p:cNvSpPr txBox="1"/>
              <p:nvPr/>
            </p:nvSpPr>
            <p:spPr>
              <a:xfrm>
                <a:off x="1533600" y="4000680"/>
                <a:ext cx="26161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1533600" y="5180040"/>
                <a:ext cx="32846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AutoShape 12"/>
          <p:cNvSpPr/>
          <p:nvPr/>
        </p:nvSpPr>
        <p:spPr>
          <a:xfrm rot="16200000">
            <a:off x="2022480" y="1814400"/>
            <a:ext cx="288720" cy="1152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006640" y="2419200"/>
            <a:ext cx="38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2 dvojky … druhá mocnina čísla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4"/>
              <p:cNvSpPr txBox="1"/>
              <p:nvPr/>
            </p:nvSpPr>
            <p:spPr>
              <a:xfrm>
                <a:off x="1549440" y="1598760"/>
                <a:ext cx="2503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AutoShape 15"/>
          <p:cNvSpPr/>
          <p:nvPr/>
        </p:nvSpPr>
        <p:spPr>
          <a:xfrm rot="16200000">
            <a:off x="2346480" y="2600280"/>
            <a:ext cx="317520" cy="1828800"/>
          </a:xfrm>
          <a:custGeom>
            <a:avLst/>
            <a:gdLst>
              <a:gd name="textAreaLeft" fmla="*/ 203040 w 317520"/>
              <a:gd name="textAreaRight" fmla="*/ 317520 w 317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2340000" y="3571920"/>
            <a:ext cx="3889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3 dvojky … třetí mocnina čísla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1557360" y="2693880"/>
                <a:ext cx="3171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AutoShape 20"/>
          <p:cNvSpPr/>
          <p:nvPr/>
        </p:nvSpPr>
        <p:spPr>
          <a:xfrm rot="16200000">
            <a:off x="2648520" y="3450240"/>
            <a:ext cx="331920" cy="2505240"/>
          </a:xfrm>
          <a:custGeom>
            <a:avLst/>
            <a:gdLst>
              <a:gd name="textAreaLeft" fmla="*/ 212040 w 331920"/>
              <a:gd name="textAreaRight" fmla="*/ 332280 w 331920"/>
              <a:gd name="textAreaTop" fmla="*/ 65160 h 2505240"/>
              <a:gd name="textAreaBottom" fmla="*/ 2440080 h 250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670120" y="4767120"/>
            <a:ext cx="38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4 dvojky … čtvrtá mocnina čísla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2"/>
              <p:cNvSpPr txBox="1"/>
              <p:nvPr/>
            </p:nvSpPr>
            <p:spPr>
              <a:xfrm>
                <a:off x="1538280" y="3892680"/>
                <a:ext cx="3897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AutoShape 23"/>
          <p:cNvSpPr/>
          <p:nvPr/>
        </p:nvSpPr>
        <p:spPr>
          <a:xfrm rot="16200000">
            <a:off x="3009240" y="4270680"/>
            <a:ext cx="331560" cy="3225960"/>
          </a:xfrm>
          <a:custGeom>
            <a:avLst/>
            <a:gdLst>
              <a:gd name="textAreaLeft" fmla="*/ 212040 w 331560"/>
              <a:gd name="textAreaRight" fmla="*/ 331920 w 331560"/>
              <a:gd name="textAreaTop" fmla="*/ 83880 h 3225960"/>
              <a:gd name="textAreaBottom" fmla="*/ 3142080 h 322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3030480" y="5962680"/>
            <a:ext cx="3889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5 dvojek … pátá mocnina čísla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5"/>
              <p:cNvSpPr txBox="1"/>
              <p:nvPr/>
            </p:nvSpPr>
            <p:spPr>
              <a:xfrm>
                <a:off x="1533600" y="5070600"/>
                <a:ext cx="4564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Mocniny - pojmen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57320" y="1109520"/>
            <a:ext cx="7691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Obecný zápis mocn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 rot="16200000">
            <a:off x="3520080" y="361080"/>
            <a:ext cx="331920" cy="4797360"/>
          </a:xfrm>
          <a:custGeom>
            <a:avLst/>
            <a:gdLst>
              <a:gd name="textAreaLeft" fmla="*/ 212040 w 331920"/>
              <a:gd name="textAreaRight" fmla="*/ 332280 w 331920"/>
              <a:gd name="textAreaTop" fmla="*/ 124920 h 4797360"/>
              <a:gd name="textAreaBottom" fmla="*/ 4672440 h 479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335400" y="2867040"/>
            <a:ext cx="93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krá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9"/>
              <p:cNvSpPr txBox="1"/>
              <p:nvPr/>
            </p:nvSpPr>
            <p:spPr>
              <a:xfrm>
                <a:off x="1411200" y="1830240"/>
                <a:ext cx="5900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0"/>
              <p:cNvSpPr txBox="1"/>
              <p:nvPr/>
            </p:nvSpPr>
            <p:spPr>
              <a:xfrm>
                <a:off x="1411200" y="2062080"/>
                <a:ext cx="4565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1"/>
              <p:cNvSpPr txBox="1"/>
              <p:nvPr/>
            </p:nvSpPr>
            <p:spPr>
              <a:xfrm>
                <a:off x="1908000" y="4003560"/>
                <a:ext cx="12924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Rectangle 22"/>
          <p:cNvSpPr/>
          <p:nvPr/>
        </p:nvSpPr>
        <p:spPr>
          <a:xfrm>
            <a:off x="1303200" y="5689440"/>
            <a:ext cx="2476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entury Gothic"/>
              </a:rPr>
              <a:t>Základ mocn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V="1">
            <a:off x="2282760" y="5157360"/>
            <a:ext cx="0" cy="57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3780000" y="4494240"/>
            <a:ext cx="3182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entury Gothic"/>
              </a:rPr>
              <a:t>Mocnitel, exponent (určuje počet stejných činitelů v souči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 flipH="1">
            <a:off x="3117960" y="4465800"/>
            <a:ext cx="57600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Výpočet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987640" y="1239840"/>
                <a:ext cx="1224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2987640" y="1960560"/>
                <a:ext cx="1892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2987640" y="2774880"/>
                <a:ext cx="311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1547640" y="1125360"/>
                <a:ext cx="1390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"/>
              <p:cNvSpPr txBox="1"/>
              <p:nvPr/>
            </p:nvSpPr>
            <p:spPr>
              <a:xfrm>
                <a:off x="1547640" y="1844640"/>
                <a:ext cx="1390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6"/>
              <p:cNvSpPr txBox="1"/>
              <p:nvPr/>
            </p:nvSpPr>
            <p:spPr>
              <a:xfrm>
                <a:off x="1547640" y="2637000"/>
                <a:ext cx="139248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0"/>
              <p:cNvSpPr txBox="1"/>
              <p:nvPr/>
            </p:nvSpPr>
            <p:spPr>
              <a:xfrm>
                <a:off x="4284720" y="1239840"/>
                <a:ext cx="1112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4932360" y="1960560"/>
                <a:ext cx="1781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2"/>
              <p:cNvSpPr txBox="1"/>
              <p:nvPr/>
            </p:nvSpPr>
            <p:spPr>
              <a:xfrm>
                <a:off x="6732720" y="1933560"/>
                <a:ext cx="10573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6097680" y="2766960"/>
                <a:ext cx="2449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4"/>
              <p:cNvSpPr txBox="1"/>
              <p:nvPr/>
            </p:nvSpPr>
            <p:spPr>
              <a:xfrm>
                <a:off x="2395440" y="3502080"/>
                <a:ext cx="22813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5"/>
              <p:cNvSpPr txBox="1"/>
              <p:nvPr/>
            </p:nvSpPr>
            <p:spPr>
              <a:xfrm>
                <a:off x="4643280" y="3500280"/>
                <a:ext cx="890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6"/>
              <p:cNvSpPr txBox="1"/>
              <p:nvPr/>
            </p:nvSpPr>
            <p:spPr>
              <a:xfrm>
                <a:off x="2987640" y="4935600"/>
                <a:ext cx="311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7"/>
              <p:cNvSpPr txBox="1"/>
              <p:nvPr/>
            </p:nvSpPr>
            <p:spPr>
              <a:xfrm>
                <a:off x="1547640" y="4797360"/>
                <a:ext cx="13924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28"/>
          <p:cNvSpPr/>
          <p:nvPr/>
        </p:nvSpPr>
        <p:spPr>
          <a:xfrm>
            <a:off x="1547640" y="422100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Century Gothic"/>
              </a:rPr>
              <a:t>n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9"/>
              <p:cNvSpPr txBox="1"/>
              <p:nvPr/>
            </p:nvSpPr>
            <p:spPr>
              <a:xfrm>
                <a:off x="2397240" y="5672160"/>
                <a:ext cx="2170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0"/>
              <p:cNvSpPr txBox="1"/>
              <p:nvPr/>
            </p:nvSpPr>
            <p:spPr>
              <a:xfrm>
                <a:off x="4473720" y="5672160"/>
                <a:ext cx="890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Oval 31"/>
          <p:cNvSpPr/>
          <p:nvPr/>
        </p:nvSpPr>
        <p:spPr>
          <a:xfrm>
            <a:off x="2973240" y="2795760"/>
            <a:ext cx="122580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6154560" y="2781360"/>
            <a:ext cx="122580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3"/>
          <p:cNvSpPr/>
          <p:nvPr/>
        </p:nvSpPr>
        <p:spPr>
          <a:xfrm>
            <a:off x="2987640" y="4968720"/>
            <a:ext cx="122544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4"/>
          <p:cNvSpPr/>
          <p:nvPr/>
        </p:nvSpPr>
        <p:spPr>
          <a:xfrm>
            <a:off x="4354560" y="4956120"/>
            <a:ext cx="122544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5"/>
          <p:cNvSpPr/>
          <p:nvPr/>
        </p:nvSpPr>
        <p:spPr>
          <a:xfrm>
            <a:off x="2987640" y="1987560"/>
            <a:ext cx="122544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Zapiš součin ve tvaru mocn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273320" y="1411200"/>
            <a:ext cx="1353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.2.2.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273320" y="18432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.7.7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1273320" y="227664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.5.5.5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273320" y="27082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.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73320" y="31399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8.8.8.8.8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274760" y="355752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2.12.1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1273320" y="400356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23.52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273320" y="44355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.4.5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273320" y="48672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.7.2.7.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273320" y="530064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.3.2.2.2.5.5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273320" y="5732640"/>
            <a:ext cx="2577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.2.2.5.9.5.9.2.9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Zapiš součin ve tvaru mocn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273320" y="1411200"/>
            <a:ext cx="1353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.2.2.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273320" y="18432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.7.7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73320" y="227664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.5.5.5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273320" y="27082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.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273320" y="31399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8.8.8.8.8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274760" y="355752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2.12.1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73320" y="400356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23.52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273320" y="44355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.4.5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273320" y="48672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.7.2.7.2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1273320" y="530064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.3.2.2.2.5.5.5.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273320" y="5732640"/>
            <a:ext cx="2577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.2.2.5.9.5.9.2.9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458640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458640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4586400" y="22780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458640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458640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8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587840" y="355932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4586400" y="40053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2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4586400" y="44370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458640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4586400" y="530208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4586400" y="5734080"/>
            <a:ext cx="2577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9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Napiš ve tvaru součinu a 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107172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107172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1071720" y="22780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107172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9"/>
          <p:cNvSpPr/>
          <p:nvPr/>
        </p:nvSpPr>
        <p:spPr>
          <a:xfrm>
            <a:off x="107172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107316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1071720" y="40053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21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2"/>
          <p:cNvSpPr/>
          <p:nvPr/>
        </p:nvSpPr>
        <p:spPr>
          <a:xfrm>
            <a:off x="1071720" y="44370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107172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4"/>
          <p:cNvSpPr/>
          <p:nvPr/>
        </p:nvSpPr>
        <p:spPr>
          <a:xfrm>
            <a:off x="1071720" y="530208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1071720" y="5734080"/>
            <a:ext cx="2577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9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15T00:14:24Z</dcterms:modified>
  <cp:revision>154</cp:revision>
  <dc:subject/>
  <dc:title>Mocniny - úvod</dc:title>
</cp:coreProperties>
</file>