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58F4-9265-481E-9418-3D24066CE8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FBC6-1F71-4864-A7C8-4BB7D94F37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C7FB-C6E4-437C-B556-76E29039F7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AF0B-5188-4E51-82BD-FDDDF34B96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DA3A-2833-4629-9251-A901DFFAE9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F4F4-5EE7-4EA2-85E2-7E1C0A12B1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D71D-87A9-411E-A8AE-F30C0BF8C75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2076-5EC8-4697-B7BE-7D9778917D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A087-AE67-44BE-A99C-442168AC3C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37DD-066B-4F76-9098-5D4CFC80B5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9B84-5053-41D6-AED9-3FE2360A25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DA16-2797-4562-AD89-94A8D6BFB4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7353-022C-4CF0-AE30-EF54E65EC9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D4D0-6F26-440B-82CB-B162AE2678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BED8-CDC3-4E86-B888-4357CD5067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9120-BB1F-4085-9074-723E3911B7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7B1A-BA1A-4D44-8483-AD72D8F393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44CA-29CC-42C9-8D00-1B02204C44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AED8-0562-4842-9110-AD3BF01444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539C-7A7F-4FCA-A652-84B1EA56D6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9B0-61F6-4D26-89F5-026692F2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FC0-BA8F-4CD9-91DA-BA103F05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515-D3C0-4B3E-8528-59FDB3BE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598-D2A9-40A3-8CFB-09D0E449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7638-3747-4532-A0BD-56025797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DD49-2C03-4820-9689-55660014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A900-16BD-417B-8A63-BE404602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1ECD-F3ED-4349-853E-C2647247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FB07-37FA-4AB4-8F3A-66C14689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8521-FBE0-4F7E-8E92-9449822D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9681-29E8-4F46-ABFE-CAB9965B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AF6-003F-488F-B633-34260FDE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3E02-B956-433D-90D2-AA86C7D0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AFF2-FAD3-44D8-9264-8C98C640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DBD1-3BFF-440D-AF93-938D60C7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67BF-ED51-4F1E-A50A-ABBE8F32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517B-8D77-4138-B8DB-8FAC5ADE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320-D71E-4D01-9844-2EA9CE22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202-B319-4806-B253-79761A5C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1F5-1CC3-4D19-A1A1-E20C1E66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BF4-BA01-4D81-A20D-261E07D9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298-A011-4E48-A112-01BD0769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8C8-36A5-43C6-A0E7-453428E1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EF5-0365-4DD1-97F8-E8C984F5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0B7A-429F-4D19-9F14-A19C77204CD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BE90-14E5-450D-A5C2-9DBCAE1CDF8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xl.com/math/practice/grade-6-exponents-with-fractional-base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57320" y="765000"/>
            <a:ext cx="7084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Mocniny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2707920"/>
            <a:ext cx="6120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Mocniny zlomků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základu – mocněnc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ve tvaru zlomku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ocnina zlo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971640" y="1817640"/>
                <a:ext cx="139068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Rectangle 4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ozor i na znaménko min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2627280" y="1920960"/>
                <a:ext cx="189216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4788000" y="1773360"/>
                <a:ext cx="2062080" cy="20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AutoShape 7"/>
          <p:cNvSpPr/>
          <p:nvPr/>
        </p:nvSpPr>
        <p:spPr>
          <a:xfrm>
            <a:off x="611280" y="5013360"/>
            <a:ext cx="2016000" cy="1152360"/>
          </a:xfrm>
          <a:prstGeom prst="cloudCallout">
            <a:avLst>
              <a:gd name="adj1" fmla="val 157"/>
              <a:gd name="adj2" fmla="val -162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nent se na „minus“ nevztahuj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700360" y="4437000"/>
            <a:ext cx="2016000" cy="1295640"/>
          </a:xfrm>
          <a:prstGeom prst="cloudCallout">
            <a:avLst>
              <a:gd name="adj1" fmla="val -5750"/>
              <a:gd name="adj2" fmla="val -996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nent se na „minus“ vztahuj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4716360" y="4724280"/>
            <a:ext cx="2016360" cy="1441440"/>
          </a:xfrm>
          <a:prstGeom prst="cloudCallout">
            <a:avLst>
              <a:gd name="adj1" fmla="val 8189"/>
              <a:gd name="adj2" fmla="val -117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nent se na „minus“ vztahuj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ocnina zlo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971640" y="1817640"/>
                <a:ext cx="139068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Rectangle 4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ozor i na znaménko min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611280" y="5013360"/>
            <a:ext cx="2016000" cy="1152360"/>
          </a:xfrm>
          <a:prstGeom prst="cloudCallout">
            <a:avLst>
              <a:gd name="adj1" fmla="val 157"/>
              <a:gd name="adj2" fmla="val -162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nent se na „minus“ nevztahuj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2039760" y="1989000"/>
                <a:ext cx="28926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1"/>
              <p:cNvSpPr txBox="1"/>
              <p:nvPr/>
            </p:nvSpPr>
            <p:spPr>
              <a:xfrm>
                <a:off x="4848120" y="1990800"/>
                <a:ext cx="16686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2"/>
              <p:cNvSpPr txBox="1"/>
              <p:nvPr/>
            </p:nvSpPr>
            <p:spPr>
              <a:xfrm>
                <a:off x="6415200" y="2003400"/>
                <a:ext cx="16128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ocnina zlo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ozor i na znaménko min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1042920" y="1920960"/>
                <a:ext cx="189252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AutoShape 8"/>
          <p:cNvSpPr/>
          <p:nvPr/>
        </p:nvSpPr>
        <p:spPr>
          <a:xfrm>
            <a:off x="1116000" y="4437000"/>
            <a:ext cx="2016000" cy="1295640"/>
          </a:xfrm>
          <a:prstGeom prst="cloudCallout">
            <a:avLst>
              <a:gd name="adj1" fmla="val -5750"/>
              <a:gd name="adj2" fmla="val -996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nent se na „minus“ vztahuj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2846520" y="1916280"/>
                <a:ext cx="417348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1"/>
              <p:cNvSpPr txBox="1"/>
              <p:nvPr/>
            </p:nvSpPr>
            <p:spPr>
              <a:xfrm>
                <a:off x="7005600" y="1930320"/>
                <a:ext cx="10018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ocnina zlo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ozor i na znaménko min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971640" y="1773360"/>
                <a:ext cx="2062080" cy="20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5" name="AutoShape 9"/>
          <p:cNvSpPr/>
          <p:nvPr/>
        </p:nvSpPr>
        <p:spPr>
          <a:xfrm>
            <a:off x="900000" y="4724280"/>
            <a:ext cx="2016360" cy="1441440"/>
          </a:xfrm>
          <a:prstGeom prst="cloudCallout">
            <a:avLst>
              <a:gd name="adj1" fmla="val 8189"/>
              <a:gd name="adj2" fmla="val -117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nent se na „minus“ vztahuj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2658960" y="1941480"/>
                <a:ext cx="479268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370640" y="2000160"/>
                <a:ext cx="10033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ocnina zlo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Jak umocňovat celý zlom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988920" y="1773360"/>
                <a:ext cx="98928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1846440" y="1919160"/>
                <a:ext cx="1622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7"/>
              <p:cNvSpPr txBox="1"/>
              <p:nvPr/>
            </p:nvSpPr>
            <p:spPr>
              <a:xfrm>
                <a:off x="4438800" y="1911240"/>
                <a:ext cx="636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8"/>
              <p:cNvSpPr txBox="1"/>
              <p:nvPr/>
            </p:nvSpPr>
            <p:spPr>
              <a:xfrm>
                <a:off x="3448080" y="1839960"/>
                <a:ext cx="990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971640" y="3219480"/>
                <a:ext cx="9889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10"/>
              <p:cNvSpPr txBox="1"/>
              <p:nvPr/>
            </p:nvSpPr>
            <p:spPr>
              <a:xfrm>
                <a:off x="1844640" y="3365640"/>
                <a:ext cx="21510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1"/>
              <p:cNvSpPr txBox="1"/>
              <p:nvPr/>
            </p:nvSpPr>
            <p:spPr>
              <a:xfrm>
                <a:off x="4915080" y="3357720"/>
                <a:ext cx="6714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2"/>
              <p:cNvSpPr txBox="1"/>
              <p:nvPr/>
            </p:nvSpPr>
            <p:spPr>
              <a:xfrm>
                <a:off x="3941640" y="3286080"/>
                <a:ext cx="990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954000" y="4716360"/>
                <a:ext cx="102420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4"/>
              <p:cNvSpPr txBox="1"/>
              <p:nvPr/>
            </p:nvSpPr>
            <p:spPr>
              <a:xfrm>
                <a:off x="1839960" y="4862520"/>
                <a:ext cx="2679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5"/>
              <p:cNvSpPr txBox="1"/>
              <p:nvPr/>
            </p:nvSpPr>
            <p:spPr>
              <a:xfrm>
                <a:off x="5495760" y="4854600"/>
                <a:ext cx="9194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6"/>
              <p:cNvSpPr txBox="1"/>
              <p:nvPr/>
            </p:nvSpPr>
            <p:spPr>
              <a:xfrm>
                <a:off x="4516560" y="4782960"/>
                <a:ext cx="99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Oval 17"/>
          <p:cNvSpPr/>
          <p:nvPr/>
        </p:nvSpPr>
        <p:spPr>
          <a:xfrm>
            <a:off x="900000" y="1760400"/>
            <a:ext cx="1224000" cy="1352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3376440" y="1758960"/>
            <a:ext cx="720720" cy="1352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900000" y="3214800"/>
            <a:ext cx="1224000" cy="1352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0"/>
          <p:cNvSpPr/>
          <p:nvPr/>
        </p:nvSpPr>
        <p:spPr>
          <a:xfrm>
            <a:off x="3865680" y="3213000"/>
            <a:ext cx="720720" cy="1352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1"/>
          <p:cNvSpPr/>
          <p:nvPr/>
        </p:nvSpPr>
        <p:spPr>
          <a:xfrm>
            <a:off x="900000" y="4711680"/>
            <a:ext cx="1224000" cy="1352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2"/>
          <p:cNvSpPr/>
          <p:nvPr/>
        </p:nvSpPr>
        <p:spPr>
          <a:xfrm>
            <a:off x="4459320" y="4710240"/>
            <a:ext cx="720720" cy="1352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6156360" y="1836720"/>
                <a:ext cx="20476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ocnina zlo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Jak umocňovat celý zlom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6156360" y="1836720"/>
                <a:ext cx="20476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Rectangle 5"/>
          <p:cNvSpPr/>
          <p:nvPr/>
        </p:nvSpPr>
        <p:spPr>
          <a:xfrm>
            <a:off x="1332000" y="3787920"/>
            <a:ext cx="4967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entury Gothic"/>
              </a:rPr>
              <a:t>Druhou mocninu zlomku vypočítáme tak, že druhou mocninu čitatele lomíme druhou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Century Gothic"/>
              </a:rPr>
              <a:t>mocninou jmenovate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6173640" y="1844640"/>
                <a:ext cx="201312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Rectangle 7"/>
          <p:cNvSpPr/>
          <p:nvPr/>
        </p:nvSpPr>
        <p:spPr>
          <a:xfrm>
            <a:off x="1332000" y="3789360"/>
            <a:ext cx="4967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Century Gothic"/>
              </a:rPr>
              <a:t>Třetí mocninu zlomku vypočítáme tak, že třetí mocninu čitatele lomíme třetí</a:t>
            </a:r>
            <a:br>
              <a:rPr sz="3600"/>
            </a:br>
            <a:r>
              <a:rPr b="1" lang="en-US" sz="3600" spc="-1" strike="noStrike">
                <a:solidFill>
                  <a:srgbClr val="00cc00"/>
                </a:solidFill>
                <a:latin typeface="Century Gothic"/>
              </a:rPr>
              <a:t>mocninou jmenovate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6156360" y="1844640"/>
                <a:ext cx="201276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Rectangle 9"/>
          <p:cNvSpPr/>
          <p:nvPr/>
        </p:nvSpPr>
        <p:spPr>
          <a:xfrm>
            <a:off x="5973840" y="5603760"/>
            <a:ext cx="205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057320" y="979560"/>
            <a:ext cx="7691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Vypočítej mocnin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8"/>
              <p:cNvSpPr txBox="1"/>
              <p:nvPr/>
            </p:nvSpPr>
            <p:spPr>
              <a:xfrm>
                <a:off x="1227240" y="1617840"/>
                <a:ext cx="6807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46"/>
              <p:cNvSpPr txBox="1"/>
              <p:nvPr/>
            </p:nvSpPr>
            <p:spPr>
              <a:xfrm>
                <a:off x="1198440" y="2589120"/>
                <a:ext cx="6573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7"/>
              <p:cNvSpPr txBox="1"/>
              <p:nvPr/>
            </p:nvSpPr>
            <p:spPr>
              <a:xfrm>
                <a:off x="1158840" y="3427560"/>
                <a:ext cx="9241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8"/>
              <p:cNvSpPr txBox="1"/>
              <p:nvPr/>
            </p:nvSpPr>
            <p:spPr>
              <a:xfrm>
                <a:off x="1184400" y="4437000"/>
                <a:ext cx="11412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9"/>
              <p:cNvSpPr txBox="1"/>
              <p:nvPr/>
            </p:nvSpPr>
            <p:spPr>
              <a:xfrm>
                <a:off x="1171440" y="5445000"/>
                <a:ext cx="11415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042920" y="547560"/>
            <a:ext cx="59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057320" y="979560"/>
            <a:ext cx="7691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Vypočítej mocnin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227240" y="1617840"/>
                <a:ext cx="6807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1198440" y="2589120"/>
                <a:ext cx="6573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6"/>
              <p:cNvSpPr txBox="1"/>
              <p:nvPr/>
            </p:nvSpPr>
            <p:spPr>
              <a:xfrm>
                <a:off x="1158840" y="3427560"/>
                <a:ext cx="9241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7"/>
              <p:cNvSpPr txBox="1"/>
              <p:nvPr/>
            </p:nvSpPr>
            <p:spPr>
              <a:xfrm>
                <a:off x="1184400" y="4437000"/>
                <a:ext cx="11412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1171440" y="5445000"/>
                <a:ext cx="11415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5097600" y="1643040"/>
                <a:ext cx="900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0"/>
              <p:cNvSpPr txBox="1"/>
              <p:nvPr/>
            </p:nvSpPr>
            <p:spPr>
              <a:xfrm>
                <a:off x="5105520" y="2590920"/>
                <a:ext cx="80316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1"/>
              <p:cNvSpPr txBox="1"/>
              <p:nvPr/>
            </p:nvSpPr>
            <p:spPr>
              <a:xfrm>
                <a:off x="5046840" y="3429000"/>
                <a:ext cx="15318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2"/>
              <p:cNvSpPr txBox="1"/>
              <p:nvPr/>
            </p:nvSpPr>
            <p:spPr>
              <a:xfrm>
                <a:off x="5119560" y="4511520"/>
                <a:ext cx="4604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3"/>
              <p:cNvSpPr txBox="1"/>
              <p:nvPr/>
            </p:nvSpPr>
            <p:spPr>
              <a:xfrm>
                <a:off x="5156280" y="5519880"/>
                <a:ext cx="136044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ozor na nultou mocn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057320" y="11811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o znamená na mocninu s exponentem rovnajícím se n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8"/>
              <p:cNvSpPr txBox="1"/>
              <p:nvPr/>
            </p:nvSpPr>
            <p:spPr>
              <a:xfrm>
                <a:off x="1752480" y="2060640"/>
                <a:ext cx="6019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0"/>
              <p:cNvSpPr txBox="1"/>
              <p:nvPr/>
            </p:nvSpPr>
            <p:spPr>
              <a:xfrm>
                <a:off x="1116000" y="3054240"/>
                <a:ext cx="12430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31"/>
              <p:cNvSpPr txBox="1"/>
              <p:nvPr/>
            </p:nvSpPr>
            <p:spPr>
              <a:xfrm>
                <a:off x="1258920" y="3860640"/>
                <a:ext cx="1123920" cy="14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2"/>
              <p:cNvSpPr txBox="1"/>
              <p:nvPr/>
            </p:nvSpPr>
            <p:spPr>
              <a:xfrm>
                <a:off x="2484360" y="2158920"/>
                <a:ext cx="7225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3"/>
              <p:cNvSpPr txBox="1"/>
              <p:nvPr/>
            </p:nvSpPr>
            <p:spPr>
              <a:xfrm>
                <a:off x="2482920" y="3213000"/>
                <a:ext cx="720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4"/>
              <p:cNvSpPr txBox="1"/>
              <p:nvPr/>
            </p:nvSpPr>
            <p:spPr>
              <a:xfrm>
                <a:off x="2463840" y="4341960"/>
                <a:ext cx="72216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35"/>
          <p:cNvSpPr/>
          <p:nvPr/>
        </p:nvSpPr>
        <p:spPr>
          <a:xfrm>
            <a:off x="4068720" y="4595760"/>
            <a:ext cx="3095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entury Gothic"/>
              </a:rPr>
              <a:t>Cokoliv na nultou se vždy rovná jed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36"/>
              <p:cNvSpPr txBox="1"/>
              <p:nvPr/>
            </p:nvSpPr>
            <p:spPr>
              <a:xfrm>
                <a:off x="1592280" y="5433840"/>
                <a:ext cx="603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7"/>
              <p:cNvSpPr txBox="1"/>
              <p:nvPr/>
            </p:nvSpPr>
            <p:spPr>
              <a:xfrm>
                <a:off x="2494080" y="5494320"/>
                <a:ext cx="722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9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5118120" cy="3488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755640" y="189000"/>
            <a:ext cx="5977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826920" y="1484280"/>
            <a:ext cx="725976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www.ixl.com/math/practice/grade-6-exponents-with-fractional-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reen webové strán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611280" y="765000"/>
            <a:ext cx="76914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Klikni na následující odkaz a na otevřené internetové stránce si stránce procvič mocniny desetinných čí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7"/>
          <p:cNvSpPr/>
          <p:nvPr/>
        </p:nvSpPr>
        <p:spPr>
          <a:xfrm>
            <a:off x="3995640" y="2205000"/>
            <a:ext cx="3240360" cy="2089080"/>
          </a:xfrm>
          <a:prstGeom prst="cloudCallout">
            <a:avLst>
              <a:gd name="adj1" fmla="val -95467"/>
              <a:gd name="adj2" fmla="val 515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Do tohoto políčka napiš výsledek. Pozor! Zlomky piš ve tvaru 1/3 (místo zlomkové čáry používej lomítko!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8"/>
          <p:cNvSpPr/>
          <p:nvPr/>
        </p:nvSpPr>
        <p:spPr>
          <a:xfrm>
            <a:off x="4572000" y="4221000"/>
            <a:ext cx="2806560" cy="1584360"/>
          </a:xfrm>
          <a:prstGeom prst="cloudCallout">
            <a:avLst>
              <a:gd name="adj1" fmla="val -105430"/>
              <a:gd name="adj2" fmla="val -153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ímto tlačítkem poté zkontroluj, zda jsi mocninu určil správně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pakování: Moc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57320" y="133992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 jistotu ještě jednou záp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 terminolog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 rot="16200000">
            <a:off x="3520080" y="922680"/>
            <a:ext cx="331560" cy="4797360"/>
          </a:xfrm>
          <a:custGeom>
            <a:avLst/>
            <a:gdLst>
              <a:gd name="textAreaLeft" fmla="*/ 212040 w 331560"/>
              <a:gd name="textAreaRight" fmla="*/ 331920 w 331560"/>
              <a:gd name="textAreaTop" fmla="*/ 124920 h 4797360"/>
              <a:gd name="textAreaBottom" fmla="*/ 4672440 h 479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3335400" y="3429000"/>
            <a:ext cx="934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cs-CZ" sz="1700" spc="-1" strike="noStrike">
                <a:solidFill>
                  <a:srgbClr val="ff0000"/>
                </a:solidFill>
                <a:latin typeface="Century Gothic"/>
              </a:rPr>
              <a:t> krá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0"/>
              <p:cNvSpPr txBox="1"/>
              <p:nvPr/>
            </p:nvSpPr>
            <p:spPr>
              <a:xfrm>
                <a:off x="1411200" y="2392200"/>
                <a:ext cx="59007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1"/>
              <p:cNvSpPr txBox="1"/>
              <p:nvPr/>
            </p:nvSpPr>
            <p:spPr>
              <a:xfrm>
                <a:off x="1411200" y="2624040"/>
                <a:ext cx="4565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1908000" y="4003560"/>
                <a:ext cx="12924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" name="Rectangle 13"/>
          <p:cNvSpPr/>
          <p:nvPr/>
        </p:nvSpPr>
        <p:spPr>
          <a:xfrm>
            <a:off x="1303200" y="5689440"/>
            <a:ext cx="4276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Základ mocniny, mocně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2282760" y="5157360"/>
            <a:ext cx="0" cy="576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3780000" y="4494240"/>
            <a:ext cx="3182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Mocnitel, exponent (určuje počet stejných činitelů v souči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H="1">
            <a:off x="3117960" y="4465800"/>
            <a:ext cx="57600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7"/>
          <p:cNvSpPr/>
          <p:nvPr/>
        </p:nvSpPr>
        <p:spPr>
          <a:xfrm>
            <a:off x="6588000" y="620640"/>
            <a:ext cx="2347920" cy="1368360"/>
          </a:xfrm>
          <a:prstGeom prst="cloudCallout">
            <a:avLst>
              <a:gd name="adj1" fmla="val -37087"/>
              <a:gd name="adj2" fmla="val 874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estručnění zápisu; čteme „a na n-tou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pakování: Druhá moc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1130400" y="2216160"/>
                <a:ext cx="2504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9" name="Rectangle 12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oučin dvou sobě rovných čísel (činitelů) se nazývá druhá mocn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5"/>
              <p:cNvSpPr txBox="1"/>
              <p:nvPr/>
            </p:nvSpPr>
            <p:spPr>
              <a:xfrm>
                <a:off x="2124000" y="3132000"/>
                <a:ext cx="47293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6"/>
              <p:cNvSpPr txBox="1"/>
              <p:nvPr/>
            </p:nvSpPr>
            <p:spPr>
              <a:xfrm>
                <a:off x="1116000" y="4334040"/>
                <a:ext cx="36180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7"/>
              <p:cNvSpPr txBox="1"/>
              <p:nvPr/>
            </p:nvSpPr>
            <p:spPr>
              <a:xfrm>
                <a:off x="2268360" y="5362560"/>
                <a:ext cx="41198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pakování: Třetí moc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1116000" y="2243160"/>
                <a:ext cx="317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Rectangle 4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oučin tří sobě rovných čísel (činitelů) se nazývá třetí mocn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971640" y="3132000"/>
                <a:ext cx="62308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1119240" y="4334040"/>
                <a:ext cx="46767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1116000" y="5362560"/>
                <a:ext cx="53434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⋅</m:t>
                    </m:r>
                    <m:r>
                      <m:t xml:space="preserve">0,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042920" y="547560"/>
            <a:ext cx="63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pakování: Zlo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1617840" y="3284640"/>
                <a:ext cx="7236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Rectangle 4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Zlomky používáme k zápisu části ce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059280" y="1916280"/>
            <a:ext cx="1871640" cy="1225440"/>
          </a:xfrm>
          <a:prstGeom prst="cloudCallout">
            <a:avLst>
              <a:gd name="adj1" fmla="val -95379"/>
              <a:gd name="adj2" fmla="val 79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Čit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3417840" y="3284640"/>
            <a:ext cx="2449440" cy="1296720"/>
          </a:xfrm>
          <a:prstGeom prst="cloudCallout">
            <a:avLst>
              <a:gd name="adj1" fmla="val -93032"/>
              <a:gd name="adj2" fmla="val 15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lomková čá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3346560" y="4797360"/>
            <a:ext cx="2232000" cy="1368360"/>
          </a:xfrm>
          <a:prstGeom prst="cloudCallout">
            <a:avLst>
              <a:gd name="adj1" fmla="val -99074"/>
              <a:gd name="adj2" fmla="val -476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meno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ocnina zlo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3"/>
              <p:cNvSpPr txBox="1"/>
              <p:nvPr/>
            </p:nvSpPr>
            <p:spPr>
              <a:xfrm>
                <a:off x="1665360" y="4221000"/>
                <a:ext cx="94608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Rectangle 18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ozor na různé možné zápi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9"/>
              <p:cNvSpPr txBox="1"/>
              <p:nvPr/>
            </p:nvSpPr>
            <p:spPr>
              <a:xfrm>
                <a:off x="3527280" y="4406760"/>
                <a:ext cx="10018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0"/>
              <p:cNvSpPr txBox="1"/>
              <p:nvPr/>
            </p:nvSpPr>
            <p:spPr>
              <a:xfrm>
                <a:off x="5264280" y="4176720"/>
                <a:ext cx="156024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AutoShape 21"/>
          <p:cNvSpPr/>
          <p:nvPr/>
        </p:nvSpPr>
        <p:spPr>
          <a:xfrm>
            <a:off x="395280" y="2708280"/>
            <a:ext cx="2016000" cy="1152360"/>
          </a:xfrm>
          <a:prstGeom prst="cloudCallout">
            <a:avLst>
              <a:gd name="adj1" fmla="val 28819"/>
              <a:gd name="adj2" fmla="val 86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ocňujeme jen čitatele zlom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2"/>
          <p:cNvSpPr/>
          <p:nvPr/>
        </p:nvSpPr>
        <p:spPr>
          <a:xfrm>
            <a:off x="2916360" y="2133720"/>
            <a:ext cx="2232000" cy="1295280"/>
          </a:xfrm>
          <a:prstGeom prst="cloudCallout">
            <a:avLst>
              <a:gd name="adj1" fmla="val 1777"/>
              <a:gd name="adj2" fmla="val 105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ocňujeme jen jmenovatele zlom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/>
          <p:cNvSpPr/>
          <p:nvPr/>
        </p:nvSpPr>
        <p:spPr>
          <a:xfrm>
            <a:off x="5651640" y="1844640"/>
            <a:ext cx="2232000" cy="1441440"/>
          </a:xfrm>
          <a:prstGeom prst="cloudCallout">
            <a:avLst>
              <a:gd name="adj1" fmla="val -37412"/>
              <a:gd name="adj2" fmla="val 111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ocňujeme celý zlomek; čitatel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jmenovate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ocnina zlo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3"/>
              <p:cNvSpPr txBox="1"/>
              <p:nvPr/>
            </p:nvSpPr>
            <p:spPr>
              <a:xfrm>
                <a:off x="1665360" y="4221000"/>
                <a:ext cx="94608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Rectangle 4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ozor na různé možné zápi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395280" y="2708280"/>
            <a:ext cx="2016000" cy="1152360"/>
          </a:xfrm>
          <a:prstGeom prst="cloudCallout">
            <a:avLst>
              <a:gd name="adj1" fmla="val 28819"/>
              <a:gd name="adj2" fmla="val 86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ocňujeme jen čitatele zlom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2241720" y="4394160"/>
                <a:ext cx="23922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1"/>
              <p:cNvSpPr txBox="1"/>
              <p:nvPr/>
            </p:nvSpPr>
            <p:spPr>
              <a:xfrm>
                <a:off x="4521240" y="4394160"/>
                <a:ext cx="12240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5635800" y="4394160"/>
                <a:ext cx="11682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ocnina zlo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ozor na různé možné zápi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1511280" y="4406760"/>
                <a:ext cx="10018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AutoShape 8"/>
          <p:cNvSpPr/>
          <p:nvPr/>
        </p:nvSpPr>
        <p:spPr>
          <a:xfrm>
            <a:off x="900000" y="2133720"/>
            <a:ext cx="2232000" cy="1295280"/>
          </a:xfrm>
          <a:prstGeom prst="cloudCallout">
            <a:avLst>
              <a:gd name="adj1" fmla="val 1777"/>
              <a:gd name="adj2" fmla="val 105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ocňujeme jen jmenovatele zlom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2411280" y="4408560"/>
                <a:ext cx="24480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4795920" y="4408560"/>
                <a:ext cx="10000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ocnina zlo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057320" y="116676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ozor na různé možné zápi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1074600" y="4176720"/>
                <a:ext cx="1560600" cy="20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AutoShape 9"/>
          <p:cNvSpPr/>
          <p:nvPr/>
        </p:nvSpPr>
        <p:spPr>
          <a:xfrm>
            <a:off x="1116000" y="1916280"/>
            <a:ext cx="2232000" cy="1441440"/>
          </a:xfrm>
          <a:prstGeom prst="cloudCallout">
            <a:avLst>
              <a:gd name="adj1" fmla="val -21907"/>
              <a:gd name="adj2" fmla="val 1067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ocňujeme celý zlomek; čitatel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jmenovate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2368440" y="4416480"/>
                <a:ext cx="256392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1"/>
              <p:cNvSpPr txBox="1"/>
              <p:nvPr/>
            </p:nvSpPr>
            <p:spPr>
              <a:xfrm>
                <a:off x="4892760" y="4408560"/>
                <a:ext cx="100476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623412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-4785, financovaného z ESF a státního rozpočtu Č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vozováno Výzkumným ústavem pedagogickým v Pra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4-19T15:47:59Z</dcterms:modified>
  <cp:revision>195</cp:revision>
  <dc:subject/>
  <dc:title>Mocniny - mocnina zlomku</dc:title>
</cp:coreProperties>
</file>