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5D8-6DBB-46C8-9DC3-2E44809A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B78-1367-475D-B72A-F025772D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DDC-20E7-40AE-A57E-3FE1BA60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EFA-10A9-437D-A83D-74C58B0E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72FD-AD42-4DF7-9F6B-AA4865DA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CC50-9928-4F94-9303-11B98BCE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97BB-C724-49B4-B91D-01B51B1E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53AA-6F9C-41AA-9151-EEC41D46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0934-782E-4530-BD1E-A4EAB830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E48E-5FFA-4C73-9A9E-9A74419F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6B73-206E-452B-96A0-EADA9283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A23-BB07-4FA2-9BA5-16AA119F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57C1-4414-4E0F-B619-3840DAEC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52E6-263D-40A8-9C13-DB10895E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2EE4-36D7-4CF3-AE1E-DDE61843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78FD-451B-4AE9-96D9-2CE1DCB5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3283-A070-4491-BD59-FBEAFA3C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193-86B4-433B-AB73-427BD9A6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631-200A-405A-9279-41BE882A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9D5-46DB-4A0E-A5C0-C69426CC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712-0583-4780-B356-B9163B3A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982-A003-48A1-99DF-5F867987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958-68C1-42B1-A1FF-B776F40B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279-E13F-48D5-A599-0A2784E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1859-0E14-4FBA-8A48-4E96D33CE5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3407-0804-45A9-A354-079945A784C0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rickweb.co.uk/assets/resources/angle.swf" TargetMode="External"/><Relationship Id="rId3" Type="http://schemas.openxmlformats.org/officeDocument/2006/relationships/hyperlink" Target="http://www.crickweb.co.uk/assets/resources/angle.swf" TargetMode="External"/><Relationship Id="rId4" Type="http://schemas.openxmlformats.org/officeDocument/2006/relationships/hyperlink" Target="http://www.crickweb.co.uk/assets/resources/angle.swf" TargetMode="External"/><Relationship Id="rId5" Type="http://schemas.openxmlformats.org/officeDocument/2006/relationships/hyperlink" Target="http://www.crickweb.co.uk/assets/resources/angle.swf" TargetMode="External"/><Relationship Id="rId6" Type="http://schemas.openxmlformats.org/officeDocument/2006/relationships/hyperlink" Target="http://www.crickweb.co.uk/assets/resources/angle.swf" TargetMode="External"/><Relationship Id="rId7" Type="http://schemas.openxmlformats.org/officeDocument/2006/relationships/hyperlink" Target="http://www.crickweb.co.uk/assets/resources/angle.swf" TargetMode="External"/><Relationship Id="rId8" Type="http://schemas.openxmlformats.org/officeDocument/2006/relationships/hyperlink" Target="http://www.crickweb.co.uk/assets/resources/angle.swf" TargetMode="External"/><Relationship Id="rId9" Type="http://schemas.openxmlformats.org/officeDocument/2006/relationships/hyperlink" Target="http://www.crickweb.co.uk/assets/resources/angle.swf" TargetMode="External"/><Relationship Id="rId10" Type="http://schemas.openxmlformats.org/officeDocument/2006/relationships/hyperlink" Target="http://www.crickweb.co.uk/assets/resources/angle.swf" TargetMode="External"/><Relationship Id="rId11" Type="http://schemas.openxmlformats.org/officeDocument/2006/relationships/hyperlink" Target="http://www.crickweb.co.uk/assets/resources/angle.swf" TargetMode="External"/><Relationship Id="rId12" Type="http://schemas.openxmlformats.org/officeDocument/2006/relationships/hyperlink" Target="http://www.crickweb.co.uk/assets/resources/angle.swf" TargetMode="External"/><Relationship Id="rId13" Type="http://schemas.openxmlformats.org/officeDocument/2006/relationships/hyperlink" Target="http://www.crickweb.co.uk/assets/resources/angle.swf" TargetMode="External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u.dudley.gov.uk/numeracy/Primary/Easter CD/programs/angle_challenge.swf" TargetMode="External"/><Relationship Id="rId3" Type="http://schemas.openxmlformats.org/officeDocument/2006/relationships/hyperlink" Target="http://www.edu.dudley.gov.uk/numeracy/Primary/Easter CD/programs/angle_challenge.swf" TargetMode="External"/><Relationship Id="rId4" Type="http://schemas.openxmlformats.org/officeDocument/2006/relationships/hyperlink" Target="http://www.edu.dudley.gov.uk/numeracy/Primary/Easter CD/programs/angle_challenge.swf" TargetMode="External"/><Relationship Id="rId5" Type="http://schemas.openxmlformats.org/officeDocument/2006/relationships/hyperlink" Target="http://www.edu.dudley.gov.uk/numeracy/Primary/Easter CD/programs/angle_challenge.swf" TargetMode="External"/><Relationship Id="rId6" Type="http://schemas.openxmlformats.org/officeDocument/2006/relationships/hyperlink" Target="http://www.edu.dudley.gov.uk/numeracy/Primary/Easter CD/programs/angle_challenge.swf" TargetMode="External"/><Relationship Id="rId7" Type="http://schemas.openxmlformats.org/officeDocument/2006/relationships/hyperlink" Target="http://www.edu.dudley.gov.uk/numeracy/Primary/Easter CD/programs/angle_challenge.swf" TargetMode="External"/><Relationship Id="rId8" Type="http://schemas.openxmlformats.org/officeDocument/2006/relationships/hyperlink" Target="http://www.edu.dudley.gov.uk/numeracy/Primary/Easter CD/programs/angle_challenge.swf" TargetMode="External"/><Relationship Id="rId9" Type="http://schemas.openxmlformats.org/officeDocument/2006/relationships/hyperlink" Target="http://www.edu.dudley.gov.uk/numeracy/Primary/Easter CD/programs/angle_challenge.swf" TargetMode="External"/><Relationship Id="rId10" Type="http://schemas.openxmlformats.org/officeDocument/2006/relationships/hyperlink" Target="http://www.edu.dudley.gov.uk/numeracy/Primary/Easter CD/programs/angle_challenge.swf" TargetMode="External"/><Relationship Id="rId11" Type="http://schemas.openxmlformats.org/officeDocument/2006/relationships/hyperlink" Target="http://www.edu.dudley.gov.uk/numeracy/Primary/Easter CD/programs/angle_challenge.swf" TargetMode="External"/><Relationship Id="rId12" Type="http://schemas.openxmlformats.org/officeDocument/2006/relationships/hyperlink" Target="http://www.edu.dudley.gov.uk/numeracy/Primary/Easter CD/programs/angle_challenge.swf" TargetMode="External"/><Relationship Id="rId13" Type="http://schemas.openxmlformats.org/officeDocument/2006/relationships/hyperlink" Target="http://www.edu.dudley.gov.uk/numeracy/Primary/Easter CD/programs/angle_challenge.swf" TargetMode="External"/><Relationship Id="rId14" Type="http://schemas.openxmlformats.org/officeDocument/2006/relationships/hyperlink" Target="http://www.edu.dudley.gov.uk/numeracy/Primary/Easter CD/programs/angle_challenge.swf" TargetMode="External"/><Relationship Id="rId15" Type="http://schemas.openxmlformats.org/officeDocument/2006/relationships/hyperlink" Target="http://www.edu.dudley.gov.uk/numeracy/Primary/Easter CD/programs/angle_challenge.swf" TargetMode="External"/><Relationship Id="rId16" Type="http://schemas.openxmlformats.org/officeDocument/2006/relationships/hyperlink" Target="http://www.edu.dudley.gov.uk/numeracy/Primary/Easter CD/programs/angle_challenge.swf" TargetMode="External"/><Relationship Id="rId17" Type="http://schemas.openxmlformats.org/officeDocument/2006/relationships/hyperlink" Target="http://www.edu.dudley.gov.uk/numeracy/Primary/Easter CD/programs/angle_challenge.swf" TargetMode="External"/><Relationship Id="rId18" Type="http://schemas.openxmlformats.org/officeDocument/2006/relationships/hyperlink" Target="http://www.edu.dudley.gov.uk/numeracy/Primary/Easter CD/programs/angle_challenge.swf" TargetMode="External"/><Relationship Id="rId19" Type="http://schemas.openxmlformats.org/officeDocument/2006/relationships/hyperlink" Target="http://www.edu.dudley.gov.uk/numeracy/Primary/Easter CD/programs/angle_challenge.swf" TargetMode="External"/><Relationship Id="rId20" Type="http://schemas.openxmlformats.org/officeDocument/2006/relationships/hyperlink" Target="http://www.edu.dudley.gov.uk/numeracy/Primary/Easter CD/programs/angle_challenge.swf" TargetMode="External"/><Relationship Id="rId21" Type="http://schemas.openxmlformats.org/officeDocument/2006/relationships/hyperlink" Target="http://www.edu.dudley.gov.uk/numeracy/Primary/Easter CD/programs/angle_challenge.swf" TargetMode="External"/><Relationship Id="rId22" Type="http://schemas.openxmlformats.org/officeDocument/2006/relationships/hyperlink" Target="http://www.edu.dudley.gov.uk/numeracy/Primary/Easter CD/programs/angle_challenge.swf" TargetMode="External"/><Relationship Id="rId23" Type="http://schemas.openxmlformats.org/officeDocument/2006/relationships/hyperlink" Target="http://www.edu.dudley.gov.uk/numeracy/Primary/Easter CD/programs/angle_challenge.swf" TargetMode="External"/><Relationship Id="rId24" Type="http://schemas.openxmlformats.org/officeDocument/2006/relationships/image" Target="../media/image17.png"/><Relationship Id="rId2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u.dudley.gov.uk/numeracy/Primary/Easter CD/programs/angle_challenge.swf" TargetMode="External"/><Relationship Id="rId3" Type="http://schemas.openxmlformats.org/officeDocument/2006/relationships/hyperlink" Target="http://www.edu.dudley.gov.uk/numeracy/Primary/Easter CD/programs/angle_challenge.swf" TargetMode="External"/><Relationship Id="rId4" Type="http://schemas.openxmlformats.org/officeDocument/2006/relationships/hyperlink" Target="http://www.edu.dudley.gov.uk/numeracy/Primary/Easter CD/programs/angle_challenge.swf" TargetMode="External"/><Relationship Id="rId5" Type="http://schemas.openxmlformats.org/officeDocument/2006/relationships/hyperlink" Target="http://www.edu.dudley.gov.uk/numeracy/Primary/Easter CD/programs/angle_challenge.swf" TargetMode="External"/><Relationship Id="rId6" Type="http://schemas.openxmlformats.org/officeDocument/2006/relationships/hyperlink" Target="http://www.edu.dudley.gov.uk/numeracy/Primary/Easter CD/programs/angle_challenge.swf" TargetMode="External"/><Relationship Id="rId7" Type="http://schemas.openxmlformats.org/officeDocument/2006/relationships/hyperlink" Target="http://www.edu.dudley.gov.uk/numeracy/Primary/Easter CD/programs/angle_challenge.swf" TargetMode="External"/><Relationship Id="rId8" Type="http://schemas.openxmlformats.org/officeDocument/2006/relationships/hyperlink" Target="http://www.edu.dudley.gov.uk/numeracy/Primary/Easter CD/programs/angle_challenge.swf" TargetMode="External"/><Relationship Id="rId9" Type="http://schemas.openxmlformats.org/officeDocument/2006/relationships/hyperlink" Target="http://www.edu.dudley.gov.uk/numeracy/Primary/Easter CD/programs/angle_challenge.swf" TargetMode="External"/><Relationship Id="rId10" Type="http://schemas.openxmlformats.org/officeDocument/2006/relationships/hyperlink" Target="http://www.edu.dudley.gov.uk/numeracy/Primary/Easter CD/programs/angle_challenge.swf" TargetMode="External"/><Relationship Id="rId11" Type="http://schemas.openxmlformats.org/officeDocument/2006/relationships/hyperlink" Target="http://www.edu.dudley.gov.uk/numeracy/Primary/Easter CD/programs/angle_challenge.swf" TargetMode="External"/><Relationship Id="rId12" Type="http://schemas.openxmlformats.org/officeDocument/2006/relationships/hyperlink" Target="http://www.edu.dudley.gov.uk/numeracy/Primary/Easter CD/programs/angle_challenge.swf" TargetMode="External"/><Relationship Id="rId13" Type="http://schemas.openxmlformats.org/officeDocument/2006/relationships/hyperlink" Target="http://www.edu.dudley.gov.uk/numeracy/Primary/Easter CD/programs/angle_challenge.swf" TargetMode="External"/><Relationship Id="rId14" Type="http://schemas.openxmlformats.org/officeDocument/2006/relationships/hyperlink" Target="http://www.edu.dudley.gov.uk/numeracy/Primary/Easter CD/programs/angle_challenge.swf" TargetMode="External"/><Relationship Id="rId15" Type="http://schemas.openxmlformats.org/officeDocument/2006/relationships/hyperlink" Target="http://www.edu.dudley.gov.uk/numeracy/Primary/Easter CD/programs/angle_challenge.swf" TargetMode="External"/><Relationship Id="rId16" Type="http://schemas.openxmlformats.org/officeDocument/2006/relationships/hyperlink" Target="http://www.edu.dudley.gov.uk/numeracy/Primary/Easter CD/programs/angle_challenge.swf" TargetMode="External"/><Relationship Id="rId17" Type="http://schemas.openxmlformats.org/officeDocument/2006/relationships/hyperlink" Target="http://www.edu.dudley.gov.uk/numeracy/Primary/Easter CD/programs/angle_challenge.swf" TargetMode="External"/><Relationship Id="rId18" Type="http://schemas.openxmlformats.org/officeDocument/2006/relationships/hyperlink" Target="http://www.edu.dudley.gov.uk/numeracy/Primary/Easter CD/programs/angle_challenge.swf" TargetMode="External"/><Relationship Id="rId19" Type="http://schemas.openxmlformats.org/officeDocument/2006/relationships/hyperlink" Target="http://www.edu.dudley.gov.uk/numeracy/Primary/Easter CD/programs/angle_challenge.swf" TargetMode="External"/><Relationship Id="rId20" Type="http://schemas.openxmlformats.org/officeDocument/2006/relationships/hyperlink" Target="http://www.edu.dudley.gov.uk/numeracy/Primary/Easter CD/programs/angle_challenge.swf" TargetMode="External"/><Relationship Id="rId21" Type="http://schemas.openxmlformats.org/officeDocument/2006/relationships/hyperlink" Target="http://www.edu.dudley.gov.uk/numeracy/Primary/Easter CD/programs/angle_challenge.swf" TargetMode="External"/><Relationship Id="rId22" Type="http://schemas.openxmlformats.org/officeDocument/2006/relationships/hyperlink" Target="http://www.edu.dudley.gov.uk/numeracy/Primary/Easter CD/programs/angle_challenge.swf" TargetMode="External"/><Relationship Id="rId23" Type="http://schemas.openxmlformats.org/officeDocument/2006/relationships/hyperlink" Target="http://www.edu.dudley.gov.uk/numeracy/Primary/Easter CD/programs/angle_challenge.swf" TargetMode="External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vourozměrné geometrické útvar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Úhel</a:t>
            </a:r>
            <a:br>
              <a:rPr sz="4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Měření konvexních úh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"/>
          <p:cNvPicPr/>
          <p:nvPr/>
        </p:nvPicPr>
        <p:blipFill>
          <a:blip r:embed="rId2"/>
          <a:stretch/>
        </p:blipFill>
        <p:spPr>
          <a:xfrm>
            <a:off x="812880" y="1955880"/>
            <a:ext cx="5759280" cy="4417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y měříme úhloměrem tak, že tento přiložíme počátke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vrcholu úhlů a jednou jeho nulou (ramenem) k jednomu z ramen měřeného úh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protractor0"/>
          <p:cNvPicPr/>
          <p:nvPr/>
        </p:nvPicPr>
        <p:blipFill>
          <a:blip r:embed="rId3"/>
          <a:stretch/>
        </p:blipFill>
        <p:spPr>
          <a:xfrm>
            <a:off x="826920" y="1989000"/>
            <a:ext cx="4419720" cy="2524320"/>
          </a:xfrm>
          <a:prstGeom prst="rect">
            <a:avLst/>
          </a:prstGeom>
          <a:ln w="0">
            <a:noFill/>
          </a:ln>
        </p:spPr>
      </p:pic>
      <p:sp>
        <p:nvSpPr>
          <p:cNvPr id="176" name="Line 10"/>
          <p:cNvSpPr/>
          <p:nvPr/>
        </p:nvSpPr>
        <p:spPr>
          <a:xfrm flipH="1">
            <a:off x="5003280" y="1197000"/>
            <a:ext cx="2305080" cy="446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3132000" y="1484280"/>
            <a:ext cx="2448000" cy="417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 flipH="1">
            <a:off x="3276720" y="5732640"/>
            <a:ext cx="1728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250920" y="1844640"/>
            <a:ext cx="3168720" cy="2808360"/>
          </a:xfrm>
          <a:prstGeom prst="cloudCallout">
            <a:avLst>
              <a:gd name="adj1" fmla="val 43888"/>
              <a:gd name="adj2" fmla="val 825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K jednomu z ramen úhlu jsme přiložili levé rameno úhloměru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z toho plyne, že budeme měřit na stupnici od nuly zleva (ve směru pohybu hodinových ručiče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4514760" y="1427040"/>
            <a:ext cx="3889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11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18"/>
          <p:cNvSpPr/>
          <p:nvPr/>
        </p:nvSpPr>
        <p:spPr>
          <a:xfrm flipH="1">
            <a:off x="2697120" y="3429000"/>
            <a:ext cx="3062160" cy="2305080"/>
          </a:xfrm>
          <a:prstGeom prst="pie">
            <a:avLst/>
          </a:prstGeom>
          <a:noFill/>
          <a:ln w="38160">
            <a:solidFill>
              <a:srgbClr val="3333cc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98844E-006 L 0.2151 0.2252 E">
                                      <p:cBhvr>
                                        <p:cTn id="385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y měříme úhloměrem tak, že tento přiložíme počátke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vrcholu úhlů a jednou jeho nulou (ramenem) k jednomu z ramen měřeného úh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755640" y="1933560"/>
            <a:ext cx="5154480" cy="4437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protractor0"/>
          <p:cNvPicPr/>
          <p:nvPr/>
        </p:nvPicPr>
        <p:blipFill>
          <a:blip r:embed="rId3"/>
          <a:stretch/>
        </p:blipFill>
        <p:spPr>
          <a:xfrm rot="20663400">
            <a:off x="2068560" y="1765440"/>
            <a:ext cx="6002280" cy="3429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>
            <a:off x="5032440" y="4710240"/>
            <a:ext cx="3673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47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"/>
          <p:cNvPicPr/>
          <p:nvPr/>
        </p:nvPicPr>
        <p:blipFill>
          <a:blip r:embed="rId2"/>
          <a:stretch/>
        </p:blipFill>
        <p:spPr>
          <a:xfrm>
            <a:off x="3762360" y="1916280"/>
            <a:ext cx="4481640" cy="44384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y měříme úhloměrem tak, že tento přiložíme počátke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vrcholu úhlů a jednou jeho nulou (ramenem) k jednomu z ramen měřeného úh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4" descr="protractor0"/>
          <p:cNvPicPr/>
          <p:nvPr/>
        </p:nvPicPr>
        <p:blipFill>
          <a:blip r:embed="rId3"/>
          <a:stretch/>
        </p:blipFill>
        <p:spPr>
          <a:xfrm rot="2100000">
            <a:off x="2800080" y="2052360"/>
            <a:ext cx="5473440" cy="31287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7"/>
          <p:cNvSpPr/>
          <p:nvPr/>
        </p:nvSpPr>
        <p:spPr>
          <a:xfrm>
            <a:off x="971640" y="4581360"/>
            <a:ext cx="3887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139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2"/>
          <a:stretch/>
        </p:blipFill>
        <p:spPr>
          <a:xfrm>
            <a:off x="755640" y="1916280"/>
            <a:ext cx="7848720" cy="4265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y měříme úhloměrem tak, že tento přiložíme počátke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vrcholu úhlů a jednou jeho nulou (ramenem) k jednomu z ramen měřeného úh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protractor0"/>
          <p:cNvPicPr/>
          <p:nvPr/>
        </p:nvPicPr>
        <p:blipFill>
          <a:blip r:embed="rId3"/>
          <a:stretch/>
        </p:blipFill>
        <p:spPr>
          <a:xfrm rot="10200000">
            <a:off x="1345680" y="2855160"/>
            <a:ext cx="6064560" cy="34671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900000" y="1601640"/>
            <a:ext cx="3888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15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"/>
          <p:cNvPicPr/>
          <p:nvPr/>
        </p:nvPicPr>
        <p:blipFill>
          <a:blip r:embed="rId2"/>
          <a:stretch/>
        </p:blipFill>
        <p:spPr>
          <a:xfrm>
            <a:off x="3059280" y="3129120"/>
            <a:ext cx="5400360" cy="3179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y měříme úhloměrem tak, že tento přiložíme počátke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vrcholu úhlů a jednou jeho nulou (ramenem) k jednomu z ramen měřeného úh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protractor0"/>
          <p:cNvPicPr/>
          <p:nvPr/>
        </p:nvPicPr>
        <p:blipFill>
          <a:blip r:embed="rId3"/>
          <a:stretch/>
        </p:blipFill>
        <p:spPr>
          <a:xfrm rot="900000">
            <a:off x="740880" y="1441080"/>
            <a:ext cx="6064200" cy="3467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828720" y="4581360"/>
            <a:ext cx="3887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25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2"/>
          <a:stretch/>
        </p:blipFill>
        <p:spPr>
          <a:xfrm>
            <a:off x="1471680" y="1254240"/>
            <a:ext cx="6413400" cy="5122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1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ř všechny vnitřní úhly trojúhelníku A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1471680" y="1254240"/>
            <a:ext cx="6413400" cy="5122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říklady na procvičení - 1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ř všechny vnitřní úhly trojúhelníku A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protractor0"/>
          <p:cNvPicPr/>
          <p:nvPr/>
        </p:nvPicPr>
        <p:blipFill>
          <a:blip r:embed="rId3"/>
          <a:stretch/>
        </p:blipFill>
        <p:spPr>
          <a:xfrm>
            <a:off x="-339840" y="2394000"/>
            <a:ext cx="5689800" cy="32526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7"/>
          <p:cNvSpPr/>
          <p:nvPr/>
        </p:nvSpPr>
        <p:spPr>
          <a:xfrm>
            <a:off x="1116000" y="5300640"/>
            <a:ext cx="31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CAB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42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protractor0"/>
          <p:cNvPicPr/>
          <p:nvPr/>
        </p:nvPicPr>
        <p:blipFill>
          <a:blip r:embed="rId4"/>
          <a:stretch/>
        </p:blipFill>
        <p:spPr>
          <a:xfrm>
            <a:off x="4110120" y="2392200"/>
            <a:ext cx="5689440" cy="32529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9"/>
          <p:cNvSpPr/>
          <p:nvPr/>
        </p:nvSpPr>
        <p:spPr>
          <a:xfrm>
            <a:off x="5651640" y="5300640"/>
            <a:ext cx="31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BC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7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protractor0"/>
          <p:cNvPicPr/>
          <p:nvPr/>
        </p:nvPicPr>
        <p:blipFill>
          <a:blip r:embed="rId5"/>
          <a:stretch/>
        </p:blipFill>
        <p:spPr>
          <a:xfrm rot="8294400">
            <a:off x="3850920" y="1469520"/>
            <a:ext cx="5689440" cy="32529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1"/>
          <p:cNvSpPr/>
          <p:nvPr/>
        </p:nvSpPr>
        <p:spPr>
          <a:xfrm>
            <a:off x="4572000" y="1125360"/>
            <a:ext cx="31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BCA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68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2124000" y="3502080"/>
            <a:ext cx="576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4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c400"/>
                </a:solidFill>
                <a:latin typeface="Trebuchet MS"/>
              </a:rPr>
              <a:t>+</a:t>
            </a:r>
            <a:r>
              <a:rPr b="1" lang="en-US" sz="3200" spc="-1" strike="noStrike">
                <a:solidFill>
                  <a:srgbClr val="00c4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c400"/>
                </a:solidFill>
                <a:latin typeface="Trebuchet MS"/>
              </a:rPr>
              <a:t>+</a:t>
            </a:r>
            <a:r>
              <a:rPr b="1" lang="en-US" sz="3200" spc="-1" strike="noStrike">
                <a:solidFill>
                  <a:srgbClr val="00c4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c400"/>
                </a:solidFill>
                <a:latin typeface="Trebuchet MS"/>
              </a:rPr>
              <a:t>=42°+70°+68°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říklady na procvičení - 2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ř všechny vnitřní úhly trojúhelníku OP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1471680" y="1254240"/>
            <a:ext cx="6413400" cy="51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říklady na procvičení - 2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ř všechny vnitřní úhly trojúhelníku OP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1471680" y="1254240"/>
            <a:ext cx="6413400" cy="5122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protractor0"/>
          <p:cNvPicPr/>
          <p:nvPr/>
        </p:nvPicPr>
        <p:blipFill>
          <a:blip r:embed="rId3"/>
          <a:stretch/>
        </p:blipFill>
        <p:spPr>
          <a:xfrm rot="906000">
            <a:off x="-311040" y="2003040"/>
            <a:ext cx="5349600" cy="30592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>
            <a:off x="755640" y="4508640"/>
            <a:ext cx="3168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QOP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42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protractor0"/>
          <p:cNvPicPr/>
          <p:nvPr/>
        </p:nvPicPr>
        <p:blipFill>
          <a:blip r:embed="rId4"/>
          <a:stretch/>
        </p:blipFill>
        <p:spPr>
          <a:xfrm rot="906000">
            <a:off x="2260080" y="2693520"/>
            <a:ext cx="5349960" cy="30592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9"/>
          <p:cNvSpPr/>
          <p:nvPr/>
        </p:nvSpPr>
        <p:spPr>
          <a:xfrm>
            <a:off x="4788000" y="5084640"/>
            <a:ext cx="31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OPQ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112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" descr="protractor0"/>
          <p:cNvPicPr/>
          <p:nvPr/>
        </p:nvPicPr>
        <p:blipFill>
          <a:blip r:embed="rId5"/>
          <a:stretch/>
        </p:blipFill>
        <p:spPr>
          <a:xfrm rot="9180000">
            <a:off x="5011200" y="1498320"/>
            <a:ext cx="5349960" cy="30589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1"/>
          <p:cNvSpPr/>
          <p:nvPr/>
        </p:nvSpPr>
        <p:spPr>
          <a:xfrm>
            <a:off x="4788000" y="1268280"/>
            <a:ext cx="31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PQO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26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900000" y="2276640"/>
            <a:ext cx="439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400"/>
                </a:solidFill>
                <a:latin typeface="Trebuchet MS"/>
              </a:rPr>
              <a:t>42°+112°+26°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říklady na procvičení - 3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ř všechny vnitřní úhly čtyřúhelníku ABC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1471680" y="1254240"/>
            <a:ext cx="6413400" cy="512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1187280" y="206064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3"/>
          <p:cNvSpPr/>
          <p:nvPr/>
        </p:nvSpPr>
        <p:spPr>
          <a:xfrm>
            <a:off x="2857680" y="2060640"/>
            <a:ext cx="5257800" cy="2305080"/>
          </a:xfrm>
          <a:prstGeom prst="pie">
            <a:avLst/>
          </a:pr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3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opakujme si nejdříve, co o úhlu už víme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928800" y="6429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je část roviny vymezená dvěma polopřímkami se stejným počátk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yto polopřímky se nazývají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ramena úhlu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, jejich společný počátek je pak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vrchol úhlu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539640" y="5157720"/>
            <a:ext cx="813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ak tedy – stále si někdo myslí, že úhel jsou ty dvě „čáry“ (ramena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70036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714760" y="44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 flipV="1">
            <a:off x="2871720" y="206028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 flipV="1">
            <a:off x="2843280" y="306828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3509640" y="2484720"/>
            <a:ext cx="210240" cy="8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3174840" y="220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5439240" y="3601080"/>
            <a:ext cx="655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5364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31"/>
          <p:cNvSpPr/>
          <p:nvPr/>
        </p:nvSpPr>
        <p:spPr>
          <a:xfrm>
            <a:off x="3191040" y="3560760"/>
            <a:ext cx="574560" cy="57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4"/>
          <p:cNvSpPr/>
          <p:nvPr/>
        </p:nvSpPr>
        <p:spPr>
          <a:xfrm>
            <a:off x="1547640" y="1989000"/>
            <a:ext cx="1295640" cy="230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5"/>
          <p:cNvSpPr/>
          <p:nvPr/>
        </p:nvSpPr>
        <p:spPr>
          <a:xfrm flipH="1">
            <a:off x="3708000" y="1700280"/>
            <a:ext cx="1079640" cy="792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4788000" y="1700280"/>
            <a:ext cx="792000" cy="194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7"/>
          <p:cNvSpPr/>
          <p:nvPr/>
        </p:nvSpPr>
        <p:spPr>
          <a:xfrm>
            <a:off x="2195640" y="1125360"/>
            <a:ext cx="2305080" cy="1656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539640" y="580536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ak tedy ještě jednou: </a:t>
            </a:r>
            <a:br>
              <a:rPr sz="1800"/>
            </a:b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Úhel jsou nejen ta dvě ramena, ale i všechny body mezi nimi!</a:t>
            </a:r>
            <a:br>
              <a:rPr sz="2200"/>
            </a:b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Je to část roviny vymezená rameny úhl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říklady na procvičení - 3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ř všechny vnitřní úhly čtyřúhelníku ABC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1471680" y="1254240"/>
            <a:ext cx="6413400" cy="51228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898560" y="5302080"/>
            <a:ext cx="31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DAB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118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protractor0"/>
          <p:cNvPicPr/>
          <p:nvPr/>
        </p:nvPicPr>
        <p:blipFill>
          <a:blip r:embed="rId3"/>
          <a:stretch/>
        </p:blipFill>
        <p:spPr>
          <a:xfrm rot="585000">
            <a:off x="654120" y="2679480"/>
            <a:ext cx="5349960" cy="3058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protractor0"/>
          <p:cNvPicPr/>
          <p:nvPr/>
        </p:nvPicPr>
        <p:blipFill>
          <a:blip r:embed="rId4"/>
          <a:stretch/>
        </p:blipFill>
        <p:spPr>
          <a:xfrm rot="585000">
            <a:off x="3038400" y="3092040"/>
            <a:ext cx="5349960" cy="30592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9"/>
          <p:cNvSpPr/>
          <p:nvPr/>
        </p:nvSpPr>
        <p:spPr>
          <a:xfrm>
            <a:off x="5651640" y="5445000"/>
            <a:ext cx="316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BC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97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protractor0"/>
          <p:cNvPicPr/>
          <p:nvPr/>
        </p:nvPicPr>
        <p:blipFill>
          <a:blip r:embed="rId5"/>
          <a:stretch/>
        </p:blipFill>
        <p:spPr>
          <a:xfrm rot="10140000">
            <a:off x="4261680" y="1497960"/>
            <a:ext cx="5349960" cy="30589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1"/>
          <p:cNvSpPr/>
          <p:nvPr/>
        </p:nvSpPr>
        <p:spPr>
          <a:xfrm>
            <a:off x="4572000" y="1125360"/>
            <a:ext cx="316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BCD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62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2" descr="protractor0"/>
          <p:cNvPicPr/>
          <p:nvPr/>
        </p:nvPicPr>
        <p:blipFill>
          <a:blip r:embed="rId6"/>
          <a:stretch/>
        </p:blipFill>
        <p:spPr>
          <a:xfrm rot="10140000">
            <a:off x="-122760" y="2334600"/>
            <a:ext cx="5349960" cy="30589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3"/>
          <p:cNvSpPr/>
          <p:nvPr/>
        </p:nvSpPr>
        <p:spPr>
          <a:xfrm>
            <a:off x="971640" y="1700280"/>
            <a:ext cx="3168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CDA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83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1979640" y="414972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400"/>
                </a:solidFill>
                <a:latin typeface="Trebuchet MS"/>
              </a:rPr>
              <a:t>118°+97°+62°+83°=3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4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571680" y="981000"/>
            <a:ext cx="838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tevři si následující internetový odkaz, měň si velikost úhlů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určuj jejich velikost:</a:t>
            </a:r>
            <a:br>
              <a:rPr sz="2000"/>
            </a:b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crickweb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.co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uk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assets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9"/>
              </a:rPr>
              <a:t>resources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10"/>
              </a:rPr>
              <a:t>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11"/>
              </a:rPr>
              <a:t>angle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12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Trebuchet MS"/>
                <a:hlinkClick r:id="rId13"/>
              </a:rPr>
              <a:t>s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14"/>
          <a:stretch/>
        </p:blipFill>
        <p:spPr>
          <a:xfrm>
            <a:off x="1547640" y="1908000"/>
            <a:ext cx="6258240" cy="44737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10"/>
          <p:cNvSpPr/>
          <p:nvPr/>
        </p:nvSpPr>
        <p:spPr>
          <a:xfrm>
            <a:off x="6372360" y="3860640"/>
            <a:ext cx="2663640" cy="1295640"/>
          </a:xfrm>
          <a:prstGeom prst="cloudCallout">
            <a:avLst>
              <a:gd name="adj1" fmla="val -49287"/>
              <a:gd name="adj2" fmla="val 803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1) Kliknutím na kterékoliv z těchto tří koleček si zvol nový úh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1042920" y="2133720"/>
            <a:ext cx="2160720" cy="1006200"/>
          </a:xfrm>
          <a:prstGeom prst="cloudCallout">
            <a:avLst>
              <a:gd name="adj1" fmla="val 106574"/>
              <a:gd name="adj2" fmla="val -261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) Tady zapiš správnou odpově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2"/>
          <p:cNvSpPr/>
          <p:nvPr/>
        </p:nvSpPr>
        <p:spPr>
          <a:xfrm>
            <a:off x="6227640" y="2421000"/>
            <a:ext cx="2808360" cy="1368360"/>
          </a:xfrm>
          <a:prstGeom prst="cloudCallout">
            <a:avLst>
              <a:gd name="adj1" fmla="val -64472"/>
              <a:gd name="adj2" fmla="val -547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3) Tady svoji odpověď potvrď, abys viděl, zda jsi odpověděl správně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000"/>
                            </p:stCondLst>
                            <p:childTnLst>
                              <p:par>
                                <p:cTn id="7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268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5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95280" y="965160"/>
            <a:ext cx="856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tevři si následující internetový odkaz a na něm zmáčkni tlačítko „Start“. Objeví se ti stránka, jako je na následujícím snímku: 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edu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dudley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gov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9"/>
              </a:rPr>
              <a:t>uk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0"/>
              </a:rPr>
              <a:t>/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1"/>
              </a:rPr>
              <a:t>numeracy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2"/>
              </a:rPr>
              <a:t>/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3"/>
              </a:rPr>
              <a:t>Primary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4"/>
              </a:rPr>
              <a:t>/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5"/>
              </a:rPr>
              <a:t>Easter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6"/>
              </a:rPr>
              <a:t>%20CD/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7"/>
              </a:rPr>
              <a:t>programs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8"/>
              </a:rPr>
              <a:t>/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9"/>
              </a:rPr>
              <a:t>angle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20"/>
              </a:rPr>
              <a:t>_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21"/>
              </a:rPr>
              <a:t>challenge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22"/>
              </a:rPr>
              <a:t>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23"/>
              </a:rPr>
              <a:t>sw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24"/>
          <a:stretch/>
        </p:blipFill>
        <p:spPr>
          <a:xfrm>
            <a:off x="1706400" y="1900080"/>
            <a:ext cx="581832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5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582480" y="981000"/>
            <a:ext cx="838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Na této stránce zadej své jméno, navol příslušné možnosti a zmáčkni tlačítko „Play“. Pak se ti konečně objeví stránka shodná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 následujícím snímkem, kde už budeš měřit dané úh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1619280" y="1889280"/>
            <a:ext cx="5977080" cy="452088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7"/>
          <p:cNvSpPr/>
          <p:nvPr/>
        </p:nvSpPr>
        <p:spPr>
          <a:xfrm>
            <a:off x="179280" y="4076640"/>
            <a:ext cx="1981440" cy="1222560"/>
          </a:xfrm>
          <a:prstGeom prst="cloudCallout">
            <a:avLst>
              <a:gd name="adj1" fmla="val 126361"/>
              <a:gd name="adj2" fmla="val -468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) Poč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úhlů - otáz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6659640" y="1989000"/>
            <a:ext cx="1873080" cy="1081080"/>
          </a:xfrm>
          <a:prstGeom prst="cloudCallout">
            <a:avLst>
              <a:gd name="adj1" fmla="val -108643"/>
              <a:gd name="adj2" fmla="val 657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1) Obtížnost úkol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6516720" y="3429000"/>
            <a:ext cx="2089080" cy="1368360"/>
          </a:xfrm>
          <a:prstGeom prst="cloudCallout">
            <a:avLst>
              <a:gd name="adj1" fmla="val -143615"/>
              <a:gd name="adj2" fmla="val 209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3) Měření nebo „tvorba“ (odhadování)  velikosti úhl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484360" y="5445000"/>
            <a:ext cx="1981440" cy="1222560"/>
          </a:xfrm>
          <a:prstGeom prst="cloudCallout">
            <a:avLst>
              <a:gd name="adj1" fmla="val 88222"/>
              <a:gd name="adj2" fmla="val -397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) Chci – nechci vidět běžící č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5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6500"/>
                            </p:stCondLst>
                            <p:childTnLst>
                              <p:par>
                                <p:cTn id="7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5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82480" y="981000"/>
            <a:ext cx="838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Tak ještě jednou odkaz na spuštění: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edu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dudley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7"/>
              </a:rPr>
              <a:t>gov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8"/>
              </a:rPr>
              <a:t>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9"/>
              </a:rPr>
              <a:t>uk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0"/>
              </a:rPr>
              <a:t>/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1"/>
              </a:rPr>
              <a:t>numeracy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2"/>
              </a:rPr>
              <a:t>/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3"/>
              </a:rPr>
              <a:t>Primary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4"/>
              </a:rPr>
              <a:t>/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5"/>
              </a:rPr>
              <a:t>Easter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6"/>
              </a:rPr>
              <a:t>%20CD/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7"/>
              </a:rPr>
              <a:t>programs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8"/>
              </a:rPr>
              <a:t>/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19"/>
              </a:rPr>
              <a:t>angle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20"/>
              </a:rPr>
              <a:t>_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21"/>
              </a:rPr>
              <a:t>challenge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22"/>
              </a:rPr>
              <a:t>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rebuchet MS"/>
                <a:hlinkClick r:id="rId23"/>
              </a:rPr>
              <a:t>sw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24"/>
          <a:stretch/>
        </p:blipFill>
        <p:spPr>
          <a:xfrm>
            <a:off x="1778040" y="1901880"/>
            <a:ext cx="5861160" cy="449748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7"/>
          <p:cNvSpPr/>
          <p:nvPr/>
        </p:nvSpPr>
        <p:spPr>
          <a:xfrm>
            <a:off x="1258920" y="2924280"/>
            <a:ext cx="2160720" cy="1224000"/>
          </a:xfrm>
          <a:prstGeom prst="cloudCallout">
            <a:avLst>
              <a:gd name="adj1" fmla="val 36259"/>
              <a:gd name="adj2" fmla="val 1049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1) Úhloměrem můžeš pohybov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1116000" y="5445000"/>
            <a:ext cx="2160720" cy="1224000"/>
          </a:xfrm>
          <a:prstGeom prst="cloudCallout">
            <a:avLst>
              <a:gd name="adj1" fmla="val 114657"/>
              <a:gd name="adj2" fmla="val -61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) V tomto místě je možné úhloměr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i otáč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6730920" y="2782800"/>
            <a:ext cx="2233800" cy="1150920"/>
          </a:xfrm>
          <a:prstGeom prst="cloudCallout">
            <a:avLst>
              <a:gd name="adj1" fmla="val -74236"/>
              <a:gd name="adj2" fmla="val 733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3) Zde zadáš svoji odpově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0"/>
          <p:cNvSpPr/>
          <p:nvPr/>
        </p:nvSpPr>
        <p:spPr>
          <a:xfrm>
            <a:off x="6910560" y="5516640"/>
            <a:ext cx="2233440" cy="1150920"/>
          </a:xfrm>
          <a:prstGeom prst="cloudCallout">
            <a:avLst>
              <a:gd name="adj1" fmla="val -38555"/>
              <a:gd name="adj2" fmla="val -133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4) Tady si ověříš její správno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4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65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 na závěr ještě jednou to nejdůležitějš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Úhly měřím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úhloměre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v jednotkách zvaných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tupně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2427120" y="3392640"/>
            <a:ext cx="3710160" cy="28447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7"/>
          <p:cNvSpPr/>
          <p:nvPr/>
        </p:nvSpPr>
        <p:spPr>
          <a:xfrm>
            <a:off x="5234040" y="3141720"/>
            <a:ext cx="3673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54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protractor0"/>
          <p:cNvPicPr/>
          <p:nvPr/>
        </p:nvPicPr>
        <p:blipFill>
          <a:blip r:embed="rId3"/>
          <a:stretch/>
        </p:blipFill>
        <p:spPr>
          <a:xfrm>
            <a:off x="611280" y="3684600"/>
            <a:ext cx="4419360" cy="2523960"/>
          </a:xfrm>
          <a:prstGeom prst="rect">
            <a:avLst/>
          </a:prstGeom>
          <a:ln w="0">
            <a:noFill/>
          </a:ln>
        </p:spPr>
      </p:pic>
      <p:sp>
        <p:nvSpPr>
          <p:cNvPr id="286" name="Line 9"/>
          <p:cNvSpPr/>
          <p:nvPr/>
        </p:nvSpPr>
        <p:spPr>
          <a:xfrm flipH="1">
            <a:off x="4125600" y="4076640"/>
            <a:ext cx="1152360" cy="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268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Shrnutí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187280" y="328608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2857680" y="3286080"/>
            <a:ext cx="5257800" cy="2305080"/>
          </a:xfrm>
          <a:prstGeom prst="pie">
            <a:avLst/>
          </a:pr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Úhel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2960" y="7509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se značí dvěma způs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pomocí vrcholu a dvou bodů, z nichž každý leží na jedno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 ramen. Písmenko označující vrchol se píše mezi těmito dvěma body (v našem příkladě jde o úhel AVB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700360" y="53751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714760" y="5626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 flipV="1">
            <a:off x="2871720" y="328572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 flipV="1">
            <a:off x="2843280" y="429372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3509640" y="3710520"/>
            <a:ext cx="210240" cy="8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174840" y="3430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5439600" y="4826520"/>
            <a:ext cx="65160" cy="21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364000" y="5014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16"/>
          <p:cNvSpPr/>
          <p:nvPr/>
        </p:nvSpPr>
        <p:spPr>
          <a:xfrm>
            <a:off x="3191040" y="4786200"/>
            <a:ext cx="574560" cy="57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3362400" y="2131920"/>
            <a:ext cx="300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sujeme: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914400" y="2637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) pomocí malých písmen řecké abecedy (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β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δ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2843280" y="1557360"/>
            <a:ext cx="0" cy="38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5"/>
          <p:cNvSpPr/>
          <p:nvPr/>
        </p:nvSpPr>
        <p:spPr>
          <a:xfrm flipH="1">
            <a:off x="3578400" y="1542960"/>
            <a:ext cx="79200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>
            <a:off x="4370400" y="1542960"/>
            <a:ext cx="1065240" cy="32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2749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Úhel je veličina, která se dá měř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 měření slouž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úhlomě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6" descr="protractor0"/>
          <p:cNvPicPr/>
          <p:nvPr/>
        </p:nvPicPr>
        <p:blipFill>
          <a:blip r:embed="rId2"/>
          <a:stretch/>
        </p:blipFill>
        <p:spPr>
          <a:xfrm>
            <a:off x="2239920" y="3641760"/>
            <a:ext cx="441972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Název souboru: j0343347.wmf&#13;Klíčová slova: akademici, osoby, školní tabule ...&#13;Velikost souboru: 33 kB"/>
          <p:cNvPicPr/>
          <p:nvPr/>
        </p:nvPicPr>
        <p:blipFill>
          <a:blip r:embed="rId2"/>
          <a:stretch/>
        </p:blipFill>
        <p:spPr>
          <a:xfrm>
            <a:off x="5940360" y="476280"/>
            <a:ext cx="2764080" cy="2763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ákladní jednotkou velikosti úhlů 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upe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pozor - ne ten Celsiův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3"/>
          <a:stretch/>
        </p:blipFill>
        <p:spPr>
          <a:xfrm>
            <a:off x="539640" y="3421080"/>
            <a:ext cx="3672000" cy="2816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4"/>
          <a:stretch/>
        </p:blipFill>
        <p:spPr>
          <a:xfrm>
            <a:off x="539640" y="3421080"/>
            <a:ext cx="3672000" cy="2816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4068720" y="357336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likost úhlu AVB se značí …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6184800" y="4005360"/>
            <a:ext cx="230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bo jen …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572000" y="479592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menší úhel má velikost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0 stupňů, zapisujeme …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572000" y="551664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větší úhel má velikost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60 stupňů, zapisujeme …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enšími jednotkami velikosti úhlů jsou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inut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teřin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727200" y="4105440"/>
            <a:ext cx="770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aždý stupeň má 60 minut (1°=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0′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)</a:t>
            </a:r>
            <a:br>
              <a:rPr sz="32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</a:t>
            </a:r>
            <a:br>
              <a:rPr sz="3200"/>
            </a:b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aždá minuta má 60 vteřin (1′ =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0″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340000" y="545940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1°= 60′ = 3600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Úhly se dají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číta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dčíta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27200" y="4005360"/>
            <a:ext cx="770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dyž se mluví o sčítání nebo odčítání úhlů,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myslí se tím sčítání a odčítání jejich velikostí.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dyž mají úhly stejnou velikost, tak jsou shodné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778040" y="5300640"/>
            <a:ext cx="54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Při sčítání a odčítání se zvlášť sčítají a odčítají stupně a zvlášť minuty, případně vteř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yní se však nejdříve zaměříme na to, abychom se naučili úhly měř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2427120" y="3392640"/>
            <a:ext cx="3710160" cy="2844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1"/>
          <p:cNvSpPr/>
          <p:nvPr/>
        </p:nvSpPr>
        <p:spPr>
          <a:xfrm>
            <a:off x="5234040" y="3141720"/>
            <a:ext cx="3673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54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protractor0"/>
          <p:cNvPicPr/>
          <p:nvPr/>
        </p:nvPicPr>
        <p:blipFill>
          <a:blip r:embed="rId3"/>
          <a:stretch/>
        </p:blipFill>
        <p:spPr>
          <a:xfrm>
            <a:off x="611280" y="3684600"/>
            <a:ext cx="4419360" cy="2523960"/>
          </a:xfrm>
          <a:prstGeom prst="rect">
            <a:avLst/>
          </a:prstGeom>
          <a:ln w="0">
            <a:noFill/>
          </a:ln>
        </p:spPr>
      </p:pic>
      <p:sp>
        <p:nvSpPr>
          <p:cNvPr id="156" name="Line 13"/>
          <p:cNvSpPr/>
          <p:nvPr/>
        </p:nvSpPr>
        <p:spPr>
          <a:xfrm flipH="1">
            <a:off x="4125600" y="4076640"/>
            <a:ext cx="1152360" cy="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9" descr=""/>
          <p:cNvPicPr/>
          <p:nvPr/>
        </p:nvPicPr>
        <p:blipFill>
          <a:blip r:embed="rId2"/>
          <a:stretch/>
        </p:blipFill>
        <p:spPr>
          <a:xfrm>
            <a:off x="2816280" y="1941480"/>
            <a:ext cx="5759280" cy="44179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y měříme úhloměrem tak, že tento přiložíme počátke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vrcholu úhlů a jednou jeho nulou (ramenem) k jednomu z ramen měřeného úh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3" descr="protractor0"/>
          <p:cNvPicPr/>
          <p:nvPr/>
        </p:nvPicPr>
        <p:blipFill>
          <a:blip r:embed="rId3"/>
          <a:stretch/>
        </p:blipFill>
        <p:spPr>
          <a:xfrm>
            <a:off x="826920" y="1989000"/>
            <a:ext cx="4419720" cy="2524320"/>
          </a:xfrm>
          <a:prstGeom prst="rect">
            <a:avLst/>
          </a:prstGeom>
          <a:ln w="0">
            <a:noFill/>
          </a:ln>
        </p:spPr>
      </p:pic>
      <p:sp>
        <p:nvSpPr>
          <p:cNvPr id="162" name="Line 24"/>
          <p:cNvSpPr/>
          <p:nvPr/>
        </p:nvSpPr>
        <p:spPr>
          <a:xfrm flipH="1">
            <a:off x="3059280" y="1197000"/>
            <a:ext cx="4249440" cy="296712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5"/>
          <p:cNvSpPr/>
          <p:nvPr/>
        </p:nvSpPr>
        <p:spPr>
          <a:xfrm flipH="1">
            <a:off x="1403280" y="1469880"/>
            <a:ext cx="3097440" cy="267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4500720" y="1484280"/>
            <a:ext cx="215640" cy="2665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 flipH="1">
            <a:off x="3708000" y="1197000"/>
            <a:ext cx="3600360" cy="439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8"/>
          <p:cNvSpPr/>
          <p:nvPr/>
        </p:nvSpPr>
        <p:spPr>
          <a:xfrm flipH="1">
            <a:off x="5364000" y="1484280"/>
            <a:ext cx="216000" cy="4105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0"/>
          <p:cNvSpPr/>
          <p:nvPr/>
        </p:nvSpPr>
        <p:spPr>
          <a:xfrm>
            <a:off x="3664080" y="5661000"/>
            <a:ext cx="1728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5724360" y="1700280"/>
            <a:ext cx="3168720" cy="2808360"/>
          </a:xfrm>
          <a:prstGeom prst="cloudCallout">
            <a:avLst>
              <a:gd name="adj1" fmla="val -58314"/>
              <a:gd name="adj2" fmla="val 835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K jednomu z ramen úhlu jsme přiložili pravé rameno úhloměru a z toho plyne, že budeme měřit na stupnici od nuly zprava (proti směru pohybu hodinových ručiče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rc 33"/>
          <p:cNvSpPr/>
          <p:nvPr/>
        </p:nvSpPr>
        <p:spPr>
          <a:xfrm>
            <a:off x="3648240" y="3556080"/>
            <a:ext cx="2247840" cy="2104920"/>
          </a:xfrm>
          <a:prstGeom prst="pie">
            <a:avLst/>
          </a:prstGeom>
          <a:noFill/>
          <a:ln w="38160">
            <a:solidFill>
              <a:srgbClr val="3333cc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985680" y="1916280"/>
            <a:ext cx="36738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=7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98844E-006 L 0.06545 0.21456 E">
                                      <p:cBhvr>
                                        <p:cTn id="31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09-10-30T10:56:05Z</dcterms:modified>
  <cp:revision>201</cp:revision>
  <dc:subject/>
  <dc:title>Měření úhlů konvexních</dc:title>
</cp:coreProperties>
</file>