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1C0-F648-463E-B638-C73BCFCD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2CE-B34A-4423-A7D2-1EAAE10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017-6DC5-46A6-AE7B-BB910B8F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B99-026C-4E9E-8C3D-C40FFDF5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1502-C67B-4D45-B933-321B6362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6982-4217-4416-8288-BC36A41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3654-7F21-438F-816E-90D9A59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7205-4BC2-4D31-88DB-9946908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BE8F-7003-492C-86AE-1056DB5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9554-92F7-4DB5-B81C-15C8F112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866E-9525-45B9-802C-6D8F20B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786-B701-42C3-A0C9-6301FC0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FF9F-A372-423B-A2D1-2AD9008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2D1-152E-47CF-BBDA-957F112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B9D5-940E-4F07-8D15-28564BCA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0F5-09A1-4295-9054-6F83C721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A778-659D-4E03-84B2-863BBB17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4F3-7C86-4B71-B52C-06D12E7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603-E10C-43CA-A2EB-F13B4312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250-ECA6-42D5-AF24-1D4E9679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14F-5C55-4A55-B023-2126634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702-6732-492D-83A5-B72CF4A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9F5-7BC9-46CA-BB82-B3334D74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52D-AA3B-4925-9B77-8DCA5B7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E71E-B52E-4CA0-ADAF-4DD4DC74D9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ADE-C528-478E-BFB7-75C57C966A3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Dvourozměrné geometrické útvar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Úhel</a:t>
            </a:r>
            <a:br>
              <a:rPr sz="4000"/>
            </a:br>
            <a:r>
              <a:rPr b="0" lang="cs-CZ" sz="2000" spc="-1" strike="noStrike">
                <a:solidFill>
                  <a:srgbClr val="284c6a"/>
                </a:solidFill>
                <a:latin typeface="Trebuchet MS"/>
              </a:rPr>
              <a:t>Měření nekonvexních úhl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666699"/>
                </a:solidFill>
                <a:latin typeface="Arial"/>
              </a:rPr>
              <a:t>Autor </a:t>
            </a:r>
            <a:r>
              <a:rPr b="0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©</a:t>
            </a:r>
            <a:r>
              <a:rPr b="0" lang="cs-CZ" sz="1200" spc="-1" strike="noStrike">
                <a:solidFill>
                  <a:srgbClr val="666699"/>
                </a:solidFill>
                <a:latin typeface="Arial"/>
                <a:ea typeface="Arial"/>
              </a:rPr>
              <a:t> Mgr. Radomír Machá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9" descr=""/>
          <p:cNvPicPr/>
          <p:nvPr/>
        </p:nvPicPr>
        <p:blipFill>
          <a:blip r:embed="rId2"/>
          <a:stretch/>
        </p:blipFill>
        <p:spPr>
          <a:xfrm>
            <a:off x="2816280" y="1941480"/>
            <a:ext cx="5759280" cy="4417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pakování - měření úhlů konvexních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svým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3" descr="protractor0"/>
          <p:cNvPicPr/>
          <p:nvPr/>
        </p:nvPicPr>
        <p:blipFill>
          <a:blip r:embed="rId3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189" name="Line 24"/>
          <p:cNvSpPr/>
          <p:nvPr/>
        </p:nvSpPr>
        <p:spPr>
          <a:xfrm flipH="1">
            <a:off x="3059280" y="1197000"/>
            <a:ext cx="4249440" cy="29671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 flipH="1">
            <a:off x="1403280" y="1469880"/>
            <a:ext cx="3097440" cy="267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4500720" y="1484280"/>
            <a:ext cx="215640" cy="26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 flipH="1">
            <a:off x="3708000" y="1197000"/>
            <a:ext cx="3600360" cy="439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H="1">
            <a:off x="5364000" y="1484280"/>
            <a:ext cx="216000" cy="410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3664080" y="566100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1"/>
          <p:cNvSpPr/>
          <p:nvPr/>
        </p:nvSpPr>
        <p:spPr>
          <a:xfrm>
            <a:off x="5724360" y="1700280"/>
            <a:ext cx="3168720" cy="2808360"/>
          </a:xfrm>
          <a:prstGeom prst="cloudCallout">
            <a:avLst>
              <a:gd name="adj1" fmla="val -58314"/>
              <a:gd name="adj2" fmla="val 8352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jednomu z ramen úhlu jsme přiložili pravé rameno úhloměru a z toho plyne, že budeme měřit na stupnici od nuly zprava (proti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33"/>
          <p:cNvSpPr/>
          <p:nvPr/>
        </p:nvSpPr>
        <p:spPr>
          <a:xfrm>
            <a:off x="3648240" y="3556080"/>
            <a:ext cx="2247840" cy="21049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fill="none" w="21600" h="20228">
                <a:moveTo>
                  <a:pt x="7575" y="0"/>
                </a:moveTo>
                <a:cubicBezTo>
                  <a:pt x="16010" y="3159"/>
                  <a:pt x="21600" y="11220"/>
                  <a:pt x="21600" y="20228"/>
                </a:cubicBezTo>
              </a:path>
              <a:path stroke="0" w="21600" h="20228">
                <a:moveTo>
                  <a:pt x="7575" y="0"/>
                </a:moveTo>
                <a:cubicBezTo>
                  <a:pt x="16010" y="3159"/>
                  <a:pt x="21600" y="11220"/>
                  <a:pt x="21600" y="20228"/>
                </a:cubicBezTo>
                <a:lnTo>
                  <a:pt x="0" y="2022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5"/>
          <p:cNvSpPr/>
          <p:nvPr/>
        </p:nvSpPr>
        <p:spPr>
          <a:xfrm>
            <a:off x="985680" y="1916280"/>
            <a:ext cx="36738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70</a:t>
            </a: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06545 0.21456 E">
                                      <p:cBhvr>
                                        <p:cTn id="36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7" descr=""/>
          <p:cNvPicPr/>
          <p:nvPr/>
        </p:nvPicPr>
        <p:blipFill>
          <a:blip r:embed="rId2"/>
          <a:stretch/>
        </p:blipFill>
        <p:spPr>
          <a:xfrm>
            <a:off x="812880" y="1955880"/>
            <a:ext cx="5759280" cy="4417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Opakování - měření úhlů konvexních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Úhly měříme úhloměrem tak, že tento přiložíme svým počátke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vrcholu úhlů a jednou jeho nulou (ramenem) k jednomu z ramen měřeného úh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protractor0"/>
          <p:cNvPicPr/>
          <p:nvPr/>
        </p:nvPicPr>
        <p:blipFill>
          <a:blip r:embed="rId3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>
            <a:off x="5003280" y="1197000"/>
            <a:ext cx="2305080" cy="4464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3132000" y="1484280"/>
            <a:ext cx="2448000" cy="417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>
            <a:off x="3276720" y="573264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250920" y="1844640"/>
            <a:ext cx="3168720" cy="2808360"/>
          </a:xfrm>
          <a:prstGeom prst="cloudCallout">
            <a:avLst>
              <a:gd name="adj1" fmla="val 43888"/>
              <a:gd name="adj2" fmla="val 825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K jednomu z ramen úhlu jsme přiložili levé rameno úhloměru a z toho plyne, že budeme měřit na stupnici od nuly zleva (ve směru pohybu hodinových ručiček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514760" y="1427040"/>
            <a:ext cx="3889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1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18"/>
          <p:cNvSpPr/>
          <p:nvPr/>
        </p:nvSpPr>
        <p:spPr>
          <a:xfrm flipH="1">
            <a:off x="2697120" y="3429000"/>
            <a:ext cx="3062160" cy="2305080"/>
          </a:xfrm>
          <a:custGeom>
            <a:avLst/>
            <a:gdLst>
              <a:gd name="textAreaLeft" fmla="*/ 360 w 3062160"/>
              <a:gd name="textAreaRight" fmla="*/ 3062880 w 30621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fill="none" w="28689" h="21600">
                <a:moveTo>
                  <a:pt x="0" y="1196"/>
                </a:moveTo>
                <a:cubicBezTo>
                  <a:pt x="2279" y="404"/>
                  <a:pt x="4675" y="-1"/>
                  <a:pt x="7089" y="0"/>
                </a:cubicBezTo>
                <a:cubicBezTo>
                  <a:pt x="19018" y="0"/>
                  <a:pt x="28689" y="9670"/>
                  <a:pt x="28689" y="21600"/>
                </a:cubicBezTo>
              </a:path>
              <a:path stroke="0" w="28689" h="21600">
                <a:moveTo>
                  <a:pt x="0" y="1196"/>
                </a:moveTo>
                <a:cubicBezTo>
                  <a:pt x="2279" y="404"/>
                  <a:pt x="4675" y="-1"/>
                  <a:pt x="7089" y="0"/>
                </a:cubicBezTo>
                <a:cubicBezTo>
                  <a:pt x="19018" y="0"/>
                  <a:pt x="28689" y="9670"/>
                  <a:pt x="28689" y="21600"/>
                </a:cubicBezTo>
                <a:lnTo>
                  <a:pt x="7089" y="216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2151 0.2252 E">
                                      <p:cBhvr>
                                        <p:cTn id="43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 nekonvexních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ak již z vlastní zkušenosti víme, běžný úhloměr má měřící rozsah, tedy stupnici, jen v rozmezí od 0°do 180°. A jelikož úhly nekonvexní mají velikost větší, musíme tomu přizpůsobit i postup při jejich měření. Nyní si tedy ukážeme, jak na 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6" descr=""/>
          <p:cNvPicPr/>
          <p:nvPr/>
        </p:nvPicPr>
        <p:blipFill>
          <a:blip r:embed="rId2"/>
          <a:stretch/>
        </p:blipFill>
        <p:spPr>
          <a:xfrm>
            <a:off x="2816280" y="1898640"/>
            <a:ext cx="5716440" cy="444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rotractor0"/>
          <p:cNvPicPr/>
          <p:nvPr/>
        </p:nvPicPr>
        <p:blipFill>
          <a:blip r:embed="rId3"/>
          <a:stretch/>
        </p:blipFill>
        <p:spPr>
          <a:xfrm>
            <a:off x="826920" y="1989000"/>
            <a:ext cx="441972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 nekonvexních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el rozdělíme prodloužením jednoho ramene na úhly dva. Jeden o velikosti 180°a jeden menší, který již můžeme běžným, nám již známým způsobem změřit. Na závěr pak velikosti obou úhlů sečteme, čímž určíme velikost daného úhl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1087560" y="1898640"/>
            <a:ext cx="5716440" cy="4446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protractor0"/>
          <p:cNvPicPr/>
          <p:nvPr/>
        </p:nvPicPr>
        <p:blipFill>
          <a:blip r:embed="rId3"/>
          <a:stretch/>
        </p:blipFill>
        <p:spPr>
          <a:xfrm>
            <a:off x="841320" y="2046240"/>
            <a:ext cx="4419720" cy="2524320"/>
          </a:xfrm>
          <a:prstGeom prst="rect">
            <a:avLst/>
          </a:prstGeom>
          <a:ln w="0">
            <a:noFill/>
          </a:ln>
        </p:spPr>
      </p:pic>
      <p:sp>
        <p:nvSpPr>
          <p:cNvPr id="219" name="Line 8"/>
          <p:cNvSpPr/>
          <p:nvPr/>
        </p:nvSpPr>
        <p:spPr>
          <a:xfrm>
            <a:off x="5003640" y="54878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5033880" y="5491080"/>
            <a:ext cx="1728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0"/>
          <p:cNvSpPr/>
          <p:nvPr/>
        </p:nvSpPr>
        <p:spPr>
          <a:xfrm>
            <a:off x="5018040" y="3386160"/>
            <a:ext cx="2247840" cy="2104920"/>
          </a:xfrm>
          <a:custGeom>
            <a:avLst/>
            <a:gdLst>
              <a:gd name="textAreaLeft" fmla="*/ 0 w 2247840"/>
              <a:gd name="textAreaRight" fmla="*/ 2248200 w 22478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fill="none" w="21600" h="20228">
                <a:moveTo>
                  <a:pt x="7575" y="0"/>
                </a:moveTo>
                <a:cubicBezTo>
                  <a:pt x="16010" y="3159"/>
                  <a:pt x="21600" y="11220"/>
                  <a:pt x="21600" y="20228"/>
                </a:cubicBezTo>
              </a:path>
              <a:path stroke="0" w="21600" h="20228">
                <a:moveTo>
                  <a:pt x="7575" y="0"/>
                </a:moveTo>
                <a:cubicBezTo>
                  <a:pt x="16010" y="3159"/>
                  <a:pt x="21600" y="11220"/>
                  <a:pt x="21600" y="20228"/>
                </a:cubicBezTo>
                <a:lnTo>
                  <a:pt x="0" y="2022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30600" y="5703840"/>
            <a:ext cx="158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rc 12"/>
          <p:cNvSpPr/>
          <p:nvPr/>
        </p:nvSpPr>
        <p:spPr>
          <a:xfrm rot="5460000">
            <a:off x="4578840" y="5070960"/>
            <a:ext cx="880920" cy="1726920"/>
          </a:xfrm>
          <a:custGeom>
            <a:avLst/>
            <a:gdLst>
              <a:gd name="textAreaLeft" fmla="*/ 0 w 880920"/>
              <a:gd name="textAreaRight" fmla="*/ 881280 w 88092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fill="none" w="22024" h="43200">
                <a:moveTo>
                  <a:pt x="423" y="0"/>
                </a:moveTo>
                <a:cubicBezTo>
                  <a:pt x="12353" y="0"/>
                  <a:pt x="22024" y="9670"/>
                  <a:pt x="22024" y="21600"/>
                </a:cubicBezTo>
                <a:cubicBezTo>
                  <a:pt x="22024" y="-32007"/>
                  <a:pt x="12353" y="-22336"/>
                  <a:pt x="424" y="-22336"/>
                </a:cubicBezTo>
                <a:cubicBezTo>
                  <a:pt x="282" y="-22336"/>
                  <a:pt x="141" y="-22338"/>
                  <a:pt x="0" y="-22341"/>
                </a:cubicBezTo>
              </a:path>
              <a:path stroke="0" w="22024" h="43200">
                <a:moveTo>
                  <a:pt x="423" y="0"/>
                </a:moveTo>
                <a:cubicBezTo>
                  <a:pt x="12353" y="0"/>
                  <a:pt x="22024" y="9670"/>
                  <a:pt x="22024" y="21600"/>
                </a:cubicBezTo>
                <a:cubicBezTo>
                  <a:pt x="22024" y="-32007"/>
                  <a:pt x="12353" y="-22336"/>
                  <a:pt x="424" y="-22336"/>
                </a:cubicBezTo>
                <a:cubicBezTo>
                  <a:pt x="282" y="-22336"/>
                  <a:pt x="141" y="-22338"/>
                  <a:pt x="0" y="-22341"/>
                </a:cubicBezTo>
                <a:lnTo>
                  <a:pt x="424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6804000" y="3645000"/>
            <a:ext cx="1582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7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985680" y="1773360"/>
            <a:ext cx="7473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= 180° + 70°= 25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8844E-006 L 0.2151 0.18312 E">
                                      <p:cBhvr>
                                        <p:cTn id="519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1346040" y="2079720"/>
            <a:ext cx="6293160" cy="4271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el rozdělíme prodloužením jednoho ramene na úhly dva. Jeden o velikosti 180°a jeden menší, který již můžeme běžným, nám již známým způsobem změřit. Na závěr pak velikosti obou úhlů sečteme, čímž určíme velikost dan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protractor0"/>
          <p:cNvPicPr/>
          <p:nvPr/>
        </p:nvPicPr>
        <p:blipFill>
          <a:blip r:embed="rId3"/>
          <a:stretch/>
        </p:blipFill>
        <p:spPr>
          <a:xfrm>
            <a:off x="596880" y="2879640"/>
            <a:ext cx="6002280" cy="3429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1908000" y="1700280"/>
            <a:ext cx="6869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180° + 128° = 308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914400" y="332892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1" descr=""/>
          <p:cNvPicPr/>
          <p:nvPr/>
        </p:nvPicPr>
        <p:blipFill>
          <a:blip r:embed="rId2"/>
          <a:stretch/>
        </p:blipFill>
        <p:spPr>
          <a:xfrm>
            <a:off x="3105000" y="1925640"/>
            <a:ext cx="5067360" cy="44308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el rozdělíme prodloužením jednoho ramene na úhly dva. Jeden o velikosti 180°a jeden menší, který již můžeme běžným, nám již známým způsobem změřit. Na závěr pak velikosti obou úhlů sečteme, čímž určíme velikost dan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4" descr="protractor0"/>
          <p:cNvPicPr/>
          <p:nvPr/>
        </p:nvPicPr>
        <p:blipFill>
          <a:blip r:embed="rId3"/>
          <a:stretch/>
        </p:blipFill>
        <p:spPr>
          <a:xfrm>
            <a:off x="4368960" y="1406520"/>
            <a:ext cx="2738160" cy="47894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7"/>
          <p:cNvSpPr/>
          <p:nvPr/>
        </p:nvSpPr>
        <p:spPr>
          <a:xfrm>
            <a:off x="828720" y="2060640"/>
            <a:ext cx="3887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= 180° + 62° =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= 242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 flipV="1">
            <a:off x="4716360" y="191592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"/>
          <p:cNvPicPr/>
          <p:nvPr/>
        </p:nvPicPr>
        <p:blipFill>
          <a:blip r:embed="rId2"/>
          <a:stretch/>
        </p:blipFill>
        <p:spPr>
          <a:xfrm>
            <a:off x="826920" y="2401920"/>
            <a:ext cx="7705800" cy="3906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el rozdělíme prodloužením jednoho ramene na úhly dva. Jeden o velikosti 180°a jeden menší, který již můžeme běžným, nám již známým způsobem změřit. Na závěr pak velikosti obou úhlů sečteme, čímž určíme velikost dan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protractor0"/>
          <p:cNvPicPr/>
          <p:nvPr/>
        </p:nvPicPr>
        <p:blipFill>
          <a:blip r:embed="rId3"/>
          <a:stretch/>
        </p:blipFill>
        <p:spPr>
          <a:xfrm rot="9775200">
            <a:off x="2061720" y="3703320"/>
            <a:ext cx="5232600" cy="2990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900000" y="1557360"/>
            <a:ext cx="770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 = 180° + 33° = 213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 flipV="1">
            <a:off x="4290480" y="2957760"/>
            <a:ext cx="3847680" cy="12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tretch/>
        </p:blipFill>
        <p:spPr>
          <a:xfrm>
            <a:off x="2166840" y="1995480"/>
            <a:ext cx="5500800" cy="44118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Měření úhlů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82480" y="1052640"/>
            <a:ext cx="838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Úhel rozdělíme prodloužením jednoho ramene na úhly dva. Jeden o velikosti 180°a jeden menší, který již můžeme běžným, nám již známým způsobem změřit. Na závěr pak velikosti obou úhlů sečteme, čímž určíme velikost daného úh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protractor0"/>
          <p:cNvPicPr/>
          <p:nvPr/>
        </p:nvPicPr>
        <p:blipFill>
          <a:blip r:embed="rId3"/>
          <a:stretch/>
        </p:blipFill>
        <p:spPr>
          <a:xfrm rot="19297200">
            <a:off x="1244160" y="2125440"/>
            <a:ext cx="5502240" cy="3146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1909800" y="5300640"/>
            <a:ext cx="683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180° + 154° = 334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6156360" y="4221000"/>
            <a:ext cx="2736720" cy="2448000"/>
          </a:xfrm>
          <a:prstGeom prst="cloudCallout">
            <a:avLst>
              <a:gd name="adj1" fmla="val -96115"/>
              <a:gd name="adj2" fmla="val -34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 nyní, protože nám to již jde, to zkusí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 bez prodlužování ramene. Jde jen o to, správně přiložit úhlomě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A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2"/>
          <a:stretch/>
        </p:blipFill>
        <p:spPr>
          <a:xfrm>
            <a:off x="1476360" y="1308240"/>
            <a:ext cx="6335640" cy="50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1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A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1476360" y="1308240"/>
            <a:ext cx="6335640" cy="5051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protractor0"/>
          <p:cNvPicPr/>
          <p:nvPr/>
        </p:nvPicPr>
        <p:blipFill>
          <a:blip r:embed="rId3"/>
          <a:stretch/>
        </p:blipFill>
        <p:spPr>
          <a:xfrm rot="9360000">
            <a:off x="3261600" y="3831840"/>
            <a:ext cx="4708440" cy="2692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3857760" y="4579920"/>
            <a:ext cx="2874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AB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22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protractor0"/>
          <p:cNvPicPr/>
          <p:nvPr/>
        </p:nvPicPr>
        <p:blipFill>
          <a:blip r:embed="rId4"/>
          <a:stretch/>
        </p:blipFill>
        <p:spPr>
          <a:xfrm rot="14460000">
            <a:off x="4341240" y="4422600"/>
            <a:ext cx="4708800" cy="26924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9"/>
          <p:cNvSpPr/>
          <p:nvPr/>
        </p:nvSpPr>
        <p:spPr>
          <a:xfrm>
            <a:off x="6386400" y="544500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3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protractor0"/>
          <p:cNvPicPr/>
          <p:nvPr/>
        </p:nvPicPr>
        <p:blipFill>
          <a:blip r:embed="rId5"/>
          <a:stretch/>
        </p:blipFill>
        <p:spPr>
          <a:xfrm rot="8180400">
            <a:off x="4068000" y="1298160"/>
            <a:ext cx="4708440" cy="26924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1"/>
          <p:cNvSpPr/>
          <p:nvPr/>
        </p:nvSpPr>
        <p:spPr>
          <a:xfrm>
            <a:off x="4616280" y="106668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BCD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protractor0"/>
          <p:cNvPicPr/>
          <p:nvPr/>
        </p:nvPicPr>
        <p:blipFill>
          <a:blip r:embed="rId6"/>
          <a:stretch/>
        </p:blipFill>
        <p:spPr>
          <a:xfrm rot="20167200">
            <a:off x="-1072800" y="3573000"/>
            <a:ext cx="4708440" cy="2692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3"/>
          <p:cNvSpPr/>
          <p:nvPr/>
        </p:nvSpPr>
        <p:spPr>
          <a:xfrm>
            <a:off x="639720" y="4508640"/>
            <a:ext cx="264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CDA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= 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841320" y="206064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4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c4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c400"/>
                </a:solidFill>
                <a:latin typeface="Trebuchet MS"/>
              </a:rPr>
              <a:t>+ </a:t>
            </a:r>
            <a:r>
              <a:rPr b="1" lang="en-US" sz="2800" spc="-1" strike="noStrike">
                <a:solidFill>
                  <a:srgbClr val="00c4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c400"/>
                </a:solidFill>
                <a:latin typeface="Trebuchet MS"/>
              </a:rPr>
              <a:t> + </a:t>
            </a:r>
            <a:r>
              <a:rPr b="1" lang="en-US" sz="2800" spc="-1" strike="noStrike">
                <a:solidFill>
                  <a:srgbClr val="00c4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c400"/>
                </a:solidFill>
                <a:latin typeface="Trebuchet MS"/>
              </a:rPr>
              <a:t> + </a:t>
            </a:r>
            <a:r>
              <a:rPr b="1" lang="en-US" sz="2800" spc="-1" strike="noStrike">
                <a:solidFill>
                  <a:srgbClr val="00c4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>
                <a:solidFill>
                  <a:srgbClr val="00c400"/>
                </a:solidFill>
                <a:latin typeface="Trebuchet MS"/>
              </a:rPr>
              <a:t> = 227° + 38° + 75° + 20° = 3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 nejdříve, co o úhlu už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je část roviny vymezená dvěma polopřímkami se stejným počátk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yto polopřímky se nazývají </a:t>
            </a: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ramena úhlu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jejich společný počátek je pak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vrchol úhlu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39640" y="5157720"/>
            <a:ext cx="81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ak, myslí si ještě stále někdo, že úhel jsou ty dvě „čáry“ (ramena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16"/>
          <p:cNvSpPr/>
          <p:nvPr/>
        </p:nvSpPr>
        <p:spPr>
          <a:xfrm>
            <a:off x="3191040" y="3560760"/>
            <a:ext cx="574560" cy="57456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547640" y="1989000"/>
            <a:ext cx="1295640" cy="230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3708000" y="170028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788000" y="1700280"/>
            <a:ext cx="792000" cy="194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2195640" y="1125360"/>
            <a:ext cx="2305080" cy="165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539640" y="5805360"/>
            <a:ext cx="842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ak tedy ještě jednou: </a:t>
            </a:r>
            <a:br>
              <a:rPr sz="18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Úhel jsou nejen ta dvě ramena, ale i všechny body mezi nimi!</a:t>
            </a:r>
            <a:br>
              <a:rPr sz="2200"/>
            </a:br>
            <a:r>
              <a:rPr b="1" lang="en-US" sz="2200" spc="-1" strike="noStrike">
                <a:solidFill>
                  <a:srgbClr val="00cc00"/>
                </a:solidFill>
                <a:latin typeface="Trebuchet MS"/>
              </a:rPr>
              <a:t>Je to část roviny vymezená rameny úh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2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OPQ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1403280" y="1258920"/>
            <a:ext cx="6408720" cy="50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3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nitřní úhly čtyřúhelníku ABC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1547640" y="1320840"/>
            <a:ext cx="619308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684360" y="1197000"/>
            <a:ext cx="79912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říklady na procvičení - 4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52600" y="692280"/>
            <a:ext cx="838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měř všechny vyznačené nekonvexní úh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1547640" y="1317600"/>
            <a:ext cx="6264360" cy="497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187280" y="328608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857680" y="328608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Úhe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2960" y="7509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se značí dvěma způso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914400" y="1413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pomocí vrcholu a dvou bodů, z nichž každý leží na jednom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ramen. Písmenko označující vrchol se píše mezi těmito dvěma body (v našem příkladě jde o úhel AVB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700360" y="53751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714760" y="5626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2871720" y="328572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V="1">
            <a:off x="2843280" y="429372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3509640" y="3710520"/>
            <a:ext cx="210240" cy="8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174840" y="3430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5439600" y="4826520"/>
            <a:ext cx="65160" cy="21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364000" y="5014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rc 16"/>
          <p:cNvSpPr/>
          <p:nvPr/>
        </p:nvSpPr>
        <p:spPr>
          <a:xfrm>
            <a:off x="3191040" y="4786200"/>
            <a:ext cx="574560" cy="57492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362400" y="2131920"/>
            <a:ext cx="300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pisujeme: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V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914400" y="2637000"/>
            <a:ext cx="8050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 pomocí malých písmen řecké abecedy (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β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γ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l-GR" sz="2000" spc="-1" strike="noStrike">
                <a:solidFill>
                  <a:srgbClr val="ff0000"/>
                </a:solidFill>
                <a:latin typeface="Trebuchet MS"/>
              </a:rPr>
              <a:t>δ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2843280" y="1557360"/>
            <a:ext cx="0" cy="38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 flipH="1">
            <a:off x="3578400" y="1542960"/>
            <a:ext cx="792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4370400" y="1542960"/>
            <a:ext cx="1065240" cy="32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749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9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0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00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3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4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5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7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49"/>
          <p:cNvSpPr/>
          <p:nvPr/>
        </p:nvSpPr>
        <p:spPr>
          <a:xfrm>
            <a:off x="3191040" y="3560760"/>
            <a:ext cx="574560" cy="574560"/>
          </a:xfrm>
          <a:custGeom>
            <a:avLst/>
            <a:gdLst>
              <a:gd name="textAreaLeft" fmla="*/ 0 w 574560"/>
              <a:gd name="textAreaRight" fmla="*/ 574920 w 5745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87280" y="2060640"/>
            <a:ext cx="6913800" cy="30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3"/>
          <p:cNvSpPr/>
          <p:nvPr/>
        </p:nvSpPr>
        <p:spPr>
          <a:xfrm>
            <a:off x="2857680" y="2060640"/>
            <a:ext cx="5257800" cy="230508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3312" h="1452">
                <a:moveTo>
                  <a:pt x="590" y="0"/>
                </a:moveTo>
                <a:lnTo>
                  <a:pt x="3312" y="0"/>
                </a:lnTo>
                <a:lnTo>
                  <a:pt x="3312" y="635"/>
                </a:lnTo>
                <a:lnTo>
                  <a:pt x="0" y="1452"/>
                </a:lnTo>
                <a:lnTo>
                  <a:pt x="59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Zopakujme si nejdříve, co o úhlu už víme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12960" y="836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Každá dvě ramena vymezují ne jeden, ale rovnou dva úh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14400" y="1268280"/>
            <a:ext cx="80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Úhel menší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maximálně roven)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než 180°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úhel přímý)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onvexní úhel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70036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714760" y="44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2871720" y="2060280"/>
            <a:ext cx="93672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2843280" y="3068280"/>
            <a:ext cx="52578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509640" y="2484720"/>
            <a:ext cx="210240" cy="8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174840" y="220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5439240" y="3601080"/>
            <a:ext cx="6552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536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31"/>
          <p:cNvSpPr/>
          <p:nvPr/>
        </p:nvSpPr>
        <p:spPr>
          <a:xfrm rot="16200000">
            <a:off x="2281320" y="3757680"/>
            <a:ext cx="1149120" cy="1149120"/>
          </a:xfrm>
          <a:custGeom>
            <a:avLst/>
            <a:gdLst>
              <a:gd name="textAreaLeft" fmla="*/ 0 w 1149120"/>
              <a:gd name="textAreaRight" fmla="*/ 1149480 w 114912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fill="none" w="43200" h="43200">
                <a:moveTo>
                  <a:pt x="25788" y="-22747"/>
                </a:moveTo>
                <a:cubicBezTo>
                  <a:pt x="24409" y="-22474"/>
                  <a:pt x="23006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714"/>
                  <a:pt x="-23010" y="27792"/>
                  <a:pt x="-24311" y="30623"/>
                </a:cubicBezTo>
              </a:path>
              <a:path stroke="0" w="43200" h="43200">
                <a:moveTo>
                  <a:pt x="25788" y="-22747"/>
                </a:moveTo>
                <a:cubicBezTo>
                  <a:pt x="24409" y="-22474"/>
                  <a:pt x="23006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714"/>
                  <a:pt x="-23010" y="27792"/>
                  <a:pt x="-24311" y="30623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 flipH="1">
            <a:off x="3348000" y="1773360"/>
            <a:ext cx="3168720" cy="21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928800" y="5445000"/>
            <a:ext cx="8049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Úhel větší než 180°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(úhel přímý)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konvexní (konkávní) úhel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3"/>
          <p:cNvSpPr/>
          <p:nvPr/>
        </p:nvSpPr>
        <p:spPr>
          <a:xfrm flipH="1" flipV="1">
            <a:off x="3059280" y="4724280"/>
            <a:ext cx="158400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el je veličina, která se dá měř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 měření slouž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úhlomě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6" descr="protractor0"/>
          <p:cNvPicPr/>
          <p:nvPr/>
        </p:nvPicPr>
        <p:blipFill>
          <a:blip r:embed="rId2"/>
          <a:stretch/>
        </p:blipFill>
        <p:spPr>
          <a:xfrm>
            <a:off x="2239920" y="3641760"/>
            <a:ext cx="441972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Základní jednotkou velikosti úhlů 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pe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pozor, ne ten Celsiův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3"/>
          <a:stretch/>
        </p:blipFill>
        <p:spPr>
          <a:xfrm>
            <a:off x="539640" y="3421080"/>
            <a:ext cx="3672000" cy="2816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4068720" y="357336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likost úhlu AVB se značí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184800" y="4005360"/>
            <a:ext cx="230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bo jen …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572000" y="479592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men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572000" y="551664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větší úhel má velikos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60 stupňů, zapisujeme …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3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enšími jednotkami velikosti úhlů jso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ut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teřin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727200" y="410544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ý stupeň má 60 minut (1°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′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</a:t>
            </a:r>
            <a:br>
              <a:rPr sz="32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každá minuta má 60 vteřin (1′ =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60″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340000" y="545940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1°= 60′ = 3600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187280" y="692280"/>
            <a:ext cx="4032360" cy="2447640"/>
          </a:xfrm>
          <a:prstGeom prst="cloudCallout">
            <a:avLst>
              <a:gd name="adj1" fmla="val 95750"/>
              <a:gd name="adj2" fmla="val -224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hly se dají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číta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27200" y="4005360"/>
            <a:ext cx="770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se mluví o sčítání nebo odčítání úhlů,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yslí se tím sčítání a odčítání jejich velikostí.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yž mají úhly stejnou velikost, tak jsou shodné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78040" y="5300640"/>
            <a:ext cx="54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ři sčítání a odčítání se zvlášť sčítají a odčítají stupně a zvlášť minuty, případně vteř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95280" y="3357720"/>
            <a:ext cx="8353440" cy="29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826920" y="234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116000" y="549360"/>
            <a:ext cx="4103640" cy="2590560"/>
          </a:xfrm>
          <a:prstGeom prst="cloudCallout">
            <a:avLst>
              <a:gd name="adj1" fmla="val 94953"/>
              <a:gd name="adj2" fmla="val -18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yní si nejdříve zopakujeme, jak se měří úhly konvexní a poté se naučíme měřit úhly nekonvexn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2427120" y="3392640"/>
            <a:ext cx="3710160" cy="2844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5234040" y="3141720"/>
            <a:ext cx="3673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VB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54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protractor0"/>
          <p:cNvPicPr/>
          <p:nvPr/>
        </p:nvPicPr>
        <p:blipFill>
          <a:blip r:embed="rId3"/>
          <a:stretch/>
        </p:blipFill>
        <p:spPr>
          <a:xfrm>
            <a:off x="611280" y="3684600"/>
            <a:ext cx="4419360" cy="2523960"/>
          </a:xfrm>
          <a:prstGeom prst="rect">
            <a:avLst/>
          </a:prstGeom>
          <a:ln w="0">
            <a:noFill/>
          </a:ln>
        </p:spPr>
      </p:pic>
      <p:sp>
        <p:nvSpPr>
          <p:cNvPr id="183" name="Line 13"/>
          <p:cNvSpPr/>
          <p:nvPr/>
        </p:nvSpPr>
        <p:spPr>
          <a:xfrm flipH="1">
            <a:off x="4125600" y="4076640"/>
            <a:ext cx="1152360" cy="73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2-02T07:33:42Z</dcterms:modified>
  <cp:revision>210</cp:revision>
  <dc:subject/>
  <dc:title>Měření nekonvexních úhlů</dc:title>
</cp:coreProperties>
</file>