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E14-678F-4989-89BA-DC3FE991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9B3-D0BD-43E7-906D-58D3A3ED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57F-685F-457E-A576-09F1BDD3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6D6-4C46-49C0-8C22-17FA6708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03F3-F337-47C5-8DD1-D193FD83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C9E8-6291-435E-B95B-E189FF8B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4221-225F-4CBD-B364-9BD479C2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37E5-E228-4970-9E81-BD53EB92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8519-FE08-40C4-B593-39C1E579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7C46-774F-4E8E-8822-C28BEA78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DB85-01F8-4B17-8976-9BA5CC8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67C-CA59-4078-A97D-94C828BF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32E6-4ED2-4866-8189-E779620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F71E-E29A-48BC-BC08-7DC423B0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18DC-75E7-4963-8DFD-5E3B09AB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DC70-4C49-4ED1-9C99-CCA1E921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DCEF-6606-49CA-B547-EA627F94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671-7B30-457F-9C79-67A60B54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40A-9A48-46C4-8092-D340B1F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96D-95CA-487F-83AC-DEBA4CAA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744-7916-4884-9861-84661F3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967-774A-40D7-BB84-147BEB1A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351-A807-4931-8FC7-796AA8FD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459-F9D1-4B05-A8FE-E9A2557D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7205-AFE4-4437-AAED-E5295B1B14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8DF1-3768-42CA-B1AB-D0BA46FD4F9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Lomené algebraické výrazy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860640"/>
            <a:ext cx="80773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Sčítání lomených výrazů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S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S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697800" y="4473720"/>
                <a:ext cx="790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1268280"/>
                <a:ext cx="16142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372360" y="2276640"/>
                <a:ext cx="14014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72360" y="3213000"/>
                <a:ext cx="8190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6200" y="1311120"/>
                <a:ext cx="12650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S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S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443640" y="4724280"/>
                <a:ext cx="790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384960" y="1243080"/>
                <a:ext cx="15890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58800" y="1285920"/>
                <a:ext cx="12398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372360" y="2349360"/>
                <a:ext cx="23050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372360" y="3429000"/>
                <a:ext cx="1509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524720" y="4689360"/>
                <a:ext cx="790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S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S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443640" y="4724280"/>
                <a:ext cx="7905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1268280"/>
                <a:ext cx="12445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822240" y="1285920"/>
                <a:ext cx="9111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524720" y="4689360"/>
                <a:ext cx="7905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372360" y="2349360"/>
                <a:ext cx="23842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372360" y="3429000"/>
                <a:ext cx="1536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6560" y="274680"/>
            <a:ext cx="849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S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1197000"/>
            <a:ext cx="525600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3280" y="63504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S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012000" y="4797360"/>
                <a:ext cx="766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227640" y="1268280"/>
                <a:ext cx="1774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826920" y="1268280"/>
                <a:ext cx="14176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020000" y="4761000"/>
                <a:ext cx="7905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940360" y="2349360"/>
                <a:ext cx="3019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012000" y="3429000"/>
                <a:ext cx="18270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8051760" y="4761000"/>
                <a:ext cx="7412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S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1197000"/>
            <a:ext cx="396072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292720" y="4149720"/>
                <a:ext cx="12700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359320" y="1341360"/>
                <a:ext cx="29448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759280" y="4545000"/>
                <a:ext cx="959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06320" y="1290600"/>
                <a:ext cx="1981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926400" y="4143240"/>
                <a:ext cx="12697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415280" y="4545000"/>
                <a:ext cx="7920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51200" y="2205000"/>
                <a:ext cx="4362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643280" y="3068640"/>
                <a:ext cx="2676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308720" y="3068640"/>
                <a:ext cx="8985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95280" y="54936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S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S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1280" y="1197000"/>
            <a:ext cx="360036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221440" y="4330800"/>
                <a:ext cx="1414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651640" y="4797360"/>
                <a:ext cx="1103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4360" y="1268280"/>
                <a:ext cx="23954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95280" y="54936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S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716360" y="1268280"/>
                <a:ext cx="35006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030560" y="2205000"/>
                <a:ext cx="5113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356000" y="3141720"/>
                <a:ext cx="3362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7740720" y="3141720"/>
                <a:ext cx="1244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796000" y="5157720"/>
                <a:ext cx="10555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7236000" y="4365720"/>
                <a:ext cx="1414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678800" y="4832280"/>
                <a:ext cx="93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885080" y="5157720"/>
                <a:ext cx="839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66560" y="27468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4c6a"/>
                </a:solidFill>
                <a:latin typeface="Trebuchet MS"/>
              </a:rPr>
              <a:t>Sčítání lomených výrazů – příklady k procviče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197000"/>
            <a:ext cx="388944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833400" y="1268280"/>
                <a:ext cx="20970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95280" y="549360"/>
            <a:ext cx="85327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Sečtěte lomené výrazy a určete podmínky, kdy má smysl. Klikněte, pokud nebudete vědět, jak d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7236000" y="5157720"/>
                <a:ext cx="11984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631280" y="5516640"/>
                <a:ext cx="720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0" y="1268280"/>
                <a:ext cx="2627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572000" y="2205000"/>
                <a:ext cx="35942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72000" y="3213000"/>
                <a:ext cx="2855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9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72000" y="4005360"/>
                <a:ext cx="2809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380360" y="4005360"/>
                <a:ext cx="1519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4572000" y="4797360"/>
                <a:ext cx="1266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32720" y="5877000"/>
                <a:ext cx="79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6560" y="549360"/>
            <a:ext cx="8426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Závě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1484280"/>
            <a:ext cx="80359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Uvádění podmínek, pro které mají lomené výrazy smysl, jsou nezbytnou a nutnou součástí řešení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i když to v zadání příkladu nemusí být výslovně uvedeno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268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čítání lomených výrazů provádíme podobně jako sčítání zlomků, kde lze podle jmenovatelů rozlišit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čtyři základní typy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pří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11640" y="2854440"/>
                <a:ext cx="758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003640" y="2854440"/>
                <a:ext cx="8478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867280" y="2854440"/>
                <a:ext cx="5637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211640" y="3718080"/>
                <a:ext cx="8492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586560" y="3718080"/>
                <a:ext cx="1001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075280" y="3718080"/>
                <a:ext cx="146196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596360" y="3718080"/>
                <a:ext cx="674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11640" y="4654440"/>
                <a:ext cx="684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586560" y="4654440"/>
                <a:ext cx="114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930920" y="4654440"/>
                <a:ext cx="1625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738920" y="4654440"/>
                <a:ext cx="675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211640" y="5589720"/>
                <a:ext cx="6858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586560" y="5589720"/>
                <a:ext cx="1143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30920" y="5589720"/>
                <a:ext cx="1672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751880" y="5589720"/>
                <a:ext cx="674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539640" y="2781360"/>
            <a:ext cx="3382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Stejní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meno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718080"/>
            <a:ext cx="3382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)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ůzní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menovatelé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jeden násobkem druh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654440"/>
            <a:ext cx="3382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3)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ůzní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menovatelé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avzájem nesoudě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589720"/>
            <a:ext cx="3382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4) </a:t>
            </a: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Různí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jmenovatelé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avzájem soudě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1341360"/>
            <a:ext cx="8280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Lomené výrazy se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tejnými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menovateli sčítáme tak, že sečteme jejich čitatele a jmenovatele opíš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743280" y="2612880"/>
                <a:ext cx="9399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859280" y="256392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95960" y="2563920"/>
                <a:ext cx="6969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371628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obně postupujeme i při sčítání lomených výraz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48000" y="4508640"/>
                <a:ext cx="12636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3280" y="4508640"/>
                <a:ext cx="13352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84720" y="4508640"/>
                <a:ext cx="863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856120" y="5635800"/>
                <a:ext cx="9763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11280" y="2781360"/>
            <a:ext cx="237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26828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Lomené výrazy s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ůznými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menovateli sčítáme tak, ž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menovatele převedeme na společného jmenovatel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takto upravené lomené výrazy sečt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132000" y="2637000"/>
                <a:ext cx="1009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12000" y="2637000"/>
                <a:ext cx="118908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371628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obně postupujeme i při sčítání lomených výraz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5670720"/>
                <a:ext cx="9651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39640" y="2781360"/>
            <a:ext cx="237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211640" y="2637000"/>
                <a:ext cx="17384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7236000" y="2637000"/>
                <a:ext cx="80136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030480" y="4581360"/>
                <a:ext cx="10666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084720" y="4581360"/>
                <a:ext cx="13827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4581360"/>
                <a:ext cx="18223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427800" y="5710320"/>
                <a:ext cx="9525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26828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Lomené výrazy s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ůznými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menovateli sčítáme tak, ž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menovatele převedeme na společného jmenovatel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takto upravené lomené výrazy sečt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8840" y="2637000"/>
                <a:ext cx="8146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156360" y="2637000"/>
                <a:ext cx="135576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611280" y="371628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obně postupujeme i při sčítání lomených výraz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76720" y="5670720"/>
                <a:ext cx="9651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39640" y="2781360"/>
            <a:ext cx="237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114800" y="2637000"/>
                <a:ext cx="19335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524720" y="2637000"/>
                <a:ext cx="80172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29120" y="4581360"/>
                <a:ext cx="8697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156360" y="4581360"/>
                <a:ext cx="1576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067280" y="4581360"/>
                <a:ext cx="20462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427800" y="5710320"/>
                <a:ext cx="9525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26828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Lomené výrazy s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různými</a:t>
            </a: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 jmenovateli sčítáme tak, ž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jmenovatele převedeme na společného jmenovatele </a:t>
            </a:r>
            <a:br>
              <a:rPr sz="2400"/>
            </a:b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a takto upravené lomené výrazy sečt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28840" y="2651040"/>
                <a:ext cx="8146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156360" y="2637000"/>
                <a:ext cx="135720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11280" y="371628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Podobně postupujeme i při sčítání lomených výraz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076720" y="5670720"/>
                <a:ext cx="935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39640" y="2781360"/>
            <a:ext cx="237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4c6a"/>
                </a:solidFill>
                <a:latin typeface="Trebuchet MS"/>
              </a:rPr>
              <a:t>Sčítání zlom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113360" y="2637000"/>
                <a:ext cx="19890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523280" y="2637000"/>
                <a:ext cx="80316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76720" y="4581360"/>
                <a:ext cx="12636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020000" y="4581360"/>
                <a:ext cx="1549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72000" y="4581360"/>
                <a:ext cx="24112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443640" y="5661000"/>
                <a:ext cx="9525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67640" y="5661000"/>
                <a:ext cx="895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11280" y="32130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ejprve určíme pomocí rozkladu společného jmenovatele.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26828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Jak již bylo řečeno, při sčítání lomených výrazů potřebujeme především převést výrazy na společného jmeno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84464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Společného jmenovatele výrazů musíme nejdříve zjistit. K tomu opět pomůže rozložení jmenovatelů na součin v základním tva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28760" y="4124160"/>
                <a:ext cx="12016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27360" y="2708280"/>
                <a:ext cx="2146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612720" y="256536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Sečtět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84360" y="4149720"/>
                <a:ext cx="11192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029200" y="5776920"/>
                <a:ext cx="455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H="1">
            <a:off x="2410920" y="3429000"/>
            <a:ext cx="863640" cy="647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3429000"/>
            <a:ext cx="649080" cy="720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38600" y="4152960"/>
                <a:ext cx="11811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908680" y="4141800"/>
                <a:ext cx="1677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11280" y="465300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Společný jmenovatel obsahuje všechny činitele z obou rozkladů, ale činitele, který se vyskytuje v obou jmenovatelích, vezmeme do společného jmenovatele pouze jedn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3160" y="4508640"/>
            <a:ext cx="21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4508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45370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97480" y="5699160"/>
                <a:ext cx="163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877080" y="453708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80320" y="5697360"/>
                <a:ext cx="1636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989000"/>
            <a:ext cx="705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Nalezený společný jmenovatel je tedy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x.(x+5).(x-5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04760" y="3141720"/>
                <a:ext cx="4310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90880" y="3133800"/>
                <a:ext cx="3985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755640" y="3860640"/>
            <a:ext cx="7777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Ve jmenovateli „přibyl“ čle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(x-5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, proto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(aby došlo k rozšíření lomeného výrazu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musí tentýž člen „přibýt“ i v čitateli.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3357720"/>
            <a:ext cx="3419640" cy="1081080"/>
          </a:xfrm>
          <a:custGeom>
            <a:avLst/>
            <a:gdLst/>
            <a:ahLst/>
            <a:rect l="l" t="t" r="r" b="b"/>
            <a:pathLst>
              <a:path w="1391" h="590">
                <a:moveTo>
                  <a:pt x="725" y="590"/>
                </a:moveTo>
                <a:cubicBezTo>
                  <a:pt x="1058" y="502"/>
                  <a:pt x="1391" y="415"/>
                  <a:pt x="1270" y="317"/>
                </a:cubicBezTo>
                <a:cubicBezTo>
                  <a:pt x="1149" y="219"/>
                  <a:pt x="574" y="109"/>
                  <a:pt x="0" y="0"/>
                </a:cubicBezTo>
              </a:path>
            </a:pathLst>
          </a:custGeom>
          <a:noFill/>
          <a:ln w="1908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211640" y="3141720"/>
                <a:ext cx="901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23840" y="4797360"/>
                <a:ext cx="49658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684360" y="5445000"/>
            <a:ext cx="7416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Ve jmenovateli „přibyl“ člen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, proto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(aby došlo k rozšíření lomeného výrazu)</a:t>
            </a:r>
            <a:r>
              <a:rPr b="1" lang="en-US" sz="2000" spc="-1" strike="noStrike">
                <a:solidFill>
                  <a:srgbClr val="00cc00"/>
                </a:solidFill>
                <a:latin typeface="Trebuchet MS"/>
              </a:rPr>
              <a:t> musí tentýž člen „přibýt“ i v čitateli.</a:t>
            </a:r>
            <a:r>
              <a:rPr b="1" lang="en-US" sz="1600" spc="-1" strike="noStrike">
                <a:solidFill>
                  <a:srgbClr val="00cc00"/>
                </a:solidFill>
                <a:latin typeface="Trebuchet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5013360"/>
            <a:ext cx="3276720" cy="1008000"/>
          </a:xfrm>
          <a:custGeom>
            <a:avLst/>
            <a:gdLst/>
            <a:ahLst/>
            <a:rect l="l" t="t" r="r" b="b"/>
            <a:pathLst>
              <a:path w="1391" h="590">
                <a:moveTo>
                  <a:pt x="725" y="590"/>
                </a:moveTo>
                <a:cubicBezTo>
                  <a:pt x="1058" y="502"/>
                  <a:pt x="1391" y="415"/>
                  <a:pt x="1270" y="317"/>
                </a:cubicBezTo>
                <a:cubicBezTo>
                  <a:pt x="1149" y="219"/>
                  <a:pt x="574" y="109"/>
                  <a:pt x="0" y="0"/>
                </a:cubicBezTo>
              </a:path>
            </a:pathLst>
          </a:custGeom>
          <a:noFill/>
          <a:ln w="1908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11970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Sečtět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132000" y="1268280"/>
                <a:ext cx="2232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2276640"/>
            <a:ext cx="806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yní oba lomené výrazy rozšíříme na společného jmenovat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859280" y="4869000"/>
                <a:ext cx="35568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695840" y="4869000"/>
                <a:ext cx="2509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11280" y="476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4c6a"/>
                </a:solidFill>
                <a:latin typeface="Trebuchet MS"/>
              </a:rPr>
              <a:t>Sčítání lomených výraz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174760" y="5670720"/>
                <a:ext cx="6955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121200" y="5670720"/>
                <a:ext cx="10951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98840" y="5987880"/>
                <a:ext cx="8431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452840" y="5656320"/>
                <a:ext cx="109692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819680" y="5975280"/>
                <a:ext cx="6746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39640" y="1197000"/>
            <a:ext cx="828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íklad: Sečtěte</a:t>
            </a:r>
            <a:r>
              <a:rPr b="1" lang="en-US" sz="18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132000" y="1268280"/>
                <a:ext cx="2232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68360" y="1989000"/>
            <a:ext cx="80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Nyní již oba lomené výrazy seč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1280" y="2708280"/>
                <a:ext cx="2471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132000" y="2708280"/>
                <a:ext cx="444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55640" y="3789360"/>
                <a:ext cx="2297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57560" y="3789360"/>
                <a:ext cx="1335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539640" y="3933720"/>
            <a:ext cx="80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Ve výsledku lze ještě krátit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4360" y="4797360"/>
                <a:ext cx="15746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340000" y="4869000"/>
                <a:ext cx="1771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40360" y="4869000"/>
                <a:ext cx="1027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Jan Syblík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9-03-02T13:28:11Z</dcterms:modified>
  <cp:revision>181</cp:revision>
  <dc:subject/>
  <dc:title>Lomené výrazy - sčítání</dc:title>
</cp:coreProperties>
</file>