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E2D-301D-4F10-A64F-3459D2EB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0A9-2D5A-4463-9DFA-D778A99E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80A-51A1-4DBD-9D93-BD3D2BBB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19F-78FB-42CC-AC1C-C7C8DE43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EA20-C37E-4E1A-B6F5-76EBE2CB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4819-68D1-48EF-8BA2-A1D9DA31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EA44-7E32-45A7-8A9F-A6F25420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195E-8DB2-4FD4-BC23-510100AB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DA05-CD46-4E8B-9327-F9727DC1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F875-B6A7-466B-9643-DC9524AE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68D6-C336-4B1A-A934-2A107E57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D87-A3E8-487C-B842-2822DC78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480B-98D3-490A-A6C4-DB8F89C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82E1-53EC-41EB-AC12-B593189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F457-E1C2-475B-B69A-7C4F257A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A62C-ACB8-4A0A-974B-24903E35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F13F-6383-4D5F-8F95-71E5B958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000-4D1D-4957-96F3-F8519745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544-2466-4D34-85DD-E762E5AD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EA2-9C93-4CD7-8C35-002F1B74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A06-015A-4924-80F6-27E378F2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2FD-6088-4A94-8F0C-97D9643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FDF-CDDF-4FB5-9F81-C8CEF427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732-206E-4084-872B-F92584C4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59D1-A5E6-45C5-8A0E-5EFBE4654B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6CF6-00CB-4302-9370-67E3F0AE3CA8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Lomené 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Odčítání lomených výraz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6560" y="274680"/>
            <a:ext cx="849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Od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d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697800" y="4473720"/>
                <a:ext cx="7905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372360" y="1268280"/>
                <a:ext cx="16142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72360" y="2276640"/>
                <a:ext cx="14014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372360" y="3213000"/>
                <a:ext cx="8190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46200" y="1311120"/>
                <a:ext cx="12650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6560" y="274680"/>
            <a:ext cx="849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Od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d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443640" y="4724280"/>
                <a:ext cx="7905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384960" y="1243080"/>
                <a:ext cx="15890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800" y="1285920"/>
                <a:ext cx="12398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372360" y="2349360"/>
                <a:ext cx="2305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372360" y="3429000"/>
                <a:ext cx="1509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524720" y="4689360"/>
                <a:ext cx="7905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6560" y="274680"/>
            <a:ext cx="849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Od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d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443640" y="4724280"/>
                <a:ext cx="7905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280200" y="1268280"/>
                <a:ext cx="1430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38360" y="1268280"/>
                <a:ext cx="108900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524720" y="4689360"/>
                <a:ext cx="7905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280200" y="2349360"/>
                <a:ext cx="25700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267600" y="3429000"/>
                <a:ext cx="17478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6560" y="274680"/>
            <a:ext cx="849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Od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d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012000" y="4797360"/>
                <a:ext cx="766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240600" y="1268280"/>
                <a:ext cx="17492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26920" y="1268280"/>
                <a:ext cx="14176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020000" y="4761000"/>
                <a:ext cx="7905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940360" y="2349360"/>
                <a:ext cx="30193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091200" y="3429000"/>
                <a:ext cx="16686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051760" y="4761000"/>
                <a:ext cx="7412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6560" y="27468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Od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1197000"/>
            <a:ext cx="396072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303880" y="4149720"/>
                <a:ext cx="12463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386320" y="1341360"/>
                <a:ext cx="2900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759280" y="4545000"/>
                <a:ext cx="959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28640" y="1290600"/>
                <a:ext cx="1935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937200" y="4143240"/>
                <a:ext cx="12463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426440" y="4545000"/>
                <a:ext cx="7682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684680" y="2205000"/>
                <a:ext cx="4294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665600" y="3068640"/>
                <a:ext cx="2631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236000" y="3068640"/>
                <a:ext cx="1663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95280" y="620640"/>
            <a:ext cx="85327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d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6560" y="27468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Od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1197000"/>
            <a:ext cx="360036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087880" y="5300640"/>
                <a:ext cx="13906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508720" y="5661000"/>
                <a:ext cx="1103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84360" y="1268280"/>
                <a:ext cx="23954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95280" y="620640"/>
            <a:ext cx="85327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d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716360" y="1197000"/>
                <a:ext cx="34545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122720" y="2060640"/>
                <a:ext cx="50212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211640" y="2924280"/>
                <a:ext cx="352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662440" y="5950080"/>
                <a:ext cx="10321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7102440" y="5308560"/>
                <a:ext cx="13906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535880" y="5661000"/>
                <a:ext cx="911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740720" y="5950080"/>
                <a:ext cx="81576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211640" y="3716280"/>
                <a:ext cx="3360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284720" y="4508640"/>
                <a:ext cx="2579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66560" y="27468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Od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1197000"/>
            <a:ext cx="388944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62040" y="1268280"/>
                <a:ext cx="24415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95280" y="54936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Od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7236000" y="5157720"/>
                <a:ext cx="1198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7631280" y="5516640"/>
                <a:ext cx="720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492800" y="1268280"/>
                <a:ext cx="27874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410000" y="2205000"/>
                <a:ext cx="3917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572000" y="3213000"/>
                <a:ext cx="25336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572000" y="4005360"/>
                <a:ext cx="25797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164360" y="4005360"/>
                <a:ext cx="1681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4572000" y="4797360"/>
                <a:ext cx="1266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7632720" y="5877000"/>
                <a:ext cx="79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66560" y="54936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vě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6920" y="1484280"/>
            <a:ext cx="80359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Uvádění podmínek, pro které mají lomené výrazy smysl, jsou nezbytnou a nutnou součástí řešen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i když to v zadání příkladu nemusí být výslovně uveden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268280"/>
            <a:ext cx="820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Odčítání lomených výrazů provádíme podobně jako sčítání lomených výraz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20500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Lomené výrazy se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tejnými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jmenovateli odčítáme tak, že odečteme jejich čitatele a jmenovatele opíš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11280" y="2997360"/>
                <a:ext cx="13381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979640" y="2997360"/>
                <a:ext cx="1506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64000" y="2997360"/>
                <a:ext cx="7268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435640" y="3213000"/>
                <a:ext cx="912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211800" y="5302080"/>
                <a:ext cx="965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84360" y="5157720"/>
                <a:ext cx="1179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908520" y="5157720"/>
                <a:ext cx="13827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892160" y="5157720"/>
                <a:ext cx="1935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524720" y="5300640"/>
                <a:ext cx="9525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611280" y="393372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Lomené výrazy s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ůznými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jmenovateli odčítáme tak, že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jmenovatele převedeme na společného jmenovatele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takto upravené lomené výrazy odečt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26828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Lomené výrazy s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ůznými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jmenovateli odčítáme tak, že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jmenovatele převedeme na společného jmenovatele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takto upravené lomené výrazy odečt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56360" y="2924280"/>
                <a:ext cx="965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8560" y="2708280"/>
                <a:ext cx="9810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711600" y="2708280"/>
                <a:ext cx="1576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66720" y="2708280"/>
                <a:ext cx="21592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308720" y="2924280"/>
                <a:ext cx="9525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227640" y="4149720"/>
                <a:ext cx="935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28560" y="4076640"/>
                <a:ext cx="13762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049640"/>
                <a:ext cx="1549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24200" y="4076640"/>
                <a:ext cx="25239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08720" y="4149720"/>
                <a:ext cx="9525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00720" y="4653000"/>
                <a:ext cx="8953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321300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prve určíme pomocí rozkladu společného jmenovatel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2682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ak již bylo řečeno, při odčítání lomených výrazů potřebujeme především převést výrazy na společného jmeno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84464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Společného jmenovatele výrazů musíme nejdříve zjistit. K tomu opět pomůže rozložení jmenovatelů na součin v základním tva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82640" y="4121280"/>
                <a:ext cx="1224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87640" y="2708280"/>
                <a:ext cx="2146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2720" y="256536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Odečtět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49400" y="4146480"/>
                <a:ext cx="11192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029200" y="5776920"/>
                <a:ext cx="455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flipH="1">
            <a:off x="2776680" y="3425760"/>
            <a:ext cx="863280" cy="64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92680" y="3425760"/>
            <a:ext cx="64944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003640" y="4149720"/>
                <a:ext cx="11811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264360" y="4138560"/>
                <a:ext cx="1698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11280" y="465300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Společný jmenovatel obsahuje všechny činitele z obou rozkladů, ale činitele, který se vyskytuje v obou jmenovatelích, vezmeme do společného jmenovatele pouze jed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78200" y="450540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8320" y="45054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7040" y="45338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397480" y="5699160"/>
                <a:ext cx="163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242120" y="45338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880320" y="5697360"/>
                <a:ext cx="1636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989000"/>
            <a:ext cx="705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alezený společný jmenovatel je tedy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x.(x+6).(x-6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39960" y="3141720"/>
                <a:ext cx="4373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00600" y="3143160"/>
                <a:ext cx="377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860640"/>
            <a:ext cx="7777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Ve jmenovateli „přibyl“ člen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(x-6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, proto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(aby došlo k rozšíření lomeného výrazu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musí tentýž člen „přibýt“ i v čitateli.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3357720"/>
            <a:ext cx="3419640" cy="1081080"/>
          </a:xfrm>
          <a:custGeom>
            <a:avLst/>
            <a:gdLst/>
            <a:ahLst/>
            <a:rect l="l" t="t" r="r" b="b"/>
            <a:pathLst>
              <a:path w="1391" h="590">
                <a:moveTo>
                  <a:pt x="725" y="590"/>
                </a:moveTo>
                <a:cubicBezTo>
                  <a:pt x="1058" y="502"/>
                  <a:pt x="1391" y="415"/>
                  <a:pt x="1270" y="317"/>
                </a:cubicBezTo>
                <a:cubicBezTo>
                  <a:pt x="1149" y="219"/>
                  <a:pt x="574" y="109"/>
                  <a:pt x="0" y="0"/>
                </a:cubicBezTo>
              </a:path>
            </a:pathLst>
          </a:custGeom>
          <a:noFill/>
          <a:ln w="1908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211640" y="3141720"/>
                <a:ext cx="9018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03320" y="4797360"/>
                <a:ext cx="50086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684360" y="5445000"/>
            <a:ext cx="7416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Ve jmenovateli „přibyl“ člen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, proto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(aby došlo k rozšíření lomeného výrazu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musí tentýž člen „přibýt“ i v čitateli.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5013360"/>
            <a:ext cx="3276720" cy="1008000"/>
          </a:xfrm>
          <a:custGeom>
            <a:avLst/>
            <a:gdLst/>
            <a:ahLst/>
            <a:rect l="l" t="t" r="r" b="b"/>
            <a:pathLst>
              <a:path w="1391" h="590">
                <a:moveTo>
                  <a:pt x="725" y="590"/>
                </a:moveTo>
                <a:cubicBezTo>
                  <a:pt x="1058" y="502"/>
                  <a:pt x="1391" y="415"/>
                  <a:pt x="1270" y="317"/>
                </a:cubicBezTo>
                <a:cubicBezTo>
                  <a:pt x="1149" y="219"/>
                  <a:pt x="574" y="109"/>
                  <a:pt x="0" y="0"/>
                </a:cubicBezTo>
              </a:path>
            </a:pathLst>
          </a:custGeom>
          <a:noFill/>
          <a:ln w="1908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9700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Odečtět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132000" y="1274760"/>
                <a:ext cx="2232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227664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yní oba lomené výrazy rozšíříme na společného jmen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59280" y="4869000"/>
                <a:ext cx="35568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695840" y="4869000"/>
                <a:ext cx="25092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74760" y="5670720"/>
                <a:ext cx="69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111480" y="5670720"/>
                <a:ext cx="111600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498840" y="5987880"/>
                <a:ext cx="8431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52840" y="5656320"/>
                <a:ext cx="10969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809960" y="5975280"/>
                <a:ext cx="695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39640" y="119700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Odečtět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989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yní již oba lomené výrazy odeč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11280" y="2708280"/>
                <a:ext cx="24717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10040" y="2708280"/>
                <a:ext cx="4484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2800" y="3789360"/>
                <a:ext cx="23842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157560" y="3789360"/>
                <a:ext cx="13352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39640" y="3933720"/>
            <a:ext cx="80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výsledku lze ještě krátit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84360" y="4797360"/>
                <a:ext cx="15746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40000" y="4869000"/>
                <a:ext cx="1771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151160" y="4869000"/>
                <a:ext cx="10051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132000" y="1274760"/>
                <a:ext cx="2232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9640" y="220500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prve určíme pomocí rozkladu společného jmenovatel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19280" y="2992320"/>
                <a:ext cx="10526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60720" y="1504800"/>
                <a:ext cx="18730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539640" y="134136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Odečtět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709720" y="2997360"/>
                <a:ext cx="109872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033880" y="4981680"/>
                <a:ext cx="37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 flipH="1">
            <a:off x="2484000" y="2205000"/>
            <a:ext cx="863640" cy="64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2205000"/>
            <a:ext cx="649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59280" y="2997360"/>
                <a:ext cx="1052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012000" y="2997360"/>
                <a:ext cx="1719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11280" y="371628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Společný jmenovatel obsahuje všechny činitele z obou rozkladů, ale činitele, který se vyskytuje v obou jmenovatelích, vezmeme do společného jmenovatele pouze jed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28800" y="335592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335592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6680" y="33814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62560" y="4941720"/>
                <a:ext cx="1636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81760" y="33814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948360" y="4941720"/>
                <a:ext cx="1675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989000"/>
            <a:ext cx="705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alezený společný jmenovatel je tedy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.(x-2).(x+2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076400" y="3141720"/>
                <a:ext cx="4162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419640" y="3141720"/>
                <a:ext cx="817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55640" y="3860640"/>
            <a:ext cx="7777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Ve jmenovateli „přibyl“ člen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(x+2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, proto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(aby došlo k rozšíření lomeného výrazu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musí tentýž člen „přibýt“ i v čitateli.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3357720"/>
            <a:ext cx="3419640" cy="1081080"/>
          </a:xfrm>
          <a:custGeom>
            <a:avLst/>
            <a:gdLst/>
            <a:ahLst/>
            <a:rect l="l" t="t" r="r" b="b"/>
            <a:pathLst>
              <a:path w="1391" h="590">
                <a:moveTo>
                  <a:pt x="725" y="590"/>
                </a:moveTo>
                <a:cubicBezTo>
                  <a:pt x="1058" y="502"/>
                  <a:pt x="1391" y="415"/>
                  <a:pt x="1270" y="317"/>
                </a:cubicBezTo>
                <a:cubicBezTo>
                  <a:pt x="1149" y="219"/>
                  <a:pt x="574" y="109"/>
                  <a:pt x="0" y="0"/>
                </a:cubicBezTo>
              </a:path>
            </a:pathLst>
          </a:custGeom>
          <a:noFill/>
          <a:ln w="1908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202280" y="3141720"/>
                <a:ext cx="9223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74600" y="4797360"/>
                <a:ext cx="48625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84360" y="5445000"/>
            <a:ext cx="7416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Ve jmenovateli „přibyl“ člen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, proto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(aby došlo k rozšíření lomeného výrazu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musí tentýž člen „přibýt“ i v čitateli.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5013360"/>
            <a:ext cx="3276720" cy="1008000"/>
          </a:xfrm>
          <a:custGeom>
            <a:avLst/>
            <a:gdLst/>
            <a:ahLst/>
            <a:rect l="l" t="t" r="r" b="b"/>
            <a:pathLst>
              <a:path w="1391" h="590">
                <a:moveTo>
                  <a:pt x="725" y="590"/>
                </a:moveTo>
                <a:cubicBezTo>
                  <a:pt x="1058" y="502"/>
                  <a:pt x="1391" y="415"/>
                  <a:pt x="1270" y="317"/>
                </a:cubicBezTo>
                <a:cubicBezTo>
                  <a:pt x="1149" y="219"/>
                  <a:pt x="574" y="109"/>
                  <a:pt x="0" y="0"/>
                </a:cubicBezTo>
              </a:path>
            </a:pathLst>
          </a:custGeom>
          <a:noFill/>
          <a:ln w="1908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119700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Odečtět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82840" y="1268280"/>
                <a:ext cx="193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68360" y="2276640"/>
            <a:ext cx="806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yní oba lomené výrazy rozšíříme na společného jmenovatele.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zor, násobíme-li dvojčlen, je nutné jej uzavřít do závor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03640" y="4869000"/>
                <a:ext cx="3351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129200" y="4838760"/>
                <a:ext cx="8143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Od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364000" y="4724280"/>
                <a:ext cx="11160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824440" y="5041800"/>
                <a:ext cx="6955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694560" y="4710240"/>
                <a:ext cx="111924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093080" y="5013360"/>
                <a:ext cx="8427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9640" y="119700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Odečtět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1989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yní již oba lomené výrazy odeč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52400" y="2708280"/>
                <a:ext cx="2187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32000" y="2708280"/>
                <a:ext cx="4440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03040" y="3789360"/>
                <a:ext cx="33465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372360" y="3789360"/>
                <a:ext cx="14889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282840" y="1274760"/>
                <a:ext cx="193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564000" y="3789360"/>
                <a:ext cx="27986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395280" y="5661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zor! Odečítáme-li v čitateli mnohočlen, je nutné jej uzavřít do závorky. Při jejím odstraňování se mění znamén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Jan Syblík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3-02T13:44:04Z</dcterms:modified>
  <cp:revision>183</cp:revision>
  <dc:subject/>
  <dc:title>Lomené výrazy - odčítání</dc:title>
</cp:coreProperties>
</file>