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0E9-C916-4130-B2BB-2891A979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BEB-66E9-4BD4-84B7-9D0EFA73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8F4-59B5-499F-AAC7-A59DE982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D8C-FF2A-46C0-BAEE-AECF8C56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BD9E-D751-44B0-83C3-6D6669FE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31D7-C4AC-418B-BA82-E65026E3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724C-1D29-459F-90AA-98942EA8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655-CD63-4E39-AE28-78FA9FFE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C643-6095-4B7A-94E8-EBA5AB66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906-C258-412F-80A4-A8566913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70DE-E600-433D-BFAD-0EB93AC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257-6E52-410A-8594-0EA8E012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DE45-DA54-46A1-A1B4-32089A36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F979-812C-4EFD-821E-A4EACD6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2052-6B16-45B4-8F13-025B99E0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BD7D-E416-402A-8683-660384EB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46AE-A5F0-4C2E-A758-0CD17EAA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F20-85BF-4306-AAAD-646387FB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542-CBD0-42BC-801E-450347A0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3A8-26A3-49DC-BF8A-20D3A519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929-7E38-4D12-AB4B-E06B170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B94-9B21-4885-9F10-5BA16136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9AB-C190-4928-883C-BA67EC5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1A5-2555-4508-9808-13F2F63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1A6-8AE9-4625-A27A-A070CDEC36AF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A08F-9EFF-4342-BB35-39B270924408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Funkce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684360" y="378936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Lineární funkce a její vlast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Graf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graf funkc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f: y = 2x - 1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pro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82872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79800" y="4984920"/>
          <a:ext cx="4825800" cy="1079280"/>
        </p:xfrm>
        <a:graphic>
          <a:graphicData uri="http://schemas.openxmlformats.org/drawingml/2006/table">
            <a:tbl>
              <a:tblPr/>
              <a:tblGrid>
                <a:gridCol w="806400"/>
                <a:gridCol w="803160"/>
                <a:gridCol w="806400"/>
                <a:gridCol w="800280"/>
                <a:gridCol w="809640"/>
                <a:gridCol w="7999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39"/>
          <p:cNvSpPr/>
          <p:nvPr/>
        </p:nvSpPr>
        <p:spPr>
          <a:xfrm>
            <a:off x="611280" y="1427040"/>
            <a:ext cx="79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Tak např. pro 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x = -2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: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y = 2.(-2) – 1 = -5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. Uspořádané dvojice zapisuj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0"/>
          <p:cNvSpPr/>
          <p:nvPr/>
        </p:nvSpPr>
        <p:spPr>
          <a:xfrm>
            <a:off x="755640" y="1787400"/>
            <a:ext cx="77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y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= 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-2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-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181240" y="4984920"/>
          <a:ext cx="4826160" cy="1079280"/>
        </p:xfrm>
        <a:graphic>
          <a:graphicData uri="http://schemas.openxmlformats.org/drawingml/2006/table">
            <a:tbl>
              <a:tblPr/>
              <a:tblGrid>
                <a:gridCol w="806400"/>
                <a:gridCol w="803160"/>
                <a:gridCol w="806760"/>
                <a:gridCol w="799920"/>
                <a:gridCol w="809640"/>
                <a:gridCol w="8002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88"/>
          <p:cNvSpPr/>
          <p:nvPr/>
        </p:nvSpPr>
        <p:spPr>
          <a:xfrm flipH="1">
            <a:off x="3492000" y="2363760"/>
            <a:ext cx="1584360" cy="24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9"/>
          <p:cNvSpPr/>
          <p:nvPr/>
        </p:nvSpPr>
        <p:spPr>
          <a:xfrm>
            <a:off x="3030480" y="4897440"/>
            <a:ext cx="720720" cy="12240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0"/>
          <p:cNvSpPr/>
          <p:nvPr/>
        </p:nvSpPr>
        <p:spPr>
          <a:xfrm>
            <a:off x="3205080" y="2478240"/>
            <a:ext cx="511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x =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-1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: y = 2.(-1) – 1 = 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2"/>
          <p:cNvSpPr/>
          <p:nvPr/>
        </p:nvSpPr>
        <p:spPr>
          <a:xfrm>
            <a:off x="3203640" y="2997360"/>
            <a:ext cx="46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x = 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0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: y = 2 . 0 – 1 = 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3"/>
          <p:cNvSpPr/>
          <p:nvPr/>
        </p:nvSpPr>
        <p:spPr>
          <a:xfrm>
            <a:off x="3203640" y="3571920"/>
            <a:ext cx="46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x = 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1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: y = 2 . 1 – 1 = 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4"/>
          <p:cNvSpPr/>
          <p:nvPr/>
        </p:nvSpPr>
        <p:spPr>
          <a:xfrm>
            <a:off x="3203640" y="4148280"/>
            <a:ext cx="46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x =  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2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: y = 2 . 2 – 1 = 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Graf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graf funkc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f: y = 2x - 1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pro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71640" y="1700280"/>
          <a:ext cx="2663640" cy="944640"/>
        </p:xfrm>
        <a:graphic>
          <a:graphicData uri="http://schemas.openxmlformats.org/drawingml/2006/table">
            <a:tbl>
              <a:tblPr/>
              <a:tblGrid>
                <a:gridCol w="444240"/>
                <a:gridCol w="443160"/>
                <a:gridCol w="446040"/>
                <a:gridCol w="442800"/>
                <a:gridCol w="446040"/>
                <a:gridCol w="4413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Line 5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0" descr=""/>
          <p:cNvPicPr/>
          <p:nvPr/>
        </p:nvPicPr>
        <p:blipFill>
          <a:blip r:embed="rId1"/>
          <a:stretch/>
        </p:blipFill>
        <p:spPr>
          <a:xfrm>
            <a:off x="4803840" y="1623960"/>
            <a:ext cx="3513240" cy="4757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1" descr=""/>
          <p:cNvPicPr/>
          <p:nvPr/>
        </p:nvPicPr>
        <p:blipFill>
          <a:blip r:embed="rId2"/>
          <a:stretch/>
        </p:blipFill>
        <p:spPr>
          <a:xfrm>
            <a:off x="4803840" y="1623960"/>
            <a:ext cx="3513240" cy="475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3" descr=""/>
          <p:cNvPicPr/>
          <p:nvPr/>
        </p:nvPicPr>
        <p:blipFill>
          <a:blip r:embed="rId3"/>
          <a:stretch/>
        </p:blipFill>
        <p:spPr>
          <a:xfrm>
            <a:off x="4803840" y="1623960"/>
            <a:ext cx="3513240" cy="4757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5" descr=""/>
          <p:cNvPicPr/>
          <p:nvPr/>
        </p:nvPicPr>
        <p:blipFill>
          <a:blip r:embed="rId4"/>
          <a:stretch/>
        </p:blipFill>
        <p:spPr>
          <a:xfrm>
            <a:off x="4803840" y="1623960"/>
            <a:ext cx="3513240" cy="4757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7" descr=""/>
          <p:cNvPicPr/>
          <p:nvPr/>
        </p:nvPicPr>
        <p:blipFill>
          <a:blip r:embed="rId5"/>
          <a:stretch/>
        </p:blipFill>
        <p:spPr>
          <a:xfrm>
            <a:off x="4803840" y="1623960"/>
            <a:ext cx="3513240" cy="4757760"/>
          </a:xfrm>
          <a:prstGeom prst="rect">
            <a:avLst/>
          </a:prstGeom>
          <a:ln w="0">
            <a:noFill/>
          </a:ln>
        </p:spPr>
      </p:pic>
      <p:sp>
        <p:nvSpPr>
          <p:cNvPr id="189" name="Line 78"/>
          <p:cNvSpPr/>
          <p:nvPr/>
        </p:nvSpPr>
        <p:spPr>
          <a:xfrm>
            <a:off x="3406680" y="2565360"/>
            <a:ext cx="3757680" cy="142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6"/>
          <p:cNvSpPr/>
          <p:nvPr/>
        </p:nvSpPr>
        <p:spPr>
          <a:xfrm>
            <a:off x="2975040" y="2565360"/>
            <a:ext cx="3757680" cy="1008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4"/>
          <p:cNvSpPr/>
          <p:nvPr/>
        </p:nvSpPr>
        <p:spPr>
          <a:xfrm>
            <a:off x="2543040" y="2565360"/>
            <a:ext cx="3757680" cy="187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2"/>
          <p:cNvSpPr/>
          <p:nvPr/>
        </p:nvSpPr>
        <p:spPr>
          <a:xfrm>
            <a:off x="2109960" y="2565360"/>
            <a:ext cx="3757320" cy="273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8"/>
          <p:cNvSpPr/>
          <p:nvPr/>
        </p:nvSpPr>
        <p:spPr>
          <a:xfrm>
            <a:off x="1692360" y="2565360"/>
            <a:ext cx="3743280" cy="3600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3" descr=""/>
          <p:cNvPicPr/>
          <p:nvPr/>
        </p:nvPicPr>
        <p:blipFill>
          <a:blip r:embed="rId1"/>
          <a:stretch/>
        </p:blipFill>
        <p:spPr>
          <a:xfrm>
            <a:off x="4803840" y="1623960"/>
            <a:ext cx="3513240" cy="4757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Graf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graf funkc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f: y = 2x - 1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pro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71640" y="1700280"/>
          <a:ext cx="2663640" cy="944640"/>
        </p:xfrm>
        <a:graphic>
          <a:graphicData uri="http://schemas.openxmlformats.org/drawingml/2006/table">
            <a:tbl>
              <a:tblPr/>
              <a:tblGrid>
                <a:gridCol w="444240"/>
                <a:gridCol w="443160"/>
                <a:gridCol w="446040"/>
                <a:gridCol w="442800"/>
                <a:gridCol w="446040"/>
                <a:gridCol w="4413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Line 28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9"/>
          <p:cNvSpPr/>
          <p:nvPr/>
        </p:nvSpPr>
        <p:spPr>
          <a:xfrm>
            <a:off x="468360" y="3429000"/>
            <a:ext cx="4103640" cy="2808360"/>
          </a:xfrm>
          <a:prstGeom prst="cloudCallout">
            <a:avLst>
              <a:gd name="adj1" fmla="val 85046"/>
              <a:gd name="adj2" fmla="val -130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Jednotlivé body nyní „spojitě spojíme“. Pokud bychom totiž vypočítávali a následně do grafu vyznačovali další uspořádané dvojice, dostali bychom nekonečně mnoho bodů ležících na křivce všemi procházejíc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0" descr=""/>
          <p:cNvPicPr/>
          <p:nvPr/>
        </p:nvPicPr>
        <p:blipFill>
          <a:blip r:embed="rId2"/>
          <a:stretch/>
        </p:blipFill>
        <p:spPr>
          <a:xfrm>
            <a:off x="4803840" y="1623960"/>
            <a:ext cx="3513240" cy="47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1" descr=""/>
          <p:cNvPicPr/>
          <p:nvPr/>
        </p:nvPicPr>
        <p:blipFill>
          <a:blip r:embed="rId1"/>
          <a:stretch/>
        </p:blipFill>
        <p:spPr>
          <a:xfrm>
            <a:off x="4803840" y="1623960"/>
            <a:ext cx="3513240" cy="4757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Graf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graf funkc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f: y = 2x - 1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pro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71640" y="1700280"/>
          <a:ext cx="2663640" cy="944640"/>
        </p:xfrm>
        <a:graphic>
          <a:graphicData uri="http://schemas.openxmlformats.org/drawingml/2006/table">
            <a:tbl>
              <a:tblPr/>
              <a:tblGrid>
                <a:gridCol w="444240"/>
                <a:gridCol w="443160"/>
                <a:gridCol w="446040"/>
                <a:gridCol w="442800"/>
                <a:gridCol w="446040"/>
                <a:gridCol w="4413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29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2" descr=""/>
          <p:cNvPicPr/>
          <p:nvPr/>
        </p:nvPicPr>
        <p:blipFill>
          <a:blip r:embed="rId2"/>
          <a:stretch/>
        </p:blipFill>
        <p:spPr>
          <a:xfrm>
            <a:off x="4803840" y="1623960"/>
            <a:ext cx="3513240" cy="47577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0"/>
          <p:cNvSpPr/>
          <p:nvPr/>
        </p:nvSpPr>
        <p:spPr>
          <a:xfrm>
            <a:off x="468360" y="3429000"/>
            <a:ext cx="4103640" cy="2808360"/>
          </a:xfrm>
          <a:prstGeom prst="cloudCallout">
            <a:avLst>
              <a:gd name="adj1" fmla="val 85046"/>
              <a:gd name="adj2" fmla="val -130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Grafem funkce 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mka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lovo přímka pochází 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 latinského „linea“, což označuje čáru nebo přím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unkci, jejímž grafem je přímka, říká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neární fun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Graf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e grafem lineární funkce každá přím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2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519280" cy="2419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3" descr=""/>
          <p:cNvPicPr/>
          <p:nvPr/>
        </p:nvPicPr>
        <p:blipFill>
          <a:blip r:embed="rId2"/>
          <a:stretch/>
        </p:blipFill>
        <p:spPr>
          <a:xfrm>
            <a:off x="2411280" y="3933720"/>
            <a:ext cx="2519640" cy="2419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4" descr=""/>
          <p:cNvPicPr/>
          <p:nvPr/>
        </p:nvPicPr>
        <p:blipFill>
          <a:blip r:embed="rId3"/>
          <a:stretch/>
        </p:blipFill>
        <p:spPr>
          <a:xfrm>
            <a:off x="4140360" y="1628640"/>
            <a:ext cx="2519280" cy="2419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6" descr=""/>
          <p:cNvPicPr/>
          <p:nvPr/>
        </p:nvPicPr>
        <p:blipFill>
          <a:blip r:embed="rId4"/>
          <a:stretch/>
        </p:blipFill>
        <p:spPr>
          <a:xfrm>
            <a:off x="5883120" y="3933720"/>
            <a:ext cx="2519640" cy="24195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7"/>
          <p:cNvSpPr/>
          <p:nvPr/>
        </p:nvSpPr>
        <p:spPr>
          <a:xfrm>
            <a:off x="2124000" y="2881440"/>
            <a:ext cx="863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8"/>
          <p:cNvSpPr/>
          <p:nvPr/>
        </p:nvSpPr>
        <p:spPr>
          <a:xfrm>
            <a:off x="3780000" y="4653000"/>
            <a:ext cx="86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9"/>
          <p:cNvSpPr/>
          <p:nvPr/>
        </p:nvSpPr>
        <p:spPr>
          <a:xfrm>
            <a:off x="5508720" y="293832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0"/>
          <p:cNvSpPr/>
          <p:nvPr/>
        </p:nvSpPr>
        <p:spPr>
          <a:xfrm>
            <a:off x="6445080" y="537372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1"/>
          <p:cNvSpPr/>
          <p:nvPr/>
        </p:nvSpPr>
        <p:spPr>
          <a:xfrm>
            <a:off x="6732720" y="2708280"/>
            <a:ext cx="1871640" cy="934920"/>
          </a:xfrm>
          <a:prstGeom prst="cloudCallout">
            <a:avLst>
              <a:gd name="adj1" fmla="val -47708"/>
              <a:gd name="adj2" fmla="val 241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2"/>
          <p:cNvSpPr/>
          <p:nvPr/>
        </p:nvSpPr>
        <p:spPr>
          <a:xfrm>
            <a:off x="6732720" y="1773360"/>
            <a:ext cx="1800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Funkce je předpis, který každému číslu z definičního oboru, který je podmnožinou množiny všech reálných čísel </a:t>
            </a:r>
            <a:r>
              <a:rPr b="1" i="1" lang="cs-CZ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, přiřazuje </a:t>
            </a:r>
            <a:r>
              <a:rPr b="1" lang="cs-CZ" sz="1400" spc="-1" strike="noStrike">
                <a:solidFill>
                  <a:srgbClr val="00cc00"/>
                </a:solidFill>
                <a:latin typeface="Arial"/>
              </a:rPr>
              <a:t>právě jedno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 reálné čís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Vlastnosti lineární fun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727200" y="2060640"/>
            <a:ext cx="7688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6600" spc="-1" strike="noStrike">
                <a:solidFill>
                  <a:srgbClr val="ff0000"/>
                </a:solidFill>
                <a:latin typeface="Trebuchet MS"/>
              </a:rPr>
              <a:t>y = ax + b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 rot="626400">
            <a:off x="2052360" y="5229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y = 2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564000" y="4508640"/>
            <a:ext cx="287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00"/>
                </a:solidFill>
                <a:latin typeface="Trebuchet MS"/>
              </a:rPr>
              <a:t>y = 0,5x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 rot="20310600">
            <a:off x="5003640" y="5084640"/>
            <a:ext cx="33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rebuchet MS"/>
              </a:rPr>
              <a:t>y = - 1/2x – 0,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 rot="549000">
            <a:off x="4716360" y="364500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99"/>
                </a:solidFill>
                <a:latin typeface="Trebuchet MS"/>
              </a:rPr>
              <a:t>y = - 5x + 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 rot="20345400">
            <a:off x="971280" y="393228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rebuchet MS"/>
              </a:rPr>
              <a:t>y = - 3x + 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900000" y="3500280"/>
            <a:ext cx="7418520" cy="266400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Nyní budeme zkoumat, </a:t>
            </a:r>
            <a:br>
              <a:rPr sz="3200"/>
            </a:b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jak se mění graf lineární funkce </a:t>
            </a:r>
            <a:br>
              <a:rPr sz="3200"/>
            </a:b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v závislosti na změně </a:t>
            </a:r>
            <a:br>
              <a:rPr sz="3200"/>
            </a:b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koeficientu </a:t>
            </a:r>
            <a:r>
              <a:rPr b="1" i="1" lang="cs-CZ" sz="32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Vlastnosti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25320" y="1038240"/>
            <a:ext cx="768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Budeme měnit, a tudíž šetřit, jak graf ovlivňuje koeficient </a:t>
            </a:r>
            <a:r>
              <a:rPr b="1" i="1" lang="cs-CZ" sz="18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(koeficient </a:t>
            </a:r>
            <a:r>
              <a:rPr b="1" i="1" lang="cs-CZ" sz="18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= 1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340000" y="184464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56" descr=""/>
          <p:cNvPicPr/>
          <p:nvPr/>
        </p:nvPicPr>
        <p:blipFill>
          <a:blip r:embed="rId1"/>
          <a:stretch/>
        </p:blipFill>
        <p:spPr>
          <a:xfrm>
            <a:off x="3433680" y="1484280"/>
            <a:ext cx="5042160" cy="4842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7"/>
          <p:cNvSpPr/>
          <p:nvPr/>
        </p:nvSpPr>
        <p:spPr>
          <a:xfrm>
            <a:off x="684360" y="162864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b = 2: y = x +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3" descr=""/>
          <p:cNvPicPr/>
          <p:nvPr/>
        </p:nvPicPr>
        <p:blipFill>
          <a:blip r:embed="rId2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4" descr=""/>
          <p:cNvPicPr/>
          <p:nvPr/>
        </p:nvPicPr>
        <p:blipFill>
          <a:blip r:embed="rId3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611280" y="90792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2" descr=""/>
          <p:cNvPicPr/>
          <p:nvPr/>
        </p:nvPicPr>
        <p:blipFill>
          <a:blip r:embed="rId1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Vlastnosti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25320" y="1038240"/>
            <a:ext cx="768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Budeme měnit, a tudíž šetřit, jak graf ovlivňuje koeficient </a:t>
            </a:r>
            <a:r>
              <a:rPr b="1" i="1" lang="cs-CZ" sz="18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(koeficient </a:t>
            </a:r>
            <a:r>
              <a:rPr b="1" i="1" lang="cs-CZ" sz="18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= 1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340000" y="184464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Rectangle 20"/>
          <p:cNvSpPr/>
          <p:nvPr/>
        </p:nvSpPr>
        <p:spPr>
          <a:xfrm>
            <a:off x="684360" y="162864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b = 2: y = x +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340000" y="278136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Rectangle 37"/>
          <p:cNvSpPr/>
          <p:nvPr/>
        </p:nvSpPr>
        <p:spPr>
          <a:xfrm>
            <a:off x="684360" y="249228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b = 1: y = x +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3" descr=""/>
          <p:cNvPicPr/>
          <p:nvPr/>
        </p:nvPicPr>
        <p:blipFill>
          <a:blip r:embed="rId2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4" descr=""/>
          <p:cNvPicPr/>
          <p:nvPr/>
        </p:nvPicPr>
        <p:blipFill>
          <a:blip r:embed="rId3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7" descr=""/>
          <p:cNvPicPr/>
          <p:nvPr/>
        </p:nvPicPr>
        <p:blipFill>
          <a:blip r:embed="rId1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Vlastnosti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625320" y="1038240"/>
            <a:ext cx="768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Budeme měnit, a tudíž šetřit, jak graf ovlivňuje koeficient </a:t>
            </a:r>
            <a:r>
              <a:rPr b="1" i="1" lang="cs-CZ" sz="18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(koeficient </a:t>
            </a:r>
            <a:r>
              <a:rPr b="1" i="1" lang="cs-CZ" sz="18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= 1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340000" y="185904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Rectangle 20"/>
          <p:cNvSpPr/>
          <p:nvPr/>
        </p:nvSpPr>
        <p:spPr>
          <a:xfrm>
            <a:off x="684360" y="1628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b = 2: y = x +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340000" y="275112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Rectangle 35"/>
          <p:cNvSpPr/>
          <p:nvPr/>
        </p:nvSpPr>
        <p:spPr>
          <a:xfrm>
            <a:off x="684360" y="252108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b = 1: y = x +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340000" y="3659040"/>
          <a:ext cx="1008000" cy="64008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Rectangle 52"/>
          <p:cNvSpPr/>
          <p:nvPr/>
        </p:nvSpPr>
        <p:spPr>
          <a:xfrm>
            <a:off x="684360" y="342900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b = 0: y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3" descr=""/>
          <p:cNvPicPr/>
          <p:nvPr/>
        </p:nvPicPr>
        <p:blipFill>
          <a:blip r:embed="rId2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4" descr=""/>
          <p:cNvPicPr/>
          <p:nvPr/>
        </p:nvPicPr>
        <p:blipFill>
          <a:blip r:embed="rId3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2" descr=""/>
          <p:cNvPicPr/>
          <p:nvPr/>
        </p:nvPicPr>
        <p:blipFill>
          <a:blip r:embed="rId1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Vlastnosti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25320" y="1038240"/>
            <a:ext cx="768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Budeme měnit, a tudíž šetřit, jak graf ovlivňuje koeficient </a:t>
            </a:r>
            <a:r>
              <a:rPr b="1" i="1" lang="cs-CZ" sz="18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(koeficient </a:t>
            </a:r>
            <a:r>
              <a:rPr b="1" i="1" lang="cs-CZ" sz="18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= 1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340000" y="185904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Rectangle 20"/>
          <p:cNvSpPr/>
          <p:nvPr/>
        </p:nvSpPr>
        <p:spPr>
          <a:xfrm>
            <a:off x="684360" y="1628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b = 2: y = x +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340000" y="275112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35"/>
          <p:cNvSpPr/>
          <p:nvPr/>
        </p:nvSpPr>
        <p:spPr>
          <a:xfrm>
            <a:off x="684360" y="252108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b = 1: y = x +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340000" y="3659040"/>
          <a:ext cx="1008000" cy="64008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Rectangle 50"/>
          <p:cNvSpPr/>
          <p:nvPr/>
        </p:nvSpPr>
        <p:spPr>
          <a:xfrm>
            <a:off x="684360" y="342900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b = 0: y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340000" y="456264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Rectangle 67"/>
          <p:cNvSpPr/>
          <p:nvPr/>
        </p:nvSpPr>
        <p:spPr>
          <a:xfrm>
            <a:off x="684360" y="43322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00"/>
                </a:solidFill>
                <a:latin typeface="Trebuchet MS"/>
              </a:rPr>
              <a:t>b = -1: y = x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8" descr=""/>
          <p:cNvPicPr/>
          <p:nvPr/>
        </p:nvPicPr>
        <p:blipFill>
          <a:blip r:embed="rId2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9" descr=""/>
          <p:cNvPicPr/>
          <p:nvPr/>
        </p:nvPicPr>
        <p:blipFill>
          <a:blip r:embed="rId3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Funkce − defini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900000" y="162864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Trebuchet MS"/>
              </a:rPr>
              <a:t>Funkce je předpis, který každému číslu z definičního oboru, který je podmnožinou množiny všech reálných čísel </a:t>
            </a:r>
            <a:r>
              <a:rPr b="1" i="1" lang="en-US" sz="2600" spc="-1" strike="noStrike">
                <a:solidFill>
                  <a:srgbClr val="00cc00"/>
                </a:solidFill>
                <a:latin typeface="Trebuchet MS"/>
              </a:rPr>
              <a:t>R</a:t>
            </a:r>
            <a:r>
              <a:rPr b="1" lang="en-US" sz="2600" spc="-1" strike="noStrike">
                <a:solidFill>
                  <a:srgbClr val="00cc00"/>
                </a:solidFill>
                <a:latin typeface="Trebuchet MS"/>
              </a:rPr>
              <a:t>, přiřazuje </a:t>
            </a:r>
            <a:br>
              <a:rPr sz="2600"/>
            </a:br>
            <a:r>
              <a:rPr b="1" lang="en-US" sz="2600" spc="-1" strike="noStrike">
                <a:solidFill>
                  <a:srgbClr val="00cc00"/>
                </a:solidFill>
                <a:latin typeface="Trebuchet MS"/>
              </a:rPr>
              <a:t>právě jedno reálné číslo.</a:t>
            </a:r>
            <a:r>
              <a:rPr b="0" lang="en-US" sz="2600" spc="-1" strike="noStrike">
                <a:solidFill>
                  <a:srgbClr val="00cc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900000" y="306864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Funkci značíme obvykle písmenkem </a:t>
            </a:r>
            <a:r>
              <a:rPr b="1" i="1" lang="en-US" sz="2400" spc="-1" strike="noStrike">
                <a:solidFill>
                  <a:srgbClr val="00cc00"/>
                </a:solidFill>
                <a:latin typeface="Trebuchet MS"/>
              </a:rPr>
              <a:t>f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, </a:t>
            </a:r>
            <a:br>
              <a:rPr sz="24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le nic nebrání tomu, abychom použili i jiná písmenka, např. </a:t>
            </a:r>
            <a:r>
              <a:rPr b="1" i="1" lang="en-US" sz="1600" spc="-1" strike="noStrike">
                <a:solidFill>
                  <a:srgbClr val="00cc00"/>
                </a:solidFill>
                <a:latin typeface="Trebuchet MS"/>
              </a:rPr>
              <a:t>g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en-US" sz="1600" spc="-1" strike="noStrike">
                <a:solidFill>
                  <a:srgbClr val="00cc00"/>
                </a:solidFill>
                <a:latin typeface="Trebuchet MS"/>
              </a:rPr>
              <a:t>h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… </a:t>
            </a:r>
            <a:br>
              <a:rPr sz="16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Obvykle ji zapisujeme ve tva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826920" y="465300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ebo ve tva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826920" y="4005360"/>
            <a:ext cx="73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00"/>
                </a:solidFill>
                <a:latin typeface="Trebuchet MS"/>
              </a:rPr>
              <a:t>y = f(x)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, např. </a:t>
            </a:r>
            <a:r>
              <a:rPr b="1" i="1" lang="en-US" sz="1800" spc="-1" strike="noStrike">
                <a:solidFill>
                  <a:srgbClr val="00cc00"/>
                </a:solidFill>
                <a:latin typeface="Trebuchet MS"/>
              </a:rPr>
              <a:t>y = 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826920" y="5229360"/>
            <a:ext cx="73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00"/>
                </a:solidFill>
                <a:latin typeface="Trebuchet MS"/>
              </a:rPr>
              <a:t>f: y = 2x + 1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826920" y="580536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de proměnná </a:t>
            </a:r>
            <a:r>
              <a:rPr b="1" i="1" lang="en-US" sz="24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e argument funkce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1014480" y="278136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7" descr=""/>
          <p:cNvPicPr/>
          <p:nvPr/>
        </p:nvPicPr>
        <p:blipFill>
          <a:blip r:embed="rId1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Vlastnosti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25320" y="1038240"/>
            <a:ext cx="768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Budeme měnit, a tudíž šetřit, jak graf ovlivňuje koeficient </a:t>
            </a:r>
            <a:r>
              <a:rPr b="1" i="1" lang="cs-CZ" sz="18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(koeficient </a:t>
            </a:r>
            <a:r>
              <a:rPr b="1" i="1" lang="cs-CZ" sz="18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= 1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340000" y="185904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20"/>
          <p:cNvSpPr/>
          <p:nvPr/>
        </p:nvSpPr>
        <p:spPr>
          <a:xfrm>
            <a:off x="684360" y="1628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b = 2: y = x +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340000" y="275112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35"/>
          <p:cNvSpPr/>
          <p:nvPr/>
        </p:nvSpPr>
        <p:spPr>
          <a:xfrm>
            <a:off x="684360" y="252108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b = 1: y = x +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340000" y="3659040"/>
          <a:ext cx="1008000" cy="64008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50"/>
          <p:cNvSpPr/>
          <p:nvPr/>
        </p:nvSpPr>
        <p:spPr>
          <a:xfrm>
            <a:off x="684360" y="342900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b = 0: y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340000" y="456264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Rectangle 65"/>
          <p:cNvSpPr/>
          <p:nvPr/>
        </p:nvSpPr>
        <p:spPr>
          <a:xfrm>
            <a:off x="684360" y="43322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00"/>
                </a:solidFill>
                <a:latin typeface="Trebuchet MS"/>
              </a:rPr>
              <a:t>b = -1: y = x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340000" y="545472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Rectangle 82"/>
          <p:cNvSpPr/>
          <p:nvPr/>
        </p:nvSpPr>
        <p:spPr>
          <a:xfrm>
            <a:off x="684360" y="522432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33cc"/>
                </a:solidFill>
                <a:latin typeface="Trebuchet MS"/>
              </a:rPr>
              <a:t>b = -2: y = x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3" descr=""/>
          <p:cNvPicPr/>
          <p:nvPr/>
        </p:nvPicPr>
        <p:blipFill>
          <a:blip r:embed="rId2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4" descr=""/>
          <p:cNvPicPr/>
          <p:nvPr/>
        </p:nvPicPr>
        <p:blipFill>
          <a:blip r:embed="rId3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Vlastnosti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625320" y="1038240"/>
            <a:ext cx="768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Budeme měnit, a tudíž šetřit, jak graf ovlivňuje koeficient </a:t>
            </a:r>
            <a:r>
              <a:rPr b="1" i="1" lang="cs-CZ" sz="18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i="1" lang="cs-CZ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(koeficient </a:t>
            </a:r>
            <a:r>
              <a:rPr b="1" i="1" lang="cs-CZ" sz="18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= 1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340000" y="185904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Rectangle 20"/>
          <p:cNvSpPr/>
          <p:nvPr/>
        </p:nvSpPr>
        <p:spPr>
          <a:xfrm>
            <a:off x="684360" y="16286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rebuchet MS"/>
              </a:rPr>
              <a:t>b = 2: y = x +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340000" y="275112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Rectangle 35"/>
          <p:cNvSpPr/>
          <p:nvPr/>
        </p:nvSpPr>
        <p:spPr>
          <a:xfrm>
            <a:off x="684360" y="252108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b = 1: y = x +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340000" y="3659040"/>
          <a:ext cx="1008000" cy="64008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50"/>
          <p:cNvSpPr/>
          <p:nvPr/>
        </p:nvSpPr>
        <p:spPr>
          <a:xfrm>
            <a:off x="684360" y="342900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cc00"/>
                </a:solidFill>
                <a:latin typeface="Trebuchet MS"/>
              </a:rPr>
              <a:t>b = 0: y =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340000" y="456264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65"/>
          <p:cNvSpPr/>
          <p:nvPr/>
        </p:nvSpPr>
        <p:spPr>
          <a:xfrm>
            <a:off x="684360" y="433224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00"/>
                </a:solidFill>
                <a:latin typeface="Trebuchet MS"/>
              </a:rPr>
              <a:t>b = -1: y = x -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40000" y="5454720"/>
          <a:ext cx="1008000" cy="639720"/>
        </p:xfrm>
        <a:graphic>
          <a:graphicData uri="http://schemas.openxmlformats.org/drawingml/2006/table">
            <a:tbl>
              <a:tblPr/>
              <a:tblGrid>
                <a:gridCol w="336600"/>
                <a:gridCol w="338040"/>
                <a:gridCol w="33336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Rectangle 80"/>
          <p:cNvSpPr/>
          <p:nvPr/>
        </p:nvSpPr>
        <p:spPr>
          <a:xfrm>
            <a:off x="684360" y="522432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33cc"/>
                </a:solidFill>
                <a:latin typeface="Trebuchet MS"/>
              </a:rPr>
              <a:t>b = -2: y = x -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1" descr=""/>
          <p:cNvPicPr/>
          <p:nvPr/>
        </p:nvPicPr>
        <p:blipFill>
          <a:blip r:embed="rId2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2" descr=""/>
          <p:cNvPicPr/>
          <p:nvPr/>
        </p:nvPicPr>
        <p:blipFill>
          <a:blip r:embed="rId3"/>
          <a:stretch/>
        </p:blipFill>
        <p:spPr>
          <a:xfrm>
            <a:off x="3432240" y="148104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83"/>
          <p:cNvSpPr/>
          <p:nvPr/>
        </p:nvSpPr>
        <p:spPr>
          <a:xfrm>
            <a:off x="3867120" y="4610160"/>
            <a:ext cx="4665600" cy="1728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0000"/>
                </a:solidFill>
                <a:latin typeface="Trebuchet MS"/>
              </a:rPr>
              <a:t>Koeficient </a:t>
            </a:r>
            <a:r>
              <a:rPr b="1" i="1" lang="cs-CZ" sz="26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lang="cs-CZ" sz="2600" spc="-1" strike="noStrike">
                <a:solidFill>
                  <a:srgbClr val="ff0000"/>
                </a:solidFill>
                <a:latin typeface="Trebuchet MS"/>
              </a:rPr>
              <a:t> určuje posunutí grafu ve směru osy </a:t>
            </a:r>
            <a:r>
              <a:rPr b="1" i="1" lang="cs-CZ" sz="2600" spc="-1" strike="noStrike">
                <a:solidFill>
                  <a:srgbClr val="ff0000"/>
                </a:solidFill>
                <a:latin typeface="Trebuchet MS"/>
              </a:rPr>
              <a:t>y</a:t>
            </a:r>
            <a:r>
              <a:rPr b="1" lang="cs-CZ" sz="2600" spc="-1" strike="noStrike">
                <a:solidFill>
                  <a:srgbClr val="ff0000"/>
                </a:solidFill>
                <a:latin typeface="Trebuchet MS"/>
              </a:rPr>
              <a:t>.</a:t>
            </a:r>
            <a:br>
              <a:rPr sz="2600"/>
            </a:br>
            <a:r>
              <a:rPr b="1" lang="cs-CZ" sz="2600" spc="-1" strike="noStrike">
                <a:solidFill>
                  <a:srgbClr val="ff0000"/>
                </a:solidFill>
                <a:latin typeface="Trebuchet MS"/>
              </a:rPr>
              <a:t>Udává </a:t>
            </a:r>
            <a:r>
              <a:rPr b="1" i="1" lang="cs-CZ" sz="2600" spc="-1" strike="noStrike">
                <a:solidFill>
                  <a:srgbClr val="ff0000"/>
                </a:solidFill>
                <a:latin typeface="Trebuchet MS"/>
              </a:rPr>
              <a:t>y</a:t>
            </a:r>
            <a:r>
              <a:rPr b="1" lang="cs-CZ" sz="2600" spc="-1" strike="noStrike">
                <a:solidFill>
                  <a:srgbClr val="ff0000"/>
                </a:solidFill>
                <a:latin typeface="Trebuchet MS"/>
              </a:rPr>
              <a:t>-ovou souřadnici průsečíku s osou </a:t>
            </a:r>
            <a:r>
              <a:rPr b="1" i="1" lang="cs-CZ" sz="2600" spc="-1" strike="noStrike">
                <a:solidFill>
                  <a:srgbClr val="ff0000"/>
                </a:solidFill>
                <a:latin typeface="Trebuchet MS"/>
              </a:rPr>
              <a:t>y</a:t>
            </a:r>
            <a:r>
              <a:rPr b="1" lang="cs-CZ" sz="26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84"/>
          <p:cNvSpPr/>
          <p:nvPr/>
        </p:nvSpPr>
        <p:spPr>
          <a:xfrm>
            <a:off x="2627280" y="1557360"/>
            <a:ext cx="432000" cy="482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Vlastnosti lineárních funkc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 následujících lineárních funkcí urči průsečíky s oso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2"/>
          <p:cNvSpPr/>
          <p:nvPr/>
        </p:nvSpPr>
        <p:spPr>
          <a:xfrm>
            <a:off x="826920" y="1773360"/>
            <a:ext cx="22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828720" y="2708280"/>
            <a:ext cx="28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0,5x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4"/>
          <p:cNvSpPr/>
          <p:nvPr/>
        </p:nvSpPr>
        <p:spPr>
          <a:xfrm>
            <a:off x="841320" y="459432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1/2x – 0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870120" y="551664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5x +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6"/>
          <p:cNvSpPr/>
          <p:nvPr/>
        </p:nvSpPr>
        <p:spPr>
          <a:xfrm>
            <a:off x="826920" y="3645000"/>
            <a:ext cx="33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3x + 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Vlastnosti lineárních funkc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 následujících lineárních funkcí urči průsečíky s osou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826920" y="1773360"/>
            <a:ext cx="22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828720" y="2708280"/>
            <a:ext cx="28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0,5x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841320" y="459432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1/2x – 0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870120" y="551664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5x +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826920" y="3645000"/>
            <a:ext cx="33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3x + 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6659640" y="1773360"/>
            <a:ext cx="1411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1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6661080" y="2708280"/>
            <a:ext cx="148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-3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6673680" y="4594320"/>
            <a:ext cx="1901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-0,75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6702480" y="551664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3/4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6659640" y="3645000"/>
            <a:ext cx="1555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1,5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v téže soustavě souřadnic grafy funk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11"/>
              <p:cNvSpPr txBox="1"/>
              <p:nvPr/>
            </p:nvSpPr>
            <p:spPr>
              <a:xfrm>
                <a:off x="755640" y="1521000"/>
                <a:ext cx="1368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Vlastnosti lineárních funkc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5"/>
              <p:cNvSpPr txBox="1"/>
              <p:nvPr/>
            </p:nvSpPr>
            <p:spPr>
              <a:xfrm>
                <a:off x="774720" y="306864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16"/>
              <p:cNvSpPr txBox="1"/>
              <p:nvPr/>
            </p:nvSpPr>
            <p:spPr>
              <a:xfrm>
                <a:off x="774720" y="458136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1" name="Picture 18" descr=""/>
          <p:cNvPicPr/>
          <p:nvPr/>
        </p:nvPicPr>
        <p:blipFill>
          <a:blip r:embed="rId1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v téže soustavě souřadnic grafy funk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247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Vlastnosti lineárních funkc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"/>
              <p:cNvSpPr txBox="1"/>
              <p:nvPr/>
            </p:nvSpPr>
            <p:spPr>
              <a:xfrm>
                <a:off x="755640" y="1531800"/>
                <a:ext cx="1368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774720" y="306864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8"/>
              <p:cNvSpPr txBox="1"/>
              <p:nvPr/>
            </p:nvSpPr>
            <p:spPr>
              <a:xfrm>
                <a:off x="774720" y="458136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9" name=""/>
          <p:cNvGraphicFramePr/>
          <p:nvPr/>
        </p:nvGraphicFramePr>
        <p:xfrm>
          <a:off x="1835280" y="2133720"/>
          <a:ext cx="1152360" cy="63972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088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Picture 25" descr=""/>
          <p:cNvPicPr/>
          <p:nvPr/>
        </p:nvPicPr>
        <p:blipFill>
          <a:blip r:embed="rId1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6" descr=""/>
          <p:cNvPicPr/>
          <p:nvPr/>
        </p:nvPicPr>
        <p:blipFill>
          <a:blip r:embed="rId2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7" descr=""/>
          <p:cNvPicPr/>
          <p:nvPr/>
        </p:nvPicPr>
        <p:blipFill>
          <a:blip r:embed="rId3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5" descr=""/>
          <p:cNvPicPr/>
          <p:nvPr/>
        </p:nvPicPr>
        <p:blipFill>
          <a:blip r:embed="rId1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v téže soustavě souřadnic grafy funk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280" y="247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Vlastnosti lineárních funkc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755640" y="1531800"/>
                <a:ext cx="1368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774720" y="306864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8"/>
              <p:cNvSpPr txBox="1"/>
              <p:nvPr/>
            </p:nvSpPr>
            <p:spPr>
              <a:xfrm>
                <a:off x="774720" y="458136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61" name=""/>
          <p:cNvGraphicFramePr/>
          <p:nvPr/>
        </p:nvGraphicFramePr>
        <p:xfrm>
          <a:off x="1835280" y="2133720"/>
          <a:ext cx="1152360" cy="63972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088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1835280" y="3687840"/>
          <a:ext cx="1152360" cy="63972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088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Picture 55" descr=""/>
          <p:cNvPicPr/>
          <p:nvPr/>
        </p:nvPicPr>
        <p:blipFill>
          <a:blip r:embed="rId2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6" descr=""/>
          <p:cNvPicPr/>
          <p:nvPr/>
        </p:nvPicPr>
        <p:blipFill>
          <a:blip r:embed="rId3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4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v téže soustavě souřadnic grafy funk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280" y="247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Vlastnosti lineárních funkc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7"/>
              <p:cNvSpPr txBox="1"/>
              <p:nvPr/>
            </p:nvSpPr>
            <p:spPr>
              <a:xfrm>
                <a:off x="755640" y="1531800"/>
                <a:ext cx="1368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774720" y="306864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774720" y="458136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3" name=""/>
          <p:cNvGraphicFramePr/>
          <p:nvPr/>
        </p:nvGraphicFramePr>
        <p:xfrm>
          <a:off x="1835280" y="2133720"/>
          <a:ext cx="1152360" cy="63972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088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1835280" y="3687840"/>
          <a:ext cx="1152360" cy="63972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088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5" name="Picture 38" descr=""/>
          <p:cNvPicPr/>
          <p:nvPr/>
        </p:nvPicPr>
        <p:blipFill>
          <a:blip r:embed="rId2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9" descr=""/>
          <p:cNvPicPr/>
          <p:nvPr/>
        </p:nvPicPr>
        <p:blipFill>
          <a:blip r:embed="rId3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7" name=""/>
          <p:cNvGraphicFramePr/>
          <p:nvPr/>
        </p:nvGraphicFramePr>
        <p:xfrm>
          <a:off x="1835280" y="5186520"/>
          <a:ext cx="1152360" cy="63972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088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Picture 54" descr=""/>
          <p:cNvPicPr/>
          <p:nvPr/>
        </p:nvPicPr>
        <p:blipFill>
          <a:blip r:embed="rId4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5" descr=""/>
          <p:cNvPicPr/>
          <p:nvPr/>
        </p:nvPicPr>
        <p:blipFill>
          <a:blip r:embed="rId5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v téže soustavě souřadnic grafy funk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280" y="247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Vlastnosti lineárních funkc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7"/>
              <p:cNvSpPr txBox="1"/>
              <p:nvPr/>
            </p:nvSpPr>
            <p:spPr>
              <a:xfrm>
                <a:off x="755640" y="1531800"/>
                <a:ext cx="1368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8"/>
              <p:cNvSpPr txBox="1"/>
              <p:nvPr/>
            </p:nvSpPr>
            <p:spPr>
              <a:xfrm>
                <a:off x="774720" y="306864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9"/>
              <p:cNvSpPr txBox="1"/>
              <p:nvPr/>
            </p:nvSpPr>
            <p:spPr>
              <a:xfrm>
                <a:off x="774720" y="4581360"/>
                <a:ext cx="1328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88" name=""/>
          <p:cNvGraphicFramePr/>
          <p:nvPr/>
        </p:nvGraphicFramePr>
        <p:xfrm>
          <a:off x="1835280" y="2133720"/>
          <a:ext cx="1152360" cy="63972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088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1835280" y="3687840"/>
          <a:ext cx="1152360" cy="63972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088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0" name="Picture 38" descr=""/>
          <p:cNvPicPr/>
          <p:nvPr/>
        </p:nvPicPr>
        <p:blipFill>
          <a:blip r:embed="rId2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9" descr=""/>
          <p:cNvPicPr/>
          <p:nvPr/>
        </p:nvPicPr>
        <p:blipFill>
          <a:blip r:embed="rId3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2" name=""/>
          <p:cNvGraphicFramePr/>
          <p:nvPr/>
        </p:nvGraphicFramePr>
        <p:xfrm>
          <a:off x="1835280" y="5186520"/>
          <a:ext cx="1152360" cy="639720"/>
        </p:xfrm>
        <a:graphic>
          <a:graphicData uri="http://schemas.openxmlformats.org/drawingml/2006/table">
            <a:tbl>
              <a:tblPr/>
              <a:tblGrid>
                <a:gridCol w="384120"/>
                <a:gridCol w="387360"/>
                <a:gridCol w="380880"/>
              </a:tblGrid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3" name="Picture 54" descr=""/>
          <p:cNvPicPr/>
          <p:nvPr/>
        </p:nvPicPr>
        <p:blipFill>
          <a:blip r:embed="rId4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5" descr=""/>
          <p:cNvPicPr/>
          <p:nvPr/>
        </p:nvPicPr>
        <p:blipFill>
          <a:blip r:embed="rId5"/>
          <a:stretch/>
        </p:blipFill>
        <p:spPr>
          <a:xfrm>
            <a:off x="3417840" y="1539720"/>
            <a:ext cx="5041800" cy="48420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6"/>
          <p:cNvSpPr/>
          <p:nvPr/>
        </p:nvSpPr>
        <p:spPr>
          <a:xfrm>
            <a:off x="3362400" y="4610160"/>
            <a:ext cx="5041800" cy="1728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Jsou-li dvě lineární rovnice určeny rovnicemi </a:t>
            </a:r>
            <a:br>
              <a:rPr sz="2000"/>
            </a:b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y = a</a:t>
            </a:r>
            <a:r>
              <a:rPr b="1" lang="cs-CZ" sz="2000" spc="-1" strike="noStrike" baseline="-25000">
                <a:solidFill>
                  <a:srgbClr val="3333cc"/>
                </a:solidFill>
                <a:latin typeface="Trebuchet MS"/>
              </a:rPr>
              <a:t>1</a:t>
            </a: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x + b</a:t>
            </a:r>
            <a:r>
              <a:rPr b="1" lang="cs-CZ" sz="2000" spc="-1" strike="noStrike" baseline="-25000">
                <a:solidFill>
                  <a:srgbClr val="3333cc"/>
                </a:solidFill>
                <a:latin typeface="Trebuchet MS"/>
              </a:rPr>
              <a:t>1</a:t>
            </a: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; y = a</a:t>
            </a:r>
            <a:r>
              <a:rPr b="1" lang="cs-CZ" sz="2000" spc="-1" strike="noStrike" baseline="-25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x + b</a:t>
            </a:r>
            <a:r>
              <a:rPr b="1" lang="cs-CZ" sz="2000" spc="-1" strike="noStrike" baseline="-25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a jestliže </a:t>
            </a: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a</a:t>
            </a:r>
            <a:r>
              <a:rPr b="1" lang="cs-CZ" sz="2000" spc="-1" strike="noStrike" baseline="-25000">
                <a:solidFill>
                  <a:srgbClr val="3333cc"/>
                </a:solidFill>
                <a:latin typeface="Trebuchet MS"/>
              </a:rPr>
              <a:t>1 </a:t>
            </a: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= a</a:t>
            </a:r>
            <a:r>
              <a:rPr b="1" lang="cs-CZ" sz="2000" spc="-1" strike="noStrike" baseline="-25000">
                <a:solidFill>
                  <a:srgbClr val="3333cc"/>
                </a:solidFill>
                <a:latin typeface="Trebuchet MS"/>
              </a:rPr>
              <a:t>2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, pak grafy těchto funkcí jsou navzájem </a:t>
            </a:r>
            <a:r>
              <a:rPr b="1" lang="cs-CZ" sz="2000" spc="-1" strike="noStrike">
                <a:solidFill>
                  <a:srgbClr val="3333cc"/>
                </a:solidFill>
                <a:latin typeface="Trebuchet MS"/>
              </a:rPr>
              <a:t>rovnoběžné přímky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.</a:t>
            </a:r>
            <a:r>
              <a:rPr b="1" lang="cs-CZ" sz="26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Vlastnosti lineárních funkc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71480" y="112392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 lineární funkci, jejíž graf je rovnoběžný s grafem funkce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 = -3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prochází bodem o souřadnicí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800280" y="18446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826920" y="1989000"/>
            <a:ext cx="22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4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828720" y="2924280"/>
            <a:ext cx="287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-2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41320" y="480996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1/2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870120" y="573264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0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26920" y="3860640"/>
            <a:ext cx="33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-4,5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 − zápis fun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00000" y="119700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84c6a"/>
                </a:solidFill>
                <a:latin typeface="Trebuchet MS"/>
              </a:rPr>
              <a:t>f: y = 2x + 1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26920" y="184464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de proměnná </a:t>
            </a:r>
            <a:r>
              <a:rPr b="1" i="1" lang="en-US" sz="24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e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argument funkce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neboli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nezávisle proměnná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4643280" y="2349360"/>
            <a:ext cx="4105440" cy="2232000"/>
          </a:xfrm>
          <a:prstGeom prst="cloudCallout">
            <a:avLst>
              <a:gd name="adj1" fmla="val -71500"/>
              <a:gd name="adj2" fmla="val -47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závislost je dána tím, že její hodnotu můžeme libovolně měnit, ovšem jen v rámci definované množiny, definičního obor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826920" y="494028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Množina všech přípustných hodnot argumentu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, tedy všechny hodnoty, kterých může proměnná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pro danou funkci nabývat, se nazývá definiční obor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900000" y="580536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načí se: </a:t>
            </a:r>
            <a:r>
              <a:rPr b="1" i="1" lang="en-US" sz="4000" spc="-1" strike="noStrike">
                <a:solidFill>
                  <a:srgbClr val="00cc00"/>
                </a:solidFill>
                <a:latin typeface="Trebuchet MS"/>
              </a:rPr>
              <a:t>D(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Vlastnosti lineárních funkcí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771480" y="112392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Určete lineární funkci, jejíž graf je rovnoběžný s grafem funkce </a:t>
            </a:r>
            <a:r>
              <a:rPr b="1" i="1" lang="cs-CZ" sz="2000" spc="-1" strike="noStrike">
                <a:solidFill>
                  <a:srgbClr val="284c6a"/>
                </a:solidFill>
                <a:latin typeface="Trebuchet MS"/>
              </a:rPr>
              <a:t>y = -3x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a prochází bodem o souřadnicí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800280" y="18446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826920" y="1989000"/>
            <a:ext cx="22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4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828720" y="2924280"/>
            <a:ext cx="287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-2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841320" y="480996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1/2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870120" y="573264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0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826920" y="3860640"/>
            <a:ext cx="33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0;-4,5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156360" y="198900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3x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6186600" y="2924280"/>
            <a:ext cx="2201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3x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6256440" y="4809960"/>
            <a:ext cx="249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3x +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6300720" y="573264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6227640" y="3860640"/>
            <a:ext cx="227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3x - 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 − obor hodno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71480" y="1413000"/>
            <a:ext cx="755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e všem přípustným hodnotám argumentu </a:t>
            </a:r>
            <a:r>
              <a:rPr b="1" i="1" lang="en-US" sz="24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přísluší právě jedna funkční hodnota. Ty všechny dohromady tvoří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obor hodnot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(obor funkčních hodnot)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41240" y="4711680"/>
            <a:ext cx="766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Obor hodnot je množina všech reálných čísel, které dostaneme jako výstupní hodnotu funkce </a:t>
            </a:r>
            <a:r>
              <a:rPr b="1" i="1" lang="en-US" sz="2400" spc="-1" strike="noStrike">
                <a:solidFill>
                  <a:srgbClr val="00cc00"/>
                </a:solidFill>
                <a:latin typeface="Trebuchet MS"/>
              </a:rPr>
              <a:t>f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, jestliže za </a:t>
            </a:r>
            <a:r>
              <a:rPr b="1" i="1" lang="en-US" sz="24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dosadíme všechny přípustné hodnoty z </a:t>
            </a:r>
            <a:r>
              <a:rPr b="1" i="1" lang="en-US" sz="2400" spc="-1" strike="noStrike">
                <a:solidFill>
                  <a:srgbClr val="00cc00"/>
                </a:solidFill>
                <a:latin typeface="Trebuchet MS"/>
              </a:rPr>
              <a:t>D(f)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00000" y="5661000"/>
            <a:ext cx="73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Značí se: </a:t>
            </a:r>
            <a:r>
              <a:rPr b="1" i="1" lang="en-US" sz="4000" spc="-1" strike="noStrike">
                <a:solidFill>
                  <a:srgbClr val="00cc00"/>
                </a:solidFill>
                <a:latin typeface="Trebuchet MS"/>
              </a:rPr>
              <a:t>H(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4716360" y="4003560"/>
            <a:ext cx="4105440" cy="2089440"/>
          </a:xfrm>
          <a:prstGeom prst="cloudCallout">
            <a:avLst>
              <a:gd name="adj1" fmla="val -35152"/>
              <a:gd name="adj2" fmla="val -995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dnota závisle proměnné je pro danou funkci jednoznačně určena hodnotou argumentu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proto „závisle“ proměnná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755640" y="2997360"/>
            <a:ext cx="741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Funkční hodnota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neboli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ávisle proměnná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e číslo, které funkce přiřadí konkrétnímu argumentu </a:t>
            </a:r>
            <a:r>
              <a:rPr b="1" i="1" lang="en-US" sz="24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 Jinak řečeno </a:t>
            </a:r>
            <a:r>
              <a:rPr b="1" lang="en-US" sz="2400" spc="-1" strike="noStrike">
                <a:solidFill>
                  <a:srgbClr val="284c6a"/>
                </a:solidFill>
                <a:latin typeface="Arial"/>
              </a:rPr>
              <a:t>−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výstupní hodnota funkce.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Obvykle ji značíme </a:t>
            </a:r>
            <a:r>
              <a:rPr b="1" i="1" lang="en-US" sz="2400" spc="-1" strike="noStrike">
                <a:solidFill>
                  <a:srgbClr val="00cc00"/>
                </a:solidFill>
                <a:latin typeface="Trebuchet MS"/>
              </a:rPr>
              <a:t>y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nebo </a:t>
            </a:r>
            <a:r>
              <a:rPr b="1" i="1" lang="en-US" sz="2400" spc="-1" strike="noStrike">
                <a:solidFill>
                  <a:srgbClr val="00cc00"/>
                </a:solidFill>
                <a:latin typeface="Trebuchet MS"/>
              </a:rPr>
              <a:t>f(x)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7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2298600" cy="309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pakování − zadání, zápis fun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771480" y="1268280"/>
            <a:ext cx="401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1) Předpisem </a:t>
            </a:r>
            <a:br>
              <a:rPr sz="2800"/>
            </a:b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    (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vzorcem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rovnicí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062680" y="1066680"/>
            <a:ext cx="3254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2) Tabul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900000" y="357336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3)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1332000" y="2060640"/>
            <a:ext cx="28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f: y = 2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07120" y="1917720"/>
          <a:ext cx="2603520" cy="868320"/>
        </p:xfrm>
        <a:graphic>
          <a:graphicData uri="http://schemas.openxmlformats.org/drawingml/2006/table">
            <a:tbl>
              <a:tblPr/>
              <a:tblGrid>
                <a:gridCol w="434880"/>
                <a:gridCol w="433440"/>
                <a:gridCol w="434880"/>
                <a:gridCol w="432000"/>
                <a:gridCol w="436320"/>
                <a:gridCol w="4320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Lineární funkc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27200" y="1700280"/>
            <a:ext cx="802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Lineární funkce je funkce daná rovnicí </a:t>
            </a:r>
            <a:br>
              <a:rPr sz="2400"/>
            </a:b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y = ax + b</a:t>
            </a:r>
            <a:br>
              <a:rPr sz="2400"/>
            </a:b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kde </a:t>
            </a:r>
            <a:r>
              <a:rPr b="1" i="1" lang="cs-CZ" sz="24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i="1" lang="cs-CZ" sz="2400" spc="-1" strike="noStrike">
                <a:solidFill>
                  <a:srgbClr val="284c6a"/>
                </a:solidFill>
                <a:latin typeface="Trebuchet MS"/>
              </a:rPr>
              <a:t>b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jsou libovolná reálná čís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a definičním oborem je množina všech reálných čí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 rot="626400">
            <a:off x="2052360" y="522936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y = 2x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844560" y="2924280"/>
            <a:ext cx="7688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rebuchet MS"/>
              </a:rPr>
              <a:t>Poznámka: Je-li definičním oborem podmnožina (část) množiny všech reálných čísel, hovoříme o části lineární funk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564000" y="4508640"/>
            <a:ext cx="287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6600"/>
                </a:solidFill>
                <a:latin typeface="Trebuchet MS"/>
              </a:rPr>
              <a:t>y = 0,5x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5"/>
          <p:cNvSpPr/>
          <p:nvPr/>
        </p:nvSpPr>
        <p:spPr>
          <a:xfrm rot="20310600">
            <a:off x="5003640" y="5084640"/>
            <a:ext cx="33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rebuchet MS"/>
              </a:rPr>
              <a:t>y = -1/2x – 0,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 rot="549000">
            <a:off x="4716360" y="364500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cc99"/>
                </a:solidFill>
                <a:latin typeface="Trebuchet MS"/>
              </a:rPr>
              <a:t>y = -5x + 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 rot="20345400">
            <a:off x="971280" y="393228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rebuchet MS"/>
              </a:rPr>
              <a:t>y = -3x + 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Lineární funk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71480" y="112392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Rozhodněte, která z daných rovnic určuje lineární funkci. Své rozhodnutí zdůvodn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800280" y="177336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826920" y="1989000"/>
            <a:ext cx="22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1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28720" y="2708280"/>
            <a:ext cx="28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3 – x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841320" y="413532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855720" y="486900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1/2x +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826920" y="3429000"/>
            <a:ext cx="33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5 – 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855720" y="551664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4/x –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íklady 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− Lineární funkc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71480" y="112392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Rozhodněte, která z daných rovnic určuje lineární funkci. Své rozhodnutí zdůvodně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800280" y="177336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826920" y="1989000"/>
            <a:ext cx="22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1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828720" y="2708280"/>
            <a:ext cx="28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3 – x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841320" y="413532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855720" y="4869000"/>
            <a:ext cx="331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-1/2x + 3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826920" y="3429000"/>
            <a:ext cx="33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5 – 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855720" y="551664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y = 4/x – 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7596360" y="1989000"/>
            <a:ext cx="110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597800" y="2708280"/>
            <a:ext cx="890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7610400" y="4135320"/>
            <a:ext cx="102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7624800" y="4869000"/>
            <a:ext cx="100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7596360" y="3429000"/>
            <a:ext cx="103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7624800" y="551664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rebuchet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11280" y="981000"/>
            <a:ext cx="7921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1440" y="2397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Graf lineární funkce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771480" y="981000"/>
            <a:ext cx="75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Sestrojte graf funkce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f: y = 2x - 1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, pro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cs-CZ" sz="20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R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0"/>
          <p:cNvSpPr/>
          <p:nvPr/>
        </p:nvSpPr>
        <p:spPr>
          <a:xfrm>
            <a:off x="800280" y="1484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1"/>
          <p:cNvSpPr/>
          <p:nvPr/>
        </p:nvSpPr>
        <p:spPr>
          <a:xfrm>
            <a:off x="1619280" y="1844640"/>
            <a:ext cx="1512720" cy="1440000"/>
          </a:xfrm>
          <a:prstGeom prst="cloudCallout">
            <a:avLst>
              <a:gd name="adj1" fmla="val 99212"/>
              <a:gd name="adj2" fmla="val -7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pis zadané fun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6084720" y="1844640"/>
            <a:ext cx="1943280" cy="1440000"/>
          </a:xfrm>
          <a:prstGeom prst="cloudCallout">
            <a:avLst>
              <a:gd name="adj1" fmla="val -83907"/>
              <a:gd name="adj2" fmla="val -75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finiční obor fun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784080" y="1773360"/>
            <a:ext cx="7317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Grafem funkcí (grafickým znázorněním průběhu funkcí) jsou obvykle křivky. Dle typu funkce to může být přímka, parabola, hyperbola či jiná křivka nebo jen její čá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812880" y="4365720"/>
            <a:ext cx="7359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abulku sestavíme dosazením nezávisle proměnné, která je prvkem definičního oboru, do rovnice zadané funkce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následným výpočtem závisle proměnné funkční hodnoty. Tyto dvě sobě odpovídající hodnoty pak tvoří uspořádanou dvojici souřadnic bodu ležícího na grafu zadané funk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8"/>
          <p:cNvSpPr/>
          <p:nvPr/>
        </p:nvSpPr>
        <p:spPr>
          <a:xfrm>
            <a:off x="1908000" y="4249800"/>
            <a:ext cx="5904000" cy="2131920"/>
          </a:xfrm>
          <a:prstGeom prst="cloudCallout">
            <a:avLst>
              <a:gd name="adj1" fmla="val -52097"/>
              <a:gd name="adj2" fmla="val -950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jimkou je funkce lineární, jejímž grafem je přímka. Jak víme, k sestrojení přímky nám stačí body dva. My zatím ale nedokážeme ze zápisu funkce poznat její typ, a tak budeme prozatím vždy zjišťovat více bod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4"/>
          <p:cNvSpPr/>
          <p:nvPr/>
        </p:nvSpPr>
        <p:spPr>
          <a:xfrm>
            <a:off x="798480" y="2924280"/>
            <a:ext cx="7302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bychom křivku co nejlépe „vykreslili“, je dobré znát co nejvíce bodů, které na ni leží. K jejich přehlednému zápisu nám slouží tabul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826920" y="544500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Tak např. pro </a:t>
            </a:r>
            <a:r>
              <a:rPr b="1" lang="cs-CZ" sz="1700" spc="-1" strike="noStrike">
                <a:solidFill>
                  <a:srgbClr val="00cc00"/>
                </a:solidFill>
                <a:latin typeface="Trebuchet MS"/>
              </a:rPr>
              <a:t>x = -2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: </a:t>
            </a:r>
            <a:r>
              <a:rPr b="1" lang="cs-CZ" sz="1700" spc="-1" strike="noStrike">
                <a:solidFill>
                  <a:srgbClr val="ff0000"/>
                </a:solidFill>
                <a:latin typeface="Trebuchet MS"/>
              </a:rPr>
              <a:t>y = 2.(-2) – 1 = -5</a:t>
            </a:r>
            <a:r>
              <a:rPr b="1" lang="cs-CZ" sz="1700" spc="-1" strike="noStrike">
                <a:solidFill>
                  <a:srgbClr val="284c6a"/>
                </a:solidFill>
                <a:latin typeface="Trebuchet MS"/>
              </a:rPr>
              <a:t>. Uspořádané dvojice zapisujem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0"/>
          <p:cNvSpPr/>
          <p:nvPr/>
        </p:nvSpPr>
        <p:spPr>
          <a:xfrm>
            <a:off x="684360" y="5805360"/>
            <a:ext cx="777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x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y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=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00cc00"/>
                </a:solidFill>
                <a:latin typeface="Trebuchet MS"/>
              </a:rPr>
              <a:t>-2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;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-5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1"/>
          <p:cNvSpPr/>
          <p:nvPr/>
        </p:nvSpPr>
        <p:spPr>
          <a:xfrm flipH="1">
            <a:off x="3780000" y="1413000"/>
            <a:ext cx="287280" cy="4176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–4785, financovaného z ESF a státního rozpočtu ČR. Provozováno Výzkumným ústavem pedagogickým v Praze.</dc:description>
  <dc:language>en-US</dc:language>
  <cp:lastModifiedBy>Tereza Bížová</cp:lastModifiedBy>
  <dcterms:modified xsi:type="dcterms:W3CDTF">2010-09-22T06:41:25Z</dcterms:modified>
  <cp:revision>213</cp:revision>
  <dc:subject/>
  <dc:title>Lineární funkce - vlastnosti 1</dc:title>
</cp:coreProperties>
</file>