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336-1E72-4C6B-9540-ABC97472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AC8-3DB2-40B7-831D-4FF1A24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1AD-47F2-4840-9F76-7B0A1CF8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47E-7CB6-4703-B32F-9152EE56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6EF4-2D44-4133-9F1A-C537AA96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0BC-24E8-4427-B940-488E872D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0120-AF30-4875-9F61-59EE89B3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C809-125A-4347-B517-430E60CB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720A-0A44-45A5-A0B5-B72B6682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659-111F-4E20-918E-7FE838A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E889-38B1-4509-9041-85B2F48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59D-4039-470C-BAFE-CD95D908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DD64-084C-4854-AA1B-684518A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7917-D4F0-41FA-9E3C-8FD0C217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A60D-C23B-4D89-AFAA-B99431BB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3894-741E-4BEF-A1C6-52735871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4569-5A9A-4566-A38F-97A3C127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380-EC1F-44B1-A780-B3FA446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763-C256-4EFB-9DA1-50C9FC39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8A6-844C-4959-ADED-B420FA3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96D-302C-472C-AD12-5FE36581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D7E-5B5F-40A9-B6FE-A9982723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D07-B7E0-48DC-95CD-5549FC8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E4C-AC05-449B-96AF-92E9699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8C37-47ED-4AF0-A8FE-32E280F5D1CC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1C79-29FC-4846-8814-93B90277E1FF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Konstrukce trojúhelníku </a:t>
            </a:r>
            <a:br>
              <a:rPr sz="4400"/>
            </a:br>
            <a:r>
              <a:rPr b="1" lang="cs-CZ" sz="4400" spc="-1" strike="noStrike">
                <a:solidFill>
                  <a:srgbClr val="284c6a"/>
                </a:solidFill>
                <a:latin typeface="Trebuchet MS"/>
              </a:rPr>
              <a:t>s kružnicí opsanou v zadání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84c6a"/>
                </a:solidFill>
                <a:latin typeface="Trebuchet MS"/>
              </a:rPr>
              <a:t>Jsou-li zadány dvě strany a poloměr kružnice opsa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.: Sestrojte trojúhelník ABC, je-li c = 4 cm, a = 5 cm a poloměr kružnice trojúhelníku ABC opsané r = 3 c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468360" y="1139760"/>
            <a:ext cx="8532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1) Začneme jako vždy stranou, v tomto případě jedinou zadanou stranou, stranou 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0" descr=""/>
          <p:cNvPicPr/>
          <p:nvPr/>
        </p:nvPicPr>
        <p:blipFill>
          <a:blip r:embed="rId1"/>
          <a:stretch/>
        </p:blipFill>
        <p:spPr>
          <a:xfrm>
            <a:off x="1670040" y="1828800"/>
            <a:ext cx="5437080" cy="4437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3"/>
          <p:cNvSpPr/>
          <p:nvPr/>
        </p:nvSpPr>
        <p:spPr>
          <a:xfrm>
            <a:off x="4384800" y="55119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320364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"/>
          <p:cNvSpPr/>
          <p:nvPr/>
        </p:nvSpPr>
        <p:spPr>
          <a:xfrm>
            <a:off x="576756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7394400" y="5373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3201840" y="5532480"/>
            <a:ext cx="25560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.: Sestrojte trojúhelník ABC, je-li c = 4 cm, a = 5 cm a poloměr kružnice trojúhelníku ABC opsané r = 3 c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468360" y="1139760"/>
            <a:ext cx="8532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2) Dále „najdeme“ střed kružnice opsané, která je množinou bodů, mezi nimiž se nachází bod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. Střed této kružnice leží, jak jsme viděli na jednom z předcházejících snímku, ve stejné vzdálenosti (poloměr r = 3 cm) od vrcholů trojúhelníku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i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. Kružnici narýsujem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9" descr=""/>
          <p:cNvPicPr/>
          <p:nvPr/>
        </p:nvPicPr>
        <p:blipFill>
          <a:blip r:embed="rId1"/>
          <a:stretch/>
        </p:blipFill>
        <p:spPr>
          <a:xfrm>
            <a:off x="1670040" y="1828800"/>
            <a:ext cx="5437080" cy="4437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0"/>
          <p:cNvSpPr/>
          <p:nvPr/>
        </p:nvSpPr>
        <p:spPr>
          <a:xfrm>
            <a:off x="4384800" y="55119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320364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3"/>
          <p:cNvSpPr/>
          <p:nvPr/>
        </p:nvSpPr>
        <p:spPr>
          <a:xfrm>
            <a:off x="576756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7394400" y="5373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5"/>
          <p:cNvSpPr/>
          <p:nvPr/>
        </p:nvSpPr>
        <p:spPr>
          <a:xfrm>
            <a:off x="3201840" y="5532480"/>
            <a:ext cx="25560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4356000" y="40878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7"/>
          <p:cNvSpPr/>
          <p:nvPr/>
        </p:nvSpPr>
        <p:spPr>
          <a:xfrm>
            <a:off x="2543040" y="2151000"/>
            <a:ext cx="3876840" cy="3870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38"/>
          <p:cNvSpPr/>
          <p:nvPr/>
        </p:nvSpPr>
        <p:spPr>
          <a:xfrm rot="20171400">
            <a:off x="2843280" y="3786120"/>
            <a:ext cx="1977840" cy="147168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471680"/>
              <a:gd name="textAreaBottom" fmla="*/ 1472040 h 1471680"/>
            </a:gdLst>
            <a:ahLst/>
            <a:rect l="textAreaLeft" t="textAreaTop" r="textAreaRight" b="textAreaBottom"/>
            <a:pathLst>
              <a:path fill="none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</a:path>
              <a:path stroke="0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  <a:lnTo>
                  <a:pt x="0" y="16022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39"/>
          <p:cNvSpPr/>
          <p:nvPr/>
        </p:nvSpPr>
        <p:spPr>
          <a:xfrm flipH="1" rot="1274400">
            <a:off x="4171320" y="3576600"/>
            <a:ext cx="1954080" cy="1752480"/>
          </a:xfrm>
          <a:custGeom>
            <a:avLst/>
            <a:gdLst>
              <a:gd name="textAreaLeft" fmla="*/ 360 w 1954080"/>
              <a:gd name="textAreaRight" fmla="*/ 1954800 w 1954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fill="none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</a:path>
              <a:path stroke="0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  <a:lnTo>
                  <a:pt x="0" y="1932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0"/>
          <p:cNvSpPr/>
          <p:nvPr/>
        </p:nvSpPr>
        <p:spPr>
          <a:xfrm>
            <a:off x="2860560" y="24210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.: Sestrojte trojúhelník ABC, je-li c = 4 cm, a = 5 cm a poloměr kružnice trojúhelníku ABC opsané r = 3 c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68360" y="1139760"/>
            <a:ext cx="85327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3) Na závěr sestrojíme kružnici se středem v bodě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a s poloměrem 5 cm, jako množinu všech bodů, které mají od bodu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 vzdálenost 5 cm, tedy vzdálenost, jakou má mít námi hledaný bod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. I tato kružnice je množinou bodů, mezi nimiž se nachází bod </a:t>
            </a:r>
            <a:r>
              <a:rPr b="1" i="1" lang="cs-CZ" sz="1500" spc="-1" strike="noStrike">
                <a:solidFill>
                  <a:srgbClr val="284c6a"/>
                </a:solidFill>
                <a:latin typeface="Trebuchet MS"/>
              </a:rPr>
              <a:t>C</a:t>
            </a:r>
            <a:r>
              <a:rPr b="1" lang="cs-CZ" sz="15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"/>
          <p:cNvPicPr/>
          <p:nvPr/>
        </p:nvPicPr>
        <p:blipFill>
          <a:blip r:embed="rId1"/>
          <a:stretch/>
        </p:blipFill>
        <p:spPr>
          <a:xfrm>
            <a:off x="1670040" y="1828800"/>
            <a:ext cx="5437080" cy="4437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2"/>
          <p:cNvSpPr/>
          <p:nvPr/>
        </p:nvSpPr>
        <p:spPr>
          <a:xfrm>
            <a:off x="4384800" y="55119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1187280" y="5532480"/>
            <a:ext cx="66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320364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5"/>
          <p:cNvSpPr/>
          <p:nvPr/>
        </p:nvSpPr>
        <p:spPr>
          <a:xfrm>
            <a:off x="5767560" y="5416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7394400" y="537372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>
            <a:off x="3201840" y="5532480"/>
            <a:ext cx="2556000" cy="1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8"/>
          <p:cNvSpPr/>
          <p:nvPr/>
        </p:nvSpPr>
        <p:spPr>
          <a:xfrm>
            <a:off x="4356000" y="40878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9"/>
          <p:cNvSpPr/>
          <p:nvPr/>
        </p:nvSpPr>
        <p:spPr>
          <a:xfrm>
            <a:off x="2543040" y="2151000"/>
            <a:ext cx="3876840" cy="38703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40"/>
          <p:cNvSpPr/>
          <p:nvPr/>
        </p:nvSpPr>
        <p:spPr>
          <a:xfrm rot="20171400">
            <a:off x="2843280" y="3786120"/>
            <a:ext cx="1977840" cy="147168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471680"/>
              <a:gd name="textAreaBottom" fmla="*/ 1472040 h 1471680"/>
            </a:gdLst>
            <a:ahLst/>
            <a:rect l="textAreaLeft" t="textAreaTop" r="textAreaRight" b="textAreaBottom"/>
            <a:pathLst>
              <a:path fill="none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</a:path>
              <a:path stroke="0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  <a:lnTo>
                  <a:pt x="0" y="16022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41"/>
          <p:cNvSpPr/>
          <p:nvPr/>
        </p:nvSpPr>
        <p:spPr>
          <a:xfrm flipH="1" rot="1274400">
            <a:off x="4171320" y="3576600"/>
            <a:ext cx="1954080" cy="1752480"/>
          </a:xfrm>
          <a:custGeom>
            <a:avLst/>
            <a:gdLst>
              <a:gd name="textAreaLeft" fmla="*/ 360 w 1954080"/>
              <a:gd name="textAreaRight" fmla="*/ 1954800 w 1954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fill="none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</a:path>
              <a:path stroke="0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  <a:lnTo>
                  <a:pt x="0" y="1932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2"/>
          <p:cNvSpPr/>
          <p:nvPr/>
        </p:nvSpPr>
        <p:spPr>
          <a:xfrm>
            <a:off x="2860560" y="24210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43"/>
          <p:cNvSpPr/>
          <p:nvPr/>
        </p:nvSpPr>
        <p:spPr>
          <a:xfrm flipH="1">
            <a:off x="2528280" y="2322360"/>
            <a:ext cx="4971960" cy="3781440"/>
          </a:xfrm>
          <a:custGeom>
            <a:avLst/>
            <a:gdLst>
              <a:gd name="textAreaLeft" fmla="*/ -360 w 4971960"/>
              <a:gd name="textAreaRight" fmla="*/ 4971960 w 4971960"/>
              <a:gd name="textAreaTop" fmla="*/ 0 h 3781440"/>
              <a:gd name="textAreaBottom" fmla="*/ 3781800 h 3781440"/>
            </a:gdLst>
            <a:ahLst/>
            <a:rect l="textAreaLeft" t="textAreaTop" r="textAreaRight" b="textAreaBottom"/>
            <a:pathLst>
              <a:path fill="none" w="33264" h="25293">
                <a:moveTo>
                  <a:pt x="0" y="3420"/>
                </a:moveTo>
                <a:cubicBezTo>
                  <a:pt x="3480" y="1187"/>
                  <a:pt x="7528" y="-1"/>
                  <a:pt x="11664" y="0"/>
                </a:cubicBezTo>
                <a:cubicBezTo>
                  <a:pt x="23593" y="0"/>
                  <a:pt x="33264" y="9670"/>
                  <a:pt x="33264" y="21600"/>
                </a:cubicBezTo>
                <a:cubicBezTo>
                  <a:pt x="33264" y="22837"/>
                  <a:pt x="33157" y="24073"/>
                  <a:pt x="32945" y="25292"/>
                </a:cubicBezTo>
              </a:path>
              <a:path stroke="0" w="33264" h="25293">
                <a:moveTo>
                  <a:pt x="0" y="3420"/>
                </a:moveTo>
                <a:cubicBezTo>
                  <a:pt x="3480" y="1187"/>
                  <a:pt x="7528" y="-1"/>
                  <a:pt x="11664" y="0"/>
                </a:cubicBezTo>
                <a:cubicBezTo>
                  <a:pt x="23593" y="0"/>
                  <a:pt x="33264" y="9670"/>
                  <a:pt x="33264" y="21600"/>
                </a:cubicBezTo>
                <a:cubicBezTo>
                  <a:pt x="33264" y="22837"/>
                  <a:pt x="33157" y="24073"/>
                  <a:pt x="32945" y="25292"/>
                </a:cubicBezTo>
                <a:lnTo>
                  <a:pt x="11664" y="21600"/>
                </a:lnTo>
                <a:close/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4"/>
          <p:cNvSpPr/>
          <p:nvPr/>
        </p:nvSpPr>
        <p:spPr>
          <a:xfrm>
            <a:off x="6877080" y="224784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5"/>
          <p:cNvSpPr/>
          <p:nvPr/>
        </p:nvSpPr>
        <p:spPr>
          <a:xfrm>
            <a:off x="5262480" y="2305080"/>
            <a:ext cx="9360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6"/>
          <p:cNvSpPr/>
          <p:nvPr/>
        </p:nvSpPr>
        <p:spPr>
          <a:xfrm>
            <a:off x="6515280" y="3500280"/>
            <a:ext cx="2520720" cy="1873440"/>
          </a:xfrm>
          <a:prstGeom prst="cloudCallout">
            <a:avLst>
              <a:gd name="adj1" fmla="val -92504"/>
              <a:gd name="adj2" fmla="val -101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Bod </a:t>
            </a:r>
            <a:r>
              <a:rPr b="1" i="1" lang="cs-CZ" sz="15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 lež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Trebuchet MS"/>
              </a:rPr>
              <a:t>v průsečíku námi použitých množ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7"/>
          <p:cNvSpPr/>
          <p:nvPr/>
        </p:nvSpPr>
        <p:spPr>
          <a:xfrm>
            <a:off x="2600280" y="4681440"/>
            <a:ext cx="93600" cy="93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5176800" y="200340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2266920" y="4610160"/>
            <a:ext cx="48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cs-CZ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50"/>
          <p:cNvSpPr/>
          <p:nvPr/>
        </p:nvSpPr>
        <p:spPr>
          <a:xfrm>
            <a:off x="179280" y="1700280"/>
            <a:ext cx="2521080" cy="2305080"/>
          </a:xfrm>
          <a:prstGeom prst="cloudCallout">
            <a:avLst>
              <a:gd name="adj1" fmla="val 41435"/>
              <a:gd name="adj2" fmla="val 76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Z náčrtku je zřejmé, že úloha může mít dokonce i dvě řešení. Vyšetříme si tedy možné varia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Zápis a konstrukce: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9" name="Rectangle 26"/>
          <p:cNvSpPr/>
          <p:nvPr/>
        </p:nvSpPr>
        <p:spPr>
          <a:xfrm>
            <a:off x="1330200" y="1195560"/>
            <a:ext cx="2981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. m; m(A; r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1328760" y="1496880"/>
            <a:ext cx="276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3. n; n(B; r = 4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4357800" y="1198440"/>
            <a:ext cx="25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 k; k(S; r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7"/>
          <p:cNvSpPr/>
          <p:nvPr/>
        </p:nvSpPr>
        <p:spPr>
          <a:xfrm>
            <a:off x="4357800" y="1486080"/>
            <a:ext cx="2519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6. l; l(B; r = 5 c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332000" y="907920"/>
            <a:ext cx="25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1. c; c =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= 4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684360" y="1844640"/>
            <a:ext cx="7775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9"/>
          <p:cNvSpPr/>
          <p:nvPr/>
        </p:nvSpPr>
        <p:spPr>
          <a:xfrm>
            <a:off x="4356000" y="907920"/>
            <a:ext cx="251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 S; S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m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1"/>
          <p:cNvSpPr/>
          <p:nvPr/>
        </p:nvSpPr>
        <p:spPr>
          <a:xfrm>
            <a:off x="6589800" y="1197000"/>
            <a:ext cx="23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8.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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BC,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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ABC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3"/>
          <p:cNvSpPr/>
          <p:nvPr/>
        </p:nvSpPr>
        <p:spPr>
          <a:xfrm>
            <a:off x="6588000" y="906480"/>
            <a:ext cx="230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7. C, C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 C, C</a:t>
            </a:r>
            <a:r>
              <a:rPr b="1" lang="cs-CZ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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k </a:t>
            </a:r>
            <a:r>
              <a:rPr b="1" lang="cs-CZ" sz="1600" spc="-1" strike="noStrike">
                <a:solidFill>
                  <a:srgbClr val="284c6a"/>
                </a:solidFill>
                <a:latin typeface="Symbol"/>
                <a:ea typeface="Symbol"/>
              </a:rPr>
              <a:t>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0"/>
          <p:cNvSpPr/>
          <p:nvPr/>
        </p:nvSpPr>
        <p:spPr>
          <a:xfrm>
            <a:off x="1187280" y="5603760"/>
            <a:ext cx="669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>
            <a:off x="3203640" y="5487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5767560" y="5487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3"/>
          <p:cNvSpPr/>
          <p:nvPr/>
        </p:nvSpPr>
        <p:spPr>
          <a:xfrm>
            <a:off x="7394400" y="5445000"/>
            <a:ext cx="325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5"/>
          <p:cNvSpPr/>
          <p:nvPr/>
        </p:nvSpPr>
        <p:spPr>
          <a:xfrm>
            <a:off x="4356000" y="41590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16"/>
          <p:cNvSpPr/>
          <p:nvPr/>
        </p:nvSpPr>
        <p:spPr>
          <a:xfrm>
            <a:off x="2543040" y="2222640"/>
            <a:ext cx="3876840" cy="387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117"/>
          <p:cNvSpPr/>
          <p:nvPr/>
        </p:nvSpPr>
        <p:spPr>
          <a:xfrm rot="20171400">
            <a:off x="2843280" y="3857760"/>
            <a:ext cx="1977840" cy="1471320"/>
          </a:xfrm>
          <a:custGeom>
            <a:avLst/>
            <a:gdLst>
              <a:gd name="textAreaLeft" fmla="*/ 0 w 1977840"/>
              <a:gd name="textAreaRight" fmla="*/ 1978200 w 1977840"/>
              <a:gd name="textAreaTop" fmla="*/ 0 h 1471320"/>
              <a:gd name="textAreaBottom" fmla="*/ 1471680 h 1471320"/>
            </a:gdLst>
            <a:ahLst/>
            <a:rect l="textAreaLeft" t="textAreaTop" r="textAreaRight" b="textAreaBottom"/>
            <a:pathLst>
              <a:path fill="none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</a:path>
              <a:path stroke="0" w="21530" h="16022">
                <a:moveTo>
                  <a:pt x="14486" y="-1"/>
                </a:moveTo>
                <a:cubicBezTo>
                  <a:pt x="18567" y="3689"/>
                  <a:pt x="21086" y="8797"/>
                  <a:pt x="21529" y="14282"/>
                </a:cubicBezTo>
                <a:lnTo>
                  <a:pt x="0" y="16022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18"/>
          <p:cNvSpPr/>
          <p:nvPr/>
        </p:nvSpPr>
        <p:spPr>
          <a:xfrm flipH="1" rot="1274400">
            <a:off x="4171320" y="3648240"/>
            <a:ext cx="1954080" cy="1752480"/>
          </a:xfrm>
          <a:custGeom>
            <a:avLst/>
            <a:gdLst>
              <a:gd name="textAreaLeft" fmla="*/ 360 w 1954080"/>
              <a:gd name="textAreaRight" fmla="*/ 1954800 w 1954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fill="none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</a:path>
              <a:path stroke="0" w="21540" h="19320">
                <a:moveTo>
                  <a:pt x="9659" y="-1"/>
                </a:moveTo>
                <a:cubicBezTo>
                  <a:pt x="16461" y="3401"/>
                  <a:pt x="20974" y="10129"/>
                  <a:pt x="21540" y="17713"/>
                </a:cubicBezTo>
                <a:lnTo>
                  <a:pt x="0" y="1932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9"/>
          <p:cNvSpPr/>
          <p:nvPr/>
        </p:nvSpPr>
        <p:spPr>
          <a:xfrm>
            <a:off x="2860560" y="24922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20"/>
          <p:cNvSpPr/>
          <p:nvPr/>
        </p:nvSpPr>
        <p:spPr>
          <a:xfrm flipH="1">
            <a:off x="2528280" y="2394000"/>
            <a:ext cx="4971960" cy="3781440"/>
          </a:xfrm>
          <a:custGeom>
            <a:avLst/>
            <a:gdLst>
              <a:gd name="textAreaLeft" fmla="*/ -360 w 4971960"/>
              <a:gd name="textAreaRight" fmla="*/ 4971960 w 4971960"/>
              <a:gd name="textAreaTop" fmla="*/ 0 h 3781440"/>
              <a:gd name="textAreaBottom" fmla="*/ 3781800 h 3781440"/>
            </a:gdLst>
            <a:ahLst/>
            <a:rect l="textAreaLeft" t="textAreaTop" r="textAreaRight" b="textAreaBottom"/>
            <a:pathLst>
              <a:path fill="none" w="33264" h="25293">
                <a:moveTo>
                  <a:pt x="0" y="3420"/>
                </a:moveTo>
                <a:cubicBezTo>
                  <a:pt x="3480" y="1187"/>
                  <a:pt x="7528" y="-1"/>
                  <a:pt x="11664" y="0"/>
                </a:cubicBezTo>
                <a:cubicBezTo>
                  <a:pt x="23593" y="0"/>
                  <a:pt x="33264" y="9670"/>
                  <a:pt x="33264" y="21600"/>
                </a:cubicBezTo>
                <a:cubicBezTo>
                  <a:pt x="33264" y="22837"/>
                  <a:pt x="33157" y="24073"/>
                  <a:pt x="32945" y="25292"/>
                </a:cubicBezTo>
              </a:path>
              <a:path stroke="0" w="33264" h="25293">
                <a:moveTo>
                  <a:pt x="0" y="3420"/>
                </a:moveTo>
                <a:cubicBezTo>
                  <a:pt x="3480" y="1187"/>
                  <a:pt x="7528" y="-1"/>
                  <a:pt x="11664" y="0"/>
                </a:cubicBezTo>
                <a:cubicBezTo>
                  <a:pt x="23593" y="0"/>
                  <a:pt x="33264" y="9670"/>
                  <a:pt x="33264" y="21600"/>
                </a:cubicBezTo>
                <a:cubicBezTo>
                  <a:pt x="33264" y="22837"/>
                  <a:pt x="33157" y="24073"/>
                  <a:pt x="32945" y="25292"/>
                </a:cubicBezTo>
                <a:lnTo>
                  <a:pt x="11664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1"/>
          <p:cNvSpPr/>
          <p:nvPr/>
        </p:nvSpPr>
        <p:spPr>
          <a:xfrm>
            <a:off x="6877080" y="23194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4"/>
          <p:cNvSpPr/>
          <p:nvPr/>
        </p:nvSpPr>
        <p:spPr>
          <a:xfrm>
            <a:off x="5176800" y="207504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5"/>
          <p:cNvSpPr/>
          <p:nvPr/>
        </p:nvSpPr>
        <p:spPr>
          <a:xfrm>
            <a:off x="2266920" y="4681440"/>
            <a:ext cx="487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6"/>
          <p:cNvSpPr/>
          <p:nvPr/>
        </p:nvSpPr>
        <p:spPr>
          <a:xfrm>
            <a:off x="2987640" y="56610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7"/>
          <p:cNvSpPr/>
          <p:nvPr/>
        </p:nvSpPr>
        <p:spPr>
          <a:xfrm>
            <a:off x="5680080" y="566100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8"/>
          <p:cNvSpPr/>
          <p:nvPr/>
        </p:nvSpPr>
        <p:spPr>
          <a:xfrm>
            <a:off x="3708360" y="35002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9"/>
          <p:cNvSpPr/>
          <p:nvPr/>
        </p:nvSpPr>
        <p:spPr>
          <a:xfrm>
            <a:off x="4859280" y="350028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0"/>
          <p:cNvSpPr/>
          <p:nvPr/>
        </p:nvSpPr>
        <p:spPr>
          <a:xfrm flipH="1" flipV="1">
            <a:off x="5335560" y="2420640"/>
            <a:ext cx="434880" cy="31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31"/>
          <p:cNvSpPr/>
          <p:nvPr/>
        </p:nvSpPr>
        <p:spPr>
          <a:xfrm flipH="1">
            <a:off x="3216240" y="2433600"/>
            <a:ext cx="209880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4"/>
          <p:cNvSpPr/>
          <p:nvPr/>
        </p:nvSpPr>
        <p:spPr>
          <a:xfrm>
            <a:off x="3201840" y="5603760"/>
            <a:ext cx="2556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2"/>
          <p:cNvSpPr/>
          <p:nvPr/>
        </p:nvSpPr>
        <p:spPr>
          <a:xfrm flipH="1" flipV="1">
            <a:off x="5335560" y="2435040"/>
            <a:ext cx="432000" cy="316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3"/>
          <p:cNvSpPr/>
          <p:nvPr/>
        </p:nvSpPr>
        <p:spPr>
          <a:xfrm flipH="1">
            <a:off x="3203280" y="2449440"/>
            <a:ext cx="2098440" cy="316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4"/>
          <p:cNvSpPr/>
          <p:nvPr/>
        </p:nvSpPr>
        <p:spPr>
          <a:xfrm flipH="1" flipV="1">
            <a:off x="2655720" y="4797000"/>
            <a:ext cx="3097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5"/>
          <p:cNvSpPr/>
          <p:nvPr/>
        </p:nvSpPr>
        <p:spPr>
          <a:xfrm>
            <a:off x="2641680" y="481176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6"/>
          <p:cNvSpPr/>
          <p:nvPr/>
        </p:nvSpPr>
        <p:spPr>
          <a:xfrm flipH="1" flipV="1">
            <a:off x="2670120" y="4797000"/>
            <a:ext cx="3097440" cy="792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7"/>
          <p:cNvSpPr/>
          <p:nvPr/>
        </p:nvSpPr>
        <p:spPr>
          <a:xfrm>
            <a:off x="2627280" y="4797360"/>
            <a:ext cx="576360" cy="7923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Tak ještě jednou krok za kroke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085760" y="1341360"/>
            <a:ext cx="691380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8"/>
          <p:cNvSpPr/>
          <p:nvPr/>
        </p:nvSpPr>
        <p:spPr>
          <a:xfrm>
            <a:off x="468360" y="57780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Úloha má dvě řešení (v polorovině určené úsečkou AB a bodem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9"/>
          <p:cNvSpPr/>
          <p:nvPr/>
        </p:nvSpPr>
        <p:spPr>
          <a:xfrm>
            <a:off x="468360" y="77940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y vytáhneme silněji. A takto vypadá celá konstruk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0" descr=""/>
          <p:cNvPicPr/>
          <p:nvPr/>
        </p:nvPicPr>
        <p:blipFill>
          <a:blip r:embed="rId1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1" descr=""/>
          <p:cNvPicPr/>
          <p:nvPr/>
        </p:nvPicPr>
        <p:blipFill>
          <a:blip r:embed="rId2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2" descr=""/>
          <p:cNvPicPr/>
          <p:nvPr/>
        </p:nvPicPr>
        <p:blipFill>
          <a:blip r:embed="rId3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3" descr=""/>
          <p:cNvPicPr/>
          <p:nvPr/>
        </p:nvPicPr>
        <p:blipFill>
          <a:blip r:embed="rId4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4" descr=""/>
          <p:cNvPicPr/>
          <p:nvPr/>
        </p:nvPicPr>
        <p:blipFill>
          <a:blip r:embed="rId5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5" descr=""/>
          <p:cNvPicPr/>
          <p:nvPr/>
        </p:nvPicPr>
        <p:blipFill>
          <a:blip r:embed="rId6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6" descr=""/>
          <p:cNvPicPr/>
          <p:nvPr/>
        </p:nvPicPr>
        <p:blipFill>
          <a:blip r:embed="rId7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7" descr=""/>
          <p:cNvPicPr/>
          <p:nvPr/>
        </p:nvPicPr>
        <p:blipFill>
          <a:blip r:embed="rId8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8" descr=""/>
          <p:cNvPicPr/>
          <p:nvPr/>
        </p:nvPicPr>
        <p:blipFill>
          <a:blip r:embed="rId9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9" descr=""/>
          <p:cNvPicPr/>
          <p:nvPr/>
        </p:nvPicPr>
        <p:blipFill>
          <a:blip r:embed="rId10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0" descr=""/>
          <p:cNvPicPr/>
          <p:nvPr/>
        </p:nvPicPr>
        <p:blipFill>
          <a:blip r:embed="rId11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085760" y="1341360"/>
            <a:ext cx="691380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Tak ještě jednou krok za krokem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68360" y="57780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Úloha má dvě řešení (v polorovině určené úsečkou AB a bodem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779400"/>
            <a:ext cx="820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Konstrukci proměříme, zda odpovídá zadání a trojúhelníky vytáhneme silněji. A takto vypadá celá konstruk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"/>
          <p:cNvPicPr/>
          <p:nvPr/>
        </p:nvPicPr>
        <p:blipFill>
          <a:blip r:embed="rId2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8" descr=""/>
          <p:cNvPicPr/>
          <p:nvPr/>
        </p:nvPicPr>
        <p:blipFill>
          <a:blip r:embed="rId3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9" descr=""/>
          <p:cNvPicPr/>
          <p:nvPr/>
        </p:nvPicPr>
        <p:blipFill>
          <a:blip r:embed="rId4"/>
          <a:stretch/>
        </p:blipFill>
        <p:spPr>
          <a:xfrm>
            <a:off x="1620720" y="1432080"/>
            <a:ext cx="5904000" cy="48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1: Sestrojte trojúhelník ABC, je-li c = 6 cm, b = 4 a poloměr kružnice trojúhelníku ABC opsané r =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1: Sestrojte trojúhelník ABC, je-li c = 6 cm, b = 4 a poloměr kružnice trojúhelníku ABC opsané r =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5" descr=""/>
          <p:cNvPicPr/>
          <p:nvPr/>
        </p:nvPicPr>
        <p:blipFill>
          <a:blip r:embed="rId1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"/>
          <p:cNvPicPr/>
          <p:nvPr/>
        </p:nvPicPr>
        <p:blipFill>
          <a:blip r:embed="rId2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7" descr=""/>
          <p:cNvPicPr/>
          <p:nvPr/>
        </p:nvPicPr>
        <p:blipFill>
          <a:blip r:embed="rId3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4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"/>
          <p:cNvPicPr/>
          <p:nvPr/>
        </p:nvPicPr>
        <p:blipFill>
          <a:blip r:embed="rId5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"/>
          <p:cNvPicPr/>
          <p:nvPr/>
        </p:nvPicPr>
        <p:blipFill>
          <a:blip r:embed="rId6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1" descr=""/>
          <p:cNvPicPr/>
          <p:nvPr/>
        </p:nvPicPr>
        <p:blipFill>
          <a:blip r:embed="rId7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2" descr=""/>
          <p:cNvPicPr/>
          <p:nvPr/>
        </p:nvPicPr>
        <p:blipFill>
          <a:blip r:embed="rId8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3" descr=""/>
          <p:cNvPicPr/>
          <p:nvPr/>
        </p:nvPicPr>
        <p:blipFill>
          <a:blip r:embed="rId9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"/>
          <p:cNvPicPr/>
          <p:nvPr/>
        </p:nvPicPr>
        <p:blipFill>
          <a:blip r:embed="rId10"/>
          <a:stretch/>
        </p:blipFill>
        <p:spPr>
          <a:xfrm>
            <a:off x="1360440" y="1330200"/>
            <a:ext cx="6380280" cy="495324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25"/>
          <p:cNvSpPr/>
          <p:nvPr/>
        </p:nvSpPr>
        <p:spPr>
          <a:xfrm>
            <a:off x="6084720" y="3068640"/>
            <a:ext cx="2521080" cy="1873080"/>
          </a:xfrm>
          <a:prstGeom prst="cloudCallout">
            <a:avLst>
              <a:gd name="adj1" fmla="val -115175"/>
              <a:gd name="adj2" fmla="val 62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Úloha má jedn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2: Sestrojte trojúhelník ABC, je-li c = 50 mm, a = 55 mm a poloměr kružnice trojúhelníku ABC opsané r = 3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085760" y="1268280"/>
            <a:ext cx="691380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23720" y="677880"/>
            <a:ext cx="81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íklad č. 2: Sestrojte trojúhelník ABC, je-li c = 50 mm, a = 55 mm a poloměr kružnice trojúhelníku ABC opsané r = 3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6" descr=""/>
          <p:cNvPicPr/>
          <p:nvPr/>
        </p:nvPicPr>
        <p:blipFill>
          <a:blip r:embed="rId1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2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8" descr=""/>
          <p:cNvPicPr/>
          <p:nvPr/>
        </p:nvPicPr>
        <p:blipFill>
          <a:blip r:embed="rId3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9" descr=""/>
          <p:cNvPicPr/>
          <p:nvPr/>
        </p:nvPicPr>
        <p:blipFill>
          <a:blip r:embed="rId4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"/>
          <p:cNvPicPr/>
          <p:nvPr/>
        </p:nvPicPr>
        <p:blipFill>
          <a:blip r:embed="rId5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"/>
          <p:cNvPicPr/>
          <p:nvPr/>
        </p:nvPicPr>
        <p:blipFill>
          <a:blip r:embed="rId6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2" descr=""/>
          <p:cNvPicPr/>
          <p:nvPr/>
        </p:nvPicPr>
        <p:blipFill>
          <a:blip r:embed="rId7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"/>
          <p:cNvPicPr/>
          <p:nvPr/>
        </p:nvPicPr>
        <p:blipFill>
          <a:blip r:embed="rId8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4" descr=""/>
          <p:cNvPicPr/>
          <p:nvPr/>
        </p:nvPicPr>
        <p:blipFill>
          <a:blip r:embed="rId9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5" descr=""/>
          <p:cNvPicPr/>
          <p:nvPr/>
        </p:nvPicPr>
        <p:blipFill>
          <a:blip r:embed="rId10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6" descr=""/>
          <p:cNvPicPr/>
          <p:nvPr/>
        </p:nvPicPr>
        <p:blipFill>
          <a:blip r:embed="rId11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" descr=""/>
          <p:cNvPicPr/>
          <p:nvPr/>
        </p:nvPicPr>
        <p:blipFill>
          <a:blip r:embed="rId12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8" descr=""/>
          <p:cNvPicPr/>
          <p:nvPr/>
        </p:nvPicPr>
        <p:blipFill>
          <a:blip r:embed="rId13"/>
          <a:stretch/>
        </p:blipFill>
        <p:spPr>
          <a:xfrm>
            <a:off x="1903320" y="1341360"/>
            <a:ext cx="5261040" cy="496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9" descr=""/>
          <p:cNvPicPr/>
          <p:nvPr/>
        </p:nvPicPr>
        <p:blipFill>
          <a:blip r:embed="rId14"/>
          <a:stretch/>
        </p:blipFill>
        <p:spPr>
          <a:xfrm>
            <a:off x="1906560" y="1341360"/>
            <a:ext cx="5257800" cy="496728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30"/>
          <p:cNvSpPr/>
          <p:nvPr/>
        </p:nvSpPr>
        <p:spPr>
          <a:xfrm>
            <a:off x="6300720" y="1197000"/>
            <a:ext cx="2521080" cy="1873080"/>
          </a:xfrm>
          <a:prstGeom prst="cloudCallout">
            <a:avLst>
              <a:gd name="adj1" fmla="val -81171"/>
              <a:gd name="adj2" fmla="val 918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Úloha má dvě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a jeho vlastnosti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Trojúhelník je rovinný geometrický útvar sestávající ze tří stran, tří vrcholů a tří vnitřních úh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268360" y="2060640"/>
            <a:ext cx="4032360" cy="21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282760" y="2060640"/>
            <a:ext cx="1656000" cy="201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268360" y="2060640"/>
            <a:ext cx="2232360" cy="3673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H="1">
            <a:off x="2195280" y="2060640"/>
            <a:ext cx="158436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3794040" y="2060640"/>
            <a:ext cx="2938680" cy="360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780000" y="2060640"/>
            <a:ext cx="2087280" cy="792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2411280" y="2076480"/>
            <a:ext cx="432144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H="1">
            <a:off x="6659640" y="2076480"/>
            <a:ext cx="87120" cy="3584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5867280" y="2076480"/>
            <a:ext cx="865440" cy="11365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2"/>
          <p:cNvSpPr/>
          <p:nvPr/>
        </p:nvSpPr>
        <p:spPr>
          <a:xfrm>
            <a:off x="684360" y="793800"/>
            <a:ext cx="7848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116000" y="333360"/>
            <a:ext cx="68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Jak je to s tím počtem řešení? Na čem závi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0" descr=""/>
          <p:cNvPicPr/>
          <p:nvPr/>
        </p:nvPicPr>
        <p:blipFill>
          <a:blip r:embed="rId1"/>
          <a:stretch/>
        </p:blipFill>
        <p:spPr>
          <a:xfrm>
            <a:off x="1692360" y="847800"/>
            <a:ext cx="5832360" cy="5508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21"/>
          <p:cNvSpPr/>
          <p:nvPr/>
        </p:nvSpPr>
        <p:spPr>
          <a:xfrm>
            <a:off x="828720" y="907920"/>
            <a:ext cx="7559640" cy="690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Úloha má jedno řešení (v polorovině určené úsečk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bod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) pokud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menší než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684360" y="793800"/>
            <a:ext cx="7848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16000" y="333360"/>
            <a:ext cx="68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Jak je to s tím počtem řešení? Na čem závi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692360" y="847800"/>
            <a:ext cx="5832360" cy="5508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828720" y="907920"/>
            <a:ext cx="7559640" cy="747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Úloha má jedno řešení (v polorovině určené úsečk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bod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) pokud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rovna straně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684360" y="793800"/>
            <a:ext cx="7848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116000" y="333360"/>
            <a:ext cx="68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Jak je to s tím počtem řešení? Na čem závi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1"/>
          <a:stretch/>
        </p:blipFill>
        <p:spPr>
          <a:xfrm>
            <a:off x="1763640" y="866880"/>
            <a:ext cx="5761080" cy="54417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6"/>
          <p:cNvSpPr/>
          <p:nvPr/>
        </p:nvSpPr>
        <p:spPr>
          <a:xfrm>
            <a:off x="814320" y="907920"/>
            <a:ext cx="7559640" cy="9511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Úloha má dvě řešení (v polorovině určené úsečk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bod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) pokud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větší než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zároveň menší než průměr kružnice opsa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84360" y="793800"/>
            <a:ext cx="7848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16000" y="333360"/>
            <a:ext cx="68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Jak je to s tím počtem řešení? Na čem závi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763640" y="847800"/>
            <a:ext cx="5832720" cy="55087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642960" y="907920"/>
            <a:ext cx="7745400" cy="619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Úloha má jedno řešení (v polorovině určené úsečk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bod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) pokud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rovna průměru kružnice opsa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684360" y="793800"/>
            <a:ext cx="7848360" cy="56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116000" y="333360"/>
            <a:ext cx="68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Jak je to s tím počtem řešení? Na čem závi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1692360" y="847800"/>
            <a:ext cx="5832360" cy="5508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571680" y="785880"/>
            <a:ext cx="8001000" cy="100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Úloha nemá žádné řešení (v polorovině určené úsečkou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B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 bodem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) pokud strana </a:t>
            </a:r>
            <a:r>
              <a:rPr b="1" i="1" lang="cs-CZ" sz="20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 je větší než průměr kružnice opsa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16000" y="2997360"/>
            <a:ext cx="684072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eji hodně přesnosti </a:t>
            </a:r>
            <a:br>
              <a:rPr sz="4000"/>
            </a:b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i rýsování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 označování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27000" y="90792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ozor při značení vrcholů a stran trojúhelní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835280" y="1628640"/>
            <a:ext cx="4392360" cy="26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2268000" y="1628640"/>
            <a:ext cx="1079640" cy="396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941400" y="1197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Strana a proti vrcholu A, strana b proti vrcholu B, strana c proti vrcholu 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V="1">
            <a:off x="2484360" y="4365720"/>
            <a:ext cx="374328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067280" y="1628640"/>
            <a:ext cx="288720" cy="252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940360" y="1628640"/>
            <a:ext cx="86364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 flipH="1" flipV="1">
            <a:off x="4284360" y="4365720"/>
            <a:ext cx="237492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 flipH="1">
            <a:off x="4571640" y="1628640"/>
            <a:ext cx="2305080" cy="403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6011640" y="1628640"/>
            <a:ext cx="2305080" cy="129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4572000" y="3141720"/>
            <a:ext cx="1295280" cy="251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16"/>
          <p:cNvSpPr/>
          <p:nvPr/>
        </p:nvSpPr>
        <p:spPr>
          <a:xfrm>
            <a:off x="2270160" y="2924280"/>
            <a:ext cx="5543640" cy="3744720"/>
          </a:xfrm>
          <a:custGeom>
            <a:avLst/>
            <a:gdLst>
              <a:gd name="textAreaLeft" fmla="*/ 0 w 5543640"/>
              <a:gd name="textAreaRight" fmla="*/ 5544000 w 5543640"/>
              <a:gd name="textAreaTop" fmla="*/ 0 h 3744720"/>
              <a:gd name="textAreaBottom" fmla="*/ 3745080 h 3744720"/>
            </a:gdLst>
            <a:ahLst/>
            <a:rect l="textAreaLeft" t="textAreaTop" r="textAreaRight" b="textAreaBottom"/>
            <a:pathLst>
              <a:path fill="none" w="38873" h="40574">
                <a:moveTo>
                  <a:pt x="27595" y="0"/>
                </a:moveTo>
                <a:cubicBezTo>
                  <a:pt x="34546" y="3781"/>
                  <a:pt x="38873" y="11061"/>
                  <a:pt x="38873" y="18974"/>
                </a:cubicBezTo>
                <a:cubicBezTo>
                  <a:pt x="38873" y="30903"/>
                  <a:pt x="29202" y="40574"/>
                  <a:pt x="17273" y="40574"/>
                </a:cubicBezTo>
                <a:cubicBezTo>
                  <a:pt x="10478" y="40574"/>
                  <a:pt x="4079" y="37376"/>
                  <a:pt x="-1" y="31943"/>
                </a:cubicBezTo>
              </a:path>
              <a:path stroke="0" w="38873" h="40574">
                <a:moveTo>
                  <a:pt x="27595" y="0"/>
                </a:moveTo>
                <a:cubicBezTo>
                  <a:pt x="34546" y="3781"/>
                  <a:pt x="38873" y="11061"/>
                  <a:pt x="38873" y="18974"/>
                </a:cubicBezTo>
                <a:cubicBezTo>
                  <a:pt x="38873" y="30903"/>
                  <a:pt x="29202" y="40574"/>
                  <a:pt x="17273" y="40574"/>
                </a:cubicBezTo>
                <a:cubicBezTo>
                  <a:pt x="10478" y="40574"/>
                  <a:pt x="4079" y="37376"/>
                  <a:pt x="-1" y="31943"/>
                </a:cubicBezTo>
                <a:lnTo>
                  <a:pt x="17273" y="18974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938160" y="1628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Popis vrcholů začínáme obvykle v levém dolním rohu, ale vždy popisujeme vrcholy ve směru proti pohybu hodinových ručič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97520" cy="3913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Trojúhelník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– součet vnitřních úhlů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Součet vnitřních úhlů trojúhelníku je vždy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2411280" y="1916280"/>
            <a:ext cx="1368720" cy="38178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3780000" y="1916280"/>
            <a:ext cx="2952720" cy="3744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3780000" y="1916280"/>
            <a:ext cx="208728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77080" y="2421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3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877080" y="27813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6877080" y="313992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6831000" y="321300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877080" y="3587760"/>
            <a:ext cx="98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kr_op_1"/>
          <p:cNvPicPr/>
          <p:nvPr/>
        </p:nvPicPr>
        <p:blipFill>
          <a:blip r:embed="rId1"/>
          <a:stretch/>
        </p:blipFill>
        <p:spPr>
          <a:xfrm>
            <a:off x="2413080" y="2421000"/>
            <a:ext cx="3959280" cy="3855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1258920" y="808200"/>
            <a:ext cx="77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Zopakujeme základní vlastnosti, které nám často pomohou při pozdějších konstrukc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kr_op_2"/>
          <p:cNvPicPr/>
          <p:nvPr/>
        </p:nvPicPr>
        <p:blipFill>
          <a:blip r:embed="rId1"/>
          <a:stretch/>
        </p:blipFill>
        <p:spPr>
          <a:xfrm>
            <a:off x="2340000" y="2421000"/>
            <a:ext cx="403236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42920" y="2349360"/>
            <a:ext cx="691380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27000" y="142560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ružnice opsaná trojúhelníku je kružnice, která prochází všemi třemi vrcholy trojúhelníku.</a:t>
            </a: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kr_op_3"/>
          <p:cNvPicPr/>
          <p:nvPr/>
        </p:nvPicPr>
        <p:blipFill>
          <a:blip r:embed="rId1"/>
          <a:stretch/>
        </p:blipFill>
        <p:spPr>
          <a:xfrm>
            <a:off x="2340000" y="2365200"/>
            <a:ext cx="410364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900000" y="1052640"/>
            <a:ext cx="7559640" cy="529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ružnice opsaná trojúhelník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43" name="Picture 58" descr=""/>
          <p:cNvPicPr/>
          <p:nvPr/>
        </p:nvPicPr>
        <p:blipFill>
          <a:blip r:embed="rId1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9" descr=""/>
          <p:cNvPicPr/>
          <p:nvPr/>
        </p:nvPicPr>
        <p:blipFill>
          <a:blip r:embed="rId2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0" descr=""/>
          <p:cNvPicPr/>
          <p:nvPr/>
        </p:nvPicPr>
        <p:blipFill>
          <a:blip r:embed="rId3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1" descr=""/>
          <p:cNvPicPr/>
          <p:nvPr/>
        </p:nvPicPr>
        <p:blipFill>
          <a:blip r:embed="rId4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2" descr=""/>
          <p:cNvPicPr/>
          <p:nvPr/>
        </p:nvPicPr>
        <p:blipFill>
          <a:blip r:embed="rId5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6" descr=""/>
          <p:cNvPicPr/>
          <p:nvPr/>
        </p:nvPicPr>
        <p:blipFill>
          <a:blip r:embed="rId6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3" descr=""/>
          <p:cNvPicPr/>
          <p:nvPr/>
        </p:nvPicPr>
        <p:blipFill>
          <a:blip r:embed="rId7"/>
          <a:stretch/>
        </p:blipFill>
        <p:spPr>
          <a:xfrm>
            <a:off x="1476360" y="1131840"/>
            <a:ext cx="6408720" cy="511812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4"/>
          <p:cNvSpPr/>
          <p:nvPr/>
        </p:nvSpPr>
        <p:spPr>
          <a:xfrm>
            <a:off x="5724360" y="907920"/>
            <a:ext cx="3276720" cy="2303640"/>
          </a:xfrm>
          <a:prstGeom prst="cloudCallout">
            <a:avLst>
              <a:gd name="adj1" fmla="val -83916"/>
              <a:gd name="adj2" fmla="val 6674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ředem kružnice trojúhelníku opsané je průsečík os stran tohoto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5"/>
          <p:cNvSpPr/>
          <p:nvPr/>
        </p:nvSpPr>
        <p:spPr>
          <a:xfrm>
            <a:off x="5651640" y="4221000"/>
            <a:ext cx="3276360" cy="2303640"/>
          </a:xfrm>
          <a:prstGeom prst="cloudCallout">
            <a:avLst>
              <a:gd name="adj1" fmla="val -110078"/>
              <a:gd name="adj2" fmla="val -531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loměrem pak vzdálenost tohoto průsečíku 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kteréhokoliv vrcholu trojúhelní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1042920" y="1773360"/>
            <a:ext cx="6913800" cy="45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3" descr=""/>
          <p:cNvPicPr/>
          <p:nvPr/>
        </p:nvPicPr>
        <p:blipFill>
          <a:blip r:embed="rId1"/>
          <a:stretch/>
        </p:blipFill>
        <p:spPr>
          <a:xfrm>
            <a:off x="1670040" y="1828800"/>
            <a:ext cx="5437080" cy="4437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A nyní již přikročíme ke konstrukc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95360" y="765000"/>
            <a:ext cx="84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Př.: Sestrojte trojúhelník ABC, je-li c = 4 cm, a = 5 cm a poloměr kružnice trojúhelníku ABC opsané r = 3 c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8"/>
          <p:cNvSpPr/>
          <p:nvPr/>
        </p:nvSpPr>
        <p:spPr>
          <a:xfrm>
            <a:off x="496800" y="12254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áčrt a rozbor:</a:t>
            </a:r>
            <a:r>
              <a:rPr b="1" lang="cs-CZ" sz="2200" spc="-1" strike="noStrike">
                <a:solidFill>
                  <a:srgbClr val="284c6a"/>
                </a:solidFill>
                <a:latin typeface="Trebuchet MS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4471920" y="386064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4"/>
          <p:cNvSpPr/>
          <p:nvPr/>
        </p:nvSpPr>
        <p:spPr>
          <a:xfrm>
            <a:off x="2570040" y="2151000"/>
            <a:ext cx="3843360" cy="3840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2716200" y="256536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1"/>
          <p:cNvSpPr/>
          <p:nvPr/>
        </p:nvSpPr>
        <p:spPr>
          <a:xfrm>
            <a:off x="4500720" y="407664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2"/>
          <p:cNvSpPr/>
          <p:nvPr/>
        </p:nvSpPr>
        <p:spPr>
          <a:xfrm flipH="1">
            <a:off x="4398840" y="41767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5"/>
          <p:cNvSpPr/>
          <p:nvPr/>
        </p:nvSpPr>
        <p:spPr>
          <a:xfrm>
            <a:off x="3219480" y="5514840"/>
            <a:ext cx="253692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6"/>
          <p:cNvSpPr/>
          <p:nvPr/>
        </p:nvSpPr>
        <p:spPr>
          <a:xfrm>
            <a:off x="4384800" y="54975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9"/>
          <p:cNvSpPr/>
          <p:nvPr/>
        </p:nvSpPr>
        <p:spPr>
          <a:xfrm>
            <a:off x="4504680" y="4163760"/>
            <a:ext cx="1233360" cy="1345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4732200" y="414036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1"/>
          <p:cNvSpPr/>
          <p:nvPr/>
        </p:nvSpPr>
        <p:spPr>
          <a:xfrm flipH="1">
            <a:off x="3232440" y="4182120"/>
            <a:ext cx="1261440" cy="13305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3995640" y="4149720"/>
            <a:ext cx="4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 flipH="1" flipV="1">
            <a:off x="5293440" y="2338920"/>
            <a:ext cx="487440" cy="3159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5"/>
          <p:cNvSpPr/>
          <p:nvPr/>
        </p:nvSpPr>
        <p:spPr>
          <a:xfrm>
            <a:off x="5537160" y="3687840"/>
            <a:ext cx="4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2-02T11:34:17Z</dcterms:modified>
  <cp:revision>116</cp:revision>
  <dc:subject/>
  <dc:title>Konstrukce trojúhelníku s kružnicí opsanou v zadání 2</dc:title>
</cp:coreProperties>
</file>