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628-EABD-4200-BD2B-294A85FC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950-CAC4-42B2-AD0B-B549A6BF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4D5-6DEB-4CE1-BD80-CB910495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A75-B9D6-4FB8-8279-C0F45D05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3C85-BB35-4946-99B9-C2B682A5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2382-1EC9-491E-8A6D-E54DA3AD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8ADC-847E-44B8-9604-87DF9036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0849-9FAC-441A-89B6-DAB393A6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5968-0275-4CE2-B70D-D6F92C9D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198C-1BF1-43D1-957A-CDA1CBC0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3801-20FA-4D60-8F20-B6FDBD5F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E65-C6AF-414F-A544-1B6840DC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22AE-5710-4ED1-93D6-40649B0E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B3D9-9A1A-4CB0-9068-CDBBE26A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2DDE-85A8-4192-BF13-E1E14850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FB3C-85E0-43E8-BAF6-FC6A9608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1763-7200-4E8D-B14D-DE0EF9D6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1A8-870D-49CA-ABF7-289C1600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A96-ED10-4E70-B96B-459CD4D5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01E-E77D-4A78-A8C9-BED0B120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F53-DD53-4F7D-8093-6102A6FF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192-5F39-4E48-B423-E20F11D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653-0E2E-40EB-95E9-53181342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BAF-D3D1-4D7C-8C23-C131DE3E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6CB5-554C-49A7-9206-5809D71F6FBC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A626-7E51-4929-92FA-60918E877A46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4.png"/><Relationship Id="rId3" Type="http://schemas.openxmlformats.org/officeDocument/2006/relationships/image" Target="../media/image54.png"/><Relationship Id="rId4" Type="http://schemas.openxmlformats.org/officeDocument/2006/relationships/image" Target="../media/image44.png"/><Relationship Id="rId5" Type="http://schemas.openxmlformats.org/officeDocument/2006/relationships/image" Target="../media/image5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Konstrukce trojúhelníku </a:t>
            </a:r>
            <a:br>
              <a:rPr sz="4400"/>
            </a:b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s kružnicí opsanou v zadání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Je-li zadána jedna strana, úhel k ní přilehlý a poloměr kružnice opsa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042920" y="1773360"/>
            <a:ext cx="691380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835280" y="1870200"/>
            <a:ext cx="5337000" cy="4408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ř.: Sestrojte trojúhelník ABC, je-li c = 7 cm, </a:t>
            </a:r>
            <a:r>
              <a:rPr b="1" lang="cs-CZ" sz="24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= 50° a poloměr kružnice trojúhelníku ABC opsané r = 4 cm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398840" y="507996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68360" y="1139760"/>
            <a:ext cx="8532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) Začneme jako vždy stranou, v tomto případě jedinou zadanou stranou, strano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>
            <a:off x="1187280" y="51292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2800440" y="5041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5"/>
          <p:cNvSpPr/>
          <p:nvPr/>
        </p:nvSpPr>
        <p:spPr>
          <a:xfrm>
            <a:off x="6199200" y="5041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7394400" y="49989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800440" y="5143680"/>
            <a:ext cx="34002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042920" y="1773360"/>
            <a:ext cx="691380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1835280" y="1870200"/>
            <a:ext cx="5337000" cy="4408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ř.: Sestrojte trojúhelník ABC, je-li c = 7 cm, </a:t>
            </a:r>
            <a:r>
              <a:rPr b="1" lang="cs-CZ" sz="24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= 50° </a:t>
            </a:r>
            <a:br>
              <a:rPr sz="2400"/>
            </a:b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a poloměr kružnice trojúhelníku ABC opsané r = 4 cm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3" name="Arc 12"/>
          <p:cNvSpPr/>
          <p:nvPr/>
        </p:nvSpPr>
        <p:spPr>
          <a:xfrm>
            <a:off x="2803680" y="4282920"/>
            <a:ext cx="1091880" cy="857520"/>
          </a:xfrm>
          <a:custGeom>
            <a:avLst/>
            <a:gdLst>
              <a:gd name="textAreaLeft" fmla="*/ 0 w 1091880"/>
              <a:gd name="textAreaRight" fmla="*/ 1092240 w 109188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fill="none" w="21600" h="16966">
                <a:moveTo>
                  <a:pt x="13368" y="0"/>
                </a:moveTo>
                <a:cubicBezTo>
                  <a:pt x="18566" y="4096"/>
                  <a:pt x="21600" y="10348"/>
                  <a:pt x="21600" y="16966"/>
                </a:cubicBezTo>
              </a:path>
              <a:path stroke="0" w="21600" h="16966">
                <a:moveTo>
                  <a:pt x="13368" y="0"/>
                </a:moveTo>
                <a:cubicBezTo>
                  <a:pt x="18566" y="4096"/>
                  <a:pt x="21600" y="10348"/>
                  <a:pt x="21600" y="16966"/>
                </a:cubicBezTo>
                <a:lnTo>
                  <a:pt x="0" y="1696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189240" y="479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=50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468360" y="1139760"/>
            <a:ext cx="8532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) Následuje sestrojení úhlu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o velikosti 50°, jinými slovy polopřímky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Y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(ramene úhlu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 – množiny bodů, mezi nimiž se nachází i bod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4398840" y="508464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187280" y="51292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2800440" y="5041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6199200" y="5041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7394400" y="49989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2800440" y="5143680"/>
            <a:ext cx="34002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 flipV="1">
            <a:off x="2786040" y="1844280"/>
            <a:ext cx="2736720" cy="3313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335560" y="1916280"/>
            <a:ext cx="14292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5435640" y="191628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042920" y="1773360"/>
            <a:ext cx="691380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835280" y="1870200"/>
            <a:ext cx="5337000" cy="44082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ř.: Sestrojte trojúhelník ABC, je-li c = 7 cm, </a:t>
            </a:r>
            <a:r>
              <a:rPr b="1" lang="cs-CZ" sz="24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= 50° </a:t>
            </a:r>
            <a:br>
              <a:rPr sz="2400"/>
            </a:b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a poloměr kružnice trojúhelníku ABC opsané r = 4 cm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56000" y="419256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2527200" y="2238480"/>
            <a:ext cx="3919680" cy="39160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884920" y="551664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468360" y="1139760"/>
            <a:ext cx="8532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3) Na závěr „najdeme“ střed kružnice opsané, která je druhou množinou bodů, mezi nimiž se nachází bod </a:t>
            </a:r>
            <a:r>
              <a:rPr b="1" i="1" lang="cs-CZ" sz="15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. Střed této kružnice leží, jak jsme viděli na jednom z předcházejících snímku, ve stejné vzdálenosti (poloměr r = 4 cm) od vrcholů trojúhelníku </a:t>
            </a:r>
            <a:r>
              <a:rPr b="1" i="1" lang="cs-CZ" sz="15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 i </a:t>
            </a:r>
            <a:r>
              <a:rPr b="1" i="1" lang="cs-CZ" sz="15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4398840" y="507996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1187280" y="51292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2800440" y="5041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0"/>
          <p:cNvSpPr/>
          <p:nvPr/>
        </p:nvSpPr>
        <p:spPr>
          <a:xfrm>
            <a:off x="6199200" y="5041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7394400" y="49989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2800440" y="5143680"/>
            <a:ext cx="34002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4"/>
          <p:cNvSpPr/>
          <p:nvPr/>
        </p:nvSpPr>
        <p:spPr>
          <a:xfrm flipV="1">
            <a:off x="2786040" y="1844280"/>
            <a:ext cx="2736720" cy="3313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5335560" y="1916280"/>
            <a:ext cx="14292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5435640" y="191628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28"/>
          <p:cNvSpPr/>
          <p:nvPr/>
        </p:nvSpPr>
        <p:spPr>
          <a:xfrm>
            <a:off x="2786040" y="3684600"/>
            <a:ext cx="1978200" cy="147168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1471680"/>
              <a:gd name="textAreaBottom" fmla="*/ 1472040 h 1471680"/>
            </a:gdLst>
            <a:ahLst/>
            <a:rect l="textAreaLeft" t="textAreaTop" r="textAreaRight" b="textAreaBottom"/>
            <a:pathLst>
              <a:path fill="none" w="21530" h="16022">
                <a:moveTo>
                  <a:pt x="14486" y="-1"/>
                </a:moveTo>
                <a:cubicBezTo>
                  <a:pt x="18567" y="3689"/>
                  <a:pt x="21086" y="8797"/>
                  <a:pt x="21529" y="14282"/>
                </a:cubicBezTo>
              </a:path>
              <a:path stroke="0" w="21530" h="16022">
                <a:moveTo>
                  <a:pt x="14486" y="-1"/>
                </a:moveTo>
                <a:cubicBezTo>
                  <a:pt x="18567" y="3689"/>
                  <a:pt x="21086" y="8797"/>
                  <a:pt x="21529" y="14282"/>
                </a:cubicBezTo>
                <a:lnTo>
                  <a:pt x="0" y="16022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rc 29"/>
          <p:cNvSpPr/>
          <p:nvPr/>
        </p:nvSpPr>
        <p:spPr>
          <a:xfrm flipH="1">
            <a:off x="4242600" y="3390840"/>
            <a:ext cx="1954440" cy="1752840"/>
          </a:xfrm>
          <a:custGeom>
            <a:avLst/>
            <a:gdLst>
              <a:gd name="textAreaLeft" fmla="*/ -360 w 1954440"/>
              <a:gd name="textAreaRight" fmla="*/ 1954440 w 195444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fill="none" w="21540" h="19320">
                <a:moveTo>
                  <a:pt x="9659" y="-1"/>
                </a:moveTo>
                <a:cubicBezTo>
                  <a:pt x="16461" y="3401"/>
                  <a:pt x="20974" y="10129"/>
                  <a:pt x="21540" y="17713"/>
                </a:cubicBezTo>
              </a:path>
              <a:path stroke="0" w="21540" h="19320">
                <a:moveTo>
                  <a:pt x="9659" y="-1"/>
                </a:moveTo>
                <a:cubicBezTo>
                  <a:pt x="16461" y="3401"/>
                  <a:pt x="20974" y="10129"/>
                  <a:pt x="21540" y="17713"/>
                </a:cubicBezTo>
                <a:lnTo>
                  <a:pt x="0" y="1932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4948200" y="200340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1330200" y="1195560"/>
            <a:ext cx="29815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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Y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50°;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1328760" y="1496880"/>
            <a:ext cx="276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m; m(A; r = 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4357800" y="1198440"/>
            <a:ext cx="25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 S; S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m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7"/>
          <p:cNvSpPr/>
          <p:nvPr/>
        </p:nvSpPr>
        <p:spPr>
          <a:xfrm>
            <a:off x="4357800" y="14860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6. k; k(S; r =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332000" y="907920"/>
            <a:ext cx="25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c; c =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7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684360" y="1844640"/>
            <a:ext cx="7775280" cy="45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1"/>
          <p:cNvSpPr/>
          <p:nvPr/>
        </p:nvSpPr>
        <p:spPr>
          <a:xfrm>
            <a:off x="4356000" y="422280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2"/>
          <p:cNvSpPr/>
          <p:nvPr/>
        </p:nvSpPr>
        <p:spPr>
          <a:xfrm>
            <a:off x="2527200" y="2268360"/>
            <a:ext cx="3919680" cy="391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3"/>
          <p:cNvSpPr/>
          <p:nvPr/>
        </p:nvSpPr>
        <p:spPr>
          <a:xfrm>
            <a:off x="3059280" y="23493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4398840" y="511020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5"/>
          <p:cNvSpPr/>
          <p:nvPr/>
        </p:nvSpPr>
        <p:spPr>
          <a:xfrm>
            <a:off x="1187280" y="515952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6"/>
          <p:cNvSpPr/>
          <p:nvPr/>
        </p:nvSpPr>
        <p:spPr>
          <a:xfrm>
            <a:off x="2771640" y="5072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7"/>
          <p:cNvSpPr/>
          <p:nvPr/>
        </p:nvSpPr>
        <p:spPr>
          <a:xfrm>
            <a:off x="6199200" y="5072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8"/>
          <p:cNvSpPr/>
          <p:nvPr/>
        </p:nvSpPr>
        <p:spPr>
          <a:xfrm>
            <a:off x="7394400" y="502920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0"/>
          <p:cNvSpPr/>
          <p:nvPr/>
        </p:nvSpPr>
        <p:spPr>
          <a:xfrm flipV="1">
            <a:off x="2757240" y="1898640"/>
            <a:ext cx="2794320" cy="326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1"/>
          <p:cNvSpPr/>
          <p:nvPr/>
        </p:nvSpPr>
        <p:spPr>
          <a:xfrm>
            <a:off x="5335560" y="1946160"/>
            <a:ext cx="14292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2"/>
          <p:cNvSpPr/>
          <p:nvPr/>
        </p:nvSpPr>
        <p:spPr>
          <a:xfrm>
            <a:off x="5435640" y="194616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rc 93"/>
          <p:cNvSpPr/>
          <p:nvPr/>
        </p:nvSpPr>
        <p:spPr>
          <a:xfrm>
            <a:off x="2786040" y="3714840"/>
            <a:ext cx="1978200" cy="147168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1471680"/>
              <a:gd name="textAreaBottom" fmla="*/ 1472040 h 1471680"/>
            </a:gdLst>
            <a:ahLst/>
            <a:rect l="textAreaLeft" t="textAreaTop" r="textAreaRight" b="textAreaBottom"/>
            <a:pathLst>
              <a:path fill="none" w="21530" h="16022">
                <a:moveTo>
                  <a:pt x="14486" y="-1"/>
                </a:moveTo>
                <a:cubicBezTo>
                  <a:pt x="18567" y="3689"/>
                  <a:pt x="21086" y="8797"/>
                  <a:pt x="21529" y="14282"/>
                </a:cubicBezTo>
              </a:path>
              <a:path stroke="0" w="21530" h="16022">
                <a:moveTo>
                  <a:pt x="14486" y="-1"/>
                </a:moveTo>
                <a:cubicBezTo>
                  <a:pt x="18567" y="3689"/>
                  <a:pt x="21086" y="8797"/>
                  <a:pt x="21529" y="14282"/>
                </a:cubicBezTo>
                <a:lnTo>
                  <a:pt x="0" y="1602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rc 94"/>
          <p:cNvSpPr/>
          <p:nvPr/>
        </p:nvSpPr>
        <p:spPr>
          <a:xfrm flipH="1">
            <a:off x="4242600" y="3421080"/>
            <a:ext cx="1954440" cy="1752480"/>
          </a:xfrm>
          <a:custGeom>
            <a:avLst/>
            <a:gdLst>
              <a:gd name="textAreaLeft" fmla="*/ -360 w 1954440"/>
              <a:gd name="textAreaRight" fmla="*/ 1954440 w 19544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fill="none" w="21540" h="19320">
                <a:moveTo>
                  <a:pt x="9659" y="-1"/>
                </a:moveTo>
                <a:cubicBezTo>
                  <a:pt x="16461" y="3401"/>
                  <a:pt x="20974" y="10129"/>
                  <a:pt x="21540" y="17713"/>
                </a:cubicBezTo>
              </a:path>
              <a:path stroke="0" w="21540" h="19320">
                <a:moveTo>
                  <a:pt x="9659" y="-1"/>
                </a:moveTo>
                <a:cubicBezTo>
                  <a:pt x="16461" y="3401"/>
                  <a:pt x="20974" y="10129"/>
                  <a:pt x="21540" y="17713"/>
                </a:cubicBezTo>
                <a:lnTo>
                  <a:pt x="0" y="1932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4919760" y="203364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6"/>
          <p:cNvSpPr/>
          <p:nvPr/>
        </p:nvSpPr>
        <p:spPr>
          <a:xfrm>
            <a:off x="2556000" y="51721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7"/>
          <p:cNvSpPr/>
          <p:nvPr/>
        </p:nvSpPr>
        <p:spPr>
          <a:xfrm>
            <a:off x="6146640" y="51721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8"/>
          <p:cNvSpPr/>
          <p:nvPr/>
        </p:nvSpPr>
        <p:spPr>
          <a:xfrm>
            <a:off x="4140360" y="35002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9"/>
          <p:cNvSpPr/>
          <p:nvPr/>
        </p:nvSpPr>
        <p:spPr>
          <a:xfrm>
            <a:off x="4356000" y="907920"/>
            <a:ext cx="2519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n; n(B; r = 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0"/>
          <p:cNvSpPr/>
          <p:nvPr/>
        </p:nvSpPr>
        <p:spPr>
          <a:xfrm>
            <a:off x="4917960" y="355932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1"/>
          <p:cNvSpPr/>
          <p:nvPr/>
        </p:nvSpPr>
        <p:spPr>
          <a:xfrm>
            <a:off x="6589800" y="1197000"/>
            <a:ext cx="23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8.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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6588000" y="906480"/>
            <a:ext cx="2303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7. C; C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Y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4"/>
          <p:cNvSpPr/>
          <p:nvPr/>
        </p:nvSpPr>
        <p:spPr>
          <a:xfrm flipH="1" flipV="1">
            <a:off x="5127480" y="2412720"/>
            <a:ext cx="1068480" cy="2739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5"/>
          <p:cNvSpPr/>
          <p:nvPr/>
        </p:nvSpPr>
        <p:spPr>
          <a:xfrm>
            <a:off x="5651640" y="35002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6"/>
          <p:cNvSpPr/>
          <p:nvPr/>
        </p:nvSpPr>
        <p:spPr>
          <a:xfrm flipH="1">
            <a:off x="2753280" y="2402640"/>
            <a:ext cx="2358000" cy="274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7"/>
          <p:cNvSpPr/>
          <p:nvPr/>
        </p:nvSpPr>
        <p:spPr>
          <a:xfrm>
            <a:off x="3492360" y="364500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89"/>
          <p:cNvSpPr/>
          <p:nvPr/>
        </p:nvSpPr>
        <p:spPr>
          <a:xfrm>
            <a:off x="2771640" y="5173560"/>
            <a:ext cx="341964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Tak ještě jednou krok za krokem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085760" y="1341360"/>
            <a:ext cx="691380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8" descr=""/>
          <p:cNvPicPr/>
          <p:nvPr/>
        </p:nvPicPr>
        <p:blipFill>
          <a:blip r:embed="rId1"/>
          <a:stretch/>
        </p:blipFill>
        <p:spPr>
          <a:xfrm>
            <a:off x="1611360" y="1438200"/>
            <a:ext cx="5840280" cy="4824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9" descr=""/>
          <p:cNvPicPr/>
          <p:nvPr/>
        </p:nvPicPr>
        <p:blipFill>
          <a:blip r:embed="rId2"/>
          <a:stretch/>
        </p:blipFill>
        <p:spPr>
          <a:xfrm>
            <a:off x="1611360" y="1438200"/>
            <a:ext cx="5840280" cy="4824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0" descr=""/>
          <p:cNvPicPr/>
          <p:nvPr/>
        </p:nvPicPr>
        <p:blipFill>
          <a:blip r:embed="rId3"/>
          <a:stretch/>
        </p:blipFill>
        <p:spPr>
          <a:xfrm>
            <a:off x="1611360" y="1438200"/>
            <a:ext cx="5840280" cy="4824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1" descr=""/>
          <p:cNvPicPr/>
          <p:nvPr/>
        </p:nvPicPr>
        <p:blipFill>
          <a:blip r:embed="rId4"/>
          <a:stretch/>
        </p:blipFill>
        <p:spPr>
          <a:xfrm>
            <a:off x="1611360" y="1438200"/>
            <a:ext cx="5840280" cy="4824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2" descr=""/>
          <p:cNvPicPr/>
          <p:nvPr/>
        </p:nvPicPr>
        <p:blipFill>
          <a:blip r:embed="rId5"/>
          <a:stretch/>
        </p:blipFill>
        <p:spPr>
          <a:xfrm>
            <a:off x="1611360" y="1438200"/>
            <a:ext cx="5840280" cy="4824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3" descr=""/>
          <p:cNvPicPr/>
          <p:nvPr/>
        </p:nvPicPr>
        <p:blipFill>
          <a:blip r:embed="rId6"/>
          <a:stretch/>
        </p:blipFill>
        <p:spPr>
          <a:xfrm>
            <a:off x="1611360" y="1438200"/>
            <a:ext cx="5840280" cy="4824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4" descr=""/>
          <p:cNvPicPr/>
          <p:nvPr/>
        </p:nvPicPr>
        <p:blipFill>
          <a:blip r:embed="rId7"/>
          <a:stretch/>
        </p:blipFill>
        <p:spPr>
          <a:xfrm>
            <a:off x="1611360" y="1438200"/>
            <a:ext cx="5840280" cy="4824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5" descr=""/>
          <p:cNvPicPr/>
          <p:nvPr/>
        </p:nvPicPr>
        <p:blipFill>
          <a:blip r:embed="rId8"/>
          <a:stretch/>
        </p:blipFill>
        <p:spPr>
          <a:xfrm>
            <a:off x="1611360" y="1438200"/>
            <a:ext cx="5840280" cy="4824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6" descr=""/>
          <p:cNvPicPr/>
          <p:nvPr/>
        </p:nvPicPr>
        <p:blipFill>
          <a:blip r:embed="rId9"/>
          <a:stretch/>
        </p:blipFill>
        <p:spPr>
          <a:xfrm>
            <a:off x="1611360" y="1438200"/>
            <a:ext cx="5840280" cy="482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7" descr=""/>
          <p:cNvPicPr/>
          <p:nvPr/>
        </p:nvPicPr>
        <p:blipFill>
          <a:blip r:embed="rId10"/>
          <a:stretch/>
        </p:blipFill>
        <p:spPr>
          <a:xfrm>
            <a:off x="1611360" y="1438200"/>
            <a:ext cx="5840280" cy="4824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8"/>
          <p:cNvSpPr/>
          <p:nvPr/>
        </p:nvSpPr>
        <p:spPr>
          <a:xfrm>
            <a:off x="468360" y="57780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Úloha má jedno řešení (v polorovině určené úsečkou AB a bodem 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468360" y="781200"/>
            <a:ext cx="820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y vytáhneme silněji. A takto vypadá celá konstruk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085760" y="1268280"/>
            <a:ext cx="69138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423720" y="6778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1: Sestrojte trojúhelník ABC, je-li c = 6 cm,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= 75° a poloměr kružnice trojúhelníku ABC opsané r = 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085760" y="1268280"/>
            <a:ext cx="69138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23720" y="6778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1: Sestrojte trojúhelník ABC, je-li c = 6 cm,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= 75° a poloměr kružnice trojúhelníku ABC opsané r = 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3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4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"/>
          <p:cNvPicPr/>
          <p:nvPr/>
        </p:nvPicPr>
        <p:blipFill>
          <a:blip r:embed="rId5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"/>
          <p:cNvPicPr/>
          <p:nvPr/>
        </p:nvPicPr>
        <p:blipFill>
          <a:blip r:embed="rId6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"/>
          <p:cNvPicPr/>
          <p:nvPr/>
        </p:nvPicPr>
        <p:blipFill>
          <a:blip r:embed="rId7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"/>
          <p:cNvPicPr/>
          <p:nvPr/>
        </p:nvPicPr>
        <p:blipFill>
          <a:blip r:embed="rId8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"/>
          <p:cNvPicPr/>
          <p:nvPr/>
        </p:nvPicPr>
        <p:blipFill>
          <a:blip r:embed="rId9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"/>
          <p:cNvPicPr/>
          <p:nvPr/>
        </p:nvPicPr>
        <p:blipFill>
          <a:blip r:embed="rId10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085760" y="1268280"/>
            <a:ext cx="69138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23720" y="6778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2: Sestrojte trojúhelník ABC, je-li a = 30 mm,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= 110°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poloměr kružnice trojúhelníku ABC opsané r = 4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085760" y="1268280"/>
            <a:ext cx="69138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423720" y="6778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2: Sestrojte trojúhelník ABC, je-li a = 30 mm,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= 110°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a poloměr kružnice trojúhelníku ABC opsané r = 4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1547640" y="1360440"/>
            <a:ext cx="5977080" cy="4903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546200" y="1360440"/>
            <a:ext cx="6050160" cy="4964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3"/>
          <a:stretch/>
        </p:blipFill>
        <p:spPr>
          <a:xfrm>
            <a:off x="1546200" y="1360440"/>
            <a:ext cx="6050160" cy="4964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"/>
          <p:cNvPicPr/>
          <p:nvPr/>
        </p:nvPicPr>
        <p:blipFill>
          <a:blip r:embed="rId4"/>
          <a:stretch/>
        </p:blipFill>
        <p:spPr>
          <a:xfrm>
            <a:off x="1546200" y="1360440"/>
            <a:ext cx="6050160" cy="4964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"/>
          <p:cNvPicPr/>
          <p:nvPr/>
        </p:nvPicPr>
        <p:blipFill>
          <a:blip r:embed="rId5"/>
          <a:stretch/>
        </p:blipFill>
        <p:spPr>
          <a:xfrm>
            <a:off x="1546200" y="1360440"/>
            <a:ext cx="6050160" cy="4964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"/>
          <p:cNvPicPr/>
          <p:nvPr/>
        </p:nvPicPr>
        <p:blipFill>
          <a:blip r:embed="rId6"/>
          <a:stretch/>
        </p:blipFill>
        <p:spPr>
          <a:xfrm>
            <a:off x="1546200" y="1360440"/>
            <a:ext cx="6050160" cy="4964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"/>
          <p:cNvPicPr/>
          <p:nvPr/>
        </p:nvPicPr>
        <p:blipFill>
          <a:blip r:embed="rId7"/>
          <a:stretch/>
        </p:blipFill>
        <p:spPr>
          <a:xfrm>
            <a:off x="1546200" y="1360440"/>
            <a:ext cx="6050160" cy="4964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"/>
          <p:cNvPicPr/>
          <p:nvPr/>
        </p:nvPicPr>
        <p:blipFill>
          <a:blip r:embed="rId8"/>
          <a:stretch/>
        </p:blipFill>
        <p:spPr>
          <a:xfrm>
            <a:off x="1546200" y="1360440"/>
            <a:ext cx="6050160" cy="4964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"/>
          <p:cNvPicPr/>
          <p:nvPr/>
        </p:nvPicPr>
        <p:blipFill>
          <a:blip r:embed="rId9"/>
          <a:stretch/>
        </p:blipFill>
        <p:spPr>
          <a:xfrm>
            <a:off x="1546200" y="1360440"/>
            <a:ext cx="6050160" cy="4964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4" descr=""/>
          <p:cNvPicPr/>
          <p:nvPr/>
        </p:nvPicPr>
        <p:blipFill>
          <a:blip r:embed="rId10"/>
          <a:stretch/>
        </p:blipFill>
        <p:spPr>
          <a:xfrm>
            <a:off x="1546200" y="1360440"/>
            <a:ext cx="6050160" cy="49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085760" y="1268280"/>
            <a:ext cx="69138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423720" y="6778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3: Sestrojte trojúhelník ABC, je-li b = 4 cm,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= 90° a poloměr kružnice trojúhelníku ABC opsané r = 4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Trojúhelník je rovinný geometrický útvar sestávající ze tří stran, tří vrcholů a tří vnitřních úh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2268360" y="2060640"/>
            <a:ext cx="4032360" cy="21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2282760" y="2060640"/>
            <a:ext cx="1656000" cy="20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268360" y="2060640"/>
            <a:ext cx="223236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H="1">
            <a:off x="2195280" y="2060640"/>
            <a:ext cx="158436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3794040" y="2060640"/>
            <a:ext cx="293868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3780000" y="2060640"/>
            <a:ext cx="2087280" cy="79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2411280" y="2076480"/>
            <a:ext cx="432144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 flipH="1">
            <a:off x="6659640" y="2076480"/>
            <a:ext cx="8712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H="1">
            <a:off x="5867280" y="2076480"/>
            <a:ext cx="865440" cy="1136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085760" y="1268280"/>
            <a:ext cx="69138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23720" y="6778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3: Sestrojte trojúhelník ABC, je-li b = 4 cm,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= 90° a poloměr kružnice trojúhelníku ABC opsané r = 4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1704960" y="1380960"/>
            <a:ext cx="5675400" cy="4919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1704960" y="1380960"/>
            <a:ext cx="5675400" cy="4919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1704960" y="1380960"/>
            <a:ext cx="5675400" cy="49197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"/>
          <p:cNvPicPr/>
          <p:nvPr/>
        </p:nvPicPr>
        <p:blipFill>
          <a:blip r:embed="rId4"/>
          <a:stretch/>
        </p:blipFill>
        <p:spPr>
          <a:xfrm>
            <a:off x="1704960" y="1380960"/>
            <a:ext cx="5675400" cy="4919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"/>
          <p:cNvPicPr/>
          <p:nvPr/>
        </p:nvPicPr>
        <p:blipFill>
          <a:blip r:embed="rId5"/>
          <a:stretch/>
        </p:blipFill>
        <p:spPr>
          <a:xfrm>
            <a:off x="1704960" y="1380960"/>
            <a:ext cx="5675400" cy="4919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"/>
          <p:cNvPicPr/>
          <p:nvPr/>
        </p:nvPicPr>
        <p:blipFill>
          <a:blip r:embed="rId6"/>
          <a:stretch/>
        </p:blipFill>
        <p:spPr>
          <a:xfrm>
            <a:off x="1704960" y="1380960"/>
            <a:ext cx="5675400" cy="4919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"/>
          <p:cNvPicPr/>
          <p:nvPr/>
        </p:nvPicPr>
        <p:blipFill>
          <a:blip r:embed="rId7"/>
          <a:stretch/>
        </p:blipFill>
        <p:spPr>
          <a:xfrm>
            <a:off x="1704960" y="1380960"/>
            <a:ext cx="5675400" cy="4919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"/>
          <p:cNvPicPr/>
          <p:nvPr/>
        </p:nvPicPr>
        <p:blipFill>
          <a:blip r:embed="rId8"/>
          <a:stretch/>
        </p:blipFill>
        <p:spPr>
          <a:xfrm>
            <a:off x="1704960" y="1380960"/>
            <a:ext cx="5675400" cy="4919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"/>
          <p:cNvPicPr/>
          <p:nvPr/>
        </p:nvPicPr>
        <p:blipFill>
          <a:blip r:embed="rId9"/>
          <a:stretch/>
        </p:blipFill>
        <p:spPr>
          <a:xfrm>
            <a:off x="1704960" y="1380960"/>
            <a:ext cx="5675400" cy="4919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"/>
          <p:cNvPicPr/>
          <p:nvPr/>
        </p:nvPicPr>
        <p:blipFill>
          <a:blip r:embed="rId10"/>
          <a:stretch/>
        </p:blipFill>
        <p:spPr>
          <a:xfrm>
            <a:off x="1704960" y="1380960"/>
            <a:ext cx="5675400" cy="49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2"/>
          <p:cNvSpPr/>
          <p:nvPr/>
        </p:nvSpPr>
        <p:spPr>
          <a:xfrm>
            <a:off x="684360" y="1341360"/>
            <a:ext cx="78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"/>
          <p:cNvPicPr/>
          <p:nvPr/>
        </p:nvPicPr>
        <p:blipFill>
          <a:blip r:embed="rId1"/>
          <a:stretch/>
        </p:blipFill>
        <p:spPr>
          <a:xfrm>
            <a:off x="1490760" y="1365120"/>
            <a:ext cx="6162480" cy="4943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0"/>
          <p:cNvSpPr/>
          <p:nvPr/>
        </p:nvSpPr>
        <p:spPr>
          <a:xfrm>
            <a:off x="1187280" y="333360"/>
            <a:ext cx="68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a čem závisí, zda střed kružnice opsané leží uvnitř trojúhelníku, vně trojúhelníku či na některé ze stran trojúhelníku (a na které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4" descr=""/>
          <p:cNvPicPr/>
          <p:nvPr/>
        </p:nvPicPr>
        <p:blipFill>
          <a:blip r:embed="rId2"/>
          <a:stretch/>
        </p:blipFill>
        <p:spPr>
          <a:xfrm>
            <a:off x="1546200" y="1360440"/>
            <a:ext cx="6050160" cy="49640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"/>
          <p:cNvPicPr/>
          <p:nvPr/>
        </p:nvPicPr>
        <p:blipFill>
          <a:blip r:embed="rId3"/>
          <a:stretch/>
        </p:blipFill>
        <p:spPr>
          <a:xfrm>
            <a:off x="1920960" y="1380960"/>
            <a:ext cx="5675400" cy="4919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7" descr=""/>
          <p:cNvPicPr/>
          <p:nvPr/>
        </p:nvPicPr>
        <p:blipFill>
          <a:blip r:embed="rId4"/>
          <a:stretch/>
        </p:blipFill>
        <p:spPr>
          <a:xfrm>
            <a:off x="5364000" y="1413000"/>
            <a:ext cx="3095640" cy="2539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9" descr=""/>
          <p:cNvPicPr/>
          <p:nvPr/>
        </p:nvPicPr>
        <p:blipFill>
          <a:blip r:embed="rId5"/>
          <a:stretch/>
        </p:blipFill>
        <p:spPr>
          <a:xfrm>
            <a:off x="2855880" y="3562200"/>
            <a:ext cx="3156120" cy="2735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8" descr=""/>
          <p:cNvPicPr/>
          <p:nvPr/>
        </p:nvPicPr>
        <p:blipFill>
          <a:blip r:embed="rId6"/>
          <a:stretch/>
        </p:blipFill>
        <p:spPr>
          <a:xfrm>
            <a:off x="755640" y="1413000"/>
            <a:ext cx="3095640" cy="248256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20"/>
          <p:cNvSpPr/>
          <p:nvPr/>
        </p:nvSpPr>
        <p:spPr>
          <a:xfrm>
            <a:off x="826920" y="5013360"/>
            <a:ext cx="1816200" cy="1008000"/>
          </a:xfrm>
          <a:prstGeom prst="cloudCallout">
            <a:avLst>
              <a:gd name="adj1" fmla="val 24231"/>
              <a:gd name="adj2" fmla="val -1559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rojúhelník ostroúhl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/>
          <p:cNvSpPr/>
          <p:nvPr/>
        </p:nvSpPr>
        <p:spPr>
          <a:xfrm>
            <a:off x="6429240" y="4869000"/>
            <a:ext cx="1816200" cy="1008000"/>
          </a:xfrm>
          <a:prstGeom prst="cloudCallout">
            <a:avLst>
              <a:gd name="adj1" fmla="val -26532"/>
              <a:gd name="adj2" fmla="val -1503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rojúhelník tupoúhl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2"/>
          <p:cNvSpPr/>
          <p:nvPr/>
        </p:nvSpPr>
        <p:spPr>
          <a:xfrm>
            <a:off x="3571920" y="1773360"/>
            <a:ext cx="1785960" cy="1008000"/>
          </a:xfrm>
          <a:prstGeom prst="cloudCallout">
            <a:avLst>
              <a:gd name="adj1" fmla="val -34388"/>
              <a:gd name="adj2" fmla="val 172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rojúhelník pravoúhl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5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16000" y="2997360"/>
            <a:ext cx="68407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eji hodně přesnosti </a:t>
            </a:r>
            <a:br>
              <a:rPr sz="4000"/>
            </a:b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i rýsování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 označová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27000" y="907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ozor při značení vrcholů a stran trojúhel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835280" y="1628640"/>
            <a:ext cx="4392360" cy="266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2268000" y="1628640"/>
            <a:ext cx="1079640" cy="396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941400" y="1197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trana a proti vrcholu A, strana b proti vrcholu B, strana c proti vrcholu 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2484360" y="4365720"/>
            <a:ext cx="37432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4067280" y="1628640"/>
            <a:ext cx="288720" cy="252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5940360" y="1628640"/>
            <a:ext cx="86364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 flipV="1">
            <a:off x="4284360" y="4365720"/>
            <a:ext cx="237492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4571640" y="1628640"/>
            <a:ext cx="230508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H="1">
            <a:off x="6011640" y="1628640"/>
            <a:ext cx="230508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4572000" y="3141720"/>
            <a:ext cx="1295280" cy="251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16"/>
          <p:cNvSpPr/>
          <p:nvPr/>
        </p:nvSpPr>
        <p:spPr>
          <a:xfrm>
            <a:off x="2270160" y="2924280"/>
            <a:ext cx="5543640" cy="3744720"/>
          </a:xfrm>
          <a:custGeom>
            <a:avLst/>
            <a:gdLst>
              <a:gd name="textAreaLeft" fmla="*/ 0 w 5543640"/>
              <a:gd name="textAreaRight" fmla="*/ 5544000 w 5543640"/>
              <a:gd name="textAreaTop" fmla="*/ 0 h 3744720"/>
              <a:gd name="textAreaBottom" fmla="*/ 3745080 h 3744720"/>
            </a:gdLst>
            <a:ahLst/>
            <a:rect l="textAreaLeft" t="textAreaTop" r="textAreaRight" b="textAreaBottom"/>
            <a:pathLst>
              <a:path fill="none" w="38873" h="40574">
                <a:moveTo>
                  <a:pt x="27595" y="0"/>
                </a:moveTo>
                <a:cubicBezTo>
                  <a:pt x="34546" y="3781"/>
                  <a:pt x="38873" y="11061"/>
                  <a:pt x="38873" y="18974"/>
                </a:cubicBezTo>
                <a:cubicBezTo>
                  <a:pt x="38873" y="30903"/>
                  <a:pt x="29202" y="40574"/>
                  <a:pt x="17273" y="40574"/>
                </a:cubicBezTo>
                <a:cubicBezTo>
                  <a:pt x="10478" y="40574"/>
                  <a:pt x="4079" y="37376"/>
                  <a:pt x="-1" y="31943"/>
                </a:cubicBezTo>
              </a:path>
              <a:path stroke="0" w="38873" h="40574">
                <a:moveTo>
                  <a:pt x="27595" y="0"/>
                </a:moveTo>
                <a:cubicBezTo>
                  <a:pt x="34546" y="3781"/>
                  <a:pt x="38873" y="11061"/>
                  <a:pt x="38873" y="18974"/>
                </a:cubicBezTo>
                <a:cubicBezTo>
                  <a:pt x="38873" y="30903"/>
                  <a:pt x="29202" y="40574"/>
                  <a:pt x="17273" y="40574"/>
                </a:cubicBezTo>
                <a:cubicBezTo>
                  <a:pt x="10478" y="40574"/>
                  <a:pt x="4079" y="37376"/>
                  <a:pt x="-1" y="31943"/>
                </a:cubicBezTo>
                <a:lnTo>
                  <a:pt x="17273" y="18974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938160" y="1628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opis vrcholů začínáme obvykle v levém dolním rohu, ale vždy popisujeme vrcholy ve směru proti pohybu hodinových ručič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– součet vnitřních úhlů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Součet vnitřních úhlů trojúhelníku je vždy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2411280" y="1916280"/>
            <a:ext cx="1368720" cy="38178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3780000" y="1916280"/>
            <a:ext cx="2952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3780000" y="1916280"/>
            <a:ext cx="208728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877080" y="2421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3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6877080" y="27813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6877080" y="313992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6831000" y="3213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6877080" y="35877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užnice opsaná trojúhelníku je kružnice, která prochází všemi třemi vrcholy trojúhelníku.</a:t>
            </a: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5" descr="kr_op_1"/>
          <p:cNvPicPr/>
          <p:nvPr/>
        </p:nvPicPr>
        <p:blipFill>
          <a:blip r:embed="rId1"/>
          <a:stretch/>
        </p:blipFill>
        <p:spPr>
          <a:xfrm>
            <a:off x="2413080" y="2421000"/>
            <a:ext cx="3959280" cy="3855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užnice opsaná trojúhelníku je kružnice, která prochází všemi třemi vrcholy trojúhelníku.</a:t>
            </a: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kr_op_2"/>
          <p:cNvPicPr/>
          <p:nvPr/>
        </p:nvPicPr>
        <p:blipFill>
          <a:blip r:embed="rId1"/>
          <a:stretch/>
        </p:blipFill>
        <p:spPr>
          <a:xfrm>
            <a:off x="2340000" y="2421000"/>
            <a:ext cx="4032360" cy="39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užnice opsaná trojúhelníku je kružnice, která prochází všemi třemi vrcholy trojúhelníku.</a:t>
            </a: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kr_op_3"/>
          <p:cNvPicPr/>
          <p:nvPr/>
        </p:nvPicPr>
        <p:blipFill>
          <a:blip r:embed="rId1"/>
          <a:stretch/>
        </p:blipFill>
        <p:spPr>
          <a:xfrm>
            <a:off x="2340000" y="2365200"/>
            <a:ext cx="410364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900000" y="1052640"/>
            <a:ext cx="755964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43" name="Picture 58" descr=""/>
          <p:cNvPicPr/>
          <p:nvPr/>
        </p:nvPicPr>
        <p:blipFill>
          <a:blip r:embed="rId1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9" descr=""/>
          <p:cNvPicPr/>
          <p:nvPr/>
        </p:nvPicPr>
        <p:blipFill>
          <a:blip r:embed="rId2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0" descr=""/>
          <p:cNvPicPr/>
          <p:nvPr/>
        </p:nvPicPr>
        <p:blipFill>
          <a:blip r:embed="rId3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1" descr=""/>
          <p:cNvPicPr/>
          <p:nvPr/>
        </p:nvPicPr>
        <p:blipFill>
          <a:blip r:embed="rId4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2" descr=""/>
          <p:cNvPicPr/>
          <p:nvPr/>
        </p:nvPicPr>
        <p:blipFill>
          <a:blip r:embed="rId5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6" descr=""/>
          <p:cNvPicPr/>
          <p:nvPr/>
        </p:nvPicPr>
        <p:blipFill>
          <a:blip r:embed="rId6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3" descr=""/>
          <p:cNvPicPr/>
          <p:nvPr/>
        </p:nvPicPr>
        <p:blipFill>
          <a:blip r:embed="rId7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4"/>
          <p:cNvSpPr/>
          <p:nvPr/>
        </p:nvSpPr>
        <p:spPr>
          <a:xfrm>
            <a:off x="5724360" y="907920"/>
            <a:ext cx="3276720" cy="2303640"/>
          </a:xfrm>
          <a:prstGeom prst="cloudCallout">
            <a:avLst>
              <a:gd name="adj1" fmla="val -83916"/>
              <a:gd name="adj2" fmla="val 667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ředem kružnice trojúhelníku opsané je průsečík os stran tohoto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5"/>
          <p:cNvSpPr/>
          <p:nvPr/>
        </p:nvSpPr>
        <p:spPr>
          <a:xfrm>
            <a:off x="5651640" y="4221000"/>
            <a:ext cx="3276360" cy="2303640"/>
          </a:xfrm>
          <a:prstGeom prst="cloudCallout">
            <a:avLst>
              <a:gd name="adj1" fmla="val -110078"/>
              <a:gd name="adj2" fmla="val -531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loměrem pak vzdálenost tohoto průsečíku a kteréhokoliv vrcholu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1042920" y="1773360"/>
            <a:ext cx="691380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0" descr=""/>
          <p:cNvPicPr/>
          <p:nvPr/>
        </p:nvPicPr>
        <p:blipFill>
          <a:blip r:embed="rId1"/>
          <a:stretch/>
        </p:blipFill>
        <p:spPr>
          <a:xfrm>
            <a:off x="1835280" y="1870200"/>
            <a:ext cx="5337000" cy="4408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95360" y="922320"/>
            <a:ext cx="84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.: Sestrojte trojúhelník ABC, je-li c = 7 cm,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= 50° a poloměr kružnice trojúhelníku ABC opsané r = 4 c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496800" y="129708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2"/>
          <p:cNvSpPr/>
          <p:nvPr/>
        </p:nvSpPr>
        <p:spPr>
          <a:xfrm>
            <a:off x="4486320" y="3746520"/>
            <a:ext cx="48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4"/>
          <p:cNvSpPr/>
          <p:nvPr/>
        </p:nvSpPr>
        <p:spPr>
          <a:xfrm>
            <a:off x="2527200" y="2238480"/>
            <a:ext cx="3919680" cy="3916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884920" y="551664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1"/>
          <p:cNvSpPr/>
          <p:nvPr/>
        </p:nvSpPr>
        <p:spPr>
          <a:xfrm>
            <a:off x="4500720" y="407664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2"/>
          <p:cNvSpPr/>
          <p:nvPr/>
        </p:nvSpPr>
        <p:spPr>
          <a:xfrm flipH="1">
            <a:off x="4398840" y="417672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5"/>
          <p:cNvSpPr/>
          <p:nvPr/>
        </p:nvSpPr>
        <p:spPr>
          <a:xfrm>
            <a:off x="2800440" y="5143680"/>
            <a:ext cx="34002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6"/>
          <p:cNvSpPr/>
          <p:nvPr/>
        </p:nvSpPr>
        <p:spPr>
          <a:xfrm>
            <a:off x="4384800" y="5041800"/>
            <a:ext cx="4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77"/>
          <p:cNvSpPr/>
          <p:nvPr/>
        </p:nvSpPr>
        <p:spPr>
          <a:xfrm>
            <a:off x="2803680" y="4282920"/>
            <a:ext cx="1091880" cy="857520"/>
          </a:xfrm>
          <a:custGeom>
            <a:avLst/>
            <a:gdLst>
              <a:gd name="textAreaLeft" fmla="*/ 0 w 1091880"/>
              <a:gd name="textAreaRight" fmla="*/ 1092240 w 109188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fill="none" w="21600" h="16966">
                <a:moveTo>
                  <a:pt x="13368" y="0"/>
                </a:moveTo>
                <a:cubicBezTo>
                  <a:pt x="18566" y="4096"/>
                  <a:pt x="21600" y="10348"/>
                  <a:pt x="21600" y="16966"/>
                </a:cubicBezTo>
              </a:path>
              <a:path stroke="0" w="21600" h="16966">
                <a:moveTo>
                  <a:pt x="13368" y="0"/>
                </a:moveTo>
                <a:cubicBezTo>
                  <a:pt x="18566" y="4096"/>
                  <a:pt x="21600" y="10348"/>
                  <a:pt x="21600" y="16966"/>
                </a:cubicBezTo>
                <a:lnTo>
                  <a:pt x="0" y="16966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8"/>
          <p:cNvSpPr/>
          <p:nvPr/>
        </p:nvSpPr>
        <p:spPr>
          <a:xfrm>
            <a:off x="3189240" y="479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=50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4506120" y="4164480"/>
            <a:ext cx="1708200" cy="9784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0"/>
          <p:cNvSpPr/>
          <p:nvPr/>
        </p:nvSpPr>
        <p:spPr>
          <a:xfrm>
            <a:off x="5148360" y="422100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1"/>
          <p:cNvSpPr/>
          <p:nvPr/>
        </p:nvSpPr>
        <p:spPr>
          <a:xfrm flipH="1">
            <a:off x="2776320" y="4183200"/>
            <a:ext cx="1718640" cy="9601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2"/>
          <p:cNvSpPr/>
          <p:nvPr/>
        </p:nvSpPr>
        <p:spPr>
          <a:xfrm>
            <a:off x="3649680" y="422100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2-02T11:24:14Z</dcterms:modified>
  <cp:revision>113</cp:revision>
  <dc:subject/>
  <dc:title>Konstrukce trojúhelníku s kružnicí opsanou v zadání 1</dc:title>
</cp:coreProperties>
</file>